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481-3B81-43FF-8407-48558068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303-C3FA-4AFC-A0FF-E5ED0EDD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BA1-25A9-404A-971C-0C24EF56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320-27A7-4746-8886-C08009D3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2D73-9E12-4F65-ABC4-2BB41065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EDE3-81CA-4401-A460-EDFB0498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2041-65FD-46F6-BF91-BD45DDCB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F879-264F-4B62-9828-A22C11F3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A65D-7D7C-495B-B2FC-862106C2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18AA-7F38-4DC2-90A8-C91026F2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400B-AD13-4B89-92D9-FEB7BD8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B4F-5331-4FD5-AE6A-5498B6C0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138F-DC48-4A83-B5CF-D46C42D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83A5-2A3A-43A8-8875-479B501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FBD3-D29F-4F35-BE51-151EAC74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38FF-D72F-4972-8536-DC503865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B499-87D8-4C2E-A650-156BA40B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3CD-C3D6-4BBA-87F7-E68D11B5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EA4-8A5C-4DD2-AE30-7A2C1E0F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DF1-EF4C-4474-8F8B-86D38EF1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449-81D8-4BA7-8D0A-231096EC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CA8-6FE5-4F50-B940-9EA6E58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DDC-E692-4BA8-ADEF-DD0DCE47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662-17E6-43B7-8E07-B0E44C89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7F60-BF42-45BA-8B06-2696AAD550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DEE9-EBEB-4AC3-9147-E1C90AF03E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&#1075;&#1077;&#1086;&#1075;&#1088;&#1072;&#1092;&#1080;&#1103;%20&#1048;&#1088;&#1082;&#1091;&#1090;&#1089;&#1082;&#1086;&#1081;%20&#1086;&#1073;&#1083;&#1072;&#1089;&#1090;&#1080;.ppt#8. &#1060;&#1080;&#1079;&#1080;&#1095;&#1077;&#1089;&#1082;&#1072;&#1103;  &#1075;&#1077;&#1086;&#1075;&#1088;&#1072;&#1092;&#1080;&#1103;  &#1048;&#1088;&#1082;&#1091;&#1090;&#1089;&#1082;&#1086;&#1081;  &#1086;&#1073;&#1083;&#1072;&#1089;&#1090;&#1080;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hyperlink" Target="file:///../&#1075;&#1077;&#1086;&#1075;&#1088;&#1072;&#1092;&#1080;&#1103;%20&#1048;&#1088;&#1082;&#1091;&#1090;&#1089;&#1082;&#1086;&#1081;%20&#1086;&#1073;&#1083;&#1072;&#1089;&#1090;&#1080;.ppt#7. &#1060;&#1080;&#1079;&#1080;&#1095;&#1077;&#1089;&#1082;&#1072;&#1103;  &#1075;&#1077;&#1086;&#1075;&#1088;&#1072;&#1092;&#1080;&#1103;  &#1048;&#1088;&#1082;&#1091;&#1090;&#1089;&#1082;&#1086;&#1081;  &#1086;&#1073;&#1083;&#1072;&#1089;&#1090;&#1080;" TargetMode="External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03280" y="333360"/>
            <a:ext cx="6516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ез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76360" y="5229360"/>
            <a:ext cx="5904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2268360" cy="1514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rcRect l="0" t="0" r="0" b="127"/>
          <a:stretch/>
        </p:blipFill>
        <p:spPr>
          <a:xfrm>
            <a:off x="4716360" y="2924280"/>
            <a:ext cx="2195640" cy="1468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6877080" y="2924280"/>
            <a:ext cx="2266920" cy="1511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rcRect l="0" t="0" r="23" b="-67"/>
          <a:stretch/>
        </p:blipFill>
        <p:spPr>
          <a:xfrm>
            <a:off x="2268360" y="2957400"/>
            <a:ext cx="2448000" cy="1514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812000" y="6165720"/>
            <a:ext cx="133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765000"/>
            <a:ext cx="4967280" cy="6093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349236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агнези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03280" y="1844640"/>
            <a:ext cx="414036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упнейшие  месторожд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янск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месторождени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винск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месторождение –2  млрд.т,  что  составляет  40% мировых,  73% отечественных  запа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0" t="0" r="129" b="29"/>
          <a:stretch/>
        </p:blipFill>
        <p:spPr>
          <a:xfrm>
            <a:off x="6948360" y="0"/>
            <a:ext cx="2195640" cy="16048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492360" y="443700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800000">
            <a:off x="3492360" y="4868640"/>
            <a:ext cx="21600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1547640" y="5876640"/>
            <a:ext cx="21600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47640" y="544500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51280" y="4724280"/>
            <a:ext cx="1225440" cy="360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агнез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836640"/>
            <a:ext cx="4932360" cy="60213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364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ю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8000" y="1915920"/>
            <a:ext cx="39956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 райо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мско-Чуйский  мусковитный  рай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рюсинское  месторождение мусковита, Слюдянское  флогопитовое  месторожд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rcRect l="0" t="0" r="-7039" b="27"/>
          <a:stretch/>
        </p:blipFill>
        <p:spPr>
          <a:xfrm>
            <a:off x="6084720" y="0"/>
            <a:ext cx="3059280" cy="1773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268360" y="6497640"/>
            <a:ext cx="3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68360" y="6497640"/>
            <a:ext cx="360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780000" y="472428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157720"/>
            <a:ext cx="2232000" cy="289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люда  флогопи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995640" y="2708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95640" y="2708280"/>
            <a:ext cx="360360" cy="36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08360" y="5661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11280" y="5373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08360" y="5661000"/>
            <a:ext cx="358920" cy="36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1280" y="5373720"/>
            <a:ext cx="360360" cy="36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59280" y="6093000"/>
            <a:ext cx="2160360" cy="360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люда  мусков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ефть  и природный  газ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19720" y="1197000"/>
            <a:ext cx="457200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еф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осредоточена  в  Непско-Батуобинской  нефтегазоносной  области.  Общие  геологические  запасы  составляют  563,898   млн.т.,  а  извлекаемые – около  174  млн.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родный  га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открыт  в  Братско-Жигаловской  газоносной  области.  Открыто  10  месторождений,  эксплуатируются  д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907920"/>
            <a:ext cx="4448160" cy="5950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2286000" y="33526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0" y="25146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09680" y="28954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057400" y="35812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38862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14600" y="32004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08000" y="494172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68360" y="458136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76720" y="422100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362320" y="2438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рхнечо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62320" y="29718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нил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743200" y="32767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люд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3505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лисьме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09680" y="37339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Яракт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14600" y="3962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4648320"/>
            <a:ext cx="29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выкт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68360" y="5084640"/>
            <a:ext cx="15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т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76720" y="530064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64000" y="4365720"/>
            <a:ext cx="863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еф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564000" y="5445000"/>
            <a:ext cx="792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908000" y="5724360"/>
            <a:ext cx="621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Добыча нефт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665280"/>
            <a:ext cx="5041800" cy="61927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амоцвет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03640" y="1483920"/>
            <a:ext cx="43927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99ff"/>
                </a:solidFill>
                <a:latin typeface="Tahoma"/>
              </a:rPr>
              <a:t>Л –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лазури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Малобыстринское  месторождение.  Имеет всероссийское  значение. </a:t>
            </a:r>
            <a:r>
              <a:rPr b="0" lang="ru-RU" sz="2800" spc="-1" strike="noStrike">
                <a:solidFill>
                  <a:srgbClr val="339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ерал  более  фиолетового  оттен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Н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фрит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>
            <a:off x="2771640" y="3246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24000" y="6167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rcRect l="-5340" t="0" r="0" b="27"/>
          <a:stretch/>
        </p:blipFill>
        <p:spPr>
          <a:xfrm>
            <a:off x="7164360" y="0"/>
            <a:ext cx="1979640" cy="14130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187280" y="5734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-181080" y="907920"/>
            <a:ext cx="4859280" cy="59500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1463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троительные  материал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rcRect l="0" t="0" r="0" b="127"/>
          <a:stretch/>
        </p:blipFill>
        <p:spPr>
          <a:xfrm>
            <a:off x="3203640" y="0"/>
            <a:ext cx="2448000" cy="16286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ЯКИ.  Находятся  в Байкале,  от  мыса  Кадильного  до  Бугульдейки  а  также  в  долинах Иркута, Ольхи и 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РАМОР.  Слюдянское  месторож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ИНЫ. Сосредоточена  в  Трошковском  и  Каменском  месторожден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ВИЙНО-ПЕСЧАНЫЕ СМЕСИ.  Тулунское  месторож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2050920" y="623736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50920" y="6237360"/>
            <a:ext cx="287640" cy="288720"/>
          </a:xfrm>
          <a:prstGeom prst="line">
            <a:avLst/>
          </a:prstGeom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050560" y="6237360"/>
            <a:ext cx="287640" cy="288720"/>
          </a:xfrm>
          <a:prstGeom prst="line">
            <a:avLst/>
          </a:prstGeom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835280" y="4365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35280" y="4365720"/>
            <a:ext cx="287280" cy="288720"/>
          </a:xfrm>
          <a:prstGeom prst="line">
            <a:avLst/>
          </a:prstGeom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835280" y="4365720"/>
            <a:ext cx="287280" cy="288720"/>
          </a:xfrm>
          <a:prstGeom prst="line">
            <a:avLst/>
          </a:prstGeom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76720" y="1773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76720" y="1773360"/>
            <a:ext cx="287280" cy="288720"/>
          </a:xfrm>
          <a:prstGeom prst="line">
            <a:avLst/>
          </a:prstGeom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076720" y="1773360"/>
            <a:ext cx="287280" cy="288720"/>
          </a:xfrm>
          <a:prstGeom prst="line">
            <a:avLst/>
          </a:prstGeom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5003640" y="3357720"/>
            <a:ext cx="432000" cy="35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0620000">
            <a:off x="5003280" y="3357000"/>
            <a:ext cx="435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0800000">
            <a:off x="2050920" y="649872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0620000">
            <a:off x="2050560" y="6523920"/>
            <a:ext cx="435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076720" y="4005360"/>
            <a:ext cx="28728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03280" y="5373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50920" y="551664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5877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03640" y="5084640"/>
            <a:ext cx="43200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0800000">
            <a:off x="5003640" y="5300640"/>
            <a:ext cx="432000" cy="21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494172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0800000">
            <a:off x="1042560" y="5157360"/>
            <a:ext cx="360360" cy="142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5229360"/>
            <a:ext cx="43164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0800000">
            <a:off x="1763640" y="5445000"/>
            <a:ext cx="28728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0920" y="4005360"/>
            <a:ext cx="360360" cy="144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0800000">
            <a:off x="2124000" y="4149360"/>
            <a:ext cx="216000" cy="142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067280" y="292428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4067280" y="3141720"/>
            <a:ext cx="288720" cy="2160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56000" y="285264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12000" y="6237360"/>
            <a:ext cx="1332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524720" y="620640"/>
            <a:ext cx="99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0"/>
            <a:ext cx="7343640" cy="7192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03280" y="189000"/>
            <a:ext cx="655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неральные ресурс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80000" y="1989000"/>
            <a:ext cx="1439640" cy="468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205">
                <a:moveTo>
                  <a:pt x="3600" y="0"/>
                </a:moveTo>
                <a:arcTo wR="3600" hR="3600" stAng="16200000" swAng="-5400000"/>
                <a:lnTo>
                  <a:pt x="0" y="66605"/>
                </a:lnTo>
                <a:arcTo wR="3600" hR="3600" stAng="10800000" swAng="-5400000"/>
                <a:lnTo>
                  <a:pt x="18000" y="7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28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5092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45164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1484280"/>
            <a:ext cx="1440000" cy="338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08000" y="1484280"/>
            <a:ext cx="7056720" cy="338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692280"/>
            <a:ext cx="99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1280" y="2133720"/>
            <a:ext cx="503280" cy="439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84360" y="3141720"/>
            <a:ext cx="503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84360" y="3860640"/>
            <a:ext cx="505080" cy="50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11640" y="27082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11280" y="2636640"/>
            <a:ext cx="576000" cy="647640"/>
            <a:chOff x="611280" y="2636640"/>
            <a:chExt cx="576000" cy="647640"/>
          </a:xfrm>
        </p:grpSpPr>
        <p:sp>
          <p:nvSpPr>
            <p:cNvPr id="406" name=""/>
            <p:cNvSpPr/>
            <p:nvPr/>
          </p:nvSpPr>
          <p:spPr>
            <a:xfrm>
              <a:off x="611280" y="2708280"/>
              <a:ext cx="576000" cy="57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0800000">
              <a:off x="611280" y="2636640"/>
              <a:ext cx="576000" cy="647640"/>
            </a:xfrm>
            <a:prstGeom prst="blockArc">
              <a:avLst>
                <a:gd name="adj1" fmla="val 10800000"/>
                <a:gd name="adj2" fmla="val 0"/>
                <a:gd name="adj3" fmla="val 4861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11280" y="3357720"/>
            <a:ext cx="576000" cy="574560"/>
          </a:xfrm>
          <a:prstGeom prst="ellipse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11280" y="5445000"/>
            <a:ext cx="647640" cy="576000"/>
            <a:chOff x="611280" y="5445000"/>
            <a:chExt cx="647640" cy="576000"/>
          </a:xfrm>
        </p:grpSpPr>
        <p:sp>
          <p:nvSpPr>
            <p:cNvPr id="410" name=""/>
            <p:cNvSpPr/>
            <p:nvPr/>
          </p:nvSpPr>
          <p:spPr>
            <a:xfrm rot="5400000">
              <a:off x="612000" y="5445720"/>
              <a:ext cx="576000" cy="57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00000">
              <a:off x="646920" y="5409000"/>
              <a:ext cx="576000" cy="647640"/>
            </a:xfrm>
            <a:prstGeom prst="blockArc">
              <a:avLst>
                <a:gd name="adj1" fmla="val 10800000"/>
                <a:gd name="adj2" fmla="val 0"/>
                <a:gd name="adj3" fmla="val 4861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39640" y="4797360"/>
            <a:ext cx="719280" cy="46980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4149720"/>
            <a:ext cx="71928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342900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335772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500280"/>
            <a:ext cx="431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00000" y="335772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364500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6453360"/>
            <a:ext cx="217440" cy="72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640" y="6308640"/>
            <a:ext cx="217440" cy="730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5640" y="6453360"/>
            <a:ext cx="217440" cy="72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00000" y="6308640"/>
            <a:ext cx="217440" cy="730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6453360"/>
            <a:ext cx="217440" cy="72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411280" y="4508640"/>
            <a:ext cx="718920" cy="287280"/>
            <a:chOff x="2411280" y="4508640"/>
            <a:chExt cx="718920" cy="287280"/>
          </a:xfrm>
        </p:grpSpPr>
        <p:sp>
          <p:nvSpPr>
            <p:cNvPr id="425" name=""/>
            <p:cNvSpPr/>
            <p:nvPr/>
          </p:nvSpPr>
          <p:spPr>
            <a:xfrm>
              <a:off x="2411280" y="4651560"/>
              <a:ext cx="35928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0560" y="4651560"/>
              <a:ext cx="35964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9840" y="4508640"/>
              <a:ext cx="35928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211640" y="3428640"/>
            <a:ext cx="872280" cy="648000"/>
            <a:chOff x="4211640" y="3428640"/>
            <a:chExt cx="872280" cy="648000"/>
          </a:xfrm>
        </p:grpSpPr>
        <p:sp>
          <p:nvSpPr>
            <p:cNvPr id="429" name=""/>
            <p:cNvSpPr/>
            <p:nvPr/>
          </p:nvSpPr>
          <p:spPr>
            <a:xfrm>
              <a:off x="4211640" y="3429000"/>
              <a:ext cx="555480" cy="647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11640" y="3429000"/>
              <a:ext cx="626040" cy="138240"/>
            </a:xfrm>
            <a:prstGeom prst="parallelogram">
              <a:avLst>
                <a:gd name="adj" fmla="val 1132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9268800">
              <a:off x="4518000" y="3509280"/>
              <a:ext cx="485280" cy="484200"/>
            </a:xfrm>
            <a:prstGeom prst="parallelogram">
              <a:avLst>
                <a:gd name="adj" fmla="val 4415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rot="10800000">
            <a:off x="2627280" y="494172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0800000">
            <a:off x="2627280" y="580536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79640" y="206064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опливно-энерге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80000" y="2060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Химическ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ырь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80000" y="20606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троитель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материал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1280" y="414972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ехн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95280" y="220500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Огнеуп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371628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рагоцен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9391400">
            <a:off x="7885080" y="4076280"/>
            <a:ext cx="576360" cy="554040"/>
          </a:xfrm>
          <a:custGeom>
            <a:avLst/>
            <a:gdLst>
              <a:gd name="textAreaLeft" fmla="*/ 131400 w 576360"/>
              <a:gd name="textAreaRight" fmla="*/ 444960 w 576360"/>
              <a:gd name="textAreaTop" fmla="*/ 126360 h 554040"/>
              <a:gd name="textAreaBottom" fmla="*/ 4276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8447600">
            <a:off x="7865280" y="2727720"/>
            <a:ext cx="626760" cy="444240"/>
          </a:xfrm>
          <a:prstGeom prst="parallelogram">
            <a:avLst>
              <a:gd name="adj" fmla="val 3527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211280" y="4508640"/>
            <a:ext cx="480960" cy="502560"/>
            <a:chOff x="4211280" y="4508640"/>
            <a:chExt cx="480960" cy="502560"/>
          </a:xfrm>
        </p:grpSpPr>
        <p:sp>
          <p:nvSpPr>
            <p:cNvPr id="443" name=""/>
            <p:cNvSpPr/>
            <p:nvPr/>
          </p:nvSpPr>
          <p:spPr>
            <a:xfrm rot="16200000">
              <a:off x="4200480" y="4519440"/>
              <a:ext cx="502560" cy="48060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4200120" y="4519440"/>
              <a:ext cx="502560" cy="48060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771640" y="10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067280" y="5157720"/>
            <a:ext cx="792000" cy="504720"/>
            <a:chOff x="4067280" y="5157720"/>
            <a:chExt cx="792000" cy="504720"/>
          </a:xfrm>
        </p:grpSpPr>
        <p:sp>
          <p:nvSpPr>
            <p:cNvPr id="447" name=""/>
            <p:cNvSpPr/>
            <p:nvPr/>
          </p:nvSpPr>
          <p:spPr>
            <a:xfrm>
              <a:off x="4283280" y="5157720"/>
              <a:ext cx="360360" cy="217440"/>
            </a:xfrm>
            <a:prstGeom prst="triangle">
              <a:avLst>
                <a:gd name="adj" fmla="val 50000"/>
              </a:avLst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0800000">
              <a:off x="4067280" y="5375160"/>
              <a:ext cx="792000" cy="287280"/>
            </a:xfrm>
            <a:custGeom>
              <a:avLst/>
              <a:gdLst>
                <a:gd name="textAreaLeft" fmla="*/ 174240 w 792000"/>
                <a:gd name="textAreaRight" fmla="*/ 617760 w 792000"/>
                <a:gd name="textAreaTop" fmla="*/ 63000 h 287280"/>
                <a:gd name="textAreaBottom" fmla="*/ 22428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8920" y="53751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211640" y="6021360"/>
            <a:ext cx="504720" cy="555480"/>
          </a:xfrm>
          <a:prstGeom prst="rect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8011200">
            <a:off x="4284360" y="5805360"/>
            <a:ext cx="352440" cy="3715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2637000"/>
            <a:ext cx="503280" cy="43956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999400" y="3272760"/>
            <a:ext cx="579600" cy="578520"/>
            <a:chOff x="5999400" y="3272760"/>
            <a:chExt cx="579600" cy="578520"/>
          </a:xfrm>
        </p:grpSpPr>
        <p:sp>
          <p:nvSpPr>
            <p:cNvPr id="454" name=""/>
            <p:cNvSpPr/>
            <p:nvPr/>
          </p:nvSpPr>
          <p:spPr>
            <a:xfrm rot="18825000">
              <a:off x="6084720" y="3357000"/>
              <a:ext cx="409320" cy="40932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8025000">
              <a:off x="6084000" y="3357360"/>
              <a:ext cx="409320" cy="409320"/>
            </a:xfrm>
            <a:prstGeom prst="rtTriangl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012000" y="4076640"/>
            <a:ext cx="576000" cy="5540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6084720" y="4868640"/>
            <a:ext cx="503280" cy="43956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0800000">
            <a:off x="6084720" y="486864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156360" y="5589360"/>
            <a:ext cx="431280" cy="503280"/>
            <a:chOff x="6156360" y="5589360"/>
            <a:chExt cx="431280" cy="503280"/>
          </a:xfrm>
        </p:grpSpPr>
        <p:sp>
          <p:nvSpPr>
            <p:cNvPr id="460" name=""/>
            <p:cNvSpPr/>
            <p:nvPr/>
          </p:nvSpPr>
          <p:spPr>
            <a:xfrm>
              <a:off x="6156360" y="5589720"/>
              <a:ext cx="431280" cy="50292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6156360" y="5589360"/>
              <a:ext cx="431280" cy="50292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>
            <a:off x="6156360" y="5589720"/>
            <a:ext cx="43164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419640" y="1557360"/>
            <a:ext cx="4249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ру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50920" y="1557360"/>
            <a:ext cx="129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24200" y="85248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0 наиме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24720" y="50068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делоч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43040" y="52610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58160" y="58770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rcRect l="3558" t="0" r="0" b="-5"/>
          <a:stretch/>
        </p:blipFill>
        <p:spPr>
          <a:xfrm>
            <a:off x="0" y="0"/>
            <a:ext cx="4727520" cy="6021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rcRect l="0" t="0" r="-23" b="0"/>
          <a:stretch/>
        </p:blipFill>
        <p:spPr>
          <a:xfrm>
            <a:off x="4732200" y="981000"/>
            <a:ext cx="44118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>
            <a:lum contrast="-30000"/>
          </a:blip>
          <a:srcRect l="0" t="0" r="-4" b="0"/>
          <a:stretch/>
        </p:blipFill>
        <p:spPr>
          <a:xfrm>
            <a:off x="0" y="0"/>
            <a:ext cx="914400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5268960" y="4017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635" y="11162"/>
                </a:moveTo>
                <a:lnTo>
                  <a:pt x="14635" y="11162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6200" y="3062160"/>
            <a:ext cx="1411560" cy="1224000"/>
          </a:xfrm>
          <a:custGeom>
            <a:avLst/>
            <a:gdLst/>
            <a:ahLst/>
            <a:rect l="l" t="t" r="r" b="b"/>
            <a:pathLst>
              <a:path w="3920" h="3399">
                <a:moveTo>
                  <a:pt x="15032" y="10815"/>
                </a:moveTo>
                <a:cubicBezTo>
                  <a:pt x="14975" y="10770"/>
                  <a:pt x="15043" y="10783"/>
                  <a:pt x="14957" y="10740"/>
                </a:cubicBezTo>
                <a:cubicBezTo>
                  <a:pt x="14921" y="10722"/>
                  <a:pt x="14822" y="10644"/>
                  <a:pt x="14808" y="10641"/>
                </a:cubicBezTo>
                <a:cubicBezTo>
                  <a:pt x="14710" y="10622"/>
                  <a:pt x="14645" y="10665"/>
                  <a:pt x="14560" y="10691"/>
                </a:cubicBezTo>
                <a:cubicBezTo>
                  <a:pt x="14420" y="10733"/>
                  <a:pt x="14220" y="10825"/>
                  <a:pt x="14114" y="10914"/>
                </a:cubicBezTo>
                <a:cubicBezTo>
                  <a:pt x="14102" y="10924"/>
                  <a:pt x="13927" y="11089"/>
                  <a:pt x="13915" y="11112"/>
                </a:cubicBezTo>
                <a:cubicBezTo>
                  <a:pt x="13886" y="11166"/>
                  <a:pt x="13855" y="11177"/>
                  <a:pt x="13841" y="11237"/>
                </a:cubicBezTo>
                <a:cubicBezTo>
                  <a:pt x="13814" y="11351"/>
                  <a:pt x="13857" y="11439"/>
                  <a:pt x="13891" y="11485"/>
                </a:cubicBezTo>
                <a:cubicBezTo>
                  <a:pt x="13943" y="11554"/>
                  <a:pt x="13898" y="11514"/>
                  <a:pt x="13990" y="11559"/>
                </a:cubicBezTo>
                <a:cubicBezTo>
                  <a:pt x="14029" y="11578"/>
                  <a:pt x="14073" y="11568"/>
                  <a:pt x="14114" y="11584"/>
                </a:cubicBezTo>
                <a:cubicBezTo>
                  <a:pt x="14170" y="11606"/>
                  <a:pt x="14226" y="11635"/>
                  <a:pt x="14288" y="11658"/>
                </a:cubicBezTo>
                <a:cubicBezTo>
                  <a:pt x="14396" y="11698"/>
                  <a:pt x="14502" y="11775"/>
                  <a:pt x="14610" y="11807"/>
                </a:cubicBezTo>
                <a:cubicBezTo>
                  <a:pt x="14694" y="11832"/>
                  <a:pt x="14760" y="11858"/>
                  <a:pt x="14833" y="11881"/>
                </a:cubicBezTo>
                <a:cubicBezTo>
                  <a:pt x="14872" y="11893"/>
                  <a:pt x="14864" y="11922"/>
                  <a:pt x="14932" y="11906"/>
                </a:cubicBezTo>
                <a:cubicBezTo>
                  <a:pt x="14986" y="11894"/>
                  <a:pt x="15026" y="11833"/>
                  <a:pt x="15056" y="11807"/>
                </a:cubicBezTo>
                <a:cubicBezTo>
                  <a:pt x="15135" y="11738"/>
                  <a:pt x="15187" y="11695"/>
                  <a:pt x="15230" y="11609"/>
                </a:cubicBezTo>
                <a:cubicBezTo>
                  <a:pt x="15275" y="11519"/>
                  <a:pt x="15322" y="11408"/>
                  <a:pt x="15354" y="11311"/>
                </a:cubicBezTo>
                <a:cubicBezTo>
                  <a:pt x="15370" y="11261"/>
                  <a:pt x="15373" y="11191"/>
                  <a:pt x="15379" y="11137"/>
                </a:cubicBezTo>
                <a:cubicBezTo>
                  <a:pt x="15386" y="11077"/>
                  <a:pt x="15355" y="10984"/>
                  <a:pt x="15354" y="10964"/>
                </a:cubicBezTo>
                <a:cubicBezTo>
                  <a:pt x="15349" y="10898"/>
                  <a:pt x="15357" y="10847"/>
                  <a:pt x="15379" y="10815"/>
                </a:cubicBezTo>
                <a:cubicBezTo>
                  <a:pt x="15437" y="10733"/>
                  <a:pt x="15549" y="10709"/>
                  <a:pt x="15602" y="10666"/>
                </a:cubicBezTo>
                <a:cubicBezTo>
                  <a:pt x="15625" y="10647"/>
                  <a:pt x="15670" y="10594"/>
                  <a:pt x="15701" y="10567"/>
                </a:cubicBezTo>
                <a:cubicBezTo>
                  <a:pt x="15691" y="10667"/>
                  <a:pt x="15676" y="10717"/>
                  <a:pt x="15652" y="10815"/>
                </a:cubicBezTo>
                <a:cubicBezTo>
                  <a:pt x="15633" y="10893"/>
                  <a:pt x="15602" y="10931"/>
                  <a:pt x="15577" y="10988"/>
                </a:cubicBezTo>
                <a:cubicBezTo>
                  <a:pt x="15549" y="11050"/>
                  <a:pt x="15551" y="11107"/>
                  <a:pt x="15528" y="11162"/>
                </a:cubicBezTo>
                <a:cubicBezTo>
                  <a:pt x="15512" y="11200"/>
                  <a:pt x="15467" y="11249"/>
                  <a:pt x="15453" y="11286"/>
                </a:cubicBezTo>
                <a:cubicBezTo>
                  <a:pt x="15438" y="11325"/>
                  <a:pt x="15417" y="11374"/>
                  <a:pt x="15404" y="11410"/>
                </a:cubicBezTo>
                <a:cubicBezTo>
                  <a:pt x="15381" y="11474"/>
                  <a:pt x="15353" y="11514"/>
                  <a:pt x="15329" y="11584"/>
                </a:cubicBezTo>
                <a:cubicBezTo>
                  <a:pt x="15319" y="11614"/>
                  <a:pt x="15310" y="11701"/>
                  <a:pt x="15304" y="11733"/>
                </a:cubicBezTo>
                <a:cubicBezTo>
                  <a:pt x="15304" y="11749"/>
                  <a:pt x="15304" y="11766"/>
                  <a:pt x="15304" y="11782"/>
                </a:cubicBezTo>
                <a:cubicBezTo>
                  <a:pt x="15304" y="11562"/>
                  <a:pt x="15327" y="11337"/>
                  <a:pt x="15255" y="11137"/>
                </a:cubicBezTo>
                <a:cubicBezTo>
                  <a:pt x="15199" y="10981"/>
                  <a:pt x="15067" y="10847"/>
                  <a:pt x="14932" y="10765"/>
                </a:cubicBezTo>
                <a:cubicBezTo>
                  <a:pt x="14879" y="10733"/>
                  <a:pt x="14823" y="10693"/>
                  <a:pt x="14759" y="10691"/>
                </a:cubicBezTo>
                <a:cubicBezTo>
                  <a:pt x="14651" y="10687"/>
                  <a:pt x="14624" y="10745"/>
                  <a:pt x="14560" y="10790"/>
                </a:cubicBezTo>
                <a:cubicBezTo>
                  <a:pt x="14488" y="10841"/>
                  <a:pt x="14394" y="10892"/>
                  <a:pt x="14312" y="10939"/>
                </a:cubicBezTo>
                <a:cubicBezTo>
                  <a:pt x="14157" y="11028"/>
                  <a:pt x="13970" y="11027"/>
                  <a:pt x="13816" y="11112"/>
                </a:cubicBezTo>
                <a:cubicBezTo>
                  <a:pt x="13779" y="11132"/>
                  <a:pt x="13682" y="11196"/>
                  <a:pt x="13667" y="11212"/>
                </a:cubicBezTo>
                <a:cubicBezTo>
                  <a:pt x="13644" y="11236"/>
                  <a:pt x="13621" y="11302"/>
                  <a:pt x="13593" y="11336"/>
                </a:cubicBezTo>
                <a:cubicBezTo>
                  <a:pt x="13575" y="11358"/>
                  <a:pt x="13631" y="11286"/>
                  <a:pt x="13618" y="11311"/>
                </a:cubicBezTo>
                <a:cubicBezTo>
                  <a:pt x="13673" y="11241"/>
                  <a:pt x="13727" y="11160"/>
                  <a:pt x="13791" y="11088"/>
                </a:cubicBezTo>
                <a:cubicBezTo>
                  <a:pt x="13858" y="11013"/>
                  <a:pt x="13925" y="10961"/>
                  <a:pt x="13965" y="10864"/>
                </a:cubicBezTo>
                <a:cubicBezTo>
                  <a:pt x="13983" y="10821"/>
                  <a:pt x="13996" y="10795"/>
                  <a:pt x="13990" y="10740"/>
                </a:cubicBezTo>
                <a:cubicBezTo>
                  <a:pt x="13986" y="10702"/>
                  <a:pt x="13979" y="10664"/>
                  <a:pt x="13940" y="10641"/>
                </a:cubicBezTo>
                <a:cubicBezTo>
                  <a:pt x="13893" y="10613"/>
                  <a:pt x="13818" y="10637"/>
                  <a:pt x="13767" y="10616"/>
                </a:cubicBezTo>
                <a:cubicBezTo>
                  <a:pt x="13767" y="10592"/>
                  <a:pt x="13767" y="10584"/>
                  <a:pt x="13742" y="10592"/>
                </a:cubicBezTo>
                <a:cubicBezTo>
                  <a:pt x="13797" y="10567"/>
                  <a:pt x="13803" y="10526"/>
                  <a:pt x="13866" y="10517"/>
                </a:cubicBezTo>
                <a:cubicBezTo>
                  <a:pt x="14015" y="10495"/>
                  <a:pt x="14229" y="10546"/>
                  <a:pt x="14337" y="10492"/>
                </a:cubicBezTo>
                <a:cubicBezTo>
                  <a:pt x="14353" y="10484"/>
                  <a:pt x="14406" y="10422"/>
                  <a:pt x="14436" y="10393"/>
                </a:cubicBezTo>
                <a:cubicBezTo>
                  <a:pt x="14458" y="10372"/>
                  <a:pt x="14509" y="10302"/>
                  <a:pt x="14536" y="10269"/>
                </a:cubicBezTo>
                <a:cubicBezTo>
                  <a:pt x="14575" y="10220"/>
                  <a:pt x="14502" y="10204"/>
                  <a:pt x="14585" y="10195"/>
                </a:cubicBezTo>
                <a:cubicBezTo>
                  <a:pt x="14652" y="10188"/>
                  <a:pt x="14657" y="10237"/>
                  <a:pt x="14734" y="10244"/>
                </a:cubicBezTo>
                <a:cubicBezTo>
                  <a:pt x="14848" y="10254"/>
                  <a:pt x="14990" y="10201"/>
                  <a:pt x="15056" y="10195"/>
                </a:cubicBezTo>
                <a:cubicBezTo>
                  <a:pt x="15210" y="10182"/>
                  <a:pt x="15377" y="10203"/>
                  <a:pt x="15528" y="10170"/>
                </a:cubicBezTo>
                <a:cubicBezTo>
                  <a:pt x="15598" y="10123"/>
                  <a:pt x="15618" y="10106"/>
                  <a:pt x="15677" y="10120"/>
                </a:cubicBezTo>
                <a:cubicBezTo>
                  <a:pt x="15654" y="10097"/>
                  <a:pt x="15729" y="10113"/>
                  <a:pt x="15701" y="10096"/>
                </a:cubicBezTo>
                <a:cubicBezTo>
                  <a:pt x="15663" y="10073"/>
                  <a:pt x="15581" y="10052"/>
                  <a:pt x="15553" y="10021"/>
                </a:cubicBezTo>
                <a:cubicBezTo>
                  <a:pt x="15491" y="9952"/>
                  <a:pt x="15525" y="9992"/>
                  <a:pt x="15503" y="9897"/>
                </a:cubicBezTo>
                <a:cubicBezTo>
                  <a:pt x="15445" y="9639"/>
                  <a:pt x="15592" y="9296"/>
                  <a:pt x="15478" y="9054"/>
                </a:cubicBezTo>
                <a:cubicBezTo>
                  <a:pt x="15455" y="9005"/>
                  <a:pt x="15393" y="8960"/>
                  <a:pt x="15379" y="8930"/>
                </a:cubicBezTo>
                <a:cubicBezTo>
                  <a:pt x="15358" y="8887"/>
                  <a:pt x="15372" y="8896"/>
                  <a:pt x="15354" y="8830"/>
                </a:cubicBezTo>
                <a:cubicBezTo>
                  <a:pt x="15337" y="8768"/>
                  <a:pt x="15346" y="8699"/>
                  <a:pt x="15329" y="8632"/>
                </a:cubicBezTo>
                <a:cubicBezTo>
                  <a:pt x="15317" y="8584"/>
                  <a:pt x="15292" y="8581"/>
                  <a:pt x="15280" y="8533"/>
                </a:cubicBezTo>
                <a:cubicBezTo>
                  <a:pt x="15280" y="8525"/>
                  <a:pt x="15280" y="8516"/>
                  <a:pt x="15280" y="8508"/>
                </a:cubicBezTo>
                <a:cubicBezTo>
                  <a:pt x="15280" y="8682"/>
                  <a:pt x="15316" y="8841"/>
                  <a:pt x="15329" y="9004"/>
                </a:cubicBezTo>
                <a:cubicBezTo>
                  <a:pt x="15340" y="9141"/>
                  <a:pt x="15355" y="9560"/>
                  <a:pt x="15304" y="9599"/>
                </a:cubicBezTo>
                <a:cubicBezTo>
                  <a:pt x="15304" y="9542"/>
                  <a:pt x="15321" y="9517"/>
                  <a:pt x="15280" y="9525"/>
                </a:cubicBezTo>
                <a:cubicBezTo>
                  <a:pt x="15265" y="9470"/>
                  <a:pt x="15216" y="9480"/>
                  <a:pt x="15230" y="9401"/>
                </a:cubicBezTo>
                <a:cubicBezTo>
                  <a:pt x="15246" y="9307"/>
                  <a:pt x="15255" y="9359"/>
                  <a:pt x="15304" y="9277"/>
                </a:cubicBezTo>
                <a:cubicBezTo>
                  <a:pt x="15387" y="9137"/>
                  <a:pt x="15414" y="9019"/>
                  <a:pt x="15478" y="8880"/>
                </a:cubicBezTo>
                <a:cubicBezTo>
                  <a:pt x="15504" y="8823"/>
                  <a:pt x="15532" y="8779"/>
                  <a:pt x="15553" y="8731"/>
                </a:cubicBezTo>
                <a:cubicBezTo>
                  <a:pt x="15561" y="8715"/>
                  <a:pt x="15569" y="8698"/>
                  <a:pt x="15577" y="8682"/>
                </a:cubicBezTo>
                <a:cubicBezTo>
                  <a:pt x="15531" y="8815"/>
                  <a:pt x="15509" y="8891"/>
                  <a:pt x="15478" y="9029"/>
                </a:cubicBezTo>
                <a:cubicBezTo>
                  <a:pt x="15453" y="9139"/>
                  <a:pt x="15393" y="9281"/>
                  <a:pt x="15379" y="9401"/>
                </a:cubicBezTo>
                <a:cubicBezTo>
                  <a:pt x="15363" y="9539"/>
                  <a:pt x="15361" y="9710"/>
                  <a:pt x="15429" y="9773"/>
                </a:cubicBezTo>
                <a:cubicBezTo>
                  <a:pt x="15454" y="9796"/>
                  <a:pt x="15468" y="9780"/>
                  <a:pt x="15503" y="9798"/>
                </a:cubicBezTo>
                <a:cubicBezTo>
                  <a:pt x="15579" y="9838"/>
                  <a:pt x="15638" y="9869"/>
                  <a:pt x="15726" y="9897"/>
                </a:cubicBezTo>
                <a:cubicBezTo>
                  <a:pt x="15816" y="9925"/>
                  <a:pt x="15948" y="9960"/>
                  <a:pt x="16049" y="9971"/>
                </a:cubicBezTo>
                <a:cubicBezTo>
                  <a:pt x="16103" y="9977"/>
                  <a:pt x="16186" y="9947"/>
                  <a:pt x="16197" y="9947"/>
                </a:cubicBezTo>
                <a:cubicBezTo>
                  <a:pt x="16281" y="9944"/>
                  <a:pt x="16350" y="9951"/>
                  <a:pt x="16421" y="9922"/>
                </a:cubicBezTo>
                <a:cubicBezTo>
                  <a:pt x="16494" y="9892"/>
                  <a:pt x="16461" y="9886"/>
                  <a:pt x="16520" y="9823"/>
                </a:cubicBezTo>
                <a:cubicBezTo>
                  <a:pt x="16558" y="9782"/>
                  <a:pt x="16716" y="9557"/>
                  <a:pt x="16768" y="9575"/>
                </a:cubicBezTo>
                <a:cubicBezTo>
                  <a:pt x="16825" y="9595"/>
                  <a:pt x="16787" y="9674"/>
                  <a:pt x="16768" y="9723"/>
                </a:cubicBezTo>
                <a:cubicBezTo>
                  <a:pt x="16745" y="9782"/>
                  <a:pt x="16671" y="9872"/>
                  <a:pt x="16619" y="9922"/>
                </a:cubicBezTo>
                <a:cubicBezTo>
                  <a:pt x="16578" y="9962"/>
                  <a:pt x="16528" y="10006"/>
                  <a:pt x="16495" y="10021"/>
                </a:cubicBezTo>
                <a:cubicBezTo>
                  <a:pt x="16457" y="10038"/>
                  <a:pt x="16461" y="10012"/>
                  <a:pt x="16421" y="10021"/>
                </a:cubicBezTo>
                <a:cubicBezTo>
                  <a:pt x="16564" y="10005"/>
                  <a:pt x="16574" y="10001"/>
                  <a:pt x="16718" y="9947"/>
                </a:cubicBezTo>
                <a:cubicBezTo>
                  <a:pt x="16801" y="9916"/>
                  <a:pt x="16902" y="9893"/>
                  <a:pt x="16966" y="9823"/>
                </a:cubicBezTo>
                <a:cubicBezTo>
                  <a:pt x="16995" y="9791"/>
                  <a:pt x="17045" y="9711"/>
                  <a:pt x="17066" y="9674"/>
                </a:cubicBezTo>
                <a:cubicBezTo>
                  <a:pt x="17098" y="9617"/>
                  <a:pt x="17091" y="9558"/>
                  <a:pt x="17115" y="9500"/>
                </a:cubicBezTo>
                <a:cubicBezTo>
                  <a:pt x="17134" y="9455"/>
                  <a:pt x="17187" y="9448"/>
                  <a:pt x="17165" y="9376"/>
                </a:cubicBezTo>
                <a:cubicBezTo>
                  <a:pt x="17149" y="9325"/>
                  <a:pt x="17118" y="9378"/>
                  <a:pt x="17090" y="9327"/>
                </a:cubicBezTo>
                <a:cubicBezTo>
                  <a:pt x="17011" y="9318"/>
                  <a:pt x="17056" y="9249"/>
                  <a:pt x="16942" y="9327"/>
                </a:cubicBezTo>
                <a:cubicBezTo>
                  <a:pt x="16830" y="9404"/>
                  <a:pt x="16787" y="9475"/>
                  <a:pt x="16718" y="9575"/>
                </a:cubicBezTo>
                <a:cubicBezTo>
                  <a:pt x="16644" y="9682"/>
                  <a:pt x="16656" y="9696"/>
                  <a:pt x="16644" y="9823"/>
                </a:cubicBezTo>
                <a:cubicBezTo>
                  <a:pt x="16644" y="9847"/>
                  <a:pt x="16644" y="9856"/>
                  <a:pt x="16644" y="9872"/>
                </a:cubicBezTo>
                <a:cubicBezTo>
                  <a:pt x="16793" y="9853"/>
                  <a:pt x="16816" y="9869"/>
                  <a:pt x="16966" y="9798"/>
                </a:cubicBezTo>
                <a:cubicBezTo>
                  <a:pt x="17070" y="9749"/>
                  <a:pt x="17186" y="9621"/>
                  <a:pt x="17214" y="9500"/>
                </a:cubicBezTo>
                <a:cubicBezTo>
                  <a:pt x="17223" y="9462"/>
                  <a:pt x="17210" y="9416"/>
                  <a:pt x="17214" y="9376"/>
                </a:cubicBezTo>
                <a:cubicBezTo>
                  <a:pt x="17172" y="9367"/>
                  <a:pt x="17109" y="9325"/>
                  <a:pt x="17090" y="9327"/>
                </a:cubicBezTo>
                <a:cubicBezTo>
                  <a:pt x="16952" y="9339"/>
                  <a:pt x="16779" y="9467"/>
                  <a:pt x="16669" y="9550"/>
                </a:cubicBezTo>
                <a:cubicBezTo>
                  <a:pt x="16561" y="9631"/>
                  <a:pt x="16442" y="9705"/>
                  <a:pt x="16346" y="9798"/>
                </a:cubicBezTo>
                <a:cubicBezTo>
                  <a:pt x="16233" y="9908"/>
                  <a:pt x="16212" y="9953"/>
                  <a:pt x="16123" y="10071"/>
                </a:cubicBezTo>
                <a:cubicBezTo>
                  <a:pt x="16077" y="10132"/>
                  <a:pt x="16034" y="10190"/>
                  <a:pt x="15974" y="10244"/>
                </a:cubicBezTo>
                <a:cubicBezTo>
                  <a:pt x="15936" y="10278"/>
                  <a:pt x="15875" y="10302"/>
                  <a:pt x="15825" y="10319"/>
                </a:cubicBezTo>
                <a:cubicBezTo>
                  <a:pt x="15784" y="10319"/>
                  <a:pt x="15776" y="10319"/>
                  <a:pt x="15751" y="10319"/>
                </a:cubicBezTo>
                <a:cubicBezTo>
                  <a:pt x="15696" y="10232"/>
                  <a:pt x="15635" y="10144"/>
                  <a:pt x="15602" y="10046"/>
                </a:cubicBezTo>
                <a:cubicBezTo>
                  <a:pt x="15568" y="9945"/>
                  <a:pt x="15536" y="9729"/>
                  <a:pt x="15528" y="9649"/>
                </a:cubicBezTo>
                <a:cubicBezTo>
                  <a:pt x="15512" y="9495"/>
                  <a:pt x="15531" y="9385"/>
                  <a:pt x="15577" y="9252"/>
                </a:cubicBezTo>
                <a:cubicBezTo>
                  <a:pt x="15600" y="9255"/>
                  <a:pt x="15615" y="9122"/>
                  <a:pt x="15677" y="9252"/>
                </a:cubicBezTo>
                <a:cubicBezTo>
                  <a:pt x="15696" y="9291"/>
                  <a:pt x="15658" y="9381"/>
                  <a:pt x="15701" y="9376"/>
                </a:cubicBezTo>
                <a:cubicBezTo>
                  <a:pt x="15766" y="9368"/>
                  <a:pt x="15757" y="9296"/>
                  <a:pt x="15801" y="9252"/>
                </a:cubicBezTo>
                <a:cubicBezTo>
                  <a:pt x="15801" y="9213"/>
                  <a:pt x="15845" y="9168"/>
                  <a:pt x="15825" y="9128"/>
                </a:cubicBezTo>
                <a:cubicBezTo>
                  <a:pt x="15785" y="9045"/>
                  <a:pt x="15822" y="9109"/>
                  <a:pt x="15726" y="9079"/>
                </a:cubicBezTo>
                <a:cubicBezTo>
                  <a:pt x="15658" y="9058"/>
                  <a:pt x="15613" y="9064"/>
                  <a:pt x="15528" y="9054"/>
                </a:cubicBezTo>
                <a:cubicBezTo>
                  <a:pt x="15476" y="9048"/>
                  <a:pt x="15375" y="9055"/>
                  <a:pt x="15329" y="9029"/>
                </a:cubicBezTo>
                <a:cubicBezTo>
                  <a:pt x="15309" y="9017"/>
                  <a:pt x="15295" y="8961"/>
                  <a:pt x="15280" y="8930"/>
                </a:cubicBezTo>
                <a:cubicBezTo>
                  <a:pt x="15254" y="8878"/>
                  <a:pt x="15238" y="8813"/>
                  <a:pt x="15230" y="8756"/>
                </a:cubicBezTo>
                <a:cubicBezTo>
                  <a:pt x="15219" y="8679"/>
                  <a:pt x="15242" y="8606"/>
                  <a:pt x="15255" y="8533"/>
                </a:cubicBezTo>
                <a:cubicBezTo>
                  <a:pt x="15298" y="8533"/>
                  <a:pt x="15300" y="8550"/>
                  <a:pt x="15255" y="8607"/>
                </a:cubicBezTo>
                <a:cubicBezTo>
                  <a:pt x="15194" y="8698"/>
                  <a:pt x="15159" y="8757"/>
                  <a:pt x="15106" y="8855"/>
                </a:cubicBezTo>
                <a:cubicBezTo>
                  <a:pt x="15077" y="8908"/>
                  <a:pt x="15054" y="8924"/>
                  <a:pt x="15032" y="8979"/>
                </a:cubicBezTo>
                <a:cubicBezTo>
                  <a:pt x="15032" y="8987"/>
                  <a:pt x="15032" y="8996"/>
                  <a:pt x="15032" y="9004"/>
                </a:cubicBezTo>
                <a:cubicBezTo>
                  <a:pt x="15068" y="9035"/>
                  <a:pt x="15145" y="9103"/>
                  <a:pt x="15205" y="9153"/>
                </a:cubicBezTo>
                <a:cubicBezTo>
                  <a:pt x="15241" y="9183"/>
                  <a:pt x="15326" y="9217"/>
                  <a:pt x="15354" y="9252"/>
                </a:cubicBezTo>
                <a:cubicBezTo>
                  <a:pt x="15368" y="9270"/>
                  <a:pt x="15400" y="9354"/>
                  <a:pt x="15404" y="9376"/>
                </a:cubicBezTo>
                <a:cubicBezTo>
                  <a:pt x="15422" y="9476"/>
                  <a:pt x="15379" y="9512"/>
                  <a:pt x="15354" y="9575"/>
                </a:cubicBezTo>
                <a:cubicBezTo>
                  <a:pt x="15305" y="9696"/>
                  <a:pt x="15252" y="9821"/>
                  <a:pt x="15205" y="9947"/>
                </a:cubicBezTo>
                <a:cubicBezTo>
                  <a:pt x="15180" y="10015"/>
                  <a:pt x="15120" y="10145"/>
                  <a:pt x="15106" y="10195"/>
                </a:cubicBezTo>
                <a:cubicBezTo>
                  <a:pt x="15067" y="10332"/>
                  <a:pt x="15020" y="10448"/>
                  <a:pt x="15007" y="10592"/>
                </a:cubicBezTo>
                <a:cubicBezTo>
                  <a:pt x="14995" y="10729"/>
                  <a:pt x="14962" y="10830"/>
                  <a:pt x="14957" y="10964"/>
                </a:cubicBezTo>
                <a:cubicBezTo>
                  <a:pt x="14954" y="11048"/>
                  <a:pt x="14983" y="11164"/>
                  <a:pt x="14932" y="11237"/>
                </a:cubicBezTo>
                <a:cubicBezTo>
                  <a:pt x="14900" y="11283"/>
                  <a:pt x="14790" y="11280"/>
                  <a:pt x="14734" y="11336"/>
                </a:cubicBezTo>
                <a:cubicBezTo>
                  <a:pt x="14712" y="11358"/>
                  <a:pt x="14589" y="11452"/>
                  <a:pt x="14585" y="11460"/>
                </a:cubicBezTo>
                <a:cubicBezTo>
                  <a:pt x="14564" y="11497"/>
                  <a:pt x="14541" y="11582"/>
                  <a:pt x="14560" y="11633"/>
                </a:cubicBezTo>
                <a:cubicBezTo>
                  <a:pt x="14590" y="11663"/>
                  <a:pt x="14604" y="11674"/>
                  <a:pt x="14635" y="11683"/>
                </a:cubicBezTo>
                <a:cubicBezTo>
                  <a:pt x="14669" y="11680"/>
                  <a:pt x="14729" y="11734"/>
                  <a:pt x="14784" y="11708"/>
                </a:cubicBezTo>
                <a:cubicBezTo>
                  <a:pt x="14889" y="11659"/>
                  <a:pt x="14981" y="11613"/>
                  <a:pt x="15056" y="11485"/>
                </a:cubicBezTo>
                <a:cubicBezTo>
                  <a:pt x="15149" y="11326"/>
                  <a:pt x="15292" y="11169"/>
                  <a:pt x="15379" y="11038"/>
                </a:cubicBezTo>
                <a:cubicBezTo>
                  <a:pt x="15427" y="10966"/>
                  <a:pt x="15424" y="10888"/>
                  <a:pt x="15453" y="10815"/>
                </a:cubicBezTo>
                <a:cubicBezTo>
                  <a:pt x="15453" y="10807"/>
                  <a:pt x="15453" y="10798"/>
                  <a:pt x="15453" y="10790"/>
                </a:cubicBezTo>
                <a:cubicBezTo>
                  <a:pt x="15397" y="10762"/>
                  <a:pt x="15367" y="10708"/>
                  <a:pt x="15280" y="10691"/>
                </a:cubicBezTo>
                <a:cubicBezTo>
                  <a:pt x="15083" y="10652"/>
                  <a:pt x="14836" y="10738"/>
                  <a:pt x="14684" y="10840"/>
                </a:cubicBezTo>
                <a:cubicBezTo>
                  <a:pt x="14592" y="10902"/>
                  <a:pt x="14449" y="11027"/>
                  <a:pt x="14387" y="11112"/>
                </a:cubicBezTo>
                <a:cubicBezTo>
                  <a:pt x="14338" y="11180"/>
                  <a:pt x="14313" y="11275"/>
                  <a:pt x="14263" y="11336"/>
                </a:cubicBezTo>
                <a:cubicBezTo>
                  <a:pt x="14229" y="11378"/>
                  <a:pt x="14167" y="11432"/>
                  <a:pt x="14114" y="11460"/>
                </a:cubicBezTo>
                <a:cubicBezTo>
                  <a:pt x="14093" y="11471"/>
                  <a:pt x="14084" y="11476"/>
                  <a:pt x="14039" y="11485"/>
                </a:cubicBezTo>
                <a:cubicBezTo>
                  <a:pt x="13947" y="11504"/>
                  <a:pt x="13924" y="11460"/>
                  <a:pt x="13866" y="11435"/>
                </a:cubicBezTo>
                <a:cubicBezTo>
                  <a:pt x="13795" y="11404"/>
                  <a:pt x="13733" y="11314"/>
                  <a:pt x="13667" y="11286"/>
                </a:cubicBezTo>
                <a:cubicBezTo>
                  <a:pt x="13581" y="11249"/>
                  <a:pt x="13456" y="11243"/>
                  <a:pt x="13370" y="11212"/>
                </a:cubicBezTo>
                <a:cubicBezTo>
                  <a:pt x="13317" y="11193"/>
                  <a:pt x="13373" y="11207"/>
                  <a:pt x="13295" y="11187"/>
                </a:cubicBezTo>
                <a:cubicBezTo>
                  <a:pt x="13358" y="11208"/>
                  <a:pt x="13378" y="11206"/>
                  <a:pt x="13444" y="11237"/>
                </a:cubicBezTo>
                <a:cubicBezTo>
                  <a:pt x="13582" y="11302"/>
                  <a:pt x="13735" y="11365"/>
                  <a:pt x="13866" y="11410"/>
                </a:cubicBezTo>
                <a:cubicBezTo>
                  <a:pt x="13929" y="11431"/>
                  <a:pt x="14053" y="11475"/>
                  <a:pt x="14114" y="11485"/>
                </a:cubicBezTo>
                <a:cubicBezTo>
                  <a:pt x="14256" y="11508"/>
                  <a:pt x="14370" y="11478"/>
                  <a:pt x="14486" y="11410"/>
                </a:cubicBezTo>
                <a:cubicBezTo>
                  <a:pt x="14606" y="11339"/>
                  <a:pt x="14718" y="11247"/>
                  <a:pt x="14833" y="11162"/>
                </a:cubicBezTo>
                <a:cubicBezTo>
                  <a:pt x="14958" y="11069"/>
                  <a:pt x="15088" y="10990"/>
                  <a:pt x="15205" y="10889"/>
                </a:cubicBezTo>
                <a:cubicBezTo>
                  <a:pt x="15252" y="10848"/>
                  <a:pt x="15266" y="10826"/>
                  <a:pt x="15304" y="10790"/>
                </a:cubicBezTo>
                <a:cubicBezTo>
                  <a:pt x="15304" y="10958"/>
                  <a:pt x="15272" y="11113"/>
                  <a:pt x="15255" y="11261"/>
                </a:cubicBezTo>
                <a:cubicBezTo>
                  <a:pt x="15245" y="11349"/>
                  <a:pt x="15255" y="11445"/>
                  <a:pt x="15255" y="11534"/>
                </a:cubicBezTo>
                <a:cubicBezTo>
                  <a:pt x="15400" y="11389"/>
                  <a:pt x="15520" y="11264"/>
                  <a:pt x="15701" y="11162"/>
                </a:cubicBezTo>
                <a:cubicBezTo>
                  <a:pt x="15762" y="11127"/>
                  <a:pt x="15965" y="10964"/>
                  <a:pt x="16049" y="10988"/>
                </a:cubicBezTo>
                <a:cubicBezTo>
                  <a:pt x="16070" y="10994"/>
                  <a:pt x="16008" y="11046"/>
                  <a:pt x="15999" y="11112"/>
                </a:cubicBezTo>
                <a:cubicBezTo>
                  <a:pt x="15999" y="11129"/>
                  <a:pt x="15999" y="11145"/>
                  <a:pt x="15999" y="11162"/>
                </a:cubicBezTo>
                <a:cubicBezTo>
                  <a:pt x="15980" y="11172"/>
                  <a:pt x="15902" y="11240"/>
                  <a:pt x="15900" y="11237"/>
                </a:cubicBezTo>
                <a:cubicBezTo>
                  <a:pt x="15840" y="11156"/>
                  <a:pt x="15977" y="11029"/>
                  <a:pt x="15850" y="11013"/>
                </a:cubicBezTo>
                <a:cubicBezTo>
                  <a:pt x="15791" y="11005"/>
                  <a:pt x="15813" y="11002"/>
                  <a:pt x="15776" y="11013"/>
                </a:cubicBezTo>
                <a:cubicBezTo>
                  <a:pt x="15744" y="11022"/>
                  <a:pt x="15663" y="11074"/>
                  <a:pt x="15627" y="11088"/>
                </a:cubicBezTo>
                <a:cubicBezTo>
                  <a:pt x="15627" y="10925"/>
                  <a:pt x="15650" y="10785"/>
                  <a:pt x="15677" y="10666"/>
                </a:cubicBezTo>
                <a:cubicBezTo>
                  <a:pt x="15703" y="10550"/>
                  <a:pt x="15723" y="10518"/>
                  <a:pt x="15776" y="10418"/>
                </a:cubicBezTo>
                <a:cubicBezTo>
                  <a:pt x="15796" y="10379"/>
                  <a:pt x="15792" y="10305"/>
                  <a:pt x="15825" y="10269"/>
                </a:cubicBezTo>
                <a:cubicBezTo>
                  <a:pt x="15867" y="10223"/>
                  <a:pt x="15918" y="10195"/>
                  <a:pt x="15974" y="10170"/>
                </a:cubicBezTo>
                <a:cubicBezTo>
                  <a:pt x="16011" y="10153"/>
                  <a:pt x="16061" y="10160"/>
                  <a:pt x="16098" y="10145"/>
                </a:cubicBezTo>
                <a:cubicBezTo>
                  <a:pt x="16150" y="10124"/>
                  <a:pt x="16182" y="10071"/>
                  <a:pt x="16222" y="10046"/>
                </a:cubicBezTo>
                <a:cubicBezTo>
                  <a:pt x="16308" y="9993"/>
                  <a:pt x="16398" y="9941"/>
                  <a:pt x="16470" y="9897"/>
                </a:cubicBezTo>
                <a:cubicBezTo>
                  <a:pt x="16592" y="9822"/>
                  <a:pt x="16696" y="9810"/>
                  <a:pt x="16818" y="9748"/>
                </a:cubicBezTo>
                <a:cubicBezTo>
                  <a:pt x="16873" y="9720"/>
                  <a:pt x="16940" y="9696"/>
                  <a:pt x="16991" y="9674"/>
                </a:cubicBezTo>
                <a:cubicBezTo>
                  <a:pt x="17010" y="9666"/>
                  <a:pt x="17070" y="9637"/>
                  <a:pt x="17115" y="9624"/>
                </a:cubicBezTo>
                <a:cubicBezTo>
                  <a:pt x="17149" y="9614"/>
                  <a:pt x="17206" y="9602"/>
                  <a:pt x="17214" y="9599"/>
                </a:cubicBezTo>
                <a:cubicBezTo>
                  <a:pt x="17206" y="9599"/>
                  <a:pt x="17198" y="9599"/>
                  <a:pt x="17190" y="9599"/>
                </a:cubicBezTo>
                <a:cubicBezTo>
                  <a:pt x="17130" y="9580"/>
                  <a:pt x="17128" y="9558"/>
                  <a:pt x="17066" y="9550"/>
                </a:cubicBezTo>
                <a:cubicBezTo>
                  <a:pt x="16903" y="9529"/>
                  <a:pt x="16858" y="9612"/>
                  <a:pt x="16718" y="9674"/>
                </a:cubicBezTo>
                <a:cubicBezTo>
                  <a:pt x="16478" y="9781"/>
                  <a:pt x="16185" y="9959"/>
                  <a:pt x="15999" y="10145"/>
                </a:cubicBezTo>
                <a:cubicBezTo>
                  <a:pt x="15898" y="10246"/>
                  <a:pt x="15877" y="10275"/>
                  <a:pt x="15776" y="10368"/>
                </a:cubicBezTo>
                <a:cubicBezTo>
                  <a:pt x="15739" y="10402"/>
                  <a:pt x="15673" y="10423"/>
                  <a:pt x="15627" y="10443"/>
                </a:cubicBezTo>
                <a:cubicBezTo>
                  <a:pt x="15611" y="10450"/>
                  <a:pt x="15515" y="10466"/>
                  <a:pt x="15478" y="10492"/>
                </a:cubicBezTo>
                <a:cubicBezTo>
                  <a:pt x="15456" y="10508"/>
                  <a:pt x="15370" y="10579"/>
                  <a:pt x="15354" y="10592"/>
                </a:cubicBezTo>
                <a:cubicBezTo>
                  <a:pt x="15286" y="10648"/>
                  <a:pt x="15230" y="10720"/>
                  <a:pt x="15156" y="10765"/>
                </a:cubicBezTo>
                <a:cubicBezTo>
                  <a:pt x="15069" y="10818"/>
                  <a:pt x="14980" y="10855"/>
                  <a:pt x="14908" y="10914"/>
                </a:cubicBezTo>
                <a:cubicBezTo>
                  <a:pt x="14866" y="10948"/>
                  <a:pt x="14832" y="11010"/>
                  <a:pt x="14784" y="11038"/>
                </a:cubicBezTo>
                <a:cubicBezTo>
                  <a:pt x="14767" y="11038"/>
                  <a:pt x="14751" y="11038"/>
                  <a:pt x="14734" y="11038"/>
                </a:cubicBezTo>
                <a:cubicBezTo>
                  <a:pt x="14718" y="10906"/>
                  <a:pt x="14712" y="10803"/>
                  <a:pt x="14709" y="10666"/>
                </a:cubicBezTo>
                <a:cubicBezTo>
                  <a:pt x="14706" y="10520"/>
                  <a:pt x="14825" y="10280"/>
                  <a:pt x="14908" y="10170"/>
                </a:cubicBezTo>
                <a:cubicBezTo>
                  <a:pt x="14991" y="10087"/>
                  <a:pt x="15024" y="10054"/>
                  <a:pt x="15081" y="9996"/>
                </a:cubicBezTo>
                <a:cubicBezTo>
                  <a:pt x="15017" y="10094"/>
                  <a:pt x="15030" y="10153"/>
                  <a:pt x="14957" y="10244"/>
                </a:cubicBezTo>
                <a:cubicBezTo>
                  <a:pt x="14786" y="10456"/>
                  <a:pt x="14663" y="10644"/>
                  <a:pt x="14511" y="10864"/>
                </a:cubicBezTo>
                <a:cubicBezTo>
                  <a:pt x="14468" y="10927"/>
                  <a:pt x="14424" y="11014"/>
                  <a:pt x="14387" y="11063"/>
                </a:cubicBezTo>
                <a:cubicBezTo>
                  <a:pt x="14545" y="10934"/>
                  <a:pt x="14707" y="10749"/>
                  <a:pt x="14858" y="10641"/>
                </a:cubicBezTo>
                <a:cubicBezTo>
                  <a:pt x="14953" y="10573"/>
                  <a:pt x="15094" y="10332"/>
                  <a:pt x="15131" y="10443"/>
                </a:cubicBezTo>
                <a:cubicBezTo>
                  <a:pt x="15158" y="10523"/>
                  <a:pt x="15086" y="10648"/>
                  <a:pt x="15056" y="10716"/>
                </a:cubicBezTo>
                <a:cubicBezTo>
                  <a:pt x="15025" y="10788"/>
                  <a:pt x="15002" y="10841"/>
                  <a:pt x="14982" y="109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99080" y="3705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553" y="10294"/>
                </a:moveTo>
                <a:lnTo>
                  <a:pt x="15553" y="10294"/>
                </a:ln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56120" y="2963880"/>
            <a:ext cx="750960" cy="1349280"/>
          </a:xfrm>
          <a:custGeom>
            <a:avLst/>
            <a:gdLst/>
            <a:ahLst/>
            <a:rect l="l" t="t" r="r" b="b"/>
            <a:pathLst>
              <a:path w="2084" h="3747">
                <a:moveTo>
                  <a:pt x="13767" y="11162"/>
                </a:moveTo>
                <a:cubicBezTo>
                  <a:pt x="13867" y="11099"/>
                  <a:pt x="13996" y="11012"/>
                  <a:pt x="14114" y="10964"/>
                </a:cubicBezTo>
                <a:cubicBezTo>
                  <a:pt x="14305" y="10887"/>
                  <a:pt x="14598" y="10827"/>
                  <a:pt x="14808" y="10790"/>
                </a:cubicBezTo>
                <a:cubicBezTo>
                  <a:pt x="14901" y="10790"/>
                  <a:pt x="14927" y="10792"/>
                  <a:pt x="14982" y="10765"/>
                </a:cubicBezTo>
                <a:cubicBezTo>
                  <a:pt x="14982" y="10902"/>
                  <a:pt x="14982" y="11040"/>
                  <a:pt x="14957" y="11162"/>
                </a:cubicBezTo>
                <a:cubicBezTo>
                  <a:pt x="14944" y="11225"/>
                  <a:pt x="14916" y="11291"/>
                  <a:pt x="14883" y="11336"/>
                </a:cubicBezTo>
                <a:cubicBezTo>
                  <a:pt x="14879" y="11342"/>
                  <a:pt x="14840" y="11380"/>
                  <a:pt x="14833" y="11385"/>
                </a:cubicBezTo>
                <a:cubicBezTo>
                  <a:pt x="14775" y="11433"/>
                  <a:pt x="14789" y="11430"/>
                  <a:pt x="14709" y="11435"/>
                </a:cubicBezTo>
                <a:cubicBezTo>
                  <a:pt x="14524" y="11448"/>
                  <a:pt x="14093" y="11360"/>
                  <a:pt x="13965" y="11460"/>
                </a:cubicBezTo>
                <a:cubicBezTo>
                  <a:pt x="13898" y="11512"/>
                  <a:pt x="13968" y="11447"/>
                  <a:pt x="13915" y="11534"/>
                </a:cubicBezTo>
                <a:cubicBezTo>
                  <a:pt x="13935" y="11543"/>
                  <a:pt x="13968" y="11571"/>
                  <a:pt x="14015" y="11584"/>
                </a:cubicBezTo>
                <a:cubicBezTo>
                  <a:pt x="14059" y="11596"/>
                  <a:pt x="14088" y="11603"/>
                  <a:pt x="14139" y="11609"/>
                </a:cubicBezTo>
                <a:cubicBezTo>
                  <a:pt x="14237" y="11620"/>
                  <a:pt x="14219" y="11646"/>
                  <a:pt x="14288" y="11658"/>
                </a:cubicBezTo>
                <a:cubicBezTo>
                  <a:pt x="14436" y="11685"/>
                  <a:pt x="14590" y="11625"/>
                  <a:pt x="14709" y="11609"/>
                </a:cubicBezTo>
                <a:cubicBezTo>
                  <a:pt x="14749" y="11604"/>
                  <a:pt x="14792" y="11613"/>
                  <a:pt x="14833" y="11609"/>
                </a:cubicBezTo>
                <a:cubicBezTo>
                  <a:pt x="14847" y="11665"/>
                  <a:pt x="14848" y="11699"/>
                  <a:pt x="14858" y="11757"/>
                </a:cubicBezTo>
                <a:cubicBezTo>
                  <a:pt x="14866" y="11801"/>
                  <a:pt x="14877" y="11831"/>
                  <a:pt x="14883" y="11881"/>
                </a:cubicBezTo>
                <a:cubicBezTo>
                  <a:pt x="14883" y="11906"/>
                  <a:pt x="14883" y="11914"/>
                  <a:pt x="14883" y="11931"/>
                </a:cubicBezTo>
                <a:cubicBezTo>
                  <a:pt x="14868" y="11887"/>
                  <a:pt x="14888" y="11834"/>
                  <a:pt x="14858" y="11807"/>
                </a:cubicBezTo>
                <a:cubicBezTo>
                  <a:pt x="14840" y="11791"/>
                  <a:pt x="14802" y="11772"/>
                  <a:pt x="14784" y="11757"/>
                </a:cubicBezTo>
                <a:cubicBezTo>
                  <a:pt x="14768" y="11744"/>
                  <a:pt x="14740" y="11712"/>
                  <a:pt x="14734" y="11708"/>
                </a:cubicBezTo>
                <a:cubicBezTo>
                  <a:pt x="14745" y="11751"/>
                  <a:pt x="14733" y="11823"/>
                  <a:pt x="14759" y="11857"/>
                </a:cubicBezTo>
                <a:cubicBezTo>
                  <a:pt x="14788" y="11896"/>
                  <a:pt x="14808" y="11913"/>
                  <a:pt x="14833" y="11931"/>
                </a:cubicBezTo>
                <a:cubicBezTo>
                  <a:pt x="14854" y="11946"/>
                  <a:pt x="14932" y="11976"/>
                  <a:pt x="14957" y="11981"/>
                </a:cubicBezTo>
                <a:cubicBezTo>
                  <a:pt x="15040" y="11999"/>
                  <a:pt x="15072" y="11968"/>
                  <a:pt x="15131" y="11906"/>
                </a:cubicBezTo>
                <a:cubicBezTo>
                  <a:pt x="15164" y="11872"/>
                  <a:pt x="15201" y="11792"/>
                  <a:pt x="15230" y="11757"/>
                </a:cubicBezTo>
                <a:cubicBezTo>
                  <a:pt x="15251" y="11731"/>
                  <a:pt x="15267" y="11695"/>
                  <a:pt x="15304" y="11658"/>
                </a:cubicBezTo>
                <a:cubicBezTo>
                  <a:pt x="15338" y="11624"/>
                  <a:pt x="15435" y="11628"/>
                  <a:pt x="15453" y="11609"/>
                </a:cubicBezTo>
                <a:cubicBezTo>
                  <a:pt x="15477" y="11584"/>
                  <a:pt x="15472" y="11556"/>
                  <a:pt x="15503" y="11534"/>
                </a:cubicBezTo>
                <a:cubicBezTo>
                  <a:pt x="15526" y="11518"/>
                  <a:pt x="15570" y="11468"/>
                  <a:pt x="15602" y="11435"/>
                </a:cubicBezTo>
                <a:cubicBezTo>
                  <a:pt x="15641" y="11395"/>
                  <a:pt x="15650" y="11346"/>
                  <a:pt x="15677" y="11311"/>
                </a:cubicBezTo>
                <a:cubicBezTo>
                  <a:pt x="15699" y="11283"/>
                  <a:pt x="15702" y="11246"/>
                  <a:pt x="15726" y="11212"/>
                </a:cubicBezTo>
                <a:cubicBezTo>
                  <a:pt x="15751" y="11176"/>
                  <a:pt x="15790" y="11179"/>
                  <a:pt x="15801" y="11137"/>
                </a:cubicBezTo>
                <a:cubicBezTo>
                  <a:pt x="15816" y="11081"/>
                  <a:pt x="15818" y="11045"/>
                  <a:pt x="15825" y="10988"/>
                </a:cubicBezTo>
                <a:cubicBezTo>
                  <a:pt x="15838" y="10885"/>
                  <a:pt x="15863" y="10433"/>
                  <a:pt x="15801" y="10393"/>
                </a:cubicBezTo>
                <a:cubicBezTo>
                  <a:pt x="15741" y="10354"/>
                  <a:pt x="15684" y="10360"/>
                  <a:pt x="15627" y="10393"/>
                </a:cubicBezTo>
                <a:cubicBezTo>
                  <a:pt x="15562" y="10431"/>
                  <a:pt x="15447" y="10499"/>
                  <a:pt x="15404" y="10542"/>
                </a:cubicBezTo>
                <a:cubicBezTo>
                  <a:pt x="15333" y="10613"/>
                  <a:pt x="15336" y="10610"/>
                  <a:pt x="15255" y="10641"/>
                </a:cubicBezTo>
                <a:cubicBezTo>
                  <a:pt x="15177" y="10671"/>
                  <a:pt x="15193" y="10651"/>
                  <a:pt x="15131" y="10691"/>
                </a:cubicBezTo>
                <a:cubicBezTo>
                  <a:pt x="15069" y="10731"/>
                  <a:pt x="14981" y="10829"/>
                  <a:pt x="14957" y="10889"/>
                </a:cubicBezTo>
                <a:cubicBezTo>
                  <a:pt x="14934" y="10947"/>
                  <a:pt x="14914" y="11026"/>
                  <a:pt x="14908" y="11088"/>
                </a:cubicBezTo>
                <a:cubicBezTo>
                  <a:pt x="14904" y="11130"/>
                  <a:pt x="14895" y="11184"/>
                  <a:pt x="14932" y="11212"/>
                </a:cubicBezTo>
                <a:cubicBezTo>
                  <a:pt x="14997" y="11261"/>
                  <a:pt x="15125" y="11308"/>
                  <a:pt x="15230" y="11261"/>
                </a:cubicBezTo>
                <a:cubicBezTo>
                  <a:pt x="15360" y="11203"/>
                  <a:pt x="15568" y="11050"/>
                  <a:pt x="15677" y="10964"/>
                </a:cubicBezTo>
                <a:cubicBezTo>
                  <a:pt x="15716" y="10933"/>
                  <a:pt x="15817" y="10837"/>
                  <a:pt x="15850" y="10790"/>
                </a:cubicBezTo>
                <a:cubicBezTo>
                  <a:pt x="15850" y="10749"/>
                  <a:pt x="15850" y="10741"/>
                  <a:pt x="15850" y="10716"/>
                </a:cubicBezTo>
                <a:cubicBezTo>
                  <a:pt x="15774" y="10659"/>
                  <a:pt x="15735" y="10618"/>
                  <a:pt x="15652" y="10567"/>
                </a:cubicBezTo>
                <a:cubicBezTo>
                  <a:pt x="15615" y="10545"/>
                  <a:pt x="15496" y="10472"/>
                  <a:pt x="15478" y="10468"/>
                </a:cubicBezTo>
                <a:cubicBezTo>
                  <a:pt x="15360" y="10440"/>
                  <a:pt x="15168" y="10462"/>
                  <a:pt x="15081" y="10443"/>
                </a:cubicBezTo>
                <a:cubicBezTo>
                  <a:pt x="15027" y="10431"/>
                  <a:pt x="15034" y="10440"/>
                  <a:pt x="14982" y="10418"/>
                </a:cubicBezTo>
                <a:cubicBezTo>
                  <a:pt x="14944" y="10402"/>
                  <a:pt x="14928" y="10364"/>
                  <a:pt x="14858" y="10344"/>
                </a:cubicBezTo>
                <a:cubicBezTo>
                  <a:pt x="14792" y="10325"/>
                  <a:pt x="14695" y="10294"/>
                  <a:pt x="14660" y="10244"/>
                </a:cubicBezTo>
                <a:cubicBezTo>
                  <a:pt x="14633" y="10206"/>
                  <a:pt x="14628" y="10170"/>
                  <a:pt x="14635" y="10120"/>
                </a:cubicBezTo>
                <a:cubicBezTo>
                  <a:pt x="14647" y="10031"/>
                  <a:pt x="14677" y="10050"/>
                  <a:pt x="14734" y="10021"/>
                </a:cubicBezTo>
                <a:cubicBezTo>
                  <a:pt x="14780" y="9998"/>
                  <a:pt x="14807" y="10020"/>
                  <a:pt x="14858" y="9996"/>
                </a:cubicBezTo>
                <a:cubicBezTo>
                  <a:pt x="14877" y="9987"/>
                  <a:pt x="14899" y="9967"/>
                  <a:pt x="14957" y="9947"/>
                </a:cubicBezTo>
                <a:cubicBezTo>
                  <a:pt x="14993" y="9935"/>
                  <a:pt x="15043" y="9912"/>
                  <a:pt x="15081" y="9897"/>
                </a:cubicBezTo>
                <a:cubicBezTo>
                  <a:pt x="15124" y="9880"/>
                  <a:pt x="15171" y="9854"/>
                  <a:pt x="15205" y="9847"/>
                </a:cubicBezTo>
                <a:cubicBezTo>
                  <a:pt x="15272" y="9834"/>
                  <a:pt x="15393" y="9831"/>
                  <a:pt x="15429" y="9823"/>
                </a:cubicBezTo>
                <a:cubicBezTo>
                  <a:pt x="15501" y="9808"/>
                  <a:pt x="15542" y="9814"/>
                  <a:pt x="15602" y="9773"/>
                </a:cubicBezTo>
                <a:cubicBezTo>
                  <a:pt x="15643" y="9745"/>
                  <a:pt x="15660" y="9753"/>
                  <a:pt x="15701" y="9723"/>
                </a:cubicBezTo>
                <a:cubicBezTo>
                  <a:pt x="15726" y="9723"/>
                  <a:pt x="15734" y="9723"/>
                  <a:pt x="15726" y="9699"/>
                </a:cubicBezTo>
                <a:cubicBezTo>
                  <a:pt x="15663" y="9679"/>
                  <a:pt x="15628" y="9647"/>
                  <a:pt x="15577" y="9624"/>
                </a:cubicBezTo>
                <a:cubicBezTo>
                  <a:pt x="15530" y="9603"/>
                  <a:pt x="15529" y="9606"/>
                  <a:pt x="15478" y="9599"/>
                </a:cubicBezTo>
                <a:cubicBezTo>
                  <a:pt x="15416" y="9590"/>
                  <a:pt x="15401" y="9604"/>
                  <a:pt x="15354" y="9624"/>
                </a:cubicBezTo>
                <a:cubicBezTo>
                  <a:pt x="15287" y="9652"/>
                  <a:pt x="15320" y="9672"/>
                  <a:pt x="15280" y="9699"/>
                </a:cubicBezTo>
                <a:cubicBezTo>
                  <a:pt x="15256" y="9715"/>
                  <a:pt x="15207" y="9702"/>
                  <a:pt x="15180" y="9723"/>
                </a:cubicBezTo>
                <a:cubicBezTo>
                  <a:pt x="15126" y="9764"/>
                  <a:pt x="15156" y="9738"/>
                  <a:pt x="15081" y="9773"/>
                </a:cubicBezTo>
                <a:cubicBezTo>
                  <a:pt x="15143" y="9705"/>
                  <a:pt x="15158" y="9704"/>
                  <a:pt x="15180" y="9624"/>
                </a:cubicBezTo>
                <a:cubicBezTo>
                  <a:pt x="15187" y="9600"/>
                  <a:pt x="15177" y="9600"/>
                  <a:pt x="15180" y="9550"/>
                </a:cubicBezTo>
                <a:cubicBezTo>
                  <a:pt x="15188" y="9423"/>
                  <a:pt x="15151" y="9261"/>
                  <a:pt x="15205" y="9153"/>
                </a:cubicBezTo>
                <a:cubicBezTo>
                  <a:pt x="15224" y="9116"/>
                  <a:pt x="15259" y="9139"/>
                  <a:pt x="15280" y="9103"/>
                </a:cubicBezTo>
                <a:cubicBezTo>
                  <a:pt x="15283" y="9099"/>
                  <a:pt x="15354" y="9004"/>
                  <a:pt x="15354" y="9004"/>
                </a:cubicBezTo>
                <a:cubicBezTo>
                  <a:pt x="15378" y="8933"/>
                  <a:pt x="15373" y="8751"/>
                  <a:pt x="15379" y="8682"/>
                </a:cubicBezTo>
                <a:cubicBezTo>
                  <a:pt x="15386" y="8601"/>
                  <a:pt x="15376" y="8503"/>
                  <a:pt x="15354" y="8458"/>
                </a:cubicBezTo>
                <a:cubicBezTo>
                  <a:pt x="15327" y="8402"/>
                  <a:pt x="15330" y="8406"/>
                  <a:pt x="15280" y="8384"/>
                </a:cubicBezTo>
                <a:cubicBezTo>
                  <a:pt x="15249" y="8371"/>
                  <a:pt x="15237" y="8370"/>
                  <a:pt x="15205" y="8359"/>
                </a:cubicBezTo>
                <a:cubicBezTo>
                  <a:pt x="15252" y="8312"/>
                  <a:pt x="15251" y="8294"/>
                  <a:pt x="15304" y="8260"/>
                </a:cubicBezTo>
                <a:cubicBezTo>
                  <a:pt x="15340" y="8237"/>
                  <a:pt x="15349" y="8251"/>
                  <a:pt x="15379" y="8235"/>
                </a:cubicBezTo>
                <a:cubicBezTo>
                  <a:pt x="15381" y="8240"/>
                  <a:pt x="15423" y="8347"/>
                  <a:pt x="15429" y="8359"/>
                </a:cubicBezTo>
                <a:cubicBezTo>
                  <a:pt x="15440" y="8381"/>
                  <a:pt x="15456" y="8426"/>
                  <a:pt x="15478" y="8458"/>
                </a:cubicBezTo>
                <a:cubicBezTo>
                  <a:pt x="15483" y="8465"/>
                  <a:pt x="15523" y="8554"/>
                  <a:pt x="15528" y="8558"/>
                </a:cubicBezTo>
                <a:cubicBezTo>
                  <a:pt x="15629" y="8648"/>
                  <a:pt x="15557" y="8465"/>
                  <a:pt x="15602" y="8657"/>
                </a:cubicBezTo>
                <a:cubicBezTo>
                  <a:pt x="15613" y="8703"/>
                  <a:pt x="15647" y="8756"/>
                  <a:pt x="15652" y="8806"/>
                </a:cubicBezTo>
                <a:cubicBezTo>
                  <a:pt x="15666" y="8936"/>
                  <a:pt x="15608" y="9150"/>
                  <a:pt x="15701" y="9203"/>
                </a:cubicBezTo>
                <a:cubicBezTo>
                  <a:pt x="15736" y="9223"/>
                  <a:pt x="15761" y="9218"/>
                  <a:pt x="15801" y="9227"/>
                </a:cubicBezTo>
                <a:cubicBezTo>
                  <a:pt x="15825" y="9227"/>
                  <a:pt x="15834" y="9227"/>
                  <a:pt x="15850" y="9227"/>
                </a:cubicBezTo>
                <a:cubicBezTo>
                  <a:pt x="15809" y="9225"/>
                  <a:pt x="15792" y="9207"/>
                  <a:pt x="15751" y="9203"/>
                </a:cubicBezTo>
                <a:cubicBezTo>
                  <a:pt x="15702" y="9198"/>
                  <a:pt x="15701" y="9163"/>
                  <a:pt x="15652" y="9153"/>
                </a:cubicBezTo>
                <a:cubicBezTo>
                  <a:pt x="15578" y="9138"/>
                  <a:pt x="15536" y="9199"/>
                  <a:pt x="15503" y="9203"/>
                </a:cubicBezTo>
                <a:cubicBezTo>
                  <a:pt x="15383" y="9218"/>
                  <a:pt x="15263" y="9190"/>
                  <a:pt x="15156" y="9227"/>
                </a:cubicBezTo>
                <a:cubicBezTo>
                  <a:pt x="15131" y="9227"/>
                  <a:pt x="15123" y="9227"/>
                  <a:pt x="15131" y="9252"/>
                </a:cubicBezTo>
                <a:cubicBezTo>
                  <a:pt x="15141" y="9202"/>
                  <a:pt x="15145" y="9153"/>
                  <a:pt x="15156" y="9103"/>
                </a:cubicBezTo>
                <a:cubicBezTo>
                  <a:pt x="15167" y="9057"/>
                  <a:pt x="15169" y="9025"/>
                  <a:pt x="15180" y="8979"/>
                </a:cubicBezTo>
                <a:cubicBezTo>
                  <a:pt x="15196" y="8910"/>
                  <a:pt x="15232" y="8865"/>
                  <a:pt x="15255" y="8806"/>
                </a:cubicBezTo>
                <a:cubicBezTo>
                  <a:pt x="15255" y="8798"/>
                  <a:pt x="15255" y="8789"/>
                  <a:pt x="15255" y="8781"/>
                </a:cubicBezTo>
                <a:cubicBezTo>
                  <a:pt x="15236" y="8825"/>
                  <a:pt x="15195" y="8850"/>
                  <a:pt x="15180" y="8905"/>
                </a:cubicBezTo>
                <a:cubicBezTo>
                  <a:pt x="15169" y="8945"/>
                  <a:pt x="15157" y="9091"/>
                  <a:pt x="15156" y="9103"/>
                </a:cubicBezTo>
                <a:cubicBezTo>
                  <a:pt x="15156" y="9128"/>
                  <a:pt x="15156" y="9136"/>
                  <a:pt x="15156" y="9153"/>
                </a:cubicBezTo>
                <a:cubicBezTo>
                  <a:pt x="15182" y="9113"/>
                  <a:pt x="15144" y="9086"/>
                  <a:pt x="15180" y="9054"/>
                </a:cubicBezTo>
                <a:cubicBezTo>
                  <a:pt x="15237" y="9004"/>
                  <a:pt x="15301" y="8965"/>
                  <a:pt x="15354" y="8905"/>
                </a:cubicBezTo>
                <a:cubicBezTo>
                  <a:pt x="15379" y="8905"/>
                  <a:pt x="15387" y="8905"/>
                  <a:pt x="15379" y="8880"/>
                </a:cubicBezTo>
                <a:cubicBezTo>
                  <a:pt x="15379" y="8954"/>
                  <a:pt x="15379" y="9029"/>
                  <a:pt x="15379" y="9103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64080" y="3813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180" y="10592"/>
                </a:moveTo>
                <a:lnTo>
                  <a:pt x="15180" y="10592"/>
                </a:ln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86200" y="3205080"/>
            <a:ext cx="1509840" cy="1009800"/>
          </a:xfrm>
          <a:custGeom>
            <a:avLst/>
            <a:gdLst/>
            <a:ahLst/>
            <a:rect l="l" t="t" r="r" b="b"/>
            <a:pathLst>
              <a:path w="4193" h="2804">
                <a:moveTo>
                  <a:pt x="14808" y="10319"/>
                </a:moveTo>
                <a:cubicBezTo>
                  <a:pt x="14763" y="10339"/>
                  <a:pt x="14808" y="10376"/>
                  <a:pt x="14759" y="10368"/>
                </a:cubicBezTo>
                <a:cubicBezTo>
                  <a:pt x="14728" y="10363"/>
                  <a:pt x="14698" y="10325"/>
                  <a:pt x="14635" y="10319"/>
                </a:cubicBezTo>
                <a:cubicBezTo>
                  <a:pt x="14545" y="10311"/>
                  <a:pt x="14543" y="10343"/>
                  <a:pt x="14486" y="10368"/>
                </a:cubicBezTo>
                <a:cubicBezTo>
                  <a:pt x="14434" y="10391"/>
                  <a:pt x="14403" y="10448"/>
                  <a:pt x="14362" y="10468"/>
                </a:cubicBezTo>
                <a:cubicBezTo>
                  <a:pt x="14314" y="10491"/>
                  <a:pt x="14313" y="10477"/>
                  <a:pt x="14263" y="10492"/>
                </a:cubicBezTo>
                <a:cubicBezTo>
                  <a:pt x="14255" y="10494"/>
                  <a:pt x="14201" y="10509"/>
                  <a:pt x="14163" y="10517"/>
                </a:cubicBezTo>
                <a:cubicBezTo>
                  <a:pt x="14102" y="10530"/>
                  <a:pt x="14025" y="10526"/>
                  <a:pt x="13965" y="10542"/>
                </a:cubicBezTo>
                <a:cubicBezTo>
                  <a:pt x="13903" y="10559"/>
                  <a:pt x="13889" y="10603"/>
                  <a:pt x="13841" y="10616"/>
                </a:cubicBezTo>
                <a:cubicBezTo>
                  <a:pt x="13800" y="10616"/>
                  <a:pt x="13792" y="10616"/>
                  <a:pt x="13767" y="10616"/>
                </a:cubicBezTo>
                <a:cubicBezTo>
                  <a:pt x="13812" y="10598"/>
                  <a:pt x="13835" y="10613"/>
                  <a:pt x="13866" y="10592"/>
                </a:cubicBezTo>
                <a:cubicBezTo>
                  <a:pt x="13909" y="10563"/>
                  <a:pt x="13905" y="10530"/>
                  <a:pt x="13940" y="10492"/>
                </a:cubicBezTo>
                <a:cubicBezTo>
                  <a:pt x="13968" y="10462"/>
                  <a:pt x="13951" y="10431"/>
                  <a:pt x="13990" y="10418"/>
                </a:cubicBezTo>
                <a:cubicBezTo>
                  <a:pt x="14048" y="10399"/>
                  <a:pt x="14159" y="10403"/>
                  <a:pt x="14213" y="10393"/>
                </a:cubicBezTo>
                <a:cubicBezTo>
                  <a:pt x="14264" y="10383"/>
                  <a:pt x="14294" y="10380"/>
                  <a:pt x="14337" y="10368"/>
                </a:cubicBezTo>
                <a:cubicBezTo>
                  <a:pt x="14435" y="10340"/>
                  <a:pt x="14392" y="10386"/>
                  <a:pt x="14486" y="10319"/>
                </a:cubicBezTo>
                <a:cubicBezTo>
                  <a:pt x="14510" y="10302"/>
                  <a:pt x="14526" y="10275"/>
                  <a:pt x="14560" y="10244"/>
                </a:cubicBezTo>
                <a:cubicBezTo>
                  <a:pt x="14577" y="10228"/>
                  <a:pt x="14593" y="10211"/>
                  <a:pt x="14610" y="10195"/>
                </a:cubicBezTo>
                <a:cubicBezTo>
                  <a:pt x="14582" y="10259"/>
                  <a:pt x="14589" y="10303"/>
                  <a:pt x="14560" y="10368"/>
                </a:cubicBezTo>
                <a:cubicBezTo>
                  <a:pt x="14531" y="10431"/>
                  <a:pt x="14479" y="10517"/>
                  <a:pt x="14436" y="10567"/>
                </a:cubicBezTo>
                <a:cubicBezTo>
                  <a:pt x="14381" y="10631"/>
                  <a:pt x="14328" y="10695"/>
                  <a:pt x="14263" y="10740"/>
                </a:cubicBezTo>
                <a:cubicBezTo>
                  <a:pt x="14207" y="10779"/>
                  <a:pt x="14191" y="10812"/>
                  <a:pt x="14163" y="10840"/>
                </a:cubicBezTo>
                <a:cubicBezTo>
                  <a:pt x="14119" y="10884"/>
                  <a:pt x="14051" y="10929"/>
                  <a:pt x="14015" y="10964"/>
                </a:cubicBezTo>
                <a:cubicBezTo>
                  <a:pt x="13971" y="11006"/>
                  <a:pt x="13977" y="11036"/>
                  <a:pt x="13940" y="11063"/>
                </a:cubicBezTo>
                <a:cubicBezTo>
                  <a:pt x="13915" y="11081"/>
                  <a:pt x="13911" y="11094"/>
                  <a:pt x="13891" y="11112"/>
                </a:cubicBezTo>
                <a:cubicBezTo>
                  <a:pt x="13855" y="11145"/>
                  <a:pt x="13845" y="11149"/>
                  <a:pt x="13816" y="11187"/>
                </a:cubicBezTo>
                <a:cubicBezTo>
                  <a:pt x="13791" y="11219"/>
                  <a:pt x="13800" y="11237"/>
                  <a:pt x="13767" y="11261"/>
                </a:cubicBezTo>
                <a:cubicBezTo>
                  <a:pt x="13731" y="11286"/>
                  <a:pt x="13718" y="11262"/>
                  <a:pt x="13692" y="11286"/>
                </a:cubicBezTo>
                <a:cubicBezTo>
                  <a:pt x="13706" y="11246"/>
                  <a:pt x="13709" y="11204"/>
                  <a:pt x="13717" y="11187"/>
                </a:cubicBezTo>
                <a:cubicBezTo>
                  <a:pt x="13746" y="11128"/>
                  <a:pt x="13740" y="11129"/>
                  <a:pt x="13767" y="11088"/>
                </a:cubicBezTo>
                <a:cubicBezTo>
                  <a:pt x="13791" y="11088"/>
                  <a:pt x="13799" y="11088"/>
                  <a:pt x="13791" y="11063"/>
                </a:cubicBezTo>
                <a:cubicBezTo>
                  <a:pt x="13775" y="11116"/>
                  <a:pt x="13781" y="11152"/>
                  <a:pt x="13767" y="11187"/>
                </a:cubicBezTo>
                <a:cubicBezTo>
                  <a:pt x="13753" y="11223"/>
                  <a:pt x="13735" y="11277"/>
                  <a:pt x="13717" y="11311"/>
                </a:cubicBezTo>
                <a:cubicBezTo>
                  <a:pt x="13712" y="11321"/>
                  <a:pt x="13680" y="11372"/>
                  <a:pt x="13667" y="11385"/>
                </a:cubicBezTo>
                <a:cubicBezTo>
                  <a:pt x="13638" y="11414"/>
                  <a:pt x="13630" y="11405"/>
                  <a:pt x="13593" y="11435"/>
                </a:cubicBezTo>
                <a:cubicBezTo>
                  <a:pt x="13604" y="11371"/>
                  <a:pt x="13638" y="11325"/>
                  <a:pt x="13643" y="11311"/>
                </a:cubicBezTo>
                <a:cubicBezTo>
                  <a:pt x="13656" y="11274"/>
                  <a:pt x="13678" y="11227"/>
                  <a:pt x="13692" y="11212"/>
                </a:cubicBezTo>
                <a:cubicBezTo>
                  <a:pt x="13720" y="11182"/>
                  <a:pt x="13734" y="11192"/>
                  <a:pt x="13767" y="11162"/>
                </a:cubicBezTo>
                <a:cubicBezTo>
                  <a:pt x="13754" y="11193"/>
                  <a:pt x="13786" y="11185"/>
                  <a:pt x="13767" y="11212"/>
                </a:cubicBezTo>
                <a:cubicBezTo>
                  <a:pt x="13732" y="11261"/>
                  <a:pt x="13738" y="11322"/>
                  <a:pt x="13692" y="11361"/>
                </a:cubicBezTo>
                <a:cubicBezTo>
                  <a:pt x="13681" y="11371"/>
                  <a:pt x="13600" y="11377"/>
                  <a:pt x="13593" y="11385"/>
                </a:cubicBezTo>
                <a:cubicBezTo>
                  <a:pt x="13568" y="11414"/>
                  <a:pt x="13567" y="11438"/>
                  <a:pt x="13543" y="11485"/>
                </a:cubicBezTo>
                <a:cubicBezTo>
                  <a:pt x="13517" y="11536"/>
                  <a:pt x="13511" y="11545"/>
                  <a:pt x="13494" y="11609"/>
                </a:cubicBezTo>
                <a:cubicBezTo>
                  <a:pt x="13494" y="11633"/>
                  <a:pt x="13494" y="11642"/>
                  <a:pt x="13494" y="11658"/>
                </a:cubicBezTo>
                <a:cubicBezTo>
                  <a:pt x="13494" y="11608"/>
                  <a:pt x="13424" y="11654"/>
                  <a:pt x="13469" y="11633"/>
                </a:cubicBezTo>
                <a:cubicBezTo>
                  <a:pt x="13497" y="11620"/>
                  <a:pt x="13407" y="11620"/>
                  <a:pt x="13494" y="11609"/>
                </a:cubicBezTo>
                <a:cubicBezTo>
                  <a:pt x="13590" y="11596"/>
                  <a:pt x="13779" y="11588"/>
                  <a:pt x="13841" y="11584"/>
                </a:cubicBezTo>
                <a:cubicBezTo>
                  <a:pt x="13973" y="11575"/>
                  <a:pt x="14067" y="11565"/>
                  <a:pt x="14163" y="11534"/>
                </a:cubicBezTo>
                <a:cubicBezTo>
                  <a:pt x="14254" y="11504"/>
                  <a:pt x="14299" y="11525"/>
                  <a:pt x="14362" y="11435"/>
                </a:cubicBezTo>
                <a:cubicBezTo>
                  <a:pt x="14376" y="11415"/>
                  <a:pt x="14433" y="11321"/>
                  <a:pt x="14436" y="11311"/>
                </a:cubicBezTo>
                <a:cubicBezTo>
                  <a:pt x="14445" y="11285"/>
                  <a:pt x="14468" y="11134"/>
                  <a:pt x="14461" y="11112"/>
                </a:cubicBezTo>
                <a:cubicBezTo>
                  <a:pt x="14451" y="11082"/>
                  <a:pt x="14412" y="11027"/>
                  <a:pt x="14362" y="11013"/>
                </a:cubicBezTo>
                <a:cubicBezTo>
                  <a:pt x="14234" y="10976"/>
                  <a:pt x="14053" y="11031"/>
                  <a:pt x="13940" y="11038"/>
                </a:cubicBezTo>
                <a:cubicBezTo>
                  <a:pt x="13780" y="11048"/>
                  <a:pt x="13642" y="11049"/>
                  <a:pt x="13519" y="11088"/>
                </a:cubicBezTo>
                <a:cubicBezTo>
                  <a:pt x="13476" y="11102"/>
                  <a:pt x="13435" y="11122"/>
                  <a:pt x="13395" y="11137"/>
                </a:cubicBezTo>
                <a:cubicBezTo>
                  <a:pt x="13381" y="11142"/>
                  <a:pt x="13308" y="11150"/>
                  <a:pt x="13295" y="11162"/>
                </a:cubicBezTo>
                <a:cubicBezTo>
                  <a:pt x="13295" y="11179"/>
                  <a:pt x="13295" y="11195"/>
                  <a:pt x="13295" y="11212"/>
                </a:cubicBezTo>
                <a:cubicBezTo>
                  <a:pt x="13367" y="11228"/>
                  <a:pt x="13453" y="11273"/>
                  <a:pt x="13519" y="11286"/>
                </a:cubicBezTo>
                <a:cubicBezTo>
                  <a:pt x="13734" y="11328"/>
                  <a:pt x="13969" y="11255"/>
                  <a:pt x="14163" y="11237"/>
                </a:cubicBezTo>
                <a:cubicBezTo>
                  <a:pt x="14325" y="11222"/>
                  <a:pt x="14475" y="11179"/>
                  <a:pt x="14635" y="11162"/>
                </a:cubicBezTo>
                <a:cubicBezTo>
                  <a:pt x="14885" y="11135"/>
                  <a:pt x="15045" y="11096"/>
                  <a:pt x="15280" y="10988"/>
                </a:cubicBezTo>
                <a:cubicBezTo>
                  <a:pt x="15359" y="10952"/>
                  <a:pt x="15463" y="10905"/>
                  <a:pt x="15528" y="10864"/>
                </a:cubicBezTo>
                <a:cubicBezTo>
                  <a:pt x="15580" y="10831"/>
                  <a:pt x="15579" y="10778"/>
                  <a:pt x="15652" y="10765"/>
                </a:cubicBezTo>
                <a:cubicBezTo>
                  <a:pt x="15751" y="10747"/>
                  <a:pt x="15808" y="10761"/>
                  <a:pt x="15900" y="10716"/>
                </a:cubicBezTo>
                <a:cubicBezTo>
                  <a:pt x="15998" y="10668"/>
                  <a:pt x="15977" y="10691"/>
                  <a:pt x="16049" y="10616"/>
                </a:cubicBezTo>
                <a:cubicBezTo>
                  <a:pt x="16103" y="10560"/>
                  <a:pt x="16110" y="10559"/>
                  <a:pt x="16123" y="10468"/>
                </a:cubicBezTo>
                <a:cubicBezTo>
                  <a:pt x="16142" y="10338"/>
                  <a:pt x="16090" y="10191"/>
                  <a:pt x="16148" y="10071"/>
                </a:cubicBezTo>
                <a:cubicBezTo>
                  <a:pt x="16168" y="10029"/>
                  <a:pt x="16202" y="9988"/>
                  <a:pt x="16222" y="9947"/>
                </a:cubicBezTo>
                <a:cubicBezTo>
                  <a:pt x="15924" y="9947"/>
                  <a:pt x="15627" y="9947"/>
                  <a:pt x="15329" y="9947"/>
                </a:cubicBezTo>
                <a:cubicBezTo>
                  <a:pt x="15368" y="9916"/>
                  <a:pt x="15360" y="9869"/>
                  <a:pt x="15429" y="9847"/>
                </a:cubicBezTo>
                <a:cubicBezTo>
                  <a:pt x="15535" y="9813"/>
                  <a:pt x="15647" y="9788"/>
                  <a:pt x="15751" y="9773"/>
                </a:cubicBezTo>
                <a:cubicBezTo>
                  <a:pt x="16021" y="9735"/>
                  <a:pt x="16322" y="9773"/>
                  <a:pt x="16594" y="9773"/>
                </a:cubicBezTo>
                <a:cubicBezTo>
                  <a:pt x="16511" y="9754"/>
                  <a:pt x="16434" y="9738"/>
                  <a:pt x="16346" y="9699"/>
                </a:cubicBezTo>
                <a:cubicBezTo>
                  <a:pt x="16324" y="9677"/>
                  <a:pt x="16319" y="9668"/>
                  <a:pt x="16297" y="9674"/>
                </a:cubicBezTo>
                <a:cubicBezTo>
                  <a:pt x="16380" y="9674"/>
                  <a:pt x="16462" y="9674"/>
                  <a:pt x="16545" y="9674"/>
                </a:cubicBezTo>
                <a:cubicBezTo>
                  <a:pt x="16555" y="9637"/>
                  <a:pt x="16557" y="9586"/>
                  <a:pt x="16570" y="9550"/>
                </a:cubicBezTo>
                <a:cubicBezTo>
                  <a:pt x="16586" y="9506"/>
                  <a:pt x="16615" y="9464"/>
                  <a:pt x="16644" y="9426"/>
                </a:cubicBezTo>
                <a:cubicBezTo>
                  <a:pt x="16684" y="9374"/>
                  <a:pt x="16727" y="9362"/>
                  <a:pt x="16768" y="9327"/>
                </a:cubicBezTo>
                <a:cubicBezTo>
                  <a:pt x="16814" y="9287"/>
                  <a:pt x="16844" y="9245"/>
                  <a:pt x="16892" y="9203"/>
                </a:cubicBezTo>
                <a:cubicBezTo>
                  <a:pt x="16930" y="9171"/>
                  <a:pt x="16942" y="9173"/>
                  <a:pt x="16991" y="9153"/>
                </a:cubicBezTo>
                <a:cubicBezTo>
                  <a:pt x="17008" y="9153"/>
                  <a:pt x="17024" y="9153"/>
                  <a:pt x="17041" y="9153"/>
                </a:cubicBezTo>
                <a:cubicBezTo>
                  <a:pt x="17049" y="9164"/>
                  <a:pt x="17076" y="9211"/>
                  <a:pt x="17090" y="9227"/>
                </a:cubicBezTo>
                <a:cubicBezTo>
                  <a:pt x="17125" y="9267"/>
                  <a:pt x="17113" y="9268"/>
                  <a:pt x="17165" y="9302"/>
                </a:cubicBezTo>
                <a:cubicBezTo>
                  <a:pt x="17195" y="9322"/>
                  <a:pt x="17192" y="9327"/>
                  <a:pt x="17214" y="9351"/>
                </a:cubicBezTo>
                <a:cubicBezTo>
                  <a:pt x="17229" y="9368"/>
                  <a:pt x="17272" y="9439"/>
                  <a:pt x="17289" y="9451"/>
                </a:cubicBezTo>
                <a:cubicBezTo>
                  <a:pt x="17327" y="9479"/>
                  <a:pt x="17358" y="9430"/>
                  <a:pt x="17388" y="9475"/>
                </a:cubicBezTo>
                <a:cubicBezTo>
                  <a:pt x="17427" y="9534"/>
                  <a:pt x="17409" y="9612"/>
                  <a:pt x="17438" y="9674"/>
                </a:cubicBezTo>
                <a:cubicBezTo>
                  <a:pt x="17456" y="9713"/>
                  <a:pt x="17495" y="9670"/>
                  <a:pt x="17487" y="9773"/>
                </a:cubicBezTo>
                <a:cubicBezTo>
                  <a:pt x="17486" y="9790"/>
                  <a:pt x="17434" y="9881"/>
                  <a:pt x="17413" y="9897"/>
                </a:cubicBezTo>
                <a:cubicBezTo>
                  <a:pt x="17364" y="9934"/>
                  <a:pt x="17302" y="9923"/>
                  <a:pt x="17239" y="9922"/>
                </a:cubicBezTo>
                <a:cubicBezTo>
                  <a:pt x="17183" y="9921"/>
                  <a:pt x="17144" y="9909"/>
                  <a:pt x="17090" y="9897"/>
                </a:cubicBezTo>
                <a:cubicBezTo>
                  <a:pt x="17043" y="9887"/>
                  <a:pt x="17069" y="9870"/>
                  <a:pt x="16991" y="9872"/>
                </a:cubicBezTo>
                <a:cubicBezTo>
                  <a:pt x="16965" y="9873"/>
                  <a:pt x="16906" y="9914"/>
                  <a:pt x="16892" y="9922"/>
                </a:cubicBezTo>
                <a:cubicBezTo>
                  <a:pt x="16851" y="9947"/>
                  <a:pt x="16810" y="9975"/>
                  <a:pt x="16768" y="9996"/>
                </a:cubicBezTo>
                <a:cubicBezTo>
                  <a:pt x="16704" y="10028"/>
                  <a:pt x="16665" y="10024"/>
                  <a:pt x="16594" y="10046"/>
                </a:cubicBezTo>
                <a:cubicBezTo>
                  <a:pt x="16497" y="10076"/>
                  <a:pt x="16452" y="10092"/>
                  <a:pt x="16346" y="10096"/>
                </a:cubicBezTo>
                <a:cubicBezTo>
                  <a:pt x="16217" y="10101"/>
                  <a:pt x="16037" y="10103"/>
                  <a:pt x="15949" y="10071"/>
                </a:cubicBezTo>
                <a:cubicBezTo>
                  <a:pt x="15897" y="10052"/>
                  <a:pt x="15875" y="10025"/>
                  <a:pt x="15850" y="10021"/>
                </a:cubicBezTo>
                <a:cubicBezTo>
                  <a:pt x="15742" y="10003"/>
                  <a:pt x="15653" y="10115"/>
                  <a:pt x="15553" y="10071"/>
                </a:cubicBezTo>
                <a:cubicBezTo>
                  <a:pt x="15546" y="10068"/>
                  <a:pt x="15495" y="9993"/>
                  <a:pt x="15478" y="9971"/>
                </a:cubicBezTo>
                <a:cubicBezTo>
                  <a:pt x="15436" y="9917"/>
                  <a:pt x="15394" y="9854"/>
                  <a:pt x="15354" y="9798"/>
                </a:cubicBezTo>
                <a:cubicBezTo>
                  <a:pt x="15325" y="9758"/>
                  <a:pt x="15265" y="9672"/>
                  <a:pt x="15255" y="9624"/>
                </a:cubicBezTo>
                <a:cubicBezTo>
                  <a:pt x="15220" y="9463"/>
                  <a:pt x="15298" y="9389"/>
                  <a:pt x="15379" y="9277"/>
                </a:cubicBezTo>
                <a:cubicBezTo>
                  <a:pt x="15400" y="9247"/>
                  <a:pt x="15438" y="9208"/>
                  <a:pt x="15453" y="9178"/>
                </a:cubicBezTo>
                <a:cubicBezTo>
                  <a:pt x="15473" y="9138"/>
                  <a:pt x="15477" y="9104"/>
                  <a:pt x="15478" y="9054"/>
                </a:cubicBezTo>
                <a:cubicBezTo>
                  <a:pt x="15479" y="9003"/>
                  <a:pt x="15489" y="8966"/>
                  <a:pt x="15453" y="8930"/>
                </a:cubicBezTo>
                <a:cubicBezTo>
                  <a:pt x="15413" y="8890"/>
                  <a:pt x="15336" y="8926"/>
                  <a:pt x="15329" y="8930"/>
                </a:cubicBezTo>
                <a:cubicBezTo>
                  <a:pt x="15255" y="8968"/>
                  <a:pt x="15299" y="8998"/>
                  <a:pt x="15255" y="9054"/>
                </a:cubicBezTo>
                <a:cubicBezTo>
                  <a:pt x="15224" y="9093"/>
                  <a:pt x="15224" y="9105"/>
                  <a:pt x="15180" y="9128"/>
                </a:cubicBezTo>
                <a:cubicBezTo>
                  <a:pt x="15166" y="9135"/>
                  <a:pt x="15060" y="9149"/>
                  <a:pt x="15056" y="9153"/>
                </a:cubicBezTo>
                <a:cubicBezTo>
                  <a:pt x="15035" y="9174"/>
                  <a:pt x="15018" y="9246"/>
                  <a:pt x="15007" y="9277"/>
                </a:cubicBezTo>
                <a:cubicBezTo>
                  <a:pt x="15007" y="9310"/>
                  <a:pt x="15007" y="9326"/>
                  <a:pt x="15007" y="9351"/>
                </a:cubicBezTo>
                <a:cubicBezTo>
                  <a:pt x="15055" y="9366"/>
                  <a:pt x="15098" y="9388"/>
                  <a:pt x="15131" y="9401"/>
                </a:cubicBezTo>
                <a:cubicBezTo>
                  <a:pt x="15217" y="9435"/>
                  <a:pt x="15294" y="9454"/>
                  <a:pt x="15379" y="9475"/>
                </a:cubicBezTo>
                <a:cubicBezTo>
                  <a:pt x="15419" y="9485"/>
                  <a:pt x="15463" y="9491"/>
                  <a:pt x="15503" y="9500"/>
                </a:cubicBezTo>
                <a:cubicBezTo>
                  <a:pt x="15503" y="9398"/>
                  <a:pt x="15475" y="9212"/>
                  <a:pt x="15478" y="9153"/>
                </a:cubicBezTo>
                <a:cubicBezTo>
                  <a:pt x="15480" y="9110"/>
                  <a:pt x="15499" y="9065"/>
                  <a:pt x="15503" y="9054"/>
                </a:cubicBezTo>
                <a:cubicBezTo>
                  <a:pt x="15511" y="9046"/>
                  <a:pt x="15520" y="9037"/>
                  <a:pt x="15528" y="9029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27800" y="3875040"/>
            <a:ext cx="27000" cy="19080"/>
          </a:xfrm>
          <a:custGeom>
            <a:avLst/>
            <a:gdLst/>
            <a:ahLst/>
            <a:rect l="l" t="t" r="r" b="b"/>
            <a:pathLst>
              <a:path w="76" h="51">
                <a:moveTo>
                  <a:pt x="15429" y="10815"/>
                </a:moveTo>
                <a:cubicBezTo>
                  <a:pt x="15415" y="10759"/>
                  <a:pt x="15414" y="10774"/>
                  <a:pt x="15354" y="10765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19840" y="4483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446" y="12452"/>
                </a:moveTo>
                <a:lnTo>
                  <a:pt x="16446" y="12452"/>
                </a:ln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547640" y="260280"/>
            <a:ext cx="5801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ероссийский масштаб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53881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голь,   железная руда,   золото,    слю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агнезит,    строительные матери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лийные со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809640"/>
            <a:ext cx="4859280" cy="6048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rcRect l="16050" t="0" r="9291" b="1408"/>
          <a:stretch/>
        </p:blipFill>
        <p:spPr>
          <a:xfrm>
            <a:off x="7128000" y="0"/>
            <a:ext cx="2016000" cy="13413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лийная  со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оссийский  масштаб  имеет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пский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иеносный  бассейн.  Его  площадь  20 тыс к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, сосредоточено  свыше  70 млрд. т.  калийной со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195640" y="2708280"/>
            <a:ext cx="639360" cy="503280"/>
            <a:chOff x="2195640" y="2708280"/>
            <a:chExt cx="639360" cy="503280"/>
          </a:xfrm>
        </p:grpSpPr>
        <p:sp>
          <p:nvSpPr>
            <p:cNvPr id="487" name=""/>
            <p:cNvSpPr/>
            <p:nvPr/>
          </p:nvSpPr>
          <p:spPr>
            <a:xfrm>
              <a:off x="2195640" y="2708280"/>
              <a:ext cx="404280" cy="5032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95640" y="2708280"/>
              <a:ext cx="455400" cy="107280"/>
            </a:xfrm>
            <a:prstGeom prst="parallelogram">
              <a:avLst>
                <a:gd name="adj" fmla="val 10612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9268800">
              <a:off x="2417760" y="2770560"/>
              <a:ext cx="353160" cy="376200"/>
            </a:xfrm>
            <a:prstGeom prst="parallelogram">
              <a:avLst>
                <a:gd name="adj" fmla="val 4405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4419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елезная  ру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rcRect l="0" t="534" r="-476" b="-5"/>
          <a:stretch/>
        </p:blipFill>
        <p:spPr>
          <a:xfrm>
            <a:off x="0" y="990720"/>
            <a:ext cx="4724280" cy="586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32000" y="2133360"/>
            <a:ext cx="421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Ангаро-Илим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железорудный  бассей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(22  месторождения 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бщим  запас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3,5  млрд.т. 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ые  крупные месторожде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ршуновское,  Татьянинское,  Рудногорское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рождения  железной  руды имеются  также   в  Восточном  Саяне  и  на  острове  Ольхо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990720" y="4572000"/>
            <a:ext cx="3045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28800" y="43434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23880" y="45720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601992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1148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rcRect l="0" t="0" r="23" b="-67"/>
          <a:stretch/>
        </p:blipFill>
        <p:spPr>
          <a:xfrm>
            <a:off x="4716360" y="0"/>
            <a:ext cx="4427640" cy="20732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828800" y="45720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0763400">
            <a:off x="1828440" y="3961440"/>
            <a:ext cx="19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дногор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67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тьянинск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44197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ктябрь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33720" y="4572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ршун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47242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ояр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765000"/>
            <a:ext cx="4610160" cy="6093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676520" y="58672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195640" y="1773360"/>
            <a:ext cx="2286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371600" y="56386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8672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менный уголь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1981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114800" y="20574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ри  крупных  бассейна  каменного  угл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ркутс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юго – восточная часть  Тунгусского бассей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ь  Канско –Ачинс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ассей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логические  запасы  каменного  угля  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83  млрд.  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2192400" y="5711760"/>
            <a:ext cx="23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ь-Ордынск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/Базойское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371600" y="3733920"/>
            <a:ext cx="22860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5410080"/>
            <a:ext cx="22860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 rot="10800000">
            <a:off x="1599840" y="6019200"/>
            <a:ext cx="16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еремх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46200" y="5486400"/>
            <a:ext cx="29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ранцай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51814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зей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447920" y="59436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5943600"/>
            <a:ext cx="2133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вометелк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733920" y="4114800"/>
            <a:ext cx="22860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76360" y="34290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4508640"/>
            <a:ext cx="22860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5640" y="4797360"/>
            <a:ext cx="22860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44480" y="429264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Шитк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692280"/>
            <a:ext cx="4619520" cy="616572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32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олото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7600" y="2204640"/>
            <a:ext cx="4586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но – Витимский  золотоносный  бассейн .  Крупнейшие  месторождения  Золотой  Лог,  Бодайбинско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rcRect l="0" t="0" r="62" b="141"/>
          <a:stretch/>
        </p:blipFill>
        <p:spPr>
          <a:xfrm>
            <a:off x="6019920" y="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282828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282828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00400" y="4419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282828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33920" y="2514600"/>
            <a:ext cx="14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ухой  Л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200400"/>
            <a:ext cx="22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дайб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343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менная  со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787640" y="32130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гаро – Ленский  соленосный  район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рупнейшее месторождение  соли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льское  - 2 млрд. 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676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447920" y="571500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66680" y="5562720"/>
            <a:ext cx="300240" cy="304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86728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057400" y="57927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оль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228600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38280" y="3352680"/>
            <a:ext cx="30024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63640" y="4508640"/>
            <a:ext cx="300240" cy="304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502920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548640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им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43000" y="5334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ырет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4267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рат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4:22:19Z</dcterms:created>
  <dc:creator>USER</dc:creator>
  <dc:description/>
  <dc:language>en-US</dc:language>
  <cp:lastModifiedBy>user10</cp:lastModifiedBy>
  <dcterms:modified xsi:type="dcterms:W3CDTF">2007-11-26T07:13:58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c0000000000010250300207f7000400038000</vt:lpwstr>
  </property>
</Properties>
</file>