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7.jpeg" ContentType="image/jpeg"/>
  <Override PartName="/ppt/media/image56.jpeg" ContentType="image/jpeg"/>
  <Override PartName="/ppt/media/image53.png" ContentType="image/png"/>
  <Override PartName="/ppt/media/image55.jpeg" ContentType="image/jpeg"/>
  <Override PartName="/ppt/media/image54.jpeg" ContentType="image/jpeg"/>
  <Override PartName="/ppt/media/image58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39.png" ContentType="image/png"/>
  <Override PartName="/ppt/media/image64.jpeg" ContentType="image/jpeg"/>
  <Override PartName="/ppt/media/image1.jpeg" ContentType="image/jpeg"/>
  <Override PartName="/ppt/media/image3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67.jpeg" ContentType="image/jpeg"/>
  <Override PartName="/ppt/media/image19.jpeg" ContentType="image/jpeg"/>
  <Override PartName="/ppt/media/image66.wmf" ContentType="image/x-wmf"/>
  <Override PartName="/ppt/media/image63.jpeg" ContentType="image/jpeg"/>
  <Override PartName="/ppt/media/image6.jpeg" ContentType="image/jpeg"/>
  <Override PartName="/ppt/media/image25.jpeg" ContentType="image/jpeg"/>
  <Override PartName="/ppt/media/image62.png" ContentType="image/png"/>
  <Override PartName="/ppt/media/image51.jpeg" ContentType="image/jpeg"/>
  <Override PartName="/ppt/media/image17.jpeg" ContentType="image/jpeg"/>
  <Override PartName="/ppt/media/image61.jpeg" ContentType="image/jpeg"/>
  <Override PartName="/ppt/media/image2.jpeg" ContentType="image/jpeg"/>
  <Override PartName="/ppt/media/image10.png" ContentType="image/png"/>
  <Override PartName="/ppt/media/image36.jpeg" ContentType="image/jpeg"/>
  <Override PartName="/ppt/media/image24.jpeg" ContentType="image/jpeg"/>
  <Override PartName="/ppt/media/image29.jpeg" ContentType="image/jpeg"/>
  <Override PartName="/ppt/media/image52.jpeg" ContentType="image/jpeg"/>
  <Override PartName="/ppt/media/image38.jpeg" ContentType="image/jpeg"/>
  <Override PartName="/ppt/media/image72.png" ContentType="image/png"/>
  <Override PartName="/ppt/media/image13.jpeg" ContentType="image/jpeg"/>
  <Override PartName="/ppt/media/image40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7.jpeg" ContentType="image/jpeg"/>
  <Override PartName="/ppt/media/image4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F120-F71E-46E3-AF66-7CF889CA6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A425-F868-4087-B63E-800CE097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95AA-D133-4058-A9F8-0EBBA956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3A3C-07C7-40B4-B9CD-0093AF9F9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F1A2-7990-4D4D-82A5-CC86DBBD5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3AB8-EEFC-4845-BE45-0B20FA9B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F7FB-C099-45CD-A909-AB059AC3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B488-4506-41D1-BF79-6F45A2B2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C946-04EE-4C17-9201-7C04D403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DBB2-7256-47EB-8F62-8B337B99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F896-B1D7-467A-9FEF-1D8A10A9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91CB-6590-461C-9928-5B2D6245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B4ED-3A11-46E8-9488-5AF1181E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E62A-9D55-48F2-B993-CE929346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BF42-B63D-4608-8E79-8515594C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202C-F830-46BE-B855-02C7B74C6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0E78-8561-4EB7-B7A5-A40437B6C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1E04-7B5D-4936-B320-52ABA010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D68C-40A7-41EB-A950-F5B46C93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418B-3F99-4C9C-A4A4-D60570B2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8861-45AE-488B-B8EA-90A98147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601E-7E23-43E2-9130-C309287F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066E-A840-47FF-A616-45A31307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9792-71CD-4686-AADB-0F27B97E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94CD-787B-4B64-9958-FD2E6E52A643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97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98" name="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B4C2-8112-4F27-8D24-AB5E1FE69EC2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66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nytek.ru/Files/Objects/1305.jpg" TargetMode="External"/><Relationship Id="rId2" Type="http://schemas.openxmlformats.org/officeDocument/2006/relationships/image" Target="../media/image39.png"/><Relationship Id="rId3" Type="http://schemas.openxmlformats.org/officeDocument/2006/relationships/hyperlink" Target="http://www.techob.ru/uploaded/images/800px-Spectrum_spektrometr.jpg" TargetMode="External"/><Relationship Id="rId4" Type="http://schemas.openxmlformats.org/officeDocument/2006/relationships/image" Target="../media/image40.jpeg"/><Relationship Id="rId5" Type="http://schemas.openxmlformats.org/officeDocument/2006/relationships/hyperlink" Target="http://test.gorod.dn.ua/edit6/6343/elvax1.jpg" TargetMode="External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hyperlink" Target="http://dic.academic.ru/pictures/wiki/files/73/Igneous_rock_Santoroni_Greece.jpg" TargetMode="External"/><Relationship Id="rId4" Type="http://schemas.openxmlformats.org/officeDocument/2006/relationships/image" Target="../media/image44.jpeg"/><Relationship Id="rId5" Type="http://schemas.openxmlformats.org/officeDocument/2006/relationships/hyperlink" Target="http://upload.wikimedia.org/wikipedia/commons/e/e3/Granite_gran_violet.jpg" TargetMode="External"/><Relationship Id="rId6" Type="http://schemas.openxmlformats.org/officeDocument/2006/relationships/image" Target="../media/image45.jpeg"/><Relationship Id="rId7" Type="http://schemas.openxmlformats.org/officeDocument/2006/relationships/hyperlink" Target="http://upload.wikimedia.org/wikipedia/ru/c/c1/Harzburgite.jpg" TargetMode="External"/><Relationship Id="rId8" Type="http://schemas.openxmlformats.org/officeDocument/2006/relationships/image" Target="../media/image46.jpe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hyperlink" Target="http://k323108.narod.ru/image004.gif" TargetMode="External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zahav.elementy.ru/images/eltjob/6_s8.jpg" TargetMode="External"/><Relationship Id="rId2" Type="http://schemas.openxmlformats.org/officeDocument/2006/relationships/image" Target="../media/image55.jpeg"/><Relationship Id="rId3" Type="http://schemas.openxmlformats.org/officeDocument/2006/relationships/hyperlink" Target="http://www.zetms.ru/catalog/programs/images/spectr.jpg" TargetMode="External"/><Relationship Id="rId4" Type="http://schemas.openxmlformats.org/officeDocument/2006/relationships/image" Target="../media/image56.jpeg"/><Relationship Id="rId5" Type="http://schemas.openxmlformats.org/officeDocument/2006/relationships/hyperlink" Target="http://www.avantes.net/libs3.jpg" TargetMode="External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png"/><Relationship Id="rId4" Type="http://schemas.openxmlformats.org/officeDocument/2006/relationships/image" Target="../media/image73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9480" y="189000"/>
            <a:ext cx="808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entury Gothic"/>
              </a:rPr>
              <a:t>ПОЛЕВЫЕ МЕТОДЫ ГЕОЛОГИЧЕСКОГО И ГЕОФИЗИЧЕСКОГО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entury Gothic"/>
              </a:rPr>
              <a:t>ИЗУЧЕНИЯ ГОРНЫХ ПОРОД И ИХ ВЗАИМООТНОШЕНИЙ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702000"/>
            <a:ext cx="817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1. Г</a:t>
            </a:r>
            <a:r>
              <a:rPr b="1" lang="pl-PL" sz="1800" spc="-1" strike="noStrike">
                <a:solidFill>
                  <a:srgbClr val="663300"/>
                </a:solidFill>
                <a:latin typeface="Times New Roman"/>
              </a:rPr>
              <a:t>еологическая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съемка и картирование</a:t>
            </a:r>
            <a:r>
              <a:rPr b="1" lang="pl-PL" sz="1800" spc="-1" strike="noStrike">
                <a:solidFill>
                  <a:srgbClr val="663300"/>
                </a:solidFill>
                <a:latin typeface="Times New Roman"/>
              </a:rPr>
              <a:t> территории; опробование горных пород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2. Д</a:t>
            </a:r>
            <a:r>
              <a:rPr b="1" lang="pl-PL" sz="1800" spc="-1" strike="noStrike">
                <a:solidFill>
                  <a:srgbClr val="663300"/>
                </a:solidFill>
                <a:latin typeface="Times New Roman"/>
              </a:rPr>
              <a:t>окументация карьеров и подземных выработок, геолого-разведочных скважин;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3300"/>
                </a:solidFill>
                <a:latin typeface="Times New Roman"/>
              </a:rPr>
              <a:t>горно-буровые работы;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3. Г</a:t>
            </a:r>
            <a:r>
              <a:rPr b="1" lang="pl-PL" sz="1800" spc="-1" strike="noStrike">
                <a:solidFill>
                  <a:srgbClr val="663300"/>
                </a:solidFill>
                <a:latin typeface="Times New Roman"/>
              </a:rPr>
              <a:t>еофизические методы исследований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 -</a:t>
            </a:r>
            <a:r>
              <a:rPr b="1" lang="pl-PL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это сейсморазведка и различного вида каротажи (электро-, гамма-каротаж, нейтронный, акустический), кавернометрия, термометрия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492360" y="3068640"/>
            <a:ext cx="4753080" cy="3570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73080" y="853920"/>
            <a:ext cx="9036000" cy="3987720"/>
          </a:xfrm>
          <a:prstGeom prst="rect">
            <a:avLst/>
          </a:prstGeom>
          <a:solidFill>
            <a:srgbClr val="fff8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азрез Кольской скважины опроверг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уществовавшую до этого времени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двухслойную модель земной коры и показал, что сейсмические разделы в недрах – это не границы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жду толщами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пород разного состав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а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корее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го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они указывают на изменение свойств камня с глубиной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к, п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ри высоком давлении и температуре граниты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 своим физическим характеристикам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становятся похожи на базальты, и наоборот. 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Первые 7 километров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были</a:t>
            </a: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 сложены вулканическими и осадочными породами: туфами, базальтами, брекчиями, песчаниками, доломитами. Глубже лежал так называемый раздел Конрада, после которого скорость сейсмических волн в породах резко увеличивалась, что интерпретировалось как граница между гранитами и базальтами.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Однако</a:t>
            </a: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 базальты нижнего слоя земной коры так нигде и не появились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: породы оказались представлены</a:t>
            </a: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 гранит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ами</a:t>
            </a: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 и гнейс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ами</a:t>
            </a: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Кроме того,</a:t>
            </a: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р</a:t>
            </a: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аньше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считалось</a:t>
            </a: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, что с удалением от поверхности земли, с ростом давления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,</a:t>
            </a: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 породы становятся более монолитными, с малым количеством трещин и пор. СГ-3 убедила учёных в обратном. Начиная с 9 километров, толщи оказались очень пористыми и трещин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оваты</a:t>
            </a: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ми, по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ним</a:t>
            </a: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 циркулировали водные растворы. Позднее этот факт подтвердили другие сверхглубокие скважины на континентах. На глубине оказалось гораздо жарче, чем рассчитывали: на целых 80°! На отметке 7 км температура в забое была 120°С, на 12 км – достигла уже 230°С. 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01120" y="404640"/>
            <a:ext cx="60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ПОЛУЧЕННЫЕ ПРИ БУРЕНИИ НАУЧНЫЕ ДАННЫЕ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5294880"/>
            <a:ext cx="914400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Одно из самых удивительных открытий, которое учёные сделали с помощью бурения, – это наличие жизни глубоко под землей. 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хотя жизнь эта представлена лишь бактериями, её пределы простираются до невероятных глубин</a:t>
            </a:r>
            <a:r>
              <a:rPr b="1" lang="pl-PL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4920" y="44280"/>
            <a:ext cx="91090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Глубинное строение Земли недоступно для непосредственных исследований и может быть изучено только геофизическими методами: сейсмологией, глубинной сейсморазведкой, гравиметрией, магнитометрией, глубинной геоэлектрикой, термометрией, радиометрией. 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413360"/>
            <a:ext cx="356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663300"/>
                </a:solidFill>
                <a:latin typeface="Times New Roman"/>
              </a:rPr>
              <a:t>Интерпретируя материалы глубинной геофизики, удалось расчленить Землю на сферические оболочки, определить скачки физических свойств на их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границах </a:t>
            </a:r>
            <a:r>
              <a:rPr b="0" lang="pl-PL" sz="1800" spc="-1" strike="noStrike">
                <a:solidFill>
                  <a:srgbClr val="663300"/>
                </a:solidFill>
                <a:latin typeface="Times New Roman"/>
              </a:rPr>
              <a:t>и изменения свойств по латерали,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по</a:t>
            </a:r>
            <a:r>
              <a:rPr b="0" lang="pl-PL" sz="1800" spc="-1" strike="noStrike">
                <a:solidFill>
                  <a:srgbClr val="663300"/>
                </a:solidFill>
                <a:latin typeface="Times New Roman"/>
              </a:rPr>
              <a:t>строить физические модели недр Земли, а по ним судить о химическом составе.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532320" y="836640"/>
            <a:ext cx="5493600" cy="5905440"/>
            <a:chOff x="3532320" y="836640"/>
            <a:chExt cx="5493600" cy="5905440"/>
          </a:xfrm>
        </p:grpSpPr>
        <p:pic>
          <p:nvPicPr>
            <p:cNvPr id="241" name="" descr="Путешествие к центру земли, иллюстрация"/>
            <p:cNvPicPr/>
            <p:nvPr/>
          </p:nvPicPr>
          <p:blipFill>
            <a:blip r:embed="rId1"/>
            <a:stretch/>
          </p:blipFill>
          <p:spPr>
            <a:xfrm>
              <a:off x="3532320" y="836640"/>
              <a:ext cx="5432400" cy="590544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sp>
          <p:nvSpPr>
            <p:cNvPr id="242" name=""/>
            <p:cNvSpPr/>
            <p:nvPr/>
          </p:nvSpPr>
          <p:spPr>
            <a:xfrm>
              <a:off x="6231600" y="2300040"/>
              <a:ext cx="279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</a:rPr>
                <a:t>поверхность Мохоровичича </a:t>
              </a: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635280" y="2060640"/>
            <a:ext cx="5278680" cy="35431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08000" y="260280"/>
            <a:ext cx="4233960" cy="630720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245" name=""/>
          <p:cNvSpPr/>
          <p:nvPr/>
        </p:nvSpPr>
        <p:spPr>
          <a:xfrm>
            <a:off x="160200" y="544680"/>
            <a:ext cx="75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entury Gothic"/>
              </a:rPr>
              <a:t>ЛАБОРАТОРНЫЕ МЕТОДЫ ИССЛЕДОВАНИЯ МИНЕРАЛОВ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67200" y="5877000"/>
            <a:ext cx="2655720" cy="368280"/>
          </a:xfrm>
          <a:prstGeom prst="rect">
            <a:avLst/>
          </a:prstGeom>
          <a:solidFill>
            <a:srgbClr val="fff8e2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Оптический микроскоп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6027840" y="115920"/>
            <a:ext cx="2966760" cy="3889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250920" y="2852640"/>
            <a:ext cx="3744720" cy="2809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4284720" y="3716280"/>
            <a:ext cx="3940200" cy="2954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3276720" y="260280"/>
            <a:ext cx="2976480" cy="2233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108000" y="260280"/>
            <a:ext cx="2952720" cy="2212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52" name=""/>
          <p:cNvSpPr/>
          <p:nvPr/>
        </p:nvSpPr>
        <p:spPr>
          <a:xfrm>
            <a:off x="2991960" y="2565360"/>
            <a:ext cx="3362760" cy="520560"/>
          </a:xfrm>
          <a:prstGeom prst="rect">
            <a:avLst/>
          </a:prstGeom>
          <a:solidFill>
            <a:srgbClr val="fff8e2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Цифровое фото шлифов образца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3300"/>
                </a:solidFill>
                <a:latin typeface="Times New Roman"/>
              </a:rPr>
              <a:t>(тонкие спилы, приклеенные на стекло)</a:t>
            </a:r>
            <a:endParaRPr b="0" lang="en-US" sz="1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916360" y="3357720"/>
            <a:ext cx="4321080" cy="3271680"/>
          </a:xfrm>
          <a:prstGeom prst="rect">
            <a:avLst/>
          </a:prstGeom>
          <a:ln w="19080">
            <a:solidFill>
              <a:srgbClr val="663300"/>
            </a:solidFill>
            <a:miter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643280" y="270000"/>
            <a:ext cx="3816360" cy="286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539640" y="260280"/>
            <a:ext cx="3888000" cy="291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56" name=""/>
          <p:cNvSpPr/>
          <p:nvPr/>
        </p:nvSpPr>
        <p:spPr>
          <a:xfrm>
            <a:off x="184320" y="4365720"/>
            <a:ext cx="2544480" cy="368280"/>
          </a:xfrm>
          <a:prstGeom prst="rect">
            <a:avLst/>
          </a:prstGeom>
          <a:solidFill>
            <a:srgbClr val="fff8e2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Цифровое фото шлифов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295880" cy="563400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258" name=""/>
          <p:cNvSpPr/>
          <p:nvPr/>
        </p:nvSpPr>
        <p:spPr>
          <a:xfrm>
            <a:off x="4634640" y="282600"/>
            <a:ext cx="4362480" cy="368280"/>
          </a:xfrm>
          <a:prstGeom prst="rect">
            <a:avLst/>
          </a:prstGeom>
          <a:solidFill>
            <a:srgbClr val="fff8e2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Сканирующий электронный микроскоп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02360" y="6415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JSM – 6390LF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4643280" y="1484280"/>
            <a:ext cx="4176720" cy="35164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261" name=""/>
          <p:cNvSpPr/>
          <p:nvPr/>
        </p:nvSpPr>
        <p:spPr>
          <a:xfrm>
            <a:off x="5651280" y="5084640"/>
            <a:ext cx="194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Times New Roman"/>
              </a:rPr>
              <a:t>Исследуемый образец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79280" y="2997360"/>
            <a:ext cx="4608720" cy="345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859280" y="3429000"/>
            <a:ext cx="4284720" cy="3213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324000" y="476280"/>
            <a:ext cx="4105080" cy="307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5076720" y="333360"/>
            <a:ext cx="3959280" cy="29685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66" name=""/>
          <p:cNvSpPr/>
          <p:nvPr/>
        </p:nvSpPr>
        <p:spPr>
          <a:xfrm>
            <a:off x="1406880" y="0"/>
            <a:ext cx="6058800" cy="368280"/>
          </a:xfrm>
          <a:prstGeom prst="rect">
            <a:avLst/>
          </a:prstGeom>
          <a:solidFill>
            <a:srgbClr val="fff8e2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Микрофотографии сколов марганцево-рудных обособлений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92000" y="404640"/>
            <a:ext cx="3518280" cy="276480"/>
          </a:xfrm>
          <a:prstGeom prst="rect">
            <a:avLst/>
          </a:prstGeom>
          <a:solidFill>
            <a:srgbClr val="fff8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атичные ископаемые микроорганизмы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8360" y="6453360"/>
            <a:ext cx="4246920" cy="276480"/>
          </a:xfrm>
          <a:prstGeom prst="rect">
            <a:avLst/>
          </a:prstGeom>
          <a:solidFill>
            <a:srgbClr val="fff8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руденелые агрегаты ископаемых марганцевых бактерий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263600" y="260280"/>
            <a:ext cx="61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Электронно-зондовый микроанализ химического состава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040" y="549360"/>
            <a:ext cx="757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Times New Roman"/>
              </a:rPr>
              <a:t>Высокоточный количественный, полукачественный и оперативный качественный анализ 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Times New Roman"/>
              </a:rPr>
              <a:t>элементов от </a:t>
            </a: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Na</a:t>
            </a:r>
            <a:r>
              <a:rPr b="1" lang="ru-RU" sz="1400" spc="-1" strike="noStrike">
                <a:solidFill>
                  <a:srgbClr val="663300"/>
                </a:solidFill>
                <a:latin typeface="Times New Roman"/>
              </a:rPr>
              <a:t> до </a:t>
            </a: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7416720" cy="5297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79280" y="268200"/>
            <a:ext cx="8425080" cy="6399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7345440" cy="5743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74" name=""/>
          <p:cNvSpPr/>
          <p:nvPr/>
        </p:nvSpPr>
        <p:spPr>
          <a:xfrm>
            <a:off x="1189440" y="0"/>
            <a:ext cx="584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Рентгенофлуоресцентный анализ элементного состава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356000" y="687240"/>
            <a:ext cx="4572000" cy="4248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6360" y="1119240"/>
            <a:ext cx="4680000" cy="3813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7" name=""/>
          <p:cNvSpPr/>
          <p:nvPr/>
        </p:nvSpPr>
        <p:spPr>
          <a:xfrm>
            <a:off x="87480" y="5006880"/>
            <a:ext cx="9056520" cy="946440"/>
          </a:xfrm>
          <a:prstGeom prst="rect">
            <a:avLst/>
          </a:prstGeom>
          <a:solidFill>
            <a:srgbClr val="fff8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Times New Roman"/>
              </a:rPr>
              <a:t>1 – растительный покров; 2 – почвеный слой; 3 – глинисто-песчаный слой; 4 – глины;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Times New Roman"/>
              </a:rPr>
              <a:t>5 – глинисто-песчаный слой; 6 – косослоистые пески с прослоями глины; 7 – мергель;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Times New Roman"/>
              </a:rPr>
              <a:t>8 – алевролит; 9 – известняк доломитизированный; 10 - косослоистые пески с прослоями глины; 11 – песчанистый доломит; 12 –кристаллический фундамент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4356000" y="3639960"/>
            <a:ext cx="1584360" cy="1189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113040" y="115920"/>
            <a:ext cx="8431920" cy="368280"/>
          </a:xfrm>
          <a:prstGeom prst="rect">
            <a:avLst/>
          </a:prstGeom>
          <a:solidFill>
            <a:srgbClr val="fff8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Г</a:t>
            </a:r>
            <a:r>
              <a:rPr b="1" lang="pl-PL" sz="1800" spc="-1" strike="noStrike">
                <a:solidFill>
                  <a:srgbClr val="663300"/>
                </a:solidFill>
                <a:latin typeface="Times New Roman"/>
              </a:rPr>
              <a:t>еологическая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съемка и картирование</a:t>
            </a:r>
            <a:r>
              <a:rPr b="1" lang="pl-PL" sz="1800" spc="-1" strike="noStrike">
                <a:solidFill>
                  <a:srgbClr val="663300"/>
                </a:solidFill>
                <a:latin typeface="Times New Roman"/>
              </a:rPr>
              <a:t> территории;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663300"/>
                </a:solidFill>
                <a:latin typeface="Times New Roman"/>
              </a:rPr>
              <a:t>опробование горных пород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Картинка 4 из 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476280"/>
            <a:ext cx="4752720" cy="2533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76" name=""/>
          <p:cNvSpPr/>
          <p:nvPr/>
        </p:nvSpPr>
        <p:spPr>
          <a:xfrm>
            <a:off x="825840" y="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Характерное свечение различных элементов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77" name="" descr="Картинка 1 из 4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3213000"/>
            <a:ext cx="5473800" cy="341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78" name="" descr="Картинка 3 из 1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19640" y="692280"/>
            <a:ext cx="3794040" cy="2297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250920" y="3933720"/>
            <a:ext cx="7740720" cy="277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7777080" cy="1236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81" name="" descr="Картинка 4 из 8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1557360"/>
            <a:ext cx="3024360" cy="2268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82" name="" descr="Файл:Granite gran violet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48000" y="1628640"/>
            <a:ext cx="2232000" cy="223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83" name="" descr="Файл:Harzburgite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96000" y="1557360"/>
            <a:ext cx="3095640" cy="2322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41440" y="115920"/>
            <a:ext cx="746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Масс-спектрометрический анализ элементов и их изотопного состава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79280" y="750960"/>
            <a:ext cx="7417080" cy="6070320"/>
            <a:chOff x="179280" y="750960"/>
            <a:chExt cx="7417080" cy="6070320"/>
          </a:xfrm>
        </p:grpSpPr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179280" y="750960"/>
              <a:ext cx="7417080" cy="597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79280" y="6240600"/>
              <a:ext cx="396108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одержание редкоземельных элементов </a:t>
              </a:r>
              <a:endParaRPr b="0" lang="en-US" sz="1600" spc="-1" strike="noStrike">
                <a:solidFill>
                  <a:srgbClr val="6633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в костных остатках</a:t>
              </a:r>
              <a:endParaRPr b="0" lang="en-US" sz="16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1440" y="549360"/>
            <a:ext cx="7840440" cy="307080"/>
          </a:xfrm>
          <a:prstGeom prst="rect">
            <a:avLst/>
          </a:prstGeom>
          <a:solidFill>
            <a:srgbClr val="fff8e2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Times New Roman"/>
              </a:rPr>
              <a:t>Высокоточное определение следовых содержаний элементов в жидких и твердофазных пробах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353440" cy="6391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500720" y="1076400"/>
            <a:ext cx="4392360" cy="2948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91" name=""/>
          <p:cNvSpPr/>
          <p:nvPr/>
        </p:nvSpPr>
        <p:spPr>
          <a:xfrm>
            <a:off x="5872680" y="260280"/>
            <a:ext cx="1845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Подготовка проб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212760" y="4203720"/>
            <a:ext cx="8246880" cy="2538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108000" y="333360"/>
            <a:ext cx="4917960" cy="3300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287280" y="333360"/>
            <a:ext cx="8856720" cy="318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95" name=""/>
          <p:cNvSpPr/>
          <p:nvPr/>
        </p:nvSpPr>
        <p:spPr>
          <a:xfrm>
            <a:off x="2558160" y="0"/>
            <a:ext cx="33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Метод газовой хроматографии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96" name="" descr="Картинка 20 из 9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42920" y="3579840"/>
            <a:ext cx="6480360" cy="3162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7861320" cy="6037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98" name=""/>
          <p:cNvSpPr/>
          <p:nvPr/>
        </p:nvSpPr>
        <p:spPr>
          <a:xfrm>
            <a:off x="2128680" y="18900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Спектральный и химический анализ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710520" y="115920"/>
            <a:ext cx="42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Различные спектры объектов изучения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0" y="408240"/>
            <a:ext cx="4284720" cy="3211200"/>
            <a:chOff x="0" y="408240"/>
            <a:chExt cx="4284720" cy="3211200"/>
          </a:xfrm>
        </p:grpSpPr>
        <p:pic>
          <p:nvPicPr>
            <p:cNvPr id="301" name="" descr="Картинка 30 из 1589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458640"/>
              <a:ext cx="4284720" cy="316080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sp>
          <p:nvSpPr>
            <p:cNvPr id="302" name=""/>
            <p:cNvSpPr/>
            <p:nvPr/>
          </p:nvSpPr>
          <p:spPr>
            <a:xfrm>
              <a:off x="332640" y="408240"/>
              <a:ext cx="3032280" cy="307080"/>
            </a:xfrm>
            <a:prstGeom prst="rect">
              <a:avLst/>
            </a:prstGeom>
            <a:solidFill>
              <a:srgbClr val="fff8e2"/>
            </a:solidFill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Times New Roman"/>
                </a:rPr>
                <a:t>спектральный анализ хлорофилла </a:t>
              </a:r>
              <a:endParaRPr b="0" lang="en-US" sz="1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  <p:pic>
        <p:nvPicPr>
          <p:cNvPr id="303" name="" descr="Картинка 28 из 158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80000" y="1484280"/>
            <a:ext cx="5364000" cy="4291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Картинка 7 из 4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080" y="3933720"/>
            <a:ext cx="3706920" cy="2687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353440" cy="471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3943080" cy="6062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4356000" y="260280"/>
            <a:ext cx="4197600" cy="2817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4284720" y="3141720"/>
            <a:ext cx="4676760" cy="3497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09" name=""/>
          <p:cNvSpPr/>
          <p:nvPr/>
        </p:nvSpPr>
        <p:spPr>
          <a:xfrm>
            <a:off x="183240" y="189000"/>
            <a:ext cx="4964400" cy="368280"/>
          </a:xfrm>
          <a:prstGeom prst="rect">
            <a:avLst/>
          </a:prstGeom>
          <a:solidFill>
            <a:srgbClr val="fff8e2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Рентгеноструктурный анализ пород и минералов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85680" y="693720"/>
            <a:ext cx="4991040" cy="5183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01" name=""/>
          <p:cNvSpPr/>
          <p:nvPr/>
        </p:nvSpPr>
        <p:spPr>
          <a:xfrm>
            <a:off x="1443960" y="0"/>
            <a:ext cx="5553000" cy="368280"/>
          </a:xfrm>
          <a:prstGeom prst="rect">
            <a:avLst/>
          </a:prstGeom>
          <a:solidFill>
            <a:srgbClr val="fff8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Г</a:t>
            </a:r>
            <a:r>
              <a:rPr b="1" lang="pl-PL" sz="1800" spc="-1" strike="noStrike">
                <a:solidFill>
                  <a:srgbClr val="663300"/>
                </a:solidFill>
                <a:latin typeface="Times New Roman"/>
              </a:rPr>
              <a:t>еологическая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съемка и картирование</a:t>
            </a:r>
            <a:r>
              <a:rPr b="1" lang="pl-PL" sz="1800" spc="-1" strike="noStrike">
                <a:solidFill>
                  <a:srgbClr val="663300"/>
                </a:solidFill>
                <a:latin typeface="Times New Roman"/>
              </a:rPr>
              <a:t> территории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172120" y="379440"/>
            <a:ext cx="3855960" cy="6289560"/>
          </a:xfrm>
          <a:prstGeom prst="rect">
            <a:avLst/>
          </a:prstGeom>
          <a:ln w="1908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564000" y="333360"/>
            <a:ext cx="5413320" cy="3305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graphicFrame>
        <p:nvGraphicFramePr>
          <p:cNvPr id="311" name=""/>
          <p:cNvGraphicFramePr/>
          <p:nvPr/>
        </p:nvGraphicFramePr>
        <p:xfrm>
          <a:off x="179280" y="692280"/>
          <a:ext cx="3313080" cy="5476680"/>
        </p:xfrm>
        <a:graphic>
          <a:graphicData uri="http://schemas.openxmlformats.org/drawingml/2006/table">
            <a:tbl>
              <a:tblPr/>
              <a:tblGrid>
                <a:gridCol w="647640"/>
                <a:gridCol w="1008360"/>
                <a:gridCol w="649080"/>
                <a:gridCol w="1008000"/>
              </a:tblGrid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, Å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ерал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, Å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ерал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843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15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атит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470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иофорит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95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нандит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530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77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ц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44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нандит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40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ц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734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05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атит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96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нандит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48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нандит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35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иофорит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29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ц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48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68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52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ц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81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ц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87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атит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38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атит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71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20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нандит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42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ц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96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атит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133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нандит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53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нандит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94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атит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98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атит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4140360" y="3860640"/>
            <a:ext cx="3240000" cy="2821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13" name=""/>
          <p:cNvSpPr/>
          <p:nvPr/>
        </p:nvSpPr>
        <p:spPr>
          <a:xfrm>
            <a:off x="173160" y="0"/>
            <a:ext cx="775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Рентгенограмма и расшифровка минерального состава исследуемого образца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622880" y="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Термический анализ пород, руд и минералов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7070760" cy="5311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8964720" cy="4830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977080" cy="47829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5940360" y="1484280"/>
            <a:ext cx="2903760" cy="31561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319" name=""/>
          <p:cNvSpPr/>
          <p:nvPr/>
        </p:nvSpPr>
        <p:spPr>
          <a:xfrm>
            <a:off x="514080" y="209520"/>
            <a:ext cx="71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Дериватограмма исследуемого образца (колония ископаемого коралла)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3948120" cy="5473440"/>
          </a:xfrm>
          <a:prstGeom prst="rect">
            <a:avLst/>
          </a:prstGeom>
          <a:ln w="19080">
            <a:solidFill>
              <a:srgbClr val="663300"/>
            </a:solidFill>
            <a:miter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140360" y="981000"/>
            <a:ext cx="4824360" cy="3397320"/>
          </a:xfrm>
          <a:prstGeom prst="rect">
            <a:avLst/>
          </a:prstGeom>
          <a:ln w="19080">
            <a:solidFill>
              <a:srgbClr val="663300"/>
            </a:solidFill>
            <a:miter/>
          </a:ln>
        </p:spPr>
      </p:pic>
      <p:sp>
        <p:nvSpPr>
          <p:cNvPr id="322" name=""/>
          <p:cNvSpPr/>
          <p:nvPr/>
        </p:nvSpPr>
        <p:spPr>
          <a:xfrm>
            <a:off x="614880" y="404640"/>
            <a:ext cx="3400920" cy="368280"/>
          </a:xfrm>
          <a:prstGeom prst="rect">
            <a:avLst/>
          </a:prstGeom>
          <a:solidFill>
            <a:srgbClr val="fff8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Инфракрасная спектроскопия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67240" y="476280"/>
            <a:ext cx="2349360" cy="368280"/>
          </a:xfrm>
          <a:prstGeom prst="rect">
            <a:avLst/>
          </a:prstGeom>
          <a:solidFill>
            <a:srgbClr val="fff8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Радиоспектроскопия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29800" y="0"/>
            <a:ext cx="75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Анализ физических свойств и точечных дефектов структур минералов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Картинка 5 из 246"/>
          <p:cNvPicPr/>
          <p:nvPr/>
        </p:nvPicPr>
        <p:blipFill>
          <a:blip r:embed="rId1"/>
          <a:stretch/>
        </p:blipFill>
        <p:spPr>
          <a:xfrm>
            <a:off x="5121360" y="549360"/>
            <a:ext cx="3473280" cy="374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26" name=""/>
          <p:cNvSpPr/>
          <p:nvPr/>
        </p:nvSpPr>
        <p:spPr>
          <a:xfrm>
            <a:off x="4937040" y="115920"/>
            <a:ext cx="3843000" cy="368280"/>
          </a:xfrm>
          <a:prstGeom prst="rect">
            <a:avLst/>
          </a:prstGeom>
          <a:solidFill>
            <a:srgbClr val="fff8e2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ИК-спектры каменноугольной смолы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327" name="" descr="Картинка 5 из 246"/>
          <p:cNvPicPr/>
          <p:nvPr/>
        </p:nvPicPr>
        <p:blipFill>
          <a:blip r:embed="rId2"/>
          <a:stretch/>
        </p:blipFill>
        <p:spPr>
          <a:xfrm>
            <a:off x="5292720" y="4365720"/>
            <a:ext cx="3024360" cy="234144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6809760" y="4365720"/>
            <a:ext cx="727920" cy="368280"/>
          </a:xfrm>
          <a:prstGeom prst="rect">
            <a:avLst/>
          </a:prstGeom>
          <a:solidFill>
            <a:srgbClr val="fff8e2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углей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329" name="" descr="Картинка 20 из 246"/>
          <p:cNvPicPr/>
          <p:nvPr/>
        </p:nvPicPr>
        <p:blipFill>
          <a:blip r:embed="rId3"/>
          <a:stretch/>
        </p:blipFill>
        <p:spPr>
          <a:xfrm>
            <a:off x="0" y="189000"/>
            <a:ext cx="4572000" cy="2833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1698120" y="189000"/>
            <a:ext cx="2751840" cy="368280"/>
          </a:xfrm>
          <a:prstGeom prst="rect">
            <a:avLst/>
          </a:prstGeom>
          <a:solidFill>
            <a:srgbClr val="fff8e2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ИК-спектр бензина АИ-76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331" name="" descr="Картинка 25 из 246"/>
          <p:cNvPicPr/>
          <p:nvPr/>
        </p:nvPicPr>
        <p:blipFill>
          <a:blip r:embed="rId4"/>
          <a:stretch/>
        </p:blipFill>
        <p:spPr>
          <a:xfrm>
            <a:off x="468360" y="3732120"/>
            <a:ext cx="3887640" cy="29448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240" y="3499560"/>
            <a:ext cx="5140080" cy="368280"/>
          </a:xfrm>
          <a:prstGeom prst="rect">
            <a:avLst/>
          </a:prstGeom>
          <a:solidFill>
            <a:srgbClr val="fff8e2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3300"/>
                </a:solidFill>
                <a:latin typeface="Times New Roman"/>
              </a:rPr>
              <a:t>ИК</a:t>
            </a:r>
            <a:r>
              <a:rPr b="0" lang="pl-PL" sz="1800" spc="-1" strike="noStrike">
                <a:solidFill>
                  <a:srgbClr val="663300"/>
                </a:solidFill>
                <a:latin typeface="Times New Roman"/>
              </a:rPr>
              <a:t>-</a:t>
            </a:r>
            <a:r>
              <a:rPr b="1" lang="pl-PL" sz="1800" spc="-1" strike="noStrike">
                <a:solidFill>
                  <a:srgbClr val="663300"/>
                </a:solidFill>
                <a:latin typeface="Times New Roman"/>
              </a:rPr>
              <a:t>спектры</a:t>
            </a:r>
            <a:r>
              <a:rPr b="0" lang="pl-PL" sz="1800" spc="-1" strike="noStrike">
                <a:solidFill>
                  <a:srgbClr val="663300"/>
                </a:solidFill>
                <a:latin typeface="Times New Roman"/>
              </a:rPr>
              <a:t> образцов гидроксилапатита кальция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798720" cy="6481800"/>
          </a:xfrm>
          <a:prstGeom prst="rect">
            <a:avLst/>
          </a:prstGeom>
          <a:ln w="19080">
            <a:solidFill>
              <a:srgbClr val="663300"/>
            </a:solidFill>
            <a:miter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4356000" y="907920"/>
            <a:ext cx="4557960" cy="3059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35" name=""/>
          <p:cNvSpPr/>
          <p:nvPr/>
        </p:nvSpPr>
        <p:spPr>
          <a:xfrm>
            <a:off x="4412160" y="209520"/>
            <a:ext cx="373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Катодно-люминесцентный анализ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200120" y="4075200"/>
            <a:ext cx="4195080" cy="520200"/>
          </a:xfrm>
          <a:prstGeom prst="rect">
            <a:avLst/>
          </a:prstGeom>
          <a:solidFill>
            <a:srgbClr val="fff8e2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Times New Roman"/>
              </a:rPr>
              <a:t>Низкие пределы обнаружения примесных ионов, 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Times New Roman"/>
              </a:rPr>
              <a:t>редкоземельных элементов и дефектов структур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144000" cy="611640"/>
          </a:xfrm>
          <a:prstGeom prst="rect">
            <a:avLst/>
          </a:prstGeom>
          <a:solidFill>
            <a:srgbClr val="fff8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Г</a:t>
            </a:r>
            <a:r>
              <a:rPr b="1" lang="pl-PL" sz="1800" spc="-1" strike="noStrike">
                <a:solidFill>
                  <a:srgbClr val="663300"/>
                </a:solidFill>
                <a:latin typeface="Times New Roman"/>
              </a:rPr>
              <a:t>еофизические методы исследований</a:t>
            </a: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 -</a:t>
            </a:r>
            <a:r>
              <a:rPr b="1" lang="pl-PL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это сейсморазведка и различного вида каротажи (электро-, гамма- каротаж, нейтронный, акустический), кавернометрия,термометрия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4176720" cy="3978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708360" y="3524400"/>
            <a:ext cx="5435640" cy="3227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06" name=""/>
          <p:cNvSpPr/>
          <p:nvPr/>
        </p:nvSpPr>
        <p:spPr>
          <a:xfrm>
            <a:off x="4427640" y="2351880"/>
            <a:ext cx="4592520" cy="1554120"/>
          </a:xfrm>
          <a:prstGeom prst="rect">
            <a:avLst/>
          </a:prstGeom>
          <a:solidFill>
            <a:srgbClr val="fff8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663300"/>
                </a:solidFill>
                <a:latin typeface="Times New Roman"/>
              </a:rPr>
              <a:t>Пример сейсмограммы четвертичных отложений. Финский залив</a:t>
            </a: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1. Морские голоценовые отложения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2. Ледниково-озерные верхнеплейстоценовые отложения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3. Ледниковые отложения (морена)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4920" y="333360"/>
            <a:ext cx="5904000" cy="5904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08" name=""/>
          <p:cNvSpPr/>
          <p:nvPr/>
        </p:nvSpPr>
        <p:spPr>
          <a:xfrm>
            <a:off x="540360" y="115200"/>
            <a:ext cx="7291800" cy="368280"/>
          </a:xfrm>
          <a:prstGeom prst="rect">
            <a:avLst/>
          </a:prstGeom>
          <a:solidFill>
            <a:srgbClr val="fff8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663300"/>
                </a:solidFill>
                <a:latin typeface="Times New Roman"/>
              </a:rPr>
              <a:t>Геосейсмическая модель Печенгской структуры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(</a:t>
            </a:r>
            <a:r>
              <a:rPr b="0" lang="pl-PL" sz="1800" spc="-1" strike="noStrike">
                <a:solidFill>
                  <a:srgbClr val="663300"/>
                </a:solidFill>
                <a:latin typeface="Times New Roman"/>
              </a:rPr>
              <a:t>Кольский полуостров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)</a:t>
            </a:r>
            <a:r>
              <a:rPr b="0" lang="pl-PL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6012000" y="549360"/>
            <a:ext cx="1396800" cy="2158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5508720" y="2133720"/>
            <a:ext cx="3614760" cy="2403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11" name=""/>
          <p:cNvSpPr/>
          <p:nvPr/>
        </p:nvSpPr>
        <p:spPr>
          <a:xfrm>
            <a:off x="6732720" y="2060640"/>
            <a:ext cx="0" cy="252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308720" y="2133720"/>
            <a:ext cx="0" cy="93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67640" y="2133720"/>
            <a:ext cx="0" cy="20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604360" y="2060640"/>
            <a:ext cx="0" cy="252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00720" y="549360"/>
            <a:ext cx="4400280" cy="6092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109440" y="139680"/>
            <a:ext cx="8440920" cy="337320"/>
          </a:xfrm>
          <a:prstGeom prst="rect">
            <a:avLst/>
          </a:prstGeom>
          <a:solidFill>
            <a:srgbClr val="fff8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Г</a:t>
            </a:r>
            <a:r>
              <a:rPr b="1" lang="pl-PL" sz="1600" spc="-1" strike="noStrike">
                <a:solidFill>
                  <a:srgbClr val="663300"/>
                </a:solidFill>
                <a:latin typeface="Times New Roman"/>
              </a:rPr>
              <a:t>еологическая </a:t>
            </a: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съемка и картирование</a:t>
            </a:r>
            <a:r>
              <a:rPr b="1" lang="pl-PL" sz="1600" spc="-1" strike="noStrike">
                <a:solidFill>
                  <a:srgbClr val="663300"/>
                </a:solidFill>
                <a:latin typeface="Times New Roman"/>
              </a:rPr>
              <a:t> территории;</a:t>
            </a: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pl-PL" sz="1600" spc="-1" strike="noStrike">
                <a:solidFill>
                  <a:srgbClr val="663300"/>
                </a:solidFill>
                <a:latin typeface="Times New Roman"/>
              </a:rPr>
              <a:t>опробование горных пород</a:t>
            </a: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 бурением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08000" y="620640"/>
            <a:ext cx="4319640" cy="2102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18" name=""/>
          <p:cNvSpPr/>
          <p:nvPr/>
        </p:nvSpPr>
        <p:spPr>
          <a:xfrm>
            <a:off x="684360" y="907920"/>
            <a:ext cx="1008000" cy="1584360"/>
          </a:xfrm>
          <a:custGeom>
            <a:avLst/>
            <a:gdLst/>
            <a:ahLst/>
            <a:rect l="l" t="t" r="r" b="b"/>
            <a:pathLst>
              <a:path w="676" h="1026">
                <a:moveTo>
                  <a:pt x="0" y="0"/>
                </a:moveTo>
                <a:lnTo>
                  <a:pt x="676" y="102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907920"/>
            <a:ext cx="309600" cy="1603440"/>
          </a:xfrm>
          <a:custGeom>
            <a:avLst/>
            <a:gdLst/>
            <a:ahLst/>
            <a:rect l="l" t="t" r="r" b="b"/>
            <a:pathLst>
              <a:path w="192" h="1008">
                <a:moveTo>
                  <a:pt x="0" y="0"/>
                </a:moveTo>
                <a:lnTo>
                  <a:pt x="189" y="1008"/>
                </a:lnTo>
                <a:lnTo>
                  <a:pt x="192" y="1008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37040" y="1006560"/>
            <a:ext cx="739800" cy="1612800"/>
          </a:xfrm>
          <a:custGeom>
            <a:avLst/>
            <a:gdLst/>
            <a:ahLst/>
            <a:rect l="l" t="t" r="r" b="b"/>
            <a:pathLst>
              <a:path w="458" h="1014">
                <a:moveTo>
                  <a:pt x="0" y="0"/>
                </a:moveTo>
                <a:lnTo>
                  <a:pt x="250" y="550"/>
                </a:lnTo>
                <a:lnTo>
                  <a:pt x="454" y="1011"/>
                </a:lnTo>
                <a:lnTo>
                  <a:pt x="458" y="101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36360" y="3141720"/>
            <a:ext cx="4391280" cy="3281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22" name=""/>
          <p:cNvSpPr/>
          <p:nvPr/>
        </p:nvSpPr>
        <p:spPr>
          <a:xfrm>
            <a:off x="396720" y="4338720"/>
            <a:ext cx="69840" cy="1671480"/>
          </a:xfrm>
          <a:custGeom>
            <a:avLst/>
            <a:gdLst/>
            <a:ahLst/>
            <a:rect l="l" t="t" r="r" b="b"/>
            <a:pathLst>
              <a:path w="44" h="1053">
                <a:moveTo>
                  <a:pt x="0" y="0"/>
                </a:moveTo>
                <a:lnTo>
                  <a:pt x="22" y="726"/>
                </a:lnTo>
                <a:lnTo>
                  <a:pt x="38" y="739"/>
                </a:lnTo>
                <a:lnTo>
                  <a:pt x="44" y="1053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98800" y="3348000"/>
            <a:ext cx="75960" cy="2514600"/>
          </a:xfrm>
          <a:custGeom>
            <a:avLst/>
            <a:gdLst/>
            <a:ahLst/>
            <a:rect l="l" t="t" r="r" b="b"/>
            <a:pathLst>
              <a:path w="48" h="1584">
                <a:moveTo>
                  <a:pt x="0" y="0"/>
                </a:moveTo>
                <a:lnTo>
                  <a:pt x="6" y="854"/>
                </a:lnTo>
                <a:lnTo>
                  <a:pt x="22" y="854"/>
                </a:lnTo>
                <a:lnTo>
                  <a:pt x="22" y="1421"/>
                </a:lnTo>
                <a:lnTo>
                  <a:pt x="44" y="1430"/>
                </a:lnTo>
                <a:lnTo>
                  <a:pt x="48" y="158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5200" y="3479760"/>
            <a:ext cx="39600" cy="1346400"/>
          </a:xfrm>
          <a:custGeom>
            <a:avLst/>
            <a:gdLst/>
            <a:ahLst/>
            <a:rect l="l" t="t" r="r" b="b"/>
            <a:pathLst>
              <a:path w="25" h="848">
                <a:moveTo>
                  <a:pt x="0" y="0"/>
                </a:moveTo>
                <a:lnTo>
                  <a:pt x="25" y="672"/>
                </a:lnTo>
                <a:lnTo>
                  <a:pt x="25" y="848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315040" y="3240"/>
            <a:ext cx="3794040" cy="68547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0" y="45720"/>
            <a:ext cx="529272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М</a:t>
            </a:r>
            <a:r>
              <a:rPr b="1" lang="pl-PL" sz="1800" spc="-1" strike="noStrike">
                <a:solidFill>
                  <a:srgbClr val="663300"/>
                </a:solidFill>
                <a:latin typeface="Times New Roman"/>
              </a:rPr>
              <a:t>ечта проникнуть к сердцу нашей планеты и познать скрытую жизнь ее недр по-прежнему остается недостижимой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.</a:t>
            </a:r>
            <a:r>
              <a:rPr b="0" lang="pl-PL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Ближе всех к этой цели подошли наши соотечественники, пробурившие Кольскую сверхглубокую скважину (</a:t>
            </a:r>
            <a:r>
              <a:rPr b="1" lang="pl-PL" sz="1600" spc="-1" strike="noStrike">
                <a:solidFill>
                  <a:srgbClr val="663300"/>
                </a:solidFill>
                <a:latin typeface="Times New Roman"/>
              </a:rPr>
              <a:t>проектная глубина </a:t>
            </a: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-</a:t>
            </a:r>
            <a:r>
              <a:rPr b="1" lang="pl-PL" sz="1600" spc="-1" strike="noStrike">
                <a:solidFill>
                  <a:srgbClr val="663300"/>
                </a:solidFill>
                <a:latin typeface="Times New Roman"/>
              </a:rPr>
              <a:t> 15 километров</a:t>
            </a: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).</a:t>
            </a:r>
            <a:r>
              <a:rPr b="1" lang="pl-PL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Начало работ</a:t>
            </a:r>
            <a:r>
              <a:rPr b="1" lang="pl-PL" sz="1800" spc="-1" strike="noStrike">
                <a:solidFill>
                  <a:srgbClr val="663300"/>
                </a:solidFill>
                <a:latin typeface="Times New Roman"/>
              </a:rPr>
              <a:t> в мае 1970 года.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0880" y="2242440"/>
            <a:ext cx="4647240" cy="36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pl-PL" sz="21900" spc="-1" strike="noStrike">
                <a:solidFill>
                  <a:srgbClr val="663300"/>
                </a:solidFill>
                <a:latin typeface="Times New Roman"/>
              </a:rPr>
              <a:t> </a:t>
            </a: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                                                                         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28" name="" descr="Путешествие к центру земли, иллюстрация"/>
          <p:cNvPicPr/>
          <p:nvPr/>
        </p:nvPicPr>
        <p:blipFill>
          <a:blip r:embed="rId2"/>
          <a:stretch/>
        </p:blipFill>
        <p:spPr>
          <a:xfrm>
            <a:off x="108000" y="2219400"/>
            <a:ext cx="4895640" cy="3983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29" name=""/>
          <p:cNvSpPr/>
          <p:nvPr/>
        </p:nvSpPr>
        <p:spPr>
          <a:xfrm>
            <a:off x="0" y="6161040"/>
            <a:ext cx="5292720" cy="580680"/>
          </a:xfrm>
          <a:prstGeom prst="rect">
            <a:avLst/>
          </a:prstGeom>
          <a:solidFill>
            <a:srgbClr val="fff8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Использовалась техника</a:t>
            </a: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: установка «Уралмаш 4Э» 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грузоподъёмностью 200 тонн и легкосплавные трубы 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136080"/>
            <a:ext cx="9144000" cy="642600"/>
          </a:xfrm>
          <a:prstGeom prst="rect">
            <a:avLst/>
          </a:prstGeom>
          <a:solidFill>
            <a:srgbClr val="fff8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663300"/>
                </a:solidFill>
                <a:latin typeface="Times New Roman"/>
              </a:rPr>
              <a:t>Через 5 лет, когда глубина скважины СГ-3 превысила 7 километров, смонтировали новую буровую установку «Уралмаш 15 000» – одну из самых современных по тем временам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31" name="" descr="Путешествие к центру земли, иллюстрация"/>
          <p:cNvPicPr/>
          <p:nvPr/>
        </p:nvPicPr>
        <p:blipFill>
          <a:blip r:embed="rId1"/>
          <a:stretch/>
        </p:blipFill>
        <p:spPr>
          <a:xfrm>
            <a:off x="395280" y="836640"/>
            <a:ext cx="6240600" cy="4549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32" name=""/>
          <p:cNvSpPr/>
          <p:nvPr/>
        </p:nvSpPr>
        <p:spPr>
          <a:xfrm>
            <a:off x="0" y="5445000"/>
            <a:ext cx="9144000" cy="1191240"/>
          </a:xfrm>
          <a:prstGeom prst="rect">
            <a:avLst/>
          </a:prstGeom>
          <a:solidFill>
            <a:srgbClr val="fff8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663300"/>
                </a:solidFill>
                <a:latin typeface="Times New Roman"/>
              </a:rPr>
              <a:t>В июне 1990 года СГ-3 достигла глубины 12 262 м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.</a:t>
            </a:r>
            <a:r>
              <a:rPr b="0" lang="pl-PL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В 1994 году бурение Кольской сверхглубокой прекратили. Через 3 года она попала в Книгу рекордов Гиннесса и до сих пор остается непревзойдённой. Сейчас скважина представляет собой лабораторию для изучения глубоких недр.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50920" y="329760"/>
            <a:ext cx="8713800" cy="6487560"/>
          </a:xfrm>
          <a:prstGeom prst="rect">
            <a:avLst/>
          </a:prstGeom>
          <a:solidFill>
            <a:srgbClr val="fff8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1. Аралсорская СГ-1, Прикаспийская низменность, 1962-1971, глубина – 6,8 км. Поиск нефти и газа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2. Биикжальская СГ-2, Прикаспийская низменность, 1962-1971, глубина – 6,2 км. Поиск нефти и газа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3. Кольская СГ-3, 1970-1994, глубина – 12 262 м. Проектная глубина – 15 км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4. Саатлинская, Азербайджан, 1977-1990, глубина – 8 324 м. Проектная глубина – 11 км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5. Колвинская, Архангельская область, 1961, глубина – 7 057 м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6. Мурунтауская СГ-10, Узбекистан, 1984, глубина – 3 км. Проектная глубина – 7 км. Поиск золота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7. Тимано-Печорская СГ-5, Северо-Восток России, 1984-1993, глубина – 6 904 м, проектная глубина – 7 км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8. Тюменская СГ-6, Западная Сибирь, 1987-1996, глубина -7 502 м. Проектная глубина – 8 км. Поиск нефти и газа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9. Ново-Елховская, Татарстан, 1988, глубина – 5 881 м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10. Воротиловская скважина, Поволжье, 1989-1992, глубина – 5 374 м. Поиск алмазов, изучение Пучеж-Катункской астроблемы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11. Криворожская СГ-8, Украина, 1984-1993, глубина – 5 382 м. Проектная глубина – 12 км. Поиск железистых кварцитов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12. Уральская СГ-4, Средний Урал. Заложена в 1985 году. Проектная глубина – 15 000 м. Текущая глубина – 6 100 м. Поиск медных руд, изучение строения Урала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13. Ен-Яхтинская СГ-7, Западная Сибирь. Проектная глубина – 7 500 м. Текущая глубина – 6 900 м. Поиск нефти и газа.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Скважины на нефть и газ: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Начала 70-х годов -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Юниверсити, США, глубина – 8 686 м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Бейден-Юнит, США, глубина – 9 159 м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Берта-Роджерс, США, глубина – 9 583 м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80-х годов -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Цистердорф, Австрия, глубина 8 553 м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Сильян Ринг, Швеция, глубина – 6,8 км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Бигхорн, США, Вайоминг, глубина – 7 583 м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КТВ Hauptbohrung, Германия, 1990-1994, глубина – 9 100 м. Проектная глубина – 10 км. Научное бурение.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31880" y="-27000"/>
            <a:ext cx="367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e1700"/>
                </a:solidFill>
                <a:latin typeface="Times New Roman"/>
              </a:rPr>
              <a:t>Самые глубокие скважины мира</a:t>
            </a:r>
            <a:r>
              <a:rPr b="0" lang="pl-PL" sz="1800" spc="-1" strike="noStrike">
                <a:solidFill>
                  <a:srgbClr val="2e17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13:12:23Z</dcterms:created>
  <dc:creator>Леонова</dc:creator>
  <dc:description/>
  <cp:keywords/>
  <dc:language>en-US</dc:language>
  <cp:lastModifiedBy>Леонова</cp:lastModifiedBy>
  <dcterms:modified xsi:type="dcterms:W3CDTF">2010-08-31T14:18:24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828000000000001024140</vt:lpwstr>
  </property>
  <property fmtid="{D5CDD505-2E9C-101B-9397-08002B2CF9AE}" pid="3" name="_TemplateID">
    <vt:lpwstr>TC010690641049</vt:lpwstr>
  </property>
</Properties>
</file>