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19.jpeg" ContentType="image/jpeg"/>
  <Override PartName="/ppt/media/image66.wmf" ContentType="image/x-wmf"/>
  <Override PartName="/ppt/media/image63.jpeg" ContentType="image/jpeg"/>
  <Override PartName="/ppt/media/image6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4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5D2-1404-48BF-8FF0-2705E7AE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252-B819-4D31-B8E2-76E037D0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4A6-6C95-483D-B631-E09D34B2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48A-9D8A-448D-84A6-4891ED8A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0622-C974-4C1A-8D64-59F82125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CE0-9C38-4CD2-A846-BB05F368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FB17-4453-4681-A166-516CC42F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00EA-2FE3-4B84-A65B-0782B6A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F605-4865-4160-9F82-158308A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8981-5128-4A87-B780-75DF413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3FB9-6073-47BC-AE97-A73A8B6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E53-2E58-4705-9FBD-D8CA98B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34B3-15BE-47DE-89DB-DBC6F20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C81E-A699-4144-906D-878396D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61B5-F85F-4A3E-A296-1F7E31F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C88-3C9F-4082-B829-A2E187B3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743-FC8E-430E-BAE5-3E41A7B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730-76F6-46FD-A95B-F6B3D1FB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026-46D2-4422-97FF-55847DB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A78-4C5F-4C3C-84E9-83FCAF0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3FD-9984-4958-BE40-18A9E4C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DA8-C2CE-4088-AB4A-B03AFF89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246-1CB2-4A96-98CC-681AB67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F19-7105-4AF0-ABAC-EBDAD5E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06E-88A5-4824-9018-E9DFC4E4F603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B6F-D453-487F-BA02-B561C279DEF1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ytek.ru/Files/Objects/1305.jpg" TargetMode="External"/><Relationship Id="rId2" Type="http://schemas.openxmlformats.org/officeDocument/2006/relationships/image" Target="../media/image39.png"/><Relationship Id="rId3" Type="http://schemas.openxmlformats.org/officeDocument/2006/relationships/hyperlink" Target="http://www.techob.ru/uploaded/images/800px-Spectrum_spektrometr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test.gorod.dn.ua/edit6/6343/elvax1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dic.academic.ru/pictures/wiki/files/73/Igneous_rock_Santoroni_Greece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upload.wikimedia.org/wikipedia/commons/e/e3/Granite_gran_violet.jpg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upload.wikimedia.org/wikipedia/ru/c/c1/Harzburgite.jpg" TargetMode="External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k323108.narod.ru/image004.gif" TargetMode="External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zahav.elementy.ru/images/eltjob/6_s8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www.zetms.ru/catalog/programs/images/spectr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avantes.net/libs3.jpg" TargetMode="External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9480" y="189000"/>
            <a:ext cx="808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ЛЕВЫЕ МЕТОДЫ ГЕОЛОГИЧЕСКОГО И ГЕОФИЗИЧЕСКОГО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ИЗУЧЕНИЯ ГОРНЫХ ПОРОД И ИХ ВЗАИМООТНОШЕНИЙ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02000"/>
            <a:ext cx="81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1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 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2. Д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кументация карьеров и подземных выработок, геолого-разведочных скважин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горно-буровые работы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3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каротаж, нейтронный, акустический), кавернометрия, термометрия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4753080" cy="357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080" y="853920"/>
            <a:ext cx="9036000" cy="3987720"/>
          </a:xfrm>
          <a:prstGeom prst="rect">
            <a:avLst/>
          </a:prstGeom>
          <a:solidFill>
            <a:srgbClr val="fff8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азрез Кольской скважины опроверг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овавшую до этого времени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двухслойную модель земной коры и показал, что сейсмические разделы в недрах – это не границ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толщами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пород разного соста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коре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о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они указывают на изменение свойств камня с глубино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, п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ри высоком давлении и температуре граниты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своим физическим характеристикам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становятся похожи на базальты, и наоборот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Первые 7 километров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ыл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сложены вулканическими и осадочными породами: туфами, базальтами, брекчиями, песчаниками, доломитами. Глубже лежал так называемый раздел Конрада, после которого скорость сейсмических волн в породах резко увеличивалась, что интерпретировалось как граница между гранитами и базальтами.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днако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базальты нижнего слоя земной коры так нигде и не появились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: породы оказались представлен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гранит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и гнейс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Кроме того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аньше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читалось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, что с удалением от поверхности земли, с ростом давления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породы становятся более монолитными, с малым количеством трещин и пор. СГ-3 убедила учёных в обратном. Начиная с 9 километров, толщи оказались очень пористыми и трещин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ват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ми, по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им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циркулировали водные растворы. Позднее этот факт подтвердили другие сверхглубокие скважины на континентах. На глубине оказалось гораздо жарче, чем рассчитывали: на целых 80°! На отметке 7 км температура в забое была 120°С, на 12 км – достигла уже 230°С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1120" y="404640"/>
            <a:ext cx="60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ЛУЧЕННЫЕ ПРИ БУРЕНИИ НАУЧНЫЕ ДАННЫ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294880"/>
            <a:ext cx="9144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Одно из самых удивительных открытий, которое учёные сделали с помощью бурения, – это наличие жизни глубоко под землей. 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хотя жизнь эта представлена лишь бактериями, её пределы простираются до невероятных глубин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4920" y="44280"/>
            <a:ext cx="9109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лубинное строение Земли недоступно для непосредственных исследований и может быть изучено только геофизическими методами: сейсмологией, глубинной сейсморазведкой, гравиметрией, магнитометрией, глубинной геоэлектрикой, термометрией, радиометрией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13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нтерпретируя материалы глубинной геофизики, удалось расчленить Землю на сферические оболочки, определить скачки физических свойств на их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границах 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 изменения свойств по латерали,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строить физические модели недр Земли, а по ним судить о химическом составе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32320" y="836640"/>
            <a:ext cx="5493600" cy="5905440"/>
            <a:chOff x="3532320" y="836640"/>
            <a:chExt cx="5493600" cy="5905440"/>
          </a:xfrm>
        </p:grpSpPr>
        <p:pic>
          <p:nvPicPr>
            <p:cNvPr id="241" name="" descr="Путешествие к центру земли, иллюстрация"/>
            <p:cNvPicPr/>
            <p:nvPr/>
          </p:nvPicPr>
          <p:blipFill>
            <a:blip r:embed="rId1"/>
            <a:stretch/>
          </p:blipFill>
          <p:spPr>
            <a:xfrm>
              <a:off x="3532320" y="836640"/>
              <a:ext cx="5432400" cy="5905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42" name=""/>
            <p:cNvSpPr/>
            <p:nvPr/>
          </p:nvSpPr>
          <p:spPr>
            <a:xfrm>
              <a:off x="6231600" y="2300040"/>
              <a:ext cx="27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поверхность Мохоровичича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5278680" cy="35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233960" cy="6307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160200" y="544680"/>
            <a:ext cx="75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ЛАБОРАТОРНЫЕ МЕТОДЫ ИССЛЕДОВАНИЯ МИНЕРАЛО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7200" y="5877000"/>
            <a:ext cx="26557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птически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27840" y="115920"/>
            <a:ext cx="29667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744720" cy="280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3940200" cy="295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2976480" cy="22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295272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91960" y="2565360"/>
            <a:ext cx="3362760" cy="52056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3300"/>
                </a:solidFill>
                <a:latin typeface="Times New Roman"/>
              </a:rPr>
              <a:t>(тонкие спилы, приклеенные на стекло)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4321080" cy="327168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270000"/>
            <a:ext cx="3816360" cy="286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888000" cy="29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84320" y="4365720"/>
            <a:ext cx="2544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95880" cy="56340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4634640" y="282600"/>
            <a:ext cx="4362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канирующий электронны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02360" y="641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JSM – 6390LF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176720" cy="3516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651280" y="5084640"/>
            <a:ext cx="19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Исследуемый образец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6087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4284720" cy="321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105080" cy="307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959280" cy="2968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1406880" y="0"/>
            <a:ext cx="6058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икрофотографии сколов марганцево-рудных обособлени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92000" y="404640"/>
            <a:ext cx="351828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тичные ископаемые микроорганизмы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8360" y="6453360"/>
            <a:ext cx="424692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уденелые агрегаты ископаемых марганцевых бактерий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63600" y="260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лектронно-зондовый микроанализ химическ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040" y="549360"/>
            <a:ext cx="75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ый количественный, полукачественный и оперативный качественный анализ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элементов от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Na</a:t>
            </a: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 до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416720" cy="529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268200"/>
            <a:ext cx="8425080" cy="639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345440" cy="574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1189440" y="0"/>
            <a:ext cx="58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ентгенофлуоресцентный анализ элементн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4572000" cy="424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6360" y="1119240"/>
            <a:ext cx="4680000" cy="381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87480" y="5006880"/>
            <a:ext cx="9056520" cy="9464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1 – растительный покров; 2 – почвеный слой; 3 – глинисто-песчаный слой; 4 – глины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5 – глинисто-песчаный слой; 6 – косослоистые пески с прослоями глины; 7 – мергель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8 – алевролит; 9 – известняк доломитизированный; 10 - косослоистые пески с прослоями глины; 11 – песчанистый доломит; 12 –кристаллический фундамент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356000" y="3639960"/>
            <a:ext cx="1584360" cy="118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3040" y="115920"/>
            <a:ext cx="8431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Картинка 4 из 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52720" cy="253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25840" y="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ное свечение различных элемент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7" name="" descr="Картинка 1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213000"/>
            <a:ext cx="5473800" cy="34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Картинка 3 из 1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692280"/>
            <a:ext cx="3794040" cy="2297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774072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777080" cy="12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Картинка 4 из 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557360"/>
            <a:ext cx="3024360" cy="22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Файл:Granite gran viole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28640"/>
            <a:ext cx="223200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3" name="" descr="Файл:Harzburgit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155736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1440" y="115920"/>
            <a:ext cx="74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с-спектрометрический анализ элементов и их изотопного состава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9280" y="750960"/>
            <a:ext cx="7417080" cy="6070320"/>
            <a:chOff x="179280" y="750960"/>
            <a:chExt cx="7417080" cy="607032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179280" y="750960"/>
              <a:ext cx="7417080" cy="59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9280" y="6240600"/>
              <a:ext cx="396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ние редкоземельных элементов 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костных остатках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440" y="549360"/>
            <a:ext cx="7840440" cy="3070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ое определение следовых содержаний элементов в жидких и твердофазных пробах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353440" cy="639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00720" y="1076400"/>
            <a:ext cx="4392360" cy="294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5872680" y="260280"/>
            <a:ext cx="184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дготовка проб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12760" y="4203720"/>
            <a:ext cx="8246880" cy="25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4917960" cy="3300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885672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2558160" y="0"/>
            <a:ext cx="33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тод газовой хроматографи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6" name="" descr="Картинка 20 из 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579840"/>
            <a:ext cx="648036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7861320" cy="603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2128680" y="189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пектральный и химически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10520" y="11592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личные спектры объектов изучен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08240"/>
            <a:ext cx="4284720" cy="3211200"/>
            <a:chOff x="0" y="408240"/>
            <a:chExt cx="4284720" cy="3211200"/>
          </a:xfrm>
        </p:grpSpPr>
        <p:pic>
          <p:nvPicPr>
            <p:cNvPr id="301" name="" descr="Картинка 30 из 1589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458640"/>
              <a:ext cx="4284720" cy="3160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302" name=""/>
            <p:cNvSpPr/>
            <p:nvPr/>
          </p:nvSpPr>
          <p:spPr>
            <a:xfrm>
              <a:off x="332640" y="408240"/>
              <a:ext cx="3032280" cy="307080"/>
            </a:xfrm>
            <a:prstGeom prst="rect">
              <a:avLst/>
            </a:prstGeom>
            <a:solidFill>
              <a:srgbClr val="fff8e2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спектральный анализ хлорофилла </a:t>
              </a:r>
              <a:endParaRPr b="0" lang="en-US" sz="1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pic>
        <p:nvPicPr>
          <p:cNvPr id="303" name="" descr="Картинка 28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484280"/>
            <a:ext cx="5364000" cy="429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Картинка 7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0" y="3933720"/>
            <a:ext cx="3706920" cy="26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353440" cy="47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943080" cy="606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197600" cy="281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676760" cy="349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183240" y="189000"/>
            <a:ext cx="49644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структурный анализ поро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5680" y="693720"/>
            <a:ext cx="4991040" cy="518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1443960" y="0"/>
            <a:ext cx="555300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72120" y="379440"/>
            <a:ext cx="3855960" cy="628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41332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311" name=""/>
          <p:cNvGraphicFramePr/>
          <p:nvPr/>
        </p:nvGraphicFramePr>
        <p:xfrm>
          <a:off x="179280" y="692280"/>
          <a:ext cx="3313080" cy="547668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649080"/>
                <a:gridCol w="100800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4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3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7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4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3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3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29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6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5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8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3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9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9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240000" cy="282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173160" y="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грамма и расшифровка минерального состава исследуемого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22880" y="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ермический анализ пород, ру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070760" cy="531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483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977080" cy="4782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903760" cy="315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514080" y="20952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ериватограмма исследуемого образца (колония ископаемого коралла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948120" cy="54734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339732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322" name=""/>
          <p:cNvSpPr/>
          <p:nvPr/>
        </p:nvSpPr>
        <p:spPr>
          <a:xfrm>
            <a:off x="614880" y="404640"/>
            <a:ext cx="3400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нфракрасная спектроскоп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67240" y="476280"/>
            <a:ext cx="234936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диоспектроскоп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9800" y="0"/>
            <a:ext cx="75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Анализ физических свойств и точечных дефектов структур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Картинка 5 из 246"/>
          <p:cNvPicPr/>
          <p:nvPr/>
        </p:nvPicPr>
        <p:blipFill>
          <a:blip r:embed="rId1"/>
          <a:stretch/>
        </p:blipFill>
        <p:spPr>
          <a:xfrm>
            <a:off x="5121360" y="549360"/>
            <a:ext cx="347328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937040" y="115920"/>
            <a:ext cx="38430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ы каменноугольной смолы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7" name="" descr="Картинка 5 из 246"/>
          <p:cNvPicPr/>
          <p:nvPr/>
        </p:nvPicPr>
        <p:blipFill>
          <a:blip r:embed="rId2"/>
          <a:stretch/>
        </p:blipFill>
        <p:spPr>
          <a:xfrm>
            <a:off x="5292720" y="4365720"/>
            <a:ext cx="3024360" cy="2341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809760" y="4365720"/>
            <a:ext cx="7279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угле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9" name="" descr="Картинка 20 из 246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2833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698120" y="189000"/>
            <a:ext cx="275184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 бензина АИ-7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31" name="" descr="Картинка 25 из 246"/>
          <p:cNvPicPr/>
          <p:nvPr/>
        </p:nvPicPr>
        <p:blipFill>
          <a:blip r:embed="rId4"/>
          <a:stretch/>
        </p:blipFill>
        <p:spPr>
          <a:xfrm>
            <a:off x="468360" y="3732120"/>
            <a:ext cx="3887640" cy="2944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" y="3499560"/>
            <a:ext cx="51400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ИК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спектры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образцов гидроксилапатита кальц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98720" cy="64818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557960" cy="30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4412160" y="20952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атодно-люминесцентны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00120" y="4075200"/>
            <a:ext cx="4195080" cy="52020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Низкие пределы обнаружения примесных ионов,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редкоземельных элементов и дефектов структур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16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 каротаж, нейтронный, акустический), кавернометрия,термометр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397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08360" y="3524400"/>
            <a:ext cx="5435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427640" y="2351880"/>
            <a:ext cx="4592520" cy="15541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имер сейсмограммы четвертичных отложений. Финский залив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1. Морские гол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2. Ледниково-озерные верхнеплейст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3. Ледниковые отложения (морена)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590400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540360" y="115200"/>
            <a:ext cx="7291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Геосейсмическая модель Печенгской структуры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Кольский полуостров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1396800" cy="215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614760" cy="240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73272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213372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13372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4400280" cy="60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09440" y="139680"/>
            <a:ext cx="8440920" cy="3373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бурение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4319640" cy="210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84360" y="907920"/>
            <a:ext cx="1008000" cy="1584360"/>
          </a:xfrm>
          <a:custGeom>
            <a:avLst/>
            <a:gdLst/>
            <a:ahLst/>
            <a:rect l="l" t="t" r="r" b="b"/>
            <a:pathLst>
              <a:path w="676" h="1026">
                <a:moveTo>
                  <a:pt x="0" y="0"/>
                </a:moveTo>
                <a:lnTo>
                  <a:pt x="676" y="102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907920"/>
            <a:ext cx="309600" cy="1603440"/>
          </a:xfrm>
          <a:custGeom>
            <a:avLst/>
            <a:gdLst/>
            <a:ahLst/>
            <a:rect l="l" t="t" r="r" b="b"/>
            <a:pathLst>
              <a:path w="192" h="1008">
                <a:moveTo>
                  <a:pt x="0" y="0"/>
                </a:moveTo>
                <a:lnTo>
                  <a:pt x="189" y="1008"/>
                </a:lnTo>
                <a:lnTo>
                  <a:pt x="192" y="100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7040" y="1006560"/>
            <a:ext cx="739800" cy="1612800"/>
          </a:xfrm>
          <a:custGeom>
            <a:avLst/>
            <a:gdLst/>
            <a:ahLst/>
            <a:rect l="l" t="t" r="r" b="b"/>
            <a:pathLst>
              <a:path w="458" h="1014">
                <a:moveTo>
                  <a:pt x="0" y="0"/>
                </a:moveTo>
                <a:lnTo>
                  <a:pt x="250" y="550"/>
                </a:lnTo>
                <a:lnTo>
                  <a:pt x="454" y="1011"/>
                </a:lnTo>
                <a:lnTo>
                  <a:pt x="458" y="101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6360" y="3141720"/>
            <a:ext cx="43912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6720" y="4338720"/>
            <a:ext cx="69840" cy="1671480"/>
          </a:xfrm>
          <a:custGeom>
            <a:avLst/>
            <a:gdLst/>
            <a:ahLst/>
            <a:rect l="l" t="t" r="r" b="b"/>
            <a:pathLst>
              <a:path w="44" h="1053">
                <a:moveTo>
                  <a:pt x="0" y="0"/>
                </a:moveTo>
                <a:lnTo>
                  <a:pt x="22" y="726"/>
                </a:lnTo>
                <a:lnTo>
                  <a:pt x="38" y="739"/>
                </a:lnTo>
                <a:lnTo>
                  <a:pt x="44" y="105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8800" y="3348000"/>
            <a:ext cx="75960" cy="2514600"/>
          </a:xfrm>
          <a:custGeom>
            <a:avLst/>
            <a:gdLst/>
            <a:ahLst/>
            <a:rect l="l" t="t" r="r" b="b"/>
            <a:pathLst>
              <a:path w="48" h="1584">
                <a:moveTo>
                  <a:pt x="0" y="0"/>
                </a:moveTo>
                <a:lnTo>
                  <a:pt x="6" y="854"/>
                </a:lnTo>
                <a:lnTo>
                  <a:pt x="22" y="854"/>
                </a:lnTo>
                <a:lnTo>
                  <a:pt x="22" y="1421"/>
                </a:lnTo>
                <a:lnTo>
                  <a:pt x="44" y="1430"/>
                </a:lnTo>
                <a:lnTo>
                  <a:pt x="48" y="15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5200" y="3479760"/>
            <a:ext cx="39600" cy="1346400"/>
          </a:xfrm>
          <a:custGeom>
            <a:avLst/>
            <a:gdLst/>
            <a:ahLst/>
            <a:rect l="l" t="t" r="r" b="b"/>
            <a:pathLst>
              <a:path w="25" h="848">
                <a:moveTo>
                  <a:pt x="0" y="0"/>
                </a:moveTo>
                <a:lnTo>
                  <a:pt x="25" y="672"/>
                </a:lnTo>
                <a:lnTo>
                  <a:pt x="25" y="8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15040" y="3240"/>
            <a:ext cx="3794040" cy="6854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5720"/>
            <a:ext cx="5292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чта проникнуть к сердцу нашей планеты и познать скрытую жизнь ее недр по-прежнему остается недостижимо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лиже всех к этой цели подошли наши соотечественники, пробурившие Кольскую сверхглубокую скважину (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оектная глубина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15 километров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).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чало работ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в мае 1970 года.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880" y="2242440"/>
            <a:ext cx="464724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pl-PL" sz="219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                                   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8" name="" descr="Путешествие к центру земли, иллюстрация"/>
          <p:cNvPicPr/>
          <p:nvPr/>
        </p:nvPicPr>
        <p:blipFill>
          <a:blip r:embed="rId2"/>
          <a:stretch/>
        </p:blipFill>
        <p:spPr>
          <a:xfrm>
            <a:off x="108000" y="2219400"/>
            <a:ext cx="4895640" cy="398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0" y="6161040"/>
            <a:ext cx="5292720" cy="5806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спользовалась техника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: установка «Уралмаш 4Э»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грузоподъёмностью 200 тонн и легкосплавные трубы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36080"/>
            <a:ext cx="9144000" cy="64260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Через 5 лет, когда глубина скважины СГ-3 превысила 7 километров, смонтировали новую буровую установку «Уралмаш 15 000» – одну из самых современных по тем временам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1" name="" descr="Путешествие к центру земли, иллюстрация"/>
          <p:cNvPicPr/>
          <p:nvPr/>
        </p:nvPicPr>
        <p:blipFill>
          <a:blip r:embed="rId1"/>
          <a:stretch/>
        </p:blipFill>
        <p:spPr>
          <a:xfrm>
            <a:off x="395280" y="836640"/>
            <a:ext cx="6240600" cy="454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В июне 1990 года СГ-3 достигла глубины 12 262 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1994 году бурение Кольской сверхглубокой прекратили. Через 3 года она попала в Книгу рекордов Гиннесса и до сих пор остается непревзойдённой. Сейчас скважина представляет собой лабораторию для изучения глубоких недр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0920" y="329760"/>
            <a:ext cx="8713800" cy="648756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. Аралсорская СГ-1, Прикаспийская низменность, 1962-1971, глубина – 6,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2. Биикжальская СГ-2, Прикаспийская низменность, 1962-1971, глубина – 6,2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3. Кольская СГ-3, 1970-1994, глубина – 12 262 м. Проектная глубина – 15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4. Саатлинская, Азербайджан, 1977-1990, глубина – 8 324 м. Проектная глубина – 11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5. Колвинская, Архангельская область, 1961, глубина – 7 057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6. Мурунтауская СГ-10, Узбекистан, 1984, глубина – 3 км. Проектная глубина – 7 км. Поиск золот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7. Тимано-Печорская СГ-5, Северо-Восток России, 1984-1993, глубина – 6 904 м, проектная глубина – 7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. Тюменская СГ-6, Западная Сибирь, 1987-1996, глубина -7 502 м. Проектная глубина – 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9. Ново-Елховская, Татарстан, 1988, глубина – 5 881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0. Воротиловская скважина, Поволжье, 1989-1992, глубина – 5 374 м. Поиск алмазов, изучение Пучеж-Катункской астроблемы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1. Криворожская СГ-8, Украина, 1984-1993, глубина – 5 382 м. Проектная глубина – 12 км. Поиск железистых кварцитов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2. Уральская СГ-4, Средний Урал. Заложена в 1985 году. Проектная глубина – 15 000 м. Текущая глубина – 6 100 м. Поиск медных руд, изучение строения Урал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3. Ен-Яхтинская СГ-7, Западная Сибирь. Проектная глубина – 7 500 м. Текущая глубина – 6 900 м. Поиск нефти и газа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кважины на нефть и газ: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Начала 7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Юниверсити, США, глубина – 8 686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йден-Юнит, США, глубина – 9 159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рта-Роджерс, США, глубина – 9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Цистердорф, Австрия, глубина 8 55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ильян Ринг, Швеция, глубина – 6,8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игхорн, США, Вайоминг, глубина – 7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КТВ Hauptbohrung, Германия, 1990-1994, глубина – 9 100 м. Проектная глубина – 10 км. Научное бурение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31880" y="-270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1700"/>
                </a:solidFill>
                <a:latin typeface="Times New Roman"/>
              </a:rPr>
              <a:t>Самые глубокие скважины мира</a:t>
            </a:r>
            <a:r>
              <a:rPr b="0" lang="pl-PL" sz="1800" spc="-1" strike="noStrike">
                <a:solidFill>
                  <a:srgbClr val="2e17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12:23Z</dcterms:created>
  <dc:creator>Леонова</dc:creator>
  <dc:description/>
  <cp:keywords/>
  <dc:language>en-US</dc:language>
  <cp:lastModifiedBy>Леонова</cp:lastModifiedBy>
  <dcterms:modified xsi:type="dcterms:W3CDTF">2010-08-31T14:18:2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28000000000001024140</vt:lpwstr>
  </property>
  <property fmtid="{D5CDD505-2E9C-101B-9397-08002B2CF9AE}" pid="3" name="_TemplateID">
    <vt:lpwstr>TC010690641049</vt:lpwstr>
  </property>
</Properties>
</file>