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2.jpeg" ContentType="image/jpeg"/>
  <Override PartName="/ppt/media/image18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94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9.jpeg" ContentType="image/jpeg"/>
  <Override PartName="/ppt/media/image19.png" ContentType="image/pn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59.png" ContentType="image/png"/>
  <Override PartName="/ppt/media/image66.jpeg" ContentType="image/jpeg"/>
  <Override PartName="/ppt/media/image25.jpeg" ContentType="image/jpeg"/>
  <Override PartName="/ppt/media/image84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F68D-7B42-4E47-A65B-4F160897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32A-96DC-41CB-A0E7-640233E9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871-8212-4706-9801-BF75FEB1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A97-DC5D-4344-962F-B4C5651A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67C-F507-48C6-B2EB-71327B73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EAC-00C2-4447-A64C-D2352977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2BE-4E55-4C85-BAD2-2D5E8B12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A1F-1B56-4EED-8C6D-AD7C4248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C4C-6B39-480B-9BBD-BCE59C82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6ED-FD9C-4079-ABAE-9EE1ABEC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59D5-595C-49ED-8886-022EB3F9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185-24DE-4A41-925E-CC6A11E9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3128-FA10-4829-98AA-044C7F294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otoforum.ru/f/photo/000/038/38639_32.jpg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foto.nedoma.ru/data/500/15266copy-med.jpg" TargetMode="External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hyperlink" Target="http://10f.ru/data/images/5aa64c18c46a218267928b1cc5ed890b51407_standart.jpg" TargetMode="External"/><Relationship Id="rId5" Type="http://schemas.openxmlformats.org/officeDocument/2006/relationships/image" Target="../media/image66.jpeg"/><Relationship Id="rId6" Type="http://schemas.openxmlformats.org/officeDocument/2006/relationships/hyperlink" Target="http://static.diary.ru/userdir/1/7/3/5/173510/35906713.jpg" TargetMode="External"/><Relationship Id="rId7" Type="http://schemas.openxmlformats.org/officeDocument/2006/relationships/image" Target="../media/image67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1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2133720"/>
            <a:ext cx="6591240" cy="16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года и климат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40464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О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508640"/>
            <a:ext cx="33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8000" y="3935520"/>
            <a:ext cx="4357800" cy="2878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4210200" cy="2880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Картинка 3 из 125778"/>
          <p:cNvPicPr/>
          <p:nvPr/>
        </p:nvPicPr>
        <p:blipFill>
          <a:blip r:embed="rId3"/>
          <a:stretch/>
        </p:blipFill>
        <p:spPr>
          <a:xfrm>
            <a:off x="4713120" y="44280"/>
            <a:ext cx="4322880" cy="2881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Картинка 14 из 125778"/>
          <p:cNvPicPr/>
          <p:nvPr/>
        </p:nvPicPr>
        <p:blipFill>
          <a:blip r:embed="rId4"/>
          <a:stretch/>
        </p:blipFill>
        <p:spPr>
          <a:xfrm>
            <a:off x="98280" y="115920"/>
            <a:ext cx="3976920" cy="287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203640" y="189000"/>
            <a:ext cx="22827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71640" y="2060640"/>
            <a:ext cx="69134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о́лния — гигантский электрический искров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зряд в атмосфере, обычно происход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о время гроз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оявляется яркой вспышкой св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 сопровождающим её гром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Картинка 27 из 70634"/>
          <p:cNvPicPr/>
          <p:nvPr/>
        </p:nvPicPr>
        <p:blipFill>
          <a:blip r:embed="rId1"/>
          <a:stretch/>
        </p:blipFill>
        <p:spPr>
          <a:xfrm>
            <a:off x="4500720" y="44280"/>
            <a:ext cx="4643280" cy="2997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5400" y="115920"/>
            <a:ext cx="4189320" cy="2878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артинка 9 из 70634"/>
          <p:cNvPicPr/>
          <p:nvPr/>
        </p:nvPicPr>
        <p:blipFill>
          <a:blip r:embed="rId3"/>
          <a:stretch/>
        </p:blipFill>
        <p:spPr>
          <a:xfrm>
            <a:off x="92160" y="3933720"/>
            <a:ext cx="4408560" cy="2880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Картинка 39 из 70634"/>
          <p:cNvPicPr/>
          <p:nvPr/>
        </p:nvPicPr>
        <p:blipFill>
          <a:blip r:embed="rId4"/>
          <a:stretch/>
        </p:blipFill>
        <p:spPr>
          <a:xfrm>
            <a:off x="4572000" y="3935520"/>
            <a:ext cx="4484520" cy="2878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132000" y="189000"/>
            <a:ext cx="1751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раж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6000" y="1987560"/>
            <a:ext cx="648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ираж  — оптическое явление в атмосфер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то отражение света границей между рез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зными по плотности слоями воздух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763640" y="-27000"/>
            <a:ext cx="4829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мосферное давл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 нижнем слое атмосферы сосредоточено 9/10 массы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оздух лёгкий, однако он оказывает на все тела значительное д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авление воздуха на человека составляет 15 тонн, но мы его не чувствуем, потому что давление внутри тела его уравновеш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Атмосферное давление впервые было измерено прибором – ртутным бароме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ормальным принято считать атмосферное давление, которое поднимает ртуть на высоту 760 мм на уровне моря на параллели 45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при температуре 0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Атмосферное давление изменяется с высотой и зависит от температуры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Картинка 0 из 465998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70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1665360"/>
            <a:ext cx="4138560" cy="431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35640" y="333360"/>
            <a:ext cx="4357440" cy="4319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50920" y="404640"/>
            <a:ext cx="4000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тутный баромет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16360" y="5445000"/>
            <a:ext cx="4048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арометр анерои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Картинка 48 из 4659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44280"/>
            <a:ext cx="8893080" cy="677556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79280" y="260280"/>
            <a:ext cx="8784360" cy="6337080"/>
            <a:chOff x="179280" y="260280"/>
            <a:chExt cx="8784360" cy="6337080"/>
          </a:xfrm>
        </p:grpSpPr>
        <p:cxnSp>
          <p:nvCxnSpPr>
            <p:cNvPr id="109" name="_s15406"/>
            <p:cNvCxnSpPr>
              <a:stCxn id="110" idx="0"/>
              <a:endCxn id="111" idx="2"/>
            </p:cNvCxnSpPr>
            <p:nvPr/>
          </p:nvCxnSpPr>
          <p:spPr>
            <a:xfrm flipV="1">
              <a:off x="6940440" y="5643720"/>
              <a:ext cx="4680" cy="321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5404"/>
            <p:cNvCxnSpPr>
              <a:stCxn id="113" idx="0"/>
              <a:endCxn id="114" idx="2"/>
            </p:cNvCxnSpPr>
            <p:nvPr/>
          </p:nvCxnSpPr>
          <p:spPr>
            <a:xfrm flipV="1">
              <a:off x="2210400" y="5648040"/>
              <a:ext cx="4680" cy="31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5402"/>
            <p:cNvCxnSpPr>
              <a:stCxn id="111" idx="0"/>
              <a:endCxn id="116" idx="2"/>
            </p:cNvCxnSpPr>
            <p:nvPr/>
          </p:nvCxnSpPr>
          <p:spPr>
            <a:xfrm flipV="1">
              <a:off x="6940440" y="4697280"/>
              <a:ext cx="468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5400"/>
            <p:cNvCxnSpPr>
              <a:stCxn id="114" idx="0"/>
              <a:endCxn id="118" idx="2"/>
            </p:cNvCxnSpPr>
            <p:nvPr/>
          </p:nvCxnSpPr>
          <p:spPr>
            <a:xfrm flipV="1">
              <a:off x="2210400" y="4697280"/>
              <a:ext cx="468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5398"/>
            <p:cNvCxnSpPr>
              <a:stCxn id="116" idx="0"/>
              <a:endCxn id="120" idx="2"/>
            </p:cNvCxnSpPr>
            <p:nvPr/>
          </p:nvCxnSpPr>
          <p:spPr>
            <a:xfrm flipV="1">
              <a:off x="6940440" y="3748320"/>
              <a:ext cx="4680" cy="31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5396"/>
            <p:cNvCxnSpPr>
              <a:stCxn id="118" idx="0"/>
              <a:endCxn id="122" idx="2"/>
            </p:cNvCxnSpPr>
            <p:nvPr/>
          </p:nvCxnSpPr>
          <p:spPr>
            <a:xfrm flipV="1">
              <a:off x="2210400" y="3748320"/>
              <a:ext cx="4680" cy="31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5394"/>
            <p:cNvCxnSpPr>
              <a:stCxn id="122" idx="0"/>
              <a:endCxn id="124" idx="2"/>
            </p:cNvCxnSpPr>
            <p:nvPr/>
          </p:nvCxnSpPr>
          <p:spPr>
            <a:xfrm flipV="1">
              <a:off x="2210400" y="2795400"/>
              <a:ext cx="4680" cy="31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5392"/>
            <p:cNvCxnSpPr>
              <a:stCxn id="120" idx="0"/>
              <a:endCxn id="126" idx="2"/>
            </p:cNvCxnSpPr>
            <p:nvPr/>
          </p:nvCxnSpPr>
          <p:spPr>
            <a:xfrm flipV="1">
              <a:off x="6940440" y="2795400"/>
              <a:ext cx="4680" cy="31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5387"/>
            <p:cNvCxnSpPr>
              <a:stCxn id="124" idx="0"/>
              <a:endCxn id="128" idx="2"/>
            </p:cNvCxnSpPr>
            <p:nvPr/>
          </p:nvCxnSpPr>
          <p:spPr>
            <a:xfrm flipV="1" rot="16200000">
              <a:off x="2050560" y="1999800"/>
              <a:ext cx="315360" cy="4680"/>
            </a:xfrm>
            <a:prstGeom prst="bentConnector3">
              <a:avLst>
                <a:gd name="adj1" fmla="val 499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5382"/>
            <p:cNvCxnSpPr>
              <a:stCxn id="126" idx="0"/>
              <a:endCxn id="130" idx="2"/>
            </p:cNvCxnSpPr>
            <p:nvPr/>
          </p:nvCxnSpPr>
          <p:spPr>
            <a:xfrm flipV="1" rot="16200000">
              <a:off x="6780600" y="1999800"/>
              <a:ext cx="315360" cy="4680"/>
            </a:xfrm>
            <a:prstGeom prst="bentConnector3">
              <a:avLst>
                <a:gd name="adj1" fmla="val 499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15372"/>
            <p:cNvCxnSpPr>
              <a:stCxn id="130" idx="0"/>
              <a:endCxn id="132" idx="2"/>
            </p:cNvCxnSpPr>
            <p:nvPr/>
          </p:nvCxnSpPr>
          <p:spPr>
            <a:xfrm flipV="1" rot="16200000">
              <a:off x="5592600" y="-130680"/>
              <a:ext cx="321840" cy="2366280"/>
            </a:xfrm>
            <a:prstGeom prst="bentConnector3">
              <a:avLst>
                <a:gd name="adj1" fmla="val 493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15370"/>
            <p:cNvCxnSpPr>
              <a:stCxn id="128" idx="0"/>
              <a:endCxn id="132" idx="2"/>
            </p:cNvCxnSpPr>
            <p:nvPr/>
          </p:nvCxnSpPr>
          <p:spPr>
            <a:xfrm flipH="1" flipV="1" rot="5400000">
              <a:off x="3227760" y="-129960"/>
              <a:ext cx="321840" cy="2365200"/>
            </a:xfrm>
            <a:prstGeom prst="bentConnector3">
              <a:avLst>
                <a:gd name="adj1" fmla="val 493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2" name="_s15366"/>
            <p:cNvSpPr/>
            <p:nvPr/>
          </p:nvSpPr>
          <p:spPr>
            <a:xfrm>
              <a:off x="2543760" y="260280"/>
              <a:ext cx="405432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9900"/>
                  </a:solidFill>
                  <a:latin typeface="Arial"/>
                </a:rPr>
                <a:t>Источник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9900"/>
                  </a:solidFill>
                  <a:latin typeface="Arial"/>
                </a:rPr>
                <a:t>загрязнения атмосфе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5367"/>
            <p:cNvSpPr/>
            <p:nvPr/>
          </p:nvSpPr>
          <p:spPr>
            <a:xfrm>
              <a:off x="179280" y="1211040"/>
              <a:ext cx="405432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Естестве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5369"/>
            <p:cNvSpPr/>
            <p:nvPr/>
          </p:nvSpPr>
          <p:spPr>
            <a:xfrm>
              <a:off x="4909320" y="1211040"/>
              <a:ext cx="405432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Искусствен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(антропогенные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5381"/>
            <p:cNvSpPr/>
            <p:nvPr/>
          </p:nvSpPr>
          <p:spPr>
            <a:xfrm>
              <a:off x="4913640" y="216180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Промышленные предприят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(фабрики и заводы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5385"/>
            <p:cNvSpPr/>
            <p:nvPr/>
          </p:nvSpPr>
          <p:spPr>
            <a:xfrm>
              <a:off x="183240" y="216180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Пыльные бур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5390"/>
            <p:cNvSpPr/>
            <p:nvPr/>
          </p:nvSpPr>
          <p:spPr>
            <a:xfrm>
              <a:off x="4913640" y="311292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Транспор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5393"/>
            <p:cNvSpPr/>
            <p:nvPr/>
          </p:nvSpPr>
          <p:spPr>
            <a:xfrm>
              <a:off x="183240" y="311292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Вулканиз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5395"/>
            <p:cNvSpPr/>
            <p:nvPr/>
          </p:nvSpPr>
          <p:spPr>
            <a:xfrm>
              <a:off x="183240" y="406368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Лесные пожа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5397"/>
            <p:cNvSpPr/>
            <p:nvPr/>
          </p:nvSpPr>
          <p:spPr>
            <a:xfrm>
              <a:off x="4913640" y="406368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Теплоэнерге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5399"/>
            <p:cNvSpPr/>
            <p:nvPr/>
          </p:nvSpPr>
          <p:spPr>
            <a:xfrm>
              <a:off x="183240" y="501444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Выветр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5401"/>
            <p:cNvSpPr/>
            <p:nvPr/>
          </p:nvSpPr>
          <p:spPr>
            <a:xfrm>
              <a:off x="4913640" y="5014440"/>
              <a:ext cx="4050000" cy="631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Космические корабли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самолё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5403"/>
            <p:cNvSpPr/>
            <p:nvPr/>
          </p:nvSpPr>
          <p:spPr>
            <a:xfrm>
              <a:off x="183240" y="5965560"/>
              <a:ext cx="4050000" cy="631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Разлож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умерших организм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5405"/>
            <p:cNvSpPr/>
            <p:nvPr/>
          </p:nvSpPr>
          <p:spPr>
            <a:xfrm>
              <a:off x="4913640" y="5965560"/>
              <a:ext cx="4050000" cy="631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Отопление жили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876480" cy="2881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35400" y="115920"/>
            <a:ext cx="3829320" cy="2878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8000" y="3865680"/>
            <a:ext cx="3806640" cy="2876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Картинка 4 из 1569"/>
          <p:cNvPicPr/>
          <p:nvPr/>
        </p:nvPicPr>
        <p:blipFill>
          <a:blip r:embed="rId4"/>
          <a:stretch/>
        </p:blipFill>
        <p:spPr>
          <a:xfrm>
            <a:off x="5219640" y="3863880"/>
            <a:ext cx="3846600" cy="2878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Z000-0940"/>
          <p:cNvPicPr/>
          <p:nvPr/>
        </p:nvPicPr>
        <p:blipFill>
          <a:blip r:embed="rId5"/>
          <a:stretch/>
        </p:blipFill>
        <p:spPr>
          <a:xfrm>
            <a:off x="2556000" y="2276640"/>
            <a:ext cx="3876480" cy="2877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124000" y="44280"/>
            <a:ext cx="4464000" cy="9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стественные загрязнени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068640"/>
            <a:ext cx="230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ыльные бу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. Лесные пож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16720" y="306864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. Вулка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. Выветр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530064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. Разложение умерши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26028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630864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0360" y="234936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04360" y="630864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459640" y="260280"/>
            <a:ext cx="287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3816360" cy="2878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148360" y="44280"/>
            <a:ext cx="3887640" cy="2881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08000" y="3863880"/>
            <a:ext cx="3836880" cy="2878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219640" y="3863880"/>
            <a:ext cx="3816360" cy="287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843280" y="1916280"/>
            <a:ext cx="3587760" cy="2877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484360" y="189000"/>
            <a:ext cx="4438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нтропогенные загрязнени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97360"/>
            <a:ext cx="2771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Фабрики, за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. Теплоэнерг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299736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. 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. Самолё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4941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. Отопление жил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8900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638172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87640" y="1989000"/>
            <a:ext cx="28728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604360" y="6308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532720" y="18900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Картинка 8 из 101434"/>
          <p:cNvPicPr/>
          <p:nvPr/>
        </p:nvPicPr>
        <p:blipFill>
          <a:blip r:embed="rId1"/>
          <a:stretch/>
        </p:blipFill>
        <p:spPr>
          <a:xfrm>
            <a:off x="108000" y="386244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03760" y="3863880"/>
            <a:ext cx="4260960" cy="2878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Картинка 4 из 101434"/>
          <p:cNvPicPr/>
          <p:nvPr/>
        </p:nvPicPr>
        <p:blipFill>
          <a:blip r:embed="rId3"/>
          <a:stretch/>
        </p:blipFill>
        <p:spPr>
          <a:xfrm>
            <a:off x="108000" y="117360"/>
            <a:ext cx="4103640" cy="2917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Картинка 6 из 101434"/>
          <p:cNvPicPr/>
          <p:nvPr/>
        </p:nvPicPr>
        <p:blipFill>
          <a:blip r:embed="rId4"/>
          <a:stretch/>
        </p:blipFill>
        <p:spPr>
          <a:xfrm>
            <a:off x="4653000" y="189000"/>
            <a:ext cx="4311720" cy="2878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3276720" y="44280"/>
            <a:ext cx="1942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мо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66920" y="1989000"/>
            <a:ext cx="44658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ядовитый туман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стоящий из дыма, пыл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паров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3825720" cy="2878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Картинка 7 из 4818"/>
          <p:cNvPicPr/>
          <p:nvPr/>
        </p:nvPicPr>
        <p:blipFill>
          <a:blip r:embed="rId2"/>
          <a:stretch/>
        </p:blipFill>
        <p:spPr>
          <a:xfrm>
            <a:off x="108000" y="3933720"/>
            <a:ext cx="4032360" cy="2880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716360" y="3933720"/>
            <a:ext cx="4332240" cy="2878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Картинка 28 из 4818"/>
          <p:cNvPicPr/>
          <p:nvPr/>
        </p:nvPicPr>
        <p:blipFill>
          <a:blip r:embed="rId4"/>
          <a:stretch/>
        </p:blipFill>
        <p:spPr>
          <a:xfrm>
            <a:off x="5199120" y="44280"/>
            <a:ext cx="3836880" cy="2880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2050920" y="189000"/>
            <a:ext cx="505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ологический контро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763640" y="1916280"/>
            <a:ext cx="4896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сновными задача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кологического контрол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являются наблюдение 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остоянием окружающе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родной среды и е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менением под влияни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хозяйственной дея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ело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5394240" cy="3600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621240" y="3214800"/>
            <a:ext cx="5487840" cy="3598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олнечная радиация нагревает земную поверхность, т. е. поверхность воды и с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Условия нагревания воды и суши весьма различ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Теплоемкость воды в два раза больше теплоемкости пород, слагающих суш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Это значит, что при одинаковом количестве тепла суша нагревается вдвое сильнее воды, при охлаждении соотношение обра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Кроме того, вода при нагревании испаряется, на что затрачивается немалое количество теп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На суше тепло сосредоточивается только в верхнем слое, лишь небольшая его часть передается в глуб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 воде же лучи пронизывают и нагревают сразу значительную тол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На еще большую глубину тепло передается вертикальным перемешиванием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 результате вода накапливает тепла гораздо больше, чем суша, удерживает его дольше и расходует равномер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Она медленнее нагревается и охлажд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340000" y="44280"/>
            <a:ext cx="4295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пература возду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480" y="979560"/>
            <a:ext cx="5833800" cy="5834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727680" y="3241800"/>
            <a:ext cx="2381400" cy="3571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692360" y="189000"/>
            <a:ext cx="1485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год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920" y="1557360"/>
            <a:ext cx="4897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состояние атмосф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данный момент времен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данном мес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2920" y="3151080"/>
            <a:ext cx="2867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еоролог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26920" y="4797360"/>
            <a:ext cx="338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древняя нау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 погод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flipV="1">
            <a:off x="971640" y="333360"/>
            <a:ext cx="0" cy="568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41497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836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908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0836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8944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4005360"/>
            <a:ext cx="28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47640" y="4005360"/>
            <a:ext cx="28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465300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486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558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4291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4005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414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342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2708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198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1268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549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32846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360" y="25653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0360" y="184464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1640" y="1108080"/>
            <a:ext cx="8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3873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40000" y="3357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19640" y="3357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1916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0000" y="476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00720" y="2637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692360" y="3429000"/>
            <a:ext cx="71892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411280" y="1989000"/>
            <a:ext cx="72072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132000" y="476280"/>
            <a:ext cx="71928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51280" y="549360"/>
            <a:ext cx="720720" cy="215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2708280"/>
            <a:ext cx="72072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69236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3429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11280" y="3500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198900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32000" y="206064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4936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620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87280" y="270828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27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4360" y="3429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92720" y="3500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0" y="115920"/>
            <a:ext cx="439272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Изменение температу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воздуха в течение су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2000" y="1268280"/>
            <a:ext cx="295272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Суточная амплитуда температуры воздух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это разница между самой высокой и самой низкой температурой воздуха в течение су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Среднесуточная темпер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среднее арифметическое температур в течение одних су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ебания температуры воздуха зависят от угла падения солнечных лу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56000" y="5213520"/>
            <a:ext cx="3114720" cy="1600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61928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Картинка 12 из 2559"/>
          <p:cNvPicPr/>
          <p:nvPr/>
        </p:nvPicPr>
        <p:blipFill>
          <a:blip r:embed="rId1"/>
          <a:stretch/>
        </p:blipFill>
        <p:spPr>
          <a:xfrm>
            <a:off x="34920" y="3935520"/>
            <a:ext cx="4176720" cy="2878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Картинка 7 из 46226"/>
          <p:cNvPicPr/>
          <p:nvPr/>
        </p:nvPicPr>
        <p:blipFill>
          <a:blip r:embed="rId2"/>
          <a:stretch/>
        </p:blipFill>
        <p:spPr>
          <a:xfrm>
            <a:off x="4797360" y="44280"/>
            <a:ext cx="4311720" cy="2880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Картинка 16 из 46226"/>
          <p:cNvPicPr/>
          <p:nvPr/>
        </p:nvPicPr>
        <p:blipFill>
          <a:blip r:embed="rId3"/>
          <a:stretch/>
        </p:blipFill>
        <p:spPr>
          <a:xfrm>
            <a:off x="34920" y="44280"/>
            <a:ext cx="4105440" cy="2880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Картинка 54 из 46226"/>
          <p:cNvPicPr/>
          <p:nvPr/>
        </p:nvPicPr>
        <p:blipFill>
          <a:blip r:embed="rId4"/>
          <a:stretch/>
        </p:blipFill>
        <p:spPr>
          <a:xfrm>
            <a:off x="4859280" y="3933720"/>
            <a:ext cx="4249800" cy="2880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250920" y="1484280"/>
            <a:ext cx="8415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нашей области наблюдает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нтереснейшее явление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елые ноч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ни возможны в тех широтах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де полуденная высота солн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д горизонт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еньше 18 граду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Картинка 39 из 392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916280"/>
            <a:ext cx="3673440" cy="4897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219640" y="44280"/>
            <a:ext cx="3816360" cy="2864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Картинка 145 из 1705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9280" y="3013200"/>
            <a:ext cx="5076720" cy="3800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79280" y="115920"/>
            <a:ext cx="5122800" cy="23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22 июня - самый длинный день в год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Солнце занимает сам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высокое положение - д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летнего солнцестоян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22 декабря - самый короткий день в год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Солнце занимает самое низкое полож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pic>
        <p:nvPicPr>
          <p:cNvPr id="237" name="" descr="Картинка 170 из 3927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2565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72720" cy="6813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Горизонтальное перемещение воздуха называется вет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Оно обусловлено неодинаковым атмосферным давлением в разных точках земн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оздух остается в покое до тех пор, пока давление на данном участке атмосферы распределяется более или менее равном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о стоит давлению на каком-либо участке увеличиться или уменьшиться, как воздух потечет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т места большего давления в сторону меньш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Устойчивого равновесия в атмосфере почти никогда не существует, поэтому ветры наблюдаются постоя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Равновесие атмосферы нарушается по различным причинам, главной из них является неодинаковое нагревание земной поверхности и различие температур на разных участ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203640" y="-100080"/>
            <a:ext cx="180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те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Картинка 2 из 43"/>
          <p:cNvPicPr/>
          <p:nvPr/>
        </p:nvPicPr>
        <p:blipFill>
          <a:blip r:embed="rId1"/>
          <a:stretch/>
        </p:blipFill>
        <p:spPr>
          <a:xfrm>
            <a:off x="539640" y="1557360"/>
            <a:ext cx="8136000" cy="4795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3132000" y="189000"/>
            <a:ext cx="55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емещение воздушных мас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д земной поверхность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773440" y="4295880"/>
            <a:ext cx="3274920" cy="2517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012000" y="4278240"/>
            <a:ext cx="3073320" cy="2517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73080" y="4292640"/>
            <a:ext cx="3203640" cy="25192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407664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оздух нагревается над су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Тёплый воздух расширяется, его давление уменьшается, он становится лёгким и поднимается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Его место занимает более холодный и тяжёлый воздух со стороны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тмосферный фронт – столкновение тёплых и холодных воздушных м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84240" y="85680"/>
            <a:ext cx="2832120" cy="16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5859360" cy="33228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3025800" y="3494160"/>
            <a:ext cx="6010200" cy="33195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427640" y="476280"/>
            <a:ext cx="43783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невной бри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ует с озера на суш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3429000"/>
            <a:ext cx="439236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очной бри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ует с суши на озе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08000" y="3398760"/>
            <a:ext cx="4464000" cy="3343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8000" y="60480"/>
            <a:ext cx="4392720" cy="3274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5292720" y="0"/>
            <a:ext cx="178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икло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00720" y="1341000"/>
            <a:ext cx="4572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Вихревое движение воздух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С пониженным давлением в цент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Приближение циклона к пасмурной 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5796000" y="44280"/>
            <a:ext cx="2428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нтицикло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500720" cy="3360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Картинка 5 из 1257"/>
          <p:cNvPicPr/>
          <p:nvPr/>
        </p:nvPicPr>
        <p:blipFill>
          <a:blip r:embed="rId2"/>
          <a:stretch/>
        </p:blipFill>
        <p:spPr>
          <a:xfrm>
            <a:off x="71280" y="3435480"/>
            <a:ext cx="4500720" cy="33782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859280" y="1413000"/>
            <a:ext cx="410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Вихревое движение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С повышенным давлением в цент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Повышение давления к хорошей 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419280" y="1341000"/>
            <a:ext cx="5724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оздух нижних частей атмосферы всегда содержит некоторое количество влаги в виде водяного п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лажность воздуха — это содержание в нем водяного п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При достаточном поступлении влаги в атмосферу влажность зависит от температуры возд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Чем выше температура воздуха, тем больше водяного пара он может вмест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Так, 1 куб.м воздуха при температуре 30 °С может содержать 30 г водяного пара, при 20 °С—17,3 г; при 10 °С — 9,4; при 0 °С — 4,8; при -10 °С — 2,3; при —20 °С — 1,1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Поэтому ход влажности параллелен ходу темп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Обычно она больше днем, чем ноч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 течение года максимум влажности приходится на летние месяцы, минимум — на зим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 низких широтах влажность больше, чем в средних и высо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лажность воздуха измеряется приборами гигрометрами и психроме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С понижением температуры водяной пар превращается в туман или обл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Картинка 1 из 7494"/>
          <p:cNvPicPr/>
          <p:nvPr/>
        </p:nvPicPr>
        <p:blipFill>
          <a:blip r:embed="rId1"/>
          <a:stretch/>
        </p:blipFill>
        <p:spPr>
          <a:xfrm>
            <a:off x="96840" y="123840"/>
            <a:ext cx="2819520" cy="38098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Картинка 37 из 7494"/>
          <p:cNvPicPr/>
          <p:nvPr/>
        </p:nvPicPr>
        <p:blipFill>
          <a:blip r:embed="rId2"/>
          <a:stretch/>
        </p:blipFill>
        <p:spPr>
          <a:xfrm>
            <a:off x="108000" y="4033800"/>
            <a:ext cx="2808360" cy="2779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140360" y="44280"/>
            <a:ext cx="394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лажность возду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4920" y="115920"/>
            <a:ext cx="5051520" cy="6669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5867280" y="189000"/>
            <a:ext cx="187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ла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5148000" y="1341000"/>
            <a:ext cx="3816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Облака располагаются на разной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Имеют разную фор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По ним можно предсказать по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Картинка 5 из 893"/>
          <p:cNvPicPr/>
          <p:nvPr/>
        </p:nvPicPr>
        <p:blipFill>
          <a:blip r:embed="rId1"/>
          <a:stretch/>
        </p:blipFill>
        <p:spPr>
          <a:xfrm>
            <a:off x="108000" y="115920"/>
            <a:ext cx="2130480" cy="3238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Картинка 11 из 893"/>
          <p:cNvPicPr/>
          <p:nvPr/>
        </p:nvPicPr>
        <p:blipFill>
          <a:blip r:embed="rId2"/>
          <a:stretch/>
        </p:blipFill>
        <p:spPr>
          <a:xfrm>
            <a:off x="4751280" y="3525840"/>
            <a:ext cx="4314960" cy="3238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Картинка 20 из 893"/>
          <p:cNvPicPr/>
          <p:nvPr/>
        </p:nvPicPr>
        <p:blipFill>
          <a:blip r:embed="rId3"/>
          <a:stretch/>
        </p:blipFill>
        <p:spPr>
          <a:xfrm>
            <a:off x="6300720" y="115920"/>
            <a:ext cx="2422440" cy="324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Картинка 52 из 893"/>
          <p:cNvPicPr/>
          <p:nvPr/>
        </p:nvPicPr>
        <p:blipFill>
          <a:blip r:embed="rId4"/>
          <a:stretch/>
        </p:blipFill>
        <p:spPr>
          <a:xfrm>
            <a:off x="108000" y="357516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187280" y="189000"/>
            <a:ext cx="5820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еорологические станц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" descr="Картинка 6 из 893"/>
          <p:cNvPicPr/>
          <p:nvPr/>
        </p:nvPicPr>
        <p:blipFill>
          <a:blip r:embed="rId5"/>
          <a:stretch/>
        </p:blipFill>
        <p:spPr>
          <a:xfrm>
            <a:off x="2843280" y="3087720"/>
            <a:ext cx="284796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979640" y="1484280"/>
            <a:ext cx="4680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ставляют прогноз погод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слушаем прогно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годы,но...сбывается 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 всег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Картинка 131 из 1068"/>
          <p:cNvPicPr/>
          <p:nvPr/>
        </p:nvPicPr>
        <p:blipFill>
          <a:blip r:embed="rId1"/>
          <a:stretch/>
        </p:blipFill>
        <p:spPr>
          <a:xfrm>
            <a:off x="142920" y="115920"/>
            <a:ext cx="8893080" cy="66736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2033640" y="2133720"/>
            <a:ext cx="5346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из кристалликов льда)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являются за сут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о выпадения осад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Картинка 59 из 817"/>
          <p:cNvPicPr/>
          <p:nvPr/>
        </p:nvPicPr>
        <p:blipFill>
          <a:blip r:embed="rId1"/>
          <a:stretch/>
        </p:blipFill>
        <p:spPr>
          <a:xfrm>
            <a:off x="108000" y="3429000"/>
            <a:ext cx="4535280" cy="33354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Картинка 67 из 817"/>
          <p:cNvPicPr/>
          <p:nvPr/>
        </p:nvPicPr>
        <p:blipFill>
          <a:blip r:embed="rId2"/>
          <a:stretch/>
        </p:blipFill>
        <p:spPr>
          <a:xfrm>
            <a:off x="4643280" y="3429000"/>
            <a:ext cx="4448160" cy="33354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Картинка 102 из 817"/>
          <p:cNvPicPr/>
          <p:nvPr/>
        </p:nvPicPr>
        <p:blipFill>
          <a:blip r:embed="rId3"/>
          <a:stretch/>
        </p:blipFill>
        <p:spPr>
          <a:xfrm>
            <a:off x="115920" y="115920"/>
            <a:ext cx="4527360" cy="3336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Картинка 123 из 817"/>
          <p:cNvPicPr/>
          <p:nvPr/>
        </p:nvPicPr>
        <p:blipFill>
          <a:blip r:embed="rId4"/>
          <a:stretch/>
        </p:blipFill>
        <p:spPr>
          <a:xfrm>
            <a:off x="4643280" y="115920"/>
            <a:ext cx="4427640" cy="33354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2268360" y="2492280"/>
            <a:ext cx="447048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учевые облака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носят ливн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сад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Картинка 10 из 261"/>
          <p:cNvPicPr/>
          <p:nvPr/>
        </p:nvPicPr>
        <p:blipFill>
          <a:blip r:embed="rId1"/>
          <a:stretch/>
        </p:blipFill>
        <p:spPr>
          <a:xfrm>
            <a:off x="3995640" y="73080"/>
            <a:ext cx="5077080" cy="32846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Картинка 138 из 261"/>
          <p:cNvPicPr/>
          <p:nvPr/>
        </p:nvPicPr>
        <p:blipFill>
          <a:blip r:embed="rId2"/>
          <a:stretch/>
        </p:blipFill>
        <p:spPr>
          <a:xfrm>
            <a:off x="103320" y="73080"/>
            <a:ext cx="4324320" cy="3284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Картинка 94 из 261"/>
          <p:cNvPicPr/>
          <p:nvPr/>
        </p:nvPicPr>
        <p:blipFill>
          <a:blip r:embed="rId3"/>
          <a:stretch/>
        </p:blipFill>
        <p:spPr>
          <a:xfrm>
            <a:off x="71280" y="3357720"/>
            <a:ext cx="4645080" cy="3409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Картинка 84 из 261"/>
          <p:cNvPicPr/>
          <p:nvPr/>
        </p:nvPicPr>
        <p:blipFill>
          <a:blip r:embed="rId4"/>
          <a:stretch/>
        </p:blipFill>
        <p:spPr>
          <a:xfrm>
            <a:off x="4356000" y="3357720"/>
            <a:ext cx="4700520" cy="3408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1619280" y="2492280"/>
            <a:ext cx="582444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лоистые облака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носят долговремен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садки (морось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Картинка 5 из 321715"/>
          <p:cNvPicPr/>
          <p:nvPr/>
        </p:nvPicPr>
        <p:blipFill>
          <a:blip r:embed="rId1"/>
          <a:stretch/>
        </p:blipFill>
        <p:spPr>
          <a:xfrm>
            <a:off x="108000" y="3357720"/>
            <a:ext cx="5103720" cy="3409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567320" y="3429000"/>
            <a:ext cx="4541760" cy="3357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575240" y="115920"/>
            <a:ext cx="4533840" cy="3408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108000" y="92160"/>
            <a:ext cx="4545000" cy="34081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5183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 понижением температуры водяной пар превращается в туман или обл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апельки и кристаллы облаков при определенных условиях укрупняются и достигают такой величины, что могут преодолеть восходящие токи и сопротивление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таком случае выпадают атмосферные осадки, главным образом дождь и снег, иногда морось, крупа, гр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Дождь состоит из капель диаметром 0,5 мм и 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Морось имеет мелкие капли, диаметром не более 0,5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нег — твердые осадки в виде ледяных кристаллов различной формы. Он образуется при низких температурах. Падая, особенно в теплую (около 0 °С) погоду, снежинки соединяются в хлопья. Снегопады приводят к возникновению снежного пок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рупа выпадает преимущественно весной и осенью при температурах, близких к нулю. Она имеет вид округлых ядрышек, или мягких (снежная крупа), или твердых с белым ядром (ледяная круп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195640" y="-100080"/>
            <a:ext cx="4438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мосферные осад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се погодные явления взаимосвяз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зменчивость погоды на Земле завис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т количества солнечного теп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т рельефа: горы, море, равн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т движения воздушных масс: циклонов и антицикл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лимат – многолетний режим по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Главные компоненты, определяющие климат – температура воздуха и атмосферное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о этим характеристикам земной шар разделён на крупные климатические з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641760" y="44280"/>
            <a:ext cx="17938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има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Картинка 13 из 1568081"/>
          <p:cNvPicPr/>
          <p:nvPr/>
        </p:nvPicPr>
        <p:blipFill>
          <a:blip r:embed="rId1"/>
          <a:stretch/>
        </p:blipFill>
        <p:spPr>
          <a:xfrm>
            <a:off x="108000" y="92160"/>
            <a:ext cx="4541760" cy="3408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Картинка 16 из 389759"/>
          <p:cNvPicPr/>
          <p:nvPr/>
        </p:nvPicPr>
        <p:blipFill>
          <a:blip r:embed="rId2"/>
          <a:stretch/>
        </p:blipFill>
        <p:spPr>
          <a:xfrm>
            <a:off x="108000" y="3357720"/>
            <a:ext cx="4552920" cy="34081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Картинка 16 из 964401"/>
          <p:cNvPicPr/>
          <p:nvPr/>
        </p:nvPicPr>
        <p:blipFill>
          <a:blip r:embed="rId3"/>
          <a:stretch/>
        </p:blipFill>
        <p:spPr>
          <a:xfrm>
            <a:off x="4494240" y="71280"/>
            <a:ext cx="4541760" cy="33577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Картинка 27 из 528421"/>
          <p:cNvPicPr/>
          <p:nvPr/>
        </p:nvPicPr>
        <p:blipFill>
          <a:blip r:embed="rId4"/>
          <a:stretch/>
        </p:blipFill>
        <p:spPr>
          <a:xfrm>
            <a:off x="4500720" y="3333600"/>
            <a:ext cx="4535280" cy="34084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5092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Западная часть Ленинградской области находится под сильным влиянием Атлантического 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осточные районы удалены от моря на значительное 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аш климат – атлантико-континент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Тип погоды в области определяют ве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огодные условия и климат позволяют нам видеть все четыре времени года: лето, осень, зиму и вес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Картинка 1 из 364"/>
          <p:cNvPicPr/>
          <p:nvPr/>
        </p:nvPicPr>
        <p:blipFill>
          <a:blip r:embed="rId1"/>
          <a:stretch/>
        </p:blipFill>
        <p:spPr>
          <a:xfrm>
            <a:off x="6732720" y="3003480"/>
            <a:ext cx="2257200" cy="381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Картинка 6 из 364"/>
          <p:cNvPicPr/>
          <p:nvPr/>
        </p:nvPicPr>
        <p:blipFill>
          <a:blip r:embed="rId2"/>
          <a:stretch/>
        </p:blipFill>
        <p:spPr>
          <a:xfrm>
            <a:off x="114480" y="30034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Картинка 11 из 364"/>
          <p:cNvPicPr/>
          <p:nvPr/>
        </p:nvPicPr>
        <p:blipFill>
          <a:blip r:embed="rId3"/>
          <a:stretch/>
        </p:blipFill>
        <p:spPr>
          <a:xfrm>
            <a:off x="108000" y="115920"/>
            <a:ext cx="3743280" cy="269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Картинка 2 из 364"/>
          <p:cNvPicPr/>
          <p:nvPr/>
        </p:nvPicPr>
        <p:blipFill>
          <a:blip r:embed="rId4"/>
          <a:stretch/>
        </p:blipFill>
        <p:spPr>
          <a:xfrm>
            <a:off x="3780000" y="4221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80000" y="1193760"/>
            <a:ext cx="38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Спутники  несут на борту прибо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с помощью которых наблюдают за температурой поверхности Земли и облачным, снеговым и ледовым покро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00720" y="-27000"/>
            <a:ext cx="3124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еоспутни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Картинка 4 из 364"/>
          <p:cNvPicPr/>
          <p:nvPr/>
        </p:nvPicPr>
        <p:blipFill>
          <a:blip r:embed="rId1"/>
          <a:stretch/>
        </p:blipFill>
        <p:spPr>
          <a:xfrm>
            <a:off x="5867280" y="4653000"/>
            <a:ext cx="3025800" cy="201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40 из 364"/>
          <p:cNvPicPr/>
          <p:nvPr/>
        </p:nvPicPr>
        <p:blipFill>
          <a:blip r:embed="rId2"/>
          <a:stretch/>
        </p:blipFill>
        <p:spPr>
          <a:xfrm>
            <a:off x="108000" y="4672080"/>
            <a:ext cx="3672000" cy="2070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Первый российский метеоспутник нового поколения «Метеор-М», а также микроспутник «БЛИЦ» выведены на орби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Спутник предназначен для оперативного получения прогнозов погоды, контроля и прогноза радиационной обстановки, контроля озонового слоя, а также для мониторинга морской поверхности, включая ледовую обстановку, для обеспечения судоходства в полярных рай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067280" y="4653000"/>
            <a:ext cx="1492200" cy="20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Картинка 10 из 1858"/>
          <p:cNvPicPr/>
          <p:nvPr/>
        </p:nvPicPr>
        <p:blipFill>
          <a:blip r:embed="rId1"/>
          <a:stretch/>
        </p:blipFill>
        <p:spPr>
          <a:xfrm>
            <a:off x="142920" y="115920"/>
            <a:ext cx="8893080" cy="6673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Картинка 27 из 6443"/>
          <p:cNvPicPr/>
          <p:nvPr/>
        </p:nvPicPr>
        <p:blipFill>
          <a:blip r:embed="rId2"/>
          <a:stretch/>
        </p:blipFill>
        <p:spPr>
          <a:xfrm>
            <a:off x="108000" y="2943360"/>
            <a:ext cx="6767640" cy="3798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547640" y="189000"/>
            <a:ext cx="2267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мосфе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1557360"/>
            <a:ext cx="46465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часть воздуш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кеана, состоящая из газ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зы воздуха бесцвет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333360"/>
            <a:ext cx="3240360" cy="57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Смесь азота и кислорода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необходима для дыхания. Чистый кислород вызывает отр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Небольшое количество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углекислого газа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задерживает тепло в атмо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Водяные пары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регулируют климат на Земле. Они охлаждаются и выпадают на землю в виде осад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5113440" cy="5616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324000" y="115920"/>
            <a:ext cx="4390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оение атмосфер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859280" y="189000"/>
          <a:ext cx="4249800" cy="6642000"/>
        </p:xfrm>
        <a:graphic>
          <a:graphicData uri="http://schemas.openxmlformats.org/drawingml/2006/table">
            <a:tbl>
              <a:tblPr/>
              <a:tblGrid>
                <a:gridCol w="2125800"/>
                <a:gridCol w="21240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роп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18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годные явления, с высотой пониж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рат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 5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копление озона, повыш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з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 8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ниж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ерм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ыше 8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выш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7480" y="44280"/>
            <a:ext cx="4484520" cy="6743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67400" y="44280"/>
            <a:ext cx="4441680" cy="674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484360" y="189000"/>
            <a:ext cx="39276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лярное сия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87280" y="1700280"/>
            <a:ext cx="6624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свечение верхних слоё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тмосферы при их взаимодейств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 заряженными частиц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лнечного вет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716360" y="115920"/>
            <a:ext cx="4326120" cy="3240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8000" y="3502080"/>
            <a:ext cx="4357800" cy="324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9440" y="117360"/>
            <a:ext cx="4318200" cy="324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Картинка 40 из 72333"/>
          <p:cNvPicPr/>
          <p:nvPr/>
        </p:nvPicPr>
        <p:blipFill>
          <a:blip r:embed="rId4"/>
          <a:stretch/>
        </p:blipFill>
        <p:spPr>
          <a:xfrm>
            <a:off x="4716360" y="3500280"/>
            <a:ext cx="4314960" cy="3238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203640" y="260280"/>
            <a:ext cx="216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дуг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16000" y="2205000"/>
            <a:ext cx="6769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дуга возникает из-за тог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что солнечный свет испытывае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ломление 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пельках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3:08:02Z</dcterms:created>
  <dc:creator>Бочкова И.А.</dc:creator>
  <dc:description/>
  <dc:language>en-US</dc:language>
  <cp:lastModifiedBy>Komp</cp:lastModifiedBy>
  <dcterms:modified xsi:type="dcterms:W3CDTF">2011-09-21T14:40:15Z</dcterms:modified>
  <cp:revision>14</cp:revision>
  <dc:subject/>
  <dc:title>Погода и клим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240000000000010250300207f7000400038000</vt:lpwstr>
  </property>
</Properties>
</file>