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42.jpeg" ContentType="image/jpeg"/>
  <Override PartName="/ppt/media/image18.png" ContentType="image/pn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3.jpeg" ContentType="image/jpeg"/>
  <Override PartName="/ppt/media/image37.jpeg" ContentType="image/jpeg"/>
  <Override PartName="/ppt/media/image60.jpeg" ContentType="image/jpeg"/>
  <Override PartName="/ppt/media/image7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20.jpeg" ContentType="image/jpeg"/>
  <Override PartName="/ppt/media/image94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79.jpeg" ContentType="image/jpeg"/>
  <Override PartName="/ppt/media/image19.png" ContentType="image/png"/>
  <Override PartName="/ppt/media/image62.jpeg" ContentType="image/jpeg"/>
  <Override PartName="/ppt/media/image5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59.png" ContentType="image/png"/>
  <Override PartName="/ppt/media/image66.jpeg" ContentType="image/jpeg"/>
  <Override PartName="/ppt/media/image25.jpeg" ContentType="image/jpeg"/>
  <Override PartName="/ppt/media/image84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C537-457F-4443-B51C-C8298DCA1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922C-52AA-44E4-BA26-3D7A0306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0F79-90AB-4117-A1A0-76D541CD2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4A07-3C7B-469B-A888-D009F3EF7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6908-D473-472E-A73A-7B10FFD0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0B5E-393E-4812-BC83-75AAAE4D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2761-1579-4455-8CB5-0287D27D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DE02-6086-4A22-BCA9-78E82614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83EE-0440-4E6D-A090-64EDC47E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B18E-982F-49B7-AFB1-76A88BC2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856A-EADE-460C-A76E-BB33343B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73B3-F257-46F4-BB8C-982382A6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D8F6-BB18-46EB-B121-8346BCF04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photoforum.ru/f/photo/000/038/38639_32.jpg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foto.nedoma.ru/data/500/15266copy-med.jpg" TargetMode="External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hyperlink" Target="http://10f.ru/data/images/5aa64c18c46a218267928b1cc5ed890b51407_standart.jpg" TargetMode="External"/><Relationship Id="rId5" Type="http://schemas.openxmlformats.org/officeDocument/2006/relationships/image" Target="../media/image66.jpeg"/><Relationship Id="rId6" Type="http://schemas.openxmlformats.org/officeDocument/2006/relationships/hyperlink" Target="http://static.diary.ru/userdir/1/7/3/5/173510/35906713.jpg" TargetMode="External"/><Relationship Id="rId7" Type="http://schemas.openxmlformats.org/officeDocument/2006/relationships/image" Target="../media/image67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image" Target="../media/image85.jpeg"/><Relationship Id="rId3" Type="http://schemas.openxmlformats.org/officeDocument/2006/relationships/image" Target="../media/image86.jpeg"/><Relationship Id="rId4" Type="http://schemas.openxmlformats.org/officeDocument/2006/relationships/image" Target="../media/image87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image" Target="../media/image89.jpeg"/><Relationship Id="rId3" Type="http://schemas.openxmlformats.org/officeDocument/2006/relationships/image" Target="../media/image90.jpeg"/><Relationship Id="rId4" Type="http://schemas.openxmlformats.org/officeDocument/2006/relationships/image" Target="../media/image91.jpe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image" Target="../media/image97.jpeg"/><Relationship Id="rId3" Type="http://schemas.openxmlformats.org/officeDocument/2006/relationships/image" Target="../media/image98.jpeg"/><Relationship Id="rId4" Type="http://schemas.openxmlformats.org/officeDocument/2006/relationships/image" Target="../media/image99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1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332000" y="2133720"/>
            <a:ext cx="6591240" cy="16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года и климат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1547640" y="404640"/>
            <a:ext cx="58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Ленинградская область, Волховский район,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МОУ «Сясьстройская СОШ №2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4508640"/>
            <a:ext cx="338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Соста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учитель биологии и хи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высше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Бочкова Ири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8000" y="3935520"/>
            <a:ext cx="4357800" cy="2878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859280" y="3933720"/>
            <a:ext cx="4210200" cy="2880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Картинка 3 из 125778"/>
          <p:cNvPicPr/>
          <p:nvPr/>
        </p:nvPicPr>
        <p:blipFill>
          <a:blip r:embed="rId3"/>
          <a:stretch/>
        </p:blipFill>
        <p:spPr>
          <a:xfrm>
            <a:off x="4713120" y="44280"/>
            <a:ext cx="4322880" cy="2881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Картинка 14 из 125778"/>
          <p:cNvPicPr/>
          <p:nvPr/>
        </p:nvPicPr>
        <p:blipFill>
          <a:blip r:embed="rId4"/>
          <a:stretch/>
        </p:blipFill>
        <p:spPr>
          <a:xfrm>
            <a:off x="98280" y="115920"/>
            <a:ext cx="3976920" cy="2879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3203640" y="189000"/>
            <a:ext cx="22827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н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71640" y="2060640"/>
            <a:ext cx="691344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о́лния — гигантский электрический искров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разряд в атмосфере, обычно происходи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о время грозы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роявляется яркой вспышкой све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 сопровождающим её громо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Картинка 27 из 70634"/>
          <p:cNvPicPr/>
          <p:nvPr/>
        </p:nvPicPr>
        <p:blipFill>
          <a:blip r:embed="rId1"/>
          <a:stretch/>
        </p:blipFill>
        <p:spPr>
          <a:xfrm>
            <a:off x="4500720" y="44280"/>
            <a:ext cx="4643280" cy="2997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95400" y="115920"/>
            <a:ext cx="4189320" cy="2878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Картинка 9 из 70634"/>
          <p:cNvPicPr/>
          <p:nvPr/>
        </p:nvPicPr>
        <p:blipFill>
          <a:blip r:embed="rId3"/>
          <a:stretch/>
        </p:blipFill>
        <p:spPr>
          <a:xfrm>
            <a:off x="92160" y="3933720"/>
            <a:ext cx="4408560" cy="2880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Картинка 39 из 70634"/>
          <p:cNvPicPr/>
          <p:nvPr/>
        </p:nvPicPr>
        <p:blipFill>
          <a:blip r:embed="rId4"/>
          <a:stretch/>
        </p:blipFill>
        <p:spPr>
          <a:xfrm>
            <a:off x="4572000" y="3935520"/>
            <a:ext cx="4484520" cy="2878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3132000" y="189000"/>
            <a:ext cx="17510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ираж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116000" y="1987560"/>
            <a:ext cx="64803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ираж  — оптическое явление в атмосфер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Это отражение света границей между резк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азными по плотности слоями воздух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1763640" y="-27000"/>
            <a:ext cx="48294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тмосферное давле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5092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В нижнем слое атмосферы сосредоточено 9/10 массы возд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Воздух лёгкий, однако он оказывает на все тела значительное д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Давление воздуха на человека составляет 15 тонн, но мы его не чувствуем, потому что давление внутри тела его уравновешив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Атмосферное давление впервые было измерено прибором – ртутным баромет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Нормальным принято считать атмосферное давление, которое поднимает ртуть на высоту 760 мм на уровне моря на параллели 45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º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при температуре 0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º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Атмосферное давление изменяется с высотой и зависит от температуры возд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Картинка 0 из 465998"/>
          <p:cNvPicPr/>
          <p:nvPr/>
        </p:nvPicPr>
        <p:blipFill>
          <a:blip r:embed="rId1"/>
          <a:stretch/>
        </p:blipFill>
        <p:spPr>
          <a:xfrm>
            <a:off x="71280" y="115920"/>
            <a:ext cx="8964720" cy="6670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9280" y="1665360"/>
            <a:ext cx="4138560" cy="4319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535640" y="333360"/>
            <a:ext cx="4357440" cy="4319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250920" y="404640"/>
            <a:ext cx="40003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тутный баромет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716360" y="5445000"/>
            <a:ext cx="4048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Барометр анерои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Картинка 48 из 46599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920" y="44280"/>
            <a:ext cx="8893080" cy="677556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179280" y="260280"/>
            <a:ext cx="8784360" cy="6337080"/>
            <a:chOff x="179280" y="260280"/>
            <a:chExt cx="8784360" cy="6337080"/>
          </a:xfrm>
        </p:grpSpPr>
        <p:cxnSp>
          <p:nvCxnSpPr>
            <p:cNvPr id="109" name="_s15406"/>
            <p:cNvCxnSpPr>
              <a:stCxn id="110" idx="0"/>
              <a:endCxn id="111" idx="2"/>
            </p:cNvCxnSpPr>
            <p:nvPr/>
          </p:nvCxnSpPr>
          <p:spPr>
            <a:xfrm flipV="1">
              <a:off x="6940440" y="5643720"/>
              <a:ext cx="4680" cy="321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_s15404"/>
            <p:cNvCxnSpPr>
              <a:stCxn id="113" idx="0"/>
              <a:endCxn id="114" idx="2"/>
            </p:cNvCxnSpPr>
            <p:nvPr/>
          </p:nvCxnSpPr>
          <p:spPr>
            <a:xfrm flipV="1">
              <a:off x="2210400" y="5648040"/>
              <a:ext cx="4680" cy="317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15402"/>
            <p:cNvCxnSpPr>
              <a:stCxn id="111" idx="0"/>
              <a:endCxn id="116" idx="2"/>
            </p:cNvCxnSpPr>
            <p:nvPr/>
          </p:nvCxnSpPr>
          <p:spPr>
            <a:xfrm flipV="1">
              <a:off x="6940440" y="4697280"/>
              <a:ext cx="4680" cy="315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15400"/>
            <p:cNvCxnSpPr>
              <a:stCxn id="114" idx="0"/>
              <a:endCxn id="118" idx="2"/>
            </p:cNvCxnSpPr>
            <p:nvPr/>
          </p:nvCxnSpPr>
          <p:spPr>
            <a:xfrm flipV="1">
              <a:off x="2210400" y="4697280"/>
              <a:ext cx="4680" cy="315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15398"/>
            <p:cNvCxnSpPr>
              <a:stCxn id="116" idx="0"/>
              <a:endCxn id="120" idx="2"/>
            </p:cNvCxnSpPr>
            <p:nvPr/>
          </p:nvCxnSpPr>
          <p:spPr>
            <a:xfrm flipV="1">
              <a:off x="6940440" y="3748320"/>
              <a:ext cx="4680" cy="315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1" name="_s15396"/>
            <p:cNvCxnSpPr>
              <a:stCxn id="118" idx="0"/>
              <a:endCxn id="122" idx="2"/>
            </p:cNvCxnSpPr>
            <p:nvPr/>
          </p:nvCxnSpPr>
          <p:spPr>
            <a:xfrm flipV="1">
              <a:off x="2210400" y="3748320"/>
              <a:ext cx="4680" cy="315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" name="_s15394"/>
            <p:cNvCxnSpPr>
              <a:stCxn id="122" idx="0"/>
              <a:endCxn id="124" idx="2"/>
            </p:cNvCxnSpPr>
            <p:nvPr/>
          </p:nvCxnSpPr>
          <p:spPr>
            <a:xfrm flipV="1">
              <a:off x="2210400" y="2795400"/>
              <a:ext cx="4680" cy="317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15392"/>
            <p:cNvCxnSpPr>
              <a:stCxn id="120" idx="0"/>
              <a:endCxn id="126" idx="2"/>
            </p:cNvCxnSpPr>
            <p:nvPr/>
          </p:nvCxnSpPr>
          <p:spPr>
            <a:xfrm flipV="1">
              <a:off x="6940440" y="2795400"/>
              <a:ext cx="4680" cy="317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15387"/>
            <p:cNvCxnSpPr>
              <a:stCxn id="124" idx="0"/>
              <a:endCxn id="128" idx="2"/>
            </p:cNvCxnSpPr>
            <p:nvPr/>
          </p:nvCxnSpPr>
          <p:spPr>
            <a:xfrm flipV="1" rot="16200000">
              <a:off x="2050560" y="1999800"/>
              <a:ext cx="315360" cy="4680"/>
            </a:xfrm>
            <a:prstGeom prst="bentConnector3">
              <a:avLst>
                <a:gd name="adj1" fmla="val 4994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15382"/>
            <p:cNvCxnSpPr>
              <a:stCxn id="126" idx="0"/>
              <a:endCxn id="130" idx="2"/>
            </p:cNvCxnSpPr>
            <p:nvPr/>
          </p:nvCxnSpPr>
          <p:spPr>
            <a:xfrm flipV="1" rot="16200000">
              <a:off x="6780600" y="1999800"/>
              <a:ext cx="315360" cy="4680"/>
            </a:xfrm>
            <a:prstGeom prst="bentConnector3">
              <a:avLst>
                <a:gd name="adj1" fmla="val 4994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15372"/>
            <p:cNvCxnSpPr>
              <a:stCxn id="130" idx="0"/>
              <a:endCxn id="132" idx="2"/>
            </p:cNvCxnSpPr>
            <p:nvPr/>
          </p:nvCxnSpPr>
          <p:spPr>
            <a:xfrm flipV="1" rot="16200000">
              <a:off x="5592600" y="-130680"/>
              <a:ext cx="321840" cy="2366280"/>
            </a:xfrm>
            <a:prstGeom prst="bentConnector3">
              <a:avLst>
                <a:gd name="adj1" fmla="val 4938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3" name="_s15370"/>
            <p:cNvCxnSpPr>
              <a:stCxn id="128" idx="0"/>
              <a:endCxn id="132" idx="2"/>
            </p:cNvCxnSpPr>
            <p:nvPr/>
          </p:nvCxnSpPr>
          <p:spPr>
            <a:xfrm flipH="1" flipV="1" rot="5400000">
              <a:off x="3227760" y="-129960"/>
              <a:ext cx="321840" cy="2365200"/>
            </a:xfrm>
            <a:prstGeom prst="bentConnector3">
              <a:avLst>
                <a:gd name="adj1" fmla="val 4938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2" name="_s15366"/>
            <p:cNvSpPr/>
            <p:nvPr/>
          </p:nvSpPr>
          <p:spPr>
            <a:xfrm>
              <a:off x="2543760" y="260280"/>
              <a:ext cx="4054320" cy="63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9900"/>
                  </a:solidFill>
                  <a:latin typeface="Arial"/>
                </a:rPr>
                <a:t>Источник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9900"/>
                  </a:solidFill>
                  <a:latin typeface="Arial"/>
                </a:rPr>
                <a:t>загрязнения атмосфе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5367"/>
            <p:cNvSpPr/>
            <p:nvPr/>
          </p:nvSpPr>
          <p:spPr>
            <a:xfrm>
              <a:off x="179280" y="1211040"/>
              <a:ext cx="4054320" cy="63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Естестве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5369"/>
            <p:cNvSpPr/>
            <p:nvPr/>
          </p:nvSpPr>
          <p:spPr>
            <a:xfrm>
              <a:off x="4909320" y="1211040"/>
              <a:ext cx="4054320" cy="63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Искусственны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(антропогенные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5381"/>
            <p:cNvSpPr/>
            <p:nvPr/>
          </p:nvSpPr>
          <p:spPr>
            <a:xfrm>
              <a:off x="4913640" y="2161800"/>
              <a:ext cx="4050000" cy="63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Промышленные предприят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(фабрики и заводы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5385"/>
            <p:cNvSpPr/>
            <p:nvPr/>
          </p:nvSpPr>
          <p:spPr>
            <a:xfrm>
              <a:off x="183240" y="2161800"/>
              <a:ext cx="4050000" cy="63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Пыльные бур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5390"/>
            <p:cNvSpPr/>
            <p:nvPr/>
          </p:nvSpPr>
          <p:spPr>
            <a:xfrm>
              <a:off x="4913640" y="3112920"/>
              <a:ext cx="4050000" cy="63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Транспор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5393"/>
            <p:cNvSpPr/>
            <p:nvPr/>
          </p:nvSpPr>
          <p:spPr>
            <a:xfrm>
              <a:off x="183240" y="3112920"/>
              <a:ext cx="4050000" cy="63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Вулканиз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5395"/>
            <p:cNvSpPr/>
            <p:nvPr/>
          </p:nvSpPr>
          <p:spPr>
            <a:xfrm>
              <a:off x="183240" y="4063680"/>
              <a:ext cx="4050000" cy="63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Лесные пожа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5397"/>
            <p:cNvSpPr/>
            <p:nvPr/>
          </p:nvSpPr>
          <p:spPr>
            <a:xfrm>
              <a:off x="4913640" y="4063680"/>
              <a:ext cx="4050000" cy="63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Теплоэнергети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5399"/>
            <p:cNvSpPr/>
            <p:nvPr/>
          </p:nvSpPr>
          <p:spPr>
            <a:xfrm>
              <a:off x="183240" y="5014440"/>
              <a:ext cx="4050000" cy="63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Выветр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5401"/>
            <p:cNvSpPr/>
            <p:nvPr/>
          </p:nvSpPr>
          <p:spPr>
            <a:xfrm>
              <a:off x="4913640" y="5014440"/>
              <a:ext cx="4050000" cy="631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Космические корабли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самолё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5403"/>
            <p:cNvSpPr/>
            <p:nvPr/>
          </p:nvSpPr>
          <p:spPr>
            <a:xfrm>
              <a:off x="183240" y="5965560"/>
              <a:ext cx="4050000" cy="631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Разлож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умерших организм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5405"/>
            <p:cNvSpPr/>
            <p:nvPr/>
          </p:nvSpPr>
          <p:spPr>
            <a:xfrm>
              <a:off x="4913640" y="5965560"/>
              <a:ext cx="4050000" cy="631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Отопление жили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3876480" cy="2881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135400" y="115920"/>
            <a:ext cx="3829320" cy="2878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08000" y="3865680"/>
            <a:ext cx="3806640" cy="28764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Картинка 4 из 1569"/>
          <p:cNvPicPr/>
          <p:nvPr/>
        </p:nvPicPr>
        <p:blipFill>
          <a:blip r:embed="rId4"/>
          <a:stretch/>
        </p:blipFill>
        <p:spPr>
          <a:xfrm>
            <a:off x="5219640" y="3863880"/>
            <a:ext cx="3846600" cy="28782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Z000-0940"/>
          <p:cNvPicPr/>
          <p:nvPr/>
        </p:nvPicPr>
        <p:blipFill>
          <a:blip r:embed="rId5"/>
          <a:stretch/>
        </p:blipFill>
        <p:spPr>
          <a:xfrm>
            <a:off x="2556000" y="2276640"/>
            <a:ext cx="3876480" cy="2877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2124000" y="44280"/>
            <a:ext cx="4464000" cy="91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Естественные загрязнения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3068640"/>
            <a:ext cx="230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Пыльные бу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2. Лесные пожа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516720" y="3068640"/>
            <a:ext cx="23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3. Вулка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4. Выветр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64000" y="530064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5. Разложение умерших организ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260280"/>
            <a:ext cx="2872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6308640"/>
            <a:ext cx="2872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00360" y="2349360"/>
            <a:ext cx="2872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604360" y="6308640"/>
            <a:ext cx="2872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459640" y="260280"/>
            <a:ext cx="287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8000" y="44280"/>
            <a:ext cx="3816360" cy="28782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148360" y="44280"/>
            <a:ext cx="3887640" cy="2881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108000" y="3863880"/>
            <a:ext cx="3836880" cy="28782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5219640" y="3863880"/>
            <a:ext cx="3816360" cy="28782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2843280" y="1916280"/>
            <a:ext cx="3587760" cy="28778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2484360" y="189000"/>
            <a:ext cx="44388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нтропогенные загрязнения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997360"/>
            <a:ext cx="2771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Фабрики, за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2. Теплоэнерге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516720" y="2997360"/>
            <a:ext cx="244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3. Транс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4. Самолё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35280" y="494172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5. Отопление жили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18900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638172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87640" y="1989000"/>
            <a:ext cx="28728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604360" y="6308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532720" y="18900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Картинка 8 из 101434"/>
          <p:cNvPicPr/>
          <p:nvPr/>
        </p:nvPicPr>
        <p:blipFill>
          <a:blip r:embed="rId1"/>
          <a:stretch/>
        </p:blipFill>
        <p:spPr>
          <a:xfrm>
            <a:off x="108000" y="3862440"/>
            <a:ext cx="4176720" cy="2879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703760" y="3863880"/>
            <a:ext cx="4260960" cy="28782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Картинка 4 из 101434"/>
          <p:cNvPicPr/>
          <p:nvPr/>
        </p:nvPicPr>
        <p:blipFill>
          <a:blip r:embed="rId3"/>
          <a:stretch/>
        </p:blipFill>
        <p:spPr>
          <a:xfrm>
            <a:off x="108000" y="117360"/>
            <a:ext cx="4103640" cy="29178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Картинка 6 из 101434"/>
          <p:cNvPicPr/>
          <p:nvPr/>
        </p:nvPicPr>
        <p:blipFill>
          <a:blip r:embed="rId4"/>
          <a:stretch/>
        </p:blipFill>
        <p:spPr>
          <a:xfrm>
            <a:off x="4653000" y="189000"/>
            <a:ext cx="4311720" cy="28782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3276720" y="44280"/>
            <a:ext cx="19429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мог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266920" y="1989000"/>
            <a:ext cx="446580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- это ядовитый туман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остоящий из дыма, пыл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 паров во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08000" y="44280"/>
            <a:ext cx="3825720" cy="28782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Картинка 7 из 4818"/>
          <p:cNvPicPr/>
          <p:nvPr/>
        </p:nvPicPr>
        <p:blipFill>
          <a:blip r:embed="rId2"/>
          <a:stretch/>
        </p:blipFill>
        <p:spPr>
          <a:xfrm>
            <a:off x="108000" y="3933720"/>
            <a:ext cx="4032360" cy="2880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4716360" y="3933720"/>
            <a:ext cx="4332240" cy="2878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Картинка 28 из 4818"/>
          <p:cNvPicPr/>
          <p:nvPr/>
        </p:nvPicPr>
        <p:blipFill>
          <a:blip r:embed="rId4"/>
          <a:stretch/>
        </p:blipFill>
        <p:spPr>
          <a:xfrm>
            <a:off x="5199120" y="44280"/>
            <a:ext cx="3836880" cy="2880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2050920" y="189000"/>
            <a:ext cx="5058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кологический контрол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763640" y="1916280"/>
            <a:ext cx="489600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сновными задачам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экологического контрол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являются наблюдение з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остоянием окружающе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риродной среды и е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зменением под влияни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хозяйственной деятельн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чело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5394240" cy="36007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621240" y="3214800"/>
            <a:ext cx="5487840" cy="3598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Солнечная радиация нагревает земную поверхность, т. е. поверхность воды и су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Условия нагревания воды и суши весьма различ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Теплоемкость воды в два раза больше теплоемкости пород, слагающих суш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Это значит, что при одинаковом количестве тепла суша нагревается вдвое сильнее воды, при охлаждении соотношение обрат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Кроме того, вода при нагревании испаряется, на что затрачивается немалое количество теп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На суше тепло сосредоточивается только в верхнем слое, лишь небольшая его часть передается в глуб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В воде же лучи пронизывают и нагревают сразу значительную толщ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На еще большую глубину тепло передается вертикальным перемешиванием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В результате вода накапливает тепла гораздо больше, чем суша, удерживает его дольше и расходует равномер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Она медленнее нагревается и охлажд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340000" y="44280"/>
            <a:ext cx="42958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мпература воздух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3480" y="979560"/>
            <a:ext cx="5833800" cy="5834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148360" y="18900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727680" y="3241800"/>
            <a:ext cx="2381400" cy="3571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692360" y="189000"/>
            <a:ext cx="1485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года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0920" y="1557360"/>
            <a:ext cx="48974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- это состояние атмосфе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 данный момент времен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 данном мест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42920" y="3151080"/>
            <a:ext cx="2867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етеоролог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26920" y="4797360"/>
            <a:ext cx="3384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- это древняя нау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 погод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 flipV="1">
            <a:off x="971640" y="333360"/>
            <a:ext cx="0" cy="568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71640" y="414972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48360" y="4005360"/>
            <a:ext cx="2872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29080" y="4005360"/>
            <a:ext cx="2872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708360" y="4005360"/>
            <a:ext cx="2872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89440" y="4005360"/>
            <a:ext cx="2872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68360" y="4005360"/>
            <a:ext cx="28764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47640" y="4005360"/>
            <a:ext cx="28764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4653000"/>
            <a:ext cx="35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26920" y="4869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26920" y="558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542916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" y="400536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26920" y="4149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26920" y="3429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6920" y="2708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26920" y="1989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6920" y="1268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26920" y="549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328464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60360" y="256536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0360" y="184464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1640" y="1108080"/>
            <a:ext cx="8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5280" y="38736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40000" y="335772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19640" y="335772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59280" y="19162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80000" y="4762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00720" y="263700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692360" y="3429000"/>
            <a:ext cx="718920" cy="1440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411280" y="1989000"/>
            <a:ext cx="720720" cy="1440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3132000" y="476280"/>
            <a:ext cx="719280" cy="1512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51280" y="549360"/>
            <a:ext cx="720720" cy="2158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0" y="2708280"/>
            <a:ext cx="720720" cy="72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6000" y="4869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1692360" y="4292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16000" y="3429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411280" y="350028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87280" y="1989000"/>
            <a:ext cx="187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132000" y="2060640"/>
            <a:ext cx="0" cy="187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16000" y="54936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620640"/>
            <a:ext cx="0" cy="338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87280" y="2708280"/>
            <a:ext cx="3313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0" y="2781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4360" y="342900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292720" y="350028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0" y="115920"/>
            <a:ext cx="4392720" cy="100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Изменение температу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воздуха в течение сут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12000" y="1268280"/>
            <a:ext cx="2952720" cy="55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Суточная амплитуда температуры воздух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это разница между самой высокой и самой низкой температурой воздуха в течение су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Среднесуточная температу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среднее арифметическое температур в течение одних су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лебания температуры воздуха зависят от угла падения солнечных лу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556000" y="5213520"/>
            <a:ext cx="3114720" cy="16002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619280" y="4797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Картинка 12 из 2559"/>
          <p:cNvPicPr/>
          <p:nvPr/>
        </p:nvPicPr>
        <p:blipFill>
          <a:blip r:embed="rId1"/>
          <a:stretch/>
        </p:blipFill>
        <p:spPr>
          <a:xfrm>
            <a:off x="34920" y="3935520"/>
            <a:ext cx="4176720" cy="28782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Картинка 7 из 46226"/>
          <p:cNvPicPr/>
          <p:nvPr/>
        </p:nvPicPr>
        <p:blipFill>
          <a:blip r:embed="rId2"/>
          <a:stretch/>
        </p:blipFill>
        <p:spPr>
          <a:xfrm>
            <a:off x="4797360" y="44280"/>
            <a:ext cx="4311720" cy="28800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Картинка 16 из 46226"/>
          <p:cNvPicPr/>
          <p:nvPr/>
        </p:nvPicPr>
        <p:blipFill>
          <a:blip r:embed="rId3"/>
          <a:stretch/>
        </p:blipFill>
        <p:spPr>
          <a:xfrm>
            <a:off x="34920" y="44280"/>
            <a:ext cx="4105440" cy="2880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Картинка 54 из 46226"/>
          <p:cNvPicPr/>
          <p:nvPr/>
        </p:nvPicPr>
        <p:blipFill>
          <a:blip r:embed="rId4"/>
          <a:stretch/>
        </p:blipFill>
        <p:spPr>
          <a:xfrm>
            <a:off x="4859280" y="3933720"/>
            <a:ext cx="4249800" cy="2880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250920" y="1484280"/>
            <a:ext cx="841536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 нашей области наблюдаетс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нтереснейшее явление -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белые ноч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ни возможны в тех широтах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де полуденная высота солнц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д горизонто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еньше 18 градус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Картинка 39 из 392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1916280"/>
            <a:ext cx="3673440" cy="48974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5219640" y="44280"/>
            <a:ext cx="3816360" cy="28641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Картинка 145 из 1705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59280" y="3013200"/>
            <a:ext cx="5076720" cy="38005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179280" y="115920"/>
            <a:ext cx="5122800" cy="235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"/>
              </a:rPr>
              <a:t>22 июня - самый длинный день в году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"/>
              </a:rPr>
              <a:t>Солнце занимает сам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"/>
              </a:rPr>
              <a:t>высокое положение - ден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"/>
              </a:rPr>
              <a:t>летнего солнцестояни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"/>
              </a:rPr>
              <a:t>22 декабря - самый короткий день в году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"/>
              </a:rPr>
              <a:t>Солнце занимает самое низкое положени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"/>
              <a:ea typeface="Arial"/>
            </a:endParaRPr>
          </a:p>
        </p:txBody>
      </p:sp>
      <p:pic>
        <p:nvPicPr>
          <p:cNvPr id="237" name="" descr="Картинка 170 из 39276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627280" y="256536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72720" cy="6813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79280" y="1052280"/>
            <a:ext cx="8964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Горизонтальное перемещение воздуха называется вет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Оно обусловлено неодинаковым атмосферным давлением в разных точках земной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Воздух остается в покое до тех пор, пока давление на данном участке атмосферы распределяется более или менее равноме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Но стоит давлению на каком-либо участке увеличиться или уменьшиться, как воздух потечет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от места большего давления в сторону меньш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Устойчивого равновесия в атмосфере почти никогда не существует, поэтому ветры наблюдаются постоя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Равновесие атмосферы нарушается по различным причинам, главной из них является неодинаковое нагревание земной поверхности и различие температур на разных участ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203640" y="-100080"/>
            <a:ext cx="1800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ете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Картинка 2 из 43"/>
          <p:cNvPicPr/>
          <p:nvPr/>
        </p:nvPicPr>
        <p:blipFill>
          <a:blip r:embed="rId1"/>
          <a:stretch/>
        </p:blipFill>
        <p:spPr>
          <a:xfrm>
            <a:off x="539640" y="1557360"/>
            <a:ext cx="8136000" cy="4795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3132000" y="189000"/>
            <a:ext cx="5543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еремещение воздушных мас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д земной поверхностью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2773440" y="4295880"/>
            <a:ext cx="3274920" cy="25178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012000" y="4278240"/>
            <a:ext cx="3073320" cy="25178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4"/>
          <a:stretch/>
        </p:blipFill>
        <p:spPr>
          <a:xfrm>
            <a:off x="73080" y="4292640"/>
            <a:ext cx="3203640" cy="251928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0" y="4076640"/>
            <a:ext cx="91440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Воздух нагревается над суш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Тёплый воздух расширяется, его давление уменьшается, он становится лёгким и поднимается вве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Его место занимает более холодный и тяжёлый воздух со стороны 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Атмосферный фронт – столкновение тёплых и холодных воздушных м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84240" y="85680"/>
            <a:ext cx="2832120" cy="161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08000" y="44280"/>
            <a:ext cx="5859360" cy="33228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3025800" y="3494160"/>
            <a:ext cx="6010200" cy="33195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427640" y="476280"/>
            <a:ext cx="43783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невной бри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ует с озера на суш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4000" y="3429000"/>
            <a:ext cx="4392360" cy="11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Ночной бри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ует с суши на озер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08000" y="3398760"/>
            <a:ext cx="4464000" cy="33433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08000" y="60480"/>
            <a:ext cx="4392720" cy="32749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5292720" y="0"/>
            <a:ext cx="1782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Циклон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00720" y="1341000"/>
            <a:ext cx="4572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Вихревое движение воздух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С пониженным давлением в цент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Приближение циклона к пасмурной пог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5796000" y="44280"/>
            <a:ext cx="24289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нтициклон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4500720" cy="33606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Картинка 5 из 1257"/>
          <p:cNvPicPr/>
          <p:nvPr/>
        </p:nvPicPr>
        <p:blipFill>
          <a:blip r:embed="rId2"/>
          <a:stretch/>
        </p:blipFill>
        <p:spPr>
          <a:xfrm>
            <a:off x="71280" y="3435480"/>
            <a:ext cx="4500720" cy="337824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859280" y="1413000"/>
            <a:ext cx="41054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Вихревое движение воз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С повышенным давлением в цент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Повышение давления к хорошей пог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419280" y="1341000"/>
            <a:ext cx="572436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Воздух нижних частей атмосферы всегда содержит некоторое количество влаги в виде водяного па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Влажность воздуха — это содержание в нем водяного па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При достаточном поступлении влаги в атмосферу влажность зависит от температуры воздух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Чем выше температура воздуха, тем больше водяного пара он может вмести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Так, 1 куб.м воздуха при температуре 30 °С может содержать 30 г водяного пара, при 20 °С—17,3 г; при 10 °С — 9,4; при 0 °С — 4,8; при -10 °С — 2,3; при —20 °С — 1,1 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Поэтому ход влажности параллелен ходу темпера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Обычно она больше днем, чем ноч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В течение года максимум влажности приходится на летние месяцы, минимум — на зим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В низких широтах влажность больше, чем в средних и высок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Влажность воздуха измеряется приборами гигрометрами и психрометр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С понижением температуры водяной пар превращается в туман или обла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Картинка 1 из 7494"/>
          <p:cNvPicPr/>
          <p:nvPr/>
        </p:nvPicPr>
        <p:blipFill>
          <a:blip r:embed="rId1"/>
          <a:stretch/>
        </p:blipFill>
        <p:spPr>
          <a:xfrm>
            <a:off x="96840" y="123840"/>
            <a:ext cx="2819520" cy="38098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Картинка 37 из 7494"/>
          <p:cNvPicPr/>
          <p:nvPr/>
        </p:nvPicPr>
        <p:blipFill>
          <a:blip r:embed="rId2"/>
          <a:stretch/>
        </p:blipFill>
        <p:spPr>
          <a:xfrm>
            <a:off x="108000" y="4033800"/>
            <a:ext cx="2808360" cy="27799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4140360" y="44280"/>
            <a:ext cx="3943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лажность воздух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34920" y="115920"/>
            <a:ext cx="5051520" cy="66690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5867280" y="189000"/>
            <a:ext cx="1871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бла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5148000" y="1341000"/>
            <a:ext cx="38163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Облака располагаются на разной выс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Имеют разную фор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По ним можно предсказать по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Картинка 5 из 893"/>
          <p:cNvPicPr/>
          <p:nvPr/>
        </p:nvPicPr>
        <p:blipFill>
          <a:blip r:embed="rId1"/>
          <a:stretch/>
        </p:blipFill>
        <p:spPr>
          <a:xfrm>
            <a:off x="108000" y="115920"/>
            <a:ext cx="2130480" cy="3238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Картинка 11 из 893"/>
          <p:cNvPicPr/>
          <p:nvPr/>
        </p:nvPicPr>
        <p:blipFill>
          <a:blip r:embed="rId2"/>
          <a:stretch/>
        </p:blipFill>
        <p:spPr>
          <a:xfrm>
            <a:off x="4751280" y="3525840"/>
            <a:ext cx="4314960" cy="3238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Картинка 20 из 893"/>
          <p:cNvPicPr/>
          <p:nvPr/>
        </p:nvPicPr>
        <p:blipFill>
          <a:blip r:embed="rId3"/>
          <a:stretch/>
        </p:blipFill>
        <p:spPr>
          <a:xfrm>
            <a:off x="6300720" y="115920"/>
            <a:ext cx="2422440" cy="3240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Картинка 52 из 893"/>
          <p:cNvPicPr/>
          <p:nvPr/>
        </p:nvPicPr>
        <p:blipFill>
          <a:blip r:embed="rId4"/>
          <a:stretch/>
        </p:blipFill>
        <p:spPr>
          <a:xfrm>
            <a:off x="108000" y="3575160"/>
            <a:ext cx="3238560" cy="3238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1187280" y="189000"/>
            <a:ext cx="5820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етеорологические станци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7" name="" descr="Картинка 6 из 893"/>
          <p:cNvPicPr/>
          <p:nvPr/>
        </p:nvPicPr>
        <p:blipFill>
          <a:blip r:embed="rId5"/>
          <a:stretch/>
        </p:blipFill>
        <p:spPr>
          <a:xfrm>
            <a:off x="2843280" y="3087720"/>
            <a:ext cx="2847960" cy="2286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1979640" y="1484280"/>
            <a:ext cx="468000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оставляют прогноз погоды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ы слушаем прогно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годы,но...сбывается о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е всегд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Картинка 131 из 1068"/>
          <p:cNvPicPr/>
          <p:nvPr/>
        </p:nvPicPr>
        <p:blipFill>
          <a:blip r:embed="rId1"/>
          <a:stretch/>
        </p:blipFill>
        <p:spPr>
          <a:xfrm>
            <a:off x="142920" y="115920"/>
            <a:ext cx="8893080" cy="66736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2033640" y="2133720"/>
            <a:ext cx="534672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еристые обла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(из кристалликов льда)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являются за сут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о выпадения осадк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Картинка 59 из 817"/>
          <p:cNvPicPr/>
          <p:nvPr/>
        </p:nvPicPr>
        <p:blipFill>
          <a:blip r:embed="rId1"/>
          <a:stretch/>
        </p:blipFill>
        <p:spPr>
          <a:xfrm>
            <a:off x="108000" y="3429000"/>
            <a:ext cx="4535280" cy="33354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Картинка 67 из 817"/>
          <p:cNvPicPr/>
          <p:nvPr/>
        </p:nvPicPr>
        <p:blipFill>
          <a:blip r:embed="rId2"/>
          <a:stretch/>
        </p:blipFill>
        <p:spPr>
          <a:xfrm>
            <a:off x="4643280" y="3429000"/>
            <a:ext cx="4448160" cy="33354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Картинка 102 из 817"/>
          <p:cNvPicPr/>
          <p:nvPr/>
        </p:nvPicPr>
        <p:blipFill>
          <a:blip r:embed="rId3"/>
          <a:stretch/>
        </p:blipFill>
        <p:spPr>
          <a:xfrm>
            <a:off x="115920" y="115920"/>
            <a:ext cx="4527360" cy="33368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Картинка 123 из 817"/>
          <p:cNvPicPr/>
          <p:nvPr/>
        </p:nvPicPr>
        <p:blipFill>
          <a:blip r:embed="rId4"/>
          <a:stretch/>
        </p:blipFill>
        <p:spPr>
          <a:xfrm>
            <a:off x="4643280" y="115920"/>
            <a:ext cx="4427640" cy="33354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2268360" y="2492280"/>
            <a:ext cx="4470480" cy="17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учевые облака -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риносят ливневы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сад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Картинка 10 из 261"/>
          <p:cNvPicPr/>
          <p:nvPr/>
        </p:nvPicPr>
        <p:blipFill>
          <a:blip r:embed="rId1"/>
          <a:stretch/>
        </p:blipFill>
        <p:spPr>
          <a:xfrm>
            <a:off x="3995640" y="73080"/>
            <a:ext cx="5077080" cy="32846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Картинка 138 из 261"/>
          <p:cNvPicPr/>
          <p:nvPr/>
        </p:nvPicPr>
        <p:blipFill>
          <a:blip r:embed="rId2"/>
          <a:stretch/>
        </p:blipFill>
        <p:spPr>
          <a:xfrm>
            <a:off x="103320" y="73080"/>
            <a:ext cx="4324320" cy="32846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Картинка 94 из 261"/>
          <p:cNvPicPr/>
          <p:nvPr/>
        </p:nvPicPr>
        <p:blipFill>
          <a:blip r:embed="rId3"/>
          <a:stretch/>
        </p:blipFill>
        <p:spPr>
          <a:xfrm>
            <a:off x="71280" y="3357720"/>
            <a:ext cx="4645080" cy="34099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Картинка 84 из 261"/>
          <p:cNvPicPr/>
          <p:nvPr/>
        </p:nvPicPr>
        <p:blipFill>
          <a:blip r:embed="rId4"/>
          <a:stretch/>
        </p:blipFill>
        <p:spPr>
          <a:xfrm>
            <a:off x="4356000" y="3357720"/>
            <a:ext cx="4700520" cy="34081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1619280" y="2492280"/>
            <a:ext cx="5824440" cy="17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лоистые облака 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риносят долговремен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садки (морось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Картинка 5 из 321715"/>
          <p:cNvPicPr/>
          <p:nvPr/>
        </p:nvPicPr>
        <p:blipFill>
          <a:blip r:embed="rId1"/>
          <a:stretch/>
        </p:blipFill>
        <p:spPr>
          <a:xfrm>
            <a:off x="108000" y="3357720"/>
            <a:ext cx="5103720" cy="34099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4567320" y="3429000"/>
            <a:ext cx="4541760" cy="33577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4575240" y="115920"/>
            <a:ext cx="4533840" cy="34084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108000" y="92160"/>
            <a:ext cx="4545000" cy="34081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5183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С понижением температуры водяной пар превращается в туман или обла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Капельки и кристаллы облаков при определенных условиях укрупняются и достигают такой величины, что могут преодолеть восходящие токи и сопротивление возд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В таком случае выпадают атмосферные осадки, главным образом дождь и снег, иногда морось, крупа, гр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Дождь состоит из капель диаметром 0,5 мм и бол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Морось имеет мелкие капли, диаметром не более 0,5 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Снег — твердые осадки в виде ледяных кристаллов различной формы. Он образуется при низких температурах. Падая, особенно в теплую (около 0 °С) погоду, снежинки соединяются в хлопья. Снегопады приводят к возникновению снежного покр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Крупа выпадает преимущественно весной и осенью при температурах, близких к нулю. Она имеет вид округлых ядрышек, или мягких (снежная крупа), или твердых с белым ядром (ледяная круп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195640" y="-100080"/>
            <a:ext cx="4438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тмосферные осадк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178920" y="1125000"/>
            <a:ext cx="8713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Все погодные явления взаимосвяз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Изменчивость погоды на Земле зависи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от количества солнечного теп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от рельефа: горы, море, равн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от движения воздушных масс: циклонов и антицикл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Климат – многолетний режим пог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Главные компоненты, определяющие климат – температура воздуха и атмосферное д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о этим характеристикам земной шар разделён на крупные климатические з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641760" y="44280"/>
            <a:ext cx="17938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лима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Картинка 13 из 1568081"/>
          <p:cNvPicPr/>
          <p:nvPr/>
        </p:nvPicPr>
        <p:blipFill>
          <a:blip r:embed="rId1"/>
          <a:stretch/>
        </p:blipFill>
        <p:spPr>
          <a:xfrm>
            <a:off x="108000" y="92160"/>
            <a:ext cx="4541760" cy="34081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Картинка 16 из 389759"/>
          <p:cNvPicPr/>
          <p:nvPr/>
        </p:nvPicPr>
        <p:blipFill>
          <a:blip r:embed="rId2"/>
          <a:stretch/>
        </p:blipFill>
        <p:spPr>
          <a:xfrm>
            <a:off x="108000" y="3357720"/>
            <a:ext cx="4552920" cy="34081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Картинка 16 из 964401"/>
          <p:cNvPicPr/>
          <p:nvPr/>
        </p:nvPicPr>
        <p:blipFill>
          <a:blip r:embed="rId3"/>
          <a:stretch/>
        </p:blipFill>
        <p:spPr>
          <a:xfrm>
            <a:off x="4494240" y="71280"/>
            <a:ext cx="4541760" cy="335772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Картинка 27 из 528421"/>
          <p:cNvPicPr/>
          <p:nvPr/>
        </p:nvPicPr>
        <p:blipFill>
          <a:blip r:embed="rId4"/>
          <a:stretch/>
        </p:blipFill>
        <p:spPr>
          <a:xfrm>
            <a:off x="4500720" y="3333600"/>
            <a:ext cx="4535280" cy="34084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250920" y="990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Западная часть Ленинградской области находится под сильным влиянием Атлантического оке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Восточные районы удалены от моря на значительное расстоя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Наш климат – атлантико-континента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Тип погоды в области определяют вет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Погодные условия и климат позволяют нам видеть все четыре времени года: лето, осень, зиму и вес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Картинка 1 из 364"/>
          <p:cNvPicPr/>
          <p:nvPr/>
        </p:nvPicPr>
        <p:blipFill>
          <a:blip r:embed="rId1"/>
          <a:stretch/>
        </p:blipFill>
        <p:spPr>
          <a:xfrm>
            <a:off x="6732720" y="3003480"/>
            <a:ext cx="2257200" cy="3810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Картинка 6 из 364"/>
          <p:cNvPicPr/>
          <p:nvPr/>
        </p:nvPicPr>
        <p:blipFill>
          <a:blip r:embed="rId2"/>
          <a:stretch/>
        </p:blipFill>
        <p:spPr>
          <a:xfrm>
            <a:off x="114480" y="3003480"/>
            <a:ext cx="3809880" cy="3810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Картинка 11 из 364"/>
          <p:cNvPicPr/>
          <p:nvPr/>
        </p:nvPicPr>
        <p:blipFill>
          <a:blip r:embed="rId3"/>
          <a:stretch/>
        </p:blipFill>
        <p:spPr>
          <a:xfrm>
            <a:off x="108000" y="115920"/>
            <a:ext cx="3743280" cy="2693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Картинка 2 из 364"/>
          <p:cNvPicPr/>
          <p:nvPr/>
        </p:nvPicPr>
        <p:blipFill>
          <a:blip r:embed="rId4"/>
          <a:stretch/>
        </p:blipFill>
        <p:spPr>
          <a:xfrm>
            <a:off x="3780000" y="422100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780000" y="1193760"/>
            <a:ext cx="381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Спутники  несут на борту прибор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с помощью которых наблюдают за температурой поверхности Земли и облачным, снеговым и ледовым покров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00720" y="-27000"/>
            <a:ext cx="3124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етеоспутник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Картинка 4 из 364"/>
          <p:cNvPicPr/>
          <p:nvPr/>
        </p:nvPicPr>
        <p:blipFill>
          <a:blip r:embed="rId1"/>
          <a:stretch/>
        </p:blipFill>
        <p:spPr>
          <a:xfrm>
            <a:off x="5867280" y="4653000"/>
            <a:ext cx="3025800" cy="2014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Картинка 40 из 364"/>
          <p:cNvPicPr/>
          <p:nvPr/>
        </p:nvPicPr>
        <p:blipFill>
          <a:blip r:embed="rId2"/>
          <a:stretch/>
        </p:blipFill>
        <p:spPr>
          <a:xfrm>
            <a:off x="108000" y="4672080"/>
            <a:ext cx="3672000" cy="2070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Первый российский метеоспутник нового поколения «Метеор-М», а также микроспутник «БЛИЦ» выведены на орби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Спутник предназначен для оперативного получения прогнозов погоды, контроля и прогноза радиационной обстановки, контроля озонового слоя, а также для мониторинга морской поверхности, включая ледовую обстановку, для обеспечения судоходства в полярных район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067280" y="4653000"/>
            <a:ext cx="1492200" cy="201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Картинка 10 из 1858"/>
          <p:cNvPicPr/>
          <p:nvPr/>
        </p:nvPicPr>
        <p:blipFill>
          <a:blip r:embed="rId1"/>
          <a:stretch/>
        </p:blipFill>
        <p:spPr>
          <a:xfrm>
            <a:off x="142920" y="115920"/>
            <a:ext cx="8893080" cy="6673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Картинка 27 из 6443"/>
          <p:cNvPicPr/>
          <p:nvPr/>
        </p:nvPicPr>
        <p:blipFill>
          <a:blip r:embed="rId2"/>
          <a:stretch/>
        </p:blipFill>
        <p:spPr>
          <a:xfrm>
            <a:off x="108000" y="2943360"/>
            <a:ext cx="6767640" cy="3798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1547640" y="189000"/>
            <a:ext cx="2267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тмосфер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0920" y="1557360"/>
            <a:ext cx="46465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- это часть воздушн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кеана, состоящая из газо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азы воздуха бесцветны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333360"/>
            <a:ext cx="3240360" cy="57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Смесь азота и кислорода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необходима для дыхания. Чистый кислород вызывает отравл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Небольшое количество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углекислого газа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задерживает тепло в атмосфе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Водяные пары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регулируют климат на Земле. Они охлаждаются и выпадают на землю в виде осад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4920" y="1197000"/>
            <a:ext cx="5113440" cy="5616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324000" y="115920"/>
            <a:ext cx="43909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роение атмосфер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859280" y="189000"/>
          <a:ext cx="4249800" cy="6642000"/>
        </p:xfrm>
        <a:graphic>
          <a:graphicData uri="http://schemas.openxmlformats.org/drawingml/2006/table">
            <a:tbl>
              <a:tblPr/>
              <a:tblGrid>
                <a:gridCol w="2125800"/>
                <a:gridCol w="212400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ропосф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 – 18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огодные явления, с высотой понижение температу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тратосф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 50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копление озона, повышение температу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езосф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 80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онижение температу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ермосф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ыше 80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овышение температу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7480" y="44280"/>
            <a:ext cx="4484520" cy="6743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667400" y="44280"/>
            <a:ext cx="4441680" cy="6742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2484360" y="189000"/>
            <a:ext cx="39276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лярное сия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187280" y="1700280"/>
            <a:ext cx="662472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- это свечение верхних слоёв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тмосферы при их взаимодейств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 заряженными частицам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олнечного вет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716360" y="115920"/>
            <a:ext cx="4326120" cy="3240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08000" y="3502080"/>
            <a:ext cx="4357800" cy="3240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09440" y="117360"/>
            <a:ext cx="4318200" cy="3240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Картинка 40 из 72333"/>
          <p:cNvPicPr/>
          <p:nvPr/>
        </p:nvPicPr>
        <p:blipFill>
          <a:blip r:embed="rId4"/>
          <a:stretch/>
        </p:blipFill>
        <p:spPr>
          <a:xfrm>
            <a:off x="4716360" y="3500280"/>
            <a:ext cx="4314960" cy="3238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3203640" y="260280"/>
            <a:ext cx="2160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адуг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116000" y="2205000"/>
            <a:ext cx="67690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адуга возникает из-за того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что солнечный свет испытывает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еломление в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апельках во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13:08:02Z</dcterms:created>
  <dc:creator>Бочкова И.А.</dc:creator>
  <dc:description/>
  <dc:language>en-US</dc:language>
  <cp:lastModifiedBy>Komp</cp:lastModifiedBy>
  <dcterms:modified xsi:type="dcterms:W3CDTF">2011-09-21T14:40:15Z</dcterms:modified>
  <cp:revision>14</cp:revision>
  <dc:subject/>
  <dc:title>Погода и клима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240000000000010250300207f7000400038000</vt:lpwstr>
  </property>
</Properties>
</file>