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A18-C30E-4E96-A133-F86C0E40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49E-A3E9-4D09-973A-6BADE22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052-387F-429D-A91D-E82477BE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FCB-9DDA-4B02-A2E3-0CEDFA8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A2B-9DCC-46EA-A075-5F64E91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136-651F-404D-BA59-BB9672F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6AF-E75C-4F9D-A7AD-9C0CFFD6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518-E58C-4485-9904-0679EE1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E7B-8D47-40C8-8A9A-38807CE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AD1-82FB-433A-A642-06C19C9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02D-3FD8-4B05-9E39-FF5C1CB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7B3-1F73-4B1A-9E05-ADD3EB1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A3D1-CB8E-4BBC-95D5-B5BB19FBD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229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чвы  -  национально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3041640"/>
            <a:ext cx="4572000" cy="381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иорация – работы, направленные на улучшение свойств земель, на повышение их производ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7120" y="3089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58136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задержани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накопле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3429000"/>
            <a:ext cx="41054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сение удобр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кование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1557360"/>
            <a:ext cx="4105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ьба с эроз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492280"/>
            <a:ext cx="4105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шение и ор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566100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лесопол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коза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276640"/>
            <a:ext cx="4032360" cy="3889080"/>
          </a:xfrm>
          <a:prstGeom prst="rightArrowCallout">
            <a:avLst>
              <a:gd name="adj1" fmla="val 31679"/>
              <a:gd name="adj2" fmla="val 25000"/>
              <a:gd name="adj3" fmla="val 17511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ьскохозя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в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и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5, вопросы по всей теме «Почвы Ро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ите особое  внимание на вопросы: 3,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чвы-на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ый источник получения сельскохозяйственных проду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сырья для некотор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пищи человечество получает в виде урожаев с обработанн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учетом продуктов животноводства – 9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логическая роль в жизни биосферы (обмен веществ, энергии между оболочк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олнительные рабочи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урока «Почвенные ресурсы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ы по повышению плодородия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а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836640"/>
            <a:ext cx="8940600" cy="584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земельного фон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достаточно богата почвенными ресурсами, но они преимущественно размещены в Европейской части России, на юге Западной Сибири и предгорьях Ал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дного человека приходится 0,9 га пашни. Это больше, чем в США, Китае, Кан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кция(сухая масса) зерновых культур на дерново-подзолистых почвах в зависимост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количества удобрений (т/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44640"/>
          <a:ext cx="9144000" cy="5013000"/>
        </p:xfrm>
        <a:graphic>
          <a:graphicData uri="http://schemas.openxmlformats.org/drawingml/2006/table">
            <a:tbl>
              <a:tblPr/>
              <a:tblGrid>
                <a:gridCol w="2571840"/>
                <a:gridCol w="1495440"/>
                <a:gridCol w="1704960"/>
                <a:gridCol w="1758960"/>
                <a:gridCol w="161280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ы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т используемых удобрени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в млн.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6040" y="3324240"/>
            <a:ext cx="6919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ры по поддержанию плодородия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обрения повышают плодородие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жайность культур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резмерное внесение удобрений в почву приводит к ее «отравлению», что приводит к гибели микро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т вредных веществ, есть вредные концент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ая обработка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4760" cy="468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427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амотная обработка почв с учетом климатических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Улучшает структуру поч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онование  (рых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егулирует водный и воздушный реж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30:05Z</dcterms:created>
  <dc:creator>admin</dc:creator>
  <dc:description/>
  <dc:language>en-US</dc:language>
  <cp:lastModifiedBy>miheeva</cp:lastModifiedBy>
  <dcterms:modified xsi:type="dcterms:W3CDTF">2008-12-10T14:24:23Z</dcterms:modified>
  <cp:revision>8</cp:revision>
  <dc:subject/>
  <dc:title>«Почвы-национальное достояние стран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30000000000010243100207f6000400038000</vt:lpwstr>
  </property>
</Properties>
</file>