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2EC-5D8C-465C-8FDE-17D95698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7DC-889F-4269-9931-A981AFAD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944-1C04-4058-BCB0-0ABDDE5B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727-7E43-4016-98A9-4429CAB0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054-3892-42D9-9BE5-13873D0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DB6-1ED7-44F0-BE9A-91AA919B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6B0-D580-43D0-B27A-97B946BF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309-4633-4F3E-99E2-16153627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706-4A8F-4150-9DEB-671C10D8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129-69A1-4AD9-812A-794F6080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361-1BB0-4C28-B6AF-9DF84B6C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65D-189B-482B-B8D1-2A84FAE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2269-B9DC-4FAB-8392-4BD53D83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229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чвы  -  национально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3041640"/>
            <a:ext cx="4572000" cy="381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лиорация – работы, направленные на улучшение свойств земель, на повышение их производ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7120" y="308916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58136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задержани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егонакопле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3429000"/>
            <a:ext cx="41054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сение удобр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кование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1557360"/>
            <a:ext cx="4105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ьба с эроз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492280"/>
            <a:ext cx="4105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ушение и ор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5661000"/>
            <a:ext cx="41054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лесопол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коза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276640"/>
            <a:ext cx="4032360" cy="3889080"/>
          </a:xfrm>
          <a:prstGeom prst="rightArrowCallout">
            <a:avLst>
              <a:gd name="adj1" fmla="val 31679"/>
              <a:gd name="adj2" fmla="val 25000"/>
              <a:gd name="adj3" fmla="val 17511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ьскохозяй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ве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ли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5, вопросы по всей теме «Почвы Росс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ите особое  внимание на вопросы: 3,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чвы-на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ояние стра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вный источник получения сельскохозяйственных проду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сырья для некотор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% пищи человечество получает в виде урожаев с обработанн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учетом продуктов животноводства – 9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ологическая роль в жизни биосферы (обмен веществ, энергии между оболочк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олнительные рабочи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 урока «Почвенные ресурсы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ы по повышению плодородия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а поч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836640"/>
            <a:ext cx="8940600" cy="5842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земельного фон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еспеченность России почвенными ресур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достаточно богата почвенными ресурсами, но они преимущественно размещены в Европейской части России, на юге Западной Сибири и предгорьях Ал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дного человека приходится 0,9 га пашни. Это больше, чем в США, Китае, Кан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укция(сухая масса) зерновых культур на дерново-подзолистых почвах в зависимост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количества удобрений (т/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44640"/>
          <a:ext cx="9144000" cy="5013000"/>
        </p:xfrm>
        <a:graphic>
          <a:graphicData uri="http://schemas.openxmlformats.org/drawingml/2006/table">
            <a:tbl>
              <a:tblPr/>
              <a:tblGrid>
                <a:gridCol w="2571840"/>
                <a:gridCol w="1495440"/>
                <a:gridCol w="1704960"/>
                <a:gridCol w="1758960"/>
                <a:gridCol w="161280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ы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высокие д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т используемых удобрени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в млн.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6040" y="3324240"/>
            <a:ext cx="6919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ры по поддержанию плодородия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обрения повышают плодородие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жайность культур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резмерное внесение удобрений в почву приводит к ее «отравлению», что приводит к гибели микро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т вредных веществ, есть вредные концент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аническая обработка поч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4760" cy="468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427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амотная обработка почв с учетом климатических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Улучшает структуру поч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отвальная вс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ронование  (рых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егулирует водный и воздушный реж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9:30:05Z</dcterms:created>
  <dc:creator>admin</dc:creator>
  <dc:description/>
  <dc:language>en-US</dc:language>
  <cp:lastModifiedBy>miheeva</cp:lastModifiedBy>
  <dcterms:modified xsi:type="dcterms:W3CDTF">2008-12-10T14:24:23Z</dcterms:modified>
  <cp:revision>8</cp:revision>
  <dc:subject/>
  <dc:title>«Почвы-национальное достояние стран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30000000000010243100207f6000400038000</vt:lpwstr>
  </property>
</Properties>
</file>