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707-0256-4D47-8CFE-D68B8E7B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804-2860-4F57-85DA-CDD584B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630-1EA8-4BC6-BC68-FDD28483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1E7-7EB3-4903-809F-A87BC7E9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F9A-2651-4890-A0FC-324788D2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659-F222-4C28-A3C2-C530403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DE9-0A61-4D88-8330-6C42CCD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C23-33C6-4C99-BE6D-D1BDB0A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8BA-426D-45A3-8619-D05FCA9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B6C-E058-4712-872A-A056181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23F-EE54-40ED-BEA8-A6EFE06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5E4-D677-4A21-9AC5-FE75693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11DD-5CDC-4A60-AD66-45AB0232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229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чвы  -  национально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стояние стр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3041640"/>
            <a:ext cx="4572000" cy="381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3280" y="115920"/>
            <a:ext cx="4500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лиорация – работы, направленные на улучшение свойств земель, на повышение их производ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7120" y="308916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581360"/>
            <a:ext cx="4105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задержани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накопле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3429000"/>
            <a:ext cx="41054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сение удобр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кование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1557360"/>
            <a:ext cx="4105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ьба с эроз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492280"/>
            <a:ext cx="4105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ушение и ор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5661000"/>
            <a:ext cx="4105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лесопол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коза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276640"/>
            <a:ext cx="4032360" cy="3889080"/>
          </a:xfrm>
          <a:prstGeom prst="rightArrowCallout">
            <a:avLst>
              <a:gd name="adj1" fmla="val 31679"/>
              <a:gd name="adj2" fmla="val 25000"/>
              <a:gd name="adj3" fmla="val 17511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ьскохозя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в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и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5, вопросы по всей теме «Почвы Росс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ите особое  внимание на вопросы: 3,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чвы-на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ояние стр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ый источник получения сельскохозяйственных проду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сырья для некотор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% пищи человечество получает в виде урожаев с обработанн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учетом продуктов животноводства – 9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логическая роль в жизни биосферы (обмен веществ, энергии между оболочка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олнительные рабочи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 урока «Почвенные ресурсы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ность России почвенными ресур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ы по повышению плодородия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а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480" y="836640"/>
            <a:ext cx="8940600" cy="584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земельного фон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еспеченность России почвенными ресур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сия достаточно богата почвенными ресурсами, но они преимущественно размещены в Европейской части России, на юге Западной Сибири и предгорьях Ал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дного человека приходится 0,9 га пашни. Это больше, чем в США, Китае, Кан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кция(сухая масса) зерновых культур на дерново-подзолистых почвах в зависимост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количества удобрений (т/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44640"/>
          <a:ext cx="9144000" cy="5013000"/>
        </p:xfrm>
        <a:graphic>
          <a:graphicData uri="http://schemas.openxmlformats.org/drawingml/2006/table">
            <a:tbl>
              <a:tblPr/>
              <a:tblGrid>
                <a:gridCol w="2571840"/>
                <a:gridCol w="1495440"/>
                <a:gridCol w="1704960"/>
                <a:gridCol w="1758960"/>
                <a:gridCol w="161280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ы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о высок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т используемых удобрений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в млн.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26040" y="3324240"/>
            <a:ext cx="6919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ры по поддержанию плодородия поч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обрения повышают плодородие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жайность культур увелич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резмерное внесение удобрений в почву приводит к ее «отравлению», что приводит к гибели микро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ет вредных веществ, есть вредные концент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ая обработка поч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4760" cy="4681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4427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амотная обработка почв с учетом климатических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Улучшает структуру поч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альная вс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отвальная вс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онование  (рых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егулирует водный и воздушный реж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30:05Z</dcterms:created>
  <dc:creator>admin</dc:creator>
  <dc:description/>
  <dc:language>en-US</dc:language>
  <cp:lastModifiedBy>miheeva</cp:lastModifiedBy>
  <dcterms:modified xsi:type="dcterms:W3CDTF">2008-12-10T14:24:23Z</dcterms:modified>
  <cp:revision>8</cp:revision>
  <dc:subject/>
  <dc:title>«Почвы-национальное достояние стран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30000000000010243100207f6000400038000</vt:lpwstr>
  </property>
</Properties>
</file>