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8C3-A73A-4459-89AE-3899EE69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AE2-9005-44C3-A954-568209AC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26D-761D-4ED6-B737-C105CA0B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862-B8EF-4428-9EFB-72825941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9653-CBD7-4529-883C-7051A016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FA19-C31D-4D9E-82C7-3C24CE6D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6688-6C74-4E3A-BBE4-8C13085A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705E-5B79-43EE-A337-43B03F17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BEAE-AE47-496D-9572-2F3C4E75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FF52-1B42-46A6-8979-73569AC9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5A3A-A485-48F9-A51D-448DCFCF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831-1480-4322-8589-48E78987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BE29-3B99-469D-81CD-2E7387C7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F4F3-5C4C-4508-99D8-F3E29663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7146-8EF3-49AB-9D1B-7E5FD3BB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14D0-3672-432B-9C58-456C3AEE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86D5-1B74-451B-B074-6566476E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75C-BEB0-4BFC-9591-40C06411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5F6-62F8-4861-A2DE-7FEE9592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2E1-39D3-4395-8EA2-2EE15234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987-0B6B-4D7F-82E0-2C270150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CCF-457E-44D2-BADB-C1ABA978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30D-BBDC-442D-BB8A-7CBAE77C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331-8981-420A-B06C-D663199A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CBF9-D88E-431B-9538-032B3E04B9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E690-4CBB-40AC-82A5-24AF4547F8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 Black"/>
              </a:rPr>
              <a:t>ПОЧВА – ОСОБОЕ ТЕЛО ЗЕМЛИ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641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Е ПОЧВ И ИХ РАЗНООБРАЗ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2240" y="2327400"/>
            <a:ext cx="6569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ГЛУБИТЬ И РАСШИРИТЬ ЗНАНИЯ    УЧАЩИХСЯ О ПОЧВЕ, ЕЕ ОБРАЗОВАНИЕ; СФОРМИРОВАТЬ ЗНАНИЯ О ФОРМИРОВВВАНИИ ПОЧ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276720"/>
            <a:ext cx="664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ошибок тестового зад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нового материа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разование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труктура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типы поч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Закрепление изученного матери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D21313_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94160"/>
            <a:ext cx="78487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ПОЧВ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69960" y="80316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743200"/>
            <a:ext cx="62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е определение почвы вы знаете из курса природоведения за 4 клас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почва  отличается от горной пород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ую роль почва играет в жизни растений и животны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D21313_" descr=""/>
          <p:cNvPicPr/>
          <p:nvPr/>
        </p:nvPicPr>
        <p:blipFill>
          <a:blip r:embed="rId1"/>
          <a:stretch/>
        </p:blipFill>
        <p:spPr>
          <a:xfrm>
            <a:off x="990720" y="5943600"/>
            <a:ext cx="5622840" cy="217440"/>
          </a:xfrm>
          <a:prstGeom prst="rect">
            <a:avLst/>
          </a:prstGeom>
          <a:ln w="0">
            <a:noFill/>
          </a:ln>
        </p:spPr>
      </p:pic>
      <p:pic>
        <p:nvPicPr>
          <p:cNvPr id="92" name="BD05219_" descr=""/>
          <p:cNvPicPr/>
          <p:nvPr/>
        </p:nvPicPr>
        <p:blipFill>
          <a:blip r:embed="rId2"/>
          <a:stretch/>
        </p:blipFill>
        <p:spPr>
          <a:xfrm>
            <a:off x="457200" y="214200"/>
            <a:ext cx="2514600" cy="235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05320" y="704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ПОЧ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52680" y="1523880"/>
            <a:ext cx="35053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одумай и ответ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2320" y="2286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делай запи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29528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ПОЧ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верхний тонкий слой земной коры (от десятков сантиметров до 2-3 метров), большей частью покрытый растительностью и обладающий плодороди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D21313_" descr=""/>
          <p:cNvPicPr/>
          <p:nvPr/>
        </p:nvPicPr>
        <p:blipFill>
          <a:blip r:embed="rId1"/>
          <a:stretch/>
        </p:blipFill>
        <p:spPr>
          <a:xfrm>
            <a:off x="1066680" y="579132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60680" y="345960"/>
            <a:ext cx="52736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Расположение  поч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295280"/>
          <a:ext cx="7238880" cy="4100400"/>
        </p:xfrm>
        <a:graphic>
          <a:graphicData uri="http://schemas.openxmlformats.org/drawingml/2006/table">
            <a:tbl>
              <a:tblPr/>
              <a:tblGrid>
                <a:gridCol w="1371240"/>
                <a:gridCol w="1295640"/>
                <a:gridCol w="2133360"/>
                <a:gridCol w="24386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распо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ост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ий сл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г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копление отмерших организмов , образующих перегной. От его количества зависит плодородие поч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сл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золист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перегноя, цвет как у золы. Образуется под пологом леса и травянистым покровом лугов. Бедны питательными веще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BD21313_" descr=""/>
          <p:cNvPicPr/>
          <p:nvPr/>
        </p:nvPicPr>
        <p:blipFill>
          <a:blip r:embed="rId1"/>
          <a:stretch/>
        </p:blipFill>
        <p:spPr>
          <a:xfrm>
            <a:off x="1066680" y="579132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60680" y="117360"/>
            <a:ext cx="451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685800"/>
            <a:ext cx="63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ОБРАЗОВАНИЕ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240" y="1336680"/>
            <a:ext cx="6645240" cy="372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ВРАЩЕНИЕ ГОРНЫХ ПОРОД В ПОЧВ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Times New Roman"/>
              </a:rPr>
              <a:t>Состав горных пор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66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imes New Roman"/>
              </a:rPr>
              <a:t>Действие природных факторов: солнца, ветра, воды; смена температу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Действие растений: разрушают горные породы корнями, образуют перег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Times New Roman"/>
              </a:rPr>
              <a:t>Действие животных (рис. 70 стр.118): образуют перегной поч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Действие микроорганизмов ( бактерии, микроскопические грибы): превращают перегной в минеральные веще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Время образования 1 см почвы: 100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21313_" descr=""/>
          <p:cNvPicPr/>
          <p:nvPr/>
        </p:nvPicPr>
        <p:blipFill>
          <a:blip r:embed="rId2"/>
          <a:stretch/>
        </p:blipFill>
        <p:spPr>
          <a:xfrm>
            <a:off x="1143000" y="579132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60156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ТРУКТУРА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295280"/>
            <a:ext cx="304812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676160" y="220968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228600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657600"/>
            <a:ext cx="2971800" cy="266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хл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уп возд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яет 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 раст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657600"/>
            <a:ext cx="3048120" cy="266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лкораздробл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ылев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вержена смыв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уванию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держивает во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хо растут рас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3640" y="293688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8440" y="293688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04812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971800"/>
            <a:ext cx="31244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581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638680" y="34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D21313_" descr=""/>
          <p:cNvPicPr/>
          <p:nvPr/>
        </p:nvPicPr>
        <p:blipFill>
          <a:blip r:embed="rId1"/>
          <a:stretch/>
        </p:blipFill>
        <p:spPr>
          <a:xfrm>
            <a:off x="1143000" y="647712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380880"/>
            <a:ext cx="441972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ПЫ ПОЧВ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5146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ДЗОЛИС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НОЗ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03848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Times New Roman"/>
              </a:rPr>
              <a:t>ПЕСЧА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ТОРФЯ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334120"/>
            <a:ext cx="31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СОЛОНЧА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334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ГЛИН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00200" y="83808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838080"/>
            <a:ext cx="27432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61960" y="838080"/>
            <a:ext cx="114300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838080"/>
            <a:ext cx="236196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123720" y="838080"/>
            <a:ext cx="381240" cy="449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838080"/>
            <a:ext cx="152388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BD21313_" descr=""/>
          <p:cNvPicPr/>
          <p:nvPr/>
        </p:nvPicPr>
        <p:blipFill>
          <a:blip r:embed="rId1"/>
          <a:stretch/>
        </p:blipFill>
        <p:spPr>
          <a:xfrm>
            <a:off x="1143000" y="632448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&quot;Почвенные горизонты&quot;&#13;&#13;&#10;В том, что почва неоднородна, можно легко убедиться, выкопав в лесу или саду неглубокую ямку. Хорошо заметно, что верхний более темный слой сменяется более светлым. Вы наблюдаете почвенные горизонты. В верхнем почвенном горизонте благодаря деятельности различных живых организмов происходит накопление особого вещества темного цвета - гумуса. Его содержание в почве определяет ее плодородие. Ниже располагается горизонт вымывания, в котором оседает часть веществ, поступающих из верхнего слоя почвы. Под ним залегает материнская порода, из которой и образуется собственно почва."/>
          <p:cNvPicPr/>
          <p:nvPr/>
        </p:nvPicPr>
        <p:blipFill>
          <a:blip r:embed="rId1"/>
          <a:stretch/>
        </p:blipFill>
        <p:spPr>
          <a:xfrm>
            <a:off x="457200" y="160200"/>
            <a:ext cx="72388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889280" y="422280"/>
            <a:ext cx="46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Times New Roman"/>
              </a:rPr>
              <a:t>ОТВЕТЬ НА ВОП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676520"/>
            <a:ext cx="573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входит в состав поч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олько увеличится толщина слоя почвы за человеческую жизнь (75 лет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личных почвах содержится разное количество питательных веществ. Объясните почем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существуют почв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тип почвы вы выберите для своего огоро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SY01265_" descr=""/>
          <p:cNvPicPr/>
          <p:nvPr/>
        </p:nvPicPr>
        <p:blipFill>
          <a:blip r:embed="rId1"/>
          <a:stretch/>
        </p:blipFill>
        <p:spPr>
          <a:xfrm flipH="1">
            <a:off x="533160" y="15228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BD21313_" descr=""/>
          <p:cNvPicPr/>
          <p:nvPr/>
        </p:nvPicPr>
        <p:blipFill>
          <a:blip r:embed="rId2"/>
          <a:stretch/>
        </p:blipFill>
        <p:spPr>
          <a:xfrm>
            <a:off x="1066680" y="617220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stya</cp:lastModifiedBy>
  <dcterms:modified xsi:type="dcterms:W3CDTF">2007-02-16T02:01:3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20000000000010250300207f7000400038000</vt:lpwstr>
  </property>
</Properties>
</file>