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BBB1-3139-4E5A-9A9C-03082A1F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2A51-9F99-40D3-B841-689735FF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6FD8-D3DB-4101-A1C6-914B311A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15D6-9CE8-4667-8089-5C65328FA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EB0A-029B-42C6-81AD-ECC27810B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E8EB-3614-46CE-A737-0556BFCD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9584-F474-4225-81A6-ECEB9926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E99E-89FC-453B-AFB8-EA398008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FFA7-D7A0-41AF-A725-2F0A3448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0233-184D-4145-B102-05B167D5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72D8-677E-43EC-BA88-07CBBB5F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4808-18A1-4059-8CBF-4576064A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E151-D54A-4FA8-93A3-0444FC64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36A3-A8D6-4230-8EF1-09C2EBEA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893D-2C8F-4F0B-8391-946FFF09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9D00-6FE6-4191-B9E4-B7C37616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80A9-BAB5-4675-816C-8532F9277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D878-F826-46C3-A4DC-8976C528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B9ED-707A-49A8-9610-9D382264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98A8-7104-417D-B4D7-159C230F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2038-4A31-49FE-965C-4B4D76B0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A22D-BCAC-4E7E-8D3D-33FEC770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F58C-23B7-46BC-9312-9CBC6569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FD88-49A5-4DEE-9CB5-B98D9FD2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0C3B-612F-473E-AC8F-C410AAF09E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B0EF-A8B6-4935-B875-381B06C07E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4674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Arial Black"/>
              </a:rPr>
              <a:t>ПОЧВА – ОСОБОЕ ТЕЛО ЗЕМЛИ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6416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РАЗОВАНИЕ ПОЧВ И ИХ РАЗНООБРАЗ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22240" y="2327400"/>
            <a:ext cx="65692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ЗАДАЧИ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ГЛУБИТЬ И РАСШИРИТЬ ЗНАНИЯ    УЧАЩИХСЯ О ПОЧВЕ, ЕЕ ОБРАЗОВАНИЕ; СФОРМИРОВАТЬ ЗНАНИЯ О ФОРМИРОВВВАНИИ ПОЧ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3276720"/>
            <a:ext cx="6645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из ошибок тестового зада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учение нового материал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оч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образование поч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труктура поч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типы поч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Закрепление изученного материа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D21313_" descr=""/>
          <p:cNvPicPr/>
          <p:nvPr/>
        </p:nvPicPr>
        <p:blipFill>
          <a:blip r:embed="rId1"/>
          <a:stretch/>
        </p:blipFill>
        <p:spPr>
          <a:xfrm>
            <a:off x="1143000" y="6248520"/>
            <a:ext cx="562284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794160"/>
            <a:ext cx="784872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 Black"/>
              </a:rPr>
              <a:t>ПОЧВА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669960" y="80316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743200"/>
            <a:ext cx="62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е определение почвы вы знаете из курса природоведения за 4 класс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м почва  отличается от горной пород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ую роль почва играет в жизни растений и животных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BD21313_" descr=""/>
          <p:cNvPicPr/>
          <p:nvPr/>
        </p:nvPicPr>
        <p:blipFill>
          <a:blip r:embed="rId1"/>
          <a:stretch/>
        </p:blipFill>
        <p:spPr>
          <a:xfrm>
            <a:off x="990720" y="5943600"/>
            <a:ext cx="5622840" cy="217440"/>
          </a:xfrm>
          <a:prstGeom prst="rect">
            <a:avLst/>
          </a:prstGeom>
          <a:ln w="0">
            <a:noFill/>
          </a:ln>
        </p:spPr>
      </p:pic>
      <p:pic>
        <p:nvPicPr>
          <p:cNvPr id="92" name="BD05219_" descr=""/>
          <p:cNvPicPr/>
          <p:nvPr/>
        </p:nvPicPr>
        <p:blipFill>
          <a:blip r:embed="rId2"/>
          <a:stretch/>
        </p:blipFill>
        <p:spPr>
          <a:xfrm>
            <a:off x="457200" y="214200"/>
            <a:ext cx="2514600" cy="2355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505320" y="7048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Times New Roman"/>
              </a:rPr>
              <a:t>ПОЧ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352680" y="1523880"/>
            <a:ext cx="35053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подумай и ответь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362320" y="2286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Сделай запис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295280"/>
            <a:ext cx="701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ПОЧ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это верхний тонкий слой земной коры (от десятков сантиметров до 2-3 метров), большей частью покрытый растительностью и обладающий плодородие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BD21313_" descr=""/>
          <p:cNvPicPr/>
          <p:nvPr/>
        </p:nvPicPr>
        <p:blipFill>
          <a:blip r:embed="rId1"/>
          <a:stretch/>
        </p:blipFill>
        <p:spPr>
          <a:xfrm>
            <a:off x="1066680" y="5791320"/>
            <a:ext cx="562320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660680" y="345960"/>
            <a:ext cx="52736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Расположение  почв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04920" y="1295280"/>
          <a:ext cx="7238880" cy="4100400"/>
        </p:xfrm>
        <a:graphic>
          <a:graphicData uri="http://schemas.openxmlformats.org/drawingml/2006/table">
            <a:tbl>
              <a:tblPr/>
              <a:tblGrid>
                <a:gridCol w="1371240"/>
                <a:gridCol w="1295640"/>
                <a:gridCol w="2133360"/>
                <a:gridCol w="2438640"/>
              </a:tblGrid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располо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цв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соста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хний сл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гн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копление отмерших организмов , образующих перегной. От его количества зависит плодородие поч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жний сл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золист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 перегноя, цвет как у золы. Образуется под пологом леса и травянистым покровом лугов. Бедны питательными веществ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0" name="BD21313_" descr=""/>
          <p:cNvPicPr/>
          <p:nvPr/>
        </p:nvPicPr>
        <p:blipFill>
          <a:blip r:embed="rId1"/>
          <a:stretch/>
        </p:blipFill>
        <p:spPr>
          <a:xfrm>
            <a:off x="1066680" y="5791320"/>
            <a:ext cx="562320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660680" y="117360"/>
            <a:ext cx="451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685800"/>
            <a:ext cx="63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Times New Roman"/>
              </a:rPr>
              <a:t>ОБРАЗОВАНИЕ ПОЧ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2240" y="1336680"/>
            <a:ext cx="6645240" cy="3722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ВРАЩЕНИЕ ГОРНЫХ ПОРОД В ПОЧВУ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9900"/>
                </a:solidFill>
                <a:latin typeface="Times New Roman"/>
              </a:rPr>
              <a:t>Состав горных поро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66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Times New Roman"/>
              </a:rPr>
              <a:t>Действие природных факторов: солнца, ветра, воды; смена температур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Действие растений: разрушают горные породы корнями, образуют перегн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Times New Roman"/>
              </a:rPr>
              <a:t>Действие животных (рис. 70 стр.118): образуют перегной почв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Действие микроорганизмов ( бактерии, микроскопические грибы): превращают перегной в минеральные веществ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Times New Roman"/>
              </a:rPr>
              <a:t>Время образования 1 см почвы: 100 л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D21313_" descr=""/>
          <p:cNvPicPr/>
          <p:nvPr/>
        </p:nvPicPr>
        <p:blipFill>
          <a:blip r:embed="rId2"/>
          <a:stretch/>
        </p:blipFill>
        <p:spPr>
          <a:xfrm>
            <a:off x="1143000" y="5791320"/>
            <a:ext cx="562284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2120" y="60156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ТРУКТУРА ПОЧ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1295280"/>
            <a:ext cx="3048120" cy="990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676160" y="2209680"/>
            <a:ext cx="1447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228600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3657600"/>
            <a:ext cx="2971800" cy="2666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ыхла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ступ возду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храняет во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рошо расту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т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3657600"/>
            <a:ext cx="3048120" cy="2666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лкораздроблен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ылева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вержена смыв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дуванию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задерживает вод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хо растут раст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3640" y="2936880"/>
            <a:ext cx="27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УКТУР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08440" y="2936880"/>
            <a:ext cx="253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3048120"/>
            <a:ext cx="25146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УКТУР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2971800"/>
            <a:ext cx="312444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ССТРУКТУР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35812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638680" y="3428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BD21313_" descr=""/>
          <p:cNvPicPr/>
          <p:nvPr/>
        </p:nvPicPr>
        <p:blipFill>
          <a:blip r:embed="rId1"/>
          <a:stretch/>
        </p:blipFill>
        <p:spPr>
          <a:xfrm>
            <a:off x="1143000" y="6477120"/>
            <a:ext cx="562284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28800" y="380880"/>
            <a:ext cx="4419720" cy="381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ИПЫ ПОЧВ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251460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ПОДЗОЛИСТ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2590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РНОЗ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4038480"/>
            <a:ext cx="26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Times New Roman"/>
              </a:rPr>
              <a:t>ПЕСЧА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4038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ТОРФЯ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5334120"/>
            <a:ext cx="313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ff"/>
                </a:solidFill>
                <a:latin typeface="Times New Roman"/>
              </a:rPr>
              <a:t>СОЛОНЧАК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62520" y="53341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ГЛИНИСТ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600200" y="838080"/>
            <a:ext cx="19051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838080"/>
            <a:ext cx="274320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361960" y="838080"/>
            <a:ext cx="114300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05320" y="838080"/>
            <a:ext cx="236196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123720" y="838080"/>
            <a:ext cx="381240" cy="449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05320" y="838080"/>
            <a:ext cx="152388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BD21313_" descr=""/>
          <p:cNvPicPr/>
          <p:nvPr/>
        </p:nvPicPr>
        <p:blipFill>
          <a:blip r:embed="rId1"/>
          <a:stretch/>
        </p:blipFill>
        <p:spPr>
          <a:xfrm>
            <a:off x="1143000" y="6324480"/>
            <a:ext cx="562284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&quot;Почвенные горизонты&quot;&#13;&#13;&#10;В том, что почва неоднородна, можно легко убедиться, выкопав в лесу или саду неглубокую ямку. Хорошо заметно, что верхний более темный слой сменяется более светлым. Вы наблюдаете почвенные горизонты. В верхнем почвенном горизонте благодаря деятельности различных живых организмов происходит накопление особого вещества темного цвета - гумуса. Его содержание в почве определяет ее плодородие. Ниже располагается горизонт вымывания, в котором оседает часть веществ, поступающих из верхнего слоя почвы. Под ним залегает материнская порода, из которой и образуется собственно почва."/>
          <p:cNvPicPr/>
          <p:nvPr/>
        </p:nvPicPr>
        <p:blipFill>
          <a:blip r:embed="rId1"/>
          <a:stretch/>
        </p:blipFill>
        <p:spPr>
          <a:xfrm>
            <a:off x="457200" y="160200"/>
            <a:ext cx="723888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889280" y="422280"/>
            <a:ext cx="46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00"/>
                </a:solidFill>
                <a:latin typeface="Times New Roman"/>
              </a:rPr>
              <a:t>ОТВЕТЬ НА ВОПРО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676520"/>
            <a:ext cx="5730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входит в состав почв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сколько увеличится толщина слоя почвы за человеческую жизнь (75 лет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азличных почвах содержится разное количество питательных веществ. Объясните почем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ие существуют почв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й тип почвы вы выберите для своего огород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SY01265_" descr=""/>
          <p:cNvPicPr/>
          <p:nvPr/>
        </p:nvPicPr>
        <p:blipFill>
          <a:blip r:embed="rId1"/>
          <a:stretch/>
        </p:blipFill>
        <p:spPr>
          <a:xfrm flipH="1">
            <a:off x="533160" y="152280"/>
            <a:ext cx="1066680" cy="1371600"/>
          </a:xfrm>
          <a:prstGeom prst="rect">
            <a:avLst/>
          </a:prstGeom>
          <a:ln w="0">
            <a:noFill/>
          </a:ln>
        </p:spPr>
      </p:pic>
      <p:pic>
        <p:nvPicPr>
          <p:cNvPr id="137" name="BD21313_" descr=""/>
          <p:cNvPicPr/>
          <p:nvPr/>
        </p:nvPicPr>
        <p:blipFill>
          <a:blip r:embed="rId2"/>
          <a:stretch/>
        </p:blipFill>
        <p:spPr>
          <a:xfrm>
            <a:off x="1066680" y="6172200"/>
            <a:ext cx="562320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ostya</cp:lastModifiedBy>
  <dcterms:modified xsi:type="dcterms:W3CDTF">2007-02-16T02:01:3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20000000000010250300207f7000400038000</vt:lpwstr>
  </property>
</Properties>
</file>