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545-8E21-422C-B6A4-46BBAB4E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248-6D6C-4BEF-9357-E745EA8A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A6F-A0A1-4803-83CE-E0F14618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CEA-218E-4AFC-B1C2-B4AB7822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5EB5-91AF-4D64-B7C1-5640F4EA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0147-07F0-46BC-B721-9D9B74B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1653-BB05-470C-B0B3-221816BF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96C9-C633-4BA2-965A-F3B607B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690D-BF5E-4883-B18A-37D15473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2D26-1023-4D1B-833E-506C5C9C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3B60-56E4-4E93-9390-776618E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D44-64D7-48EB-8A35-EB6B9B3C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D419-518B-40EB-8998-15EB8DB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6C3A-9421-45BF-BA3F-F7A2498D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1A8E-4527-48B9-B643-1B0123BF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06DB-FEBF-4F42-AE4C-CF41560F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0DD3-58F8-475D-8740-BC974BC4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26C-6FAC-40DF-9EDC-BD1C2554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2C2-2CDA-4555-B9A4-532FD81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E76-C737-4CD6-8A11-DDE2DAF0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FC3-B48A-4DF8-848A-8F06C40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CB0-B39B-43DB-BE9B-E8A084A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987-7171-4DEB-87CE-FD1E9108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F9F-BD73-4E26-AF11-9C379AA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2EFA-5A69-464D-97E8-51EA0E1C73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B48C-D9E9-4A54-B52D-84BC1F214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 Black"/>
              </a:rPr>
              <a:t>ПОЧВА – ОСОБОЕ ТЕЛО ЗЕМЛИ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641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 ПОЧВ И ИХ РАЗНООБРАЗ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2327400"/>
            <a:ext cx="6569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ГЛУБИТЬ И РАСШИРИТЬ ЗНАНИЯ    УЧАЩИХСЯ О ПОЧВЕ, ЕЕ ОБРАЗОВАНИЕ; СФОРМИРОВАТЬ ЗНАНИЯ О ФОРМИРОВВВАНИИ ПОЧ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276720"/>
            <a:ext cx="664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ошибок тестового зад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нового материа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разование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руктура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ипы поч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Закрепление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D21313_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94160"/>
            <a:ext cx="78487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ПОЧВ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69960" y="80316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743200"/>
            <a:ext cx="62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определение почвы вы знаете из курса природоведения за 4 клас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почва  отличается от горной поро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ую роль почва играет в жизни растений и животны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D21313_" descr=""/>
          <p:cNvPicPr/>
          <p:nvPr/>
        </p:nvPicPr>
        <p:blipFill>
          <a:blip r:embed="rId1"/>
          <a:stretch/>
        </p:blipFill>
        <p:spPr>
          <a:xfrm>
            <a:off x="990720" y="5943600"/>
            <a:ext cx="562284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BD05219_" descr=""/>
          <p:cNvPicPr/>
          <p:nvPr/>
        </p:nvPicPr>
        <p:blipFill>
          <a:blip r:embed="rId2"/>
          <a:stretch/>
        </p:blipFill>
        <p:spPr>
          <a:xfrm>
            <a:off x="457200" y="214200"/>
            <a:ext cx="2514600" cy="235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05320" y="704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52680" y="1523880"/>
            <a:ext cx="3505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одумай и ответ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228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делай зап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верхний тонкий слой земной коры (от десятков сантиметров до 2-3 метров), большей частью покрытый растительностью и обладающий плодороди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D21313_" descr=""/>
          <p:cNvPicPr/>
          <p:nvPr/>
        </p:nvPicPr>
        <p:blipFill>
          <a:blip r:embed="rId1"/>
          <a:stretch/>
        </p:blipFill>
        <p:spPr>
          <a:xfrm>
            <a:off x="1066680" y="579132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60680" y="345960"/>
            <a:ext cx="527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асположение  поч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95280"/>
          <a:ext cx="7238880" cy="4100400"/>
        </p:xfrm>
        <a:graphic>
          <a:graphicData uri="http://schemas.openxmlformats.org/drawingml/2006/table">
            <a:tbl>
              <a:tblPr/>
              <a:tblGrid>
                <a:gridCol w="1371240"/>
                <a:gridCol w="1295640"/>
                <a:gridCol w="2133360"/>
                <a:gridCol w="24386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аспо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ий сл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г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опление отмерших организмов , образующих перегной. От его количества зависит плодородие поч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сл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золис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перегноя, цвет как у золы. Образуется под пологом леса и травянистым покровом лугов. Бедны питательными веще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BD21313_" descr=""/>
          <p:cNvPicPr/>
          <p:nvPr/>
        </p:nvPicPr>
        <p:blipFill>
          <a:blip r:embed="rId1"/>
          <a:stretch/>
        </p:blipFill>
        <p:spPr>
          <a:xfrm>
            <a:off x="1066680" y="579132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60680" y="117360"/>
            <a:ext cx="451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85800"/>
            <a:ext cx="63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ОБРАЗОВАНИЕ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240" y="1336680"/>
            <a:ext cx="6645240" cy="37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ВРАЩЕНИЕ ГОРНЫХ ПОРОД В ПОЧВ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Times New Roman"/>
              </a:rPr>
              <a:t>Состав горных пор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imes New Roman"/>
              </a:rPr>
              <a:t>Действие природных факторов: солнца, ветра, воды; смена темпер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ействие растений: разрушают горные породы корнями, образуют перег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Действие животных (рис. 70 стр.118): образуют перегной поч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Действие микроорганизмов ( бактерии, микроскопические грибы): превращают перегной в минеральные вещ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Время образования 1 см почвы: 100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21313_" descr=""/>
          <p:cNvPicPr/>
          <p:nvPr/>
        </p:nvPicPr>
        <p:blipFill>
          <a:blip r:embed="rId2"/>
          <a:stretch/>
        </p:blipFill>
        <p:spPr>
          <a:xfrm>
            <a:off x="1143000" y="57913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0156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УКТУРА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295280"/>
            <a:ext cx="304812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76160" y="22096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28600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657600"/>
            <a:ext cx="297180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хл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уп возд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яет 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 раст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657600"/>
            <a:ext cx="304812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лкораздробл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ылев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ержена смыв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уван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держивае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о растут 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293688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8440" y="293688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04812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971800"/>
            <a:ext cx="3124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63868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D21313_" descr=""/>
          <p:cNvPicPr/>
          <p:nvPr/>
        </p:nvPicPr>
        <p:blipFill>
          <a:blip r:embed="rId1"/>
          <a:stretch/>
        </p:blipFill>
        <p:spPr>
          <a:xfrm>
            <a:off x="1143000" y="64771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380880"/>
            <a:ext cx="441972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ПОЧ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514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ДЗОЛИ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НОЗ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0384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Times New Roman"/>
              </a:rPr>
              <a:t>ПЕСЧА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ТОРФЯ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33412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СОЛОНЧА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334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ГЛИН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00200" y="83808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838080"/>
            <a:ext cx="27432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61960" y="838080"/>
            <a:ext cx="114300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838080"/>
            <a:ext cx="236196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123720" y="838080"/>
            <a:ext cx="38124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838080"/>
            <a:ext cx="152388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D21313_" descr=""/>
          <p:cNvPicPr/>
          <p:nvPr/>
        </p:nvPicPr>
        <p:blipFill>
          <a:blip r:embed="rId1"/>
          <a:stretch/>
        </p:blipFill>
        <p:spPr>
          <a:xfrm>
            <a:off x="1143000" y="632448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&quot;Почвенные горизонты&quot;&#13;&#13;&#10;В том, что почва неоднородна, можно легко убедиться, выкопав в лесу или саду неглубокую ямку. Хорошо заметно, что верхний более темный слой сменяется более светлым. Вы наблюдаете почвенные горизонты. В верхнем почвенном горизонте благодаря деятельности различных живых организмов происходит накопление особого вещества темного цвета - гумуса. Его содержание в почве определяет ее плодородие. Ниже располагается горизонт вымывания, в котором оседает часть веществ, поступающих из верхнего слоя почвы. Под ним залегает материнская порода, из которой и образуется собственно почва."/>
          <p:cNvPicPr/>
          <p:nvPr/>
        </p:nvPicPr>
        <p:blipFill>
          <a:blip r:embed="rId1"/>
          <a:stretch/>
        </p:blipFill>
        <p:spPr>
          <a:xfrm>
            <a:off x="457200" y="160200"/>
            <a:ext cx="7238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89280" y="422280"/>
            <a:ext cx="46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ОТВЕТЬ НА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76520"/>
            <a:ext cx="573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входит в состав поч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олько увеличится толщина слоя почвы за человеческую жизнь (75 лет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личных почвах содержится разное количество питательных веществ. Объясните 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существуют почв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тип почвы вы выберите для своего огоро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SY01265_" descr=""/>
          <p:cNvPicPr/>
          <p:nvPr/>
        </p:nvPicPr>
        <p:blipFill>
          <a:blip r:embed="rId1"/>
          <a:stretch/>
        </p:blipFill>
        <p:spPr>
          <a:xfrm flipH="1">
            <a:off x="533160" y="15228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BD21313_" descr=""/>
          <p:cNvPicPr/>
          <p:nvPr/>
        </p:nvPicPr>
        <p:blipFill>
          <a:blip r:embed="rId2"/>
          <a:stretch/>
        </p:blipFill>
        <p:spPr>
          <a:xfrm>
            <a:off x="1066680" y="617220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stya</cp:lastModifiedBy>
  <dcterms:modified xsi:type="dcterms:W3CDTF">2007-02-16T02:01:3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20000000000010250300207f7000400038000</vt:lpwstr>
  </property>
</Properties>
</file>