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43.png" ContentType="image/pn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20.jpeg" ContentType="image/jpeg"/>
  <Override PartName="/ppt/media/image15.jpeg" ContentType="image/jpeg"/>
  <Override PartName="/ppt/media/image65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26.png" ContentType="image/pn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57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607-FBC8-4E79-952E-20F458D5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92A3-4C09-4935-8269-9A1563AE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4105-41F4-4732-A3FD-191C7989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E3E7-7AE9-46EF-A4D5-C8B87ACA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03B9-E7B4-411B-B9FC-40795DBD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3F13-D543-40E8-AB5B-A6E20D14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1EEE-A8E2-4E33-AB13-23560BD9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242-B102-42D9-993D-CEA5780F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F079-A80E-45EE-82C3-5A7BFC41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8D4-29D2-46DB-BC04-51B7D3E0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E07C-EFF1-4B29-9A28-CBAADF50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28D8-7674-40D9-8750-76A666B0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9D1D-F3FF-4CCF-87D3-C4529E6CA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8/80/LatePermianGlobal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2/25/Ocher_fauna_DB.jpg" TargetMode="External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hyperlink" Target="http://www.dinosaurstore.com/images/Castings/SEYMOURIA%20PERMIAN.jpg" TargetMode="External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ataklizmi.com/uploads/15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hyperlink" Target="http://www.museum.ru/imgB.asp?11612" TargetMode="External"/><Relationship Id="rId4" Type="http://schemas.openxmlformats.org/officeDocument/2006/relationships/image" Target="../media/image55.jpeg"/><Relationship Id="rId5" Type="http://schemas.openxmlformats.org/officeDocument/2006/relationships/hyperlink" Target="http://photo.starnet.ru/Thematic_Wallpapers/Zhizn/Dikie_zhivotnye/dinosaurs_fossils/images/h66.jpg" TargetMode="External"/><Relationship Id="rId6" Type="http://schemas.openxmlformats.org/officeDocument/2006/relationships/image" Target="../media/image56.jpeg"/><Relationship Id="rId7" Type="http://schemas.openxmlformats.org/officeDocument/2006/relationships/hyperlink" Target="http://museumvictoria.com.au/pages/8746/mm-inostrancevia-illustration-big.jpg" TargetMode="External"/><Relationship Id="rId8" Type="http://schemas.openxmlformats.org/officeDocument/2006/relationships/image" Target="../media/image57.jpe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hyperlink" Target="http://mirgeo.net/index.php?option=com_datsogallery&amp;Itemid=69&amp;func=wmark&amp;oid=1580" TargetMode="External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lopp.ru/uploads/posts/2007-12/thumbs/1198658426_f_walking-with-dino_008_cynodont.jpg" TargetMode="External"/><Relationship Id="rId3" Type="http://schemas.openxmlformats.org/officeDocument/2006/relationships/image" Target="../media/image62.jpeg"/><Relationship Id="rId4" Type="http://schemas.openxmlformats.org/officeDocument/2006/relationships/hyperlink" Target="http://dic.academic.ru/pictures/enwiki/79/Oligokyphus_BW.jpg" TargetMode="External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image" Target="../media/image60.jpeg"/><Relationship Id="rId8" Type="http://schemas.openxmlformats.org/officeDocument/2006/relationships/image" Target="../media/image6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pics.livejournal.com/leucosporidium/pic/0002yywb" TargetMode="External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hyperlink" Target="http://www.kamneynet.ru/products_pictures/0591.jpg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hyperlink" Target="http://s44.radikal.ru/i103/0908/75/0acd23414251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5/50/Dimetrodon_loomisi_DB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Файл:LatePermianGlobal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1523880"/>
            <a:ext cx="7619760" cy="3810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99600" y="5445000"/>
            <a:ext cx="5055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ля в эпоху поздней перми (татарский ве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51240" y="404640"/>
            <a:ext cx="219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мский пери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496000" cy="3795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6810840" y="692280"/>
            <a:ext cx="149292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метрод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83560" y="115920"/>
            <a:ext cx="150660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лик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Файл:Ocher fauna DB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5761080" cy="3838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780000" y="3260880"/>
            <a:ext cx="5171760" cy="3444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6379560" y="836640"/>
            <a:ext cx="170172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ликозав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Современник и родич геробатрахуса — полутораметровый темноспондильный лабиринтодонт Eryops. Изображение с сайта www.fossilmuseum.net"/>
          <p:cNvPicPr/>
          <p:nvPr/>
        </p:nvPicPr>
        <p:blipFill>
          <a:blip r:embed="rId2"/>
          <a:stretch/>
        </p:blipFill>
        <p:spPr>
          <a:xfrm>
            <a:off x="250920" y="404640"/>
            <a:ext cx="5715000" cy="4991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2183760" y="-7920"/>
            <a:ext cx="213444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абиринтодо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720" y="50133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иринтодон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Ery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156360" y="1989000"/>
            <a:ext cx="2857320" cy="4707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435640" y="333360"/>
            <a:ext cx="33814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Скелет геробатрахуса. Изображение из обсуждаемой статьи в Nature"/>
          <p:cNvPicPr/>
          <p:nvPr/>
        </p:nvPicPr>
        <p:blipFill>
          <a:blip r:embed="rId2"/>
          <a:stretch/>
        </p:blipFill>
        <p:spPr>
          <a:xfrm>
            <a:off x="5076720" y="115920"/>
            <a:ext cx="3689280" cy="5877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1274760" y="5941800"/>
            <a:ext cx="786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евней амфибии дали родовое названи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Gerobatrachu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что переводится как «старая лягушка». Впрочем, с тем же успехом ее можно было назвать и «старой саламандро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258920" y="3303720"/>
            <a:ext cx="3408480" cy="2555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3809880" cy="2685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59560" y="115920"/>
            <a:ext cx="200196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скозавриск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7200720" cy="2689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2347200" y="115920"/>
            <a:ext cx="398916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тилозавры пермского пери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435640" y="2060640"/>
            <a:ext cx="3360600" cy="4653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2" name="" descr="Картинка 3 из 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3141720"/>
            <a:ext cx="4667400" cy="3409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16120" y="6400800"/>
            <a:ext cx="128412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йму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050000" cy="431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5" name="" descr="Картинка 1 из 6"/>
          <p:cNvPicPr/>
          <p:nvPr/>
        </p:nvPicPr>
        <p:blipFill>
          <a:blip r:embed="rId3"/>
          <a:stretch/>
        </p:blipFill>
        <p:spPr>
          <a:xfrm>
            <a:off x="5940360" y="0"/>
            <a:ext cx="2971800" cy="4537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994200" y="2205000"/>
            <a:ext cx="3699000" cy="4464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545400" y="5157720"/>
            <a:ext cx="320292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лора пермского пери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5429520" cy="4000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364000" y="4076640"/>
            <a:ext cx="3429000" cy="2552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702400" y="404640"/>
            <a:ext cx="3333600" cy="3267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1337760" y="260280"/>
            <a:ext cx="320292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лора пермского пери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45680" y="3282840"/>
            <a:ext cx="203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скопаемая личи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762440" cy="3571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833760" y="4005360"/>
            <a:ext cx="287064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рущиеся горгоноп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211640" y="3716280"/>
            <a:ext cx="4762440" cy="2886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508720" y="333360"/>
            <a:ext cx="3527280" cy="2646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041800" cy="4513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887040" y="5392800"/>
            <a:ext cx="172764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нтанозух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791240" y="2349360"/>
            <a:ext cx="4160520" cy="4175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Картинка 1 из 28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04640"/>
            <a:ext cx="864072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3686040" cy="1266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195640" y="2492280"/>
            <a:ext cx="666720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50920" y="115920"/>
            <a:ext cx="2423880" cy="3240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130840" y="1773360"/>
            <a:ext cx="165456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плокаул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50840" y="6308640"/>
            <a:ext cx="159804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отозух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5715000" cy="3076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51040" y="6329520"/>
            <a:ext cx="132084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кут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003640" y="260280"/>
            <a:ext cx="3934080" cy="2867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874480" y="2997360"/>
            <a:ext cx="139536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ади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324000" y="333360"/>
            <a:ext cx="4248000" cy="2973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29760" y="0"/>
            <a:ext cx="193032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дняя перм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1920" y="2852640"/>
            <a:ext cx="157068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голем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400720" cy="3600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3497760" y="0"/>
            <a:ext cx="193032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дняя перм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5200" y="1052640"/>
            <a:ext cx="155988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цинод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http://www.ngdir.ir/sitelinks/kids/Image/diano-farsi/Kannemeyeria2-ma.jpg"/>
          <p:cNvPicPr/>
          <p:nvPr/>
        </p:nvPicPr>
        <p:blipFill>
          <a:blip r:embed="rId3"/>
          <a:stretch/>
        </p:blipFill>
        <p:spPr>
          <a:xfrm>
            <a:off x="826920" y="4089240"/>
            <a:ext cx="3095640" cy="2652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26" name="" descr="http://www.beliceweb.it/alveare/img_art/placerias.jpg"/>
          <p:cNvPicPr/>
          <p:nvPr/>
        </p:nvPicPr>
        <p:blipFill>
          <a:blip r:embed="rId4"/>
          <a:stretch/>
        </p:blipFill>
        <p:spPr>
          <a:xfrm>
            <a:off x="4572000" y="350028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4932360" y="452520"/>
            <a:ext cx="3960720" cy="2636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5629320" cy="3733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929760" y="0"/>
            <a:ext cx="193032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дняя перм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8280" y="3716280"/>
            <a:ext cx="258876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ык иностранцев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Картинка 7 из 4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549360"/>
            <a:ext cx="3924360" cy="2841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2" name="" descr="Картинка 19 из 4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6200" y="4187880"/>
            <a:ext cx="3403800" cy="2554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3" name="" descr="Картинка 9 из 4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59280" y="3573360"/>
            <a:ext cx="5076720" cy="2524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4941000" y="6237360"/>
            <a:ext cx="192420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остранце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7560"/>
            <a:ext cx="8753760" cy="17974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птилии сменили свою походку сразу после массового вымирания видов в конце пермского периода. Если до кризиса, произошедшего около 250 миллионов лет назад, рептилии ходили вразвалочку на согнутых ногах, то после него резко «выпрямились». Кстати, в то время погибло 90% существовавших ви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знать такие подробности о способах передвижения рептилий миллионы лет назад ученые смогли, проанализировав 460 окаменевших образца следов, относящихся ко времени до и после массового вымир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3240360" cy="324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7" name="" descr="Edaphosaurus (Эдафозавр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11640" y="3429000"/>
            <a:ext cx="4267080" cy="3200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8" name="" descr="Картинка 20 из 30"/>
          <p:cNvPicPr/>
          <p:nvPr/>
        </p:nvPicPr>
        <p:blipFill>
          <a:blip r:embed="rId5"/>
          <a:stretch/>
        </p:blipFill>
        <p:spPr>
          <a:xfrm>
            <a:off x="684360" y="1773360"/>
            <a:ext cx="2447640" cy="1395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8064360" cy="5870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2921760" y="259560"/>
            <a:ext cx="307476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цинодонт (dicynodo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Картинка 2 из 3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349360"/>
            <a:ext cx="3319560" cy="4241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Картинка 6 из 3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08360" y="3068640"/>
            <a:ext cx="5076720" cy="1552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Картинка 4 из 30"/>
          <p:cNvPicPr/>
          <p:nvPr/>
        </p:nvPicPr>
        <p:blipFill>
          <a:blip r:embed="rId6"/>
          <a:stretch/>
        </p:blipFill>
        <p:spPr>
          <a:xfrm>
            <a:off x="5435640" y="189000"/>
            <a:ext cx="3551040" cy="2663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Картинка 20 из 30"/>
          <p:cNvPicPr/>
          <p:nvPr/>
        </p:nvPicPr>
        <p:blipFill>
          <a:blip r:embed="rId7"/>
          <a:stretch/>
        </p:blipFill>
        <p:spPr>
          <a:xfrm>
            <a:off x="179280" y="765000"/>
            <a:ext cx="2808360" cy="1478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Картинка 15 из 30"/>
          <p:cNvPicPr/>
          <p:nvPr/>
        </p:nvPicPr>
        <p:blipFill>
          <a:blip r:embed="rId8"/>
          <a:stretch/>
        </p:blipFill>
        <p:spPr>
          <a:xfrm>
            <a:off x="3851280" y="4869000"/>
            <a:ext cx="45910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952720" cy="2614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" name="" descr="Аммониты: Рис.1"/>
          <p:cNvPicPr/>
          <p:nvPr/>
        </p:nvPicPr>
        <p:blipFill>
          <a:blip r:embed="rId3"/>
          <a:stretch/>
        </p:blipFill>
        <p:spPr>
          <a:xfrm>
            <a:off x="250920" y="2997360"/>
            <a:ext cx="2500200" cy="252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5012640" y="692280"/>
            <a:ext cx="118368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ниа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5920" y="5589720"/>
            <a:ext cx="161640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ммоно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3640" y="1989000"/>
            <a:ext cx="4392720" cy="468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3501720" y="6308640"/>
            <a:ext cx="134208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отинит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443640" y="189000"/>
            <a:ext cx="2519280" cy="2195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Мезозавр"/>
          <p:cNvPicPr/>
          <p:nvPr/>
        </p:nvPicPr>
        <p:blipFill>
          <a:blip r:embed="rId2"/>
          <a:stretch/>
        </p:blipFill>
        <p:spPr>
          <a:xfrm>
            <a:off x="324000" y="189000"/>
            <a:ext cx="4286160" cy="5637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218840" y="3213000"/>
            <a:ext cx="125208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з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788000" y="189000"/>
            <a:ext cx="4176720" cy="2436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771640" y="4797360"/>
            <a:ext cx="2857680" cy="1905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651640" y="2637000"/>
            <a:ext cx="2857320" cy="2514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7" name="" descr="Картинка 14 из 2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72360" y="5300640"/>
            <a:ext cx="1676160" cy="1257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6229440" y="6381000"/>
            <a:ext cx="2055240" cy="368280"/>
          </a:xfrm>
          <a:prstGeom prst="rect">
            <a:avLst/>
          </a:prstGeom>
          <a:solidFill>
            <a:srgbClr val="f8e4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уб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зозав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3929760" y="0"/>
            <a:ext cx="193032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дняя перм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50680" y="6329520"/>
            <a:ext cx="117576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з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166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258120" y="4149720"/>
            <a:ext cx="125208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з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4743720" cy="5545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076720" y="333360"/>
            <a:ext cx="3829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392720" cy="329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7" name="" descr="Картинка 3 из 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2637000"/>
            <a:ext cx="5221440" cy="3917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4631040" y="6400800"/>
            <a:ext cx="292860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метродон (пеликозав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Файл:Dimetrodon loomisi DB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692280"/>
            <a:ext cx="8642160" cy="5757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3283560" y="115920"/>
            <a:ext cx="150660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ликоз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31040" y="6400800"/>
            <a:ext cx="1492920" cy="368280"/>
          </a:xfrm>
          <a:prstGeom prst="rect">
            <a:avLst/>
          </a:prstGeom>
          <a:solidFill>
            <a:srgbClr val="f8e4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метрод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00:26:03Z</dcterms:created>
  <dc:creator>Леонова</dc:creator>
  <dc:description/>
  <dc:language>en-US</dc:language>
  <cp:lastModifiedBy>Леонова</cp:lastModifiedBy>
  <dcterms:modified xsi:type="dcterms:W3CDTF">2009-10-26T20:17:24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1f000000000001024140</vt:lpwstr>
  </property>
</Properties>
</file>