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6.jpeg" ContentType="image/jpeg"/>
  <Override PartName="/ppt/media/image55.jpeg" ContentType="image/jpeg"/>
  <Override PartName="/ppt/media/image43.png" ContentType="image/png"/>
  <Override PartName="/ppt/media/image6.jpeg" ContentType="image/jpeg"/>
  <Override PartName="/ppt/media/image63.jpeg" ContentType="image/jpeg"/>
  <Override PartName="/ppt/media/image5.jpeg" ContentType="image/jpeg"/>
  <Override PartName="/ppt/media/image62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35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46.jpeg" ContentType="image/jpeg"/>
  <Override PartName="/ppt/media/image20.jpeg" ContentType="image/jpeg"/>
  <Override PartName="/ppt/media/image15.jpeg" ContentType="image/jpeg"/>
  <Override PartName="/ppt/media/image65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26.png" ContentType="image/pn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44.png" ContentType="image/png"/>
  <Override PartName="/ppt/media/image2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57.jpeg" ContentType="image/jpeg"/>
  <Override PartName="/ppt/media/image45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6522-9535-41E1-9B96-FB58B5027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DC47-B071-43FA-A85C-8797528D7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81D9-C8E1-4828-AE57-E7C6DC95D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5A8D-718B-4B6F-B28E-619A46255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2DB2-FB86-422C-A152-DAD31CAD4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D80D-F038-4C2F-90CC-DA1E947FD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8399-8E48-4567-B5A0-7EF54AFAB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0989-ECF3-4C82-9315-E522CDABE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1099-44FA-4A90-842B-86DD3A379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0720-6DB9-45CE-A4FD-0DF4E59D3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FABF-62F1-4C01-9298-DF53FC333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DF26-4208-45B0-92EB-C35ED40AD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8601B-6742-44AF-8FAE-663C3DC3C3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8/80/LatePermianGlobal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2/25/Ocher_fauna_DB.jpg" TargetMode="External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hyperlink" Target="http://www.dinosaurstore.com/images/Castings/SEYMOURIA%20PERMIAN.jpg" TargetMode="External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kataklizmi.com/uploads/15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image" Target="../media/image53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jpeg"/><Relationship Id="rId3" Type="http://schemas.openxmlformats.org/officeDocument/2006/relationships/hyperlink" Target="http://www.museum.ru/imgB.asp?11612" TargetMode="External"/><Relationship Id="rId4" Type="http://schemas.openxmlformats.org/officeDocument/2006/relationships/image" Target="../media/image55.jpeg"/><Relationship Id="rId5" Type="http://schemas.openxmlformats.org/officeDocument/2006/relationships/hyperlink" Target="http://photo.starnet.ru/Thematic_Wallpapers/Zhizn/Dikie_zhivotnye/dinosaurs_fossils/images/h66.jpg" TargetMode="External"/><Relationship Id="rId6" Type="http://schemas.openxmlformats.org/officeDocument/2006/relationships/image" Target="../media/image56.jpeg"/><Relationship Id="rId7" Type="http://schemas.openxmlformats.org/officeDocument/2006/relationships/hyperlink" Target="http://museumvictoria.com.au/pages/8746/mm-inostrancevia-illustration-big.jpg" TargetMode="External"/><Relationship Id="rId8" Type="http://schemas.openxmlformats.org/officeDocument/2006/relationships/image" Target="../media/image57.jpe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jpeg"/><Relationship Id="rId3" Type="http://schemas.openxmlformats.org/officeDocument/2006/relationships/hyperlink" Target="http://mirgeo.net/index.php?option=com_datsogallery&amp;Itemid=69&amp;func=wmark&amp;oid=1580" TargetMode="External"/><Relationship Id="rId4" Type="http://schemas.openxmlformats.org/officeDocument/2006/relationships/image" Target="../media/image59.jpeg"/><Relationship Id="rId5" Type="http://schemas.openxmlformats.org/officeDocument/2006/relationships/image" Target="../media/image60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lopp.ru/uploads/posts/2007-12/thumbs/1198658426_f_walking-with-dino_008_cynodont.jpg" TargetMode="External"/><Relationship Id="rId3" Type="http://schemas.openxmlformats.org/officeDocument/2006/relationships/image" Target="../media/image62.jpeg"/><Relationship Id="rId4" Type="http://schemas.openxmlformats.org/officeDocument/2006/relationships/hyperlink" Target="http://dic.academic.ru/pictures/enwiki/79/Oligokyphus_BW.jpg" TargetMode="External"/><Relationship Id="rId5" Type="http://schemas.openxmlformats.org/officeDocument/2006/relationships/image" Target="../media/image63.jpeg"/><Relationship Id="rId6" Type="http://schemas.openxmlformats.org/officeDocument/2006/relationships/image" Target="../media/image64.jpeg"/><Relationship Id="rId7" Type="http://schemas.openxmlformats.org/officeDocument/2006/relationships/image" Target="../media/image60.jpeg"/><Relationship Id="rId8" Type="http://schemas.openxmlformats.org/officeDocument/2006/relationships/image" Target="../media/image65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hyperlink" Target="http://pics.livejournal.com/leucosporidium/pic/0002yywb" TargetMode="External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hyperlink" Target="http://www.kamneynet.ru/products_pictures/0591.jpg" TargetMode="External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hyperlink" Target="http://s44.radikal.ru/i103/0908/75/0acd23414251.jpg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5/50/Dimetrodon_loomisi_DB.jpg" TargetMode="External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Файл:LatePermianGlobal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2120" y="1523880"/>
            <a:ext cx="7619760" cy="3810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199600" y="5445000"/>
            <a:ext cx="50558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емля в эпоху поздней перми (татарский ве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351240" y="404640"/>
            <a:ext cx="2197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рмский пери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8496000" cy="3795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73" name=""/>
          <p:cNvSpPr/>
          <p:nvPr/>
        </p:nvSpPr>
        <p:spPr>
          <a:xfrm>
            <a:off x="6810840" y="692280"/>
            <a:ext cx="1492920" cy="368280"/>
          </a:xfrm>
          <a:prstGeom prst="rect">
            <a:avLst/>
          </a:prstGeom>
          <a:solidFill>
            <a:srgbClr val="f8e4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метрод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285840" y="571680"/>
            <a:ext cx="8572320" cy="5715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283560" y="115920"/>
            <a:ext cx="1506600" cy="368280"/>
          </a:xfrm>
          <a:prstGeom prst="rect">
            <a:avLst/>
          </a:prstGeom>
          <a:solidFill>
            <a:srgbClr val="f8e4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ликозав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Файл:Ocher fauna DB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189000"/>
            <a:ext cx="5761080" cy="38383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3780000" y="3260880"/>
            <a:ext cx="5171760" cy="3444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78" name=""/>
          <p:cNvSpPr/>
          <p:nvPr/>
        </p:nvSpPr>
        <p:spPr>
          <a:xfrm>
            <a:off x="6379560" y="836640"/>
            <a:ext cx="1701720" cy="368280"/>
          </a:xfrm>
          <a:prstGeom prst="rect">
            <a:avLst/>
          </a:prstGeom>
          <a:solidFill>
            <a:srgbClr val="f8e4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ликозав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Современник и родич геробатрахуса — полутораметровый темноспондильный лабиринтодонт Eryops. Изображение с сайта www.fossilmuseum.net"/>
          <p:cNvPicPr/>
          <p:nvPr/>
        </p:nvPicPr>
        <p:blipFill>
          <a:blip r:embed="rId2"/>
          <a:stretch/>
        </p:blipFill>
        <p:spPr>
          <a:xfrm>
            <a:off x="250920" y="404640"/>
            <a:ext cx="5715000" cy="49914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80" name=""/>
          <p:cNvSpPr/>
          <p:nvPr/>
        </p:nvSpPr>
        <p:spPr>
          <a:xfrm>
            <a:off x="2183760" y="-7920"/>
            <a:ext cx="2134440" cy="368280"/>
          </a:xfrm>
          <a:prstGeom prst="rect">
            <a:avLst/>
          </a:prstGeom>
          <a:solidFill>
            <a:srgbClr val="f8e4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абиринтодо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4720" y="5013360"/>
            <a:ext cx="25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биринтодонт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Ery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6156360" y="1989000"/>
            <a:ext cx="2857320" cy="4707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5435640" y="333360"/>
            <a:ext cx="338148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Скелет геробатрахуса. Изображение из обсуждаемой статьи в Nature"/>
          <p:cNvPicPr/>
          <p:nvPr/>
        </p:nvPicPr>
        <p:blipFill>
          <a:blip r:embed="rId2"/>
          <a:stretch/>
        </p:blipFill>
        <p:spPr>
          <a:xfrm>
            <a:off x="5076720" y="115920"/>
            <a:ext cx="3689280" cy="5877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1274760" y="5941800"/>
            <a:ext cx="786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евней амфибии дали родовое название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Gerobatrachu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что переводится как «старая лягушка». Впрочем, с тем же успехом ее можно было назвать и «старой саламандрой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1258920" y="3303720"/>
            <a:ext cx="3408480" cy="25556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250920" y="189000"/>
            <a:ext cx="3809880" cy="26859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88" name=""/>
          <p:cNvSpPr/>
          <p:nvPr/>
        </p:nvSpPr>
        <p:spPr>
          <a:xfrm>
            <a:off x="259560" y="115920"/>
            <a:ext cx="2001960" cy="368280"/>
          </a:xfrm>
          <a:prstGeom prst="rect">
            <a:avLst/>
          </a:prstGeom>
          <a:solidFill>
            <a:srgbClr val="f8e4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искозавриск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7200720" cy="2689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2347200" y="115920"/>
            <a:ext cx="3989160" cy="368280"/>
          </a:xfrm>
          <a:prstGeom prst="rect">
            <a:avLst/>
          </a:prstGeom>
          <a:solidFill>
            <a:srgbClr val="f8e4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тилозавры пермского пери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5435640" y="2060640"/>
            <a:ext cx="3360600" cy="4653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92" name="" descr="Картинка 3 из 5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95280" y="3141720"/>
            <a:ext cx="4667400" cy="34099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816120" y="6400800"/>
            <a:ext cx="1284120" cy="368280"/>
          </a:xfrm>
          <a:prstGeom prst="rect">
            <a:avLst/>
          </a:prstGeom>
          <a:solidFill>
            <a:srgbClr val="f8e4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ейму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4050000" cy="4319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95" name="" descr="Картинка 1 из 6"/>
          <p:cNvPicPr/>
          <p:nvPr/>
        </p:nvPicPr>
        <p:blipFill>
          <a:blip r:embed="rId3"/>
          <a:stretch/>
        </p:blipFill>
        <p:spPr>
          <a:xfrm>
            <a:off x="5940360" y="0"/>
            <a:ext cx="2971800" cy="4537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3994200" y="2205000"/>
            <a:ext cx="3699000" cy="4464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97" name=""/>
          <p:cNvSpPr/>
          <p:nvPr/>
        </p:nvSpPr>
        <p:spPr>
          <a:xfrm>
            <a:off x="545400" y="5157720"/>
            <a:ext cx="3202920" cy="368280"/>
          </a:xfrm>
          <a:prstGeom prst="rect">
            <a:avLst/>
          </a:prstGeom>
          <a:solidFill>
            <a:srgbClr val="f8e4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лора пермского пери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79280" y="836640"/>
            <a:ext cx="5429520" cy="4000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5364000" y="4076640"/>
            <a:ext cx="3429000" cy="25527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5702400" y="404640"/>
            <a:ext cx="3333600" cy="3267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01" name=""/>
          <p:cNvSpPr/>
          <p:nvPr/>
        </p:nvSpPr>
        <p:spPr>
          <a:xfrm>
            <a:off x="1337760" y="260280"/>
            <a:ext cx="3202920" cy="368280"/>
          </a:xfrm>
          <a:prstGeom prst="rect">
            <a:avLst/>
          </a:prstGeom>
          <a:solidFill>
            <a:srgbClr val="f8e4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лора пермского пери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845680" y="3282840"/>
            <a:ext cx="203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скопаемая личин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4762440" cy="3571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833760" y="4005360"/>
            <a:ext cx="2870640" cy="368280"/>
          </a:xfrm>
          <a:prstGeom prst="rect">
            <a:avLst/>
          </a:prstGeom>
          <a:solidFill>
            <a:srgbClr val="f8e4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рущиеся горгоноп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211640" y="3716280"/>
            <a:ext cx="4762440" cy="28861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5508720" y="333360"/>
            <a:ext cx="3527280" cy="2646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5041800" cy="45133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887040" y="5392800"/>
            <a:ext cx="1727640" cy="368280"/>
          </a:xfrm>
          <a:prstGeom prst="rect">
            <a:avLst/>
          </a:prstGeom>
          <a:solidFill>
            <a:srgbClr val="f8e4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нтанозух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791240" y="2349360"/>
            <a:ext cx="4160520" cy="41752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Картинка 1 из 28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404640"/>
            <a:ext cx="864072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843280" y="404640"/>
            <a:ext cx="3686040" cy="12668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2195640" y="2492280"/>
            <a:ext cx="6667200" cy="41148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250920" y="115920"/>
            <a:ext cx="2423880" cy="3240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130840" y="1773360"/>
            <a:ext cx="1654560" cy="368280"/>
          </a:xfrm>
          <a:prstGeom prst="rect">
            <a:avLst/>
          </a:prstGeom>
          <a:solidFill>
            <a:srgbClr val="f8e4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иплокаул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50840" y="6308640"/>
            <a:ext cx="1598040" cy="368280"/>
          </a:xfrm>
          <a:prstGeom prst="rect">
            <a:avLst/>
          </a:prstGeom>
          <a:solidFill>
            <a:srgbClr val="f8e4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ротозух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68360" y="3429000"/>
            <a:ext cx="5715000" cy="30765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751040" y="6329520"/>
            <a:ext cx="1320840" cy="368280"/>
          </a:xfrm>
          <a:prstGeom prst="rect">
            <a:avLst/>
          </a:prstGeom>
          <a:solidFill>
            <a:srgbClr val="f8e4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кутозав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003640" y="260280"/>
            <a:ext cx="3934080" cy="28670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874480" y="2997360"/>
            <a:ext cx="1395360" cy="368280"/>
          </a:xfrm>
          <a:prstGeom prst="rect">
            <a:avLst/>
          </a:prstGeom>
          <a:solidFill>
            <a:srgbClr val="f8e4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радизав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324000" y="333360"/>
            <a:ext cx="4248000" cy="29732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929760" y="0"/>
            <a:ext cx="1930320" cy="368280"/>
          </a:xfrm>
          <a:prstGeom prst="rect">
            <a:avLst/>
          </a:prstGeom>
          <a:solidFill>
            <a:srgbClr val="f8e4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здняя перм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91920" y="2852640"/>
            <a:ext cx="1570680" cy="368280"/>
          </a:xfrm>
          <a:prstGeom prst="rect">
            <a:avLst/>
          </a:prstGeom>
          <a:solidFill>
            <a:srgbClr val="f8e4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нголем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5400720" cy="3600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3497760" y="0"/>
            <a:ext cx="1930320" cy="368280"/>
          </a:xfrm>
          <a:prstGeom prst="rect">
            <a:avLst/>
          </a:prstGeom>
          <a:solidFill>
            <a:srgbClr val="f8e4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здняя перм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15200" y="1052640"/>
            <a:ext cx="1559880" cy="368280"/>
          </a:xfrm>
          <a:prstGeom prst="rect">
            <a:avLst/>
          </a:prstGeom>
          <a:solidFill>
            <a:srgbClr val="f8e4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ицинодо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http://www.ngdir.ir/sitelinks/kids/Image/diano-farsi/Kannemeyeria2-ma.jpg"/>
          <p:cNvPicPr/>
          <p:nvPr/>
        </p:nvPicPr>
        <p:blipFill>
          <a:blip r:embed="rId3"/>
          <a:stretch/>
        </p:blipFill>
        <p:spPr>
          <a:xfrm>
            <a:off x="826920" y="4089240"/>
            <a:ext cx="3095640" cy="2652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26" name="" descr="http://www.beliceweb.it/alveare/img_art/placerias.jpg"/>
          <p:cNvPicPr/>
          <p:nvPr/>
        </p:nvPicPr>
        <p:blipFill>
          <a:blip r:embed="rId4"/>
          <a:stretch/>
        </p:blipFill>
        <p:spPr>
          <a:xfrm>
            <a:off x="4572000" y="350028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4932360" y="452520"/>
            <a:ext cx="3960720" cy="26366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79280" y="476280"/>
            <a:ext cx="5629320" cy="37339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3929760" y="0"/>
            <a:ext cx="1930320" cy="368280"/>
          </a:xfrm>
          <a:prstGeom prst="rect">
            <a:avLst/>
          </a:prstGeom>
          <a:solidFill>
            <a:srgbClr val="f8e4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здняя перм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8280" y="3716280"/>
            <a:ext cx="2588760" cy="368280"/>
          </a:xfrm>
          <a:prstGeom prst="rect">
            <a:avLst/>
          </a:prstGeom>
          <a:solidFill>
            <a:srgbClr val="f8e4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ык иностранцев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Картинка 7 из 4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76720" y="549360"/>
            <a:ext cx="3924360" cy="28414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32" name="" descr="Картинка 19 из 40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76200" y="4187880"/>
            <a:ext cx="3403800" cy="25542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33" name="" descr="Картинка 9 из 40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959280" y="3573360"/>
            <a:ext cx="5076720" cy="25243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34" name=""/>
          <p:cNvSpPr/>
          <p:nvPr/>
        </p:nvSpPr>
        <p:spPr>
          <a:xfrm>
            <a:off x="4941000" y="6237360"/>
            <a:ext cx="1924200" cy="368280"/>
          </a:xfrm>
          <a:prstGeom prst="rect">
            <a:avLst/>
          </a:prstGeom>
          <a:solidFill>
            <a:srgbClr val="f8e4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остранце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79280" y="7560"/>
            <a:ext cx="8753760" cy="1797480"/>
          </a:xfrm>
          <a:prstGeom prst="rect">
            <a:avLst/>
          </a:prstGeom>
          <a:solidFill>
            <a:srgbClr val="f8e4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ептилии сменили свою походку сразу после массового вымирания видов в конце пермского периода. Если до кризиса, произошедшего около 250 миллионов лет назад, рептилии ходили вразвалочку на согнутых ногах, то после него резко «выпрямились». Кстати, в то время погибло 90% существовавших вид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знать такие подробности о способах передвижения рептилий миллионы лет назад ученые смогли, проанализировав 460 окаменевших образца следов, относящихся ко времени до и после массового вымир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79280" y="3357720"/>
            <a:ext cx="3240360" cy="3240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37" name="" descr="Edaphosaurus (Эдафозавр)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211640" y="3429000"/>
            <a:ext cx="4267080" cy="32004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38" name="" descr="Картинка 20 из 30"/>
          <p:cNvPicPr/>
          <p:nvPr/>
        </p:nvPicPr>
        <p:blipFill>
          <a:blip r:embed="rId5"/>
          <a:stretch/>
        </p:blipFill>
        <p:spPr>
          <a:xfrm>
            <a:off x="684360" y="1773360"/>
            <a:ext cx="2447640" cy="1395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95280" y="765000"/>
            <a:ext cx="8064360" cy="58708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40" name=""/>
          <p:cNvSpPr/>
          <p:nvPr/>
        </p:nvSpPr>
        <p:spPr>
          <a:xfrm>
            <a:off x="2921760" y="259560"/>
            <a:ext cx="3074760" cy="368280"/>
          </a:xfrm>
          <a:prstGeom prst="rect">
            <a:avLst/>
          </a:prstGeom>
          <a:solidFill>
            <a:srgbClr val="f8e4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ицинодонт (dicynodon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Картинка 2 из 3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2349360"/>
            <a:ext cx="3319560" cy="42418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Картинка 6 из 3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708360" y="3068640"/>
            <a:ext cx="5076720" cy="15526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Картинка 4 из 30"/>
          <p:cNvPicPr/>
          <p:nvPr/>
        </p:nvPicPr>
        <p:blipFill>
          <a:blip r:embed="rId6"/>
          <a:stretch/>
        </p:blipFill>
        <p:spPr>
          <a:xfrm>
            <a:off x="5435640" y="189000"/>
            <a:ext cx="3551040" cy="26636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Картинка 20 из 30"/>
          <p:cNvPicPr/>
          <p:nvPr/>
        </p:nvPicPr>
        <p:blipFill>
          <a:blip r:embed="rId7"/>
          <a:stretch/>
        </p:blipFill>
        <p:spPr>
          <a:xfrm>
            <a:off x="179280" y="765000"/>
            <a:ext cx="2808360" cy="14781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Картинка 15 из 30"/>
          <p:cNvPicPr/>
          <p:nvPr/>
        </p:nvPicPr>
        <p:blipFill>
          <a:blip r:embed="rId8"/>
          <a:stretch/>
        </p:blipFill>
        <p:spPr>
          <a:xfrm>
            <a:off x="3851280" y="4869000"/>
            <a:ext cx="459108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952720" cy="2614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6" name="" descr="Аммониты: Рис.1"/>
          <p:cNvPicPr/>
          <p:nvPr/>
        </p:nvPicPr>
        <p:blipFill>
          <a:blip r:embed="rId3"/>
          <a:stretch/>
        </p:blipFill>
        <p:spPr>
          <a:xfrm>
            <a:off x="250920" y="2997360"/>
            <a:ext cx="2500200" cy="2520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5012640" y="692280"/>
            <a:ext cx="1183680" cy="368280"/>
          </a:xfrm>
          <a:prstGeom prst="rect">
            <a:avLst/>
          </a:prstGeom>
          <a:solidFill>
            <a:srgbClr val="f8e4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ониат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5920" y="5589720"/>
            <a:ext cx="1616400" cy="368280"/>
          </a:xfrm>
          <a:prstGeom prst="rect">
            <a:avLst/>
          </a:prstGeom>
          <a:solidFill>
            <a:srgbClr val="f8e4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ммоноиде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203640" y="1989000"/>
            <a:ext cx="4392720" cy="4680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3501720" y="6308640"/>
            <a:ext cx="1342080" cy="368280"/>
          </a:xfrm>
          <a:prstGeom prst="rect">
            <a:avLst/>
          </a:prstGeom>
          <a:solidFill>
            <a:srgbClr val="f8e4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отинит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6443640" y="189000"/>
            <a:ext cx="2519280" cy="2195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Мезозавр"/>
          <p:cNvPicPr/>
          <p:nvPr/>
        </p:nvPicPr>
        <p:blipFill>
          <a:blip r:embed="rId2"/>
          <a:stretch/>
        </p:blipFill>
        <p:spPr>
          <a:xfrm>
            <a:off x="324000" y="189000"/>
            <a:ext cx="4286160" cy="5637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4218840" y="3213000"/>
            <a:ext cx="1252080" cy="368280"/>
          </a:xfrm>
          <a:prstGeom prst="rect">
            <a:avLst/>
          </a:prstGeom>
          <a:solidFill>
            <a:srgbClr val="f8e4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езозав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4788000" y="189000"/>
            <a:ext cx="4176720" cy="24368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2771640" y="4797360"/>
            <a:ext cx="2857680" cy="19051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5651640" y="2637000"/>
            <a:ext cx="2857320" cy="2514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7" name="" descr="Картинка 14 из 28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372360" y="5300640"/>
            <a:ext cx="1676160" cy="12574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6229440" y="6381000"/>
            <a:ext cx="2055240" cy="368280"/>
          </a:xfrm>
          <a:prstGeom prst="rect">
            <a:avLst/>
          </a:prstGeom>
          <a:solidFill>
            <a:srgbClr val="f8e4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убы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езозав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39640" y="404640"/>
            <a:ext cx="8064720" cy="60487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3929760" y="0"/>
            <a:ext cx="1930320" cy="368280"/>
          </a:xfrm>
          <a:prstGeom prst="rect">
            <a:avLst/>
          </a:prstGeom>
          <a:solidFill>
            <a:srgbClr val="f8e4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здняя перм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50680" y="6329520"/>
            <a:ext cx="1175760" cy="368280"/>
          </a:xfrm>
          <a:prstGeom prst="rect">
            <a:avLst/>
          </a:prstGeom>
          <a:solidFill>
            <a:srgbClr val="f8e4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зозав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1660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258120" y="4149720"/>
            <a:ext cx="1252080" cy="368280"/>
          </a:xfrm>
          <a:prstGeom prst="rect">
            <a:avLst/>
          </a:prstGeom>
          <a:solidFill>
            <a:srgbClr val="f8e4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езозав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79280" y="765000"/>
            <a:ext cx="4743720" cy="5545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5076720" y="333360"/>
            <a:ext cx="3829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4392720" cy="3294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67" name="" descr="Картинка 3 из 5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08360" y="2637000"/>
            <a:ext cx="5221440" cy="39178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8" name=""/>
          <p:cNvSpPr/>
          <p:nvPr/>
        </p:nvSpPr>
        <p:spPr>
          <a:xfrm>
            <a:off x="4631040" y="6400800"/>
            <a:ext cx="2928600" cy="368280"/>
          </a:xfrm>
          <a:prstGeom prst="rect">
            <a:avLst/>
          </a:prstGeom>
          <a:solidFill>
            <a:srgbClr val="f8e4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метродон (пеликозав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Файл:Dimetrodon loomisi DB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692280"/>
            <a:ext cx="8642160" cy="5757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70" name=""/>
          <p:cNvSpPr/>
          <p:nvPr/>
        </p:nvSpPr>
        <p:spPr>
          <a:xfrm>
            <a:off x="3283560" y="115920"/>
            <a:ext cx="1506600" cy="368280"/>
          </a:xfrm>
          <a:prstGeom prst="rect">
            <a:avLst/>
          </a:prstGeom>
          <a:solidFill>
            <a:srgbClr val="f8e4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ликозав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31040" y="6400800"/>
            <a:ext cx="1492920" cy="368280"/>
          </a:xfrm>
          <a:prstGeom prst="rect">
            <a:avLst/>
          </a:prstGeom>
          <a:solidFill>
            <a:srgbClr val="f8e4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метрод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3T00:26:03Z</dcterms:created>
  <dc:creator>Леонова</dc:creator>
  <dc:description/>
  <dc:language>en-US</dc:language>
  <cp:lastModifiedBy>Леонова</cp:lastModifiedBy>
  <dcterms:modified xsi:type="dcterms:W3CDTF">2009-10-26T20:17:24Z</dcterms:modified>
  <cp:revision>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81f000000000001024140</vt:lpwstr>
  </property>
</Properties>
</file>