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20.jpeg" ContentType="image/jpeg"/>
  <Override PartName="/ppt/media/image15.jpeg" ContentType="image/jpeg"/>
  <Override PartName="/ppt/media/image65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57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199-3437-49D3-9331-7FAAC2A0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3B2-8A62-4D19-8CDC-5F4AEF65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895-E988-4C50-9306-45E3E883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47D-64D9-4700-9237-6E260EF1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596-A3FF-4CC9-9A7C-FFDFF487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29D-4C4B-4062-ACC0-5FD5EE46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7A3-4D90-4B2D-8AD7-A7D0DC9F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34B-FBA8-4DEC-9837-3CD3A208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008-71A3-4D15-81A0-FF98D6F6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89D-F010-497B-8158-D6CC8A35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55B-7E26-4253-B9CA-4A1A9CDE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F40-1E03-4BC0-838E-8F0301FF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F0C8-EDAF-4ADF-BD84-F4CFF9E6C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8/80/LatePermianGlobal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5/Ocher_fauna_DB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dinosaurstore.com/images/Castings/SEYMOURIA%20PERMIAN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taklizmi.com/uploads/15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hyperlink" Target="http://www.museum.ru/imgB.asp?11612" TargetMode="External"/><Relationship Id="rId4" Type="http://schemas.openxmlformats.org/officeDocument/2006/relationships/image" Target="../media/image55.jpeg"/><Relationship Id="rId5" Type="http://schemas.openxmlformats.org/officeDocument/2006/relationships/hyperlink" Target="http://photo.starnet.ru/Thematic_Wallpapers/Zhizn/Dikie_zhivotnye/dinosaurs_fossils/images/h66.jpg" TargetMode="External"/><Relationship Id="rId6" Type="http://schemas.openxmlformats.org/officeDocument/2006/relationships/image" Target="../media/image56.jpeg"/><Relationship Id="rId7" Type="http://schemas.openxmlformats.org/officeDocument/2006/relationships/hyperlink" Target="http://museumvictoria.com.au/pages/8746/mm-inostrancevia-illustration-big.jpg" TargetMode="External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hyperlink" Target="http://mirgeo.net/index.php?option=com_datsogallery&amp;Itemid=69&amp;func=wmark&amp;oid=1580" TargetMode="External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lopp.ru/uploads/posts/2007-12/thumbs/1198658426_f_walking-with-dino_008_cynodont.jpg" TargetMode="External"/><Relationship Id="rId3" Type="http://schemas.openxmlformats.org/officeDocument/2006/relationships/image" Target="../media/image62.jpeg"/><Relationship Id="rId4" Type="http://schemas.openxmlformats.org/officeDocument/2006/relationships/hyperlink" Target="http://dic.academic.ru/pictures/enwiki/79/Oligokyphus_BW.jpg" TargetMode="External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0.jpeg"/><Relationship Id="rId8" Type="http://schemas.openxmlformats.org/officeDocument/2006/relationships/image" Target="../media/image6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pics.livejournal.com/leucosporidium/pic/0002yywb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www.kamneynet.ru/products_pictures/0591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s44.radikal.ru/i103/0908/75/0acd23414251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5/50/Dimetrodon_loomisi_DB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Файл:LatePermianGloba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523880"/>
            <a:ext cx="7619760" cy="3810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99600" y="5445000"/>
            <a:ext cx="5055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в эпоху поздней перми (татарский в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1240" y="40464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м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3795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6810840" y="692280"/>
            <a:ext cx="149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метро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83560" y="115920"/>
            <a:ext cx="15066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лик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Файл:Ocher fauna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5761080" cy="3838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780000" y="3260880"/>
            <a:ext cx="5171760" cy="3444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6379560" y="836640"/>
            <a:ext cx="17017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ликозав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Современник и родич геробатрахуса — полутораметровый темноспондильный лабиринтодонт Eryops. Изображение с сайта www.fossilmuseum.net"/>
          <p:cNvPicPr/>
          <p:nvPr/>
        </p:nvPicPr>
        <p:blipFill>
          <a:blip r:embed="rId2"/>
          <a:stretch/>
        </p:blipFill>
        <p:spPr>
          <a:xfrm>
            <a:off x="250920" y="404640"/>
            <a:ext cx="5715000" cy="499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2183760" y="-7920"/>
            <a:ext cx="21344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720" y="50133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иринтодон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ry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156360" y="1989000"/>
            <a:ext cx="2857320" cy="4707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333360"/>
            <a:ext cx="3381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Скелет геробатрахуса. Изображение из обсуждаемой статьи в Nature"/>
          <p:cNvPicPr/>
          <p:nvPr/>
        </p:nvPicPr>
        <p:blipFill>
          <a:blip r:embed="rId2"/>
          <a:stretch/>
        </p:blipFill>
        <p:spPr>
          <a:xfrm>
            <a:off x="5076720" y="115920"/>
            <a:ext cx="3689280" cy="5877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74760" y="594180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й амфибии дали родовое наз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Gerobatrach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переводится как «старая лягушка». Впрочем, с тем же успехом ее можно было назвать и «старой саламандр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58920" y="3303720"/>
            <a:ext cx="3408480" cy="2555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3809880" cy="2685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59560" y="115920"/>
            <a:ext cx="20019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завриск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200720" cy="268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2347200" y="115920"/>
            <a:ext cx="39891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тилозавры пермск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435640" y="2060640"/>
            <a:ext cx="3360600" cy="465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" descr="Картинка 3 из 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141720"/>
            <a:ext cx="4667400" cy="3409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6120" y="6400800"/>
            <a:ext cx="12841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йму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50000" cy="431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" descr="Картинка 1 из 6"/>
          <p:cNvPicPr/>
          <p:nvPr/>
        </p:nvPicPr>
        <p:blipFill>
          <a:blip r:embed="rId3"/>
          <a:stretch/>
        </p:blipFill>
        <p:spPr>
          <a:xfrm>
            <a:off x="5940360" y="0"/>
            <a:ext cx="2971800" cy="453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994200" y="2205000"/>
            <a:ext cx="3699000" cy="446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45400" y="5157720"/>
            <a:ext cx="320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ора пермск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5429520" cy="40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429000" cy="255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702400" y="404640"/>
            <a:ext cx="3333600" cy="326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337760" y="260280"/>
            <a:ext cx="320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ора пермск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45680" y="3282840"/>
            <a:ext cx="203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копаемая лич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762440" cy="357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833760" y="4005360"/>
            <a:ext cx="28706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ущиеся горгоноп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4762440" cy="2886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508720" y="333360"/>
            <a:ext cx="3527280" cy="264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41800" cy="4513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887040" y="5392800"/>
            <a:ext cx="17276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нтанозух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91240" y="2349360"/>
            <a:ext cx="4160520" cy="417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1 из 2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04640"/>
            <a:ext cx="86407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686040" cy="1266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66672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50920" y="115920"/>
            <a:ext cx="242388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30840" y="1773360"/>
            <a:ext cx="16545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плокаул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50840" y="6308640"/>
            <a:ext cx="15980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отозух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5715000" cy="307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1040" y="6329520"/>
            <a:ext cx="13208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ут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3934080" cy="2867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874480" y="2997360"/>
            <a:ext cx="13953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ади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4248000" cy="2973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29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1920" y="2852640"/>
            <a:ext cx="15706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голем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400720" cy="360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497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5200" y="1052640"/>
            <a:ext cx="15598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цинод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http://www.ngdir.ir/sitelinks/kids/Image/diano-farsi/Kannemeyeria2-ma.jpg"/>
          <p:cNvPicPr/>
          <p:nvPr/>
        </p:nvPicPr>
        <p:blipFill>
          <a:blip r:embed="rId3"/>
          <a:stretch/>
        </p:blipFill>
        <p:spPr>
          <a:xfrm>
            <a:off x="826920" y="4089240"/>
            <a:ext cx="3095640" cy="2652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6" name="" descr="http://www.beliceweb.it/alveare/img_art/placerias.jpg"/>
          <p:cNvPicPr/>
          <p:nvPr/>
        </p:nvPicPr>
        <p:blipFill>
          <a:blip r:embed="rId4"/>
          <a:stretch/>
        </p:blipFill>
        <p:spPr>
          <a:xfrm>
            <a:off x="4572000" y="3500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932360" y="452520"/>
            <a:ext cx="3960720" cy="2636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56293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929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8280" y="3716280"/>
            <a:ext cx="25887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ык иностранце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Картинка 7 из 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549360"/>
            <a:ext cx="3924360" cy="284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2" name="" descr="Картинка 19 из 4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00" y="4187880"/>
            <a:ext cx="3403800" cy="2554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3" name="" descr="Картинка 9 из 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9280" y="3573360"/>
            <a:ext cx="5076720" cy="252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941000" y="6237360"/>
            <a:ext cx="19242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странце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7560"/>
            <a:ext cx="8753760" cy="17974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птилии сменили свою походку сразу после массового вымирания видов в конце пермского периода. Если до кризиса, произошедшего около 250 миллионов лет назад, рептилии ходили вразвалочку на согнутых ногах, то после него резко «выпрямились». Кстати, в то время погибло 90% существовавших ви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знать такие подробности о способах передвижения рептилий миллионы лет назад ученые смогли, проанализировав 460 окаменевших образца следов, относящихся ко времени до и после массового вымир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3240360" cy="32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7" name="" descr="Edaphosaurus (Эдафозавр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3429000"/>
            <a:ext cx="4267080" cy="320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8" name="" descr="Картинка 20 из 30"/>
          <p:cNvPicPr/>
          <p:nvPr/>
        </p:nvPicPr>
        <p:blipFill>
          <a:blip r:embed="rId5"/>
          <a:stretch/>
        </p:blipFill>
        <p:spPr>
          <a:xfrm>
            <a:off x="684360" y="1773360"/>
            <a:ext cx="2447640" cy="1395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064360" cy="5870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2921760" y="259560"/>
            <a:ext cx="30747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цинодонт (dicynodo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Картинка 2 из 3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349360"/>
            <a:ext cx="3319560" cy="424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Картинка 6 из 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3068640"/>
            <a:ext cx="5076720" cy="1552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4 из 30"/>
          <p:cNvPicPr/>
          <p:nvPr/>
        </p:nvPicPr>
        <p:blipFill>
          <a:blip r:embed="rId6"/>
          <a:stretch/>
        </p:blipFill>
        <p:spPr>
          <a:xfrm>
            <a:off x="5435640" y="189000"/>
            <a:ext cx="3551040" cy="266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20 из 30"/>
          <p:cNvPicPr/>
          <p:nvPr/>
        </p:nvPicPr>
        <p:blipFill>
          <a:blip r:embed="rId7"/>
          <a:stretch/>
        </p:blipFill>
        <p:spPr>
          <a:xfrm>
            <a:off x="179280" y="765000"/>
            <a:ext cx="2808360" cy="1478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15 из 30"/>
          <p:cNvPicPr/>
          <p:nvPr/>
        </p:nvPicPr>
        <p:blipFill>
          <a:blip r:embed="rId8"/>
          <a:stretch/>
        </p:blipFill>
        <p:spPr>
          <a:xfrm>
            <a:off x="3851280" y="4869000"/>
            <a:ext cx="45910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2720" cy="261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" descr="Аммониты: Рис.1"/>
          <p:cNvPicPr/>
          <p:nvPr/>
        </p:nvPicPr>
        <p:blipFill>
          <a:blip r:embed="rId3"/>
          <a:stretch/>
        </p:blipFill>
        <p:spPr>
          <a:xfrm>
            <a:off x="250920" y="2997360"/>
            <a:ext cx="2500200" cy="252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5012640" y="692280"/>
            <a:ext cx="11836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ни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5920" y="5589720"/>
            <a:ext cx="16164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моно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1989000"/>
            <a:ext cx="439272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501720" y="6308640"/>
            <a:ext cx="13420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отинит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443640" y="189000"/>
            <a:ext cx="2519280" cy="219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Мезозавр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563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218840" y="3213000"/>
            <a:ext cx="12520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з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788000" y="189000"/>
            <a:ext cx="4176720" cy="243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771640" y="4797360"/>
            <a:ext cx="28576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651640" y="2637000"/>
            <a:ext cx="2857320" cy="251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" descr="Картинка 14 из 2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5300640"/>
            <a:ext cx="1676160" cy="125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229440" y="6381000"/>
            <a:ext cx="2055240" cy="368280"/>
          </a:xfrm>
          <a:prstGeom prst="rect">
            <a:avLst/>
          </a:prstGeom>
          <a:solidFill>
            <a:srgbClr val="f8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уб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зозав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929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50680" y="6329520"/>
            <a:ext cx="11757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з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166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58120" y="4149720"/>
            <a:ext cx="12520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з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4743720" cy="554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76720" y="333360"/>
            <a:ext cx="3829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92720" cy="329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7" name="" descr="Картинка 3 из 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2637000"/>
            <a:ext cx="5221440" cy="3917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631040" y="6400800"/>
            <a:ext cx="29286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метродон (пеликозав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Файл:Dimetrodon loomisi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692280"/>
            <a:ext cx="8642160" cy="5757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3283560" y="115920"/>
            <a:ext cx="15066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лик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31040" y="6400800"/>
            <a:ext cx="149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метро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0:26:03Z</dcterms:created>
  <dc:creator>Леонова</dc:creator>
  <dc:description/>
  <dc:language>en-US</dc:language>
  <cp:lastModifiedBy>Леонова</cp:lastModifiedBy>
  <dcterms:modified xsi:type="dcterms:W3CDTF">2009-10-26T20:17:2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1f000000000001024140</vt:lpwstr>
  </property>
</Properties>
</file>