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1D7-8FB8-4542-803F-C0DF7C12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E2D-35CD-408B-AC1F-43BFF83B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28B-1B61-443B-83A6-BE7E147D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6C8-B9E8-4F2C-A687-3122C38C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074ED-C180-4602-9D57-E6B0FD50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F31BA-5129-4BF4-BFAB-61D3A591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27CF2-41BE-4BC5-B8DD-DBF916F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5500D-D8B2-4864-B8F5-B5E888DB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A86B5-A988-4F7D-9A36-E1153645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FB42-CDAF-4072-B5EF-05BE9433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0CAB1-B6E4-478E-BD0E-C554CC84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013-EC89-416D-8FF9-1C5D42B7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D379D-BC58-4EC0-872C-4F5BA90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AB892-28AC-4E86-B2B3-DA2A768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F6BC-B0AD-4AE9-978C-2A1B088F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09F0B-25E4-46F1-91DD-AEE62185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A0193-C8B6-4F7F-90F2-A6A614E6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8E9-A2FE-4AB5-9CFD-5CADFCAF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204-F89C-4CCF-9D1A-EE4BD03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8CC-CA32-439E-8134-2C055E7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360-8609-471E-BE85-BC70FBC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316-D9E9-4D15-B583-0778437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755-086E-4404-B1F8-087E5CE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74F-2268-40B5-9A3C-854342D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6AF7-C5C8-48D8-B69E-2F6EF7DEC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EC2-FCE4-4A11-8C9C-8F8255911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ture.1001chudo.ru/usa_1040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yaicom.ru/view.php?http://yaicom.ru/f/2009/04/ozero-utrennej-slavy_16909_s__3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84464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о Утренней Славы- разноцветное и взрывающееся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циональный парк Йеллоустоун, СШ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72720" y="6786720"/>
            <a:ext cx="7128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6840"/>
            <a:ext cx="7370640" cy="69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Озеро Утренней Славы – горячий источник в Национальном парке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Monotype Corsiva"/>
                <a:hlinkClick r:id="rId2"/>
              </a:rPr>
              <a:t>Йеллоустоун</a:t>
            </a: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, США. Знаменит водоём тем, что время от времени меняет цвета. А иногда и взрывается наподобие гейз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Озеро получило своё название в 1883 году, с лёгкой руки Элизабет Макгоуэн, супруги помощника управляющего парка. Она назвала его Convolutus, латинским названием цветка утренней славы, morning glory. Это растение, которое видом своим напоминает пруж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Название всем так понравилось, что уже через несколько лет оно стало общепринятым, а затем, в конце концов, и официальным. Многие путеводители конца XIX - начала XX веков называли озеро даже Пружиной Утренней Сла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Для туристов, посещающих Йеллоустон, Озеро Утренней Славы – потрясающая достопримечательность. Представьте, горячий источник из которого клубами валит пар и который при этом меняет свои цвета. Из бледно-бирюзового становится вдруг насыщенно фиолетовым, а потом и зелёным. Такие цветовые изменения объясняются настроением бактерий, которые обитают в озе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Кроме того, озеро иногда бурлит, как вода в котле, и взрывается, как гейзер. Но такое бывает нечасто. Только после какого-нибудь землетрясения неподалёку или извержения вулк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7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1628640"/>
            <a:ext cx="7848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сколько фотограф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777000"/>
            <a:ext cx="8100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5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zero-utrennej-slavy_16909_s__4" descr="Озеро утренней славы"/>
          <p:cNvPicPr/>
          <p:nvPr/>
        </p:nvPicPr>
        <p:blipFill>
          <a:blip r:embed="rId2"/>
          <a:stretch/>
        </p:blipFill>
        <p:spPr>
          <a:xfrm>
            <a:off x="179280" y="907920"/>
            <a:ext cx="432144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Озеро утренней слав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052640"/>
            <a:ext cx="396720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Озеро утренней славы"/>
          <p:cNvPicPr/>
          <p:nvPr/>
        </p:nvPicPr>
        <p:blipFill>
          <a:blip r:embed="rId5"/>
          <a:stretch/>
        </p:blipFill>
        <p:spPr>
          <a:xfrm>
            <a:off x="179280" y="4149720"/>
            <a:ext cx="3816360" cy="2538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Озеро утренней славы"/>
          <p:cNvPicPr/>
          <p:nvPr/>
        </p:nvPicPr>
        <p:blipFill>
          <a:blip r:embed="rId6"/>
          <a:stretch/>
        </p:blipFill>
        <p:spPr>
          <a:xfrm>
            <a:off x="5229360" y="4076640"/>
            <a:ext cx="380664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067280" y="6597720"/>
            <a:ext cx="73080" cy="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-398880"/>
            <a:ext cx="7804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Monotype Corsiva"/>
              </a:rPr>
              <a:t>Тем не менее, этот красивый источник пал жертвой вандализма. Люди бросали тонны монет, мусора, камней и палок в бассейн. Большая часть мусора, впоследствии выплыла и сформировала "бортик". Каждый из этих объектов, принимал участие в закупоривании жерла, которое подогревало воду. Из-за отсутствия нагрева, температура воды упала почти до 200 градусов по Фаренгейту (100 по Цельсию) в глубине, а на поверхности до 140-120 градусов (65-50 по Цельсию)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Monotype Corsiva"/>
              </a:rPr>
              <a:t>Это падение изменили состав бактерий, живущих вблизи от поверхности. Так и появилась желто-оранжевая окантовка жерла, которые ранее были только по самой периферии. В настоящее время, в зависимости от погодных условий, изменяется и температура источника, и изменяется цвет то в одну сторону, то в другую. Периодически смотрители парка предпринимают попытки очистить источник, но это приносит мало пользы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820000" y="6532560"/>
            <a:ext cx="73080" cy="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476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зеро 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Утренней Славы</a:t>
            </a: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, самое разноцветное в мире.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2000" y="2492280"/>
            <a:ext cx="6119640" cy="24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8360" y="639936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29560" y="621828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Выполнила: Лупанова Анастас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МОУ СОШ №2 г. Геленджика Краснодарского кр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Учитель: Сбитнева Елена Владимиров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66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7:16:42Z</dcterms:created>
  <dc:creator>Дмитрий</dc:creator>
  <dc:description/>
  <dc:language>en-US</dc:language>
  <cp:lastModifiedBy>Дмитрий</cp:lastModifiedBy>
  <dcterms:modified xsi:type="dcterms:W3CDTF">2011-04-21T17:20:2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070000000000010250300207f7000400038000</vt:lpwstr>
  </property>
</Properties>
</file>