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DE8F-5212-4B98-BF15-B726E2170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FB70-0A38-4E5F-85B9-FF5DCDB3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DCF5-3AFD-449C-BBEB-F37185824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31E3-0F80-4559-A9E7-3E509C548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CA4DCB-F443-4523-B17D-4D75CC892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44A8F3-0FF1-46B7-9DE6-ADC27CE8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502700-1A97-46B4-9063-8E393ACB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D9C3FC-AC6E-4571-8626-832A9A77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3FDE74-B370-424B-9FC3-343EBEF9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B70BA-8D40-49FD-8FDA-5CD82C71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407E10-7082-4184-928F-41A9E6C5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98E4-E2F3-4CB1-B95E-1DDBDD6B3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71627-081E-429C-8BBE-80C5220E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5D980-9672-46D1-8C2E-CE493A55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D792D9-38D9-480C-8E1F-7D97AA2D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BF578-71EF-4F72-9E86-F0A049E8A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7018D-3D0B-47CD-B977-2B201EEB9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07DD-4A02-4EF5-B852-AD4F1944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D9AD-EFE4-4D55-88C8-1D42F8C7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FE7A-B0C4-4530-8E3C-ED9E9E01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80E4-0EA7-4F52-AA26-CC3D51D2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C71F-B590-4F98-BE74-C55BA8BF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A2B1-3192-4F68-851E-6B8D3C94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C993-70A5-4349-B2F3-5D37C427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95A4-AC87-432B-8CF8-C477DC3BC8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D9D7-F490-4976-A4CA-376F87CB8E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nature.1001chudo.ru/usa_1040.html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http://yaicom.ru/view.php?http://yaicom.ru/f/2009/04/ozero-utrennej-slavy_16909_s__3.jpg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826920" y="1844640"/>
            <a:ext cx="770436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зеро Утренней Славы- разноцветное и взрывающееся.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циональный парк Йеллоустоун, США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9072720" y="6786720"/>
            <a:ext cx="71280" cy="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1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4360" y="6840"/>
            <a:ext cx="7370640" cy="69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Monotype Corsiva"/>
              </a:rPr>
              <a:t>Озеро Утренней Славы – горячий источник в Национальном парке </a:t>
            </a:r>
            <a:r>
              <a:rPr b="0" lang="en-US" sz="1800" spc="-1" strike="noStrike" u="sng">
                <a:solidFill>
                  <a:srgbClr val="ff3300"/>
                </a:solidFill>
                <a:uFillTx/>
                <a:latin typeface="Monotype Corsiva"/>
                <a:hlinkClick r:id="rId2"/>
              </a:rPr>
              <a:t>Йеллоустоун</a:t>
            </a:r>
            <a:r>
              <a:rPr b="0" lang="en-US" sz="1800" spc="-1" strike="noStrike">
                <a:solidFill>
                  <a:srgbClr val="000066"/>
                </a:solidFill>
                <a:latin typeface="Monotype Corsiva"/>
              </a:rPr>
              <a:t>, США. Знаменит водоём тем, что время от времени меняет цвета. А иногда и взрывается наподобие гейзе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Monotype Corsiva"/>
              </a:rPr>
              <a:t>Озеро получило своё название в 1883 году, с лёгкой руки Элизабет Макгоуэн, супруги помощника управляющего парка. Она назвала его Convolutus, латинским названием цветка утренней славы, morning glory. Это растение, которое видом своим напоминает пружин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Monotype Corsiva"/>
              </a:rPr>
              <a:t>Название всем так понравилось, что уже через несколько лет оно стало общепринятым, а затем, в конце концов, и официальным. Многие путеводители конца XIX - начала XX веков называли озеро даже Пружиной Утренней Слав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Monotype Corsiva"/>
              </a:rPr>
              <a:t>Для туристов, посещающих Йеллоустон, Озеро Утренней Славы – потрясающая достопримечательность. Представьте, горячий источник из которого клубами валит пар и который при этом меняет свои цвета. Из бледно-бирюзового становится вдруг насыщенно фиолетовым, а потом и зелёным. Такие цветовые изменения объясняются настроением бактерий, которые обитают в озер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Monotype Corsiva"/>
              </a:rPr>
              <a:t>Кроме того, озеро иногда бурлит, как вода в котле, и взрывается, как гейзер. Но такое бывает нечасто. Только после какого-нибудь землетрясения неподалёку или извержения вулка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9063000" y="6777000"/>
            <a:ext cx="81000" cy="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074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755640" y="1628640"/>
            <a:ext cx="7848720" cy="21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есколько фотографий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6777000"/>
            <a:ext cx="81000" cy="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853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zero-utrennej-slavy_16909_s__4" descr="Озеро утренней славы"/>
          <p:cNvPicPr/>
          <p:nvPr/>
        </p:nvPicPr>
        <p:blipFill>
          <a:blip r:embed="rId2"/>
          <a:stretch/>
        </p:blipFill>
        <p:spPr>
          <a:xfrm>
            <a:off x="179280" y="907920"/>
            <a:ext cx="4321440" cy="2867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Озеро утренней славы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1052640"/>
            <a:ext cx="3967200" cy="2736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Озеро утренней славы"/>
          <p:cNvPicPr/>
          <p:nvPr/>
        </p:nvPicPr>
        <p:blipFill>
          <a:blip r:embed="rId5"/>
          <a:stretch/>
        </p:blipFill>
        <p:spPr>
          <a:xfrm>
            <a:off x="179280" y="4149720"/>
            <a:ext cx="3816360" cy="2538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Озеро утренней славы"/>
          <p:cNvPicPr/>
          <p:nvPr/>
        </p:nvPicPr>
        <p:blipFill>
          <a:blip r:embed="rId6"/>
          <a:stretch/>
        </p:blipFill>
        <p:spPr>
          <a:xfrm>
            <a:off x="5229360" y="4076640"/>
            <a:ext cx="3806640" cy="2592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4067280" y="6597720"/>
            <a:ext cx="73080" cy="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268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-398880"/>
            <a:ext cx="780408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Monotype Corsiva"/>
              </a:rPr>
              <a:t>Тем не менее, этот красивый источник пал жертвой вандализма. Люди бросали тонны монет, мусора, камней и палок в бассейн. Большая часть мусора, впоследствии выплыла и сформировала "бортик". Каждый из этих объектов, принимал участие в закупоривании жерла, которое подогревало воду. Из-за отсутствия нагрева, температура воды упала почти до 200 градусов по Фаренгейту (100 по Цельсию) в глубине, а на поверхности до 140-120 градусов (65-50 по Цельсию)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Monotype Corsiva"/>
              </a:rPr>
              <a:t>Это падение изменили состав бактерий, живущих вблизи от поверхности. Так и появилась желто-оранжевая окантовка жерла, которые ранее были только по самой периферии. В настоящее время, в зависимости от погодных условий, изменяется и температура источника, и изменяется цвет то в одну сторону, то в другую. Периодически смотрители парка предпринимают попытки очистить источник, но это приносит мало пользы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52400" y="291960"/>
            <a:ext cx="7637400" cy="5727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8820000" y="6532560"/>
            <a:ext cx="73080" cy="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633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71640" y="47628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Monotype Corsiva"/>
              </a:rPr>
              <a:t>Озеро </a:t>
            </a:r>
            <a:r>
              <a:rPr b="0" lang="en-US" sz="2400" spc="-1" strike="noStrike">
                <a:solidFill>
                  <a:srgbClr val="000066"/>
                </a:solidFill>
                <a:latin typeface="Monotype Corsiva"/>
              </a:rPr>
              <a:t>Утренней Славы</a:t>
            </a:r>
            <a:r>
              <a:rPr b="0" lang="ru-RU" sz="2400" spc="-1" strike="noStrike">
                <a:solidFill>
                  <a:srgbClr val="000066"/>
                </a:solidFill>
                <a:latin typeface="Monotype Corsiva"/>
              </a:rPr>
              <a:t>, самое разноцветное в мире.</a:t>
            </a:r>
            <a:r>
              <a:rPr b="0" lang="en-US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32000" y="2492280"/>
            <a:ext cx="6119640" cy="244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онец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388360" y="6399360"/>
            <a:ext cx="71280" cy="71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029560" y="6218280"/>
            <a:ext cx="4082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Tahoma"/>
              </a:rPr>
              <a:t>Выполнила: Лупанова Анастас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Tahoma"/>
              </a:rPr>
              <a:t>МОУ СОШ №2 г. Геленджика Краснодарского кр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Tahoma"/>
              </a:rPr>
              <a:t>Учитель: Сбитнева Елена Владимировн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8663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17:16:42Z</dcterms:created>
  <dc:creator>Дмитрий</dc:creator>
  <dc:description/>
  <dc:language>en-US</dc:language>
  <cp:lastModifiedBy>Дмитрий</cp:lastModifiedBy>
  <dcterms:modified xsi:type="dcterms:W3CDTF">2011-04-21T17:20:28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c070000000000010250300207f7000400038000</vt:lpwstr>
  </property>
</Properties>
</file>