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385-E96D-4DD6-A20D-664F503B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5F7-EB97-4656-A466-A8ED2843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3B0-8DED-4053-81BD-2084572D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658-2DAC-4193-B342-C2B7CB7C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80DA1-B804-48C7-A490-8AA03C01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72D7-65D3-494A-80B0-E25CA45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6E88-9085-4107-960C-8848F0D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59B6-F066-468D-9D7F-3325D86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99DF9-06C9-481A-B845-8A1FADA6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9030-DFB9-4663-9E2C-CB879D22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586D-6F2D-4901-99DE-2D92213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71B-39DA-4799-B44E-4908C82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DED74-8F39-4324-906B-D03B1EF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B88BD-66ED-4E0B-B967-F7922466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638FF-E429-4B42-9BF0-C573C81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F12DB-8358-4456-8015-53BDDF39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CC8A4-176B-446B-BE60-575549CD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2B5-EBB6-4701-A2BA-E52D6BE9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5A4-8B08-45E8-9C52-78ABDCAC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D00-50C8-49A4-90B1-A4C94E98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D01-50E7-4FBA-8C36-83CC410A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53F-4358-418F-BF92-7A32AAF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753-F2AF-454C-B4E8-3508A2DC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5A5-B009-4C7D-A0E0-94A1715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6ED-69C5-436D-9286-68F2D7A5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2C41-D899-4CD7-A183-A98483CE1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ture.1001chudo.ru/usa_1040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yaicom.ru/view.php?http://yaicom.ru/f/2009/04/ozero-utrennej-slavy_16909_s__3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84464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о Утренней Славы- разноцветное и взрывающееся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циональный парк Йеллоустоун, СШ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72720" y="6786720"/>
            <a:ext cx="7128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6840"/>
            <a:ext cx="7370640" cy="69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Утренней Славы – горячий источник в Национальном парке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Monotype Corsiva"/>
                <a:hlinkClick r:id="rId2"/>
              </a:rPr>
              <a:t>Йеллоустоун</a:t>
            </a: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, США. Знаменит водоём тем, что время от времени меняет цвета. А иногда и взрывается наподобие гейз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Озеро получило своё название в 1883 году, с лёгкой руки Элизабет Макгоуэн, супруги помощника управляющего парка. Она назвала его Convolutus, латинским названием цветка утренней славы, morning glory. Это растение, которое видом своим напоминает пруж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Название всем так понравилось, что уже через несколько лет оно стало общепринятым, а затем, в конце концов, и официальным. Многие путеводители конца XIX - начала XX веков называли озеро даже Пружиной Утренней Сл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Для туристов, посещающих Йеллоустон, Озеро Утренней Славы – потрясающая достопримечательность. Представьте, горячий источник из которого клубами валит пар и который при этом меняет свои цвета. Из бледно-бирюзового становится вдруг насыщенно фиолетовым, а потом и зелёным. Такие цветовые изменения объясняются настроением бактерий, которые обитают в озе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Monotype Corsiva"/>
              </a:rPr>
              <a:t>Кроме того, озеро иногда бурлит, как вода в котле, и взрывается, как гейзер. Но такое бывает нечасто. Только после какого-нибудь землетрясения неподалёку или извержения вулк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7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1628640"/>
            <a:ext cx="7848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сколько фотограф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777000"/>
            <a:ext cx="8100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5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zero-utrennej-slavy_16909_s__4" descr="Озеро утренней славы"/>
          <p:cNvPicPr/>
          <p:nvPr/>
        </p:nvPicPr>
        <p:blipFill>
          <a:blip r:embed="rId2"/>
          <a:stretch/>
        </p:blipFill>
        <p:spPr>
          <a:xfrm>
            <a:off x="179280" y="907920"/>
            <a:ext cx="432144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Озеро утренней слав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052640"/>
            <a:ext cx="396720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Озеро утренней славы"/>
          <p:cNvPicPr/>
          <p:nvPr/>
        </p:nvPicPr>
        <p:blipFill>
          <a:blip r:embed="rId5"/>
          <a:stretch/>
        </p:blipFill>
        <p:spPr>
          <a:xfrm>
            <a:off x="179280" y="414972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Озеро утренней славы"/>
          <p:cNvPicPr/>
          <p:nvPr/>
        </p:nvPicPr>
        <p:blipFill>
          <a:blip r:embed="rId6"/>
          <a:stretch/>
        </p:blipFill>
        <p:spPr>
          <a:xfrm>
            <a:off x="5229360" y="4076640"/>
            <a:ext cx="380664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067280" y="659772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-398880"/>
            <a:ext cx="7804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Тем не менее, этот красивый источник пал жертвой вандализма. Люди бросали тонны монет, мусора, камней и палок в бассейн. Большая часть мусора, впоследствии выплыла и сформировала "бортик". Каждый из этих объектов, принимал участие в закупоривании жерла, которое подогревало воду. Из-за отсутствия нагрева, температура воды упала почти до 200 градусов по Фаренгейту (100 по Цельсию) в глубине, а на поверхности до 140-120 градусов (65-50 по Цельсию)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Monotype Corsiva"/>
              </a:rPr>
              <a:t>Это падение изменили состав бактерий, живущих вблизи от поверхности. Так и появилась желто-оранжевая окантовка жерла, которые ранее были только по самой периферии. В настоящее время, в зависимости от погодных условий, изменяется и температура источника, и изменяется цвет то в одну сторону, то в другую. Периодически смотрители парка предпринимают попытки очистить источник, но это приносит мало пользы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2400" y="291960"/>
            <a:ext cx="7637400" cy="572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820000" y="6532560"/>
            <a:ext cx="73080" cy="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4762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зеро 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Утренней Славы</a:t>
            </a: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, самое разноцветное в мире.</a:t>
            </a: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32000" y="2492280"/>
            <a:ext cx="611964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8360" y="6399360"/>
            <a:ext cx="71280" cy="7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29560" y="621828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Выполнила: Лупанова Анастас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МОУ СОШ №2 г. Геленджика Краснодарского кр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Tahoma"/>
              </a:rPr>
              <a:t>Учитель: Сбитнева Елена Владимиров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66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7:16:42Z</dcterms:created>
  <dc:creator>Дмитрий</dc:creator>
  <dc:description/>
  <dc:language>en-US</dc:language>
  <cp:lastModifiedBy>Дмитрий</cp:lastModifiedBy>
  <dcterms:modified xsi:type="dcterms:W3CDTF">2011-04-21T17:20:2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070000000000010250300207f7000400038000</vt:lpwstr>
  </property>
</Properties>
</file>