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6F6-127B-4CB6-B794-8552DD29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598-A247-4111-A41D-A57A044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634-BB18-488C-977E-B066E902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65E-DD7A-4360-85C2-9EAE9CFF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DCB-3682-4ACD-A8CD-516B6139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891-D6E8-4AE9-850A-16E0FDC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F5F-D594-4856-A0B7-ED9CCFC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3B9-580A-4742-9D50-5EF8253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0CA-022B-44A6-B6D5-A1EC405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996-E296-47BE-A047-D07F9C3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AA2-C741-4462-97AA-77D1A1A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18C-14A1-4667-8E85-CE56653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EC3-47C7-45CA-A1C5-1302F9E8B7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352520" y="1920960"/>
            <a:ext cx="6224760" cy="1620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6" descr="Рисунок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792000"/>
            <a:ext cx="8083800" cy="41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900600" cy="4824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4572000" y="285840"/>
            <a:ext cx="428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айшее озеро на Земле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спийское море расположено во внутренних районах Евра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о содержит 78 тыс. км3 воды — более 40% всего объёма озёрных вод мира, а по площади превосходит Чёрное море. Морем Каспийское оз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из-за того, что оно обладает многими морскими характеристиками — огромной площадью, большим объёмом воды, сильными штормами и особым гидрохимическим режи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85880" y="5786280"/>
            <a:ext cx="74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Каспийское море на карте и дайте его 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500640" cy="3764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4071960" y="714240"/>
            <a:ext cx="4786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чайшее озеро плане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йкал (1620 м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тся на юге Восточной Сибири. Оно расположено на высоте 456 м над уровнем моря, его д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36 км, а наибольшая ширина в центральной части — 81 км. Есть несколько версий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озера, например, от тюркоязычного Бай-Куль — «богатое озеро» или от монгольского Байгал Далай — «большое озеро». На Байкале 27 островов, самый крупный из которых Ольхон. В озеро впадает около 300 рек и ручьев, а вытекает только река Ангара. Байкал — очень древнее озеро, ему примерно 20-25 млн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Озеро Байкал.jpg"/>
          <p:cNvPicPr/>
          <p:nvPr/>
        </p:nvPicPr>
        <p:blipFill>
          <a:blip r:embed="rId3"/>
          <a:stretch/>
        </p:blipFill>
        <p:spPr>
          <a:xfrm>
            <a:off x="428760" y="4214880"/>
            <a:ext cx="3371760" cy="23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924360" cy="52862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357800" y="85716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риканское озер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ганьика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на планете. Максимальная глубина Танганьики 1470 м, это второе по глубине озеро мира после Байкал. Танганьика очень древнее озеро, в нём обитают около 170 эндемичных видов рыб. Живые организмы засе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ро до глубины около 200 метров, а ниже в воде содержится большое количество серо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листые берега Танганьики изрезаны многочисленными бухтами и зал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214280" y="214200"/>
            <a:ext cx="6500880" cy="37148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14200" y="3929040"/>
            <a:ext cx="892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сточной части Северной Америки находя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е озёра: Верхнее, Гурон, Мичиган, Эри и Онтари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расположены ступенями. Озёра соединены между собой короткими бурными и многоводными реками. На реке Ниагара, соединяющей озеро Эри с озером Онтарио, образовался Ниагарский водопад (высотой около 50 м)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е озё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еличайшее скопление пресной воды на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2,7 тыс. км³). Они сформировались во время таяния огромного ледникового покрова и за свою историю неоднократно мен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42960" y="135720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дберите пару: озеро      –        мат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Байкал.                                 а) Австра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Балхаш.                                б)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Каспийское.                        в) Евраз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Эйр.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еверная Аме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5. Чад.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) Южная Ам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Верх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7. Титик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. Ладож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9. Викт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0. Гу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004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те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0174 3.00578E-006 C 0.00521 -0.01341 0.01233 -0.02798 0.01927 -0.04671 C 0.03819 -0.09989 0.04323 -0.15191 0.02934 -0.16 C 0.01528 -0.16925 -0.01181 -0.13203 -0.03073 -0.07862 C -0.0408 -0.05064 -0.0467 -0.02405 -0.04878 -0.00393 C -0.05174 0.01202 -0.05278 0.02797 -0.05278 0.0467 C -0.05278 0.10659 -0.03976 0.15607 -0.02465 0.15607 C -0.00972 0.15607 0.0033 0.10659 0.0033 0.0467 C 0.0033 0.01873 0.00035 -0.0081 -0.00469 -0.02659 C -0.00677 -0.04278 -0.01181 -0.06035 -0.01771 -0.07723 C -0.03767 -0.13203 -0.06476 -0.16925 -0.07882 -0.16 C -0.09271 -0.15075 -0.08767 -0.09989 -0.06771 -0.04532 C -0.05972 -0.01989 -0.04878 0.00138 -0.03767 0.01595 C -0.02969 0.02936 -0.02066 0.04138 -0.00868 0.05341 C 0.02726 0.09202 0.06319 0.10936 0.07326 0.09341 C 0.08229 0.07722 0.06233 0.03329 0.02622 -0.00393 C 0.01128 -0.01989 -0.00469 -0.03191 -0.01771 -0.04 C -0.02969 -0.0481 -0.04479 -0.0548 -0.06076 -0.05896 C -0.10469 -0.07191 -0.14271 -0.06798 -0.14566 -0.04671 C -0.14965 -0.02659 -0.11667 3.00578000000072E-006 -0.07274 0.01341 C -0.05278 0.01873 -0.03368 0.02127 -0.01875 0.02011 C -0.00573 0.02011 0.00833 0.01734 0.02326 0.01341 C 0.06719 3.00578000000072E-006 0.10035 -0.02798 0.09618 -0.0481 C 0.09323 -0.06798 0.05521 -0.0733 0.01128 -0.06035 C -0.00972 -0.05341 -0.02882 -0.04393 -0.04167 -0.0333 C -0.05278 -0.02544 -0.06372 -0.01596 -0.07569 -0.00393 C -0.11076 0.03468 -0.13177 0.07722 -0.1217 0.09341 C -0.11267 0.10936 -0.07569 0.09202 -0.0408 0.05433 C -0.02378 0.03607 -0.00972 0.01734 -0.00174 3.00578E-006 Z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786040" y="214200"/>
            <a:ext cx="3786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верка тес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-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– 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 – 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 – 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8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 – 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 –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6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285840" y="4857840"/>
            <a:ext cx="857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зё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заполненные вод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ловины — естественные углубления на поверхности суши, не имеющие связи с морем 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е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ОЗЕРО2.jpg"/>
          <p:cNvPicPr/>
          <p:nvPr/>
        </p:nvPicPr>
        <p:blipFill>
          <a:blip r:embed="rId2"/>
          <a:stretch/>
        </p:blipFill>
        <p:spPr>
          <a:xfrm>
            <a:off x="428760" y="357120"/>
            <a:ext cx="3857400" cy="2892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Рисунок 5" descr="wall4.jpg"/>
          <p:cNvPicPr/>
          <p:nvPr/>
        </p:nvPicPr>
        <p:blipFill>
          <a:blip r:embed="rId3"/>
          <a:stretch/>
        </p:blipFill>
        <p:spPr>
          <a:xfrm>
            <a:off x="4929120" y="357120"/>
            <a:ext cx="3857760" cy="2892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" name="TextBox 6"/>
          <p:cNvSpPr/>
          <p:nvPr/>
        </p:nvSpPr>
        <p:spPr>
          <a:xfrm>
            <a:off x="214200" y="357192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 какой фотографии изображено озеро? Почему вы так счит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Что такое озер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6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571680" y="21420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ашей планете множество озёр. Их общая площадь составляет около 2,7 млн км2, то есть примерно 1,8% площади всей суши. Главное богатство озёр — пресная вода, так необходимая 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71680" y="2857680"/>
            <a:ext cx="3071520" cy="243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4664160" y="2805120"/>
            <a:ext cx="3898800" cy="2481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Блок-схема: документ 3"/>
          <p:cNvSpPr/>
          <p:nvPr/>
        </p:nvSpPr>
        <p:spPr>
          <a:xfrm>
            <a:off x="428760" y="1285920"/>
            <a:ext cx="8429400" cy="1482120"/>
          </a:xfrm>
          <a:prstGeom prst="flowChartDocumen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образовалось озеро, необходимы два условия: наличие естественного углубления — замкнутого понижения в земной поверхности — и некоторого объём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85840" y="538020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крупных озёр земного ш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тоническое происхожд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располагаются в крупных прогибах земной коры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х (например, Ладожское и Онежск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а) или заполняют глубокие тектон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щины — рифты (озеро Байкал, Тангань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ьяс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0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297240" cy="300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895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" name="Прямоугольник 7"/>
          <p:cNvSpPr/>
          <p:nvPr/>
        </p:nvSpPr>
        <p:spPr>
          <a:xfrm>
            <a:off x="4143240" y="1785960"/>
            <a:ext cx="4786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ник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ёра заполняют котловины, которые сформировались в результате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ника. Двигаясь, ледник выпахивал более мягкий грунт, создавая понижения в рельефе: в 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х — длинные и узкие, а в других — овальн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временем они заполнились водой, и появилис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никовы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360828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28760" y="3571920"/>
            <a:ext cx="350028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1" name="Прямоугольник 5"/>
          <p:cNvSpPr/>
          <p:nvPr/>
        </p:nvSpPr>
        <p:spPr>
          <a:xfrm>
            <a:off x="4214880" y="35712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ными котловинами могут стать кратеры потухших вулканов, а иногда и понижения на поверхности лавовых потоков. Такие озёра, называе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лканическими, встреч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на Курильских и Японских островах,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чатке, на острове Ява и в других вулканических районах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071960" y="357192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йонах, сложенных известняками и гипсами, в результате химического растворения этих пор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ыми и подземны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ми возник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стов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ные котловины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 песка и глины, лежащие над карстующимися породами, проваливаются в подземные пуст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я на земной поверх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ия, которые со временем заполняются водой и становя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8215200" cy="315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" name="Прямоугольник 3"/>
          <p:cNvSpPr/>
          <p:nvPr/>
        </p:nvSpPr>
        <p:spPr>
          <a:xfrm>
            <a:off x="285840" y="3929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удные, или плотинные, озёра воз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 в горах, когда в результате обвала масса горных пород перегораживает русло реки. Наприм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11 году на Памире во время землетрясения произошёл гигантский горный обвал, он запрудил ре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габ, и образовалось Сарезское озеро. Плотинными являются озеро Тана в Африке, Севан в Закавказье и многие другие горны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4286160" y="357120"/>
            <a:ext cx="4338720" cy="26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57120" y="3500280"/>
            <a:ext cx="407196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9" name="Прямоугольник 4"/>
          <p:cNvSpPr/>
          <p:nvPr/>
        </p:nvSpPr>
        <p:spPr>
          <a:xfrm>
            <a:off x="4572000" y="3500280"/>
            <a:ext cx="435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берегов морей песчаные косы могут отдел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ководный прибрежный участок от морской акватории, в результате формир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еро-лагун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чано-глинистые отложения отгораживают от мор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опленные устья рек, образую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маны 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ководные заливы с очень солёной водой. Таких озё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 побережье Чёрного и Азовского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85840" y="785880"/>
            <a:ext cx="38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чных долинах, когд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андрирующая ре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рямляет своё русло, старый участок русла обособляется. Так образую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ёра-старицы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ие форму подк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Схема 3" descr=""/>
          <p:cNvPicPr/>
          <p:nvPr/>
        </p:nvPicPr>
        <p:blipFill>
          <a:blip r:embed="rId2"/>
          <a:stretch/>
        </p:blipFill>
        <p:spPr>
          <a:xfrm>
            <a:off x="444600" y="596880"/>
            <a:ext cx="8327880" cy="3041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714240" y="2858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водообмена озёра подразде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нутый угол 5"/>
          <p:cNvSpPr/>
          <p:nvPr/>
        </p:nvSpPr>
        <p:spPr>
          <a:xfrm>
            <a:off x="285840" y="3500280"/>
            <a:ext cx="4214880" cy="3088800"/>
          </a:xfrm>
          <a:prstGeom prst="foldedCorner">
            <a:avLst>
              <a:gd name="adj" fmla="val 2763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сточных озёр вытекает хотя бы одна р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точны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ёрам относятся Байкал, Ладожское и Онежское озё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нутый угол 6"/>
          <p:cNvSpPr/>
          <p:nvPr/>
        </p:nvSpPr>
        <p:spPr>
          <a:xfrm>
            <a:off x="4714920" y="3500280"/>
            <a:ext cx="4143240" cy="3061800"/>
          </a:xfrm>
          <a:prstGeom prst="foldedCorner">
            <a:avLst>
              <a:gd name="adj" fmla="val 2693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бессточных не вытекает ни одной р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бессточным — озеро Балхаш, Чад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ык-Куль, Мёртво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6" descr=""/>
          <p:cNvPicPr/>
          <p:nvPr/>
        </p:nvPicPr>
        <p:blipFill>
          <a:blip r:embed="rId2"/>
          <a:stretch/>
        </p:blipFill>
        <p:spPr>
          <a:xfrm>
            <a:off x="365040" y="317520"/>
            <a:ext cx="8413920" cy="63324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714240" y="4714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6572160" y="5357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7:16:18Z</dcterms:created>
  <dc:creator>User</dc:creator>
  <dc:description/>
  <dc:language>en-US</dc:language>
  <cp:lastModifiedBy>SamLab.ws</cp:lastModifiedBy>
  <dcterms:modified xsi:type="dcterms:W3CDTF">2010-04-12T13:11:11Z</dcterms:modified>
  <cp:revision>31</cp:revision>
  <dc:subject/>
  <dc:title>Озёра . Болота. Ледники. Многолетняя мерзл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d0000000000010243100207f6000400038000</vt:lpwstr>
  </property>
</Properties>
</file>