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DD45-E04B-457C-9920-227A68F8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F1A-F731-4304-B957-8AAA1371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967-6B38-4204-A1E3-E555BC0B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AFC-BE7C-491D-B12F-63FA6007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6C40-6AA8-431A-A154-5A7ADB5A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850-8D46-4B5E-B370-B3BB48FE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364-E74E-42D0-975A-006F5524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0291-0D26-4333-98CF-C6C76D29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5C4-0599-46B4-AA55-9521DE9E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E91-1EA6-45EB-AEA1-EFDD44B2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A09-97F6-4E49-A7B3-B09D45DA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F144-DC42-4739-A985-2BAC3947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36CE-5861-43EC-A868-B6113D028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kitalets.ru/photogallery/2006/vepssky_bobyk/vepsles_summer_autumn_c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vepsles.spb.ru/veps/images/stories/oleshka.jp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photo.autotravel.org.ru/phalbum/10050/067.jpg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zoometod.narod.ru/mal/foto69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kitalets.ru/photogallery/2006/niznesvirsky_vichkunin/lachta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iking-nevo.narod.ru/images/expeditions/2005-kotka/haliaeetus-albicilla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forestry.krc.karelia.ru/gis/64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etun.ru/img/show/13124/416/13124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g-2007-08.photosight.ru/29/2274339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rdsmaryno.msk.ru/images/birds/Mariyno%20birds/im-43big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umkar.ru/gallery/aym_birds/Emberiza-aureola-2-0539-m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photographic.com.ua/image/121023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loranimal.ru/gallery/big/581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nauka.relis.ru/30/0205/letun-1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olbiol.ru/forums/uploads/post-13123-1153362589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molbiol.ru/forums/uploads/post-13123-1153362773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old.vladnews.ru/img/photos/16_zubi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iii.3dn.ru/_ph/3/2/602277896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origins.org.ua/pictures/bober999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784692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обо охраняемые природные территории (ООПТ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нинградской об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6307200"/>
            <a:ext cx="3776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Лаппова Ю.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91040" cy="3068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Картинка 26 из 28"/>
          <p:cNvPicPr/>
          <p:nvPr/>
        </p:nvPicPr>
        <p:blipFill>
          <a:blip r:embed="rId2"/>
          <a:stretch/>
        </p:blipFill>
        <p:spPr>
          <a:xfrm>
            <a:off x="395280" y="3429000"/>
            <a:ext cx="21956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Картинка 6 из 1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052640"/>
            <a:ext cx="4237200" cy="5538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40000" y="33336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епсский л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3301920"/>
            <a:ext cx="39942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684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индуловск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щ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6551640" cy="4365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Картинка 32 из 5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189000"/>
            <a:ext cx="254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Картинка 6 из 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18160" y="1557360"/>
            <a:ext cx="3092400" cy="4889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Картинка 2 из 88"/>
          <p:cNvPicPr/>
          <p:nvPr/>
        </p:nvPicPr>
        <p:blipFill>
          <a:blip r:embed="rId3"/>
          <a:stretch/>
        </p:blipFill>
        <p:spPr>
          <a:xfrm>
            <a:off x="0" y="2060640"/>
            <a:ext cx="5761080" cy="3836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5640" y="476280"/>
            <a:ext cx="59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шинское бо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Картинка 2 из 88"/>
          <p:cNvPicPr/>
          <p:nvPr/>
        </p:nvPicPr>
        <p:blipFill>
          <a:blip r:embed="rId1"/>
          <a:stretch/>
        </p:blipFill>
        <p:spPr>
          <a:xfrm>
            <a:off x="395280" y="646200"/>
            <a:ext cx="792180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784692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обо охраняемые природные территории (ООПТ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озерского рай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-360" y="6307200"/>
            <a:ext cx="3776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Лаппова Ю.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910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Картинка 7 из 124"/>
          <p:cNvPicPr/>
          <p:nvPr/>
        </p:nvPicPr>
        <p:blipFill>
          <a:blip r:embed="rId1"/>
          <a:stretch/>
        </p:blipFill>
        <p:spPr>
          <a:xfrm>
            <a:off x="2033640" y="1738440"/>
            <a:ext cx="5076720" cy="338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0000" y="189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зеро Крас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сненский водоп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50920" y="2205000"/>
            <a:ext cx="54738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Картинка 31 из 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816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Картинка 11 из 3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4299120" cy="612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артинка 17 из 3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60280"/>
            <a:ext cx="5076720" cy="3381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03640" y="400536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рлан-белохв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Картинка 21 из 19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5329440" cy="313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Картинка 32 из 192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2459160"/>
            <a:ext cx="6875640" cy="439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867280" y="404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ко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Картинка 4 из 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712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5280" y="5300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рос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Картинка 8 из 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а 11 из 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2602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16360" y="422100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алый погоны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16360" y="595008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убров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Картинка 4 из 5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1916280"/>
            <a:ext cx="7058160" cy="4779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Картинка 26 из 2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89000"/>
            <a:ext cx="3708360" cy="313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84720" y="69228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елка-летя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Картинка 5 из 21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66960"/>
            <a:ext cx="7020000" cy="4991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Картинка 5 из 21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260280"/>
            <a:ext cx="278136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5640" y="4762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Картинка 1 из 125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0"/>
            <a:ext cx="3229200" cy="3809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37 из 1398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997360"/>
            <a:ext cx="4762440" cy="3571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Картинка 32 из 1398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404640"/>
            <a:ext cx="4971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9:35:21Z</dcterms:created>
  <dc:creator>Aleksey</dc:creator>
  <dc:description/>
  <dc:language>en-US</dc:language>
  <cp:lastModifiedBy>Aleksey</cp:lastModifiedBy>
  <dcterms:modified xsi:type="dcterms:W3CDTF">2010-02-28T10:20:25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120000000000010250300207f7000400038000</vt:lpwstr>
  </property>
</Properties>
</file>