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E2E-EEAC-4069-89F3-4E3E7CEC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344-569B-469E-B02F-2D7EC3B5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341-7A86-4E8F-A76B-F0552157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B36-ECAC-413F-A47C-519E7B01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BDB-D922-4BB5-8BEB-38384317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2F3-CA5D-4C9A-8048-7759C8B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AF8-4F2D-4E52-B80A-D4F84D58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5D0-B68D-484B-97CA-17A30209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3FC-9719-496D-A18A-FF84BCD4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480-A056-47BA-9922-CA9F965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050-6ADE-497A-96D1-F50E090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2D8-4F67-4F0C-86FF-9BB2DDCD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D10-0F50-473E-B26E-636218B5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kitalets.ru/photogallery/2006/vepssky_bobyk/vepsles_summer_autumn_c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vepsles.spb.ru/veps/images/stories/oleshka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photo.autotravel.org.ru/phalbum/10050/067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oometod.narod.ru/mal/foto69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kitalets.ru/photogallery/2006/niznesvirsky_vichkunin/lachta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iking-nevo.narod.ru/images/expeditions/2005-kotka/haliaeetus-albicill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forestry.krc.karelia.ru/gis/64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un.ru/img/show/13124/416/13124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-2007-08.photosight.ru/29/2274339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rdsmaryno.msk.ru/images/birds/Mariyno%20birds/im-43bi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mkar.ru/gallery/aym_birds/Emberiza-aureola-2-0539-m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hotographic.com.ua/image/121023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loranimal.ru/gallery/big/58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nauka.relis.ru/30/0205/letun-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olbiol.ru/forums/uploads/post-13123-1153362589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molbiol.ru/forums/uploads/post-13123-1153362773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ld.vladnews.ru/img/photos/16_zubi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iii.3dn.ru/_ph/3/2/60227789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origins.org.ua/pictures/bober999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846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(ООПТ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инград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6307200"/>
            <a:ext cx="3776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Лаппова Ю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91040" cy="306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26 из 28"/>
          <p:cNvPicPr/>
          <p:nvPr/>
        </p:nvPicPr>
        <p:blipFill>
          <a:blip r:embed="rId2"/>
          <a:stretch/>
        </p:blipFill>
        <p:spPr>
          <a:xfrm>
            <a:off x="395280" y="3429000"/>
            <a:ext cx="2195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Картинка 6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052640"/>
            <a:ext cx="4237200" cy="5538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0000" y="33336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псский 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3301920"/>
            <a:ext cx="39942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ндуловск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щ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6551640" cy="4365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Картинка 32 из 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8900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Картинка 6 из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18160" y="1557360"/>
            <a:ext cx="3092400" cy="488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2 из 88"/>
          <p:cNvPicPr/>
          <p:nvPr/>
        </p:nvPicPr>
        <p:blipFill>
          <a:blip r:embed="rId3"/>
          <a:stretch/>
        </p:blipFill>
        <p:spPr>
          <a:xfrm>
            <a:off x="0" y="2060640"/>
            <a:ext cx="5761080" cy="3836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47628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шинское бо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Картинка 2 из 88"/>
          <p:cNvPicPr/>
          <p:nvPr/>
        </p:nvPicPr>
        <p:blipFill>
          <a:blip r:embed="rId1"/>
          <a:stretch/>
        </p:blipFill>
        <p:spPr>
          <a:xfrm>
            <a:off x="395280" y="646200"/>
            <a:ext cx="79218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846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(ООПТ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озер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-360" y="6307200"/>
            <a:ext cx="3776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Лаппова Ю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Картинка 7 из 124"/>
          <p:cNvPicPr/>
          <p:nvPr/>
        </p:nvPicPr>
        <p:blipFill>
          <a:blip r:embed="rId1"/>
          <a:stretch/>
        </p:blipFill>
        <p:spPr>
          <a:xfrm>
            <a:off x="2033640" y="173844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зеро Крас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сненский водо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473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31 из 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16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11 из 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299120" cy="612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17 из 3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6028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40053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лан-белохв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21 из 19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5329440" cy="31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32 из 19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459160"/>
            <a:ext cx="6875640" cy="439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867280" y="40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ко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4 из 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71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530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ос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8 из 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1 из 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602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16360" y="422100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лый погон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6360" y="59500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убров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4 из 5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7058160" cy="477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26 из 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9000"/>
            <a:ext cx="3708360" cy="313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692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лка-летя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5 из 21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66960"/>
            <a:ext cx="7020000" cy="4991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5 из 21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278136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4762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1 из 12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0"/>
            <a:ext cx="322920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37 из 139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997360"/>
            <a:ext cx="4762440" cy="357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32 из 1398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04640"/>
            <a:ext cx="497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9:35:21Z</dcterms:created>
  <dc:creator>Aleksey</dc:creator>
  <dc:description/>
  <dc:language>en-US</dc:language>
  <cp:lastModifiedBy>Aleksey</cp:lastModifiedBy>
  <dcterms:modified xsi:type="dcterms:W3CDTF">2010-02-28T10:20:25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120000000000010250300207f7000400038000</vt:lpwstr>
  </property>
</Properties>
</file>