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30.jpeg" ContentType="image/jpeg"/>
  <Override PartName="/ppt/media/image12.png" ContentType="image/png"/>
  <Override PartName="/ppt/media/image28.jpeg" ContentType="image/jpeg"/>
  <Override PartName="/ppt/media/image35.jpeg" ContentType="image/jpeg"/>
  <Override PartName="/ppt/media/image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1.jpeg" ContentType="image/jpeg"/>
  <Override PartName="/ppt/media/image45.jpeg" ContentType="image/jpeg"/>
  <Override PartName="/ppt/media/image29.png" ContentType="image/png"/>
  <Override PartName="/ppt/media/image42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9.jpeg" ContentType="image/jpeg"/>
  <Override PartName="/ppt/media/image11.png" ContentType="image/png"/>
  <Override PartName="/ppt/media/image13.png" ContentType="image/png"/>
  <Override PartName="/ppt/media/cashreg.wav" ContentType="audio/x-wav"/>
  <Override PartName="/ppt/media/image39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7773-5067-4DA7-81CC-470401CD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CF0-A039-4AAD-95AB-6D0F1DB0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3529D3-F4AA-4510-AD48-19728233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FF222D-EEF7-4558-9477-F39A1D8C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97D462-DB25-4EBC-9FBD-961D6158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0959D3-B305-4E59-800E-EF991994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448E9B-1755-4A30-86E1-07ADAB56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52BB34-30AB-413D-900B-A634E00F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3AAE71-4569-41F5-9EC5-25DB0D28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9B8A68-A147-4BAA-9876-B372804B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6F3162-B76F-41B7-9545-C52C749A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A223E0-8105-42B1-ADCA-01C19092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9D38-5008-47A4-B00A-722D19C8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DA4E73-AE4C-4765-83BA-6A15B263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D39D67-1CF0-4404-9F0E-90F3FEDD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52B186-1584-4C67-A4ED-5DDA7FF4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17FDF0-CF7D-45FB-869B-96D03864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D264B4-5C7C-4850-9721-1ED1BC74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ED7DA1-B4C3-4F23-AF06-D3E790F6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45D20B-F21B-4040-8232-0AD93997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3C2AC5-2FC7-4534-BC56-191133F5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7F029E-E5AD-4C95-B3AA-1DDF2155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C7E33A-A5E2-47B1-843F-0FE94089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9B39-9676-4A30-9885-5526798D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1FA3AB-C2BF-4679-AD60-65DC7107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4738-6432-463F-8822-08A0432F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4E0F-9858-4633-B492-A2FB6C51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34F9-8E6F-4BE5-B050-C6070CB6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B623-620D-47B8-9C90-2EAC90DA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F88E-8A3B-4405-8E71-893DE01F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A28B-83DD-4AC4-B3DA-E8202D6B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58CB-2D3C-41CE-9F13-599253BC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5107-1120-485D-9AA0-A2AD15FD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1280-07BA-4F64-AD9B-D9CBEB79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B1BA-CEB8-45A1-AE7E-7ADA3B5C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557C-E850-4462-BDB6-1DE33F89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5040-C6E3-4B26-9EF2-83895D6F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F687-AC29-4920-A6A3-9490FCF9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0A392-E08B-4F0D-B550-717AEE59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79C40-F44D-4D8F-BEC5-7C40E773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522B6-E323-47FE-91B6-BE9C7C6E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CB64E-FDA2-49A9-86FA-B2F2EFCD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515E3-753C-4653-9291-4B23368F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613-6D86-4ED0-A22D-2B9BD6DB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6D2D4-F00A-4EE7-B205-0E77DE13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8A14D-D9DC-4386-8363-8E19295D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62B9E-10C0-44CA-855A-A8210DBE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9EAB4-EBF2-444A-8146-CAFEB2B6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98AB4-94E2-4180-9E2D-C07B3259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2D694-D51B-4119-9757-1D2921A7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C990C-761B-4E35-B454-2931A2D4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72DDA-1981-4A59-8BA3-28AE3041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BE082-EFC6-48BC-AF4C-9C8FF540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A6634-2F22-4F16-A348-305010E3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907-3198-4B2B-9236-533E5E3A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7ACCB-605D-48CB-8055-752F1139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4F9B2-FD7D-4798-BA24-AB6B1E34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4AD42-EE26-4820-AAB0-85269D33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F4D8E-E1A3-4630-ADDF-2F1CF71D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15D4D-0328-4E06-9BD1-D814D0C4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4DF44-98F5-48C0-AB4B-48FF7F84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B5DFB-16A9-47FD-B669-3A0AEB46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BB2FC-84F7-49DB-9459-E2DBD1B7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CFAD5-017A-47E8-9316-7C3AC792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3CCB7E-4406-4E18-8121-992D98A9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050B-DD5A-4E8E-9B02-96CC448F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470533-FA99-42FA-94EE-A0AA7B59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2093EE-95A0-4820-8608-55A11FA8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336039-3C0D-4F29-89D6-779AE586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C2551-F7F8-4216-BFCB-F550CDA7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A8F9F7-9F48-4578-9484-F64C2E2B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F271F1-430D-4C8D-9852-1F278515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1AD5AD-ED93-426D-B754-4517DEC6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FE01D4-2D9A-4AD4-B86F-AD1992F2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E7979A-3F4E-4A58-8729-BC9D8A3E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A2A309-6AB3-44B7-AEF1-1E25C3F7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ADD-95BE-4E62-875D-39B5DBA5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3A2765-73B4-410A-AB42-F43CEC43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0F8FA-EFAF-4BA7-B885-18B18A75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B4367-D2F4-4547-B27E-917F4CFB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51B9E-5E28-4762-A3E0-CC856382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7F965-00F5-4715-9226-0F3D0B3E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853E3-4F81-4E63-B068-DE108FF9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2AF6D-8577-47A5-8E56-26769CF4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2A11A-CCD7-4113-9806-1894646B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84DEB-C0A9-4FCB-B6A4-07231759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5738B-FEBF-4627-B594-69F689B9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ABD7-8DA9-4D3B-94D5-2B2D91BF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2D792-9A6A-4FCB-9F8B-6F628461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0CA55-C298-4E48-A4FD-570E1082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2C53B-9E87-43B1-8578-44FD3EC5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A4272-118E-4430-94AD-FF85CB08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11C6C-2E14-463A-9980-CA315024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FF5B6-575C-499A-8CFF-41E7D098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381F8-40AD-44B9-BD22-FD95303E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48E3D-1DEE-4794-A417-21678BB4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580F8-6431-4982-9E81-667B7A8E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C78EE-744D-4CC3-AEC3-80E42A51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3B04-743A-407A-9A3D-91496635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592CC-4525-44B5-B863-E733F1CD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AB816-EB5E-4419-A91A-F44131B5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1343D-A748-462C-BE14-E0D9EA86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34F8C-4FBF-422C-AEA8-F8D2BA83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4A191-7C33-49DF-B46C-E275E05B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CF4F7-605C-47A2-8B3F-92A646EB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4C00B-9898-4B25-9092-A81306BE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78271-6687-4484-BDA2-1F7EE4EA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20F53-8288-475F-8CDC-6806CBFD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DAB4C-41B9-43C5-AAC4-CFC45B45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D8F-5447-4BE6-B90E-F4BA69EA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F12AC-5E88-4FFE-8AE4-AFCF3946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0656E-4297-4302-AB15-6D7FCDBA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6AE68-485A-4140-A68C-DED64D12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1F819-C053-4724-AB37-F883E37E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BF84E-54B1-4611-8714-FAD99E79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82EE3-76E3-4C38-8528-62C6E741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10C73-4733-4DA4-B077-BAB490BF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9C0145-559C-43C8-831B-152C4E20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040FF4-C805-4FEA-AD5F-E8336735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BC3AA5-8D9D-4215-81F2-C1CC0DA9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F909-8DA8-4CCC-972F-45754B4F81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ED74-AF7B-4330-B489-FC2E1DD580C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4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94E4-3934-4B40-8E13-90B3B0BA3AC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86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F7C9-B894-4F85-85D9-12DF45073A5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3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187B-A15B-4B32-B561-B19215F30A1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4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193E-936F-423B-A936-A6D932408D0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5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1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9A71-E791-4A9F-8CDD-20BEE380D54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FD16-B4E6-440A-8B0F-297C2F5BA2D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30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3C9F-9E60-4CBA-A1D3-2122B4006AC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2CA5-B6E3-45D7-B7C0-11AA1075AEB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1.png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Рисунок 1" descr=""/>
          <p:cNvPicPr/>
          <p:nvPr/>
        </p:nvPicPr>
        <p:blipFill>
          <a:blip r:embed="rId1"/>
          <a:stretch/>
        </p:blipFill>
        <p:spPr>
          <a:xfrm>
            <a:off x="-757080" y="0"/>
            <a:ext cx="1051380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3"/>
          <p:cNvSpPr/>
          <p:nvPr/>
        </p:nvSpPr>
        <p:spPr>
          <a:xfrm>
            <a:off x="179280" y="352440"/>
            <a:ext cx="8964720" cy="34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Arial Narrow"/>
              </a:rPr>
              <a:t>Методическая разработка урока для 6 класса на тем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9933"/>
                </a:solidFill>
                <a:latin typeface="Arial Narrow"/>
              </a:rPr>
              <a:t>Основные  формы рельефа Зем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324000" y="4797360"/>
            <a:ext cx="532764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Segoe Print"/>
              </a:rPr>
              <a:t>Автор: </a:t>
            </a:r>
            <a:r>
              <a:rPr b="1" lang="en-US" sz="2800" spc="-1" strike="noStrike">
                <a:solidFill>
                  <a:srgbClr val="ffc000"/>
                </a:solidFill>
                <a:latin typeface="Segoe Print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Segoe Print"/>
              </a:rPr>
              <a:t>Терещенко И.А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Segoe Print"/>
              </a:rPr>
              <a:t>учитель гео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Segoe Print"/>
              </a:rPr>
              <a:t>МБОУ ООШ № 9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Segoe Print"/>
              </a:rPr>
              <a:t>г. Ноябрь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Рисунок 2" descr=""/>
          <p:cNvPicPr/>
          <p:nvPr/>
        </p:nvPicPr>
        <p:blipFill>
          <a:blip r:embed="rId1"/>
          <a:stretch/>
        </p:blipFill>
        <p:spPr>
          <a:xfrm>
            <a:off x="-905040" y="0"/>
            <a:ext cx="1095408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Segoe Print"/>
              </a:rPr>
              <a:t>Формы рельефа су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AutoShape 5"/>
          <p:cNvGrpSpPr/>
          <p:nvPr/>
        </p:nvGrpSpPr>
        <p:grpSpPr>
          <a:xfrm>
            <a:off x="1036800" y="2414520"/>
            <a:ext cx="2315880" cy="804960"/>
            <a:chOff x="1036800" y="2414520"/>
            <a:chExt cx="2315880" cy="804960"/>
          </a:xfrm>
        </p:grpSpPr>
        <p:pic>
          <p:nvPicPr>
            <p:cNvPr id="482" name="AutoShape 5" descr=""/>
            <p:cNvPicPr/>
            <p:nvPr/>
          </p:nvPicPr>
          <p:blipFill>
            <a:blip r:embed="rId2"/>
            <a:stretch/>
          </p:blipFill>
          <p:spPr>
            <a:xfrm>
              <a:off x="1036800" y="2414520"/>
              <a:ext cx="231588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1082520" y="2459160"/>
              <a:ext cx="222732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Го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AutoShape 6"/>
          <p:cNvGrpSpPr/>
          <p:nvPr/>
        </p:nvGrpSpPr>
        <p:grpSpPr>
          <a:xfrm>
            <a:off x="5791320" y="2414520"/>
            <a:ext cx="2097000" cy="804960"/>
            <a:chOff x="5791320" y="2414520"/>
            <a:chExt cx="2097000" cy="804960"/>
          </a:xfrm>
        </p:grpSpPr>
        <p:pic>
          <p:nvPicPr>
            <p:cNvPr id="485" name="AutoShape 6" descr=""/>
            <p:cNvPicPr/>
            <p:nvPr/>
          </p:nvPicPr>
          <p:blipFill>
            <a:blip r:embed="rId3"/>
            <a:stretch/>
          </p:blipFill>
          <p:spPr>
            <a:xfrm>
              <a:off x="5791320" y="2414520"/>
              <a:ext cx="209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5834160" y="2459160"/>
              <a:ext cx="201132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Равни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87" name="AutoShape 7"/>
          <p:cNvCxnSpPr/>
          <p:nvPr/>
        </p:nvCxnSpPr>
        <p:spPr>
          <a:xfrm flipH="1" flipV="1" rot="5400000">
            <a:off x="4516920" y="97560"/>
            <a:ext cx="13320" cy="4645800"/>
          </a:xfrm>
          <a:prstGeom prst="bentConnector3">
            <a:avLst>
              <a:gd name="adj1" fmla="val 1800000"/>
            </a:avLst>
          </a:prstGeom>
          <a:ln w="38160">
            <a:solidFill>
              <a:srgbClr val="ffc000"/>
            </a:solidFill>
            <a:miter/>
          </a:ln>
        </p:spPr>
      </p:cxnSp>
      <p:grpSp>
        <p:nvGrpSpPr>
          <p:cNvPr id="488" name="AutoShape 8"/>
          <p:cNvGrpSpPr/>
          <p:nvPr/>
        </p:nvGrpSpPr>
        <p:grpSpPr>
          <a:xfrm>
            <a:off x="4565520" y="3925800"/>
            <a:ext cx="1597320" cy="1457280"/>
            <a:chOff x="4565520" y="3925800"/>
            <a:chExt cx="1597320" cy="1457280"/>
          </a:xfrm>
        </p:grpSpPr>
        <p:pic>
          <p:nvPicPr>
            <p:cNvPr id="489" name="AutoShape 8" descr=""/>
            <p:cNvPicPr/>
            <p:nvPr/>
          </p:nvPicPr>
          <p:blipFill>
            <a:blip r:embed="rId4"/>
            <a:stretch/>
          </p:blipFill>
          <p:spPr>
            <a:xfrm>
              <a:off x="4565520" y="3925800"/>
              <a:ext cx="159732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4641840" y="4003560"/>
              <a:ext cx="144468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Плоскогорь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Свыш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500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AutoShape 9"/>
          <p:cNvGrpSpPr/>
          <p:nvPr/>
        </p:nvGrpSpPr>
        <p:grpSpPr>
          <a:xfrm>
            <a:off x="30240" y="3925800"/>
            <a:ext cx="1305000" cy="1457280"/>
            <a:chOff x="30240" y="3925800"/>
            <a:chExt cx="1305000" cy="1457280"/>
          </a:xfrm>
        </p:grpSpPr>
        <p:pic>
          <p:nvPicPr>
            <p:cNvPr id="492" name="AutoShape 9" descr=""/>
            <p:cNvPicPr/>
            <p:nvPr/>
          </p:nvPicPr>
          <p:blipFill>
            <a:blip r:embed="rId5"/>
            <a:stretch/>
          </p:blipFill>
          <p:spPr>
            <a:xfrm>
              <a:off x="30240" y="3925800"/>
              <a:ext cx="13050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98280" y="3997440"/>
              <a:ext cx="1170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Высо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Свыш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2000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AutoShape 10"/>
          <p:cNvGrpSpPr/>
          <p:nvPr/>
        </p:nvGrpSpPr>
        <p:grpSpPr>
          <a:xfrm>
            <a:off x="1395360" y="3925800"/>
            <a:ext cx="1457280" cy="1457280"/>
            <a:chOff x="1395360" y="3925800"/>
            <a:chExt cx="1457280" cy="1457280"/>
          </a:xfrm>
        </p:grpSpPr>
        <p:pic>
          <p:nvPicPr>
            <p:cNvPr id="495" name="AutoShape 10" descr=""/>
            <p:cNvPicPr/>
            <p:nvPr/>
          </p:nvPicPr>
          <p:blipFill>
            <a:blip r:embed="rId6"/>
            <a:stretch/>
          </p:blipFill>
          <p:spPr>
            <a:xfrm>
              <a:off x="1395360" y="3925800"/>
              <a:ext cx="14572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1473120" y="4003560"/>
              <a:ext cx="130032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Сред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1000-2000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AutoShape 11"/>
          <p:cNvGrpSpPr/>
          <p:nvPr/>
        </p:nvGrpSpPr>
        <p:grpSpPr>
          <a:xfrm>
            <a:off x="2908440" y="3925800"/>
            <a:ext cx="1309680" cy="1457280"/>
            <a:chOff x="2908440" y="3925800"/>
            <a:chExt cx="1309680" cy="1457280"/>
          </a:xfrm>
        </p:grpSpPr>
        <p:pic>
          <p:nvPicPr>
            <p:cNvPr id="498" name="AutoShape 11" descr=""/>
            <p:cNvPicPr/>
            <p:nvPr/>
          </p:nvPicPr>
          <p:blipFill>
            <a:blip r:embed="rId7"/>
            <a:stretch/>
          </p:blipFill>
          <p:spPr>
            <a:xfrm>
              <a:off x="2908440" y="3925800"/>
              <a:ext cx="13096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2979720" y="3997440"/>
              <a:ext cx="11685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Низ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До 1000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AutoShape 12"/>
          <p:cNvGrpSpPr/>
          <p:nvPr/>
        </p:nvGrpSpPr>
        <p:grpSpPr>
          <a:xfrm>
            <a:off x="6224760" y="3925800"/>
            <a:ext cx="1450800" cy="1457280"/>
            <a:chOff x="6224760" y="3925800"/>
            <a:chExt cx="1450800" cy="1457280"/>
          </a:xfrm>
        </p:grpSpPr>
        <p:pic>
          <p:nvPicPr>
            <p:cNvPr id="501" name="AutoShape 12" descr=""/>
            <p:cNvPicPr/>
            <p:nvPr/>
          </p:nvPicPr>
          <p:blipFill>
            <a:blip r:embed="rId8"/>
            <a:stretch/>
          </p:blipFill>
          <p:spPr>
            <a:xfrm>
              <a:off x="6224760" y="3925800"/>
              <a:ext cx="14508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6299280" y="4003560"/>
              <a:ext cx="129852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Возвышен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200- 500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AutoShape 13"/>
          <p:cNvGrpSpPr/>
          <p:nvPr/>
        </p:nvGrpSpPr>
        <p:grpSpPr>
          <a:xfrm>
            <a:off x="7736040" y="3925800"/>
            <a:ext cx="1304640" cy="1457280"/>
            <a:chOff x="7736040" y="3925800"/>
            <a:chExt cx="1304640" cy="1457280"/>
          </a:xfrm>
        </p:grpSpPr>
        <p:pic>
          <p:nvPicPr>
            <p:cNvPr id="504" name="AutoShape 13" descr=""/>
            <p:cNvPicPr/>
            <p:nvPr/>
          </p:nvPicPr>
          <p:blipFill>
            <a:blip r:embed="rId9"/>
            <a:stretch/>
          </p:blipFill>
          <p:spPr>
            <a:xfrm>
              <a:off x="7736040" y="3925800"/>
              <a:ext cx="130464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7804080" y="3997440"/>
              <a:ext cx="11685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Низмен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до 200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06" name="AutoShape 15"/>
          <p:cNvCxnSpPr/>
          <p:nvPr/>
        </p:nvCxnSpPr>
        <p:spPr>
          <a:xfrm flipH="1" flipV="1" rot="5400000">
            <a:off x="6839640" y="2385360"/>
            <a:ext cx="13320" cy="3096360"/>
          </a:xfrm>
          <a:prstGeom prst="bentConnector3">
            <a:avLst>
              <a:gd name="adj1" fmla="val 1800000"/>
            </a:avLst>
          </a:prstGeom>
          <a:ln w="38160">
            <a:solidFill>
              <a:srgbClr val="ffc000"/>
            </a:solidFill>
            <a:miter/>
          </a:ln>
        </p:spPr>
      </p:cxnSp>
      <p:cxnSp>
        <p:nvCxnSpPr>
          <p:cNvPr id="507" name="AutoShape 16"/>
          <p:cNvCxnSpPr/>
          <p:nvPr/>
        </p:nvCxnSpPr>
        <p:spPr>
          <a:xfrm flipH="1" flipV="1" rot="5400000">
            <a:off x="2050920" y="2565000"/>
            <a:ext cx="13320" cy="2737080"/>
          </a:xfrm>
          <a:prstGeom prst="bentConnector3">
            <a:avLst>
              <a:gd name="adj1" fmla="val 1800000"/>
            </a:avLst>
          </a:prstGeom>
          <a:ln w="38160">
            <a:solidFill>
              <a:srgbClr val="ffc000"/>
            </a:solidFill>
            <a:miter/>
          </a:ln>
        </p:spPr>
      </p:cxnSp>
      <p:sp>
        <p:nvSpPr>
          <p:cNvPr id="508" name="Line 17"/>
          <p:cNvSpPr/>
          <p:nvPr/>
        </p:nvSpPr>
        <p:spPr>
          <a:xfrm>
            <a:off x="2124000" y="3213000"/>
            <a:ext cx="0" cy="7207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8"/>
          <p:cNvSpPr/>
          <p:nvPr/>
        </p:nvSpPr>
        <p:spPr>
          <a:xfrm>
            <a:off x="6804000" y="3213000"/>
            <a:ext cx="0" cy="7207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75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75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ГОРЫ2"/>
          <p:cNvPicPr/>
          <p:nvPr/>
        </p:nvPicPr>
        <p:blipFill>
          <a:blip r:embed="rId1"/>
          <a:srcRect l="0" t="0" r="0" b="-10"/>
          <a:stretch/>
        </p:blipFill>
        <p:spPr>
          <a:xfrm>
            <a:off x="3276720" y="189000"/>
            <a:ext cx="5705280" cy="648000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3"/>
          <p:cNvSpPr/>
          <p:nvPr/>
        </p:nvSpPr>
        <p:spPr>
          <a:xfrm>
            <a:off x="324000" y="549360"/>
            <a:ext cx="2879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Гор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Segoe Print"/>
              </a:rPr>
              <a:t>это выпуклая часть земной коры, высота которой больше 500 метров над уровнем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эверест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13" name="Text Box 3"/>
          <p:cNvSpPr/>
          <p:nvPr/>
        </p:nvSpPr>
        <p:spPr>
          <a:xfrm>
            <a:off x="0" y="18900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ры не стоят поодиночке, они образуют хреб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468360" y="6035760"/>
            <a:ext cx="8388360" cy="825480"/>
          </a:xfrm>
          <a:prstGeom prst="rect">
            <a:avLst/>
          </a:prstGeom>
          <a:gradFill rotWithShape="0">
            <a:gsLst>
              <a:gs pos="0">
                <a:srgbClr val="142448"/>
              </a:gs>
              <a:gs pos="50000">
                <a:srgbClr val="ffffff"/>
              </a:gs>
              <a:gs pos="100000">
                <a:srgbClr val="1424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Много гор образуют горную систему, которая имеет собственное наз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Oval 9"/>
          <p:cNvSpPr/>
          <p:nvPr/>
        </p:nvSpPr>
        <p:spPr>
          <a:xfrm>
            <a:off x="4932360" y="260280"/>
            <a:ext cx="1368360" cy="1224000"/>
          </a:xfrm>
          <a:prstGeom prst="ellipse">
            <a:avLst/>
          </a:prstGeom>
          <a:solidFill>
            <a:srgbClr val="576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Схема 1" descr=""/>
          <p:cNvPicPr/>
          <p:nvPr/>
        </p:nvPicPr>
        <p:blipFill>
          <a:blip r:embed="rId1"/>
          <a:stretch/>
        </p:blipFill>
        <p:spPr>
          <a:xfrm>
            <a:off x="115920" y="92160"/>
            <a:ext cx="5681520" cy="19256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эверест1"/>
          <p:cNvPicPr/>
          <p:nvPr/>
        </p:nvPicPr>
        <p:blipFill>
          <a:blip r:embed="rId2"/>
          <a:srcRect l="0" t="0" r="-25" b="0"/>
          <a:stretch/>
        </p:blipFill>
        <p:spPr>
          <a:xfrm>
            <a:off x="3059280" y="1628640"/>
            <a:ext cx="5903640" cy="50832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11"/>
          <p:cNvSpPr/>
          <p:nvPr/>
        </p:nvSpPr>
        <p:spPr>
          <a:xfrm>
            <a:off x="0" y="2708280"/>
            <a:ext cx="30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Имеют абсолютную высоту свыше 2000 м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Oval 2"/>
          <p:cNvSpPr/>
          <p:nvPr/>
        </p:nvSpPr>
        <p:spPr>
          <a:xfrm>
            <a:off x="4932360" y="260280"/>
            <a:ext cx="1368360" cy="1224000"/>
          </a:xfrm>
          <a:prstGeom prst="ellipse">
            <a:avLst/>
          </a:prstGeom>
          <a:solidFill>
            <a:srgbClr val="576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Схема 1" descr=""/>
          <p:cNvPicPr/>
          <p:nvPr/>
        </p:nvPicPr>
        <p:blipFill>
          <a:blip r:embed="rId1"/>
          <a:stretch/>
        </p:blipFill>
        <p:spPr>
          <a:xfrm>
            <a:off x="195120" y="92160"/>
            <a:ext cx="5675400" cy="19256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6"/>
          <p:cNvSpPr/>
          <p:nvPr/>
        </p:nvSpPr>
        <p:spPr>
          <a:xfrm>
            <a:off x="0" y="2992320"/>
            <a:ext cx="27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Имеют абсолютную высоту от 1000 до 2000 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0" descr=""/>
          <p:cNvPicPr/>
          <p:nvPr/>
        </p:nvPicPr>
        <p:blipFill>
          <a:blip r:embed="rId2"/>
          <a:stretch/>
        </p:blipFill>
        <p:spPr>
          <a:xfrm>
            <a:off x="2843280" y="1700280"/>
            <a:ext cx="6121440" cy="4949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Oval 2"/>
          <p:cNvSpPr/>
          <p:nvPr/>
        </p:nvSpPr>
        <p:spPr>
          <a:xfrm>
            <a:off x="4932360" y="260280"/>
            <a:ext cx="1368360" cy="1224000"/>
          </a:xfrm>
          <a:prstGeom prst="ellipse">
            <a:avLst/>
          </a:prstGeom>
          <a:solidFill>
            <a:srgbClr val="576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Схема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5827680" cy="193176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6"/>
          <p:cNvSpPr/>
          <p:nvPr/>
        </p:nvSpPr>
        <p:spPr>
          <a:xfrm>
            <a:off x="108000" y="2708280"/>
            <a:ext cx="266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Низкие горы – это горы, абсолютная высота которых не превышает 1000 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8" descr="н г"/>
          <p:cNvPicPr/>
          <p:nvPr/>
        </p:nvPicPr>
        <p:blipFill>
          <a:blip r:embed="rId2"/>
          <a:srcRect l="0" t="0" r="-64" b="62"/>
          <a:stretch/>
        </p:blipFill>
        <p:spPr>
          <a:xfrm>
            <a:off x="2916360" y="1628640"/>
            <a:ext cx="60498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8" descr="эверес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5"/>
          <p:cNvSpPr/>
          <p:nvPr/>
        </p:nvSpPr>
        <p:spPr>
          <a:xfrm>
            <a:off x="5796000" y="1634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шина Эвер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AutoShape 9" descr=""/>
          <p:cNvPicPr/>
          <p:nvPr/>
        </p:nvPicPr>
        <p:blipFill>
          <a:blip r:embed="rId2"/>
          <a:stretch/>
        </p:blipFill>
        <p:spPr>
          <a:xfrm>
            <a:off x="5089680" y="49320"/>
            <a:ext cx="688680" cy="768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0" descr="алта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AutoShape 6"/>
          <p:cNvSpPr/>
          <p:nvPr/>
        </p:nvSpPr>
        <p:spPr>
          <a:xfrm>
            <a:off x="684360" y="1197000"/>
            <a:ext cx="7848360" cy="936720"/>
          </a:xfrm>
          <a:custGeom>
            <a:avLst/>
            <a:gdLst>
              <a:gd name="textAreaLeft" fmla="*/ 0 w 7848360"/>
              <a:gd name="textAreaRight" fmla="*/ 5504760 w 78483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7"/>
          <p:cNvSpPr/>
          <p:nvPr/>
        </p:nvSpPr>
        <p:spPr>
          <a:xfrm>
            <a:off x="324000" y="2060640"/>
            <a:ext cx="2879640" cy="216000"/>
          </a:xfrm>
          <a:custGeom>
            <a:avLst/>
            <a:gdLst>
              <a:gd name="textAreaLeft" fmla="*/ 1839960 w 2879640"/>
              <a:gd name="textAreaRight" fmla="*/ 2880000 w 287964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8"/>
          <p:cNvSpPr/>
          <p:nvPr/>
        </p:nvSpPr>
        <p:spPr>
          <a:xfrm flipV="1">
            <a:off x="250920" y="2204640"/>
            <a:ext cx="518472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9"/>
          <p:cNvSpPr/>
          <p:nvPr/>
        </p:nvSpPr>
        <p:spPr>
          <a:xfrm flipH="1">
            <a:off x="1476360" y="1844640"/>
            <a:ext cx="1008000" cy="28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WordArt 11"/>
          <p:cNvSpPr txBox="1"/>
          <p:nvPr/>
        </p:nvSpPr>
        <p:spPr>
          <a:xfrm>
            <a:off x="1763640" y="1197000"/>
            <a:ext cx="583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Segoe Print"/>
              </a:rPr>
              <a:t>Х Р Е Б Е Т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Segoe Print"/>
              <a:ea typeface="Segoe Print"/>
            </a:endParaRPr>
          </a:p>
        </p:txBody>
      </p:sp>
    </p:spTree>
  </p:cSld>
  <p:transition spd="slow">
    <p:circl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5" descr="Image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2987640" y="76500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Print"/>
              </a:rPr>
              <a:t>Гребен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4"/>
          <p:cNvSpPr/>
          <p:nvPr/>
        </p:nvSpPr>
        <p:spPr>
          <a:xfrm>
            <a:off x="4140360" y="1413000"/>
            <a:ext cx="0" cy="647640"/>
          </a:xfrm>
          <a:prstGeom prst="line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539640" y="6922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179280" y="115920"/>
            <a:ext cx="8856720" cy="667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3399"/>
                </a:solidFill>
                <a:latin typeface="Segoe Print"/>
              </a:rPr>
              <a:t>Горы и страны, в которых они расположен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Анд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Южная Америка: Венесуэла, Колумбия, Перу, Эквадор, Бразилия, Боливия, Чили, Арген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Уральские горы</a:t>
            </a:r>
            <a:r>
              <a:rPr b="1" lang="ru-RU" sz="24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Пами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Таджи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Тянь-Ша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Киргизия,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Кавка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Россия, Грузия, Азербайдж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Скандинавские горы</a:t>
            </a:r>
            <a:r>
              <a:rPr b="1" lang="en-US" sz="2400" spc="-1" strike="noStrike">
                <a:solidFill>
                  <a:srgbClr val="000099"/>
                </a:solidFill>
                <a:latin typeface="Segoe Print"/>
              </a:rPr>
              <a:t> -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 Норвегия, Швеция, Финля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Гимала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Индия,</a:t>
            </a: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Непал,</a:t>
            </a: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Китай, Пакистан, Бу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Кордилье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– Северная Америка: США, Канада, Мексика и малые страны Центральной Аме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1"/>
          <p:cNvSpPr/>
          <p:nvPr/>
        </p:nvSpPr>
        <p:spPr>
          <a:xfrm>
            <a:off x="250920" y="404640"/>
            <a:ext cx="8642160" cy="62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Предложите ваши гипотезы о причине неровностей земной поверх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Сформулируйте  учебные задачи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Дать определение понятию «рельеф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Определить причины разнообразия релье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Познакомиться с разными формами релье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Узнать как рельеф может оказать влияние на жизнь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Узнать как рельеф изменяется во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3"/>
          <p:cNvSpPr/>
          <p:nvPr/>
        </p:nvSpPr>
        <p:spPr>
          <a:xfrm>
            <a:off x="179280" y="1557360"/>
            <a:ext cx="288000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Segoe Print"/>
              </a:rPr>
              <a:t>Равнин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части земной поверхности с различием относительных высот на ней  не более 200 м</a:t>
            </a:r>
            <a:r>
              <a:rPr b="1" lang="ru-RU" sz="29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Foto (17)"/>
          <p:cNvPicPr/>
          <p:nvPr/>
        </p:nvPicPr>
        <p:blipFill>
          <a:blip r:embed="rId1"/>
          <a:stretch/>
        </p:blipFill>
        <p:spPr>
          <a:xfrm>
            <a:off x="2894040" y="260280"/>
            <a:ext cx="6003720" cy="6337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Oval 7"/>
          <p:cNvSpPr/>
          <p:nvPr/>
        </p:nvSpPr>
        <p:spPr>
          <a:xfrm>
            <a:off x="4932360" y="260280"/>
            <a:ext cx="1368360" cy="1224000"/>
          </a:xfrm>
          <a:prstGeom prst="ellipse">
            <a:avLst/>
          </a:prstGeom>
          <a:solidFill>
            <a:srgbClr val="576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0" y="260280"/>
            <a:ext cx="5508720" cy="1224000"/>
          </a:xfrm>
          <a:prstGeom prst="rect">
            <a:avLst/>
          </a:prstGeom>
          <a:solidFill>
            <a:srgbClr val="576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Схема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968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-360" y="1773360"/>
            <a:ext cx="298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Segoe Print"/>
              </a:rPr>
              <a:t>Возвышенност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равнины, абсолютная высота которых колеблется от 200 до 500 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11" descr="Foto (11)"/>
          <p:cNvPicPr/>
          <p:nvPr/>
        </p:nvPicPr>
        <p:blipFill>
          <a:blip r:embed="rId2"/>
          <a:stretch/>
        </p:blipFill>
        <p:spPr>
          <a:xfrm>
            <a:off x="2916360" y="1700280"/>
            <a:ext cx="60116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0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Oval 7"/>
          <p:cNvSpPr/>
          <p:nvPr/>
        </p:nvSpPr>
        <p:spPr>
          <a:xfrm>
            <a:off x="4932360" y="260280"/>
            <a:ext cx="1368360" cy="1224000"/>
          </a:xfrm>
          <a:prstGeom prst="ellipse">
            <a:avLst/>
          </a:prstGeom>
          <a:solidFill>
            <a:srgbClr val="576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0" y="260280"/>
            <a:ext cx="5508720" cy="1224000"/>
          </a:xfrm>
          <a:prstGeom prst="rect">
            <a:avLst/>
          </a:prstGeom>
          <a:solidFill>
            <a:srgbClr val="576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Схема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968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-181440" y="2204640"/>
            <a:ext cx="3024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Segoe Print"/>
              </a:rPr>
              <a:t>Низменно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равнины, абсолютная высота которых не превышает 200 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10" descr="западно - сибирская низменность"/>
          <p:cNvPicPr/>
          <p:nvPr/>
        </p:nvPicPr>
        <p:blipFill>
          <a:blip r:embed="rId2"/>
          <a:stretch/>
        </p:blipFill>
        <p:spPr>
          <a:xfrm>
            <a:off x="2843280" y="1628640"/>
            <a:ext cx="6049800" cy="504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egoe Print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действие внутренних сил равно действию внешних 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действие внутренних сил больше чем действие внешних 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действие внутренних сил меньше  чем действие внешних то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Рисунок 1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031920" cy="193356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3" descr=""/>
          <p:cNvPicPr/>
          <p:nvPr/>
        </p:nvPicPr>
        <p:blipFill>
          <a:blip r:embed="rId2"/>
          <a:stretch/>
        </p:blipFill>
        <p:spPr>
          <a:xfrm>
            <a:off x="5435640" y="2492280"/>
            <a:ext cx="3031920" cy="1908360"/>
          </a:xfrm>
          <a:prstGeom prst="rect">
            <a:avLst/>
          </a:prstGeom>
          <a:ln w="0">
            <a:noFill/>
          </a:ln>
        </p:spPr>
      </p:pic>
      <p:pic>
        <p:nvPicPr>
          <p:cNvPr id="557" name="Рисунок 4" descr=""/>
          <p:cNvPicPr/>
          <p:nvPr/>
        </p:nvPicPr>
        <p:blipFill>
          <a:blip r:embed="rId3"/>
          <a:stretch/>
        </p:blipFill>
        <p:spPr>
          <a:xfrm>
            <a:off x="5435640" y="4653000"/>
            <a:ext cx="3031920" cy="1903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4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6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Segoe Print"/>
              </a:rPr>
              <a:t>На уро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Я узнал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Мне было интерес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Я теперь могу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Я хотел бы узна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Рисунок 3" descr=""/>
          <p:cNvPicPr/>
          <p:nvPr/>
        </p:nvPicPr>
        <p:blipFill>
          <a:blip r:embed="rId1"/>
          <a:stretch/>
        </p:blipFill>
        <p:spPr>
          <a:xfrm>
            <a:off x="3824280" y="1557360"/>
            <a:ext cx="5113440" cy="5111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Segoe Print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2752560"/>
            <a:ext cx="260208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§ 16, 17  задания на стр.66 у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Рисунок 1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5535720" cy="4732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1"/>
          <p:cNvSpPr/>
          <p:nvPr/>
        </p:nvSpPr>
        <p:spPr>
          <a:xfrm>
            <a:off x="322200" y="476280"/>
            <a:ext cx="864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egoe Print"/>
              </a:rPr>
              <a:t>Как вы думаете, а чему мы сможем научиться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971640" y="2205000"/>
            <a:ext cx="583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казывать  формы рельефе на географической кар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носить формы рельефе на контурную  кар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равнивать формы рельеф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бирать формы рельефа для прожи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делировать поверхность Земли  через млн.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http://dok.opredelim.com/pars_docs/refs/23/22375/img1.jpg"/>
          <p:cNvPicPr/>
          <p:nvPr/>
        </p:nvPicPr>
        <p:blipFill>
          <a:blip r:embed="rId1"/>
          <a:stretch/>
        </p:blipFill>
        <p:spPr>
          <a:xfrm>
            <a:off x="114480" y="297000"/>
            <a:ext cx="8915400" cy="6264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Box 1"/>
          <p:cNvSpPr/>
          <p:nvPr/>
        </p:nvSpPr>
        <p:spPr>
          <a:xfrm>
            <a:off x="1406160" y="98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Рисунок 1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353440" cy="6264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1"/>
          <p:cNvSpPr/>
          <p:nvPr/>
        </p:nvSpPr>
        <p:spPr>
          <a:xfrm>
            <a:off x="75852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1" descr=""/>
          <p:cNvPicPr/>
          <p:nvPr/>
        </p:nvPicPr>
        <p:blipFill>
          <a:blip r:embed="rId1"/>
          <a:stretch/>
        </p:blipFill>
        <p:spPr>
          <a:xfrm>
            <a:off x="324000" y="297000"/>
            <a:ext cx="8472240" cy="6354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1"/>
          <p:cNvSpPr/>
          <p:nvPr/>
        </p:nvSpPr>
        <p:spPr>
          <a:xfrm>
            <a:off x="104580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Рисунок 1" descr=""/>
          <p:cNvPicPr/>
          <p:nvPr/>
        </p:nvPicPr>
        <p:blipFill>
          <a:blip r:embed="rId1"/>
          <a:stretch/>
        </p:blipFill>
        <p:spPr>
          <a:xfrm>
            <a:off x="250920" y="297000"/>
            <a:ext cx="8642160" cy="6300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Box 1"/>
          <p:cNvSpPr/>
          <p:nvPr/>
        </p:nvSpPr>
        <p:spPr>
          <a:xfrm>
            <a:off x="6868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Рисунок 1" descr=""/>
          <p:cNvPicPr/>
          <p:nvPr/>
        </p:nvPicPr>
        <p:blipFill>
          <a:blip r:embed="rId1"/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Рисунок 1" descr=""/>
          <p:cNvPicPr/>
          <p:nvPr/>
        </p:nvPicPr>
        <p:blipFill>
          <a:blip r:embed="rId1"/>
          <a:stretch/>
        </p:blipFill>
        <p:spPr>
          <a:xfrm>
            <a:off x="-684360" y="0"/>
            <a:ext cx="1044108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Segoe Print"/>
              </a:rPr>
              <a:t>Основные формы рельефа Зем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AutoShape 12"/>
          <p:cNvGrpSpPr/>
          <p:nvPr/>
        </p:nvGrpSpPr>
        <p:grpSpPr>
          <a:xfrm>
            <a:off x="2262240" y="1981080"/>
            <a:ext cx="4046400" cy="878040"/>
            <a:chOff x="2262240" y="1981080"/>
            <a:chExt cx="4046400" cy="878040"/>
          </a:xfrm>
        </p:grpSpPr>
        <p:pic>
          <p:nvPicPr>
            <p:cNvPr id="453" name="AutoShape 12" descr=""/>
            <p:cNvPicPr/>
            <p:nvPr/>
          </p:nvPicPr>
          <p:blipFill>
            <a:blip r:embed="rId2"/>
            <a:stretch/>
          </p:blipFill>
          <p:spPr>
            <a:xfrm>
              <a:off x="2262240" y="1981080"/>
              <a:ext cx="40464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2311560" y="2031840"/>
              <a:ext cx="3946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70c0"/>
                  </a:solidFill>
                  <a:latin typeface="Comic Sans MS"/>
                </a:rPr>
                <a:t>Формы рельефа Зем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AutoShape 13"/>
          <p:cNvGrpSpPr/>
          <p:nvPr/>
        </p:nvGrpSpPr>
        <p:grpSpPr>
          <a:xfrm>
            <a:off x="1255680" y="3638520"/>
            <a:ext cx="1811520" cy="804960"/>
            <a:chOff x="1255680" y="3638520"/>
            <a:chExt cx="1811520" cy="804960"/>
          </a:xfrm>
        </p:grpSpPr>
        <p:pic>
          <p:nvPicPr>
            <p:cNvPr id="456" name="AutoShape 13" descr=""/>
            <p:cNvPicPr/>
            <p:nvPr/>
          </p:nvPicPr>
          <p:blipFill>
            <a:blip r:embed="rId3"/>
            <a:stretch/>
          </p:blipFill>
          <p:spPr>
            <a:xfrm>
              <a:off x="1255680" y="3638520"/>
              <a:ext cx="18115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1297080" y="3683160"/>
              <a:ext cx="172404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70c0"/>
                  </a:solidFill>
                  <a:latin typeface="Comic Sans MS"/>
                </a:rPr>
                <a:t>Материк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AutoShape 14"/>
          <p:cNvGrpSpPr/>
          <p:nvPr/>
        </p:nvGrpSpPr>
        <p:grpSpPr>
          <a:xfrm>
            <a:off x="5284800" y="3713040"/>
            <a:ext cx="1957320" cy="803520"/>
            <a:chOff x="5284800" y="3713040"/>
            <a:chExt cx="1957320" cy="803520"/>
          </a:xfrm>
        </p:grpSpPr>
        <p:pic>
          <p:nvPicPr>
            <p:cNvPr id="459" name="AutoShape 14" descr=""/>
            <p:cNvPicPr/>
            <p:nvPr/>
          </p:nvPicPr>
          <p:blipFill>
            <a:blip r:embed="rId4"/>
            <a:stretch/>
          </p:blipFill>
          <p:spPr>
            <a:xfrm>
              <a:off x="5284800" y="3713040"/>
              <a:ext cx="195732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330880" y="3754440"/>
              <a:ext cx="18684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70c0"/>
                  </a:solidFill>
                  <a:latin typeface="Comic Sans MS"/>
                </a:rPr>
                <a:t>Океан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AutoShape 15"/>
          <p:cNvGrpSpPr/>
          <p:nvPr/>
        </p:nvGrpSpPr>
        <p:grpSpPr>
          <a:xfrm>
            <a:off x="6400800" y="5297400"/>
            <a:ext cx="2639880" cy="1017720"/>
            <a:chOff x="6400800" y="5297400"/>
            <a:chExt cx="2639880" cy="1017720"/>
          </a:xfrm>
        </p:grpSpPr>
        <p:pic>
          <p:nvPicPr>
            <p:cNvPr id="462" name="AutoShape 15" descr=""/>
            <p:cNvPicPr/>
            <p:nvPr/>
          </p:nvPicPr>
          <p:blipFill>
            <a:blip r:embed="rId5"/>
            <a:stretch/>
          </p:blipFill>
          <p:spPr>
            <a:xfrm>
              <a:off x="6400800" y="5297400"/>
              <a:ext cx="263988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6458040" y="5351400"/>
              <a:ext cx="252864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70c0"/>
                  </a:solidFill>
                  <a:latin typeface="Comic Sans MS"/>
                </a:rPr>
                <a:t>Подводные равни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AutoShape 16"/>
          <p:cNvGrpSpPr/>
          <p:nvPr/>
        </p:nvGrpSpPr>
        <p:grpSpPr>
          <a:xfrm>
            <a:off x="4095720" y="5261040"/>
            <a:ext cx="2176560" cy="1054080"/>
            <a:chOff x="4095720" y="5261040"/>
            <a:chExt cx="2176560" cy="1054080"/>
          </a:xfrm>
        </p:grpSpPr>
        <p:pic>
          <p:nvPicPr>
            <p:cNvPr id="465" name="AutoShape 16" descr=""/>
            <p:cNvPicPr/>
            <p:nvPr/>
          </p:nvPicPr>
          <p:blipFill>
            <a:blip r:embed="rId6"/>
            <a:stretch/>
          </p:blipFill>
          <p:spPr>
            <a:xfrm>
              <a:off x="4095720" y="5261040"/>
              <a:ext cx="21765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4156200" y="5319720"/>
              <a:ext cx="2058840" cy="9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70c0"/>
                  </a:solidFill>
                  <a:latin typeface="Comic Sans MS"/>
                </a:rPr>
                <a:t>Подводные го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AutoShape 17"/>
          <p:cNvGrpSpPr/>
          <p:nvPr/>
        </p:nvGrpSpPr>
        <p:grpSpPr>
          <a:xfrm>
            <a:off x="1974960" y="5151600"/>
            <a:ext cx="1871640" cy="1163520"/>
            <a:chOff x="1974960" y="5151600"/>
            <a:chExt cx="1871640" cy="1163520"/>
          </a:xfrm>
        </p:grpSpPr>
        <p:pic>
          <p:nvPicPr>
            <p:cNvPr id="468" name="AutoShape 17" descr=""/>
            <p:cNvPicPr/>
            <p:nvPr/>
          </p:nvPicPr>
          <p:blipFill>
            <a:blip r:embed="rId7"/>
            <a:stretch/>
          </p:blipFill>
          <p:spPr>
            <a:xfrm>
              <a:off x="1974960" y="5151600"/>
              <a:ext cx="187164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2035080" y="5213520"/>
              <a:ext cx="175284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70c0"/>
                  </a:solidFill>
                  <a:latin typeface="Comic Sans MS"/>
                </a:rPr>
                <a:t>Равнины суш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AutoShape 18"/>
          <p:cNvGrpSpPr/>
          <p:nvPr/>
        </p:nvGrpSpPr>
        <p:grpSpPr>
          <a:xfrm>
            <a:off x="36360" y="5151600"/>
            <a:ext cx="1773360" cy="1163520"/>
            <a:chOff x="36360" y="5151600"/>
            <a:chExt cx="1773360" cy="1163520"/>
          </a:xfrm>
        </p:grpSpPr>
        <p:pic>
          <p:nvPicPr>
            <p:cNvPr id="471" name="AutoShape 18" descr=""/>
            <p:cNvPicPr/>
            <p:nvPr/>
          </p:nvPicPr>
          <p:blipFill>
            <a:blip r:embed="rId8"/>
            <a:stretch/>
          </p:blipFill>
          <p:spPr>
            <a:xfrm>
              <a:off x="36360" y="5151600"/>
              <a:ext cx="177336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96840" y="5213520"/>
              <a:ext cx="165276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70c0"/>
                  </a:solidFill>
                  <a:latin typeface="Comic Sans MS"/>
                </a:rPr>
                <a:t>Горы суш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73" name="AutoShape 29"/>
          <p:cNvCxnSpPr/>
          <p:nvPr/>
        </p:nvCxnSpPr>
        <p:spPr>
          <a:xfrm flipH="1" rot="16200000">
            <a:off x="1915200" y="4162320"/>
            <a:ext cx="2160" cy="1989720"/>
          </a:xfrm>
          <a:prstGeom prst="bentConnector3">
            <a:avLst>
              <a:gd name="adj1" fmla="val -23020000"/>
            </a:avLst>
          </a:prstGeom>
          <a:ln w="38160">
            <a:solidFill>
              <a:srgbClr val="ffc000"/>
            </a:solidFill>
            <a:miter/>
          </a:ln>
        </p:spPr>
      </p:cxnSp>
      <p:cxnSp>
        <p:nvCxnSpPr>
          <p:cNvPr id="474" name="AutoShape 30"/>
          <p:cNvCxnSpPr/>
          <p:nvPr/>
        </p:nvCxnSpPr>
        <p:spPr>
          <a:xfrm flipH="1" rot="16200000">
            <a:off x="6438240" y="4016880"/>
            <a:ext cx="33840" cy="2537280"/>
          </a:xfrm>
          <a:prstGeom prst="bentConnector3">
            <a:avLst>
              <a:gd name="adj1" fmla="val -684946"/>
            </a:avLst>
          </a:prstGeom>
          <a:ln w="38160">
            <a:solidFill>
              <a:srgbClr val="ffc000"/>
            </a:solidFill>
            <a:miter/>
          </a:ln>
        </p:spPr>
      </p:cxnSp>
      <p:cxnSp>
        <p:nvCxnSpPr>
          <p:cNvPr id="475" name="AutoShape 31"/>
          <p:cNvCxnSpPr/>
          <p:nvPr/>
        </p:nvCxnSpPr>
        <p:spPr>
          <a:xfrm flipH="1" rot="16200000">
            <a:off x="4176720" y="1626840"/>
            <a:ext cx="72000" cy="4107600"/>
          </a:xfrm>
          <a:prstGeom prst="bentConnector3">
            <a:avLst>
              <a:gd name="adj1" fmla="val -319597"/>
            </a:avLst>
          </a:prstGeom>
          <a:ln w="38160">
            <a:solidFill>
              <a:srgbClr val="ffc000"/>
            </a:solidFill>
            <a:miter/>
          </a:ln>
        </p:spPr>
      </p:cxnSp>
      <p:sp>
        <p:nvSpPr>
          <p:cNvPr id="476" name="Line 33"/>
          <p:cNvSpPr/>
          <p:nvPr/>
        </p:nvSpPr>
        <p:spPr>
          <a:xfrm>
            <a:off x="4284720" y="2852640"/>
            <a:ext cx="0" cy="576360"/>
          </a:xfrm>
          <a:prstGeom prst="line">
            <a:avLst/>
          </a:prstGeom>
          <a:ln w="507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4"/>
          <p:cNvSpPr/>
          <p:nvPr/>
        </p:nvSpPr>
        <p:spPr>
          <a:xfrm>
            <a:off x="2124000" y="4437000"/>
            <a:ext cx="0" cy="5047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35"/>
          <p:cNvSpPr/>
          <p:nvPr/>
        </p:nvSpPr>
        <p:spPr>
          <a:xfrm>
            <a:off x="6300720" y="4508640"/>
            <a:ext cx="0" cy="5047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4:24:53Z</dcterms:created>
  <dc:creator>TEACHER</dc:creator>
  <dc:description/>
  <dc:language>en-US</dc:language>
  <cp:lastModifiedBy>Andy</cp:lastModifiedBy>
  <dcterms:modified xsi:type="dcterms:W3CDTF">2015-10-27T21:26:36Z</dcterms:modified>
  <cp:revision>6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2a0000000000010261200207f7000400038000</vt:lpwstr>
  </property>
</Properties>
</file>