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12.png" ContentType="image/png"/>
  <Override PartName="/ppt/media/image28.jpeg" ContentType="image/jpeg"/>
  <Override PartName="/ppt/media/image35.jpeg" ContentType="image/jpeg"/>
  <Override PartName="/ppt/media/image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9.jpeg" ContentType="image/jpeg"/>
  <Override PartName="/ppt/media/image11.png" ContentType="image/png"/>
  <Override PartName="/ppt/media/image13.png" ContentType="image/png"/>
  <Override PartName="/ppt/media/cashreg.wav" ContentType="audio/x-wav"/>
  <Override PartName="/ppt/media/image39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C8D-C629-442B-BD50-445825C1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E8E-CB3C-4D23-B967-F7266C0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CFF3C-0D48-4549-8383-37EC4AD8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BDB575-ED45-4A16-AEB9-7D28CBDB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0FA94F-15EC-43DF-929C-2912C20C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2C7B05-9AFB-46FC-BFD2-3540298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2F3B4-DE0B-4DCF-BD64-7E13A8A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F402C-AEE5-4EFD-9973-6828413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83E1C1-7021-4760-B078-1A104E15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CF687-D4F7-437B-AD2F-839D3658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98BCA-82BC-478D-918E-33C8FA32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BDDB4E-682A-4BB6-BDD6-DF1CEF3F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0AE-8483-43B5-8C80-7EFCB752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BA4E06-DC84-4323-81BD-C195D489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6F886-F9F1-4DB6-AF1C-3935C27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D2CCDB-5360-4D42-A5E8-5A314C77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3B9E17-9641-4F06-A3E8-4C9651A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B623AA-8364-49A3-A52E-EF66E9AF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12FC59-52E7-4BB1-BAC1-A0DBCC4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6A696-D45F-4FCA-A496-A057B15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C842AD-F960-40E2-AB60-81ED1D4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332204-E006-4B5F-A346-9EBFB53B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CEB62-E680-4569-B223-C3F7B7AF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E4F-D867-428A-B88D-D22BE69A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F1E60-CACA-4406-A6F2-E58BF4D9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640-CD65-46EF-A369-F7D5F4F8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37A-7A1B-45C5-B6D6-8947363E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BBA7-22CB-417A-9F7F-B82AFED8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DBDD-58DA-4FDD-B262-748BC0BC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59A8-91F9-4824-A3C4-44B8F48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657-371E-4AA5-BD10-292C138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BC59-23FF-4DF4-990B-C46C6AB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E4C-9024-4226-933D-0766951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FA6-B7DE-455D-BA58-F24F69F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1B2F-6551-41EB-B022-ABD8EA2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9C4-4CCE-4B50-94B7-16DBFBC7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6D25-88AD-4EE7-938E-7AFB2E5C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46D2-0DEF-4660-AA59-DA7FA288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5F527-329F-4DBE-B722-6D55ACAB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FBAF3-7566-4032-9E5C-AC598B38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3064F-91B6-43EA-8CF7-B7ECAE9E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200CA-5C77-4F54-B4ED-4FF26ABD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0076A-AA14-48FD-A432-C8BFB1F9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60B-3BBE-44F3-B5F9-060974F6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56C19-B72B-4036-B349-14C9CB1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DE861-E6D1-4F17-9B72-C724968B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A7152-C5A1-4A43-8FBD-952C3F6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4AC38-29B0-4A4E-A766-4352EA4D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BED3B-EFF3-406F-AD96-82000342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0CEDF-A3AD-474A-A15C-23706FAA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0E0EB-A823-4AE2-896B-8EB8C8F6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7B4D4-F023-4B81-8776-C41BBA67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981B-C89A-49BA-881D-EFE09ED0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932F-6041-43B6-AC77-18C05EAD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553-151D-4CAA-9E34-AEC3AD87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C92A-9AEE-43DA-BE8D-5A8E653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8157-1C73-4389-ACB8-8C17F3C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34E9-F87F-4D2E-83E9-7FE95858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B2B3-BA5D-4A18-BE2F-314F5E5D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7A05-9315-4E0E-A85D-ACA551D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4F4C-4457-4D92-B789-1CBBC75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F5AB5-62FB-4576-8F41-CF9732A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AFBC-96BF-4B67-B341-FC7B5B40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DA7F-8A13-4BC4-B83A-81D5AB4B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19296-DF41-43EA-B281-878F7E05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5F4-E80C-47B6-91F4-00E83A6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96F8F-940A-4424-AB47-F1AB344A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6937F-924C-40BC-AE8F-09D2D77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E394D-BC4F-4616-B776-982B1547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20847-19E6-494C-A558-8EFAB815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03C53-C0C3-412A-B445-7AB7279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E1CAB-2577-4092-83F1-850AFF8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EA018-8379-4B5C-8BD4-F6D26AD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9D6F6-3EAA-4B64-B4C0-9F2A5156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FF2B7-4652-4A6F-BC9E-A1E6918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7CE61-A573-4103-B02F-C7CD0093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895-0A81-4F92-A16B-3D6D0755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4DD0A-B0E6-4608-AB7E-8E94DD95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17C49-DD18-4C57-82C1-CB446BEA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5BBA-EE40-4507-9020-18270E37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3EA3-7133-49EF-BF46-98BC66B4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7E84-016D-49E3-AB5E-ACE9B28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72F89-CEBD-4B77-8A61-9CBFDC5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6002A-3C82-4158-8298-477BCAD2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78E15-4C77-4C29-991B-9D7EAA1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C791A-DBCD-4D33-B034-B9380E2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E5662-0A75-40C1-A91B-7A71DD2A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C48-9FE6-4C93-B43E-3AA67B3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BF3E-44FF-4627-8C42-441024D4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38B1-6D58-4E65-B1C6-6B71C80E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28CE-67AF-4522-B956-6215AA4B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36295-855B-4732-9B1F-DF80158D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EE3FB-DF6C-453D-A011-FCF8FAF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1539C-4949-4B92-8302-7522006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C4DAA-3AF7-4264-A950-7015E12B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583C-A79D-469B-B04F-3C7B22AE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5122-5F2D-45E6-99B6-EC53F844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E0504-E04E-47D4-B25B-9C06735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815-6355-4274-B307-504F6F1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3B4C0-261D-440B-B27C-364F321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B2BCB-EF11-4D14-BAE3-6353803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C296D-4065-4785-89C4-5A4438BB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4579B-B5E2-4E86-9428-2C8F39A6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85D95-FB64-4C6E-AB6F-B17C8B0A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E12B-B345-454E-B3B1-6021686B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9D661-BF1C-41B6-983D-9188861E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580B-A5A8-473D-8D0E-7DDA09D7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CE182-EF26-4E0E-B4FD-D75945A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030DD-1E7D-490A-BECF-53F02A5E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B93-D18F-49CA-A9A5-169D007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4A31-8BE0-48A1-8D36-E039C3F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98A7-C6F7-4386-B591-15AF0CB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D9E74-B577-4F5E-98B5-4D8A202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39236-C703-4B0A-B440-BD7CBF1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71F4-1517-4467-B564-BCA1BD99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D976-A457-406D-8A6B-94EAE83A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5E17F-2639-471A-9E43-AA4A83B3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D7FFA-4D1D-473B-84B0-FA563929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99CBA6-60BC-43CE-8813-35398E4D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5AE72-D0AA-48BD-800D-D5EECC4A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503C-133B-4805-8462-7312EB8C9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33C-FFEE-4EA6-8647-12C6284C603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8FD-DB46-440C-9105-6495355D850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86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3F0-322B-4EB7-A80D-4FB9892166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3AA-CAD4-4174-8DC7-9F9F88C4BF0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D9F6-3019-4FF0-ACB5-9F4AF46E70B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1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75A6-65A3-4456-A1BC-A8A1DF6F61B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C06-52C9-42AA-8796-2CD4D4EC7A0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B59-584D-4B6D-9DBD-8D632E786D6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5B44-5584-4262-86AA-EC25513064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1.png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-757080" y="0"/>
            <a:ext cx="105138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179280" y="352440"/>
            <a:ext cx="896472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 Narrow"/>
              </a:rPr>
              <a:t>Методическая разработка урока для 6 класса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9933"/>
                </a:solidFill>
                <a:latin typeface="Arial Narrow"/>
              </a:rPr>
              <a:t>Основные  формы рельефа Зем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324000" y="4797360"/>
            <a:ext cx="53276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Автор: </a:t>
            </a:r>
            <a:r>
              <a:rPr b="1" lang="en-US" sz="2800" spc="-1" strike="noStrike">
                <a:solidFill>
                  <a:srgbClr val="ffc000"/>
                </a:solidFill>
                <a:latin typeface="Segoe Print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Терещенко И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учитель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МБОУ ООШ № 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Segoe Print"/>
              </a:rPr>
              <a:t>г. Ноябрь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2" descr=""/>
          <p:cNvPicPr/>
          <p:nvPr/>
        </p:nvPicPr>
        <p:blipFill>
          <a:blip r:embed="rId1"/>
          <a:stretch/>
        </p:blipFill>
        <p:spPr>
          <a:xfrm>
            <a:off x="-905040" y="0"/>
            <a:ext cx="10954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Segoe Print"/>
              </a:rPr>
              <a:t>Формы рельефа су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AutoShape 5"/>
          <p:cNvGrpSpPr/>
          <p:nvPr/>
        </p:nvGrpSpPr>
        <p:grpSpPr>
          <a:xfrm>
            <a:off x="1036800" y="2414520"/>
            <a:ext cx="2315880" cy="804960"/>
            <a:chOff x="1036800" y="2414520"/>
            <a:chExt cx="2315880" cy="804960"/>
          </a:xfrm>
        </p:grpSpPr>
        <p:pic>
          <p:nvPicPr>
            <p:cNvPr id="482" name="AutoShape 5" descr=""/>
            <p:cNvPicPr/>
            <p:nvPr/>
          </p:nvPicPr>
          <p:blipFill>
            <a:blip r:embed="rId2"/>
            <a:stretch/>
          </p:blipFill>
          <p:spPr>
            <a:xfrm>
              <a:off x="1036800" y="2414520"/>
              <a:ext cx="23158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82520" y="2459160"/>
              <a:ext cx="2227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Г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6"/>
          <p:cNvGrpSpPr/>
          <p:nvPr/>
        </p:nvGrpSpPr>
        <p:grpSpPr>
          <a:xfrm>
            <a:off x="5791320" y="2414520"/>
            <a:ext cx="2097000" cy="804960"/>
            <a:chOff x="5791320" y="2414520"/>
            <a:chExt cx="2097000" cy="804960"/>
          </a:xfrm>
        </p:grpSpPr>
        <p:pic>
          <p:nvPicPr>
            <p:cNvPr id="485" name="AutoShape 6" descr=""/>
            <p:cNvPicPr/>
            <p:nvPr/>
          </p:nvPicPr>
          <p:blipFill>
            <a:blip r:embed="rId3"/>
            <a:stretch/>
          </p:blipFill>
          <p:spPr>
            <a:xfrm>
              <a:off x="5791320" y="2414520"/>
              <a:ext cx="20970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5834160" y="2459160"/>
              <a:ext cx="2011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Равн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7" name="AutoShape 7"/>
          <p:cNvCxnSpPr/>
          <p:nvPr/>
        </p:nvCxnSpPr>
        <p:spPr>
          <a:xfrm flipH="1" flipV="1" rot="5400000">
            <a:off x="4516920" y="97560"/>
            <a:ext cx="13320" cy="464580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grpSp>
        <p:nvGrpSpPr>
          <p:cNvPr id="488" name="AutoShape 8"/>
          <p:cNvGrpSpPr/>
          <p:nvPr/>
        </p:nvGrpSpPr>
        <p:grpSpPr>
          <a:xfrm>
            <a:off x="4565520" y="3925800"/>
            <a:ext cx="1597320" cy="1457280"/>
            <a:chOff x="4565520" y="3925800"/>
            <a:chExt cx="1597320" cy="1457280"/>
          </a:xfrm>
        </p:grpSpPr>
        <p:pic>
          <p:nvPicPr>
            <p:cNvPr id="489" name="AutoShape 8" descr=""/>
            <p:cNvPicPr/>
            <p:nvPr/>
          </p:nvPicPr>
          <p:blipFill>
            <a:blip r:embed="rId4"/>
            <a:stretch/>
          </p:blipFill>
          <p:spPr>
            <a:xfrm>
              <a:off x="4565520" y="3925800"/>
              <a:ext cx="15973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641840" y="4003560"/>
              <a:ext cx="144468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Плоскогор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вы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5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AutoShape 9"/>
          <p:cNvGrpSpPr/>
          <p:nvPr/>
        </p:nvGrpSpPr>
        <p:grpSpPr>
          <a:xfrm>
            <a:off x="30240" y="3925800"/>
            <a:ext cx="1305000" cy="1457280"/>
            <a:chOff x="30240" y="3925800"/>
            <a:chExt cx="1305000" cy="1457280"/>
          </a:xfrm>
        </p:grpSpPr>
        <p:pic>
          <p:nvPicPr>
            <p:cNvPr id="492" name="AutoShape 9" descr=""/>
            <p:cNvPicPr/>
            <p:nvPr/>
          </p:nvPicPr>
          <p:blipFill>
            <a:blip r:embed="rId5"/>
            <a:stretch/>
          </p:blipFill>
          <p:spPr>
            <a:xfrm>
              <a:off x="30240" y="3925800"/>
              <a:ext cx="13050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98280" y="3997440"/>
              <a:ext cx="117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Высо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выш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2000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AutoShape 10"/>
          <p:cNvGrpSpPr/>
          <p:nvPr/>
        </p:nvGrpSpPr>
        <p:grpSpPr>
          <a:xfrm>
            <a:off x="1395360" y="3925800"/>
            <a:ext cx="1457280" cy="1457280"/>
            <a:chOff x="1395360" y="3925800"/>
            <a:chExt cx="1457280" cy="1457280"/>
          </a:xfrm>
        </p:grpSpPr>
        <p:pic>
          <p:nvPicPr>
            <p:cNvPr id="495" name="AutoShape 10" descr=""/>
            <p:cNvPicPr/>
            <p:nvPr/>
          </p:nvPicPr>
          <p:blipFill>
            <a:blip r:embed="rId6"/>
            <a:stretch/>
          </p:blipFill>
          <p:spPr>
            <a:xfrm>
              <a:off x="1395360" y="3925800"/>
              <a:ext cx="14572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473120" y="4003560"/>
              <a:ext cx="13003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Сред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1000-20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AutoShape 11"/>
          <p:cNvGrpSpPr/>
          <p:nvPr/>
        </p:nvGrpSpPr>
        <p:grpSpPr>
          <a:xfrm>
            <a:off x="2908440" y="3925800"/>
            <a:ext cx="1309680" cy="1457280"/>
            <a:chOff x="2908440" y="3925800"/>
            <a:chExt cx="1309680" cy="1457280"/>
          </a:xfrm>
        </p:grpSpPr>
        <p:pic>
          <p:nvPicPr>
            <p:cNvPr id="498" name="AutoShape 11" descr=""/>
            <p:cNvPicPr/>
            <p:nvPr/>
          </p:nvPicPr>
          <p:blipFill>
            <a:blip r:embed="rId7"/>
            <a:stretch/>
          </p:blipFill>
          <p:spPr>
            <a:xfrm>
              <a:off x="2908440" y="3925800"/>
              <a:ext cx="13096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979720" y="3997440"/>
              <a:ext cx="1168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из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До 10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AutoShape 12"/>
          <p:cNvGrpSpPr/>
          <p:nvPr/>
        </p:nvGrpSpPr>
        <p:grpSpPr>
          <a:xfrm>
            <a:off x="6224760" y="3925800"/>
            <a:ext cx="1450800" cy="1457280"/>
            <a:chOff x="6224760" y="3925800"/>
            <a:chExt cx="1450800" cy="1457280"/>
          </a:xfrm>
        </p:grpSpPr>
        <p:pic>
          <p:nvPicPr>
            <p:cNvPr id="501" name="AutoShape 12" descr=""/>
            <p:cNvPicPr/>
            <p:nvPr/>
          </p:nvPicPr>
          <p:blipFill>
            <a:blip r:embed="rId8"/>
            <a:stretch/>
          </p:blipFill>
          <p:spPr>
            <a:xfrm>
              <a:off x="6224760" y="3925800"/>
              <a:ext cx="1450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299280" y="4003560"/>
              <a:ext cx="1298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Возвыш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200- 5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AutoShape 13"/>
          <p:cNvGrpSpPr/>
          <p:nvPr/>
        </p:nvGrpSpPr>
        <p:grpSpPr>
          <a:xfrm>
            <a:off x="7736040" y="3925800"/>
            <a:ext cx="1304640" cy="1457280"/>
            <a:chOff x="7736040" y="3925800"/>
            <a:chExt cx="1304640" cy="1457280"/>
          </a:xfrm>
        </p:grpSpPr>
        <p:pic>
          <p:nvPicPr>
            <p:cNvPr id="504" name="AutoShape 13" descr=""/>
            <p:cNvPicPr/>
            <p:nvPr/>
          </p:nvPicPr>
          <p:blipFill>
            <a:blip r:embed="rId9"/>
            <a:stretch/>
          </p:blipFill>
          <p:spPr>
            <a:xfrm>
              <a:off x="7736040" y="3925800"/>
              <a:ext cx="13046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804080" y="3997440"/>
              <a:ext cx="1168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изм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omic Sans MS"/>
                </a:rPr>
                <a:t>до 200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06" name="AutoShape 15"/>
          <p:cNvCxnSpPr/>
          <p:nvPr/>
        </p:nvCxnSpPr>
        <p:spPr>
          <a:xfrm flipH="1" flipV="1" rot="5400000">
            <a:off x="6839640" y="2385360"/>
            <a:ext cx="13320" cy="309636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507" name="AutoShape 16"/>
          <p:cNvCxnSpPr/>
          <p:nvPr/>
        </p:nvCxnSpPr>
        <p:spPr>
          <a:xfrm flipH="1" flipV="1" rot="5400000">
            <a:off x="2050920" y="2565000"/>
            <a:ext cx="13320" cy="2737080"/>
          </a:xfrm>
          <a:prstGeom prst="bentConnector3">
            <a:avLst>
              <a:gd name="adj1" fmla="val 1800000"/>
            </a:avLst>
          </a:prstGeom>
          <a:ln w="38160">
            <a:solidFill>
              <a:srgbClr val="ffc000"/>
            </a:solidFill>
            <a:miter/>
          </a:ln>
        </p:spPr>
      </p:cxnSp>
      <p:sp>
        <p:nvSpPr>
          <p:cNvPr id="508" name="Line 17"/>
          <p:cNvSpPr/>
          <p:nvPr/>
        </p:nvSpPr>
        <p:spPr>
          <a:xfrm>
            <a:off x="2124000" y="3213000"/>
            <a:ext cx="0" cy="720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8"/>
          <p:cNvSpPr/>
          <p:nvPr/>
        </p:nvSpPr>
        <p:spPr>
          <a:xfrm>
            <a:off x="6804000" y="3213000"/>
            <a:ext cx="0" cy="720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ГОРЫ2"/>
          <p:cNvPicPr/>
          <p:nvPr/>
        </p:nvPicPr>
        <p:blipFill>
          <a:blip r:embed="rId1"/>
          <a:srcRect l="0" t="0" r="0" b="-10"/>
          <a:stretch/>
        </p:blipFill>
        <p:spPr>
          <a:xfrm>
            <a:off x="3276720" y="189000"/>
            <a:ext cx="5705280" cy="6480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324000" y="549360"/>
            <a:ext cx="287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Го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Segoe Print"/>
              </a:rPr>
              <a:t>это выпуклая часть земной коры, высота которой больше 500 метров над уровнем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эверест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3" name="Text Box 3"/>
          <p:cNvSpPr/>
          <p:nvPr/>
        </p:nvSpPr>
        <p:spPr>
          <a:xfrm>
            <a:off x="0" y="1890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ы не стоят поодиночке, они образуют хреб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468360" y="6035760"/>
            <a:ext cx="8388360" cy="825480"/>
          </a:xfrm>
          <a:prstGeom prst="rect">
            <a:avLst/>
          </a:prstGeom>
          <a:gradFill rotWithShape="0">
            <a:gsLst>
              <a:gs pos="0">
                <a:srgbClr val="142448"/>
              </a:gs>
              <a:gs pos="50000">
                <a:srgbClr val="ffffff"/>
              </a:gs>
              <a:gs pos="100000">
                <a:srgbClr val="1424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Много гор образуют горную систему, которая имеет собственное 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9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Схема 1" descr=""/>
          <p:cNvPicPr/>
          <p:nvPr/>
        </p:nvPicPr>
        <p:blipFill>
          <a:blip r:embed="rId1"/>
          <a:stretch/>
        </p:blipFill>
        <p:spPr>
          <a:xfrm>
            <a:off x="115920" y="92160"/>
            <a:ext cx="5681520" cy="1925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эверест1"/>
          <p:cNvPicPr/>
          <p:nvPr/>
        </p:nvPicPr>
        <p:blipFill>
          <a:blip r:embed="rId2"/>
          <a:srcRect l="0" t="0" r="-25" b="0"/>
          <a:stretch/>
        </p:blipFill>
        <p:spPr>
          <a:xfrm>
            <a:off x="3059280" y="1628640"/>
            <a:ext cx="5903640" cy="50832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11"/>
          <p:cNvSpPr/>
          <p:nvPr/>
        </p:nvSpPr>
        <p:spPr>
          <a:xfrm>
            <a:off x="0" y="2708280"/>
            <a:ext cx="30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Имеют абсолютную высоту свыше 2000 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Oval 2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Схема 1" descr=""/>
          <p:cNvPicPr/>
          <p:nvPr/>
        </p:nvPicPr>
        <p:blipFill>
          <a:blip r:embed="rId1"/>
          <a:stretch/>
        </p:blipFill>
        <p:spPr>
          <a:xfrm>
            <a:off x="195120" y="92160"/>
            <a:ext cx="5675400" cy="1925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6"/>
          <p:cNvSpPr/>
          <p:nvPr/>
        </p:nvSpPr>
        <p:spPr>
          <a:xfrm>
            <a:off x="0" y="2992320"/>
            <a:ext cx="27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Имеют абсолютную высоту от 1000 до 20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6121440" cy="494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Oval 2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Схема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5827680" cy="19317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108000" y="2708280"/>
            <a:ext cx="26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Низкие горы – это горы, абсолютная высота которых не превышает 10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н г"/>
          <p:cNvPicPr/>
          <p:nvPr/>
        </p:nvPicPr>
        <p:blipFill>
          <a:blip r:embed="rId2"/>
          <a:srcRect l="0" t="0" r="-64" b="62"/>
          <a:stretch/>
        </p:blipFill>
        <p:spPr>
          <a:xfrm>
            <a:off x="2916360" y="1628640"/>
            <a:ext cx="60498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8" descr="эверес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5"/>
          <p:cNvSpPr/>
          <p:nvPr/>
        </p:nvSpPr>
        <p:spPr>
          <a:xfrm>
            <a:off x="5796000" y="163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а Эве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AutoShape 9" descr=""/>
          <p:cNvPicPr/>
          <p:nvPr/>
        </p:nvPicPr>
        <p:blipFill>
          <a:blip r:embed="rId2"/>
          <a:stretch/>
        </p:blipFill>
        <p:spPr>
          <a:xfrm>
            <a:off x="5089680" y="49320"/>
            <a:ext cx="688680" cy="76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10" descr="алта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6"/>
          <p:cNvSpPr/>
          <p:nvPr/>
        </p:nvSpPr>
        <p:spPr>
          <a:xfrm>
            <a:off x="684360" y="1197000"/>
            <a:ext cx="7848360" cy="936720"/>
          </a:xfrm>
          <a:custGeom>
            <a:avLst/>
            <a:gdLst>
              <a:gd name="textAreaLeft" fmla="*/ 0 w 7848360"/>
              <a:gd name="textAreaRight" fmla="*/ 5504760 w 7848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7"/>
          <p:cNvSpPr/>
          <p:nvPr/>
        </p:nvSpPr>
        <p:spPr>
          <a:xfrm>
            <a:off x="324000" y="2060640"/>
            <a:ext cx="2879640" cy="216000"/>
          </a:xfrm>
          <a:custGeom>
            <a:avLst/>
            <a:gdLst>
              <a:gd name="textAreaLeft" fmla="*/ 1839960 w 2879640"/>
              <a:gd name="textAreaRight" fmla="*/ 2880000 w 2879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8"/>
          <p:cNvSpPr/>
          <p:nvPr/>
        </p:nvSpPr>
        <p:spPr>
          <a:xfrm flipV="1">
            <a:off x="250920" y="2204640"/>
            <a:ext cx="5184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"/>
          <p:cNvSpPr/>
          <p:nvPr/>
        </p:nvSpPr>
        <p:spPr>
          <a:xfrm flipH="1">
            <a:off x="1476360" y="1844640"/>
            <a:ext cx="100800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1763640" y="119700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egoe Print"/>
              </a:rPr>
              <a:t>Х Р Е Б Е Т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egoe Print"/>
              <a:ea typeface="Segoe Print"/>
            </a:endParaRPr>
          </a:p>
        </p:txBody>
      </p:sp>
    </p:spTree>
  </p:cSld>
  <p:transition spd="slow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Image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987640" y="7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Print"/>
              </a:rPr>
              <a:t>Греб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40360" y="1413000"/>
            <a:ext cx="0" cy="647640"/>
          </a:xfrm>
          <a:prstGeom prst="line">
            <a:avLst/>
          </a:prstGeom>
          <a:ln w="7632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6922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79280" y="115920"/>
            <a:ext cx="8856720" cy="66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99"/>
                </a:solidFill>
                <a:latin typeface="Segoe Print"/>
              </a:rPr>
              <a:t>Горы и страны, в которых они расположе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Ан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Южная Америка: Венесуэла, Колумбия, Перу, Эквадор, Бразилия, Боливия, Чили, Арген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Уральские горы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Пам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Таджи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Тянь-Ш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Киргизия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Кавк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Россия, Грузия, Азербайдж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Скандинавские горы</a:t>
            </a:r>
            <a:r>
              <a:rPr b="1" lang="en-US" sz="2400" spc="-1" strike="noStrike">
                <a:solidFill>
                  <a:srgbClr val="000099"/>
                </a:solidFill>
                <a:latin typeface="Segoe Print"/>
              </a:rPr>
              <a:t> -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 Норвегия, Швеция, Финля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Гимала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Индия,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Непал,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Китай, Пакистан, 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000"/>
                </a:solidFill>
                <a:uFillTx/>
                <a:latin typeface="Comic Sans MS"/>
              </a:rPr>
              <a:t>Кордилье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Segoe Print"/>
              </a:rPr>
              <a:t>– Северная Америка: США, Канада, Мексика и малые страны Центральной Аме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"/>
          <p:cNvSpPr/>
          <p:nvPr/>
        </p:nvSpPr>
        <p:spPr>
          <a:xfrm>
            <a:off x="250920" y="404640"/>
            <a:ext cx="8642160" cy="62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редложите ваши гипотезы о причине неровностей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Сформулируйте  учебные задач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Дать определение понятию «релье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Определить причины разнообразия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Познакомиться с разными формами релье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Узнать как рельеф может оказать влияние на жизнь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Print"/>
              </a:rPr>
              <a:t>Узнать как рельеф изменяется в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3"/>
          <p:cNvSpPr/>
          <p:nvPr/>
        </p:nvSpPr>
        <p:spPr>
          <a:xfrm>
            <a:off x="179280" y="1557360"/>
            <a:ext cx="28800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Segoe Print"/>
              </a:rPr>
              <a:t>Равни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части земной поверхности с различием относительных высот на ней  не более 200 м</a:t>
            </a:r>
            <a:r>
              <a:rPr b="1" lang="ru-RU" sz="29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Foto (17)"/>
          <p:cNvPicPr/>
          <p:nvPr/>
        </p:nvPicPr>
        <p:blipFill>
          <a:blip r:embed="rId1"/>
          <a:stretch/>
        </p:blipFill>
        <p:spPr>
          <a:xfrm>
            <a:off x="2894040" y="260280"/>
            <a:ext cx="600372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7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0" y="260280"/>
            <a:ext cx="5508720" cy="1224000"/>
          </a:xfrm>
          <a:prstGeom prst="rect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Схема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298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Segoe Print"/>
              </a:rPr>
              <a:t>Возвышен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равнины, абсолютная высота которых колеблется от 200 до 5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11" descr="Foto (11)"/>
          <p:cNvPicPr/>
          <p:nvPr/>
        </p:nvPicPr>
        <p:blipFill>
          <a:blip r:embed="rId2"/>
          <a:stretch/>
        </p:blipFill>
        <p:spPr>
          <a:xfrm>
            <a:off x="2916360" y="1700280"/>
            <a:ext cx="6011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Oval 7"/>
          <p:cNvSpPr/>
          <p:nvPr/>
        </p:nvSpPr>
        <p:spPr>
          <a:xfrm>
            <a:off x="4932360" y="260280"/>
            <a:ext cx="1368360" cy="1224000"/>
          </a:xfrm>
          <a:prstGeom prst="ellipse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0" y="260280"/>
            <a:ext cx="5508720" cy="1224000"/>
          </a:xfrm>
          <a:prstGeom prst="rect">
            <a:avLst/>
          </a:prstGeom>
          <a:solidFill>
            <a:srgbClr val="576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Схема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-181440" y="2204640"/>
            <a:ext cx="302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Segoe Print"/>
              </a:rPr>
              <a:t>Низмен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равнины, абсолютная высота которых не превышает 200 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западно - сибирская низменность"/>
          <p:cNvPicPr/>
          <p:nvPr/>
        </p:nvPicPr>
        <p:blipFill>
          <a:blip r:embed="rId2"/>
          <a:stretch/>
        </p:blipFill>
        <p:spPr>
          <a:xfrm>
            <a:off x="2843280" y="1628640"/>
            <a:ext cx="604980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равно действию внешних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больше чем действие внешних 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действие внутренних сил меньше  чем действие внешних то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1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031920" cy="19335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3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031920" cy="19083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4" descr=""/>
          <p:cNvPicPr/>
          <p:nvPr/>
        </p:nvPicPr>
        <p:blipFill>
          <a:blip r:embed="rId3"/>
          <a:stretch/>
        </p:blipFill>
        <p:spPr>
          <a:xfrm>
            <a:off x="5435640" y="4653000"/>
            <a:ext cx="3031920" cy="1903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Segoe Print"/>
              </a:rPr>
              <a:t>На уро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узнал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не 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теперь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Я хотел бы узна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Рисунок 3" descr=""/>
          <p:cNvPicPr/>
          <p:nvPr/>
        </p:nvPicPr>
        <p:blipFill>
          <a:blip r:embed="rId1"/>
          <a:stretch/>
        </p:blipFill>
        <p:spPr>
          <a:xfrm>
            <a:off x="3824280" y="1557360"/>
            <a:ext cx="5113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Segoe Print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2752560"/>
            <a:ext cx="26020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§ 16, 17  задания на стр.66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1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53572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322200" y="47628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Print"/>
              </a:rPr>
              <a:t>Как вы думаете, а чему мы сможем научиться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971640" y="2205000"/>
            <a:ext cx="583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казывать  формы рельефе на географической кар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носить формы рельефе на контурную  кар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авнивать формы рельеф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бирать формы рельефа для про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ировать поверхность Земли  через млн.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http://dok.opredelim.com/pars_docs/refs/23/22375/img1.jpg"/>
          <p:cNvPicPr/>
          <p:nvPr/>
        </p:nvPicPr>
        <p:blipFill>
          <a:blip r:embed="rId1"/>
          <a:stretch/>
        </p:blipFill>
        <p:spPr>
          <a:xfrm>
            <a:off x="114480" y="297000"/>
            <a:ext cx="891540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1406160" y="98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75852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8472240" cy="635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104580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Рисунок 1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8642160" cy="630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6868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1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1" descr=""/>
          <p:cNvPicPr/>
          <p:nvPr/>
        </p:nvPicPr>
        <p:blipFill>
          <a:blip r:embed="rId1"/>
          <a:stretch/>
        </p:blipFill>
        <p:spPr>
          <a:xfrm>
            <a:off x="-68436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Segoe Print"/>
              </a:rPr>
              <a:t>Основные формы рельефа Зем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AutoShape 12"/>
          <p:cNvGrpSpPr/>
          <p:nvPr/>
        </p:nvGrpSpPr>
        <p:grpSpPr>
          <a:xfrm>
            <a:off x="2262240" y="1981080"/>
            <a:ext cx="4046400" cy="878040"/>
            <a:chOff x="2262240" y="1981080"/>
            <a:chExt cx="4046400" cy="878040"/>
          </a:xfrm>
        </p:grpSpPr>
        <p:pic>
          <p:nvPicPr>
            <p:cNvPr id="453" name="AutoShape 12" descr=""/>
            <p:cNvPicPr/>
            <p:nvPr/>
          </p:nvPicPr>
          <p:blipFill>
            <a:blip r:embed="rId2"/>
            <a:stretch/>
          </p:blipFill>
          <p:spPr>
            <a:xfrm>
              <a:off x="2262240" y="1981080"/>
              <a:ext cx="40464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311560" y="2031840"/>
              <a:ext cx="3946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70c0"/>
                  </a:solidFill>
                  <a:latin typeface="Comic Sans MS"/>
                </a:rPr>
                <a:t>Формы рельефа Зем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AutoShape 13"/>
          <p:cNvGrpSpPr/>
          <p:nvPr/>
        </p:nvGrpSpPr>
        <p:grpSpPr>
          <a:xfrm>
            <a:off x="1255680" y="3638520"/>
            <a:ext cx="1811520" cy="804960"/>
            <a:chOff x="1255680" y="3638520"/>
            <a:chExt cx="1811520" cy="804960"/>
          </a:xfrm>
        </p:grpSpPr>
        <p:pic>
          <p:nvPicPr>
            <p:cNvPr id="456" name="AutoShape 13" descr=""/>
            <p:cNvPicPr/>
            <p:nvPr/>
          </p:nvPicPr>
          <p:blipFill>
            <a:blip r:embed="rId3"/>
            <a:stretch/>
          </p:blipFill>
          <p:spPr>
            <a:xfrm>
              <a:off x="1255680" y="3638520"/>
              <a:ext cx="1811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297080" y="3683160"/>
              <a:ext cx="172404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70c0"/>
                  </a:solidFill>
                  <a:latin typeface="Comic Sans MS"/>
                </a:rPr>
                <a:t>Материк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14"/>
          <p:cNvGrpSpPr/>
          <p:nvPr/>
        </p:nvGrpSpPr>
        <p:grpSpPr>
          <a:xfrm>
            <a:off x="5284800" y="3713040"/>
            <a:ext cx="1957320" cy="803520"/>
            <a:chOff x="5284800" y="3713040"/>
            <a:chExt cx="1957320" cy="803520"/>
          </a:xfrm>
        </p:grpSpPr>
        <p:pic>
          <p:nvPicPr>
            <p:cNvPr id="459" name="AutoShape 14" descr=""/>
            <p:cNvPicPr/>
            <p:nvPr/>
          </p:nvPicPr>
          <p:blipFill>
            <a:blip r:embed="rId4"/>
            <a:stretch/>
          </p:blipFill>
          <p:spPr>
            <a:xfrm>
              <a:off x="5284800" y="3713040"/>
              <a:ext cx="195732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330880" y="3754440"/>
              <a:ext cx="18684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70c0"/>
                  </a:solidFill>
                  <a:latin typeface="Comic Sans MS"/>
                </a:rPr>
                <a:t>Океан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AutoShape 15"/>
          <p:cNvGrpSpPr/>
          <p:nvPr/>
        </p:nvGrpSpPr>
        <p:grpSpPr>
          <a:xfrm>
            <a:off x="6400800" y="5297400"/>
            <a:ext cx="2639880" cy="1017720"/>
            <a:chOff x="6400800" y="5297400"/>
            <a:chExt cx="2639880" cy="1017720"/>
          </a:xfrm>
        </p:grpSpPr>
        <p:pic>
          <p:nvPicPr>
            <p:cNvPr id="462" name="AutoShape 15" descr=""/>
            <p:cNvPicPr/>
            <p:nvPr/>
          </p:nvPicPr>
          <p:blipFill>
            <a:blip r:embed="rId5"/>
            <a:stretch/>
          </p:blipFill>
          <p:spPr>
            <a:xfrm>
              <a:off x="6400800" y="5297400"/>
              <a:ext cx="26398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6458040" y="5351400"/>
              <a:ext cx="252864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Подводные равни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AutoShape 16"/>
          <p:cNvGrpSpPr/>
          <p:nvPr/>
        </p:nvGrpSpPr>
        <p:grpSpPr>
          <a:xfrm>
            <a:off x="4095720" y="5261040"/>
            <a:ext cx="2176560" cy="1054080"/>
            <a:chOff x="4095720" y="5261040"/>
            <a:chExt cx="2176560" cy="1054080"/>
          </a:xfrm>
        </p:grpSpPr>
        <p:pic>
          <p:nvPicPr>
            <p:cNvPr id="465" name="AutoShape 16" descr=""/>
            <p:cNvPicPr/>
            <p:nvPr/>
          </p:nvPicPr>
          <p:blipFill>
            <a:blip r:embed="rId6"/>
            <a:stretch/>
          </p:blipFill>
          <p:spPr>
            <a:xfrm>
              <a:off x="4095720" y="5261040"/>
              <a:ext cx="2176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156200" y="5319720"/>
              <a:ext cx="205884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Подводные го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AutoShape 17"/>
          <p:cNvGrpSpPr/>
          <p:nvPr/>
        </p:nvGrpSpPr>
        <p:grpSpPr>
          <a:xfrm>
            <a:off x="1974960" y="5151600"/>
            <a:ext cx="1871640" cy="1163520"/>
            <a:chOff x="1974960" y="5151600"/>
            <a:chExt cx="1871640" cy="1163520"/>
          </a:xfrm>
        </p:grpSpPr>
        <p:pic>
          <p:nvPicPr>
            <p:cNvPr id="468" name="AutoShape 17" descr=""/>
            <p:cNvPicPr/>
            <p:nvPr/>
          </p:nvPicPr>
          <p:blipFill>
            <a:blip r:embed="rId7"/>
            <a:stretch/>
          </p:blipFill>
          <p:spPr>
            <a:xfrm>
              <a:off x="1974960" y="5151600"/>
              <a:ext cx="18716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2035080" y="5213520"/>
              <a:ext cx="175284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Равнины су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AutoShape 18"/>
          <p:cNvGrpSpPr/>
          <p:nvPr/>
        </p:nvGrpSpPr>
        <p:grpSpPr>
          <a:xfrm>
            <a:off x="36360" y="5151600"/>
            <a:ext cx="1773360" cy="1163520"/>
            <a:chOff x="36360" y="5151600"/>
            <a:chExt cx="1773360" cy="1163520"/>
          </a:xfrm>
        </p:grpSpPr>
        <p:pic>
          <p:nvPicPr>
            <p:cNvPr id="471" name="AutoShape 18" descr=""/>
            <p:cNvPicPr/>
            <p:nvPr/>
          </p:nvPicPr>
          <p:blipFill>
            <a:blip r:embed="rId8"/>
            <a:stretch/>
          </p:blipFill>
          <p:spPr>
            <a:xfrm>
              <a:off x="36360" y="5151600"/>
              <a:ext cx="17733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96840" y="5213520"/>
              <a:ext cx="165276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70c0"/>
                  </a:solidFill>
                  <a:latin typeface="Comic Sans MS"/>
                </a:rPr>
                <a:t>Горы суш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3" name="AutoShape 29"/>
          <p:cNvCxnSpPr/>
          <p:nvPr/>
        </p:nvCxnSpPr>
        <p:spPr>
          <a:xfrm flipH="1" rot="16200000">
            <a:off x="1915200" y="4162320"/>
            <a:ext cx="2160" cy="1989720"/>
          </a:xfrm>
          <a:prstGeom prst="bentConnector3">
            <a:avLst>
              <a:gd name="adj1" fmla="val -23020000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474" name="AutoShape 30"/>
          <p:cNvCxnSpPr/>
          <p:nvPr/>
        </p:nvCxnSpPr>
        <p:spPr>
          <a:xfrm flipH="1" rot="16200000">
            <a:off x="6438240" y="4016880"/>
            <a:ext cx="33840" cy="2537280"/>
          </a:xfrm>
          <a:prstGeom prst="bentConnector3">
            <a:avLst>
              <a:gd name="adj1" fmla="val -684946"/>
            </a:avLst>
          </a:prstGeom>
          <a:ln w="38160">
            <a:solidFill>
              <a:srgbClr val="ffc000"/>
            </a:solidFill>
            <a:miter/>
          </a:ln>
        </p:spPr>
      </p:cxnSp>
      <p:cxnSp>
        <p:nvCxnSpPr>
          <p:cNvPr id="475" name="AutoShape 31"/>
          <p:cNvCxnSpPr/>
          <p:nvPr/>
        </p:nvCxnSpPr>
        <p:spPr>
          <a:xfrm flipH="1" rot="16200000">
            <a:off x="4176720" y="1626840"/>
            <a:ext cx="72000" cy="4107600"/>
          </a:xfrm>
          <a:prstGeom prst="bentConnector3">
            <a:avLst>
              <a:gd name="adj1" fmla="val -319597"/>
            </a:avLst>
          </a:prstGeom>
          <a:ln w="38160">
            <a:solidFill>
              <a:srgbClr val="ffc000"/>
            </a:solidFill>
            <a:miter/>
          </a:ln>
        </p:spPr>
      </p:cxnSp>
      <p:sp>
        <p:nvSpPr>
          <p:cNvPr id="476" name="Line 33"/>
          <p:cNvSpPr/>
          <p:nvPr/>
        </p:nvSpPr>
        <p:spPr>
          <a:xfrm>
            <a:off x="4284720" y="2852640"/>
            <a:ext cx="0" cy="57636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4"/>
          <p:cNvSpPr/>
          <p:nvPr/>
        </p:nvSpPr>
        <p:spPr>
          <a:xfrm>
            <a:off x="2124000" y="4437000"/>
            <a:ext cx="0" cy="504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5"/>
          <p:cNvSpPr/>
          <p:nvPr/>
        </p:nvSpPr>
        <p:spPr>
          <a:xfrm>
            <a:off x="6300720" y="4508640"/>
            <a:ext cx="0" cy="504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4:24:53Z</dcterms:created>
  <dc:creator>TEACHER</dc:creator>
  <dc:description/>
  <dc:language>en-US</dc:language>
  <cp:lastModifiedBy>Andy</cp:lastModifiedBy>
  <dcterms:modified xsi:type="dcterms:W3CDTF">2015-10-27T21:26:36Z</dcterms:modified>
  <cp:revision>6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2a0000000000010261200207f7000400038000</vt:lpwstr>
  </property>
</Properties>
</file>