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12.png" ContentType="image/png"/>
  <Override PartName="/ppt/media/image28.jpeg" ContentType="image/jpeg"/>
  <Override PartName="/ppt/media/image35.jpeg" ContentType="image/jpeg"/>
  <Override PartName="/ppt/media/image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29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9.jpeg" ContentType="image/jpeg"/>
  <Override PartName="/ppt/media/image11.png" ContentType="image/png"/>
  <Override PartName="/ppt/media/image13.png" ContentType="image/png"/>
  <Override PartName="/ppt/media/cashreg.wav" ContentType="audio/x-wav"/>
  <Override PartName="/ppt/media/image39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5C0-B08E-4DE7-BFED-C77E2537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804-41ED-4933-9EC7-6A40BB2F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4A9001-1959-4DCB-84F7-7658B6C6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792B59-785E-4FC9-94AD-331CDE7A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FFB9E9-708E-4F21-87E3-664088A4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FDBDEE-A7DE-481D-9152-C4D20823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ECE8F8-0D0F-4F3C-9B1E-15B3A3A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66856B-BE6A-491D-8507-6AB214AF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AB178C-7043-4CFE-982F-F35CD15A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672C97-5152-4CB0-97E9-A6C7F14A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0ECC10-35B8-44AD-B66C-9E7E600D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E50F29-4936-412B-B8FD-73A7FB4A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105-2CA3-43DF-961B-96A98EB2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DCC3A8-E538-43A5-BABC-E5BFD1E8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EAA3DC-CD8D-4478-BFEE-6AD5ACD4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8C57BF-8779-4A22-AD8B-94169821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5DEE28-7069-4E33-95A9-1B7CCE44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B00E53-F3DF-4818-B680-C96C4C97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0A0218-F1DD-4D06-BAA9-A97163D6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7F640E-660F-4067-8BD4-0E4EB9B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AB477D-A06C-4A23-B08A-8875854B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5B1CF0-4151-433B-A45D-D9AF6488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B1FC9F-A22A-4987-BA70-F60B776F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C97-A9F0-4558-98E2-4C3D3E18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866C8B-65CD-4FFF-9502-35CEF200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E3D5-EAFD-4A08-9551-C3F5994B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65D7-E3E7-457A-AA3B-B92970DA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5C6D-7CAF-4999-B6BA-667E0901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2942-4BF4-4819-A12B-5CA5414E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E4B4-E225-450E-B095-0609A2FD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CE3F-EFE9-4FAB-8C38-59FD65C8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CD10-3C8B-4FA6-93BD-5061EE0D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14F-787E-4977-88F6-D8EDC74B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71AE-EA27-41EE-A651-F98331BA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B6A0-0058-4DB6-A16A-89591EBA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DB41-447D-4897-BBBD-00F12151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A511-E3F1-406E-AF25-1BC66FD0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62C8-B8D2-4A26-98FA-A581CD58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02181-6C56-4310-A846-6C929DF2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7B8D7-E036-428D-AD8B-6B70FDFA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B4570-1836-461A-8182-8A744365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5E0AC-E141-4B30-90F4-4DA60726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1A875-B455-48E7-800E-5189FA3F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8C0-58A1-4323-88A6-BB79FF1F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33FCB-A37E-47F4-8D21-BF83458F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A4651-696E-4A6C-A9DE-81A4959B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FF6C7-D9E7-46DB-931C-55435917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15760-4E2E-4617-A060-CB9908FA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3B804-1C4A-4094-ACB0-EBA4EF6E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02A4E-660F-4D49-8364-EE5186B0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0B180-6C0F-4ECC-B6C6-2D6BF4F7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85ABD-CA4D-4308-85C0-2170F83C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293D5-269E-46AB-A6F2-EBAAF5D0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B999-6106-4710-91AC-FDCE203F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F35-4AFA-4A70-879B-70B5AA9B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500CF-19B1-47A1-B2F3-4ABE52F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6F046-48EA-40F5-B96B-9E7F585D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26420-42B9-445C-AFBC-49A3C732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C63A-3D57-4107-A5C1-2527C83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B8E1-B52B-4C87-9BE5-310CF8CA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C5AA-70C4-4394-B13E-ACF2FE2D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EC3A1-20AE-42E7-B2E3-F2237FBB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834DC-14A9-4306-B9D1-3188789D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395D-3CF3-40AF-A6DC-2ECE48AB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2D637-358E-435F-A813-4F4D56BB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EF6-C5BB-4CDD-B1CF-339B7E24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18043-C0DC-4556-A18B-E1C13CC9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EF92D-5D87-4589-95FD-FCF8316A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B1B4D-7323-4576-84C1-998BD6CB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298B0-D63B-458B-89BC-17BDA0EB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A9E5C-EF87-4A15-AFC1-5F6ABA4B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46224-3118-4D08-9AFF-91CF95B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44C1A4-DCC6-4DEC-8CD4-603D8415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976C8-788A-42F7-98B1-783F96E6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4344B-AC5D-4625-ADDE-ACF3A48C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9C03BE-2438-40A3-93A6-ED65DB1E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940-C2F9-48C2-B1AD-2EFE42EB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0D028-6206-47F4-898F-894F975C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4D716-3606-44E2-8A45-3064595A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DCD1E-A8F8-428F-9A7E-3A9390CA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90205-CD36-404E-A790-38AED078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04387-0315-4643-8798-0D26DC2D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84E8E-9CE0-46A7-A096-979F26B2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DB44F-527B-4EC7-81B1-19F4A0C6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AECC-6D3B-4F61-808A-9EA26ECD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33E57-8AC2-4C9F-8F7D-BEC211B9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9443A-EDB2-4044-B62A-F8E65615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1AB-58CC-4C4A-9659-2D7CE01B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0707B-1C7D-48EC-83F0-F92CAAD9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3E580-A9E5-4499-B052-984BB782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2334A-E096-429F-9C5A-5A72F887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6CAD8-99C6-450E-8D62-618564D7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A9774-9819-4247-A1D3-9DA5574B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E5488-60CE-4193-9664-712B7990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C4763-D000-486A-9FFB-358E22C3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895C0-5F13-4EB3-B2D7-528DD108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B93AB-CD92-468C-B06F-1A2631BD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5455E-17E4-448F-9EA1-FC2C1D98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A2F-1542-4877-BD5A-4AE6F67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0AE66-9E85-4EFB-93D3-2F77A588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1E22B-ACA3-46F6-B872-92014737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3EA16-986F-4262-8F75-82893C35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F4E4F-05C7-4393-84CE-2D7C2910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D7922-3A65-4093-9D6E-1DEFF4D6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0248-1ECE-47C1-A7FD-89CF0958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E9197-84C1-4492-A261-004886C8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C758E-4766-4E8B-9C28-BB13B8D2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A2DE-FFEF-4E61-914A-E2606E43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A1931-7C93-40EB-A1EC-D96145DB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29A-4320-436F-9972-F692730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CF324-CB4C-4AA1-9E60-29D8C552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5D7D7-7B0D-4BD0-BCC6-94A42301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48FAE-2AFB-47E6-A1F5-240A94B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5EABF-1BAD-4D92-B015-65484EA1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386E-7093-4FA2-AF60-AE4D8CF7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E6957-F93D-4C5B-91C4-2BC94E6E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874C6-5F8A-4849-B6C9-6E15DFC3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D73B8E-66D9-43B9-B80D-E2ED2B62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10273-E640-4E11-8E5D-27E3B14B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57EABB-B550-4E00-AF03-5A330130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90B6-EC00-4C50-9C9B-53D9A9A7D0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5E14-9EC8-414D-9B19-235632F863C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96D9-9579-4D8B-A932-A3FD4282E0C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86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8291-A64E-4752-92D0-AB5BED31989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6A76-DEA3-4DDD-A7BE-E60F935AEA5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0875-AF08-433E-90BE-36767A8A916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1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8D2D-0896-44BC-AAAD-B0735DE5CAA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8B25-98E7-4F5C-A6F0-6D8AB099FB8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0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A4BC-0946-478E-AFEA-C27D34F6234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53B7-FB20-47F3-AA8A-298DEF3F187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1.png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1" descr=""/>
          <p:cNvPicPr/>
          <p:nvPr/>
        </p:nvPicPr>
        <p:blipFill>
          <a:blip r:embed="rId1"/>
          <a:stretch/>
        </p:blipFill>
        <p:spPr>
          <a:xfrm>
            <a:off x="-757080" y="0"/>
            <a:ext cx="105138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"/>
          <p:cNvSpPr/>
          <p:nvPr/>
        </p:nvSpPr>
        <p:spPr>
          <a:xfrm>
            <a:off x="179280" y="352440"/>
            <a:ext cx="896472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 Narrow"/>
              </a:rPr>
              <a:t>Методическая разработка урока для 6 класса 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9933"/>
                </a:solidFill>
                <a:latin typeface="Arial Narrow"/>
              </a:rPr>
              <a:t>Основные  формы рельефа Зем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324000" y="4797360"/>
            <a:ext cx="53276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Автор: </a:t>
            </a:r>
            <a:r>
              <a:rPr b="1" lang="en-US" sz="2800" spc="-1" strike="noStrike">
                <a:solidFill>
                  <a:srgbClr val="ffc000"/>
                </a:solidFill>
                <a:latin typeface="Segoe Print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Терещенко И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учитель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МБОУ ООШ № 9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г. Ноябрь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2" descr=""/>
          <p:cNvPicPr/>
          <p:nvPr/>
        </p:nvPicPr>
        <p:blipFill>
          <a:blip r:embed="rId1"/>
          <a:stretch/>
        </p:blipFill>
        <p:spPr>
          <a:xfrm>
            <a:off x="-905040" y="0"/>
            <a:ext cx="109540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Segoe Print"/>
              </a:rPr>
              <a:t>Формы рельефа су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AutoShape 5"/>
          <p:cNvGrpSpPr/>
          <p:nvPr/>
        </p:nvGrpSpPr>
        <p:grpSpPr>
          <a:xfrm>
            <a:off x="1036800" y="2414520"/>
            <a:ext cx="2315880" cy="804960"/>
            <a:chOff x="1036800" y="2414520"/>
            <a:chExt cx="2315880" cy="804960"/>
          </a:xfrm>
        </p:grpSpPr>
        <p:pic>
          <p:nvPicPr>
            <p:cNvPr id="482" name="AutoShape 5" descr=""/>
            <p:cNvPicPr/>
            <p:nvPr/>
          </p:nvPicPr>
          <p:blipFill>
            <a:blip r:embed="rId2"/>
            <a:stretch/>
          </p:blipFill>
          <p:spPr>
            <a:xfrm>
              <a:off x="1036800" y="2414520"/>
              <a:ext cx="231588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082520" y="2459160"/>
              <a:ext cx="2227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Го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AutoShape 6"/>
          <p:cNvGrpSpPr/>
          <p:nvPr/>
        </p:nvGrpSpPr>
        <p:grpSpPr>
          <a:xfrm>
            <a:off x="5791320" y="2414520"/>
            <a:ext cx="2097000" cy="804960"/>
            <a:chOff x="5791320" y="2414520"/>
            <a:chExt cx="2097000" cy="804960"/>
          </a:xfrm>
        </p:grpSpPr>
        <p:pic>
          <p:nvPicPr>
            <p:cNvPr id="485" name="AutoShape 6" descr=""/>
            <p:cNvPicPr/>
            <p:nvPr/>
          </p:nvPicPr>
          <p:blipFill>
            <a:blip r:embed="rId3"/>
            <a:stretch/>
          </p:blipFill>
          <p:spPr>
            <a:xfrm>
              <a:off x="5791320" y="2414520"/>
              <a:ext cx="209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5834160" y="2459160"/>
              <a:ext cx="2011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Равни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7" name="AutoShape 7"/>
          <p:cNvCxnSpPr/>
          <p:nvPr/>
        </p:nvCxnSpPr>
        <p:spPr>
          <a:xfrm flipH="1" flipV="1" rot="5400000">
            <a:off x="4516920" y="97560"/>
            <a:ext cx="13320" cy="4645800"/>
          </a:xfrm>
          <a:prstGeom prst="bentConnector3">
            <a:avLst>
              <a:gd name="adj1" fmla="val 1800000"/>
            </a:avLst>
          </a:prstGeom>
          <a:ln w="38160">
            <a:solidFill>
              <a:srgbClr val="ffc000"/>
            </a:solidFill>
            <a:miter/>
          </a:ln>
        </p:spPr>
      </p:cxnSp>
      <p:grpSp>
        <p:nvGrpSpPr>
          <p:cNvPr id="488" name="AutoShape 8"/>
          <p:cNvGrpSpPr/>
          <p:nvPr/>
        </p:nvGrpSpPr>
        <p:grpSpPr>
          <a:xfrm>
            <a:off x="4565520" y="3925800"/>
            <a:ext cx="1597320" cy="1457280"/>
            <a:chOff x="4565520" y="3925800"/>
            <a:chExt cx="1597320" cy="1457280"/>
          </a:xfrm>
        </p:grpSpPr>
        <p:pic>
          <p:nvPicPr>
            <p:cNvPr id="489" name="AutoShape 8" descr=""/>
            <p:cNvPicPr/>
            <p:nvPr/>
          </p:nvPicPr>
          <p:blipFill>
            <a:blip r:embed="rId4"/>
            <a:stretch/>
          </p:blipFill>
          <p:spPr>
            <a:xfrm>
              <a:off x="4565520" y="3925800"/>
              <a:ext cx="15973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4641840" y="4003560"/>
              <a:ext cx="144468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Плоскогор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Свыш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5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AutoShape 9"/>
          <p:cNvGrpSpPr/>
          <p:nvPr/>
        </p:nvGrpSpPr>
        <p:grpSpPr>
          <a:xfrm>
            <a:off x="30240" y="3925800"/>
            <a:ext cx="1305000" cy="1457280"/>
            <a:chOff x="30240" y="3925800"/>
            <a:chExt cx="1305000" cy="1457280"/>
          </a:xfrm>
        </p:grpSpPr>
        <p:pic>
          <p:nvPicPr>
            <p:cNvPr id="492" name="AutoShape 9" descr=""/>
            <p:cNvPicPr/>
            <p:nvPr/>
          </p:nvPicPr>
          <p:blipFill>
            <a:blip r:embed="rId5"/>
            <a:stretch/>
          </p:blipFill>
          <p:spPr>
            <a:xfrm>
              <a:off x="30240" y="3925800"/>
              <a:ext cx="13050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98280" y="3997440"/>
              <a:ext cx="1170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Высо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Свыш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2000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AutoShape 10"/>
          <p:cNvGrpSpPr/>
          <p:nvPr/>
        </p:nvGrpSpPr>
        <p:grpSpPr>
          <a:xfrm>
            <a:off x="1395360" y="3925800"/>
            <a:ext cx="1457280" cy="1457280"/>
            <a:chOff x="1395360" y="3925800"/>
            <a:chExt cx="1457280" cy="1457280"/>
          </a:xfrm>
        </p:grpSpPr>
        <p:pic>
          <p:nvPicPr>
            <p:cNvPr id="495" name="AutoShape 10" descr=""/>
            <p:cNvPicPr/>
            <p:nvPr/>
          </p:nvPicPr>
          <p:blipFill>
            <a:blip r:embed="rId6"/>
            <a:stretch/>
          </p:blipFill>
          <p:spPr>
            <a:xfrm>
              <a:off x="1395360" y="3925800"/>
              <a:ext cx="14572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1473120" y="4003560"/>
              <a:ext cx="13003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Сред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1000-20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AutoShape 11"/>
          <p:cNvGrpSpPr/>
          <p:nvPr/>
        </p:nvGrpSpPr>
        <p:grpSpPr>
          <a:xfrm>
            <a:off x="2908440" y="3925800"/>
            <a:ext cx="1309680" cy="1457280"/>
            <a:chOff x="2908440" y="3925800"/>
            <a:chExt cx="1309680" cy="1457280"/>
          </a:xfrm>
        </p:grpSpPr>
        <p:pic>
          <p:nvPicPr>
            <p:cNvPr id="498" name="AutoShape 11" descr=""/>
            <p:cNvPicPr/>
            <p:nvPr/>
          </p:nvPicPr>
          <p:blipFill>
            <a:blip r:embed="rId7"/>
            <a:stretch/>
          </p:blipFill>
          <p:spPr>
            <a:xfrm>
              <a:off x="2908440" y="3925800"/>
              <a:ext cx="13096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979720" y="3997440"/>
              <a:ext cx="1168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из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До 10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AutoShape 12"/>
          <p:cNvGrpSpPr/>
          <p:nvPr/>
        </p:nvGrpSpPr>
        <p:grpSpPr>
          <a:xfrm>
            <a:off x="6224760" y="3925800"/>
            <a:ext cx="1450800" cy="1457280"/>
            <a:chOff x="6224760" y="3925800"/>
            <a:chExt cx="1450800" cy="1457280"/>
          </a:xfrm>
        </p:grpSpPr>
        <p:pic>
          <p:nvPicPr>
            <p:cNvPr id="501" name="AutoShape 12" descr=""/>
            <p:cNvPicPr/>
            <p:nvPr/>
          </p:nvPicPr>
          <p:blipFill>
            <a:blip r:embed="rId8"/>
            <a:stretch/>
          </p:blipFill>
          <p:spPr>
            <a:xfrm>
              <a:off x="6224760" y="3925800"/>
              <a:ext cx="1450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6299280" y="4003560"/>
              <a:ext cx="12985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Возвышен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200- 5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AutoShape 13"/>
          <p:cNvGrpSpPr/>
          <p:nvPr/>
        </p:nvGrpSpPr>
        <p:grpSpPr>
          <a:xfrm>
            <a:off x="7736040" y="3925800"/>
            <a:ext cx="1304640" cy="1457280"/>
            <a:chOff x="7736040" y="3925800"/>
            <a:chExt cx="1304640" cy="1457280"/>
          </a:xfrm>
        </p:grpSpPr>
        <p:pic>
          <p:nvPicPr>
            <p:cNvPr id="504" name="AutoShape 13" descr=""/>
            <p:cNvPicPr/>
            <p:nvPr/>
          </p:nvPicPr>
          <p:blipFill>
            <a:blip r:embed="rId9"/>
            <a:stretch/>
          </p:blipFill>
          <p:spPr>
            <a:xfrm>
              <a:off x="7736040" y="3925800"/>
              <a:ext cx="13046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804080" y="3997440"/>
              <a:ext cx="1168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измен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до 2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06" name="AutoShape 15"/>
          <p:cNvCxnSpPr/>
          <p:nvPr/>
        </p:nvCxnSpPr>
        <p:spPr>
          <a:xfrm flipH="1" flipV="1" rot="5400000">
            <a:off x="6839640" y="2385360"/>
            <a:ext cx="13320" cy="3096360"/>
          </a:xfrm>
          <a:prstGeom prst="bentConnector3">
            <a:avLst>
              <a:gd name="adj1" fmla="val 1800000"/>
            </a:avLst>
          </a:prstGeom>
          <a:ln w="38160">
            <a:solidFill>
              <a:srgbClr val="ffc000"/>
            </a:solidFill>
            <a:miter/>
          </a:ln>
        </p:spPr>
      </p:cxnSp>
      <p:cxnSp>
        <p:nvCxnSpPr>
          <p:cNvPr id="507" name="AutoShape 16"/>
          <p:cNvCxnSpPr/>
          <p:nvPr/>
        </p:nvCxnSpPr>
        <p:spPr>
          <a:xfrm flipH="1" flipV="1" rot="5400000">
            <a:off x="2050920" y="2565000"/>
            <a:ext cx="13320" cy="2737080"/>
          </a:xfrm>
          <a:prstGeom prst="bentConnector3">
            <a:avLst>
              <a:gd name="adj1" fmla="val 1800000"/>
            </a:avLst>
          </a:prstGeom>
          <a:ln w="38160">
            <a:solidFill>
              <a:srgbClr val="ffc000"/>
            </a:solidFill>
            <a:miter/>
          </a:ln>
        </p:spPr>
      </p:cxnSp>
      <p:sp>
        <p:nvSpPr>
          <p:cNvPr id="508" name="Line 17"/>
          <p:cNvSpPr/>
          <p:nvPr/>
        </p:nvSpPr>
        <p:spPr>
          <a:xfrm>
            <a:off x="2124000" y="3213000"/>
            <a:ext cx="0" cy="720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8"/>
          <p:cNvSpPr/>
          <p:nvPr/>
        </p:nvSpPr>
        <p:spPr>
          <a:xfrm>
            <a:off x="6804000" y="3213000"/>
            <a:ext cx="0" cy="720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75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ГОРЫ2"/>
          <p:cNvPicPr/>
          <p:nvPr/>
        </p:nvPicPr>
        <p:blipFill>
          <a:blip r:embed="rId1"/>
          <a:srcRect l="0" t="0" r="0" b="-10"/>
          <a:stretch/>
        </p:blipFill>
        <p:spPr>
          <a:xfrm>
            <a:off x="3276720" y="189000"/>
            <a:ext cx="5705280" cy="64800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324000" y="549360"/>
            <a:ext cx="287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Го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Segoe Print"/>
              </a:rPr>
              <a:t>это выпуклая часть земной коры, высота которой больше 500 метров над уровнем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эверест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3" name="Text Box 3"/>
          <p:cNvSpPr/>
          <p:nvPr/>
        </p:nvSpPr>
        <p:spPr>
          <a:xfrm>
            <a:off x="0" y="18900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ы не стоят поодиночке, они образуют хреб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468360" y="6035760"/>
            <a:ext cx="8388360" cy="825480"/>
          </a:xfrm>
          <a:prstGeom prst="rect">
            <a:avLst/>
          </a:prstGeom>
          <a:gradFill rotWithShape="0">
            <a:gsLst>
              <a:gs pos="0">
                <a:srgbClr val="142448"/>
              </a:gs>
              <a:gs pos="50000">
                <a:srgbClr val="ffffff"/>
              </a:gs>
              <a:gs pos="100000">
                <a:srgbClr val="1424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Много гор образуют горную систему, которая имеет собственное 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9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Схема 1" descr=""/>
          <p:cNvPicPr/>
          <p:nvPr/>
        </p:nvPicPr>
        <p:blipFill>
          <a:blip r:embed="rId1"/>
          <a:stretch/>
        </p:blipFill>
        <p:spPr>
          <a:xfrm>
            <a:off x="115920" y="92160"/>
            <a:ext cx="5681520" cy="1925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эверест1"/>
          <p:cNvPicPr/>
          <p:nvPr/>
        </p:nvPicPr>
        <p:blipFill>
          <a:blip r:embed="rId2"/>
          <a:srcRect l="0" t="0" r="-25" b="0"/>
          <a:stretch/>
        </p:blipFill>
        <p:spPr>
          <a:xfrm>
            <a:off x="3059280" y="1628640"/>
            <a:ext cx="5903640" cy="50832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11"/>
          <p:cNvSpPr/>
          <p:nvPr/>
        </p:nvSpPr>
        <p:spPr>
          <a:xfrm>
            <a:off x="0" y="2708280"/>
            <a:ext cx="30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Имеют абсолютную высоту свыше 2000 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Oval 2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Схема 1" descr=""/>
          <p:cNvPicPr/>
          <p:nvPr/>
        </p:nvPicPr>
        <p:blipFill>
          <a:blip r:embed="rId1"/>
          <a:stretch/>
        </p:blipFill>
        <p:spPr>
          <a:xfrm>
            <a:off x="195120" y="92160"/>
            <a:ext cx="5675400" cy="19256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6"/>
          <p:cNvSpPr/>
          <p:nvPr/>
        </p:nvSpPr>
        <p:spPr>
          <a:xfrm>
            <a:off x="0" y="2992320"/>
            <a:ext cx="27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Имеют абсолютную высоту от 1000 до 20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"/>
          <p:cNvPicPr/>
          <p:nvPr/>
        </p:nvPicPr>
        <p:blipFill>
          <a:blip r:embed="rId2"/>
          <a:stretch/>
        </p:blipFill>
        <p:spPr>
          <a:xfrm>
            <a:off x="2843280" y="1700280"/>
            <a:ext cx="6121440" cy="4949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Oval 2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Схема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5827680" cy="19317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6"/>
          <p:cNvSpPr/>
          <p:nvPr/>
        </p:nvSpPr>
        <p:spPr>
          <a:xfrm>
            <a:off x="108000" y="2708280"/>
            <a:ext cx="266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Низкие горы – это горы, абсолютная высота которых не превышает 10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8" descr="н г"/>
          <p:cNvPicPr/>
          <p:nvPr/>
        </p:nvPicPr>
        <p:blipFill>
          <a:blip r:embed="rId2"/>
          <a:srcRect l="0" t="0" r="-64" b="62"/>
          <a:stretch/>
        </p:blipFill>
        <p:spPr>
          <a:xfrm>
            <a:off x="2916360" y="1628640"/>
            <a:ext cx="60498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8" descr="эверес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5"/>
          <p:cNvSpPr/>
          <p:nvPr/>
        </p:nvSpPr>
        <p:spPr>
          <a:xfrm>
            <a:off x="5796000" y="163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шина Эвер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AutoShape 9" descr=""/>
          <p:cNvPicPr/>
          <p:nvPr/>
        </p:nvPicPr>
        <p:blipFill>
          <a:blip r:embed="rId2"/>
          <a:stretch/>
        </p:blipFill>
        <p:spPr>
          <a:xfrm>
            <a:off x="5089680" y="49320"/>
            <a:ext cx="688680" cy="768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0" descr="алта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6"/>
          <p:cNvSpPr/>
          <p:nvPr/>
        </p:nvSpPr>
        <p:spPr>
          <a:xfrm>
            <a:off x="684360" y="1197000"/>
            <a:ext cx="7848360" cy="936720"/>
          </a:xfrm>
          <a:custGeom>
            <a:avLst/>
            <a:gdLst>
              <a:gd name="textAreaLeft" fmla="*/ 0 w 7848360"/>
              <a:gd name="textAreaRight" fmla="*/ 5504760 w 7848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7"/>
          <p:cNvSpPr/>
          <p:nvPr/>
        </p:nvSpPr>
        <p:spPr>
          <a:xfrm>
            <a:off x="324000" y="2060640"/>
            <a:ext cx="2879640" cy="216000"/>
          </a:xfrm>
          <a:custGeom>
            <a:avLst/>
            <a:gdLst>
              <a:gd name="textAreaLeft" fmla="*/ 1839960 w 2879640"/>
              <a:gd name="textAreaRight" fmla="*/ 2880000 w 2879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8"/>
          <p:cNvSpPr/>
          <p:nvPr/>
        </p:nvSpPr>
        <p:spPr>
          <a:xfrm flipV="1">
            <a:off x="250920" y="2204640"/>
            <a:ext cx="5184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9"/>
          <p:cNvSpPr/>
          <p:nvPr/>
        </p:nvSpPr>
        <p:spPr>
          <a:xfrm flipH="1">
            <a:off x="1476360" y="1844640"/>
            <a:ext cx="1008000" cy="28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11"/>
          <p:cNvSpPr txBox="1"/>
          <p:nvPr/>
        </p:nvSpPr>
        <p:spPr>
          <a:xfrm>
            <a:off x="1763640" y="1197000"/>
            <a:ext cx="58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egoe Print"/>
              </a:rPr>
              <a:t>Х Р Е Б Е Т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egoe Print"/>
              <a:ea typeface="Segoe Print"/>
            </a:endParaRPr>
          </a:p>
        </p:txBody>
      </p:sp>
    </p:spTree>
  </p:cSld>
  <p:transition spd="slow"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Image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987640" y="765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Print"/>
              </a:rPr>
              <a:t>Греб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4140360" y="1413000"/>
            <a:ext cx="0" cy="64764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9640" y="6922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179280" y="115920"/>
            <a:ext cx="8856720" cy="66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99"/>
                </a:solidFill>
                <a:latin typeface="Segoe Print"/>
              </a:rPr>
              <a:t>Горы и страны, в которых они расположен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Ан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Южная Америка: Венесуэла, Колумбия, Перу, Эквадор, Бразилия, Боливия, Чили, Арген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Уральские горы</a:t>
            </a: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Пам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Таджи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Тянь-Ша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Киргизия,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Кавка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Россия, Грузия, Азербайдж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Скандинавские горы</a:t>
            </a:r>
            <a:r>
              <a:rPr b="1" lang="en-US" sz="2400" spc="-1" strike="noStrike">
                <a:solidFill>
                  <a:srgbClr val="000099"/>
                </a:solidFill>
                <a:latin typeface="Segoe Print"/>
              </a:rPr>
              <a:t> -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 Норвегия, Швеция, Финля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Гимала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Индия,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Непал,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Китай, Пакистан, 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Кордилье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– Северная Америка: США, Канада, Мексика и малые страны Центральной Аме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"/>
          <p:cNvSpPr/>
          <p:nvPr/>
        </p:nvSpPr>
        <p:spPr>
          <a:xfrm>
            <a:off x="250920" y="404640"/>
            <a:ext cx="8642160" cy="62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Предложите ваши гипотезы о причине неровностей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Сформулируйте  учебные задач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Дать определение понятию «релье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Определить причины разнообразия релье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Познакомиться с разными формами релье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Узнать как рельеф может оказать влияние на жизнь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Узнать как рельеф изменяется в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3"/>
          <p:cNvSpPr/>
          <p:nvPr/>
        </p:nvSpPr>
        <p:spPr>
          <a:xfrm>
            <a:off x="179280" y="1557360"/>
            <a:ext cx="28800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Segoe Print"/>
              </a:rPr>
              <a:t>Равни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части земной поверхности с различием относительных высот на ней  не более 200 м</a:t>
            </a:r>
            <a:r>
              <a:rPr b="1" lang="ru-RU" sz="29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Foto (17)"/>
          <p:cNvPicPr/>
          <p:nvPr/>
        </p:nvPicPr>
        <p:blipFill>
          <a:blip r:embed="rId1"/>
          <a:stretch/>
        </p:blipFill>
        <p:spPr>
          <a:xfrm>
            <a:off x="2894040" y="260280"/>
            <a:ext cx="600372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Oval 7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260280"/>
            <a:ext cx="5508720" cy="1224000"/>
          </a:xfrm>
          <a:prstGeom prst="rect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Схема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298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Segoe Print"/>
              </a:rPr>
              <a:t>Возвышен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равнины, абсолютная высота которых колеблется от 200 до 5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1" descr="Foto (11)"/>
          <p:cNvPicPr/>
          <p:nvPr/>
        </p:nvPicPr>
        <p:blipFill>
          <a:blip r:embed="rId2"/>
          <a:stretch/>
        </p:blipFill>
        <p:spPr>
          <a:xfrm>
            <a:off x="2916360" y="1700280"/>
            <a:ext cx="6011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0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Oval 7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0" y="260280"/>
            <a:ext cx="5508720" cy="1224000"/>
          </a:xfrm>
          <a:prstGeom prst="rect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Схема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-181440" y="2204640"/>
            <a:ext cx="3024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Segoe Print"/>
              </a:rPr>
              <a:t>Низмен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равнины, абсолютная высота которых не превышает 2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0" descr="западно - сибирская низменность"/>
          <p:cNvPicPr/>
          <p:nvPr/>
        </p:nvPicPr>
        <p:blipFill>
          <a:blip r:embed="rId2"/>
          <a:stretch/>
        </p:blipFill>
        <p:spPr>
          <a:xfrm>
            <a:off x="2843280" y="1628640"/>
            <a:ext cx="6049800" cy="50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Print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действие внутренних сил равно действию внешних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действие внутренних сил больше чем действие внешних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действие внутренних сил меньше  чем действие внешних то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1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031920" cy="193356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3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3031920" cy="190836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4" descr=""/>
          <p:cNvPicPr/>
          <p:nvPr/>
        </p:nvPicPr>
        <p:blipFill>
          <a:blip r:embed="rId3"/>
          <a:stretch/>
        </p:blipFill>
        <p:spPr>
          <a:xfrm>
            <a:off x="5435640" y="4653000"/>
            <a:ext cx="3031920" cy="1903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Segoe Print"/>
              </a:rPr>
              <a:t>На уро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 узнал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не 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 теперь 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 хотел бы узна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Рисунок 3" descr=""/>
          <p:cNvPicPr/>
          <p:nvPr/>
        </p:nvPicPr>
        <p:blipFill>
          <a:blip r:embed="rId1"/>
          <a:stretch/>
        </p:blipFill>
        <p:spPr>
          <a:xfrm>
            <a:off x="3824280" y="1557360"/>
            <a:ext cx="511344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egoe Print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2752560"/>
            <a:ext cx="26020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§ 16, 17  задания на стр.66 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Рисунок 1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553572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322200" y="476280"/>
            <a:ext cx="864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Print"/>
              </a:rPr>
              <a:t>Как вы думаете, а чему мы сможем научиться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971640" y="2205000"/>
            <a:ext cx="583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казывать  формы рельефе на географической кар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носить формы рельефе на контурную  кар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авнивать формы рельеф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бирать формы рельефа для прож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делировать поверхность Земли  через млн.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http://dok.opredelim.com/pars_docs/refs/23/22375/img1.jpg"/>
          <p:cNvPicPr/>
          <p:nvPr/>
        </p:nvPicPr>
        <p:blipFill>
          <a:blip r:embed="rId1"/>
          <a:stretch/>
        </p:blipFill>
        <p:spPr>
          <a:xfrm>
            <a:off x="114480" y="297000"/>
            <a:ext cx="8915400" cy="626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1"/>
          <p:cNvSpPr/>
          <p:nvPr/>
        </p:nvSpPr>
        <p:spPr>
          <a:xfrm>
            <a:off x="1406160" y="98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75852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" descr=""/>
          <p:cNvPicPr/>
          <p:nvPr/>
        </p:nvPicPr>
        <p:blipFill>
          <a:blip r:embed="rId1"/>
          <a:stretch/>
        </p:blipFill>
        <p:spPr>
          <a:xfrm>
            <a:off x="324000" y="297000"/>
            <a:ext cx="8472240" cy="635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"/>
          <p:cNvSpPr/>
          <p:nvPr/>
        </p:nvSpPr>
        <p:spPr>
          <a:xfrm>
            <a:off x="1045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Рисунок 1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8642160" cy="630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6868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1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Рисунок 1" descr=""/>
          <p:cNvPicPr/>
          <p:nvPr/>
        </p:nvPicPr>
        <p:blipFill>
          <a:blip r:embed="rId1"/>
          <a:stretch/>
        </p:blipFill>
        <p:spPr>
          <a:xfrm>
            <a:off x="-684360" y="0"/>
            <a:ext cx="1044108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Segoe Print"/>
              </a:rPr>
              <a:t>Основные формы рельефа Зем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AutoShape 12"/>
          <p:cNvGrpSpPr/>
          <p:nvPr/>
        </p:nvGrpSpPr>
        <p:grpSpPr>
          <a:xfrm>
            <a:off x="2262240" y="1981080"/>
            <a:ext cx="4046400" cy="878040"/>
            <a:chOff x="2262240" y="1981080"/>
            <a:chExt cx="4046400" cy="878040"/>
          </a:xfrm>
        </p:grpSpPr>
        <p:pic>
          <p:nvPicPr>
            <p:cNvPr id="453" name="AutoShape 12" descr=""/>
            <p:cNvPicPr/>
            <p:nvPr/>
          </p:nvPicPr>
          <p:blipFill>
            <a:blip r:embed="rId2"/>
            <a:stretch/>
          </p:blipFill>
          <p:spPr>
            <a:xfrm>
              <a:off x="2262240" y="1981080"/>
              <a:ext cx="40464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311560" y="2031840"/>
              <a:ext cx="3946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70c0"/>
                  </a:solidFill>
                  <a:latin typeface="Comic Sans MS"/>
                </a:rPr>
                <a:t>Формы рельефа Зем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AutoShape 13"/>
          <p:cNvGrpSpPr/>
          <p:nvPr/>
        </p:nvGrpSpPr>
        <p:grpSpPr>
          <a:xfrm>
            <a:off x="1255680" y="3638520"/>
            <a:ext cx="1811520" cy="804960"/>
            <a:chOff x="1255680" y="3638520"/>
            <a:chExt cx="1811520" cy="804960"/>
          </a:xfrm>
        </p:grpSpPr>
        <p:pic>
          <p:nvPicPr>
            <p:cNvPr id="456" name="AutoShape 13" descr=""/>
            <p:cNvPicPr/>
            <p:nvPr/>
          </p:nvPicPr>
          <p:blipFill>
            <a:blip r:embed="rId3"/>
            <a:stretch/>
          </p:blipFill>
          <p:spPr>
            <a:xfrm>
              <a:off x="1255680" y="3638520"/>
              <a:ext cx="18115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297080" y="3683160"/>
              <a:ext cx="172404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70c0"/>
                  </a:solidFill>
                  <a:latin typeface="Comic Sans MS"/>
                </a:rPr>
                <a:t>Материк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14"/>
          <p:cNvGrpSpPr/>
          <p:nvPr/>
        </p:nvGrpSpPr>
        <p:grpSpPr>
          <a:xfrm>
            <a:off x="5284800" y="3713040"/>
            <a:ext cx="1957320" cy="803520"/>
            <a:chOff x="5284800" y="3713040"/>
            <a:chExt cx="1957320" cy="803520"/>
          </a:xfrm>
        </p:grpSpPr>
        <p:pic>
          <p:nvPicPr>
            <p:cNvPr id="459" name="AutoShape 14" descr=""/>
            <p:cNvPicPr/>
            <p:nvPr/>
          </p:nvPicPr>
          <p:blipFill>
            <a:blip r:embed="rId4"/>
            <a:stretch/>
          </p:blipFill>
          <p:spPr>
            <a:xfrm>
              <a:off x="5284800" y="3713040"/>
              <a:ext cx="195732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330880" y="3754440"/>
              <a:ext cx="18684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70c0"/>
                  </a:solidFill>
                  <a:latin typeface="Comic Sans MS"/>
                </a:rPr>
                <a:t>Океан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AutoShape 15"/>
          <p:cNvGrpSpPr/>
          <p:nvPr/>
        </p:nvGrpSpPr>
        <p:grpSpPr>
          <a:xfrm>
            <a:off x="6400800" y="5297400"/>
            <a:ext cx="2639880" cy="1017720"/>
            <a:chOff x="6400800" y="5297400"/>
            <a:chExt cx="2639880" cy="1017720"/>
          </a:xfrm>
        </p:grpSpPr>
        <p:pic>
          <p:nvPicPr>
            <p:cNvPr id="462" name="AutoShape 15" descr=""/>
            <p:cNvPicPr/>
            <p:nvPr/>
          </p:nvPicPr>
          <p:blipFill>
            <a:blip r:embed="rId5"/>
            <a:stretch/>
          </p:blipFill>
          <p:spPr>
            <a:xfrm>
              <a:off x="6400800" y="5297400"/>
              <a:ext cx="26398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6458040" y="5351400"/>
              <a:ext cx="252864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Подводные равни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AutoShape 16"/>
          <p:cNvGrpSpPr/>
          <p:nvPr/>
        </p:nvGrpSpPr>
        <p:grpSpPr>
          <a:xfrm>
            <a:off x="4095720" y="5261040"/>
            <a:ext cx="2176560" cy="1054080"/>
            <a:chOff x="4095720" y="5261040"/>
            <a:chExt cx="2176560" cy="1054080"/>
          </a:xfrm>
        </p:grpSpPr>
        <p:pic>
          <p:nvPicPr>
            <p:cNvPr id="465" name="AutoShape 16" descr=""/>
            <p:cNvPicPr/>
            <p:nvPr/>
          </p:nvPicPr>
          <p:blipFill>
            <a:blip r:embed="rId6"/>
            <a:stretch/>
          </p:blipFill>
          <p:spPr>
            <a:xfrm>
              <a:off x="4095720" y="5261040"/>
              <a:ext cx="21765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156200" y="5319720"/>
              <a:ext cx="205884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Подводные го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AutoShape 17"/>
          <p:cNvGrpSpPr/>
          <p:nvPr/>
        </p:nvGrpSpPr>
        <p:grpSpPr>
          <a:xfrm>
            <a:off x="1974960" y="5151600"/>
            <a:ext cx="1871640" cy="1163520"/>
            <a:chOff x="1974960" y="5151600"/>
            <a:chExt cx="1871640" cy="1163520"/>
          </a:xfrm>
        </p:grpSpPr>
        <p:pic>
          <p:nvPicPr>
            <p:cNvPr id="468" name="AutoShape 17" descr=""/>
            <p:cNvPicPr/>
            <p:nvPr/>
          </p:nvPicPr>
          <p:blipFill>
            <a:blip r:embed="rId7"/>
            <a:stretch/>
          </p:blipFill>
          <p:spPr>
            <a:xfrm>
              <a:off x="1974960" y="5151600"/>
              <a:ext cx="187164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2035080" y="5213520"/>
              <a:ext cx="175284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Равнины суш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AutoShape 18"/>
          <p:cNvGrpSpPr/>
          <p:nvPr/>
        </p:nvGrpSpPr>
        <p:grpSpPr>
          <a:xfrm>
            <a:off x="36360" y="5151600"/>
            <a:ext cx="1773360" cy="1163520"/>
            <a:chOff x="36360" y="5151600"/>
            <a:chExt cx="1773360" cy="1163520"/>
          </a:xfrm>
        </p:grpSpPr>
        <p:pic>
          <p:nvPicPr>
            <p:cNvPr id="471" name="AutoShape 18" descr=""/>
            <p:cNvPicPr/>
            <p:nvPr/>
          </p:nvPicPr>
          <p:blipFill>
            <a:blip r:embed="rId8"/>
            <a:stretch/>
          </p:blipFill>
          <p:spPr>
            <a:xfrm>
              <a:off x="36360" y="5151600"/>
              <a:ext cx="17733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96840" y="5213520"/>
              <a:ext cx="165276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Горы суш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3" name="AutoShape 29"/>
          <p:cNvCxnSpPr/>
          <p:nvPr/>
        </p:nvCxnSpPr>
        <p:spPr>
          <a:xfrm flipH="1" rot="16200000">
            <a:off x="1915200" y="4162320"/>
            <a:ext cx="2160" cy="1989720"/>
          </a:xfrm>
          <a:prstGeom prst="bentConnector3">
            <a:avLst>
              <a:gd name="adj1" fmla="val -23020000"/>
            </a:avLst>
          </a:prstGeom>
          <a:ln w="38160">
            <a:solidFill>
              <a:srgbClr val="ffc000"/>
            </a:solidFill>
            <a:miter/>
          </a:ln>
        </p:spPr>
      </p:cxnSp>
      <p:cxnSp>
        <p:nvCxnSpPr>
          <p:cNvPr id="474" name="AutoShape 30"/>
          <p:cNvCxnSpPr/>
          <p:nvPr/>
        </p:nvCxnSpPr>
        <p:spPr>
          <a:xfrm flipH="1" rot="16200000">
            <a:off x="6438240" y="4016880"/>
            <a:ext cx="33840" cy="2537280"/>
          </a:xfrm>
          <a:prstGeom prst="bentConnector3">
            <a:avLst>
              <a:gd name="adj1" fmla="val -684946"/>
            </a:avLst>
          </a:prstGeom>
          <a:ln w="38160">
            <a:solidFill>
              <a:srgbClr val="ffc000"/>
            </a:solidFill>
            <a:miter/>
          </a:ln>
        </p:spPr>
      </p:cxnSp>
      <p:cxnSp>
        <p:nvCxnSpPr>
          <p:cNvPr id="475" name="AutoShape 31"/>
          <p:cNvCxnSpPr/>
          <p:nvPr/>
        </p:nvCxnSpPr>
        <p:spPr>
          <a:xfrm flipH="1" rot="16200000">
            <a:off x="4176720" y="1626840"/>
            <a:ext cx="72000" cy="4107600"/>
          </a:xfrm>
          <a:prstGeom prst="bentConnector3">
            <a:avLst>
              <a:gd name="adj1" fmla="val -319597"/>
            </a:avLst>
          </a:prstGeom>
          <a:ln w="38160">
            <a:solidFill>
              <a:srgbClr val="ffc000"/>
            </a:solidFill>
            <a:miter/>
          </a:ln>
        </p:spPr>
      </p:cxnSp>
      <p:sp>
        <p:nvSpPr>
          <p:cNvPr id="476" name="Line 33"/>
          <p:cNvSpPr/>
          <p:nvPr/>
        </p:nvSpPr>
        <p:spPr>
          <a:xfrm>
            <a:off x="4284720" y="2852640"/>
            <a:ext cx="0" cy="576360"/>
          </a:xfrm>
          <a:prstGeom prst="line">
            <a:avLst/>
          </a:prstGeom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4"/>
          <p:cNvSpPr/>
          <p:nvPr/>
        </p:nvSpPr>
        <p:spPr>
          <a:xfrm>
            <a:off x="2124000" y="4437000"/>
            <a:ext cx="0" cy="504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5"/>
          <p:cNvSpPr/>
          <p:nvPr/>
        </p:nvSpPr>
        <p:spPr>
          <a:xfrm>
            <a:off x="6300720" y="4508640"/>
            <a:ext cx="0" cy="504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4:24:53Z</dcterms:created>
  <dc:creator>TEACHER</dc:creator>
  <dc:description/>
  <dc:language>en-US</dc:language>
  <cp:lastModifiedBy>Andy</cp:lastModifiedBy>
  <dcterms:modified xsi:type="dcterms:W3CDTF">2015-10-27T21:26:36Z</dcterms:modified>
  <cp:revision>6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2a0000000000010261200207f7000400038000</vt:lpwstr>
  </property>
</Properties>
</file>