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D27-92E2-4C48-AC75-B5EE56E8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DC9-76D1-4B6D-AA21-925635F2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170D7-9983-41A4-AD63-0F9536FE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F1F1B-3D97-4714-9AC1-CB65398A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2051C-966D-45D5-9F8D-2E332417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D6B6B-2EF1-4E96-8F89-DB249C8D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E511B-3484-43F5-8F0E-E5F991F4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AF592-7FA9-4961-AA94-C7EE965E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75D51-145B-4C02-A47B-7333159C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C08CF-7734-4D8E-92EF-CC6883F2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87CFE-50C2-4ACC-A381-5F4464C7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78CC5-EC08-4173-8346-D34AE5F2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523-27F0-4CDA-BAB9-4FFD2017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4B3B3-01C0-4254-AE46-21AC795F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95324-4692-41DB-933E-7BFD91E0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8A708-CB03-4D71-9C7B-329D3DE4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54C5D-F9C1-477E-88A8-68E86432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DB508-26D9-4D93-B7D4-F574AB96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E9201-8F63-4D76-9C60-9ED4FCAA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08937-E01A-4FC5-A482-95F049F1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DEE89-D0E7-42AF-B0A9-13921C65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1FB0E-B0F3-4146-9082-5C2BAD65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73C14-E7B2-4808-AE29-2E59E30D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288-BEFC-4FE2-93CF-D01B4A2B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C32B7-4C87-430C-BC41-8A8B1FBC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9CB12-39E4-48DF-A8C7-CE0742A7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A8C09-53A6-4470-90F2-F5370743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08D70-1B5A-4E08-977D-9E6BF9C4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E4C9D-E200-43CF-A03E-872B7DF7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FD884-2469-42FD-A8E9-80944BBE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5DB28-BA23-42A2-9E7C-AE582EAF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51E52-8030-4927-803E-AF5F5128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E2FF0-8B7B-45E4-91D9-45A9AA03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FD9A2-C0A7-48CE-9808-710FF1AF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E1CF-0D30-4ED8-B487-A18A22EF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6A0AD-05A1-4D8D-B60A-7646B5ED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41FE1-138D-460E-ACCF-5797E2B9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899A5-D00B-46BE-9DCF-5800CC6C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47E23-B13A-4B44-BD60-0C68A1ED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C2D77-21B5-44B9-A571-946F4052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39A93-ED98-4B86-BCE4-A744D909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26FC4-6827-4CFD-B19E-57F0F341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67380-E88B-4393-894C-90007195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B22D9-6946-477F-9864-E95F8FDA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C715F-07A2-4CA3-B46A-BBE5A73A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D294-C0DA-43FB-A955-7053BB1E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32FD7-7ECF-455C-A7CE-020B2605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9C625-7D93-454A-9EF1-EB787434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D954F-C37D-4668-BB93-516A7747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F84B0-8972-4EC3-8A15-2BEA2E79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4A1B1-2B08-4E7C-B0D9-C7D52026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165CB-A3BD-46E6-B950-C9F16131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F7ED2-B3E5-4AAB-B0AF-F7FE0717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3E580-1D31-4922-A391-13B99FF4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F4C7E-1F9E-4DD9-B651-DA09699B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157FF-E06A-4162-A652-DE5B7767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090D-1C33-496A-A934-0CA7239E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726BB-8B8A-4616-83CE-F3A4C7EC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F1547-E57A-41E2-81D9-B41224B2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E7678-BF86-47D0-B570-C7DD22E2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ADA8B-5103-4EEF-ACA4-C221F661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76546-D8F8-421A-B27D-49935A29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35159-0917-49EB-B6E3-1739739A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183E9-58CB-4D41-BC98-12BBFC70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6D7E38-4D9D-4E26-B531-7D8CA649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ED8BF-98B1-4B8B-AFFD-BBA3D4DB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5AAED-97A9-4D15-9B61-C7C5AE5C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6CAC-45E4-4786-9370-AE352F12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B25081-8D20-4EDD-B6E3-91C66940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6ED76-27F7-4A39-88C7-7936055A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46F5B-ECA8-4D12-9428-5DBF5A94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6E6BB-B9D8-4495-9C30-37E2BA88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4A55E0-EC3F-40C5-9ADD-7697D4AE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2EA29-43EC-42E6-82E6-41D812C1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8530F7-1F7C-4D38-95AE-AABAEA1E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3DA3F-D451-427B-BDF3-5A2BE12E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EFD0AB-B1D5-408C-9AE6-1165D116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6F85-6F47-4526-B520-7658D8B9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5ADF-CF24-4B0D-99B8-5DDE3F5B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DD9E-979E-4A1C-8341-4711DB97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2B2E-9129-4967-B6DB-414058C3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2EAA-A867-4F78-92BA-F61625DF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48B8-3B54-4F2D-AA58-FC538658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75CA-D38C-497F-ACB0-A55B6768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E4C5-2105-4F25-9884-7362E4A2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4267-516F-4740-984C-D32C9C21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B0AE9-FB3D-4DC8-AB33-E91A66B1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9E936-054C-49D1-9AFE-7BB75F1D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27BFB-9964-4B4C-8334-51840F63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C45FB-AEA9-4BAB-AD1D-C8CFD82B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59E75-DA08-484B-AC9F-B8221F5D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349-E588-4823-AD9B-77335F70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3A842-F844-459E-8707-CC956F41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E8A4A-8703-47FD-9FD8-F8AD315E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BB175-CA88-4149-8990-0ABB2F4B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2765C-05D7-41F0-AEB3-14062246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A1E0E-E28B-423F-93BE-BB245113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CF1BF-19F1-41B9-AE96-34153E07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A4F2C-5EB1-41AD-BE5B-4AE7E32D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EC086-29A8-403C-98DE-930CFDB6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253EF-BAD2-483A-BB30-E6FB3D13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986D9-71AA-43D7-A2AE-774D25C1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B41-FFC7-4903-B709-9A7227E0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F194F-AF7B-4C9F-8383-D60A0A17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345B6-9D55-49BC-80DD-1C1D48AE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C413D-3ED3-4F7A-A77B-8C9BCA4F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286C1-9265-475B-82D8-326F7F68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E1996-5E28-4BCA-A6A4-B4C0EB82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72DC6-37BC-47A8-8A46-509ADF4C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81AC1-AE36-4276-A8CD-67AE2DA8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1151B-E299-4E33-96F2-49424227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1005E-1100-4B8D-B3CA-AA01580B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F22B2-BDC8-420C-96CC-60D20B7D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B6BA-7E76-4D9E-84E4-64568678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8AA7F-4E31-4353-B386-5F0C326D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3209B-CD13-4E77-B497-DE754681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7DD7E-3742-4E28-9C97-998B03FE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79AC9-A0A2-4A6E-AF10-E8883DFA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3C1D6-C7AA-4EF8-9E98-37DE957E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357C7-C67A-493D-BADE-442CE9D2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0EEB4-3A3C-43AB-989C-ACB8242B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B15DD-4CA0-45E1-BDE4-A334159E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1BFD7-1592-4BCF-9326-8B82A09B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8086B-7465-4099-9913-7FC8E58C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7D58-DC50-4D89-B61C-CCD935E8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2C133-7B8F-46CB-857A-71DE4CC0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3C4F6-1E5E-4753-813C-6A7BE464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491F1-8DF4-47F8-A2A6-DFDBC197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6251E-E599-48A6-BE88-ED5DB8D9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CF400-E23A-43C0-BE18-7383E3BD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858CF-5F7C-4D27-81CD-3CBEEAA2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44749-1DE8-424C-8C98-CC255C45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1B15B-A8F4-434E-AC26-8048787C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297F5-8432-4DD1-A9F3-294DC885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F5811-4E61-482A-82C6-E460BC8C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A5A-8C78-4423-AAC7-53DF3994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C9E38-6C8D-4A4A-90E9-F26C57DD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B67A0-C495-47DC-81B3-3E627155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9A047-6CEB-4CAB-9E32-9C684013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5381A-EB96-4A2D-B1E1-22D320DC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521D0-B72F-498F-AE03-365F53A6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A3D41-4047-41B4-BB18-47F4DACC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68C52-77A8-415B-8214-4CF9FA09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4179E-3381-402C-8AEA-2B16510A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C6D20-2E3D-46A8-B4DD-E8F113B9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B0B7A-35DC-453C-BFAE-570CEDB0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69D-26FD-4B84-999F-D693CBD0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9F27A-245B-4396-A7FF-CA8E7D52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31521-ABCE-4F6B-B4EA-D6988B4B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1CE1B-2D3B-472F-866D-A5CBFEA7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EC4FA-6A80-45F9-887C-9AC368F7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898EB-74A3-489B-935D-477EFF02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A8EC0-FBBF-4E72-BDE7-20B56613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E09DF-1DAF-4BF4-8019-46A039BF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F42AC-4C02-4672-A11A-C44CAD6C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3B0A8-5711-4D28-972A-EFE019BE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76063-CC9F-436C-B02C-C9F239AF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DA8-195E-4632-A1C6-02D96058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2EBF7-F9EF-44E2-A677-0AFECC4A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F0C1A-B74C-4D86-B834-58EC9CCF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712DB-5723-4073-BA8F-78BDC422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AACF9-5A73-42A1-AC1E-C0E9BD5A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3DFEF-DC28-421A-A37F-5777F180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00E38-6459-4A89-8282-0675E735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D7310-46DC-44D8-B3C3-BDD26F5B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EC64D-0A18-4046-AE04-91D8B437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A0C31-062E-467A-818A-8AFF6B73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04FA7-65E6-47BE-B04C-D8E2740E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2531-AA74-45C4-8F92-9AF7976ECA6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2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2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2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1C62-CD7A-44D4-96D7-1873E174B8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7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8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87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9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1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2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4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5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6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7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8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1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4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6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7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8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3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9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0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3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4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5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6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8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0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1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6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7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8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3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4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dt" idx="3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27D3-2E1B-4549-B3B2-52B07A1E0E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06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6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06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7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7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7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8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20F4-7ACF-4711-B953-74EDF9948DE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12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12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3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13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13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13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3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3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13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13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3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4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14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4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4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14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4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4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14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4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4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15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5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5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15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5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5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15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5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5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15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6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6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16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6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6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16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6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6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16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6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7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17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7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7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17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7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7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17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7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7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18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8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8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18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8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8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18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8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8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18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9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9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19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9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9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19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9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9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19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9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20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0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20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20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0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0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20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0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0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20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1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1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21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1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1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21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1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1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21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1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2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22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2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2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22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2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2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22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2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2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23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3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3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23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3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123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23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23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24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24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24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A47E-A25B-491C-85A7-DD22C1712562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02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303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4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5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6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7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8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9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0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1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2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3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4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5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6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7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8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9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0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1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2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3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4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7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8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9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0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1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2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3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3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5E0F-84F4-4BAD-994E-061A7F3368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67A8-15E6-4DAF-BC6C-31DCC9EB28C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F682-18AB-444A-AE5E-3957DE0B3B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7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7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87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9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9A94-ADA1-40A0-829A-DADB50E1926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6AF2-CF03-4688-B324-DF87DD62682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7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8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8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8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8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9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39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9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0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0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0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5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5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5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5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5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5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6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46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6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6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6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6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6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7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7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7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7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7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7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8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8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8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9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9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9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9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9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9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0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0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0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0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0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0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1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1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1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2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2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2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2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2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52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53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3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3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3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3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3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3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4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4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4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4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5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5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5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5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5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5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6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6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56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38A1-EE1A-40E4-9119-7C00968B0D0F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4AC9-7798-4367-B21A-8AA038A91A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3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404A-D8D1-4FFB-B2F4-9F2D71E2E4F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44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47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48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9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0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1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2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3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4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5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6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7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8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9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0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61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2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73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4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5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6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7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78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DD79-CD48-4596-A9E4-C26AEE946F7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Окружающий мир </a:t>
            </a: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«Солнце – источник света и тепл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программе «Гармония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начальных классов Пинтера Ирина Иванов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393" name="Picture 6" descr="pictu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4" name="Picture 6" descr="pictu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Picture 6" descr="pictu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вод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лнце это плазменная звез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лнце предмет неживой природ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но даёт тепло и свет для роста и жизни всего живого на Земл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читается людьми и находит отражение в творчеств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учи солнца отражаются и преломляются через предмет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ccffff"/>
                </a:solidFill>
                <a:latin typeface="Arial Black"/>
              </a:rPr>
              <a:t>Спасибо 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ccffff"/>
                </a:solidFill>
                <a:latin typeface="Arial Black"/>
              </a:rPr>
              <a:t>за урок!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Picture 6" descr="pictu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Уважаемые астронавты, просим вас узнать все сведения о ближайшей к нам звезде – Солнце и прислать свои сообщения на Землю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58800" y="884160"/>
            <a:ext cx="8183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олнце – объект неживой природ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2" name="Picture 9" descr="picture"/>
          <p:cNvPicPr/>
          <p:nvPr/>
        </p:nvPicPr>
        <p:blipFill>
          <a:blip r:embed="rId1"/>
          <a:stretch/>
        </p:blipFill>
        <p:spPr>
          <a:xfrm>
            <a:off x="250920" y="1700280"/>
            <a:ext cx="8893080" cy="4941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/>
          </p:nvPr>
        </p:nvSpPr>
        <p:spPr>
          <a:xfrm>
            <a:off x="1403280" y="404640"/>
            <a:ext cx="640872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ОЛНЦЕ» - центральное тело Солнечной системы, раскалённый плазменный шар, типичная звезда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– карлик спектрального класса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2, масса около  М ¤ ~ 2.103 кг, радиус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¤ = 696т. Км, средняя плотность 1, 416.103 кг/м3, эффективная температура поверхности (фотосферы) около 6000К. Период вращения (сидонический) изменяется от 27 суток на экваторе до 32 суток у полюсов. Химический состав, определённый из анализа солнечного спектра: водород – около 90 %, гелий – 10%, остальные элементы – менее 0,1% (по числу атомов).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Источник солнечной энергии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– ядерные превращения водорода в гелий в центральной области солнца. Температура 15 млн.0С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Picture 7" descr="picture"/>
          <p:cNvPicPr/>
          <p:nvPr/>
        </p:nvPicPr>
        <p:blipFill>
          <a:blip r:embed="rId1"/>
          <a:stretch/>
        </p:blipFill>
        <p:spPr>
          <a:xfrm>
            <a:off x="0" y="0"/>
            <a:ext cx="9144000" cy="4653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385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33cc"/>
                </a:solidFill>
                <a:latin typeface="Arial"/>
              </a:rPr>
              <a:t>Солнце согревает и освещает Землю уже миллиарды лет. Благодаря его свету и теплу на земле возникла и продолжает развиваться жизн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aramond"/>
              </a:rPr>
              <a:t>Славяне почитали Солнце, как божество и называли его ЯРИЛО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387" name="Picture 9" descr="picture"/>
          <p:cNvPicPr/>
          <p:nvPr/>
        </p:nvPicPr>
        <p:blipFill>
          <a:blip r:embed="rId1"/>
          <a:stretch/>
        </p:blipFill>
        <p:spPr>
          <a:xfrm>
            <a:off x="1258920" y="1557360"/>
            <a:ext cx="6553080" cy="5300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33cc"/>
                </a:solidFill>
                <a:latin typeface="Garamond"/>
              </a:rPr>
              <a:t>Заклички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Солнышко, покажись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Красное, снарядись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Чтобы год от г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Давала нам пого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Тёплое летечк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Грибы в берестечк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Ягоды в лукошк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Зелёного горошка.</a:t>
            </a: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33"/>
                </a:solidFill>
                <a:latin typeface="Arial"/>
              </a:rPr>
              <a:t>Солнышко, высвети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33"/>
                </a:solidFill>
                <a:latin typeface="Arial"/>
              </a:rPr>
              <a:t>Красное, выблесни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33"/>
                </a:solidFill>
                <a:latin typeface="Arial"/>
              </a:rPr>
              <a:t>Мы на нивку идём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33"/>
                </a:solidFill>
                <a:latin typeface="Arial"/>
              </a:rPr>
              <a:t>Мы серпочки несё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33"/>
                </a:solidFill>
                <a:latin typeface="Arial"/>
              </a:rPr>
              <a:t>Будем жито жать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33"/>
                </a:solidFill>
                <a:latin typeface="Arial"/>
              </a:rPr>
              <a:t>Тебя в гости ждать!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1" name="Picture 6" descr="picture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040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8:25:31Z</dcterms:created>
  <dc:creator>Ирина</dc:creator>
  <dc:description/>
  <dc:language>en-US</dc:language>
  <cp:lastModifiedBy>Серый</cp:lastModifiedBy>
  <dcterms:modified xsi:type="dcterms:W3CDTF">2011-09-19T17:55:43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260000000000010250300207f7000400038000</vt:lpwstr>
  </property>
</Properties>
</file>