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2A9-7FA5-4A56-BE47-DD4D0FAC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28B3-34B8-4E21-877D-6047CAB2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77E0B-4C3A-4CE0-9E14-1A78D10E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A0B1B-B3A0-4191-9FB6-AC790B2C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3E513-FDBB-47D0-BC02-15F37D3F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0E788-898E-4503-91EB-348B413C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9E071-412E-45BA-B372-937D8AF0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302EB-0671-47F6-A560-1D56F1E3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F7FB6-3381-4E76-A251-FB7EC9CB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6226F-F6FE-4117-9C52-1D957585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E379A-2C91-4364-8A9C-F7274730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23859-560C-4DE8-ACAF-D22EF7C7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B05-5316-4484-BFFA-73AAF3DF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41F21-9B56-41B1-BC33-A2946AE2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3FEA3-6F13-48FC-9E5F-5D068562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A9614-E40A-4197-8CF9-CE65D424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0FDBA-E617-4624-B944-34E5270D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5E591-34D6-43E9-BD16-C0093A7F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92C1A-B531-4BB5-BD95-AAD23521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2F238-BA63-42F4-A3B8-B81D7FCD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474E9-61A9-474B-8187-43D74235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89B5B-E0CB-440C-A073-18F101D4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4CC6D-9981-457D-BAC4-AE844938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2D2-5E4F-45FE-9BBB-F420CE49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D2709-A7ED-417B-9780-21E4DF9F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452DA-147E-405B-8CD3-B7E8FFB9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ABCE3-2A96-47C0-8D55-5C9A6B7E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AD558-FC00-4109-8F36-9B6384C2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C1735-0083-43CC-8C07-DF90B9CF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B7182-C042-4100-B9FE-7FB9E684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65B64-9967-49DD-A883-9F9D9960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254B5-2929-425B-AD0D-05509E84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1B137-3D38-4956-AA41-8C163D60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4C0D4-194A-46E2-B796-41A74A0A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6826-7464-4301-B14F-14D3553F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424EF-7655-4FF8-9746-426BE3F2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04681-F70B-4100-A08A-38B3DB40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589E5-8DC2-404A-8364-D7339FF0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6D838-2BD4-42E7-AB1B-4A3CA66C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1A336-4678-49E9-A88F-FA141016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4FED2-7A13-40C5-BEEB-41A7C0C9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20C00-752E-46D5-968F-8BB8FBA0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64588-2A7C-48FA-9CAD-0F056A41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1B255-01F6-48EA-9790-33AE0DE2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9E3B5-4768-4297-87FC-C4BBB311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3CD7-A409-479A-A680-D1DC5F94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0203B-3E4B-44F9-9BEE-CECB6C1E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2F3D5-3F5B-4477-A011-750887C5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7A98B-1B45-4AAE-A90F-4C27F668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12279-7FB1-4640-922F-EAE861EE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7980B-C144-4583-9CA4-1B0DBBEE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B5ADD-4749-4D25-8D11-5A4F5E48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E8C14-5DC6-42D1-BBFA-14683B4B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01654F-06FA-4BC6-AFD0-CE85FD88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4F942-F410-4214-965B-9804E884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CEBC6-CD94-4159-945A-C96E2497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4B08-F659-4D99-89A8-FC683315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F1AB8-7186-414C-B237-330C0450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B2A0A-44B7-47DC-96EF-B8A228B0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89FE0-E28F-4147-B991-812FBAA7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5E7DAE-E1BB-484A-B612-FBC3FAF8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69DE7-E9F0-41FD-87DF-3BB35835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F80BB-005C-46A0-833B-C2A10F78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F083E-CCAD-4F46-8DBE-3CD9C84E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74E12F-F929-4F24-AEE4-20DA35EB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51329E-EF53-4FC0-A1AB-96A3C98D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EC3552-16C2-4F28-9158-9CB4634A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8DA9-5F88-4EE1-8B41-F5C8F02E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EF10D3-AE18-48CE-8F51-4D530459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A0368E-DE2B-4EA9-BE5F-9DA191F1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5678B-6EE2-4C39-BDFF-B01BA899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AD22C-3DD0-46EA-9935-5B7D328C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0C8CE5-ADF8-482C-84E1-A56A095D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9363F1-BDE0-452E-BAD3-D235266A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17CD7-9BA0-4EE6-B285-CD9FAAE9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F1098-47F1-4DCB-8E89-9B94CC52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DB42B-1FD8-43A1-AFAE-4C14D83D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199A-A312-4E7A-B2EB-349607BE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890F-AC88-4177-BE0D-0A1A2612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9888-C52A-4673-85FC-7F09D9CE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81D-A567-4CD9-A3C1-1877E2D5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933B-1C46-4A60-8475-E9622B6B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E8F3-81B2-4D7F-A49A-A04330E6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E6B2-8745-4E60-B3AF-0836B727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9DD5-578B-455F-AC07-A2397610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8A57-32B6-4EE6-9465-67934FDB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E30D6-225D-44DB-BB3B-B1609F0F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57BE6-D315-45E4-BF7C-B709F068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1FCCF-C3B1-4AD0-B95F-0A7547B5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7A06F-FEF2-49A0-9962-55FA83D3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5F661-A62A-491B-A6BC-74A6F023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615-5B17-46D3-9EA3-893091A0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FEC50-070A-45D3-BBD2-B23989BC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F7BC0-3C2C-4038-BD5C-CC603883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643F9-AF27-4E6C-B635-A69BB50B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E9804-2185-47F3-A375-0A233DF6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D1135-5F32-4CC5-9F84-44B42273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9B377-DBA3-459B-9758-F7DD6F4D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CB36A-ED07-4ECA-ACA1-E6E4F5FE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5F131-2264-4F38-8B4E-3B868286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00C64-E891-46AA-A699-CF5EC748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43CE1-6A28-4B3B-80D9-9B68EA6F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285-2554-4374-9987-A74969C1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2CA67-ED5C-4E29-BD4C-6E264F6C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50041-45ED-4D05-94C5-A8C2A086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8FC41-2D1B-471F-8C18-EBE39AF2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E8072-85B3-429A-B019-B53CA99F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CBAAE-C95A-432E-8B62-B1002DAA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A9BC1-BDC1-4963-86D4-47EB98D8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C0AA1-EC36-4557-BE10-44AA88A8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85AA2-C25E-4B70-92A8-6857E758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71663-1143-4FE3-B4C0-23AED402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9AB11-6979-4BF6-A4BB-FF8A4F54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46E1-B91B-4FDE-80F1-C1290BA2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F147F-15DE-46C0-85C1-4BB0B48D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FF905-C6CF-49F9-B9CA-D8057563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C2A0E-348A-43A3-81C6-5D2A63EE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A0584-BAAA-4E8F-9064-EC368F55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D07E0-0587-491C-95B5-F29B166F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D46D8-DA1F-4DF5-A947-9ED391ED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74976-9691-4A0D-92C4-3FEBA1D2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C7C83-C59C-45D3-99B5-37014589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7ACB0-0A26-40C4-BA03-D900D78B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53DD5-4518-4A61-B686-AC8D4FF8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B2F-DFFF-4183-A95C-DB6555E7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EB454-C4B0-4F43-B01F-5F0B1314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65417-CD77-440C-BA7D-9CEAEA47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78EFD-C09A-4B5A-B1CD-C7F205CF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9CC4C-E97C-4D77-88D6-D24F3841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33040-76D6-40F5-96AE-384F6BF8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B9093-B353-4EFB-8D66-8FB9DAE6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71D89-3597-468F-8F06-632813C1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714AC-CCFB-4FCA-838E-93FEB65A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7C943-0793-408D-8F14-2C9D28C5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2C20B-FE33-4F8B-836E-D3D644F7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AD2-4EA6-4090-BCA6-72F9EF20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56E97-1ABF-4E23-8D9C-42EC7626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8EAA8-AE70-4329-966E-9327B51C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16239-3E15-4D9F-B59B-82E7A017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5567A-8969-4D7A-A2A8-53D51A49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8A0E9-5A5C-4BDE-A00F-59563F32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AE9D1-66A8-4A7B-838F-0BAF6D59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8538A-FCFC-4FFE-A22B-1630C503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9B46A-BCD7-4C40-B9D4-88CA79D4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BFB4F-2E88-4364-984E-9B7B6DAE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4A148-A420-4541-9264-BCDFE449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966-F6EA-4767-B5BD-CC5B9A94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E2CA5-C9AC-4E4D-9550-85303CA8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932A2-A076-4362-BC1B-DB8FFBF8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4E899-B52C-4125-9D15-FC1B85A8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59BB7-A257-4631-AF64-F46671E8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753F0-5B16-44EE-8BEA-5F4B8C20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AE785-9855-4EBE-B1BC-F69C291B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29156-409D-4FF9-8171-405099F3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5A706-203B-44A0-8A92-19B341D7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C6C21-3A98-4E80-8AF9-41264A18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61F02-634A-4423-9D1E-34999872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394F-02CF-413F-8793-897B98E4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4F21B-C1D5-4560-A305-593401C7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EB0D7-FB16-4630-B2E2-92DB7A70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838D9-B72F-4CCC-BFBC-0FCD601B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1FD8F-CCD4-499B-BA92-D9F4929C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2E1F8-3CE7-4769-A494-7FA9C3B4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BF58C-2E5E-4D1F-948E-8340A670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BD07F-D552-4DDC-8F7E-B66F9C34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62255-F31A-4FAC-8D81-EF4BFA38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D1175-2224-4AA8-956D-31F8B850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0589A-FAC2-45D2-BD36-80102B85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5EB7-1D09-4B2E-86BD-E9FE7A40776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2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2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2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C676-285A-48C8-A7B8-EB82FAE56D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7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8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87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9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1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2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4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5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6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7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8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1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4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6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7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8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3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9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0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3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4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5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6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8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0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1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6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7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8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3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4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dt" idx="3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6127-2B89-44E0-A4A8-5D62FE83E9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06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0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7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7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7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8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055B-BC3F-4264-8024-037880E6D4C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12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12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3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13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13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13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3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3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13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13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3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4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14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4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4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14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4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4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14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4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4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15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5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5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15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5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5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15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5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5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15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6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6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16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6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6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16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6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6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16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6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7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17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7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7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17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7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7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17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7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7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18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8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8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18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8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8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18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8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8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18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9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9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19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9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9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19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9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19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19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9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20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0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20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20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0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0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20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0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0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20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1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21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1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21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1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21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2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22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2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2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22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2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2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22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2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2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23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3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23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23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3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123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23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23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24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24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24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1D3C-6D07-4DFB-88B3-A903720034C1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02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303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4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5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6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7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8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9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0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1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2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3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4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5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6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7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8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9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0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1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2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3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4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7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8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9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0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1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2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3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3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1BED-C6B4-4833-B3D5-FB8FF9620A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02AD-21FE-4FCA-AC4B-312696E12A9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BD53-0CC6-49EC-84EA-56D9E73E89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7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7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87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9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4283-B8A3-4F0B-94EA-072234E4322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91A4-812A-42CF-90B2-ED397B33104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7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8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8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8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8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9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39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9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0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0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0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5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5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5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5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5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5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6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46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6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6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6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6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6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7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7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7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7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7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7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8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8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8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9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9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9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9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9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9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0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0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0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0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0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0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1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1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1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2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2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2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2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2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52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53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3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3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3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3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3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3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4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4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4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4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5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5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5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5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5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5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6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6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56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E8D5-1C7A-4F0B-8144-B4A0AA31F3D7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89BE-A9E3-4737-90C4-B8ACE6BCAB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3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5AE3-F752-4610-B8AD-BFCEEB13DE4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44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47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48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9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0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1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2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3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4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5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6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7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8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9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0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61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2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73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4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5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6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7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78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6DC5-19E1-4614-8F8E-8C2843EC284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Окружающий мир </a:t>
            </a: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«Солнце – источник света и тепл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программе «Гармония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начальных классов Пинтера Ирина Иванов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393" name="Picture 6" descr="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4" name="Picture 6" descr="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Picture 6" descr="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вод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лнце это плазменная звез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лнце предмет неживой природ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но даёт тепло и свет для роста и жизни всего живого на Земл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читается людьми и находит отражение в творчеств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учи солнца отражаются и преломляются через предмет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ccffff"/>
                </a:solidFill>
                <a:latin typeface="Arial Black"/>
              </a:rPr>
              <a:t>Спасибо 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ccffff"/>
                </a:solidFill>
                <a:latin typeface="Arial Black"/>
              </a:rPr>
              <a:t>за урок!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Picture 6" descr="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Уважаемые астронавты, просим вас узнать все сведения о ближайшей к нам звезде – Солнце и прислать свои сообщения на Землю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58800" y="884160"/>
            <a:ext cx="8183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олнце – объект неживой природ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2" name="Picture 9" descr="picture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4941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/>
          </p:nvPr>
        </p:nvSpPr>
        <p:spPr>
          <a:xfrm>
            <a:off x="1403280" y="404640"/>
            <a:ext cx="64087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ОЛНЦЕ» - центральное тело Солнечной системы, раскалённый плазменный шар, типичная звезда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– карлик спектрального класса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2, масса около  М ¤ ~ 2.103 кг, радиус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¤ = 696т. Км, средняя плотность 1, 416.103 кг/м3, эффективная температура поверхности (фотосферы) около 6000К. Период вращения (сидонический) изменяется от 27 суток на экваторе до 32 суток у полюсов. Химический состав, определённый из анализа солнечного спектра: водород – около 90 %, гелий – 10%, остальные элементы – менее 0,1% (по числу атомов).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Источник солнечной энергии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– ядерные превращения водорода в гелий в центральной области солнца. Температура 15 млн.0С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Picture 7" descr="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4653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385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33cc"/>
                </a:solidFill>
                <a:latin typeface="Arial"/>
              </a:rPr>
              <a:t>Солнце согревает и освещает Землю уже миллиарды лет. Благодаря его свету и теплу на земле возникла и продолжает развиваться жизн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aramond"/>
              </a:rPr>
              <a:t>Славяне почитали Солнце, как божество и называли его ЯРИЛО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387" name="Picture 9" descr="picture"/>
          <p:cNvPicPr/>
          <p:nvPr/>
        </p:nvPicPr>
        <p:blipFill>
          <a:blip r:embed="rId1"/>
          <a:stretch/>
        </p:blipFill>
        <p:spPr>
          <a:xfrm>
            <a:off x="1258920" y="1557360"/>
            <a:ext cx="6553080" cy="5300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33cc"/>
                </a:solidFill>
                <a:latin typeface="Garamond"/>
              </a:rPr>
              <a:t>Заклички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Солнышко, покажись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Красное, снарядись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Чтобы год от г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Давала нам пого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Тёплое летечк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Грибы в берестечк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Ягоды в лукошк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c0000"/>
                </a:solidFill>
                <a:latin typeface="Arial"/>
              </a:rPr>
              <a:t>Зелёного горошка.</a:t>
            </a: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Солнышко, высвети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Красное, выблесни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Мы на нивку идём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Мы серпочки несё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Будем жито жать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33"/>
                </a:solidFill>
                <a:latin typeface="Arial"/>
              </a:rPr>
              <a:t>Тебя в гости ждать!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1" name="Picture 6" descr="picture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040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8:25:31Z</dcterms:created>
  <dc:creator>Ирина</dc:creator>
  <dc:description/>
  <dc:language>en-US</dc:language>
  <cp:lastModifiedBy>Серый</cp:lastModifiedBy>
  <dcterms:modified xsi:type="dcterms:W3CDTF">2011-09-19T17:55:43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260000000000010250300207f7000400038000</vt:lpwstr>
  </property>
</Properties>
</file>