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3835-386D-433B-A7F8-FAAB0A4E5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CFFD-3ADF-4CA5-A192-87829166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8CF67-8159-4337-9819-33BB9C47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6D64C1-DE42-45A4-93D3-35338DA2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55F55-6905-42C3-98A2-59BCBBC1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E1748-9048-4B9F-AF20-9F3FCB56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C7381-C85E-454F-B1EB-89E46B5F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CC4B0-B8A4-43F8-8CBA-FC0879DE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F10CB-4680-4C92-AB7B-3A241EA8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85897-A948-4089-B371-8307A0FA7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E1847-0D02-4B1A-A2E7-F227305D1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6B950-F869-405F-958A-C9A64A744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64B7-9EE6-47E0-9B23-DE3A454E7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2E5D35-4165-45BE-A365-C869B0AF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B3579-52C2-4717-BBD1-FEEBC26E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CF2AE-83BC-4561-A92F-07D63D4A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42FD9-4B5C-490B-B361-382DA7DC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B56C9-04E6-4ECB-BB54-D66FADB6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0BFDBF-C279-45D5-A04E-D731DE3B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56E2F5-E138-4ED7-9043-1452F051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DFD26F-F319-4599-A6B6-B4D86DE3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7E8781-6DB9-4DC1-89B4-F3744D3A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26A17-1CF0-4FE3-86DE-46FB81105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9FE7-6D1E-4D66-81C6-FDB531BCC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7D3FED-1BBF-46A9-AD59-F3877C79C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0D5F1-54C1-4447-B41A-7DEA98AF6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28244-64C3-46F6-84EC-418215A7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6FE66-1A31-411B-A444-5FAE589E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D36C6-FA32-4AE2-A400-8734EE55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EECF0-FCBB-4368-A4AB-212466BC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3FD3B-D881-49C2-9E8E-29B0B20D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900B5-1756-4D68-9D2D-BD23B00A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4F5FA0-C972-455A-9042-5DA043F9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604BD-0752-4DDE-B269-93B1E9C1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344F-A863-45B0-8EA9-AD667A4D4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F7181-86C2-451B-AADE-996BF187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5547A-E0F0-4C7C-BDB5-00DF0EBA7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3604A-D16F-416B-9289-17D38EDF8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1CF8FD-5472-47A1-867B-665C72744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E237C1-30AA-4FAF-A4E7-D802B582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C2BCC-32F1-4E13-BCAC-37BBF19F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389A37-E03A-43D0-8450-8A43BE82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4AD19F-BEBA-4BDC-B298-BA93B435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F694C-B1C5-4DAB-87AB-571A7837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E0425C-FC61-40D4-917E-5D968CD8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6A3C-DD4E-487E-9775-FC2CBE9D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2BC1A3-A4C4-49F6-BD00-FD47DB69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7E6409-1DBF-4C80-AC5C-75F21E85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620183-9223-4286-BD02-5FB4BCC9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71BAD6-48D4-4EA6-A285-DCDA27164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8D1411-D3DF-4D1B-A141-4DA03E0AE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29D4C4-688A-4D71-8878-8BCDC1BB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DCEB91-EE14-4C67-AF8E-531DE6C8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0CB1A1-A1FC-477D-B19A-CDD85B6F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12DF3C-7E4A-486C-A935-2A0765E4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348C65-749D-4FA8-A926-16ABF84B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15C9-E097-4C0D-81E7-FF2AB00D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05A723-E576-4568-B86D-6658E2CD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D0F3F0-D191-4F69-93AF-E3E5087F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E62A1D-ED46-48C5-9234-60C9A904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D15422-282D-4B07-95AC-73F374CD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3B2912-7F56-4F70-94B6-37B5F0F7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2110DD-EE91-42FB-AEF5-251F6B67B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B594C2-9E86-42FE-91AF-101EA4FB4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5EFC02-28D5-4BC7-8F35-474C407ED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894FC4-6797-47F6-8F98-94F2B460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37F653-FDCF-4670-A60B-BB463BD6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BFD7-6C47-4235-BB9E-D08D00EB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1F29BF-0B8E-42A9-A64A-D8F88858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88F3E0-F793-4BE9-8097-CEB6E94E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CD1542-7800-4FC0-90B6-308C4192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62C61A-17E0-4120-82F6-0A85E817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AA6DCB-3565-4225-AF97-B8AC16B0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60916C-D23B-4D83-A1B2-BA4AB7AA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2C7D5E-5493-42D3-A603-16585E3C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641022-164B-4B7A-999C-5819C1764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123E03-3155-42D5-B539-A6CDE56FB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8B06-9ECB-47B1-BEFC-627CC43C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8A78-2EA7-4A96-9D28-3CFF6A03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04D2-6E5F-4FC7-9DD2-A9854713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7AF8-7B77-480F-8CCE-C0AE9A29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F786-9507-4644-AD0C-E5FA3186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F0EF-65CA-4F24-ACA0-71742404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FE9C-6352-4AC9-882B-D169A1AF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6361-A440-4B51-A3F1-C3ABD7C1F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9F65-C618-4BBC-B799-62368C45B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F906E7-7945-49AC-A233-4BA0FA636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90354F-6F42-4DEE-91B3-1DFC3A37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6BDE4B-830B-4CAC-851D-9D0AF5BF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A83AB2-C751-45E3-9007-175D3445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BF88E4-008B-4282-898A-2C92F77B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44FD-BF46-4CF8-A5DE-FA3A52C1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78909E-477B-4F66-8445-EC1063F8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8FEC15-B428-4AD1-A63A-DDEC029A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A819D5-F32B-411B-A98D-4E74F325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A96123-C181-4DB5-8519-2F7DDC3D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BDDAA3-FD4A-4100-99B1-B7A7AD02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022DBD-7AE1-4F01-B1D5-BD1A16D53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0E1342-0424-4ED6-A490-9B056B676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7A0A6-74CA-49FA-B404-7A7393727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70A37-4EA6-49B4-9C17-3CEDBBF2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707EA-B3DF-45F9-986C-E73898BA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AEF5-4553-4907-A6E8-3B205941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DF36D-227D-45E3-AAFB-BA54AF56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97202-DE6B-4D78-9853-4FD5C25F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BF6AE-C3EF-447D-B5A3-23256D6B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0E7E7-9A98-409C-A2E2-88B64F87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41BBA-AF40-42C4-8628-0569401C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7D96F-67FC-4B0F-B87E-86C20DA0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B48B5-1EFC-4421-A94A-6EBAA2B2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A3386-4C1D-4B06-B8BD-445EAD37C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FDE03-A60C-4217-9D7D-AD8E45599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F1E16-E00F-48FE-8727-BBE2B8FA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6BB8-1B07-41D5-BBC7-CBEFD1DB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9E1DE-F04F-4E11-AE3D-65D19B34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B9E64-A337-4F54-ADF1-3EBA038A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6290B-F5B5-4EBE-AE89-1ED1A52E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2B345-D7B5-4CF6-917A-178245EA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108A5-0654-4E16-A704-61B2E6C3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585EE-4DC8-438C-9CAF-2E96D19D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23A1D-897E-4C1F-B7EC-2F0814C4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14D47-9590-4898-91D8-F4050BB8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1572B-9704-4F55-BB03-8BAF2CFD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FB679-CBCD-4438-BCD0-63CCEF266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7DB1-CCA5-4BBC-BC41-0657821B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11B22-50AB-49D3-A753-87F999E45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89403-02C4-486C-B4BC-DCCE8A795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3EB01-0E28-4D0F-A12B-2DAD2B9E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041B5-39F2-46D6-9C00-EA580443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DE066-AE08-4AE3-99E8-BABDF8CC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295A4-F7F9-41FE-90AF-E18BC276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77FFF-BBD3-41B8-A906-BC288416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EF02F-BB1E-4D8F-A226-BA6CAE52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A7ECD-B2B4-4722-8590-E10F3197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26424-DB5F-4CF0-8E1F-1BBE383E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9164-71F0-44EE-994B-140CA617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7988F-2FCA-43D5-86A8-F9CBDB97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B024F-DA9C-4335-B89C-A8BBC570D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7A791-95FD-4723-A0F8-018750A39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254B3-C307-470E-99E6-1A9685054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0B5CD-55E9-4281-A67D-E541FD28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7F6D4-EE75-47A4-AC56-C80FD08D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7CA20-C534-45D4-8C16-C10491AF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8757C-ADF5-4057-A01B-2DB08963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24366-5911-42A2-BD12-ED8AD4F9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5B8FC-6A02-458B-9762-B368569C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EEE9-025F-4084-A7B9-A58F83EA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01B6B-3011-4B8A-9564-2350D985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F34CA-1C45-4902-B98C-D145A178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BA93E-98A4-452C-B320-667E3F3D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C23BE-674D-4165-9712-21F140608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86095-E5F4-404E-985A-386983C49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6810C-528F-4025-BB93-73ACE70E9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4B3F5-D58D-4D90-80B4-FE06CF82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06622-91AA-46B8-923D-683FC989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B40E0-24F7-40BA-878A-57ABE0C2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22012-BA06-4260-A265-DC2EBCF6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F5FC-3648-45F3-9603-4A2BB2FE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E81F6-687B-4E13-85DA-DB70800E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FA5BF-6DA1-4237-B188-395C0620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8A259-C85D-423A-9739-BFD9D134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3D054-27D8-41D7-B21D-EF07574F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4B6FA-BAAC-4C90-B4D9-4BC8BDED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32BF1-70FF-4AED-B0CB-F5A83021A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3F674-C34C-4D56-BCAC-4B36E82B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19E35-0E83-410D-AC96-88302FD1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EDF61-306F-4916-9917-9F09C30A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A683DF-05DB-4E4E-B7A2-33D1DD05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F398-18FE-498E-92BA-066933C0F0B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2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2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828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ftr" idx="29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247D-6841-4AAE-9440-3C29770622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72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73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4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5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6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7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8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9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0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1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2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3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4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5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86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887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8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9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0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1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2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3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4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5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6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7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8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9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0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1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2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3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4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5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6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7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8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9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0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1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2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3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4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5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6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7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9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0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1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2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1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2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3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4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5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6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7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8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9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0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1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2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3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4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5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6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7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8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9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0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1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2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3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4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5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6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7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8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9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0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1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2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3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4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5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6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7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8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9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0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1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2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3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4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5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6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7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8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9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0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1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2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3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4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5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6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7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8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9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0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1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2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3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4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5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6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7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8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9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0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1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2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3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4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5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6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7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8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9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0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1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2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3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4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5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6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7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8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0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1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 type="dt" idx="31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969E-C9CF-45A4-BD38-F496E4A269D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6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065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6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7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06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06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074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75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6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7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078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9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0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1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2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3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84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C6B1-3279-44DE-BC31-13D53DFC46B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128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129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0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31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132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133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134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35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36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137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138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39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40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141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42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43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144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4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4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14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48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49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150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51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52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153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5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55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156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57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58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159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60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61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162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63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64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165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66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67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168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69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70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171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72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73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174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75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76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177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78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79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180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81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82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183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84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85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18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87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88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189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90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91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192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93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94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19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96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97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198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99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1200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01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1202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203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04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05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206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07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08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209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10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11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212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13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14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215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16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17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218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19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20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221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22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23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224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25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26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227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28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29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230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31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32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233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34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grpSp>
            <p:nvGrpSpPr>
              <p:cNvPr id="1235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1236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1237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38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39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40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41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42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43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244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245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1246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7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>
                  <a:gd name="textAreaLeft" fmla="*/ 360 w 2616480"/>
                  <a:gd name="textAreaRight" fmla="*/ 2617200 w 261648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8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>
                  <a:gd name="textAreaLeft" fmla="*/ 360 w 1533600"/>
                  <a:gd name="textAreaRight" fmla="*/ 1534320 w 15336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9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0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1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2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3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4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5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6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7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>
                  <a:gd name="textAreaLeft" fmla="*/ 0 w 1872000"/>
                  <a:gd name="textAreaRight" fmla="*/ 1872360 w 187200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8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9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5BE2-06F9-46AA-A861-7F6B7DD230C4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02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303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4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5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6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7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8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9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0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1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2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3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4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5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6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7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8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9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0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1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2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3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4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5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6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7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8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9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0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1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2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3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34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3EC1-14D8-4F28-BA88-739819891AF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4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8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1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034E-25C5-4662-B6A9-C028A727FAE5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92F0-AB22-4E49-8943-C483F4AF64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72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73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4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5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6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7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8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4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6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87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8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9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0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1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2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7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8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2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3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5282-EDBF-4D83-A76B-EFBB4A1CB27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3D1F-2FF1-4467-8A2E-24BE745D26F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7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8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8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8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8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8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8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9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39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9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0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0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0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0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0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0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0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41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45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5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5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5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5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5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6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46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6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6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6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6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6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6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6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7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7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>
                      <a:gd name="textAreaLeft" fmla="*/ 0 w 890280"/>
                      <a:gd name="textAreaRight" fmla="*/ 89064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7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7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7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7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>
                      <a:gd name="textAreaLeft" fmla="*/ 0 w 425880"/>
                      <a:gd name="textAreaRight" fmla="*/ 426240 w 4258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8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8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>
                      <a:gd name="textAreaLeft" fmla="*/ 0 w 386640"/>
                      <a:gd name="textAreaRight" fmla="*/ 387000 w 3866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8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8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8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8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8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9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9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9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9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9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9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0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0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0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0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0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0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1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51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1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51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1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51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1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52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>
                      <a:gd name="textAreaLeft" fmla="*/ 360 w 292320"/>
                      <a:gd name="textAreaRight" fmla="*/ 293040 w 29232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2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52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>
                      <a:gd name="textAreaLeft" fmla="*/ 0 w 632160"/>
                      <a:gd name="textAreaRight" fmla="*/ 632520 w 6321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2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52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52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2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53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53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>
                      <a:gd name="textAreaLeft" fmla="*/ 0 w 545040"/>
                      <a:gd name="textAreaRight" fmla="*/ 545400 w 54504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3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53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3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53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3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54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>
                      <a:gd name="textAreaLeft" fmla="*/ -360 w 474120"/>
                      <a:gd name="textAreaRight" fmla="*/ 474120 w 4741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4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54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4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54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000"/>
                      <a:gd name="textAreaBottom" fmla="*/ 144360 h 144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>
                      <a:gd name="textAreaLeft" fmla="*/ 360 w 421200"/>
                      <a:gd name="textAreaRight" fmla="*/ 421920 w 42120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4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54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5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55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5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55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>
                      <a:gd name="textAreaLeft" fmla="*/ 0 w 821160"/>
                      <a:gd name="textAreaRight" fmla="*/ 821520 w 8211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>
                      <a:gd name="textAreaLeft" fmla="*/ 0 w 440280"/>
                      <a:gd name="textAreaRight" fmla="*/ 440640 w 4402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5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55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6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6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>
                      <a:gd name="textAreaLeft" fmla="*/ 0 w 737640"/>
                      <a:gd name="textAreaRight" fmla="*/ 738000 w 73764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56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56A6-A746-4366-957B-C6644E95B717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7E34-C88D-465E-86E3-1A1E07B1D46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3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4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5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6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7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8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9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0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3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4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6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7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8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7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8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9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0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1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2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3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2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BAA0-8DB7-440D-99DD-0AA2324285D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44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5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6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47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748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9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0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1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2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3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4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5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6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7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8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9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0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61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0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1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2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73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4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5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6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7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78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9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B1AA-A240-4C75-92BE-47614A9EA8A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Окружающий мир </a:t>
            </a:r>
            <a:br>
              <a:rPr sz="5400"/>
            </a:b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«Солнце – источник света и тепла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программе «Гармония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тель начальных классов Пинтера Ирина Иванов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393" name="Picture 6" descr="pictu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4" name="Picture 6" descr="pictu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5" name="Picture 6" descr="pictu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ывод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лнце это плазменная звезд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лнце предмет неживой природ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но даёт тепло и свет для роста и жизни всего живого на Земл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читается людьми и находит отражение в творчеств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Лучи солнца отражаются и преломляются через предмет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ccffff"/>
                </a:solidFill>
                <a:latin typeface="Arial Black"/>
              </a:rPr>
              <a:t>Спасибо 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ccffff"/>
                </a:solidFill>
                <a:latin typeface="Arial Black"/>
              </a:rPr>
              <a:t>за урок!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8" name="Picture 6" descr="pictu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Уважаемые астронавты, просим вас узнать все сведения о ближайшей к нам звезде – Солнце и прислать свои сообщения на Землю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58800" y="884160"/>
            <a:ext cx="8183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олнце – объект неживой природ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2" name="Picture 9" descr="picture"/>
          <p:cNvPicPr/>
          <p:nvPr/>
        </p:nvPicPr>
        <p:blipFill>
          <a:blip r:embed="rId1"/>
          <a:stretch/>
        </p:blipFill>
        <p:spPr>
          <a:xfrm>
            <a:off x="250920" y="1700280"/>
            <a:ext cx="8893080" cy="4941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/>
          </p:nvPr>
        </p:nvSpPr>
        <p:spPr>
          <a:xfrm>
            <a:off x="1403280" y="404640"/>
            <a:ext cx="640872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СОЛНЦЕ» - центральное тело Солнечной системы, раскалённый плазменный шар, типичная звезда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– карлик спектрального класса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2, масса около  М ¤ ~ 2.103 кг, радиус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¤ = 696т. Км, средняя плотность 1, 416.103 кг/м3, эффективная температура поверхности (фотосферы) около 6000К. Период вращения (сидонический) изменяется от 27 суток на экваторе до 32 суток у полюсов. Химический состав, определённый из анализа солнечного спектра: водород – около 90 %, гелий – 10%, остальные элементы – менее 0,1% (по числу атомов).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Источник солнечной энергии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– ядерные превращения водорода в гелий в центральной области солнца. Температура 15 млн.0С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Picture 7" descr="picture"/>
          <p:cNvPicPr/>
          <p:nvPr/>
        </p:nvPicPr>
        <p:blipFill>
          <a:blip r:embed="rId1"/>
          <a:stretch/>
        </p:blipFill>
        <p:spPr>
          <a:xfrm>
            <a:off x="0" y="0"/>
            <a:ext cx="9144000" cy="4653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385" name="PlaceHolder 1"/>
          <p:cNvSpPr>
            <a:spLocks noGrp="1"/>
          </p:cNvSpPr>
          <p:nvPr>
            <p:ph/>
          </p:nvPr>
        </p:nvSpPr>
        <p:spPr>
          <a:xfrm>
            <a:off x="457200" y="465300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33cc"/>
                </a:solidFill>
                <a:latin typeface="Arial"/>
              </a:rPr>
              <a:t>Солнце согревает и освещает Землю уже миллиарды лет. Благодаря его свету и теплу на земле возникла и продолжает развиваться жизн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Garamond"/>
              </a:rPr>
              <a:t>Славяне почитали Солнце, как божество и называли его ЯРИЛО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387" name="Picture 9" descr="picture"/>
          <p:cNvPicPr/>
          <p:nvPr/>
        </p:nvPicPr>
        <p:blipFill>
          <a:blip r:embed="rId1"/>
          <a:stretch/>
        </p:blipFill>
        <p:spPr>
          <a:xfrm>
            <a:off x="1258920" y="1557360"/>
            <a:ext cx="6553080" cy="5300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33cc"/>
                </a:solidFill>
                <a:latin typeface="Garamond"/>
              </a:rPr>
              <a:t>Заклички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0000"/>
                </a:solidFill>
                <a:latin typeface="Arial"/>
              </a:rPr>
              <a:t>Солнышко, покажись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0000"/>
                </a:solidFill>
                <a:latin typeface="Arial"/>
              </a:rPr>
              <a:t>Красное, снарядись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0000"/>
                </a:solidFill>
                <a:latin typeface="Arial"/>
              </a:rPr>
              <a:t>Чтобы год от го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0000"/>
                </a:solidFill>
                <a:latin typeface="Arial"/>
              </a:rPr>
              <a:t>Давала нам пого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0000"/>
                </a:solidFill>
                <a:latin typeface="Arial"/>
              </a:rPr>
              <a:t>Тёплое летечко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0000"/>
                </a:solidFill>
                <a:latin typeface="Arial"/>
              </a:rPr>
              <a:t>Грибы в берестечко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0000"/>
                </a:solidFill>
                <a:latin typeface="Arial"/>
              </a:rPr>
              <a:t>Ягоды в лукошко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0000"/>
                </a:solidFill>
                <a:latin typeface="Arial"/>
              </a:rPr>
              <a:t>Зелёного горошка.</a:t>
            </a:r>
            <a:r>
              <a:rPr b="0" lang="ru-RU" sz="2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6633"/>
                </a:solidFill>
                <a:latin typeface="Arial"/>
              </a:rPr>
              <a:t>Солнышко, высвети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6633"/>
                </a:solidFill>
                <a:latin typeface="Arial"/>
              </a:rPr>
              <a:t>Красное, выблесни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6633"/>
                </a:solidFill>
                <a:latin typeface="Arial"/>
              </a:rPr>
              <a:t>Мы на нивку идём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6633"/>
                </a:solidFill>
                <a:latin typeface="Arial"/>
              </a:rPr>
              <a:t>Мы серпочки несё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6633"/>
                </a:solidFill>
                <a:latin typeface="Arial"/>
              </a:rPr>
              <a:t>Будем жито жать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6633"/>
                </a:solidFill>
                <a:latin typeface="Arial"/>
              </a:rPr>
              <a:t>Тебя в гости ждать!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1" name="Picture 6" descr="picture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040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8:25:31Z</dcterms:created>
  <dc:creator>Ирина</dc:creator>
  <dc:description/>
  <dc:language>en-US</dc:language>
  <cp:lastModifiedBy>Серый</cp:lastModifiedBy>
  <dcterms:modified xsi:type="dcterms:W3CDTF">2011-09-19T17:55:43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4260000000000010250300207f7000400038000</vt:lpwstr>
  </property>
</Properties>
</file>