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16B-F79B-4AF5-826F-B4485809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F57-2278-44F2-8431-95C67577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616-3065-4DAC-B06B-9A22EBAA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AF9-C525-4132-B9C9-759CD697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F62B-470F-445D-B634-CBB2D733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33D2-58D8-45CE-B3F9-A4A031C9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5C05-BBB2-496C-9D34-7ABAFEF6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B283-5663-4459-A0EA-C6D2BD5E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FD9E-7F73-4705-BD5C-049F0706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8A72-C467-460A-A1A0-A6972AB2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581E-3BAB-4A16-9305-FFE145A2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9C2-6113-4946-AD48-C1C38501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61B9-79EC-4A7D-A183-1FCBD163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A769-825F-4387-9DF4-220C86C4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24EF-3065-43C1-AA98-91AB380F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B51B-4615-40A5-A781-1DB083CD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43CF-B498-4B3F-96E9-98228BED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ECC1-E54E-4F45-A62A-C31277FF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5C47-17CE-41A9-8728-4B487022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F2AC-D814-4ABC-B27A-23E99165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824D-5351-4D3E-B98F-C4D3CA2A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620F-44B5-4BA1-B028-6F56AD35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633-621F-4C0C-80AB-1632B96C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AC16-44F8-4809-AE23-E6DF15FF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65AA-99DC-4753-B66B-1FFDFD91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DDCC4-F4C6-477D-A9AD-107C61EA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8C0E-3C20-4B78-92B0-FD1E8D32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48B6-12CD-4846-AF69-6532CD74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AECCD-838C-4E83-97F6-E189B923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49804-FCCE-4355-82EA-F5BBEE96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0E20D-FF97-43B9-B405-A53A95B0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D8319-C9D7-4C3F-BCDB-E33F1749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365A-243B-4019-B5EA-A45CA82F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9DE-4AF4-4053-B739-AFDFD722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801F-651D-45C6-BDD2-EE322AF7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DDDDA-C006-42AF-BD9A-E798FDA9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D515D-925F-456A-8705-F58FD93A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2EEDB-38FF-4706-887F-9A055F4F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768E-D499-46B8-9A51-26DD1956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DEAD0-6828-4A5D-A5F9-B6041FE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23B2F-1F19-4B61-97B7-0CCE9E59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C6CA-13F9-473A-8887-3F0B4E8B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FBC0-E9C2-4413-BF52-C37AD1FF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63B-A4E0-4DE9-A0C6-00BEA052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617-F4A0-4DF8-A1F3-4EE56C2B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54C-C9AF-4E2A-B0C2-6B5CEE50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4AA-9DA8-42A4-AB61-8225A5A5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36A-C6D1-4FCF-8DDF-816A9DB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0648-1A77-4305-B27D-C343D248F32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EE99-A76E-414A-BB20-4D06073752C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804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78D2-D1CC-4EBD-A223-44290A9C226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68E0-2556-4E73-9E9B-A2E2E1CAFFE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07880" y="1255680"/>
            <a:ext cx="8218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: Ростокин Евгений 10 «А»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Школа № 32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1147680"/>
            <a:ext cx="913608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-12600" y="-25560"/>
            <a:ext cx="91566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4" descr=""/>
          <p:cNvPicPr/>
          <p:nvPr/>
        </p:nvPicPr>
        <p:blipFill>
          <a:blip r:embed="rId1"/>
          <a:stretch/>
        </p:blipFill>
        <p:spPr>
          <a:xfrm>
            <a:off x="469800" y="2998800"/>
            <a:ext cx="83026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рубежная Европа занимает территорию в 5,1 млн. км2 с населением 500 млн. человек (1995 г.). Здесь расположены около 40 суверенных государств, связанных между собой общностью исторических судеб, тесными политическими, экономическими и культурными отношениями. Зарубежная Европа — один из очагов мировой цивилизации, родина Великих географических открытий, промышленных переворотов, городских агломерац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4" descr="64.jpeg"/>
          <p:cNvPicPr/>
          <p:nvPr/>
        </p:nvPicPr>
        <p:blipFill>
          <a:blip r:embed="rId1"/>
          <a:stretch/>
        </p:blipFill>
        <p:spPr>
          <a:xfrm>
            <a:off x="6500880" y="4500720"/>
            <a:ext cx="2324160" cy="19825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75.jpeg"/>
          <p:cNvPicPr/>
          <p:nvPr/>
        </p:nvPicPr>
        <p:blipFill>
          <a:blip r:embed="rId2"/>
          <a:stretch/>
        </p:blipFill>
        <p:spPr>
          <a:xfrm>
            <a:off x="6711840" y="1994040"/>
            <a:ext cx="1951200" cy="2419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56840" y="1934640"/>
            <a:ext cx="59007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рритория зарубежной Европы простирается с севера на юг (от о. Шпицберген до о. Крит) на 5 тыс. км, а с запада на восток более чем на 3 тыс. км. Среди европейских стран есть более и менее крупные, но в большинстве своем они сравнительно невели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5" descr="j0433786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14200" y="57132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северной части распространены как рудные полезные ископаемые, связанные с Балтийским щитом и зоной герцинской складчатости, так и топливные, «привязанные» прежде всего к осадочному чехлу платформы и ее краевым прогибам. Среди каменноугольных бассейнов особенно выделяются Рурский в ФРГ и Верхне-Силезский в Польше, среди нефтегазоносных — Североморский, среди железорудных — Лотарингский во Франции. В южной части преобладают рудные месторождения как магматического, так и осадочного происхождения, но запасы топливных ресурсов здесь значительно меньше. Зарубежная Европа обладает также большими и разнообразными природно-рекреационными ресурса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Население: воспроизводство, миграции, национальный состав, урбанизация.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оследнее время население зарубежной Европы стало возрастать очень медленно. это объясняется тем, что для воспроизводства населения региона характерна сложная демографическая ситуация. В некоторых странах происходит даже естественная убыль населения. Одновременно меняется и возрастной состав населения, растет доля пожилых людей. Все это привело к резкому изменению доли региона в мировой системе внешних миграций населения. Бывшая со времени Великих географических открытий главным очагом эмиграции, зарубежная Европа превратилась в главный мировой очаг трудовой иммиграц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 национальному составу население зарубежной Европы относительно однородно: подавляющее большинство из 62 народов региона относится к индоевропейской языковой семье. При этом родственные языки славянской, романской, германской групп имеют значительные черты сходств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Хозяйств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рубежная Европа, как целостный регион, занимает первое место в мировом хозяйстве по размерам промышленного и сельскохозяйственного производства, по экспорту товаров и услуг, по запасам золота и валюты, по развитию международного туризма. Понятно, что экономическую мощь региона в первую очередь определяют четыре страны, входящие в «большую семерку» стран Запада — ФРГ, Франция, Великобритания и Итал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мышленность: главные отрасли.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гион производит больше металлообрабатывающих станков, промышленных роботов, точных и оптических приборов, автомобилей, тракторов, нефтепродуктов, пластмасс, химических волокон, чем США. Машиностроение— ведущая отрасль промышленности зарубежной Европы, которая является его родиной. На эту отрасль приходится 1/3 всей промышленной продукции региона и 2/3 его экспор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ранспорт: главные магистрали и узлы.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гиональная транспортная система региона относится в основном к западноевропейскому типу. По дальности перевозок она намного уступает системам США и России. Зато по обеспеченности транспортной сетью стоит далеко впереди, занимая первое место в мир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дых и туризм: главный туристский регион ми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рубежная Европа — главный район международного туризма. «Рекордсмен мира» по туризму — Франция, которую ежегодно посещает свыше 50 млн. человек; это значит, что на каждого француза приходится примерно по одному приезжему иностранцу! К числу самых популярных туристских стран принадлежат также Испания, Италия, Швейцария, Австрия, Великобритания, Чехия, Венгрия, Португалия, Греция. А в таких микрогосударствах, как Андорра, Сан-Марино, Монако, обслуживание туристов давно уже служит главным источником доходов. Здесь на каждого жителя приходится по сто туристов. Главный район горного туризма — Альп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5:04:36Z</dcterms:created>
  <dc:creator>дом</dc:creator>
  <dc:description/>
  <dc:language>en-US</dc:language>
  <cp:lastModifiedBy>Владимир</cp:lastModifiedBy>
  <dcterms:modified xsi:type="dcterms:W3CDTF">2011-10-29T08:33:22Z</dcterms:modified>
  <cp:revision>8</cp:revision>
  <dc:subject/>
  <dc:title>Общая характеристика Зарубежной Европ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120000000000010250300207f7000400038000</vt:lpwstr>
  </property>
</Properties>
</file>