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4F6-9516-462C-B61B-F60646B2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7C0-A499-4EDB-B8F8-0A8F2A77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5604-E421-408A-BF60-17C3CF76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EA6-1ECB-43A6-8818-7B3C4342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7DF0-5334-4816-AA14-02E35F00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81B1-77D4-4C89-9830-D3A47D83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23DD-1741-4987-B017-09523727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9F39-A5A1-4F1F-B9E9-F7E396E3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A2E1-83DB-4B10-86E2-BAD7CAD7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3CD8-2A44-41E5-8720-99308D13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B7BB-DDCE-4576-B3FB-472ADCEB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2FF-7C38-43F8-BC1B-1DBC383A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46B0-607B-4C8B-922B-1E58D711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5C63-5533-44A8-9C12-2E22696E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EDC6-5602-4988-9ED3-19A69819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1032-9E6B-4FBE-8CED-15CEEA66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643F-1312-46A9-B72D-05B5F6DC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508FA-28C6-4270-8426-11254B36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DDA34-B409-4A72-88ED-9437D93E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CAA38-3C35-4DD2-A294-37BDCD70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C8DD1-BE3C-4F66-8684-7B988FB9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8D87D-DEDA-4B33-A603-730F9DFB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E6B-22A2-4AC3-A903-1FA6D854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110AE-A846-4027-A571-A6F7FFF6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60824-B1A0-485C-ACDA-56D74CB0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A602D-397C-4D97-8BCA-0999AF6E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14466-E1A5-4146-9367-C642B3BC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BAFBE-A6F4-4070-B383-893023D6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4AB4C-138B-44E7-AE20-87C0B522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17B97-8F60-4ED5-88EA-A325DEA2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7C5E5-80C0-4A73-8B07-1E321ABF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0C86E-8DF4-468D-84CE-FB139FAB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F10EF-AD35-4075-89A3-A4EC772C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E4D-2701-4EB3-BE30-929F8572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A629C-64F3-4CA6-8872-B38F38B1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6C2C9-669E-4169-A0D5-A93AA082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DB09A-C805-4F48-9F43-F9C175BC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BEAFA-750B-4E22-8343-35AE9A64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73ADE-C340-47F6-94C5-FE666C3B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BA55A-2CD7-4E3E-8447-CCAEEAF7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41EDC-2BE8-44A0-A8DA-5C7EB0B5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435B1-B199-4103-8165-19E82E03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BE6A9-483E-4DFB-8248-4752AEDC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F20-37F6-4527-A7F5-2DBC70C1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AA6-ED74-4DD5-BA1B-5CFE49F7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2DF-2186-44A7-BE68-A8815BCE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505-86A6-4A0B-9A75-5452F5C1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066-AE8F-48D9-8B43-07843724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658A-190E-4A58-A0E0-459B727CD14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356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D851-7FBC-4398-BB3A-D8F9B4D3229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4"/>
              <p:cNvSpPr/>
              <p:nvPr/>
            </p:nvSpPr>
            <p:spPr>
              <a:xfrm rot="214356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A982-764D-41F7-9CDA-AEB47F7C346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FF06-C18E-4BF2-8843-81FE611AEC8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07880" y="1255680"/>
            <a:ext cx="82184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321264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полнил: Ростокин Евгений 10 «А» клас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Школа № 32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0" y="1147680"/>
            <a:ext cx="913608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-12600" y="-25560"/>
            <a:ext cx="91566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4" descr=""/>
          <p:cNvPicPr/>
          <p:nvPr/>
        </p:nvPicPr>
        <p:blipFill>
          <a:blip r:embed="rId1"/>
          <a:stretch/>
        </p:blipFill>
        <p:spPr>
          <a:xfrm>
            <a:off x="469800" y="2998800"/>
            <a:ext cx="83026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2876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рубежная Европа занимает территорию в 5,1 млн. км2 с населением 500 млн. человек (1995 г.). Здесь расположены около 40 суверенных государств, связанных между собой общностью исторических судеб, тесными политическими, экономическими и культурными отношениями. Зарубежная Европа — один из очагов мировой цивилизации, родина Великих географических открытий, промышленных переворотов, городских агломераци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4" descr="64.jpeg"/>
          <p:cNvPicPr/>
          <p:nvPr/>
        </p:nvPicPr>
        <p:blipFill>
          <a:blip r:embed="rId1"/>
          <a:stretch/>
        </p:blipFill>
        <p:spPr>
          <a:xfrm>
            <a:off x="6500880" y="4500720"/>
            <a:ext cx="2324160" cy="19825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5" descr="75.jpeg"/>
          <p:cNvPicPr/>
          <p:nvPr/>
        </p:nvPicPr>
        <p:blipFill>
          <a:blip r:embed="rId2"/>
          <a:stretch/>
        </p:blipFill>
        <p:spPr>
          <a:xfrm>
            <a:off x="6711840" y="1994040"/>
            <a:ext cx="1951200" cy="2419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456840" y="1934640"/>
            <a:ext cx="59007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рритория зарубежной Европы простирается с севера на юг (от о. Шпицберген до о. Крит) на 5 тыс. км, а с запада на восток более чем на 3 тыс. км. Среди европейских стран есть более и менее крупные, но в большинстве своем они сравнительно невелик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5" descr="j0433786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214200" y="57132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северной части распространены как рудные полезные ископаемые, связанные с Балтийским щитом и зоной герцинской складчатости, так и топливные, «привязанные» прежде всего к осадочному чехлу платформы и ее краевым прогибам. Среди каменноугольных бассейнов особенно выделяются Рурский в ФРГ и Верхне-Силезский в Польше, среди нефтегазоносных — Североморский, среди железорудных — Лотарингский во Франции. В южной части преобладают рудные месторождения как магматического, так и осадочного происхождения, но запасы топливных ресурсов здесь значительно меньше. Зарубежная Европа обладает также большими и разнообразными природно-рекреационными ресурса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Население: воспроизводство, миграции, национальный состав, урбанизация.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оследнее время население зарубежной Европы стало возрастать очень медленно. это объясняется тем, что для воспроизводства населения региона характерна сложная демографическая ситуация. В некоторых странах происходит даже естественная убыль населения. Одновременно меняется и возрастной состав населения, растет доля пожилых людей. Все это привело к резкому изменению доли региона в мировой системе внешних миграций населения. Бывшая со времени Великих географических открытий главным очагом эмиграции, зарубежная Европа превратилась в главный мировой очаг трудовой иммиграц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 национальному составу население зарубежной Европы относительно однородно: подавляющее большинство из 62 народов региона относится к индоевропейской языковой семье. При этом родственные языки славянской, романской, германской групп имеют значительные черты сход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Хозяйств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рубежная Европа, как целостный регион, занимает первое место в мировом хозяйстве по размерам промышленного и сельскохозяйственного производства, по экспорту товаров и услуг, по запасам золота и валюты, по развитию международного туризма. Понятно, что экономическую мощь региона в первую очередь определяют четыре страны, входящие в «большую семерку» стран Запада — ФРГ, Франция, Великобритания и Итал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мышленность: главные отрасли.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гион производит больше металлообрабатывающих станков, промышленных роботов, точных и оптических приборов, автомобилей, тракторов, нефтепродуктов, пластмасс, химических волокон, чем США. Машиностроение— ведущая отрасль промышленности зарубежной Европы, которая является его родиной. На эту отрасль приходится 1/3 всей промышленной продукции региона и 2/3 его экспор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Транспорт: главные магистрали и узлы.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гиональная транспортная система региона относится в основном к западноевропейскому типу. По дальности перевозок она намного уступает системам США и России. Зато по обеспеченности транспортной сетью стоит далеко впереди, занимая первое место в мир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дых и туризм: главный туристский регион мир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рубежная Европа — главный район международного туризма. «Рекордсмен мира» по туризму — Франция, которую ежегодно посещает свыше 50 млн. человек; это значит, что на каждого француза приходится примерно по одному приезжему иностранцу! К числу самых популярных туристских стран принадлежат также Испания, Италия, Швейцария, Австрия, Великобритания, Чехия, Венгрия, Португалия, Греция. А в таких микрогосударствах, как Андорра, Сан-Марино, Монако, обслуживание туристов давно уже служит главным источником доходов. Здесь на каждого жителя приходится по сто туристов. Главный район горного туризма — Альп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5:04:36Z</dcterms:created>
  <dc:creator>дом</dc:creator>
  <dc:description/>
  <dc:language>en-US</dc:language>
  <cp:lastModifiedBy>Владимир</cp:lastModifiedBy>
  <dcterms:modified xsi:type="dcterms:W3CDTF">2011-10-29T08:33:22Z</dcterms:modified>
  <cp:revision>8</cp:revision>
  <dc:subject/>
  <dc:title>Общая характеристика Зарубежной Европ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120000000000010250300207f7000400038000</vt:lpwstr>
  </property>
</Properties>
</file>