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F6E-7C29-429B-9809-9B4D0CEE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725-14FA-4148-8F15-B3AF3B9D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B26-3C02-466C-85AC-8FF888B9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9AF-2B17-4E56-B430-5975FBCC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1BDC-1A82-4E8E-8851-EBCC5D84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FB1-5942-4638-BB5F-508BACF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6842-D0CB-48CF-A8EA-0455CF2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6776-A509-429D-8D8F-24C6784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01D-E494-41E3-9384-57FB57E4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C124-4796-4956-9A92-DC94B925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FB4-E511-4D6D-81A0-43145983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BE3-1760-4A92-AFA8-29FACC6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C9E-74AC-486E-A2B8-B807469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324-2604-4AA8-A910-351E351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ADC0-3636-43E4-A22E-F90163C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69B-4A0A-4179-B0E5-5F2EE5B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717-331C-48AC-9CF7-B26FDB4E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07EF-1794-4EB0-9A04-A0BB22DB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88D3-A782-4AD6-A4B2-2CA62A96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C040-C3DC-4845-963D-DA329DA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0FD3-9149-4DC2-9926-81E4B9A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9454-C436-4F54-850D-2DCBF51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C62-FF79-42FC-87E0-1CD3603C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BEEC-263D-4AAE-B3EC-20F3602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4CEA-9CBE-4191-ADC0-973304E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CA97-EB0D-4FC1-AE12-4947FFC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7AA5-BD98-46D8-8D61-07C1DF72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FBA3-CCBA-41D7-8C1A-1BD1FF6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73BB-0C15-4E24-8226-80A1A400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1F06-6D0D-4842-9D27-03BBDCF3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2E01-C7E8-4D85-A698-1F0666DC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B711-5066-4278-BC70-E083F8A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0F9E-ABD6-4651-BD7F-6B9F76B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854-0BFC-4F94-9366-485D1676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12BD-D864-4CB3-ACFA-C5655BE9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FD38-2B68-4BE0-BCC3-C20252C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B416-8366-4420-9C8C-B926328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4FC9-F3DD-451A-9FBF-378BF28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2694-429E-41B6-A2B3-10F9D95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76CA-842E-4C83-A2CA-FADE49A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E842-F243-4BDE-9FB4-8115545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9545-768F-4CDD-A302-A189D97F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254F-8B82-417B-B8D9-2A9949CF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3B1-CD4F-4D94-AD73-B21724E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5ED-4A26-4942-9A6E-54FBE8FE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770-9431-4AF2-8B07-8EB934B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B47-F6A0-4C54-A65A-517B71D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ABB-7265-48F3-861B-AA80AC39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5B0-3114-479C-9F07-539D12E41D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CAB-2E02-4ADF-8E33-4C827753851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03CA-CA9A-40AD-92C8-3D4D612E66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D77D-F396-45DA-A2E7-AF27BA214C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218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: Ростокин Евгений 10 «А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Школа № 3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1147680"/>
            <a:ext cx="91360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-12600" y="-25560"/>
            <a:ext cx="9156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4" descr=""/>
          <p:cNvPicPr/>
          <p:nvPr/>
        </p:nvPicPr>
        <p:blipFill>
          <a:blip r:embed="rId1"/>
          <a:stretch/>
        </p:blipFill>
        <p:spPr>
          <a:xfrm>
            <a:off x="469800" y="2998800"/>
            <a:ext cx="8302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 занимает территорию в 5,1 млн. км2 с населением 500 млн. человек (1995 г.). Здесь расположены около 40 суверенных государств, связанных между собой общностью исторических судеб, тесными политическими, экономическими и культурными отношениями. Зарубежная Европа — один из очагов мировой цивилизации, родина Великих географических открытий, промышленных переворотов, городских агломерац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4" descr="64.jpeg"/>
          <p:cNvPicPr/>
          <p:nvPr/>
        </p:nvPicPr>
        <p:blipFill>
          <a:blip r:embed="rId1"/>
          <a:stretch/>
        </p:blipFill>
        <p:spPr>
          <a:xfrm>
            <a:off x="6500880" y="4500720"/>
            <a:ext cx="2324160" cy="19825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75.jpeg"/>
          <p:cNvPicPr/>
          <p:nvPr/>
        </p:nvPicPr>
        <p:blipFill>
          <a:blip r:embed="rId2"/>
          <a:stretch/>
        </p:blipFill>
        <p:spPr>
          <a:xfrm>
            <a:off x="6711840" y="1994040"/>
            <a:ext cx="1951200" cy="241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6840" y="1934640"/>
            <a:ext cx="5900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рритория зарубежной Европы простирается с севера на юг (от о. Шпицберген до о. Крит) на 5 тыс. км, а с запада на восток более чем на 3 тыс. км. Среди европейских стран есть более и менее крупные, но в большинстве своем они сравнительно невели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5" descr="j0433786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4200" y="5713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еверной части распространены как рудные полезные ископаемые, связанные с Балтийским щитом и зоной герцинской складчатости, так и топливные, «привязанные» прежде всего к осадочному чехлу платформы и ее краевым прогибам. Среди каменноугольных бассейнов особенно выделяются Рурский в ФРГ и Верхне-Силезский в Польше, среди нефтегазоносных — Североморский, среди железорудных — Лотарингский во Франции. В южной части преобладают рудные месторождения как магматического, так и осадочного происхождения, но запасы топливных ресурсов здесь значительно меньше. Зарубежная Европа обладает также большими и разнообразными природно-рекреационными ресурс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селение: воспроизводство, миграции, национальный состав, урбанизация.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оследнее время население зарубежной Европы стало возрастать очень медленно. это объясняется тем, что для воспроизводства населения региона характерна сложная демографическая ситуация. В некоторых странах происходит даже естественная убыль населения. Одновременно меняется и возрастной состав населения, растет доля пожилых людей. Все это привело к резкому изменению доли региона в мировой системе внешних миграций населения. Бывшая со времени Великих географических открытий главным очагом эмиграции, зарубежная Европа превратилась в главный мировой очаг трудовой иммигра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национальному составу население зарубежной Европы относительно однородно: подавляющее большинство из 62 народов региона относится к индоевропейской языковой семье. При этом родственные языки славянской, романской, германской групп имеют значительные черты сход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озяй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, как целостный регион, занимает первое место в мировом хозяйстве по размерам промышленного и сельскохозяйственного производства, по экспорту товаров и услуг, по запасам золота и валюты, по развитию международного туризма. Понятно, что экономическую мощь региона в первую очередь определяют четыре страны, входящие в «большую семерку» стран Запада — ФРГ, Франция, Великобритания и Итал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мышленность: главные отрасли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 производит больше металлообрабатывающих станков, промышленных роботов, точных и оптических приборов, автомобилей, тракторов, нефтепродуктов, пластмасс, химических волокон, чем США. Машиностроение— ведущая отрасль промышленности зарубежной Европы, которая является его родиной. На эту отрасль приходится 1/3 всей промышленной продукции региона и 2/3 его экспор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анспорт: главные магистрали и узлы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альная транспортная система региона относится в основном к западноевропейскому типу. По дальности перевозок она намного уступает системам США и России. Зато по обеспеченности транспортной сетью стоит далеко впереди, занимая первое место в ми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дых и туризм: главный туристский регион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рубежная Европа — главный район международного туризма. «Рекордсмен мира» по туризму — Франция, которую ежегодно посещает свыше 50 млн. человек; это значит, что на каждого француза приходится примерно по одному приезжему иностранцу! К числу самых популярных туристских стран принадлежат также Испания, Италия, Швейцария, Австрия, Великобритания, Чехия, Венгрия, Португалия, Греция. А в таких микрогосударствах, как Андорра, Сан-Марино, Монако, обслуживание туристов давно уже служит главным источником доходов. Здесь на каждого жителя приходится по сто туристов. Главный район горного туризма — Альп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5:04:36Z</dcterms:created>
  <dc:creator>дом</dc:creator>
  <dc:description/>
  <dc:language>en-US</dc:language>
  <cp:lastModifiedBy>Владимир</cp:lastModifiedBy>
  <dcterms:modified xsi:type="dcterms:W3CDTF">2011-10-29T08:33:22Z</dcterms:modified>
  <cp:revision>8</cp:revision>
  <dc:subject/>
  <dc:title>Общая характеристика Зарубежной Европ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120000000000010250300207f7000400038000</vt:lpwstr>
  </property>
</Properties>
</file>