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4.png" ContentType="image/png"/>
  <Override PartName="/ppt/media/image9.gif" ContentType="image/gif"/>
  <Override PartName="/ppt/media/image17.png" ContentType="image/png"/>
  <Override PartName="/ppt/media/image4.jpeg" ContentType="image/jpeg"/>
  <Override PartName="/ppt/media/image8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277B-DC90-4767-990B-3E57B0491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A8E9-B2C3-4158-86F2-9B70581EDD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53E-0034-4B42-A51C-EC3D13E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26F-7E0C-4F0A-BF7A-3A98AC9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054-7454-4C9D-BC80-C0D772DF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359-B416-48D4-A30A-66E10D25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38EF-151F-4445-932D-2A196E3F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B92-BBD9-4641-A61D-3676552D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F8B4-D839-4953-A196-706E31D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AF3-7CDA-412F-B71C-0645A90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A8DC-42EB-4B5D-9AA9-D7B1BE86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835D-85BB-4A13-B161-81AEB3E4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2D23-FA51-4C79-8694-59F7154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1F5-3D33-4582-B43A-76CFD6E6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298-DFEF-4149-A127-31323B0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BF5E-18C1-4706-B0A5-55F81A6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2C2-3F9A-4BA8-B01B-B9B228E5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49A-FAA0-4DB3-8A51-8CAD4892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48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560" y="41439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0052-26E7-44F0-86A8-C799372E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E87-FEAA-4EAB-A83E-6691BF9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C01-A296-4172-810B-4A10C45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342-0A9F-424A-9D6C-60FC323E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6960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F10-BC7C-4534-B6CA-E2498491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A57-5CC0-4254-90E2-04C279F3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8200" y="41439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36D-73AF-4984-959B-29FF9362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43960"/>
            <a:ext cx="7696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031-75A3-4DE1-A285-E3E95E45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8AC-8E3F-4038-8751-AB12B18DA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B450-0974-4DEC-B1F2-1355F57690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0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91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18900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Аграрные отношения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142920" y="1428840"/>
            <a:ext cx="8786880" cy="1800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</a:rPr>
              <a:t>- это земельные отношения в деревне, формы землевладения и землепользования, характер действующих в этой отрасли социально-экономических зако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6932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и окружающая сред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85840" y="1500120"/>
            <a:ext cx="8715240" cy="52776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По мере увеличения удобрений на 1 га пашни урожайность сначала растет очень быстро, но после достижения определенного предела этот рост прекращ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1/3 попадающих на поля удобрений смывается талыми и дождевыми водами в водоемы и водотоки, при этом азотные удобрения разлагают органическое вещество гумуса и истощают почвы; избыток нитратов и фосфатов приводит к снижению качества продуктов питания людей, способствуя распространению малокровия и канцерогенных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</a:rPr>
              <a:t>В водоемах химические удобрения вызывают процесс переобогащения их питательными веществами, которые ассимилируются водными растениями, ухудшая качество воды (потеря кислорода и насыщение сероводородом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ассовое применение ядохимикатов – инсектицидов, пестицидов, гербицидов, дефолиантов опасно в силу косвенного воздействия на живые организмы, т. к. обладают способностью  накапливаться в организме по мере продвижения по пищевой цепи, вызывая нежелательные побочные эффекты и даже генетические наруш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800" y="1071720"/>
            <a:ext cx="5929200" cy="47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ff33"/>
                </a:solidFill>
                <a:latin typeface="Tahoma"/>
              </a:rPr>
              <a:t>Сельское хозяйство – 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вторая ведущая отрасль материального производства</a:t>
            </a:r>
            <a:endParaRPr b="0" lang="en-US" sz="4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Значение отрасли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71960" y="1500120"/>
            <a:ext cx="4929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33"/>
                </a:solidFill>
                <a:latin typeface="Tahoma"/>
              </a:rPr>
              <a:t>Обеспечивает население земного шара продуктами питания, способствует сохранению жизненных сил человека, который непосредственно участвует в создании материальных бла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D:\КАРТИНКИ\Коллекция картинок 5\j0198175.wmf"/>
          <p:cNvPicPr/>
          <p:nvPr/>
        </p:nvPicPr>
        <p:blipFill>
          <a:blip r:embed="rId2"/>
          <a:stretch/>
        </p:blipFill>
        <p:spPr>
          <a:xfrm>
            <a:off x="214200" y="2000160"/>
            <a:ext cx="381024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Картосхема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9" name="Picture 3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285840" y="1500120"/>
            <a:ext cx="8643960" cy="5214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Цифры и факты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1428840"/>
            <a:ext cx="4857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Во всем мире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отрасли занято около 1,3 млрд. челове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Крупнейшие производители с/х продукции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итай – более 11 % мировой продукции; США – около 10 %; Индия – 7 %; Бразилия – 6 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ahoma"/>
              </a:rPr>
              <a:t>По производству аграрной продукции на душу населения лидируют: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реция, Швейцария, Дания, Финляндия, Норве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D:\КАРТИНКИ\Коллекция картинок4\j0284040.gif"/>
          <p:cNvPicPr/>
          <p:nvPr/>
        </p:nvPicPr>
        <p:blipFill>
          <a:blip r:embed="rId2"/>
          <a:stretch/>
        </p:blipFill>
        <p:spPr>
          <a:xfrm>
            <a:off x="6357960" y="4143240"/>
            <a:ext cx="251784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КАРТИНКИ\Коллекция картинок4\j0284026.gif"/>
          <p:cNvPicPr/>
          <p:nvPr/>
        </p:nvPicPr>
        <p:blipFill>
          <a:blip r:embed="rId3"/>
          <a:stretch/>
        </p:blipFill>
        <p:spPr>
          <a:xfrm>
            <a:off x="5500800" y="1571760"/>
            <a:ext cx="2395440" cy="235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05" name="Схема 3" descr=""/>
          <p:cNvPicPr/>
          <p:nvPr/>
        </p:nvPicPr>
        <p:blipFill>
          <a:blip r:embed="rId2"/>
          <a:stretch/>
        </p:blipFill>
        <p:spPr>
          <a:xfrm>
            <a:off x="152280" y="1663560"/>
            <a:ext cx="8839440" cy="507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КАРТИНКИ\Коллекция картинок4\j0285249.gif"/>
          <p:cNvPicPr/>
          <p:nvPr/>
        </p:nvPicPr>
        <p:blipFill>
          <a:blip r:embed="rId3"/>
          <a:stretch/>
        </p:blipFill>
        <p:spPr>
          <a:xfrm>
            <a:off x="7500960" y="1428840"/>
            <a:ext cx="1488960" cy="114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4" descr="D:\КАРТИНКИ\Коллекция картинок4\j0283930.gif"/>
          <p:cNvPicPr/>
          <p:nvPr/>
        </p:nvPicPr>
        <p:blipFill>
          <a:blip r:embed="rId4"/>
          <a:stretch/>
        </p:blipFill>
        <p:spPr>
          <a:xfrm>
            <a:off x="0" y="3500280"/>
            <a:ext cx="1800360" cy="113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АРТИНКИ\Коллекция картинок4\j0186322.wmf"/>
          <p:cNvPicPr/>
          <p:nvPr/>
        </p:nvPicPr>
        <p:blipFill>
          <a:blip r:embed="rId5"/>
          <a:stretch/>
        </p:blipFill>
        <p:spPr>
          <a:xfrm>
            <a:off x="7242120" y="5429160"/>
            <a:ext cx="1716120" cy="123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Основные типы сельского хозяйства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0" name="Схема 3" descr=""/>
          <p:cNvPicPr/>
          <p:nvPr/>
        </p:nvPicPr>
        <p:blipFill>
          <a:blip r:embed="rId2"/>
          <a:stretch/>
        </p:blipFill>
        <p:spPr>
          <a:xfrm>
            <a:off x="-60480" y="1536840"/>
            <a:ext cx="8936280" cy="41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КАРТИНКИ\Коллекция картинок4\j0285582.wmf"/>
          <p:cNvPicPr/>
          <p:nvPr/>
        </p:nvPicPr>
        <p:blipFill>
          <a:blip r:embed="rId3"/>
          <a:stretch/>
        </p:blipFill>
        <p:spPr>
          <a:xfrm>
            <a:off x="3429000" y="5043600"/>
            <a:ext cx="1808280" cy="1814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6"/>
          <p:cNvSpPr/>
          <p:nvPr/>
        </p:nvSpPr>
        <p:spPr>
          <a:xfrm>
            <a:off x="214200" y="5143680"/>
            <a:ext cx="8715600" cy="1557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гробизнес</a:t>
            </a:r>
            <a:r>
              <a:rPr b="0" lang="ru-RU" sz="2400" spc="-1" strike="noStrike">
                <a:solidFill>
                  <a:srgbClr val="191919"/>
                </a:solidFill>
                <a:latin typeface="Times New Roman"/>
              </a:rPr>
              <a:t> включает производство сельскохозяйственной продукции и ее  переработку, хранение, перевозку и сбыт, а также выпуск техники, удобрений, т. е. придает сельскому хозяйству индустриальный 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696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Сельское хозяйство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и НТР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114" name="Схема 6" descr=""/>
          <p:cNvPicPr/>
          <p:nvPr/>
        </p:nvPicPr>
        <p:blipFill>
          <a:blip r:embed="rId2"/>
          <a:stretch/>
        </p:blipFill>
        <p:spPr>
          <a:xfrm>
            <a:off x="-55440" y="1420920"/>
            <a:ext cx="9040680" cy="530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ahoma"/>
              </a:rPr>
              <a:t>«Зеленая революция»</a:t>
            </a:r>
            <a:endParaRPr b="0" lang="en-US" sz="4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214200" y="1576800"/>
            <a:ext cx="8786880" cy="13737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это преобразование сельского хозяйства на основе современной агротехники. Она представляет собой одну из форм проявления НТ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хема 4" descr=""/>
          <p:cNvPicPr/>
          <p:nvPr/>
        </p:nvPicPr>
        <p:blipFill>
          <a:blip r:embed="rId2"/>
          <a:stretch/>
        </p:blipFill>
        <p:spPr>
          <a:xfrm>
            <a:off x="152280" y="3395520"/>
            <a:ext cx="8832960" cy="303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2:52:20Z</dcterms:created>
  <dc:creator>starostina</dc:creator>
  <dc:description/>
  <cp:keywords/>
  <dc:language>en-US</dc:language>
  <cp:lastModifiedBy>starostina</cp:lastModifiedBy>
  <dcterms:modified xsi:type="dcterms:W3CDTF">2010-05-06T06:29:17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0000000000001024140</vt:lpwstr>
  </property>
  <property fmtid="{D5CDD505-2E9C-101B-9397-08002B2CF9AE}" pid="3" name="_TemplateID">
    <vt:lpwstr>TC011408091049</vt:lpwstr>
  </property>
</Properties>
</file>