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gif" ContentType="image/gif"/>
  <Override PartName="/ppt/media/image14.png" ContentType="image/png"/>
  <Override PartName="/ppt/media/image9.gif" ContentType="image/gif"/>
  <Override PartName="/ppt/media/image17.png" ContentType="image/png"/>
  <Override PartName="/ppt/media/image4.jpeg" ContentType="image/jpeg"/>
  <Override PartName="/ppt/media/image8.gif" ContentType="image/gi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1296-D95B-4B34-A089-44B58CE2D8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2A99-8FD8-4400-8931-7BDF153EC2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DD2-2E15-4A8E-9125-6E144F6C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C773-C012-441B-B8F4-9116C2C5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7DE-EBEA-405A-9ACC-4BD5235E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099-11AC-401F-9AC5-70BC639C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739B-4EF5-4F2A-9202-E3477DDA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75A3-8FC3-4A36-946D-1A551692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2457-5871-4133-94AC-D2247E77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02FE-779E-436F-B840-3983C69F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35FC-4D8E-4F63-92ED-1092E33F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01CB-AE9A-4E97-B47C-005F5238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4984-A210-4752-B2DB-8CFFDEAD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451-8C79-4777-B888-275A1319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0597-28F2-47C6-8134-26F80721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0F8D-C23C-4336-8E03-5F998F92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51A4-0051-4D55-892B-8FEADD89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0611-2AC4-4382-B8C2-D52AC101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D2A7-421D-497F-BF1D-81E4D5F3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3A5-E7F2-48FA-BC06-F6CF70C4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A16-17F4-4EF0-A35D-F7CB78BF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E48-BDC6-47DB-A4EF-3E7D5096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B0D-E436-4BF1-B508-58E25157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EE6-A989-488C-A3F3-841AB7E2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38F-58F9-4333-8CC8-3E63DC6F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0593-6338-4D10-A173-024B3979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748F-C2CE-496E-B2A9-4E3F65DB54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A7B5-92BE-4FD2-88F8-CE269B9244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0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sp>
        <p:nvSpPr>
          <p:cNvPr id="91" name="Rectangle 3"/>
          <p:cNvSpPr/>
          <p:nvPr/>
        </p:nvSpPr>
        <p:spPr>
          <a:xfrm>
            <a:off x="2627280" y="5167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18900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99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99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Аграрные отношения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142920" y="1428840"/>
            <a:ext cx="8786880" cy="1800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Times New Roman"/>
              </a:rPr>
              <a:t>- это земельные отношения в деревне, формы землевладения и землепользования, характер действующих в этой отрасли социально-экономических закон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Схема 4" descr=""/>
          <p:cNvPicPr/>
          <p:nvPr/>
        </p:nvPicPr>
        <p:blipFill>
          <a:blip r:embed="rId2"/>
          <a:stretch/>
        </p:blipFill>
        <p:spPr>
          <a:xfrm>
            <a:off x="152280" y="3395520"/>
            <a:ext cx="8869320" cy="332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696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Сельское хозяйство и окружающая среда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85840" y="1500120"/>
            <a:ext cx="8715240" cy="52776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По мере увеличения удобрений на 1 га пашни урожайность сначала растет очень быстро, но после достижения определенного предела этот рост прекращает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1/3 попадающих на поля удобрений смывается талыми и дождевыми водами в водоемы и водотоки, при этом азотные удобрения разлагают органическое вещество гумуса и истощают почвы; избыток нитратов и фосфатов приводит к снижению качества продуктов питания людей, способствуя распространению малокровия и канцерогенных заболева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В водоемах химические удобрения вызывают процесс переобогащения их питательными веществами, которые ассимилируются водными растениями, ухудшая качество воды (потеря кислорода и насыщение сероводородом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ассовое применение ядохимикатов – инсектицидов, пестицидов, гербицидов, дефолиантов опасно в силу косвенного воздействия на живые организмы, т. к. обладают способностью  накапливаться в организме по мере продвижения по пищевой цепи, вызывая нежелательные побочные эффекты и даже генетические наруш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14800" y="1071720"/>
            <a:ext cx="5929200" cy="47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33"/>
                </a:solidFill>
                <a:latin typeface="Tahoma"/>
              </a:rPr>
              <a:t>Сельское хозяйство – </a:t>
            </a: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вторая ведущая отрасль материального производства</a:t>
            </a:r>
            <a:endParaRPr b="0" lang="en-US" sz="4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Значение отрасли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071960" y="1500120"/>
            <a:ext cx="49291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33"/>
                </a:solidFill>
                <a:latin typeface="Tahoma"/>
              </a:rPr>
              <a:t>Обеспечивает население земного шара продуктами питания, способствует сохранению жизненных сил человека, который непосредственно участвует в создании материальных бла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2" descr="D:\КАРТИНКИ\Коллекция картинок 5\j0198175.wmf"/>
          <p:cNvPicPr/>
          <p:nvPr/>
        </p:nvPicPr>
        <p:blipFill>
          <a:blip r:embed="rId2"/>
          <a:stretch/>
        </p:blipFill>
        <p:spPr>
          <a:xfrm>
            <a:off x="214200" y="2000160"/>
            <a:ext cx="3810240" cy="421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696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Картосхема сельского хозяйства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9" name="Picture 3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285840" y="1500120"/>
            <a:ext cx="8643960" cy="5214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Цифры и факты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2920" y="1428840"/>
            <a:ext cx="4857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ahoma"/>
              </a:rPr>
              <a:t>Во всем мире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 отрасли занято около 1,3 млрд. челове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ahoma"/>
              </a:rPr>
              <a:t>Крупнейшие производители с/х продукции: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итай – более 11 % мировой продукции; США – около 10 %; Индия – 7 %; Бразилия – 6 %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ahoma"/>
              </a:rPr>
              <a:t>По производству аграрной продукции на душу населения лидируют: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Греция, Швейцария, Дания, Финляндия, Норвег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D:\КАРТИНКИ\Коллекция картинок4\j0284040.gif"/>
          <p:cNvPicPr/>
          <p:nvPr/>
        </p:nvPicPr>
        <p:blipFill>
          <a:blip r:embed="rId2"/>
          <a:stretch/>
        </p:blipFill>
        <p:spPr>
          <a:xfrm>
            <a:off x="6357960" y="4143240"/>
            <a:ext cx="2517840" cy="242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:\КАРТИНКИ\Коллекция картинок4\j0284026.gif"/>
          <p:cNvPicPr/>
          <p:nvPr/>
        </p:nvPicPr>
        <p:blipFill>
          <a:blip r:embed="rId3"/>
          <a:stretch/>
        </p:blipFill>
        <p:spPr>
          <a:xfrm>
            <a:off x="5500800" y="1571760"/>
            <a:ext cx="2395440" cy="235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6960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Основные типы сельского хозяйства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05" name="Схема 3" descr=""/>
          <p:cNvPicPr/>
          <p:nvPr/>
        </p:nvPicPr>
        <p:blipFill>
          <a:blip r:embed="rId2"/>
          <a:stretch/>
        </p:blipFill>
        <p:spPr>
          <a:xfrm>
            <a:off x="152280" y="1663560"/>
            <a:ext cx="8839440" cy="5072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D:\КАРТИНКИ\Коллекция картинок4\j0285249.gif"/>
          <p:cNvPicPr/>
          <p:nvPr/>
        </p:nvPicPr>
        <p:blipFill>
          <a:blip r:embed="rId3"/>
          <a:stretch/>
        </p:blipFill>
        <p:spPr>
          <a:xfrm>
            <a:off x="7500960" y="1428840"/>
            <a:ext cx="1488960" cy="114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4" descr="D:\КАРТИНКИ\Коллекция картинок4\j0283930.gif"/>
          <p:cNvPicPr/>
          <p:nvPr/>
        </p:nvPicPr>
        <p:blipFill>
          <a:blip r:embed="rId4"/>
          <a:stretch/>
        </p:blipFill>
        <p:spPr>
          <a:xfrm>
            <a:off x="0" y="3500280"/>
            <a:ext cx="1800360" cy="1132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:\КАРТИНКИ\Коллекция картинок4\j0186322.wmf"/>
          <p:cNvPicPr/>
          <p:nvPr/>
        </p:nvPicPr>
        <p:blipFill>
          <a:blip r:embed="rId5"/>
          <a:stretch/>
        </p:blipFill>
        <p:spPr>
          <a:xfrm>
            <a:off x="7242120" y="5429160"/>
            <a:ext cx="1716120" cy="1236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Основные типы сельского хозяйства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10" name="Схема 3" descr=""/>
          <p:cNvPicPr/>
          <p:nvPr/>
        </p:nvPicPr>
        <p:blipFill>
          <a:blip r:embed="rId2"/>
          <a:stretch/>
        </p:blipFill>
        <p:spPr>
          <a:xfrm>
            <a:off x="-60480" y="1536840"/>
            <a:ext cx="8936280" cy="417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D:\КАРТИНКИ\Коллекция картинок4\j0285582.wmf"/>
          <p:cNvPicPr/>
          <p:nvPr/>
        </p:nvPicPr>
        <p:blipFill>
          <a:blip r:embed="rId3"/>
          <a:stretch/>
        </p:blipFill>
        <p:spPr>
          <a:xfrm>
            <a:off x="3429000" y="5043600"/>
            <a:ext cx="1808280" cy="18144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6"/>
          <p:cNvSpPr/>
          <p:nvPr/>
        </p:nvSpPr>
        <p:spPr>
          <a:xfrm>
            <a:off x="214200" y="5143680"/>
            <a:ext cx="8715600" cy="15570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гробизнес</a:t>
            </a: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 включает производство сельскохозяйственной продукции и ее  переработку, хранение, перевозку и сбыт, а также выпуск техники, удобрений, т. е. придает сельскому хозяйству индустриальный характ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6960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Сельское хозяйство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и НТР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14" name="Схема 6" descr=""/>
          <p:cNvPicPr/>
          <p:nvPr/>
        </p:nvPicPr>
        <p:blipFill>
          <a:blip r:embed="rId2"/>
          <a:stretch/>
        </p:blipFill>
        <p:spPr>
          <a:xfrm>
            <a:off x="-55440" y="1420920"/>
            <a:ext cx="9040680" cy="5303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«Зеленая революция»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214200" y="1576800"/>
            <a:ext cx="8786880" cy="137376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 это преобразование сельского хозяйства на основе современной агротехники. Она представляет собой одну из форм проявления НТР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хема 4" descr=""/>
          <p:cNvPicPr/>
          <p:nvPr/>
        </p:nvPicPr>
        <p:blipFill>
          <a:blip r:embed="rId2"/>
          <a:stretch/>
        </p:blipFill>
        <p:spPr>
          <a:xfrm>
            <a:off x="152280" y="3395520"/>
            <a:ext cx="8832960" cy="3035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2:52:20Z</dcterms:created>
  <dc:creator>starostina</dc:creator>
  <dc:description/>
  <cp:keywords/>
  <dc:language>en-US</dc:language>
  <cp:lastModifiedBy>starostina</cp:lastModifiedBy>
  <dcterms:modified xsi:type="dcterms:W3CDTF">2010-05-06T06:29:17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10000000000001024140</vt:lpwstr>
  </property>
  <property fmtid="{D5CDD505-2E9C-101B-9397-08002B2CF9AE}" pid="3" name="_TemplateID">
    <vt:lpwstr>TC011408091049</vt:lpwstr>
  </property>
</Properties>
</file>