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4.png" ContentType="image/png"/>
  <Override PartName="/ppt/media/image9.gif" ContentType="image/gif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3DA5-42C2-4CD9-BC52-8DDF419E11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466D-4C66-41B2-B489-F2D34231B7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652-F3DA-47A6-89E1-5676D504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F35-6B73-4664-A6AE-E925404E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311-B8EF-4B36-B9B4-D199A9C4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9D3-CCED-4FA0-8168-3CA49C38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AC4-849F-4570-893F-0355899E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955-402D-4151-8A79-6242FF6D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26A-2EB1-4AE8-BE9F-920E10DA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E16A-C780-40D8-8791-6CFAE03E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F2CF-4CA1-42EB-9A79-3E65614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6CA-0CB5-41B6-AA10-83B083E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A686-45B6-4EE3-9C57-6AA83B6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2EE-2E1F-434E-AE56-7D40DD6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5CC7-2342-48B5-AF30-09A25D2E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A6E5-E508-40CB-A4EC-D3B5ED31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8C20-96DE-4C91-8C78-2CFC67C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3186-3F7C-45E0-B79D-B0B2B496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561D-BD90-49EE-87EB-C5E576EC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838-FD1A-4CD4-B24A-B4FAD9A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E9E-9C3C-44DF-9A08-B12CBEC3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E58-6D31-4C47-9B0C-B945F49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633-7DB5-40F4-88C4-B1AA980E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302-C1B3-40D8-A33C-AAC3557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3F2-9C7F-4EAD-98B2-379FFCF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5A1-D55C-4BF1-9E5C-1334C0C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46E-D53D-4E21-AAAE-33685DF51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C227-D148-435B-AC15-4C4FA8B627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18900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Аграрные отношения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142920" y="1428840"/>
            <a:ext cx="8786880" cy="1800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- это земельные отношения в деревне, формы землевладения и землепользования, характер действующих в этой отрасли социально-экономических зако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2"/>
          <a:stretch/>
        </p:blipFill>
        <p:spPr>
          <a:xfrm>
            <a:off x="152280" y="3395520"/>
            <a:ext cx="886932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Сельское хозяйство и окружающая сред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85840" y="1500120"/>
            <a:ext cx="8715240" cy="5277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о мере увеличения удобрений на 1 га пашни урожайность сначала растет очень быстро, но после достижения определенного предела этот рост прекращае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1/3 попадающих на поля удобрений смывается талыми и дождевыми водами в водоемы и водотоки, при этом азотные удобрения разлагают органическое вещество гумуса и истощают почвы; избыток нитратов и фосфатов приводит к снижению качества продуктов питания людей, способствуя распространению малокровия и канцерогенных заболе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водоемах химические удобрения вызывают процесс переобогащения их питательными веществами, которые ассимилируются водными растениями, ухудшая качество воды (потеря кислорода и насыщение сероводородом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ассовое применение ядохимикатов – инсектицидов, пестицидов, гербицидов, дефолиантов опасно в силу косвенного воздействия на живые организмы, т. к. обладают способностью  накапливаться в организме по мере продвижения по пищевой цепи, вызывая нежелательные побочные эффекты и даже генетические наруш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800" y="1071720"/>
            <a:ext cx="5929200" cy="47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Tahoma"/>
              </a:rPr>
              <a:t>Сельское хозяйство – 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вторая ведущая отрасль материального производства</a:t>
            </a:r>
            <a:endParaRPr b="0" lang="en-US" sz="4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Значение отрасли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71960" y="1500120"/>
            <a:ext cx="4929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33"/>
                </a:solidFill>
                <a:latin typeface="Tahoma"/>
              </a:rPr>
              <a:t>Обеспечивает население земного шара продуктами питания, способствует сохранению жизненных сил человека, который непосредственно участвует в создании материальных бла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D:\КАРТИНКИ\Коллекция картинок 5\j0198175.wmf"/>
          <p:cNvPicPr/>
          <p:nvPr/>
        </p:nvPicPr>
        <p:blipFill>
          <a:blip r:embed="rId2"/>
          <a:stretch/>
        </p:blipFill>
        <p:spPr>
          <a:xfrm>
            <a:off x="214200" y="2000160"/>
            <a:ext cx="3810240" cy="42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Картосхема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9" name="Picture 3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285840" y="1500120"/>
            <a:ext cx="8643960" cy="5214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Цифры и факты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1428840"/>
            <a:ext cx="4857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Во всем мире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отрасли занято около 1,3 млрд. челов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Крупнейшие производители с/х продукции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итай – более 11 % мировой продукции; США – около 10 %; Индия – 7 %; Бразилия – 6 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По производству аграрной продукции на душу населения лидируют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реция, Швейцария, Дания, Финляндия, Норвег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D:\КАРТИНКИ\Коллекция картинок4\j0284040.gif"/>
          <p:cNvPicPr/>
          <p:nvPr/>
        </p:nvPicPr>
        <p:blipFill>
          <a:blip r:embed="rId2"/>
          <a:stretch/>
        </p:blipFill>
        <p:spPr>
          <a:xfrm>
            <a:off x="6357960" y="4143240"/>
            <a:ext cx="2517840" cy="242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КАРТИНКИ\Коллекция картинок4\j0284026.gif"/>
          <p:cNvPicPr/>
          <p:nvPr/>
        </p:nvPicPr>
        <p:blipFill>
          <a:blip r:embed="rId3"/>
          <a:stretch/>
        </p:blipFill>
        <p:spPr>
          <a:xfrm>
            <a:off x="5500800" y="1571760"/>
            <a:ext cx="2395440" cy="235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Основные типы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05" name="Схема 3" descr=""/>
          <p:cNvPicPr/>
          <p:nvPr/>
        </p:nvPicPr>
        <p:blipFill>
          <a:blip r:embed="rId2"/>
          <a:stretch/>
        </p:blipFill>
        <p:spPr>
          <a:xfrm>
            <a:off x="152280" y="1663560"/>
            <a:ext cx="8839440" cy="507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КАРТИНКИ\Коллекция картинок4\j0285249.gif"/>
          <p:cNvPicPr/>
          <p:nvPr/>
        </p:nvPicPr>
        <p:blipFill>
          <a:blip r:embed="rId3"/>
          <a:stretch/>
        </p:blipFill>
        <p:spPr>
          <a:xfrm>
            <a:off x="7500960" y="1428840"/>
            <a:ext cx="1488960" cy="11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4" descr="D:\КАРТИНКИ\Коллекция картинок4\j0283930.gif"/>
          <p:cNvPicPr/>
          <p:nvPr/>
        </p:nvPicPr>
        <p:blipFill>
          <a:blip r:embed="rId4"/>
          <a:stretch/>
        </p:blipFill>
        <p:spPr>
          <a:xfrm>
            <a:off x="0" y="3500280"/>
            <a:ext cx="1800360" cy="113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:\КАРТИНКИ\Коллекция картинок4\j0186322.wmf"/>
          <p:cNvPicPr/>
          <p:nvPr/>
        </p:nvPicPr>
        <p:blipFill>
          <a:blip r:embed="rId5"/>
          <a:stretch/>
        </p:blipFill>
        <p:spPr>
          <a:xfrm>
            <a:off x="7242120" y="5429160"/>
            <a:ext cx="1716120" cy="123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Основные типы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0" name="Схема 3" descr=""/>
          <p:cNvPicPr/>
          <p:nvPr/>
        </p:nvPicPr>
        <p:blipFill>
          <a:blip r:embed="rId2"/>
          <a:stretch/>
        </p:blipFill>
        <p:spPr>
          <a:xfrm>
            <a:off x="-60480" y="1536840"/>
            <a:ext cx="8936280" cy="41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КАРТИНКИ\Коллекция картинок4\j0285582.wmf"/>
          <p:cNvPicPr/>
          <p:nvPr/>
        </p:nvPicPr>
        <p:blipFill>
          <a:blip r:embed="rId3"/>
          <a:stretch/>
        </p:blipFill>
        <p:spPr>
          <a:xfrm>
            <a:off x="3429000" y="5043600"/>
            <a:ext cx="1808280" cy="1814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6"/>
          <p:cNvSpPr/>
          <p:nvPr/>
        </p:nvSpPr>
        <p:spPr>
          <a:xfrm>
            <a:off x="214200" y="5143680"/>
            <a:ext cx="8715600" cy="1557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гробизнес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 включает производство сельскохозяйственной продукции и ее  переработку, хранение, перевозку и сбыт, а также выпуск техники, удобрений, т. е. придает сельскому хозяйству индустриаль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Сельское хозяйство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и НТР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4" name="Схема 6" descr=""/>
          <p:cNvPicPr/>
          <p:nvPr/>
        </p:nvPicPr>
        <p:blipFill>
          <a:blip r:embed="rId2"/>
          <a:stretch/>
        </p:blipFill>
        <p:spPr>
          <a:xfrm>
            <a:off x="-55440" y="1420920"/>
            <a:ext cx="9040680" cy="5303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«Зеленая революция»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214200" y="1576800"/>
            <a:ext cx="8786880" cy="13737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это преобразование сельского хозяйства на основе современной агротехники. Она представляет собой одну из форм проявления НТ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хема 4" descr=""/>
          <p:cNvPicPr/>
          <p:nvPr/>
        </p:nvPicPr>
        <p:blipFill>
          <a:blip r:embed="rId2"/>
          <a:stretch/>
        </p:blipFill>
        <p:spPr>
          <a:xfrm>
            <a:off x="152280" y="3395520"/>
            <a:ext cx="8832960" cy="303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52:20Z</dcterms:created>
  <dc:creator>starostina</dc:creator>
  <dc:description/>
  <cp:keywords/>
  <dc:language>en-US</dc:language>
  <cp:lastModifiedBy>starostina</cp:lastModifiedBy>
  <dcterms:modified xsi:type="dcterms:W3CDTF">2010-05-06T06:29:1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0000000000001024140</vt:lpwstr>
  </property>
  <property fmtid="{D5CDD505-2E9C-101B-9397-08002B2CF9AE}" pid="3" name="_TemplateID">
    <vt:lpwstr>TC011408091049</vt:lpwstr>
  </property>
</Properties>
</file>