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6.wmf" ContentType="image/x-wmf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47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50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6.jpeg" ContentType="image/jpeg"/>
  <Override PartName="/ppt/media/image73.jpeg" ContentType="image/jpeg"/>
  <Override PartName="/ppt/media/image99.jpeg" ContentType="image/jpeg"/>
  <Override PartName="/ppt/media/image7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E44-114C-4F15-9543-2A110818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5BA-F4FC-4412-97AF-3FB4D92F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0CD9D-8BF9-4D2C-9C9D-9BE28080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EA116-C76F-481B-A9C9-9F1AD05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86902-AFC4-4FAA-8F62-3C767A34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992E9-D519-4697-ADF0-C1D35FB9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D3A06-4EEB-461E-9F35-2BA5A66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3D203-868F-467B-A3BE-F61D6A81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DB24E-12DF-4D4C-B148-E6D145FE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BBBBF-56B7-4EA8-881B-DFF54E30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B4826-BF8A-45F6-A21B-036A3C8D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F09-C046-4D54-B3F4-4EDF5402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0FE-784E-4920-B525-D3099A3D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C781-E7CB-465B-B8FC-EA1E119F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10E8-A154-4339-A49B-B8C84EDB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17D-BC63-4E21-BF24-57B92441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998B-3B8B-420F-9C25-53856EC7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7A53-C69F-4B80-9CE0-96913ED3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5D9E-6C13-470E-A30C-AB5442B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09B3-D66F-46F7-8EF1-B37C044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A60-77A6-4E71-86AF-1353FACB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99DA-253A-4E62-B948-82C7D83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B28E-541D-44CF-9DBF-29B70726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569E-F1EF-46D9-8E94-AE183FB4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13D0-7B6F-46F5-B3E8-F4DB1136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DEAD-F15E-4F88-B7C3-A48A4FD5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6A264-531E-497E-AE7B-D1494586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4402-94B5-4B64-A7CA-E75E4BFF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B32A-7517-410E-84EA-1494BC7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C7B7-E9E2-42C0-A041-CC8678A2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1E46-44DF-4A9A-A4DC-BE070398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DEA-1B98-4BD4-9EBD-1F9C257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5399-1936-4BA1-A3DC-2441C5C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3248-9912-40AA-91E1-3BD7136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4FF4-53D6-4360-AB93-AC774142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B1B8-CB9D-4042-B6D8-76B27451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096D-50DC-43D7-8483-6D5744C3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F967-464A-41C2-9A92-B97F8FCF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2285-1994-4384-A7CC-5300DB31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8F04-9F23-4F3D-B9FE-549E31D7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C1CB-7FB1-4C02-B2A3-2B63120F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3C28-FEA6-41DE-AD85-D8B97613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D33-1B4A-4239-9F8B-22138DA9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F2CBD-DE22-47CB-876A-44E50056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7183-EDCA-4526-82FE-EC398BC9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2975-BBC4-463C-B98D-160F6AA0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2C9A-6D8A-4307-A44C-8DEA2C0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40C7-D9B5-48CD-B428-AF32ACE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224D-3A6D-4CD9-BFF3-11E92B2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FB798-5BE8-45F8-9E3E-65904594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ACF6C-6343-4A94-856A-48B0BFE1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BD614-8D04-4734-A92A-2CD8A723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5A14-2CF3-4C27-8222-DA2ED45F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F9A-3914-4BA6-9B76-BD01EAFD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C287-1DBA-4775-9CE8-20807E3A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6B79A-CC17-4450-8285-31705537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CE1B-0EDE-4737-A8D8-D023CD38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BC04-625B-4A66-A0F8-2EA19D8F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E3F83-F845-4393-865C-2B3E4554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D873-D022-4957-9C6C-6F13E1D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9C27-705A-418D-ACD1-9ADAA07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00EF-42B1-4532-8DBC-EEEB716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AC59A-BE30-4AA7-A9B1-B589C769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A848-CBF8-4E08-A226-7796B53C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E7A-07E3-4C69-8C97-CC39A01F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16C9-FFAB-42FB-AA39-A4C7A26D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4900-7389-4CC0-97EA-12E3FEB9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0DA53-2082-4C95-B2E5-44064973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904D3-B48B-4C6C-A8DB-B44D59BF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98DF8-8FF3-4EB1-9F1E-691A4600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BD2CC-7F25-454A-8554-8FB2DEAF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72E6-CCFA-419F-AD98-D61E7A5D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F211-C25F-4A7E-90B2-59A891E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DE0DE-CFA7-4ED2-90C3-9548A6F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0EB8-EED6-4472-8318-21BB397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3F8-DE34-4697-ABC7-961EF47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67AB-3D36-427B-8185-AEE477C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6036B-4874-4E91-A009-1F7A0595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9DFB-EE97-446A-8ECA-B0BCB2A9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7F2D-262D-4094-842A-249E751B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615DE-D4A1-4AC0-B4BD-9247C5DA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AA5C-2A15-453C-80E2-4EF1629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5B8AD-A682-4F74-B067-3698B684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6694-45FA-4427-BC3A-9EE3EF5A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33FD7-D1FC-4519-B353-A93E712B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7D187-9353-41BC-87F6-869726F0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0F6-0A3B-47F3-8940-A1B6A587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7F2EB-EDC0-4E80-9D89-6B13933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D2CF2-9F6F-4288-8B90-1E3E10C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1B1A3-5A10-458D-9E24-93DFBD9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78D27-6F2C-47C9-A6EC-022387D5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60E1-5348-4A6C-9620-F1866B2F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F6E91-9AAA-4D40-8733-38210EA2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82AD-8F2D-40CC-98F3-33E95C9D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A9422-89FD-4B82-BD8E-017068AE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7F98A-F65E-4EF8-A6F5-96D8EA57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A03D7-0FBB-4180-B833-94E7E8CE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813-7C3C-4576-AE7A-6F908382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4DF7D-6AF2-4B9E-B00F-EFF433C3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7A6C3-AA64-477F-BD6E-FCA8485D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51488-9A0D-457C-81F4-9EEC0934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C5F7-F9E8-4ECC-AE53-25F27D5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6ED6F-C783-4E44-B118-F7DB9043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6BF1-ECB5-4790-A914-7C8C0A67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55BA9-7F66-452A-A540-039F3713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B44FB-E880-4C4B-8FB3-086E4A8F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F8B19-A917-44CF-940E-7667F63A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A0182-E640-42EC-863F-3C3AC3E9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F95C-EFE5-43DA-B20A-8B0E06448A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82B8-6244-4AEE-B6C2-314E75945F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7E1A-E14B-4EE1-8E1D-499D87A192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458E-642B-4439-8B08-494CF64217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E05A-F216-4BCD-8E14-4F34788F1F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4DFF-E468-4CE4-952A-8F8FFCAA66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3CE4-CE83-414B-A609-0820AC5D40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46D4-5556-4F76-A2D6-BA671CA2AD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591D-8A30-427C-A047-DF01576B3A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-fotki.yandex.ru/get/4307/sunny-fanny.51/0_35b5b_a331cd03_XL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spochan.ee/1123i367x500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text=&#1090;&#1088;&#1086;&#1080;&#1094;&#1072;%20&#1086;&#1073;&#1099;&#1095;&#1072;&#1080;&amp;noreask=1&amp;img_url=http%3A%2F%2Fimg1.liveinternet.ru%2Fimages%2Fattach%2Fc%2F3%2F75%2F183%2F75183915_3419483_1.jpg&amp;pos=5&amp;rpt=simage&amp;lr=51&amp;nojs=1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s44.radikal.ru/i106/0906/46/1b4483f3a4fb.jpg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hyperlink" Target="http://www.poseti-nn.ru/images/afisha/6145.jpg" TargetMode="Externa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os1.i.ua/3/1/7778292_5504c0a.jpg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lltradition.ru/wp-content/uploads/2010/07/1244276474_dd956d9b7936b80e251299afc7c2ac62.jpg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drugaya-arh.ru/200-text/arh-slov/pic-hata1.jpg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img0.liveinternet.ru/images/attach/c/1/54/668/54668832_srub2.jpg" TargetMode="External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supercook.ru/images-skazki-vypusk/rus-izba-02.jpg" TargetMode="External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g1.liveinternet.ru/images/attach/c/3/77/406/77406103_4bf4f21c80ff5351d55169f7c800b18e.jpg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text=&#1085;&#1072;&#1088;&#1086;&#1076;&#1099;%20&#1088;&#1086;&#1089;&#1089;&#1080;&#1080;%20&#1080;%20&#1080;&#1093;%20&#1090;&#1088;&#1072;&#1076;&#1080;&#1094;&#1080;&#1080;&amp;noreask=1&amp;img_url=http%3A%2F%2Fmariuver.files.wordpress.com%2F2009%2F06%2Fmolodezh_bashkirii.jpg&amp;pos=0&amp;rpt=simage&amp;lr=240&amp;nojs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18003.rimg.info/icon/17615530005312f4a72fc8da96650b9b0eba3897cf.jpg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900igr.net/datas/istorija/Russkij-byt/0027-027-Pech.jpg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img0.liveinternet.ru%2Fimages%2Ffoto%2Fc%2F0%2Fapps%2F3%2F891%2F3891094_country-hor14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20&amp;isize=&amp;type=&amp;recent=&amp;rpt=simage&amp;itype=&amp;nojs=1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images.yandex.ru/yandsearch?img_url=http%3A%2F%2Fs018.radikal.ru%2Fi501%2F1201%2Fce%2F82c00100ce75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0&amp;isize=&amp;type=&amp;recent=&amp;rpt=simage&amp;itype=&amp;nojs=1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rosgorodishe.narod.ru/fotoalbom/pic144.jpg" TargetMode="External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hyperlink" Target="http://images.yandex.ru/yandsearch?text=&#1088;&#1091;&#1089;&#1089;&#1082;&#1072;&#1103;%20&#1085;&#1072;&#1088;&#1086;&#1076;&#1085;&#1072;&#1103;%20&#1091;&#1090;&#1074;&#1072;&#1088;&#1100;&amp;noreask=1&amp;img_url=http%3A%2F%2Fturometr.s3.amazonaws.com%2Fimages%2Fgallery%2F00%2F00%2F01%2F2010%2F03%2F25%2F214ca4__55374c71d9_600.gif&amp;pos=24&amp;rpt=simage&amp;lr=51&amp;nojs=1" TargetMode="External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pics.livejournal.com/kristyushatmb/pic/00018hsk/s640x480" TargetMode="External"/><Relationship Id="rId5" Type="http://schemas.openxmlformats.org/officeDocument/2006/relationships/image" Target="../media/image56.jpeg"/><Relationship Id="rId6" Type="http://schemas.openxmlformats.org/officeDocument/2006/relationships/hyperlink" Target="http://images.yandex.ru/yandsearch?p=3&amp;text=&#1090;&#1088;&#1086;&#1080;&#1094;&#1072;%20&#1086;&#1073;&#1099;&#1095;&#1072;&#1080;&amp;noreask=1&amp;img_url=http%3A%2F%2Fshkolazhizni.ru%2Fimg%2Fcontent%2Fi1%2F1449.jpg&amp;pos=91&amp;rpt=simage&amp;lr=51&amp;nojs=1" TargetMode="External"/><Relationship Id="rId7" Type="http://schemas.openxmlformats.org/officeDocument/2006/relationships/image" Target="../media/image57.jpeg"/><Relationship Id="rId8" Type="http://schemas.openxmlformats.org/officeDocument/2006/relationships/hyperlink" Target="http://images.yandex.ru/yandsearch?img_url=http%3A%2F%2Fimg-fotki.yandex.ru%2Fget%2F5903%2Feugenio19.47%2F0_5637c_d8acc3b4_XL&amp;iorient=&amp;icolor=&amp;site=&amp;text=&#1088;&#1091;&#1089;&#1089;&#1082;&#1072;&#1103;%20&#1073;&#1072;&#1085;&#1103;%20&#1082;&#1072;&#1088;&#1090;&#1080;&#1085;&#1082;&#1080;&amp;wp=&amp;pos=1&amp;isize=&amp;type=&amp;recent=&amp;rpt=simage&amp;itype=&amp;nojs=1" TargetMode="External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image" Target="../media/image60.jpeg"/><Relationship Id="rId12" Type="http://schemas.openxmlformats.org/officeDocument/2006/relationships/image" Target="../media/image61.jpeg"/><Relationship Id="rId13" Type="http://schemas.openxmlformats.org/officeDocument/2006/relationships/image" Target="../media/image62.jpeg"/><Relationship Id="rId1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3.jpeg"/><Relationship Id="rId5" Type="http://schemas.openxmlformats.org/officeDocument/2006/relationships/hyperlink" Target="http://images.yandex.ru/yandsearch?img_url=http%3A%2F%2Fimg.rian.ru%2Fimages%2F11938%2F28%2F119382805.jpg&amp;iorient=&amp;icolor=&amp;site=&amp;text=&#1050;&#1072;&#1082;%20&#1093;&#1086;&#1076;&#1080;&#1083;&#1080;%20&#1079;&#1072;%20&#1074;&#1086;&#1076;&#1086;&#1081;%20&#1088;&#1091;&#1089;&#1080;%20&#1082;&#1072;&#1088;&#1090;&#1080;&#1085;&#1082;&#1080;&amp;wp=&amp;pos=2&amp;isize=&amp;type=&amp;recent=&amp;rpt=simage&amp;itype=&amp;nojs=1" TargetMode="External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hyperlink" Target="http://images.yandex.ru/yandsearch?img_url=http%3A%2F%2Fafield.org.ua%2Fmod3%2Fimg%2Fmod74_1_8.jpg&amp;iorient=&amp;icolor=&amp;p=1&amp;site=&amp;text=&#1084;&#1091;&#1078;&#1089;&#1082;&#1086;&#1081;%20&#1082;&#1086;&#1089;&#1090;&#1102;&#1084;%20%20&#1088;&#1091;&#1089;&#1080;%20&#1082;&#1072;&#1088;&#1090;&#1080;&#1085;&#1082;&#1080;&amp;wp=&amp;pos=31&amp;isize=&amp;type=&amp;recent=&amp;rpt=simage&amp;itype=&amp;nojs=1" TargetMode="External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g-fotki.yandex.ru/get/3509/swirelka.21/0_29f64_dc55dd10_XL" TargetMode="External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6.jpeg"/><Relationship Id="rId5" Type="http://schemas.openxmlformats.org/officeDocument/2006/relationships/hyperlink" Target="http://img11.nnm.ru/7/5/4/8/3/d632aabfc2f44bd2c2b7a8eaa68_prev.jpg" TargetMode="External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hyperlink" Target="http://vasi.net/uploads/posts/2008-05/mthumbs/1212071084_2201_08_1.jpg" TargetMode="External"/><Relationship Id="rId9" Type="http://schemas.openxmlformats.org/officeDocument/2006/relationships/image" Target="../media/image79.jpeg"/><Relationship Id="rId10" Type="http://schemas.openxmlformats.org/officeDocument/2006/relationships/image" Target="../media/image80.jpeg"/><Relationship Id="rId1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iromagazin.ru/img/fed/182.jpg" TargetMode="External"/><Relationship Id="rId2" Type="http://schemas.openxmlformats.org/officeDocument/2006/relationships/image" Target="../media/image81.jpeg"/><Relationship Id="rId3" Type="http://schemas.openxmlformats.org/officeDocument/2006/relationships/image" Target="../media/image69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g-fotki.yandex.ru/get/5402/kovlevelen.0/0_31adb_28e571bd_L" TargetMode="External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image" Target="../media/image97.jpeg"/><Relationship Id="rId8" Type="http://schemas.openxmlformats.org/officeDocument/2006/relationships/image" Target="../media/image98.jpeg"/><Relationship Id="rId9" Type="http://schemas.openxmlformats.org/officeDocument/2006/relationships/image" Target="../media/image99.jpeg"/><Relationship Id="rId10" Type="http://schemas.openxmlformats.org/officeDocument/2006/relationships/image" Target="../media/image100.jpeg"/><Relationship Id="rId1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cicpx.narod.ru%2F2005-03-09%2Fimage007.jpg&amp;iorient=&amp;nojs=1&amp;icolor=&amp;site=&amp;text=&#1088;&#1091;&#1089;&#1089;&#1082;&#1086;&#1077;%20&#1085;&#1072;&#1088;&#1086;&#1076;&#1085;&#1086;&#1077;%20%20&#1088;&#1091;&#1082;&#1086;&#1087;&#1086;&#1078;&#1072;&#1090;&#1080;&#1077;&amp;wp=&amp;pos=4&amp;isize=&amp;type=&amp;recent=&amp;rpt=simage&amp;itype=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zhaba.ru/_pics/ordjt4e0wnv7y5x0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cs4321.userapi.com%2Fu10335256%2F94635287%2Fs_ba99279f.jpg&amp;iorient=&amp;nojs=1&amp;icolor=&amp;site=&amp;text=&#1088;&#1091;&#1089;&#1089;&#1082;&#1072;&#1103;%20&#1089;&#1074;&#1072;&#1076;&#1100;&#1073;&#1072;&amp;wp=&amp;pos=3&amp;isize=&amp;type=&amp;recent=&amp;rpt=simage&amp;itype=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hyperlink" Target="http://slavs.org.ua/img/calendar_t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s016.radikal.ru%2Fi337%2F1101%2Fca%2F0d1e0b9040e7.jpg&amp;iorient=&amp;icolor=&amp;p=3&amp;site=&amp;text=&#1082;&#1086;&#1083;&#1103;&#1076;&#1086;&#1074;&#1072;&#1085;&#1080;&#1077;%20&#1085;&#1072;%20&#1088;&#1091;&#1089;&#1080;%20%20&#1082;&#1072;&#1088;&#1090;&#1080;&#1085;&#1082;&#1080;&amp;wp=&amp;pos=100&amp;isize=&amp;type=&amp;recent=&amp;rpt=simage&amp;itype=&amp;nojs=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yandex.ru/yandsearch?img_url=http%3A%2F%2Fimg-fotki.yandex.ru%2Fget%2F2712%2Ftatyanasadovikova.4%2F0_22f77_a951c977_L&amp;iorient=&amp;icolor=&amp;site=&amp;text=&#1082;&#1086;&#1083;&#1103;&#1076;&#1086;&#1074;&#1072;&#1085;&#1080;&#1077;%20&#1085;&#1072;%20&#1088;&#1091;&#1089;&#1080;%20%20&#1082;&#1072;&#1088;&#1090;&#1080;&#1085;&#1082;&#1080;&amp;wp=&amp;pos=12&amp;isize=&amp;type=&amp;recent=&amp;rpt=simage&amp;itype=&amp;nojs=1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9.jpeg"/><Relationship Id="rId5" Type="http://schemas.openxmlformats.org/officeDocument/2006/relationships/hyperlink" Target="http://ru-an.info/Photo/2011/news_linked/foto-878-637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4"/>
          <p:cNvSpPr/>
          <p:nvPr/>
        </p:nvSpPr>
        <p:spPr>
          <a:xfrm>
            <a:off x="900000" y="1125360"/>
            <a:ext cx="82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Bolero script"/>
              </a:rPr>
              <a:t>Обычаи, обряды и традиции русского народ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http://go4.imgsmail.ru/imgpreview?key=http%3A//900igr.net/datai/istorija/Russkij-byt/0002-002-Byt-russkikh-ljudej.jpg&amp;mb=imgdb_preview_108"/>
          <p:cNvPicPr/>
          <p:nvPr/>
        </p:nvPicPr>
        <p:blipFill>
          <a:blip r:embed="rId1"/>
          <a:stretch/>
        </p:blipFill>
        <p:spPr>
          <a:xfrm>
            <a:off x="3811680" y="3086280"/>
            <a:ext cx="3595680" cy="30985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8"/>
          <p:cNvSpPr/>
          <p:nvPr/>
        </p:nvSpPr>
        <p:spPr>
          <a:xfrm>
            <a:off x="1042920" y="6094440"/>
            <a:ext cx="432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язова Екатерина, 9 Б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frame22P_var"/>
          <p:cNvPicPr/>
          <p:nvPr/>
        </p:nvPicPr>
        <p:blipFill>
          <a:blip r:embed="rId2"/>
          <a:srcRect l="0" t="4850" r="92044" b="0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TextBox 2" descr=""/>
          <p:cNvPicPr/>
          <p:nvPr/>
        </p:nvPicPr>
        <p:blipFill>
          <a:blip r:embed="rId5"/>
          <a:stretch/>
        </p:blipFill>
        <p:spPr>
          <a:xfrm>
            <a:off x="950760" y="573120"/>
            <a:ext cx="72914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3"/>
          <p:cNvSpPr/>
          <p:nvPr/>
        </p:nvSpPr>
        <p:spPr>
          <a:xfrm>
            <a:off x="971640" y="189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расцвет весны, пробуждение жизни) - церковный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украшали дом  срезанной вербой, пекли сдобные хлеба (куличи, пасхи), красили яйца (Крашенки), посещали церковь, ходили друг к другу в гости, обменивались при встрече крашенками, христосовались (целовались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, приветствовали  друг друг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«Христос воскрес!» - «Воистину воскрес!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2916360" y="6488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– символ Солнца и зарождения новой жиз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5" descr="http://img-fotki.yandex.ru/get/4307/sunny-fanny.51/0_35b5b_a331cd03_X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3213000"/>
            <a:ext cx="2665440" cy="321336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11"/>
          <p:cNvSpPr/>
          <p:nvPr/>
        </p:nvSpPr>
        <p:spPr>
          <a:xfrm>
            <a:off x="3924360" y="4292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водили хороводы, гуляли  по улицам, катались на качелях, катали яйца . После пасхальной недели во вторник отмечали родительский день - посещали кладбища, приносили еду к могилам умерших родственников, в том числе и пасхальну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7" descr="http://www.spochan.ee/1123i367x5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260280"/>
            <a:ext cx="3025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"/>
          <p:cNvSpPr/>
          <p:nvPr/>
        </p:nvSpPr>
        <p:spPr>
          <a:xfrm>
            <a:off x="914400" y="626760"/>
            <a:ext cx="4643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иц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здновали на седьмой неделе после Пасхи ( в воскресен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http://im3-tub-ru.yandex.net/i?id=180458430-65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249228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http://s44.radikal.ru/i106/0906/46/1b4483f3a4fb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189000"/>
            <a:ext cx="3168360" cy="431964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6"/>
          <p:cNvSpPr/>
          <p:nvPr/>
        </p:nvSpPr>
        <p:spPr>
          <a:xfrm>
            <a:off x="4356000" y="4724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оицу было принято украшать внутреннюю часть дома березовыми ветвями. Традиционной пищей были яйца, яичница и другие блюда из я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3"/>
          <p:cNvSpPr/>
          <p:nvPr/>
        </p:nvSpPr>
        <p:spPr>
          <a:xfrm>
            <a:off x="1187280" y="189000"/>
            <a:ext cx="7056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иделки (супредки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лись в осенне-зимний период Вечерами молодежь собиралась у одинокой пожилой женщины, девушки и молодые женщины приносили кудель и другую работу - пряли, вышивали, вязали. Здесь обсуждали всякие сельские дела, рассказывали истории и сказки, пели песни. Пришедшие на вечерку парни присматривали невест, шутили, развлек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140" descr="http://rtrclub.ru/images/VidHandmade/800/3/ru--7.jpg"/>
          <p:cNvPicPr/>
          <p:nvPr/>
        </p:nvPicPr>
        <p:blipFill>
          <a:blip r:embed="rId4"/>
          <a:stretch/>
        </p:blipFill>
        <p:spPr>
          <a:xfrm>
            <a:off x="6588000" y="2349360"/>
            <a:ext cx="2352960" cy="3888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7893"/>
          <p:cNvPicPr/>
          <p:nvPr/>
        </p:nvPicPr>
        <p:blipFill>
          <a:blip r:embed="rId5"/>
          <a:stretch/>
        </p:blipFill>
        <p:spPr>
          <a:xfrm>
            <a:off x="1042920" y="2349360"/>
            <a:ext cx="5041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3"/>
          <p:cNvSpPr/>
          <p:nvPr/>
        </p:nvSpPr>
        <p:spPr>
          <a:xfrm>
            <a:off x="4284720" y="333360"/>
            <a:ext cx="468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боры (хороводы, улицы)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нее развлечение  молодежи  на околице деревни, на берегу реки или у леса.  Плели венки из полевых цветов,  играли в игры, пели и плясали, водили хороводы. Задерживались допоздна. Главной фигурой был хороший местный гармон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Рисунок 108" descr="http://h6.img.mediacache.rugion.ru/_i/forum/files/95/72/96/9572962_0s369_1321208756.jpg"/>
          <p:cNvPicPr/>
          <p:nvPr/>
        </p:nvPicPr>
        <p:blipFill>
          <a:blip r:embed="rId4"/>
          <a:stretch/>
        </p:blipFill>
        <p:spPr>
          <a:xfrm>
            <a:off x="5148360" y="3645000"/>
            <a:ext cx="3276360" cy="281916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171" descr="http://www.villina.net/_nw/1/64896255.jpg"/>
          <p:cNvPicPr/>
          <p:nvPr/>
        </p:nvPicPr>
        <p:blipFill>
          <a:blip r:embed="rId5"/>
          <a:stretch/>
        </p:blipFill>
        <p:spPr>
          <a:xfrm>
            <a:off x="900000" y="333360"/>
            <a:ext cx="3218040" cy="2808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http://www.poseti-nn.ru/images/afisha/6145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3284640"/>
            <a:ext cx="23749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"/>
          <p:cNvSpPr/>
          <p:nvPr/>
        </p:nvSpPr>
        <p:spPr>
          <a:xfrm>
            <a:off x="971640" y="189000"/>
            <a:ext cx="7561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русской свадь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х осыпали хмелем, так как хмель – это древний символ плодородия и многочадия . Невеста берет  с собою в дом жениха родительское благословение и сундук с приданым .Старинный обычай – разувание мужа молодой женой. Смысл  - таким образом молодая супруга подчеркивала свою покорность или согласие на главенство мужчины в семь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http://os1.i.ua/3/1/7778292_5504c0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00360" y="3573360"/>
            <a:ext cx="46083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1"/>
          <p:cNvSpPr/>
          <p:nvPr/>
        </p:nvSpPr>
        <p:spPr>
          <a:xfrm>
            <a:off x="971640" y="189000"/>
            <a:ext cx="756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Кр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1042920" y="31500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м обрядом, отмечавшим начало жизни ребенка было его крещение. Обряд совершали в церкви или дома. Как правило, младенца крестили на третий или сороковой день после рождения. Родителям не положено было присутствовать при крещении, вместо них были крестная мать, которая дарила рубашку и крестный отец, который должен был подарить ребенку нательный крес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Обряд крещени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13120"/>
            <a:ext cx="43927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Прямоугольник 3"/>
          <p:cNvSpPr/>
          <p:nvPr/>
        </p:nvSpPr>
        <p:spPr>
          <a:xfrm>
            <a:off x="2987640" y="18900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ание на русской трой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i?id=18758126-36-72&amp;n=21"/>
          <p:cNvPicPr/>
          <p:nvPr/>
        </p:nvPicPr>
        <p:blipFill>
          <a:blip r:embed="rId4"/>
          <a:stretch/>
        </p:blipFill>
        <p:spPr>
          <a:xfrm>
            <a:off x="971640" y="692280"/>
            <a:ext cx="4105080" cy="2881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http://s6.postimage.org/qn8efdzk1/image.jpg"/>
          <p:cNvPicPr/>
          <p:nvPr/>
        </p:nvPicPr>
        <p:blipFill>
          <a:blip r:embed="rId5"/>
          <a:stretch/>
        </p:blipFill>
        <p:spPr>
          <a:xfrm>
            <a:off x="4427640" y="3357720"/>
            <a:ext cx="4537080" cy="33526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1964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йка, тройка прилетел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куны в той тройке бел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анях сидит цариц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оса, белолиц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ахнула рукавом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крылось сереб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4"/>
          <p:cNvSpPr/>
          <p:nvPr/>
        </p:nvSpPr>
        <p:spPr>
          <a:xfrm>
            <a:off x="3205440" y="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1" descr="http://www.drugaya-arh.ru/200-text/arh-slov/pic-hata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149720"/>
            <a:ext cx="3673440" cy="2503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http://img0.liveinternet.ru/images/attach/c/1/54/668/54668832_srub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0000" y="3978360"/>
            <a:ext cx="3321000" cy="261936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11"/>
          <p:cNvSpPr/>
          <p:nvPr/>
        </p:nvSpPr>
        <p:spPr>
          <a:xfrm>
            <a:off x="1042920" y="620640"/>
            <a:ext cx="4897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Только русские сравнивали дом с колесницей, которая должна привести семью к лучшему будущему. Снаружи дома украшались резьбой. До наших времён сохранилась традиция использования наличников. В сенях хозяева хранили различную утварь, а в самом доме чётко выделялся, так называемый «бабий кут». Где хозяйки готовили и рукодельнич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Рисунок 17" descr="http://www.burykina-o.narod.ru/club/r_slides/slide04.jpg"/>
          <p:cNvPicPr/>
          <p:nvPr/>
        </p:nvPicPr>
        <p:blipFill>
          <a:blip r:embed="rId8"/>
          <a:stretch/>
        </p:blipFill>
        <p:spPr>
          <a:xfrm>
            <a:off x="5940360" y="549360"/>
            <a:ext cx="30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http://supercook.ru/images-skazki-vypusk/rus-izba-0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260280"/>
            <a:ext cx="3816360" cy="568980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4"/>
          <p:cNvSpPr/>
          <p:nvPr/>
        </p:nvSpPr>
        <p:spPr>
          <a:xfrm>
            <a:off x="5364000" y="90792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и терем, ни изб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олота, да резь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ем, терем, терем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затейлив и вы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м окошки слюдя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наличники рез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 крыше пет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лотые гребе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в перилах на крыле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 вырезал колеч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тушки да цв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аскрасил от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ерему резные двер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верях цветы и зве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разцах на печке в 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цы райские сид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"/>
          <p:cNvSpPr/>
          <p:nvPr/>
        </p:nvSpPr>
        <p:spPr>
          <a:xfrm>
            <a:off x="1042920" y="19872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горницей пер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ьня в горнице сосе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ель в ней вы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 – до потол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перины, оде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ушек там нем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, покрыт ков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ь с хозяйкиным до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" descr="0_21cd4_f693cc32_XL"/>
          <p:cNvPicPr/>
          <p:nvPr/>
        </p:nvPicPr>
        <p:blipFill>
          <a:blip r:embed="rId4"/>
          <a:stretch/>
        </p:blipFill>
        <p:spPr>
          <a:xfrm>
            <a:off x="5580000" y="26028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1312409706_muzei"/>
          <p:cNvPicPr/>
          <p:nvPr/>
        </p:nvPicPr>
        <p:blipFill>
          <a:blip r:embed="rId5"/>
          <a:stretch/>
        </p:blipFill>
        <p:spPr>
          <a:xfrm>
            <a:off x="1116000" y="2708280"/>
            <a:ext cx="3456000" cy="3800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http://img1.liveinternet.ru/images/attach/c/3/77/406/77406103_4bf4f21c80ff5351d55169f7c800b18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2708280"/>
            <a:ext cx="36720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2"/>
          <p:cNvSpPr/>
          <p:nvPr/>
        </p:nvSpPr>
        <p:spPr>
          <a:xfrm>
            <a:off x="2790720" y="-2700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Русский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900000" y="105012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енная область расселения русского народа- Восточно-Европейская равнина. По мере освоения земель русские находились в тесном контакте с другими народами. Благодаря этому великое географическое и историческое пространство , объединяемое понятием Русь и Ро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является многонациональным государством, на территории которого проживает более 180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http://im4-tub-ru.yandex.net/i?id=45978915-03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7960" y="3716280"/>
            <a:ext cx="39610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"/>
          <p:cNvSpPr/>
          <p:nvPr/>
        </p:nvSpPr>
        <p:spPr>
          <a:xfrm>
            <a:off x="2050920" y="-288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6"/>
          <p:cNvSpPr/>
          <p:nvPr/>
        </p:nvSpPr>
        <p:spPr>
          <a:xfrm>
            <a:off x="5580000" y="400536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нам резные л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бовый стол рез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печки сохнут трав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ли их ве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астой варили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ь зимою от хворо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http://a18003.rimg.info/icon/17615530005312f4a72fc8da96650b9b0eba3897c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2708280"/>
            <a:ext cx="3961080" cy="3753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http://900igr.net/datas/istorija/Russkij-byt/0027-027-Pech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35640" y="836640"/>
            <a:ext cx="3168720" cy="18716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"/>
          <p:cNvSpPr/>
          <p:nvPr/>
        </p:nvSpPr>
        <p:spPr>
          <a:xfrm>
            <a:off x="1116000" y="557280"/>
            <a:ext cx="35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в доме бы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чёрны, закопчё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расивы изнут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гнил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ли людям добрым от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пились печи по-чёр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ttp://im0-tub-ru.yandex.net/i?id=18277144-01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7640" y="3141720"/>
            <a:ext cx="3240360" cy="337176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5"/>
          <p:cNvSpPr/>
          <p:nvPr/>
        </p:nvSpPr>
        <p:spPr>
          <a:xfrm>
            <a:off x="2634840" y="0"/>
            <a:ext cx="48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угол в русской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http://im8-tub-ru.yandex.net/i?id=620618422-1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907920"/>
            <a:ext cx="2951280" cy="187344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8"/>
          <p:cNvSpPr/>
          <p:nvPr/>
        </p:nvSpPr>
        <p:spPr>
          <a:xfrm>
            <a:off x="4929120" y="69228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 Гой ты, Русь моя род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, ризы в образах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http://rosgorodishe.narod.ru/fotoalbom/pic14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1557360"/>
            <a:ext cx="309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2624760" y="0"/>
            <a:ext cx="29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уда   на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a640"/>
          <p:cNvPicPr/>
          <p:nvPr/>
        </p:nvPicPr>
        <p:blipFill>
          <a:blip r:embed="rId4"/>
          <a:stretch/>
        </p:blipFill>
        <p:spPr>
          <a:xfrm>
            <a:off x="1116000" y="69228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image002"/>
          <p:cNvPicPr/>
          <p:nvPr/>
        </p:nvPicPr>
        <p:blipFill>
          <a:blip r:embed="rId5"/>
          <a:stretch/>
        </p:blipFill>
        <p:spPr>
          <a:xfrm>
            <a:off x="1042920" y="335772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28" descr="http://www.ocnt.isu.ru/decor/IMG/b4.jpg"/>
          <p:cNvPicPr/>
          <p:nvPr/>
        </p:nvPicPr>
        <p:blipFill>
          <a:blip r:embed="rId6"/>
          <a:stretch/>
        </p:blipFill>
        <p:spPr>
          <a:xfrm>
            <a:off x="6588000" y="692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42" descr="http://im3-tub-ru.yandex.net/i?id=5505095-37-72"/>
          <p:cNvPicPr/>
          <p:nvPr/>
        </p:nvPicPr>
        <p:blipFill>
          <a:blip r:embed="rId7"/>
          <a:stretch/>
        </p:blipFill>
        <p:spPr>
          <a:xfrm>
            <a:off x="4500720" y="692280"/>
            <a:ext cx="1428480" cy="20160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69" descr="http://img-2007-08.photosight.ru/20/2257889.jpg"/>
          <p:cNvPicPr/>
          <p:nvPr/>
        </p:nvPicPr>
        <p:blipFill>
          <a:blip r:embed="rId8"/>
          <a:stretch/>
        </p:blipFill>
        <p:spPr>
          <a:xfrm>
            <a:off x="4356000" y="2997360"/>
            <a:ext cx="453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3"/>
          <p:cNvSpPr/>
          <p:nvPr/>
        </p:nvSpPr>
        <p:spPr>
          <a:xfrm>
            <a:off x="2637720" y="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ут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uzey_241-160x213"/>
          <p:cNvPicPr/>
          <p:nvPr/>
        </p:nvPicPr>
        <p:blipFill>
          <a:blip r:embed="rId4"/>
          <a:stretch/>
        </p:blipFill>
        <p:spPr>
          <a:xfrm>
            <a:off x="5003640" y="620640"/>
            <a:ext cx="1800360" cy="2737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17748"/>
          <p:cNvPicPr/>
          <p:nvPr/>
        </p:nvPicPr>
        <p:blipFill>
          <a:blip r:embed="rId5"/>
          <a:stretch/>
        </p:blipFill>
        <p:spPr>
          <a:xfrm>
            <a:off x="1116000" y="620640"/>
            <a:ext cx="3456000" cy="279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1313823929_kerosinovaya-lampa"/>
          <p:cNvPicPr/>
          <p:nvPr/>
        </p:nvPicPr>
        <p:blipFill>
          <a:blip r:embed="rId6"/>
          <a:stretch/>
        </p:blipFill>
        <p:spPr>
          <a:xfrm>
            <a:off x="7596360" y="620640"/>
            <a:ext cx="1368360" cy="2521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http://im8-tub-ru.yandex.net/i?id=100077084-32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3645000"/>
            <a:ext cx="1726920" cy="2879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muzei01_full"/>
          <p:cNvPicPr/>
          <p:nvPr/>
        </p:nvPicPr>
        <p:blipFill>
          <a:blip r:embed="rId9"/>
          <a:stretch/>
        </p:blipFill>
        <p:spPr>
          <a:xfrm>
            <a:off x="1619280" y="3716280"/>
            <a:ext cx="50767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4"/>
          <p:cNvSpPr/>
          <p:nvPr/>
        </p:nvSpPr>
        <p:spPr>
          <a:xfrm>
            <a:off x="3206880" y="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б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http://pics.livejournal.com/kristyushatmb/pic/00018hsk/s640x48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3716280"/>
            <a:ext cx="3492360" cy="2936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http://im6-tub-ru.yandex.net/i?id=403824467-10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3716280"/>
            <a:ext cx="3240000" cy="2952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im5-tub-ru.yandex.net/i?id=200960048-49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72360" y="765000"/>
            <a:ext cx="2520720" cy="230364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44" descr="http://www.burykina-o.narod.ru/club/r_slides/slide16.jpg"/>
          <p:cNvPicPr/>
          <p:nvPr/>
        </p:nvPicPr>
        <p:blipFill>
          <a:blip r:embed="rId10"/>
          <a:stretch/>
        </p:blipFill>
        <p:spPr>
          <a:xfrm>
            <a:off x="0" y="92203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47" descr="http://www.burykina-o.narod.ru/club/r_slides/slide17.jpg"/>
          <p:cNvPicPr/>
          <p:nvPr/>
        </p:nvPicPr>
        <p:blipFill>
          <a:blip r:embed="rId11"/>
          <a:stretch/>
        </p:blipFill>
        <p:spPr>
          <a:xfrm>
            <a:off x="0" y="13677840"/>
            <a:ext cx="5943600" cy="446724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50" descr="http://www.burykina-o.narod.ru/club/r_slides/slide18.jpg"/>
          <p:cNvPicPr/>
          <p:nvPr/>
        </p:nvPicPr>
        <p:blipFill>
          <a:blip r:embed="rId12"/>
          <a:stretch/>
        </p:blipFill>
        <p:spPr>
          <a:xfrm>
            <a:off x="0" y="1814508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53" descr="http://www.burykina-o.narod.ru/club/r_slides/slide19.jpg"/>
          <p:cNvPicPr/>
          <p:nvPr/>
        </p:nvPicPr>
        <p:blipFill>
          <a:blip r:embed="rId13"/>
          <a:stretch/>
        </p:blipFill>
        <p:spPr>
          <a:xfrm>
            <a:off x="0" y="2260296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1"/>
          <p:cNvSpPr/>
          <p:nvPr/>
        </p:nvSpPr>
        <p:spPr>
          <a:xfrm>
            <a:off x="971640" y="421920"/>
            <a:ext cx="511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я была не только местом для мытья, а также особенным, почти священным местом. Считалось, что баня объединяет 4 главные природные стихии: огонь, воду, воздух и землю. Поэтому человек, посетивший баню, как бы вбирал в себя силу всех этих стихий и становился крепче, сильнее и здоровее. Недаром на Руси бытовала поговорка «Помылся – будто заново родился!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зря веник является не только символом русской парной бани, её украшением, но и инструментом лечения или профилактики болезней. Веники, собранные из разнообразных пород деревьев и лекарственных трав используются для лечения самых разных заболеваний и неду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" descr="tropa_922"/>
          <p:cNvPicPr/>
          <p:nvPr/>
        </p:nvPicPr>
        <p:blipFill>
          <a:blip r:embed="rId4"/>
          <a:stretch/>
        </p:blipFill>
        <p:spPr>
          <a:xfrm>
            <a:off x="5435640" y="620640"/>
            <a:ext cx="2844720" cy="237672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4"/>
          <p:cNvSpPr/>
          <p:nvPr/>
        </p:nvSpPr>
        <p:spPr>
          <a:xfrm>
            <a:off x="1250640" y="18900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уси за водой ходили с коромыс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http://im0-tub-ru.yandex.net/i?id=123309110-3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692280"/>
            <a:ext cx="2197080" cy="2305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http://content.foto.mail.ru/mail/lyudmila-1946/_blogs/i-18110.jpg"/>
          <p:cNvPicPr/>
          <p:nvPr/>
        </p:nvPicPr>
        <p:blipFill>
          <a:blip r:embed="rId7"/>
          <a:stretch/>
        </p:blipFill>
        <p:spPr>
          <a:xfrm>
            <a:off x="2124000" y="3284640"/>
            <a:ext cx="571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79340759_large_russkie_narodnuye_kostyumuy_6"/>
          <p:cNvPicPr/>
          <p:nvPr/>
        </p:nvPicPr>
        <p:blipFill>
          <a:blip r:embed="rId4"/>
          <a:stretch/>
        </p:blipFill>
        <p:spPr>
          <a:xfrm>
            <a:off x="1258920" y="1844640"/>
            <a:ext cx="3097080" cy="482436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7"/>
          <p:cNvSpPr/>
          <p:nvPr/>
        </p:nvSpPr>
        <p:spPr>
          <a:xfrm>
            <a:off x="971640" y="836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нский костю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чья рубаха, праздничные головные уборы, пон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8"/>
          <p:cNvSpPr/>
          <p:nvPr/>
        </p:nvSpPr>
        <p:spPr>
          <a:xfrm>
            <a:off x="536400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жской костю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аха, порты, пояс, серм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i?id=241750542-29-72"/>
          <p:cNvPicPr/>
          <p:nvPr/>
        </p:nvPicPr>
        <p:blipFill>
          <a:blip r:embed="rId5"/>
          <a:stretch/>
        </p:blipFill>
        <p:spPr>
          <a:xfrm>
            <a:off x="5219640" y="3141720"/>
            <a:ext cx="2448000" cy="2652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http://im5-tub-ru.yandex.net/i?id=636355988-44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333360"/>
            <a:ext cx="2519280" cy="266400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12"/>
          <p:cNvSpPr/>
          <p:nvPr/>
        </p:nvSpPr>
        <p:spPr>
          <a:xfrm>
            <a:off x="923040" y="115920"/>
            <a:ext cx="54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циональный костю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3"/>
          <p:cNvSpPr/>
          <p:nvPr/>
        </p:nvSpPr>
        <p:spPr>
          <a:xfrm>
            <a:off x="2195640" y="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i?id=17692540-52-72&amp;n=21"/>
          <p:cNvPicPr/>
          <p:nvPr/>
        </p:nvPicPr>
        <p:blipFill>
          <a:blip r:embed="rId4"/>
          <a:stretch/>
        </p:blipFill>
        <p:spPr>
          <a:xfrm>
            <a:off x="1476360" y="98100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i?id=431694681-20-72&amp;n=21"/>
          <p:cNvPicPr/>
          <p:nvPr/>
        </p:nvPicPr>
        <p:blipFill>
          <a:blip r:embed="rId5"/>
          <a:stretch/>
        </p:blipFill>
        <p:spPr>
          <a:xfrm>
            <a:off x="1332000" y="4076640"/>
            <a:ext cx="2768400" cy="25923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i?id=78847383-38-72&amp;n=21"/>
          <p:cNvPicPr/>
          <p:nvPr/>
        </p:nvPicPr>
        <p:blipFill>
          <a:blip r:embed="rId6"/>
          <a:stretch/>
        </p:blipFill>
        <p:spPr>
          <a:xfrm>
            <a:off x="5580000" y="407664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7"/>
          <p:cNvSpPr/>
          <p:nvPr/>
        </p:nvSpPr>
        <p:spPr>
          <a:xfrm>
            <a:off x="4356000" y="1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 – один из самых древних видов обуви. Лапти плелись из лыка различных деревьев, преимущественно липы (лычники), из мочала – липового луба, размоченного и разодранного на волокна (мочалыжники). Делались лапти и из коры ракиты (верзки), ивы (ивняки), вяза (вязовики), березы (берестянники), дуба (дубовики), из тала (шелюжники), из пеньковых оческов, старых веревок (курпы, крутцы, чуни, шептуны), из конского волоса – грив и хвостов – (волосянники), и даже из соломы (соломен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4"/>
          <p:cNvSpPr/>
          <p:nvPr/>
        </p:nvSpPr>
        <p:spPr>
          <a:xfrm>
            <a:off x="2195640" y="0"/>
            <a:ext cx="41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гостеприи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7"/>
          <p:cNvSpPr/>
          <p:nvPr/>
        </p:nvSpPr>
        <p:spPr>
          <a:xfrm>
            <a:off x="971640" y="476280"/>
            <a:ext cx="81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е гостеприимств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неотъемлемая часть наших культурных традиций. Гостям также были всегда рады, делились с ними последним куском. Недаром  говорили: «Что есть в печи – на стол мечи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и гостей хлебом, солью. Со словами: «Добро пожаловать!»   Гость отламывает маленький кусочек хлеба, макает его в соль и куш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Рисунок 120" descr="http://www.clipartbank.ru/watermark.php?i=75304"/>
          <p:cNvPicPr/>
          <p:nvPr/>
        </p:nvPicPr>
        <p:blipFill>
          <a:blip r:embed="rId4"/>
          <a:stretch/>
        </p:blipFill>
        <p:spPr>
          <a:xfrm>
            <a:off x="1258920" y="2060640"/>
            <a:ext cx="3313080" cy="439272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9"/>
          <p:cNvSpPr/>
          <p:nvPr/>
        </p:nvSpPr>
        <p:spPr>
          <a:xfrm>
            <a:off x="4932360" y="206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х гостей встреча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м круглым карав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людце распис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елоснежным рушник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й мы вам подноси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ясь, отведать прос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175" descr="http://moygorod.tv/uploads/posts/2012-09/prihodite-v-gosti-2.jpg"/>
          <p:cNvPicPr/>
          <p:nvPr/>
        </p:nvPicPr>
        <p:blipFill>
          <a:blip r:embed="rId5"/>
          <a:stretch/>
        </p:blipFill>
        <p:spPr>
          <a:xfrm>
            <a:off x="5219640" y="3789360"/>
            <a:ext cx="32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1"/>
          <p:cNvSpPr/>
          <p:nvPr/>
        </p:nvSpPr>
        <p:spPr>
          <a:xfrm>
            <a:off x="262728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засто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7"/>
          <p:cNvSpPr/>
          <p:nvPr/>
        </p:nvSpPr>
        <p:spPr>
          <a:xfrm>
            <a:off x="1116000" y="404640"/>
            <a:ext cx="7559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славное праздничное застолье с давних времен хранит множество традиций, обычаев и обрядов.   За столом собирались все члены семьи и близкие родственники. Застольный этикет был очень сдержан и строг. За столом сидели чинно, да и разговоры старались вести серьезные и добрые.  Обязательным элементом праздника является молитва.  Для многих праздников предназначались строго определенные ритуальные блюда, и часто их готовили только раз в году. Заранее знали и ждали, когда на столе будут фаршированный поросенок, гусь или индейка, медовый или маковый пирог, пышные и румяные блины, крашеные яйца и кулич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http://img-fotki.yandex.ru/get/3509/swirelka.21/0_29f64_dc55dd10_X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0920" y="2565360"/>
            <a:ext cx="5977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"/>
          <p:cNvSpPr/>
          <p:nvPr/>
        </p:nvSpPr>
        <p:spPr>
          <a:xfrm>
            <a:off x="884160" y="369000"/>
            <a:ext cx="8172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циональная культура 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– это национальная память народа, то, что выделяет данный народ в ряду других, хранит человека от обезличивания, позволяет ему ощутить связь времен и поко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нталит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 каждый народ имеет свои уникальные свойства менталитета, присущие только ему, в зависимости от ментальности нации строятся традиции, обряды, обычаи  и другие составляющие культуры. Менталитет русского народа, безусловно, качественно отличается от других национальностей, в первую очередь особым гостеприимством, широтой традиций и другими особе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http://im2-tub-ru.yandex.net/i?id=46487969-15-72&amp;n=17"/>
          <p:cNvPicPr/>
          <p:nvPr/>
        </p:nvPicPr>
        <p:blipFill>
          <a:blip r:embed="rId4"/>
          <a:stretch/>
        </p:blipFill>
        <p:spPr>
          <a:xfrm>
            <a:off x="2050920" y="549360"/>
            <a:ext cx="5616720" cy="3240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http://img11.nnm.ru/7/5/4/8/3/d632aabfc2f44bd2c2b7a8eaa68_prev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3933720"/>
            <a:ext cx="2016360" cy="27194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http://im6-tub-ru.yandex.net/i?id=275927320-63-72"/>
          <p:cNvPicPr/>
          <p:nvPr/>
        </p:nvPicPr>
        <p:blipFill>
          <a:blip r:embed="rId7"/>
          <a:stretch/>
        </p:blipFill>
        <p:spPr>
          <a:xfrm>
            <a:off x="5292720" y="393372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http://vasi.net/uploads/posts/2008-05/mthumbs/1212071084_2201_08_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03640" y="3933720"/>
            <a:ext cx="2016000" cy="2719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http://im2-tub-ru.yandex.net/i?id=133821087-03-72"/>
          <p:cNvPicPr/>
          <p:nvPr/>
        </p:nvPicPr>
        <p:blipFill>
          <a:blip r:embed="rId10"/>
          <a:stretch/>
        </p:blipFill>
        <p:spPr>
          <a:xfrm>
            <a:off x="7308720" y="3933720"/>
            <a:ext cx="1656000" cy="266400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1"/>
          <p:cNvSpPr/>
          <p:nvPr/>
        </p:nvSpPr>
        <p:spPr>
          <a:xfrm>
            <a:off x="320364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кух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1"/>
          <p:cNvSpPr/>
          <p:nvPr/>
        </p:nvSpPr>
        <p:spPr>
          <a:xfrm>
            <a:off x="1042920" y="620640"/>
            <a:ext cx="56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ай чаепития  на Руси обычай древний  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 гость – так привеча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й ему целеб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ный, крепкий 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://www.piromagazin.ru/img/fed/1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620640"/>
            <a:ext cx="3252960" cy="2087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1260993858_chastushki-russkiy-folklor-v-tuve"/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1"/>
          <p:cNvSpPr/>
          <p:nvPr/>
        </p:nvSpPr>
        <p:spPr>
          <a:xfrm>
            <a:off x="320364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епитие на Ру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80" descr="http://i066.radikal.ru/1006/6e/e87271179c10.jpg"/>
          <p:cNvPicPr/>
          <p:nvPr/>
        </p:nvPicPr>
        <p:blipFill>
          <a:blip r:embed="rId6"/>
          <a:stretch/>
        </p:blipFill>
        <p:spPr>
          <a:xfrm>
            <a:off x="1476360" y="2852640"/>
            <a:ext cx="5759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4"/>
          <p:cNvSpPr/>
          <p:nvPr/>
        </p:nvSpPr>
        <p:spPr>
          <a:xfrm>
            <a:off x="1042920" y="6922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народных промыслов – это связующее звено прошедшего с настоящим, настоящего с буд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а земля российская разнообразными народными промыслами: гжель, хохлома, жостово, русская матрешка, палех, тульские самовары, вологодские кружева, русская финифть, уральские промыслы, , павловские посадские платки и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5"/>
          <p:cNvSpPr/>
          <p:nvPr/>
        </p:nvSpPr>
        <p:spPr>
          <a:xfrm>
            <a:off x="2476800" y="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ые промыс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3" descr="http://img-fotki.yandex.ru/get/5402/kovlevelen.0/0_31adb_28e571bd_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2421000"/>
            <a:ext cx="6264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2426040" y="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родный фолькл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1042920" y="341640"/>
            <a:ext cx="741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ы, приуроченные к крупным праздникам, включали большое количество разных произведений народного искусства (Фольклор): старинные лирические песни, свадебные, хороводные, календарно-обрядовые, плясовые; однако в повседневной жизни преобладали частушки,песни, приговоры, хороводы, игры, танцы, драматические сценки, маски, народные костюмы, своеобразный реквизит, устное народное творчество-  пестушки, загадки, сказки, поговорки и многое друг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http://900igr.net/datai/istorija/Russkij-narod/0006-012-Samo-slovo-folklor-prishlo-k-nam-iz-dalekoj-Anglii-i-perevoditsja.jpg"/>
          <p:cNvPicPr/>
          <p:nvPr/>
        </p:nvPicPr>
        <p:blipFill>
          <a:blip r:embed="rId4"/>
          <a:stretch/>
        </p:blipFill>
        <p:spPr>
          <a:xfrm>
            <a:off x="1116000" y="213372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http://mith.ru/folk/folk01.jpg"/>
          <p:cNvPicPr/>
          <p:nvPr/>
        </p:nvPicPr>
        <p:blipFill>
          <a:blip r:embed="rId5"/>
          <a:stretch/>
        </p:blipFill>
        <p:spPr>
          <a:xfrm>
            <a:off x="5219640" y="206064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http://im6-tub-ru.yandex.net/i?id=120778090-22-72"/>
          <p:cNvPicPr/>
          <p:nvPr/>
        </p:nvPicPr>
        <p:blipFill>
          <a:blip r:embed="rId6"/>
          <a:stretch/>
        </p:blipFill>
        <p:spPr>
          <a:xfrm>
            <a:off x="2771640" y="479736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3"/>
          <p:cNvSpPr/>
          <p:nvPr/>
        </p:nvSpPr>
        <p:spPr>
          <a:xfrm>
            <a:off x="1072800" y="0"/>
            <a:ext cx="77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народные 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http://clubtrade.ru/images/artcats/625/photo/1_clubtrade_dk_(10).jpg"/>
          <p:cNvPicPr/>
          <p:nvPr/>
        </p:nvPicPr>
        <p:blipFill>
          <a:blip r:embed="rId3"/>
          <a:stretch/>
        </p:blipFill>
        <p:spPr>
          <a:xfrm>
            <a:off x="1042920" y="549360"/>
            <a:ext cx="3457800" cy="3095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http://www.lipetskinfo.ru/photo/theme/033/142/main.jpg"/>
          <p:cNvPicPr/>
          <p:nvPr/>
        </p:nvPicPr>
        <p:blipFill>
          <a:blip r:embed="rId4"/>
          <a:stretch/>
        </p:blipFill>
        <p:spPr>
          <a:xfrm>
            <a:off x="5219640" y="549360"/>
            <a:ext cx="3710160" cy="31716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2" descr="http://im8-tub-ru.yandex.net/i?id=233145215-61-72"/>
          <p:cNvPicPr/>
          <p:nvPr/>
        </p:nvPicPr>
        <p:blipFill>
          <a:blip r:embed="rId5"/>
          <a:stretch/>
        </p:blipFill>
        <p:spPr>
          <a:xfrm>
            <a:off x="1116000" y="3860640"/>
            <a:ext cx="2735280" cy="25210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7"/>
          <p:cNvSpPr/>
          <p:nvPr/>
        </p:nvSpPr>
        <p:spPr>
          <a:xfrm>
            <a:off x="4140360" y="3716280"/>
            <a:ext cx="489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нструменты в фольклоре используются обычно в быту пастухов или для некоторых видов танцев и пе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нные инструменты - балалайка, гудок, духовые инструмен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ые инструменты –дудка, рожок, жалейка   военные трубы, охотничьи рога, бубн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Прямоугольник 4"/>
          <p:cNvSpPr/>
          <p:nvPr/>
        </p:nvSpPr>
        <p:spPr>
          <a:xfrm>
            <a:off x="900000" y="476280"/>
            <a:ext cx="80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один дом на Руси не обходился без народных оберегов. Русский народ верил, что обереги надёжно охраняют от болезней, «дурного глаза», стихийных бедствий и различных напастей,  для защиты дома и его обитателей от злых духов, болезней, для привлечения домового и его задабривания. Собираясь в дальнюю дорогу, человек брал с собой оберег, чтобы вложенные в него добро и любовь согревали душу и напоминали о родном доме и семье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"/>
          <p:cNvSpPr/>
          <p:nvPr/>
        </p:nvSpPr>
        <p:spPr>
          <a:xfrm>
            <a:off x="320364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реги на Ру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p47_r_venichek"/>
          <p:cNvPicPr/>
          <p:nvPr/>
        </p:nvPicPr>
        <p:blipFill>
          <a:blip r:embed="rId3"/>
          <a:stretch/>
        </p:blipFill>
        <p:spPr>
          <a:xfrm>
            <a:off x="6588000" y="2565360"/>
            <a:ext cx="2229120" cy="3743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884372-5e77e71b14f95a5e"/>
          <p:cNvPicPr/>
          <p:nvPr/>
        </p:nvPicPr>
        <p:blipFill>
          <a:blip r:embed="rId4"/>
          <a:stretch/>
        </p:blipFill>
        <p:spPr>
          <a:xfrm>
            <a:off x="3780000" y="2565360"/>
            <a:ext cx="2571480" cy="3816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http://2c-foto.ru/5ff078f9436028dbdf43147ec817617a.jpg"/>
          <p:cNvPicPr/>
          <p:nvPr/>
        </p:nvPicPr>
        <p:blipFill>
          <a:blip r:embed="rId5"/>
          <a:stretch/>
        </p:blipFill>
        <p:spPr>
          <a:xfrm>
            <a:off x="1042920" y="2565360"/>
            <a:ext cx="2305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4"/>
          <p:cNvSpPr/>
          <p:nvPr/>
        </p:nvSpPr>
        <p:spPr>
          <a:xfrm>
            <a:off x="248436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- обер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1042920" y="476280"/>
            <a:ext cx="770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кукла является исторической частицей культуры народов России. Кукла, как игровой образ, символизирует человека, его эпоху, историю культуры народов (русские обряды и обычаи). Тряпичные куклы выполнялись в народных традициях с применением старинных техник и технологий. Народная кукла с давних времён делалась из веточек и лоскутиков, сухой травы. Куклы символизировали всё тайное и волшебное, что есть в душ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Рисунок 553" descr="Русская народна кукла"/>
          <p:cNvPicPr/>
          <p:nvPr/>
        </p:nvPicPr>
        <p:blipFill>
          <a:blip r:embed="rId3"/>
          <a:stretch/>
        </p:blipFill>
        <p:spPr>
          <a:xfrm>
            <a:off x="971640" y="249228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576" descr="Берегиня"/>
          <p:cNvPicPr/>
          <p:nvPr/>
        </p:nvPicPr>
        <p:blipFill>
          <a:blip r:embed="rId4"/>
          <a:stretch/>
        </p:blipFill>
        <p:spPr>
          <a:xfrm>
            <a:off x="3059280" y="2492280"/>
            <a:ext cx="1728720" cy="19447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578" descr="http://img-fotki.yandex.ru/get/6005/zaryanka-tlt.6/0_5a158_871afc8a_M"/>
          <p:cNvPicPr/>
          <p:nvPr/>
        </p:nvPicPr>
        <p:blipFill>
          <a:blip r:embed="rId5"/>
          <a:stretch/>
        </p:blipFill>
        <p:spPr>
          <a:xfrm>
            <a:off x="5219640" y="2492280"/>
            <a:ext cx="1656000" cy="19447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580" descr="Капустка"/>
          <p:cNvPicPr/>
          <p:nvPr/>
        </p:nvPicPr>
        <p:blipFill>
          <a:blip r:embed="rId6"/>
          <a:stretch/>
        </p:blipFill>
        <p:spPr>
          <a:xfrm>
            <a:off x="7236000" y="2492280"/>
            <a:ext cx="1692000" cy="20163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588" descr="Коляда"/>
          <p:cNvPicPr/>
          <p:nvPr/>
        </p:nvPicPr>
        <p:blipFill>
          <a:blip r:embed="rId7"/>
          <a:stretch/>
        </p:blipFill>
        <p:spPr>
          <a:xfrm>
            <a:off x="971640" y="465300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Неразлучники"/>
          <p:cNvPicPr/>
          <p:nvPr/>
        </p:nvPicPr>
        <p:blipFill>
          <a:blip r:embed="rId8"/>
          <a:stretch/>
        </p:blipFill>
        <p:spPr>
          <a:xfrm>
            <a:off x="3059280" y="4653000"/>
            <a:ext cx="194436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593" descr="Птица-Радость"/>
          <p:cNvPicPr/>
          <p:nvPr/>
        </p:nvPicPr>
        <p:blipFill>
          <a:blip r:embed="rId9"/>
          <a:stretch/>
        </p:blipFill>
        <p:spPr>
          <a:xfrm>
            <a:off x="7380360" y="4724280"/>
            <a:ext cx="1566720" cy="194472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604" descr="Травница"/>
          <p:cNvPicPr/>
          <p:nvPr/>
        </p:nvPicPr>
        <p:blipFill>
          <a:blip r:embed="rId10"/>
          <a:stretch/>
        </p:blipFill>
        <p:spPr>
          <a:xfrm>
            <a:off x="5435640" y="4653000"/>
            <a:ext cx="1512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5"/>
          <p:cNvSpPr/>
          <p:nvPr/>
        </p:nvSpPr>
        <p:spPr>
          <a:xfrm>
            <a:off x="3562920" y="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6"/>
          <p:cNvSpPr/>
          <p:nvPr/>
        </p:nvSpPr>
        <p:spPr>
          <a:xfrm>
            <a:off x="1042920" y="1074600"/>
            <a:ext cx="4969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в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т в домах и дворах. На Руси верили, что ни один дом не стоит без домового. От уважительного отношения к домовому напрямую зависело благополучие дома. При переезде на новое место домовой обязательно звался с собой. Его перевозили в лапте, на хлебной лопатке или на венике, приговаривая при этом «вот те сани, поезжай с нами  Ежели в котором дому Домовой полюбит хозяина, то кормит и холит его лошадей, о всём печётся, и у самого хозяина бороду плетёт в косы. Чей же дом не полюбит, там разоряет хозяина в корень, переводя у него скот, беспокоя его по ночам, и ломая всё в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http://im3-tub-ru.yandex.net/i?id=102206690-20-72"/>
          <p:cNvPicPr/>
          <p:nvPr/>
        </p:nvPicPr>
        <p:blipFill>
          <a:blip r:embed="rId3"/>
          <a:stretch/>
        </p:blipFill>
        <p:spPr>
          <a:xfrm>
            <a:off x="6012000" y="1413000"/>
            <a:ext cx="31176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4"/>
          <p:cNvSpPr/>
          <p:nvPr/>
        </p:nvSpPr>
        <p:spPr>
          <a:xfrm>
            <a:off x="1116000" y="300816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едставить семью в виде дерева, то крона – это вы, наше будуще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что радует глаз  ветви – ваши родител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линии его потом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- ваши пр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рни –  родоначальник, это что держит крону, это трад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http://www.stihi.ru/pics/2012/07/28/3396.jpg"/>
          <p:cNvPicPr/>
          <p:nvPr/>
        </p:nvPicPr>
        <p:blipFill>
          <a:blip r:embed="rId3"/>
          <a:stretch/>
        </p:blipFill>
        <p:spPr>
          <a:xfrm>
            <a:off x="5148360" y="836640"/>
            <a:ext cx="3816360" cy="554508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оугольник 5"/>
          <p:cNvSpPr/>
          <p:nvPr/>
        </p:nvSpPr>
        <p:spPr>
          <a:xfrm>
            <a:off x="2782080" y="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енеалогическое древ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6"/>
          <p:cNvSpPr/>
          <p:nvPr/>
        </p:nvSpPr>
        <p:spPr>
          <a:xfrm>
            <a:off x="971640" y="105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ьное древо – схематическое представление родственных связей в виде дерева .Генеалогическим деревом также называют представление родословных в виде восходящих или нисходящих генеалогических таб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http://zhdemgostey.ru/wp-content/uploads/2012/01/gosty.jpg"/>
          <p:cNvPicPr/>
          <p:nvPr/>
        </p:nvPicPr>
        <p:blipFill>
          <a:blip r:embed="rId4"/>
          <a:stretch/>
        </p:blipFill>
        <p:spPr>
          <a:xfrm>
            <a:off x="1692360" y="2637000"/>
            <a:ext cx="6408720" cy="403200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3"/>
          <p:cNvSpPr/>
          <p:nvPr/>
        </p:nvSpPr>
        <p:spPr>
          <a:xfrm>
            <a:off x="1116000" y="26028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,  направлены на духовный мир личности и выполняет роль средств воспроизведения, повторения и закрепления общепринятых общественных отношений не непосредственно, а через формирование морального и духовного облика человека, складывающегося в соответствии с этими отношениями.  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русское гостеприимство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1332000" y="126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ычай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ывает человеку более детальные поведение и поступки в определённых ситуация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символическое, но всякое вообще повторяющееся и установленное традицией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: рукопожатия при встрече близких друзей или родственников,  вредный обычай-  угощать спиртным при встрече родственников, друзей и знакомых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http://im5-tub-ru.yandex.net/i?id=84543357-1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093760"/>
            <a:ext cx="3095640" cy="2579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http://www.zhaba.ru/_pics/ordjt4e0wnv7y5x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62360" y="2852640"/>
            <a:ext cx="38894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5"/>
          <p:cNvSpPr/>
          <p:nvPr/>
        </p:nvSpPr>
        <p:spPr>
          <a:xfrm>
            <a:off x="1042920" y="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изирует форму выражения общепринятого в той или иной местности поведения в особо яркие моменты жизни человек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обряды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дебный,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щения, погреб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ряды считались столь же необходимым компонентом жизни, как и празд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овая культур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и есть порядок во всех проявлениях общественной жизни к данному случаю, обрядов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а, этический кодекс, регулирующий коллективные настроения и эмоц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http://im6-tub-ru.yandex.net/i?id=261442159-0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421000"/>
            <a:ext cx="3743280" cy="3384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http://im7-tub-ru.yandex.net/i?id=532937725-54-72"/>
          <p:cNvPicPr/>
          <p:nvPr/>
        </p:nvPicPr>
        <p:blipFill>
          <a:blip r:embed="rId6"/>
          <a:stretch/>
        </p:blipFill>
        <p:spPr>
          <a:xfrm>
            <a:off x="5076720" y="306864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http://im5-tub-ru.yandex.net/i?id=250097992-01-72"/>
          <p:cNvPicPr/>
          <p:nvPr/>
        </p:nvPicPr>
        <p:blipFill>
          <a:blip r:embed="rId4"/>
          <a:stretch/>
        </p:blipFill>
        <p:spPr>
          <a:xfrm>
            <a:off x="5940360" y="260280"/>
            <a:ext cx="2952720" cy="2737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http://slavs.org.ua/img/calendar_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2809800"/>
            <a:ext cx="4248000" cy="3832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6"/>
          <p:cNvSpPr/>
          <p:nvPr/>
        </p:nvSpPr>
        <p:spPr>
          <a:xfrm>
            <a:off x="1042920" y="189000"/>
            <a:ext cx="4572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одный календар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 назывался месяцесловом. Месяцеслов охватывал весь год крестьянской жизни, «описывая» его  по дням месяц за месяцем, где каждому дню соответствовали свои праздники или будни, обычаи и суеверия, традиции и обряды, природные приметы и 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7"/>
          <p:cNvSpPr/>
          <p:nvPr/>
        </p:nvSpPr>
        <p:spPr>
          <a:xfrm>
            <a:off x="5435640" y="3284640"/>
            <a:ext cx="370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й календарь является своего рода энциклопедией крестьянского быта.  Он включает в себя знание  природы,  сельскохозяйственный опыт, обряды, нормы общественной жизни и является слиянием языческого и христианского начал, народным православием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4"/>
          <p:cNvSpPr/>
          <p:nvPr/>
        </p:nvSpPr>
        <p:spPr>
          <a:xfrm>
            <a:off x="1187280" y="0"/>
            <a:ext cx="777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зднично-обрядовая культу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900000" y="549360"/>
            <a:ext cx="817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имние праздники –  две святочные недели (святки):   Рождество, Новый год (по старому стилю) и Крещение. В праздники затевали магические игры, производили символические действия с зерном, хлебом, соломой ("чтобы был урожай"),  ходили по домам колядовать,  девушки гад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http://im4-tub-ru.yandex.net/i?id=314727918-04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227160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http://im2-tub-ru.yandex.net/i?id=458563178-64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87280" y="2421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136" descr="http://culture.astrgorod.ru/sites/default/files/maslenitsapost42.jpg"/>
          <p:cNvPicPr/>
          <p:nvPr/>
        </p:nvPicPr>
        <p:blipFill>
          <a:blip r:embed="rId4"/>
          <a:stretch/>
        </p:blipFill>
        <p:spPr>
          <a:xfrm>
            <a:off x="1042920" y="189000"/>
            <a:ext cx="3816360" cy="302400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6"/>
          <p:cNvSpPr/>
          <p:nvPr/>
        </p:nvSpPr>
        <p:spPr>
          <a:xfrm>
            <a:off x="5003640" y="476280"/>
            <a:ext cx="38894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воды зимы и встреча весны)- длилась целую неделю и   Начиная с четверга масленичной недели все работы прекращались, начиналось шумное веселье. Ходили друг к другу в гости, обильно угощались блинами, оладьями, пирогами, была и выпив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8"/>
          <p:cNvSpPr/>
          <p:nvPr/>
        </p:nvSpPr>
        <p:spPr>
          <a:xfrm>
            <a:off x="900000" y="3357720"/>
            <a:ext cx="468000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Масленица – Сырная неделя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ришла нарядная к нам Весну встреча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 блины и развлекаться будем всю недел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иму студёную из дому прогн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ельник – «Встреч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орник – «Заигрыш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- «Лаком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г – «Разгуля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ица «Вечера  у тё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бота –»Золовкины угощ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ресенье – «Прощеный ден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е гулянье Ярмарка венча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ья, Масленица, приходи опя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9" descr="http://ru-an.info/Photo/2011/news_linked/foto-878-63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357720"/>
            <a:ext cx="446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Катя</cp:lastModifiedBy>
  <dcterms:modified xsi:type="dcterms:W3CDTF">2014-05-06T09:38:23Z</dcterms:modified>
  <cp:revision>1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390000000000010250300207f7000400038000</vt:lpwstr>
  </property>
</Properties>
</file>