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7.jpeg" ContentType="image/jpeg"/>
  <Override PartName="/ppt/media/image36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6.wmf" ContentType="image/x-wmf"/>
  <Override PartName="/ppt/media/image40.jpeg" ContentType="image/jpeg"/>
  <Override PartName="/ppt/media/image13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9.jpeg" ContentType="image/jpeg"/>
  <Override PartName="/ppt/media/image39.jpeg" ContentType="image/jpeg"/>
  <Override PartName="/ppt/media/image98.jpeg" ContentType="image/jpeg"/>
  <Override PartName="/ppt/media/image8.png" ContentType="image/png"/>
  <Override PartName="/ppt/media/image23.jpeg" ContentType="image/jpeg"/>
  <Override PartName="/ppt/media/image82.jpeg" ContentType="image/jpeg"/>
  <Override PartName="/ppt/media/image102.jpeg" ContentType="image/jpeg"/>
  <Override PartName="/ppt/media/image41.jpeg" ContentType="image/jpeg"/>
  <Override PartName="/ppt/media/image14.jpeg" ContentType="image/jpeg"/>
  <Override PartName="/ppt/media/image12.jpeg" ContentType="image/jpeg"/>
  <Override PartName="/ppt/media/image29.jpeg" ContentType="image/jpeg"/>
  <Override PartName="/ppt/media/image8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47.jpeg" ContentType="image/jpeg"/>
  <Override PartName="/ppt/media/image24.jpeg" ContentType="image/jpeg"/>
  <Override PartName="/ppt/media/image83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96.jpeg" ContentType="image/jpeg"/>
  <Override PartName="/ppt/media/image93.jpeg" ContentType="image/jpeg"/>
  <Override PartName="/ppt/media/image95.jpeg" ContentType="image/jpeg"/>
  <Override PartName="/ppt/media/image50.jpeg" ContentType="image/jpeg"/>
  <Override PartName="/ppt/media/image75.jpeg" ContentType="image/jpeg"/>
  <Override PartName="/ppt/media/image94.jpeg" ContentType="image/jpeg"/>
  <Override PartName="/ppt/media/image20.jpeg" ContentType="image/jpeg"/>
  <Override PartName="/ppt/media/image74.jpeg" ContentType="image/jpeg"/>
  <Override PartName="/ppt/media/image76.jpeg" ContentType="image/jpeg"/>
  <Override PartName="/ppt/media/image73.jpeg" ContentType="image/jpeg"/>
  <Override PartName="/ppt/media/image99.jpeg" ContentType="image/jpeg"/>
  <Override PartName="/ppt/media/image70.jpeg" ContentType="image/jpeg"/>
  <Override PartName="/ppt/media/image21.jpeg" ContentType="image/jpeg"/>
  <Override PartName="/ppt/media/image100.jpeg" ContentType="image/jpeg"/>
  <Override PartName="/ppt/media/image8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101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17.jpeg" ContentType="image/jpeg"/>
  <Override PartName="/ppt/media/image92.jpeg" ContentType="image/jpeg"/>
  <Override PartName="/ppt/media/image3.png" ContentType="image/png"/>
  <Override PartName="/ppt/media/image56.jpeg" ContentType="image/jpeg"/>
  <Override PartName="/ppt/media/image25.jpeg" ContentType="image/jpeg"/>
  <Override PartName="/ppt/media/image84.jpeg" ContentType="image/jpeg"/>
  <Override PartName="/ppt/media/image2.png" ContentType="image/png"/>
  <Override PartName="/ppt/media/image72.jpeg" ContentType="image/jpeg"/>
  <Override PartName="/ppt/media/image85.jpeg" ContentType="image/jpeg"/>
  <Override PartName="/ppt/media/image26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86.jpeg" ContentType="image/jpeg"/>
  <Override PartName="/ppt/media/image19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115F-6973-435E-B94A-4C9772264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669E-472A-4C41-9B46-00E706041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5316C3-9F28-435E-BAE8-1E449C445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27DA91-DE6C-4BB6-8802-3DF3EDD69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F10F38-FEB1-432F-BE53-6C39B8F4D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890543-B1A1-414E-A450-A69B1D341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42E2EB-3844-4555-8AF6-BEE69724F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872FF7-BC50-4A61-9CE7-4262A28E2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5F97F2-D4CD-4122-9D18-E1734493B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86C76F-BD82-45B7-BBAA-C1492FE2E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380CFC-BDC2-40D7-BE2D-EA9F20E53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7067-35F5-431A-846B-920FD9030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E3FA-09A3-4676-B919-04B51AC72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0C4D0-541F-4234-9153-6F750A39C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FAC80-F4AC-4670-9123-8A51FBB31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D80CA-F47A-4F09-A73C-1111E381E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1F6C6-21A3-47B7-9D4A-E4CAC8243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0C0CE-1025-4566-A01F-9EE351D3F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1C769-D7A3-40BB-9D5B-86712DCD1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6D147-2409-4F4E-9ABC-287F4F2F1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58C9-5DCB-41CC-8B88-44260C1F8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081D9-5A3D-441D-9C31-3677EAD7A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74A42-131E-42FF-8626-0F134EBD9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13479-2574-4852-92A6-AD4C53238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2236E-15CF-4C73-A1A0-9EF6F0411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D82D8-A82F-4264-A527-9EC186523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40A20-5A10-4EE1-8C77-7E8BEE1A9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FF874-A707-403F-BD9B-BE8C60C00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07ED6-F777-4B4A-ABA3-C720BE988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48D27-75CC-4C16-A32B-7322499A3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425DC-DDA7-426A-8F16-28611056F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079D-2C65-4851-A54F-9886EAA56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11A77-7BCC-4C7D-ADDB-9FC42E83B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11322-D299-4DF1-985C-A03E91B92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87215-54EE-4EB7-B49B-6DFD2BE43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B3245-BA28-4C48-89CD-D3B0F061E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A80D5-5897-4C61-A584-13CB576FD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6FD1D-8EB3-4D2B-B891-E0A17EFC1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28E62-6293-4132-9937-CB5D8358D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0DA91-08DA-4431-B8EC-02C6459E0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143B4-377F-4C0A-962F-86A251FF3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E0171-333A-452E-A8E1-D872FE662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5B84-B8A3-4A3D-B091-83A660F12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3A6B2-F833-41AA-9C5C-9FF3ED509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4CD55-B14C-4AE4-9C15-9E558334E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52375-6DB0-4F81-ACDD-882768EF5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A1A33-8DDB-4AFB-8008-EB300E47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6ED58-AD5B-42A2-B1E5-ED10427B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E434B-DB25-41E4-B2E9-777DED550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240F3-1ECF-48A8-9E7B-2B4E52BA0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96A95-B3BC-4342-83F2-AA4BB052A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13E05-F320-4929-BA6A-CB065821A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7755F-B48C-4767-A53D-2A578384F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7DD4-A476-433B-B443-F59CAC3C7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502AFE-BA5A-40A3-8C9B-404DEAB7C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8FC8AD-71CF-4258-B27C-0F2BEBAFB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B25F9-B9E9-4099-9167-9238A355C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29041F-E2E5-4DB3-9219-CDBFF0B03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0CA68C-2942-4463-AA57-1B168868A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DFD43-291E-4EBF-9676-F9A4FACD7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4D063F-BFAB-449E-A2FE-AE254401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F10F1-A22B-4DA3-AC27-DEBBD53C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9468C-D911-457E-8D03-FD7CC76F6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7C73B-87FF-4CC7-A296-2DC4278D9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AFEE-CB18-42BA-953C-6910AC7C5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80B298-E57E-4D99-A34D-242AB090C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DB0E15-47AF-4678-A347-3732DC794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30491A-8595-4140-8B09-E578B24AB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2D2E44-9967-4C40-AED7-B16E0FB10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CF341D-90D9-48E7-B912-E9B95A318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5A88B3-CF94-4349-AFE8-B5AEE623D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EA9535-B596-463C-B132-519E56808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F10739-3C06-486C-9463-BACC5410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A0431D-85FE-404C-824C-BE9761CA5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377A78-4352-4F1E-9CF3-8FF822A1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C99E-3505-4C6B-AC72-1EB94BA30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7E9070-6942-49F2-A4EA-32245202E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25D9CB-70AB-4676-866E-92750F072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C3BDE8-99D3-4671-9B92-CA53E591D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E9F89C-F65D-4914-8D2D-53FA5F9F6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619237-E4C0-45FA-BB5F-AB1DD415E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879375-57E0-4763-B182-2F2F55A84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942FB8-F6D2-4E98-ADAD-47FD30D58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451AA7-2E3B-4CE6-8991-22878E397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CD346F-EF3F-46B9-9A89-A7926DDC7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EDCB6E-5BCF-4B9D-ADEB-1300E5A8D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73EA-23BC-420E-B444-58A2B281E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1DCFC8-EDA7-4D8D-8954-9A972BF6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3CE4A0-37CC-4AD0-AE76-AB07D2B16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EE6749-FCBC-46AD-88ED-730972351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E58547-4495-46B1-A503-AA2482E13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3DB668-E973-41BF-BB9C-3D9DE27B2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4A3B79-FE9B-473E-8349-CC9A3ABF2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F53DF0-B384-4591-93A1-A7986531C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13E75E-8BBE-4D27-BECE-8A4384FD4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39B0C8-B3EA-40F9-8D10-ECF4ADF0C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8A6A3E-E2B7-4AD6-B9F9-443CF8077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0AA2-E17F-4C2E-B60E-A8E195AFE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B331AD-23DE-48EF-976E-EC2069AEC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C8048D-D9E3-44A9-A5CE-AA52536E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74D1F7-C22A-44A8-92B9-85E33928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737DF3-B73A-4533-8955-D5E27281C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E019C9-96F2-49AA-957E-B176BD131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36C7C6-80EE-49A6-B79B-014EFB10A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62A020-FD47-4788-9519-F851084BA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D313BF-9D0B-4141-BE63-93566A836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82611A-046E-4A62-A46B-6C9129C6D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EE00B9-FF8C-4509-89A8-2C4DA84A4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6300E-1480-4794-80AB-11DA0A3AC35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B39F3-437C-4C6E-93C0-5311EA03AC9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0874E-8A3E-466A-A099-3BC55F2DE63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7F85F-1B9A-48F6-AF14-09948122AF9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527CB-DC8D-4F31-AE2E-3BE5DFCB0EF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BB3B3-4A24-4E88-8EEF-6280D354B5C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BF2CB-8162-4A64-A814-C10762735DB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C2C95-F9C0-4ABC-8566-EB951070553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C46CC-CFD8-44A5-8E9C-8866D397FEB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hyperlink" Target="http://klk.pp.ru/uploads/posts/uz-v1.jpg" TargetMode="External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klk.pp.ru/uploads/posts/uz-v1.jp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g-fotki.yandex.ru/get/4307/sunny-fanny.51/0_35b5b_a331cd03_XL.jpg" TargetMode="External"/><Relationship Id="rId4" Type="http://schemas.openxmlformats.org/officeDocument/2006/relationships/image" Target="../media/image21.jpeg"/><Relationship Id="rId5" Type="http://schemas.openxmlformats.org/officeDocument/2006/relationships/hyperlink" Target="http://www.spochan.ee/1123i367x500.jpg" TargetMode="External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images.yandex.ru/yandsearch?text=&#1090;&#1088;&#1086;&#1080;&#1094;&#1072;%20&#1086;&#1073;&#1099;&#1095;&#1072;&#1080;&amp;noreask=1&amp;img_url=http%3A%2F%2Fimg1.liveinternet.ru%2Fimages%2Fattach%2Fc%2F3%2F75%2F183%2F75183915_3419483_1.jpg&amp;pos=5&amp;rpt=simage&amp;lr=51&amp;nojs=1" TargetMode="External"/><Relationship Id="rId5" Type="http://schemas.openxmlformats.org/officeDocument/2006/relationships/image" Target="../media/image23.jpeg"/><Relationship Id="rId6" Type="http://schemas.openxmlformats.org/officeDocument/2006/relationships/hyperlink" Target="http://s44.radikal.ru/i106/0906/46/1b4483f3a4fb.jpg" TargetMode="External"/><Relationship Id="rId7" Type="http://schemas.openxmlformats.org/officeDocument/2006/relationships/image" Target="../media/image24.jpeg"/><Relationship Id="rId8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hyperlink" Target="http://www.poseti-nn.ru/images/afisha/6145.jpg" TargetMode="External"/><Relationship Id="rId7" Type="http://schemas.openxmlformats.org/officeDocument/2006/relationships/image" Target="../media/image29.jpeg"/><Relationship Id="rId8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os1.i.ua/3/1/7778292_5504c0a.jpg" TargetMode="External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alltradition.ru/wp-content/uploads/2010/07/1244276474_dd956d9b7936b80e251299afc7c2ac62.jpg" TargetMode="External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www.drugaya-arh.ru/200-text/arh-slov/pic-hata1.jpg" TargetMode="External"/><Relationship Id="rId5" Type="http://schemas.openxmlformats.org/officeDocument/2006/relationships/image" Target="../media/image34.jpeg"/><Relationship Id="rId6" Type="http://schemas.openxmlformats.org/officeDocument/2006/relationships/hyperlink" Target="http://img0.liveinternet.ru/images/attach/c/1/54/668/54668832_srub2.jpg" TargetMode="External"/><Relationship Id="rId7" Type="http://schemas.openxmlformats.org/officeDocument/2006/relationships/image" Target="../media/image35.jpeg"/><Relationship Id="rId8" Type="http://schemas.openxmlformats.org/officeDocument/2006/relationships/image" Target="../media/image36.jpeg"/><Relationship Id="rId9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supercook.ru/images-skazki-vypusk/rus-izba-02.jpg" TargetMode="External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hyperlink" Target="http://img1.liveinternet.ru/images/attach/c/3/77/406/77406103_4bf4f21c80ff5351d55169f7c800b18e.jpg" TargetMode="External"/><Relationship Id="rId7" Type="http://schemas.openxmlformats.org/officeDocument/2006/relationships/image" Target="../media/image40.jpeg"/><Relationship Id="rId8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images.yandex.ru/yandsearch?text=&#1085;&#1072;&#1088;&#1086;&#1076;&#1099;%20&#1088;&#1086;&#1089;&#1089;&#1080;&#1080;%20&#1080;%20&#1080;&#1093;%20&#1090;&#1088;&#1072;&#1076;&#1080;&#1094;&#1080;&#1080;&amp;noreask=1&amp;img_url=http%3A%2F%2Fmariuver.files.wordpress.com%2F2009%2F06%2Fmolodezh_bashkirii.jpg&amp;pos=0&amp;rpt=simage&amp;lr=240&amp;nojs=1" TargetMode="Externa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a18003.rimg.info/icon/17615530005312f4a72fc8da96650b9b0eba3897cf.jpg" TargetMode="External"/><Relationship Id="rId5" Type="http://schemas.openxmlformats.org/officeDocument/2006/relationships/image" Target="../media/image41.jpeg"/><Relationship Id="rId6" Type="http://schemas.openxmlformats.org/officeDocument/2006/relationships/hyperlink" Target="http://900igr.net/datas/istorija/Russkij-byt/0027-027-Pech.jpg" TargetMode="External"/><Relationship Id="rId7" Type="http://schemas.openxmlformats.org/officeDocument/2006/relationships/image" Target="../media/image42.jpeg"/><Relationship Id="rId8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images.yandex.ru/yandsearch?img_url=http%3A%2F%2Fimg0.liveinternet.ru%2Fimages%2Ffoto%2Fc%2F0%2Fapps%2F3%2F891%2F3891094_country-hor14.jpg&amp;iorient=&amp;icolor=&amp;site=&amp;text=&#1082;&#1088;&#1072;&#1089;&#1085;&#1099;&#1081;%20&#1091;&#1075;&#1086;&#1083;%20%20&#1074;%20&#1088;&#1091;&#1089;&#1089;&#1082;&#1086;&#1081;%20&#1080;&#1079;&#1073;&#1077;%20&#1085;&#1072;%20&#1088;&#1091;&#1089;&#1080;%20&#1082;&#1072;&#1088;&#1090;&#1080;&#1085;&#1082;&#1080;&amp;wp=&amp;pos=20&amp;isize=&amp;type=&amp;recent=&amp;rpt=simage&amp;itype=&amp;nojs=1" TargetMode="External"/><Relationship Id="rId5" Type="http://schemas.openxmlformats.org/officeDocument/2006/relationships/image" Target="../media/image43.jpeg"/><Relationship Id="rId6" Type="http://schemas.openxmlformats.org/officeDocument/2006/relationships/hyperlink" Target="http://images.yandex.ru/yandsearch?img_url=http%3A%2F%2Fs018.radikal.ru%2Fi501%2F1201%2Fce%2F82c00100ce75.jpg&amp;iorient=&amp;icolor=&amp;site=&amp;text=&#1082;&#1088;&#1072;&#1089;&#1085;&#1099;&#1081;%20&#1091;&#1075;&#1086;&#1083;%20%20&#1074;%20&#1088;&#1091;&#1089;&#1089;&#1082;&#1086;&#1081;%20&#1080;&#1079;&#1073;&#1077;%20&#1085;&#1072;%20&#1088;&#1091;&#1089;&#1080;%20&#1082;&#1072;&#1088;&#1090;&#1080;&#1085;&#1082;&#1080;&amp;wp=&amp;pos=0&amp;isize=&amp;type=&amp;recent=&amp;rpt=simage&amp;itype=&amp;nojs=1" TargetMode="External"/><Relationship Id="rId7" Type="http://schemas.openxmlformats.org/officeDocument/2006/relationships/image" Target="../media/image44.jpeg"/><Relationship Id="rId8" Type="http://schemas.openxmlformats.org/officeDocument/2006/relationships/hyperlink" Target="http://rosgorodishe.narod.ru/fotoalbom/pic144.jpg" TargetMode="External"/><Relationship Id="rId9" Type="http://schemas.openxmlformats.org/officeDocument/2006/relationships/image" Target="../media/image45.jpeg"/><Relationship Id="rId10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image" Target="../media/image48.jpeg"/><Relationship Id="rId7" Type="http://schemas.openxmlformats.org/officeDocument/2006/relationships/image" Target="../media/image49.jpeg"/><Relationship Id="rId8" Type="http://schemas.openxmlformats.org/officeDocument/2006/relationships/image" Target="../media/image50.jpeg"/><Relationship Id="rId9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image" Target="../media/image53.jpeg"/><Relationship Id="rId7" Type="http://schemas.openxmlformats.org/officeDocument/2006/relationships/hyperlink" Target="http://images.yandex.ru/yandsearch?text=&#1088;&#1091;&#1089;&#1089;&#1082;&#1072;&#1103;%20&#1085;&#1072;&#1088;&#1086;&#1076;&#1085;&#1072;&#1103;%20&#1091;&#1090;&#1074;&#1072;&#1088;&#1100;&amp;noreask=1&amp;img_url=http%3A%2F%2Fturometr.s3.amazonaws.com%2Fimages%2Fgallery%2F00%2F00%2F01%2F2010%2F03%2F25%2F214ca4__55374c71d9_600.gif&amp;pos=24&amp;rpt=simage&amp;lr=51&amp;nojs=1" TargetMode="External"/><Relationship Id="rId8" Type="http://schemas.openxmlformats.org/officeDocument/2006/relationships/image" Target="../media/image54.jpeg"/><Relationship Id="rId9" Type="http://schemas.openxmlformats.org/officeDocument/2006/relationships/image" Target="../media/image55.jpeg"/><Relationship Id="rId10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pics.livejournal.com/kristyushatmb/pic/00018hsk/s640x480" TargetMode="External"/><Relationship Id="rId5" Type="http://schemas.openxmlformats.org/officeDocument/2006/relationships/image" Target="../media/image56.jpeg"/><Relationship Id="rId6" Type="http://schemas.openxmlformats.org/officeDocument/2006/relationships/hyperlink" Target="http://images.yandex.ru/yandsearch?p=3&amp;text=&#1090;&#1088;&#1086;&#1080;&#1094;&#1072;%20&#1086;&#1073;&#1099;&#1095;&#1072;&#1080;&amp;noreask=1&amp;img_url=http%3A%2F%2Fshkolazhizni.ru%2Fimg%2Fcontent%2Fi1%2F1449.jpg&amp;pos=91&amp;rpt=simage&amp;lr=51&amp;nojs=1" TargetMode="External"/><Relationship Id="rId7" Type="http://schemas.openxmlformats.org/officeDocument/2006/relationships/image" Target="../media/image57.jpeg"/><Relationship Id="rId8" Type="http://schemas.openxmlformats.org/officeDocument/2006/relationships/hyperlink" Target="http://images.yandex.ru/yandsearch?img_url=http%3A%2F%2Fimg-fotki.yandex.ru%2Fget%2F5903%2Feugenio19.47%2F0_5637c_d8acc3b4_XL&amp;iorient=&amp;icolor=&amp;site=&amp;text=&#1088;&#1091;&#1089;&#1089;&#1082;&#1072;&#1103;%20&#1073;&#1072;&#1085;&#1103;%20&#1082;&#1072;&#1088;&#1090;&#1080;&#1085;&#1082;&#1080;&amp;wp=&amp;pos=1&amp;isize=&amp;type=&amp;recent=&amp;rpt=simage&amp;itype=&amp;nojs=1" TargetMode="External"/><Relationship Id="rId9" Type="http://schemas.openxmlformats.org/officeDocument/2006/relationships/image" Target="../media/image58.jpeg"/><Relationship Id="rId10" Type="http://schemas.openxmlformats.org/officeDocument/2006/relationships/image" Target="../media/image59.jpeg"/><Relationship Id="rId11" Type="http://schemas.openxmlformats.org/officeDocument/2006/relationships/image" Target="../media/image60.jpeg"/><Relationship Id="rId12" Type="http://schemas.openxmlformats.org/officeDocument/2006/relationships/image" Target="../media/image61.jpeg"/><Relationship Id="rId13" Type="http://schemas.openxmlformats.org/officeDocument/2006/relationships/image" Target="../media/image62.jpeg"/><Relationship Id="rId14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63.jpeg"/><Relationship Id="rId5" Type="http://schemas.openxmlformats.org/officeDocument/2006/relationships/hyperlink" Target="http://images.yandex.ru/yandsearch?img_url=http%3A%2F%2Fimg.rian.ru%2Fimages%2F11938%2F28%2F119382805.jpg&amp;iorient=&amp;icolor=&amp;site=&amp;text=&#1050;&#1072;&#1082;%20&#1093;&#1086;&#1076;&#1080;&#1083;&#1080;%20&#1079;&#1072;%20&#1074;&#1086;&#1076;&#1086;&#1081;%20&#1088;&#1091;&#1089;&#1080;%20&#1082;&#1072;&#1088;&#1090;&#1080;&#1085;&#1082;&#1080;&amp;wp=&amp;pos=2&amp;isize=&amp;type=&amp;recent=&amp;rpt=simage&amp;itype=&amp;nojs=1" TargetMode="External"/><Relationship Id="rId6" Type="http://schemas.openxmlformats.org/officeDocument/2006/relationships/image" Target="../media/image64.jpeg"/><Relationship Id="rId7" Type="http://schemas.openxmlformats.org/officeDocument/2006/relationships/image" Target="../media/image65.jpeg"/><Relationship Id="rId8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66.jpeg"/><Relationship Id="rId5" Type="http://schemas.openxmlformats.org/officeDocument/2006/relationships/image" Target="../media/image67.jpeg"/><Relationship Id="rId6" Type="http://schemas.openxmlformats.org/officeDocument/2006/relationships/hyperlink" Target="http://images.yandex.ru/yandsearch?img_url=http%3A%2F%2Fafield.org.ua%2Fmod3%2Fimg%2Fmod74_1_8.jpg&amp;iorient=&amp;icolor=&amp;p=1&amp;site=&amp;text=&#1084;&#1091;&#1078;&#1089;&#1082;&#1086;&#1081;%20&#1082;&#1086;&#1089;&#1090;&#1102;&#1084;%20%20&#1088;&#1091;&#1089;&#1080;%20&#1082;&#1072;&#1088;&#1090;&#1080;&#1085;&#1082;&#1080;&amp;wp=&amp;pos=31&amp;isize=&amp;type=&amp;recent=&amp;rpt=simage&amp;itype=&amp;nojs=1" TargetMode="External"/><Relationship Id="rId7" Type="http://schemas.openxmlformats.org/officeDocument/2006/relationships/image" Target="../media/image68.jpeg"/><Relationship Id="rId8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70.jpeg"/><Relationship Id="rId5" Type="http://schemas.openxmlformats.org/officeDocument/2006/relationships/image" Target="../media/image71.jpeg"/><Relationship Id="rId6" Type="http://schemas.openxmlformats.org/officeDocument/2006/relationships/image" Target="../media/image72.jpeg"/><Relationship Id="rId7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73.jpeg"/><Relationship Id="rId5" Type="http://schemas.openxmlformats.org/officeDocument/2006/relationships/image" Target="../media/image74.jpeg"/><Relationship Id="rId6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img-fotki.yandex.ru/get/3509/swirelka.21/0_29f64_dc55dd10_XL" TargetMode="External"/><Relationship Id="rId5" Type="http://schemas.openxmlformats.org/officeDocument/2006/relationships/image" Target="../media/image75.jpeg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76.jpeg"/><Relationship Id="rId5" Type="http://schemas.openxmlformats.org/officeDocument/2006/relationships/hyperlink" Target="http://img11.nnm.ru/7/5/4/8/3/d632aabfc2f44bd2c2b7a8eaa68_prev.jpg" TargetMode="External"/><Relationship Id="rId6" Type="http://schemas.openxmlformats.org/officeDocument/2006/relationships/image" Target="../media/image77.jpeg"/><Relationship Id="rId7" Type="http://schemas.openxmlformats.org/officeDocument/2006/relationships/image" Target="../media/image78.jpeg"/><Relationship Id="rId8" Type="http://schemas.openxmlformats.org/officeDocument/2006/relationships/hyperlink" Target="http://vasi.net/uploads/posts/2008-05/mthumbs/1212071084_2201_08_1.jpg" TargetMode="External"/><Relationship Id="rId9" Type="http://schemas.openxmlformats.org/officeDocument/2006/relationships/image" Target="../media/image79.jpeg"/><Relationship Id="rId10" Type="http://schemas.openxmlformats.org/officeDocument/2006/relationships/image" Target="../media/image80.jpeg"/><Relationship Id="rId1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piromagazin.ru/img/fed/182.jpg" TargetMode="External"/><Relationship Id="rId2" Type="http://schemas.openxmlformats.org/officeDocument/2006/relationships/image" Target="../media/image81.jpeg"/><Relationship Id="rId3" Type="http://schemas.openxmlformats.org/officeDocument/2006/relationships/image" Target="../media/image69.jpeg"/><Relationship Id="rId4" Type="http://schemas.openxmlformats.org/officeDocument/2006/relationships/hyperlink" Target="http://klk.pp.ru/uploads/posts/uz-v1.jpg" TargetMode="External"/><Relationship Id="rId5" Type="http://schemas.openxmlformats.org/officeDocument/2006/relationships/image" Target="../media/image7.jpeg"/><Relationship Id="rId6" Type="http://schemas.openxmlformats.org/officeDocument/2006/relationships/image" Target="../media/image82.jpeg"/><Relationship Id="rId7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img-fotki.yandex.ru/get/5402/kovlevelen.0/0_31adb_28e571bd_L" TargetMode="External"/><Relationship Id="rId5" Type="http://schemas.openxmlformats.org/officeDocument/2006/relationships/image" Target="../media/image83.jpeg"/><Relationship Id="rId6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84.jpeg"/><Relationship Id="rId5" Type="http://schemas.openxmlformats.org/officeDocument/2006/relationships/image" Target="../media/image85.jpeg"/><Relationship Id="rId6" Type="http://schemas.openxmlformats.org/officeDocument/2006/relationships/image" Target="../media/image86.jpeg"/><Relationship Id="rId7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image" Target="../media/image87.jpeg"/><Relationship Id="rId4" Type="http://schemas.openxmlformats.org/officeDocument/2006/relationships/image" Target="../media/image88.jpeg"/><Relationship Id="rId5" Type="http://schemas.openxmlformats.org/officeDocument/2006/relationships/image" Target="../media/image89.jpeg"/><Relationship Id="rId6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image" Target="../media/image90.jpeg"/><Relationship Id="rId4" Type="http://schemas.openxmlformats.org/officeDocument/2006/relationships/image" Target="../media/image91.jpeg"/><Relationship Id="rId5" Type="http://schemas.openxmlformats.org/officeDocument/2006/relationships/image" Target="../media/image92.jpeg"/><Relationship Id="rId6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image" Target="../media/image93.jpeg"/><Relationship Id="rId4" Type="http://schemas.openxmlformats.org/officeDocument/2006/relationships/image" Target="../media/image94.jpeg"/><Relationship Id="rId5" Type="http://schemas.openxmlformats.org/officeDocument/2006/relationships/image" Target="../media/image95.jpeg"/><Relationship Id="rId6" Type="http://schemas.openxmlformats.org/officeDocument/2006/relationships/image" Target="../media/image96.jpeg"/><Relationship Id="rId7" Type="http://schemas.openxmlformats.org/officeDocument/2006/relationships/image" Target="../media/image97.jpeg"/><Relationship Id="rId8" Type="http://schemas.openxmlformats.org/officeDocument/2006/relationships/image" Target="../media/image98.jpeg"/><Relationship Id="rId9" Type="http://schemas.openxmlformats.org/officeDocument/2006/relationships/image" Target="../media/image99.jpeg"/><Relationship Id="rId10" Type="http://schemas.openxmlformats.org/officeDocument/2006/relationships/image" Target="../media/image100.jpeg"/><Relationship Id="rId1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image" Target="../media/image101.jpeg"/><Relationship Id="rId4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image" Target="../media/image102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images.yandex.ru/yandsearch?img_url=http%3A%2F%2Fcicpx.narod.ru%2F2005-03-09%2Fimage007.jpg&amp;iorient=&amp;nojs=1&amp;icolor=&amp;site=&amp;text=&#1088;&#1091;&#1089;&#1089;&#1082;&#1086;&#1077;%20&#1085;&#1072;&#1088;&#1086;&#1076;&#1085;&#1086;&#1077;%20%20&#1088;&#1091;&#1082;&#1086;&#1087;&#1086;&#1078;&#1072;&#1090;&#1080;&#1077;&amp;wp=&amp;pos=4&amp;isize=&amp;type=&amp;recent=&amp;rpt=simage&amp;itype=" TargetMode="External"/><Relationship Id="rId5" Type="http://schemas.openxmlformats.org/officeDocument/2006/relationships/image" Target="../media/image11.jpeg"/><Relationship Id="rId6" Type="http://schemas.openxmlformats.org/officeDocument/2006/relationships/hyperlink" Target="http://www.zhaba.ru/_pics/ordjt4e0wnv7y5x0.jpg" TargetMode="External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images.yandex.ru/yandsearch?img_url=http%3A%2F%2Fcs4321.userapi.com%2Fu10335256%2F94635287%2Fs_ba99279f.jpg&amp;iorient=&amp;nojs=1&amp;icolor=&amp;site=&amp;text=&#1088;&#1091;&#1089;&#1089;&#1082;&#1072;&#1103;%20&#1089;&#1074;&#1072;&#1076;&#1100;&#1073;&#1072;&amp;wp=&amp;pos=3&amp;isize=&amp;type=&amp;recent=&amp;rpt=simage&amp;itype=" TargetMode="External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15.jpeg"/><Relationship Id="rId5" Type="http://schemas.openxmlformats.org/officeDocument/2006/relationships/hyperlink" Target="http://slavs.org.ua/img/calendar_t.jpg" TargetMode="External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images.yandex.ru/yandsearch?img_url=http%3A%2F%2Fs016.radikal.ru%2Fi337%2F1101%2Fca%2F0d1e0b9040e7.jpg&amp;iorient=&amp;icolor=&amp;p=3&amp;site=&amp;text=&#1082;&#1086;&#1083;&#1103;&#1076;&#1086;&#1074;&#1072;&#1085;&#1080;&#1077;%20&#1085;&#1072;%20&#1088;&#1091;&#1089;&#1080;%20%20&#1082;&#1072;&#1088;&#1090;&#1080;&#1085;&#1082;&#1080;&amp;wp=&amp;pos=100&amp;isize=&amp;type=&amp;recent=&amp;rpt=simage&amp;itype=&amp;nojs=1" TargetMode="External"/><Relationship Id="rId5" Type="http://schemas.openxmlformats.org/officeDocument/2006/relationships/image" Target="../media/image17.jpeg"/><Relationship Id="rId6" Type="http://schemas.openxmlformats.org/officeDocument/2006/relationships/hyperlink" Target="http://images.yandex.ru/yandsearch?img_url=http%3A%2F%2Fimg-fotki.yandex.ru%2Fget%2F2712%2Ftatyanasadovikova.4%2F0_22f77_a951c977_L&amp;iorient=&amp;icolor=&amp;site=&amp;text=&#1082;&#1086;&#1083;&#1103;&#1076;&#1086;&#1074;&#1072;&#1085;&#1080;&#1077;%20&#1085;&#1072;%20&#1088;&#1091;&#1089;&#1080;%20%20&#1082;&#1072;&#1088;&#1090;&#1080;&#1085;&#1082;&#1080;&amp;wp=&amp;pos=12&amp;isize=&amp;type=&amp;recent=&amp;rpt=simage&amp;itype=&amp;nojs=1" TargetMode="External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klk.pp.ru/uploads/posts/uz-v1.jpg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19.jpeg"/><Relationship Id="rId5" Type="http://schemas.openxmlformats.org/officeDocument/2006/relationships/hyperlink" Target="http://ru-an.info/Photo/2011/news_linked/foto-878-637.jpg" TargetMode="External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Прямоугольник 4"/>
          <p:cNvSpPr/>
          <p:nvPr/>
        </p:nvSpPr>
        <p:spPr>
          <a:xfrm>
            <a:off x="900000" y="1125360"/>
            <a:ext cx="82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Bolero script"/>
              </a:rPr>
              <a:t>Обычаи, обряды и традиции русского народа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2" descr="http://go4.imgsmail.ru/imgpreview?key=http%3A//900igr.net/datai/istorija/Russkij-byt/0002-002-Byt-russkikh-ljudej.jpg&amp;mb=imgdb_preview_108"/>
          <p:cNvPicPr/>
          <p:nvPr/>
        </p:nvPicPr>
        <p:blipFill>
          <a:blip r:embed="rId1"/>
          <a:stretch/>
        </p:blipFill>
        <p:spPr>
          <a:xfrm>
            <a:off x="3811680" y="3086280"/>
            <a:ext cx="3595680" cy="3098520"/>
          </a:xfrm>
          <a:prstGeom prst="rect">
            <a:avLst/>
          </a:prstGeom>
          <a:ln w="0">
            <a:noFill/>
          </a:ln>
        </p:spPr>
      </p:pic>
      <p:sp>
        <p:nvSpPr>
          <p:cNvPr id="401" name="Прямоугольник 8"/>
          <p:cNvSpPr/>
          <p:nvPr/>
        </p:nvSpPr>
        <p:spPr>
          <a:xfrm>
            <a:off x="1042920" y="6094440"/>
            <a:ext cx="4321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дготовил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илязова Екатерина, 9 Б 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3" descr="frame22P_var"/>
          <p:cNvPicPr/>
          <p:nvPr/>
        </p:nvPicPr>
        <p:blipFill>
          <a:blip r:embed="rId2"/>
          <a:srcRect l="0" t="4850" r="92044" b="0"/>
          <a:stretch/>
        </p:blipFill>
        <p:spPr>
          <a:xfrm>
            <a:off x="824400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" descr="uz-v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404" name="TextBox 2" descr=""/>
          <p:cNvPicPr/>
          <p:nvPr/>
        </p:nvPicPr>
        <p:blipFill>
          <a:blip r:embed="rId5"/>
          <a:stretch/>
        </p:blipFill>
        <p:spPr>
          <a:xfrm>
            <a:off x="950760" y="573120"/>
            <a:ext cx="729144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1" descr="uz-v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446" name="Прямоугольник 3"/>
          <p:cNvSpPr/>
          <p:nvPr/>
        </p:nvSpPr>
        <p:spPr>
          <a:xfrm>
            <a:off x="971640" y="18900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сх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 расцвет весны, пробуждение жизни) - церковный праздни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асху украшали дом  срезанной вербой, пекли сдобные хлеба (куличи, пасхи), красили яйца (Крашенки), посещали церковь, ходили друг к другу в гости, обменивались при встрече крашенками, христосовались (целовались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, приветствовали  друг друг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«Христос воскрес!» - «Воистину воскрес!»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</a:t>
            </a:r>
            <a:r>
              <a:rPr b="0" i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Прямоугольник 4"/>
          <p:cNvSpPr/>
          <p:nvPr/>
        </p:nvSpPr>
        <p:spPr>
          <a:xfrm>
            <a:off x="2916360" y="6488280"/>
            <a:ext cx="59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йца – символ Солнца и зарождения новой жизни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15" descr="http://img-fotki.yandex.ru/get/4307/sunny-fanny.51/0_35b5b_a331cd03_XL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42920" y="3213000"/>
            <a:ext cx="2665440" cy="3213360"/>
          </a:xfrm>
          <a:prstGeom prst="rect">
            <a:avLst/>
          </a:prstGeom>
          <a:ln w="0">
            <a:noFill/>
          </a:ln>
        </p:spPr>
      </p:pic>
      <p:sp>
        <p:nvSpPr>
          <p:cNvPr id="449" name="Прямоугольник 11"/>
          <p:cNvSpPr/>
          <p:nvPr/>
        </p:nvSpPr>
        <p:spPr>
          <a:xfrm>
            <a:off x="3924360" y="429264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асху водили хороводы, гуляли  по улицам, катались на качелях, катали яйца . После пасхальной недели во вторник отмечали родительский день - посещали кладбища, приносили еду к могилам умерших родственников, в том числе и пасхальную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17" descr="http://www.spochan.ee/1123i367x500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867280" y="260280"/>
            <a:ext cx="30258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453" name="Rectangle 4"/>
          <p:cNvSpPr/>
          <p:nvPr/>
        </p:nvSpPr>
        <p:spPr>
          <a:xfrm>
            <a:off x="914400" y="626760"/>
            <a:ext cx="464328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роица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аздновали на седьмой неделе после Пасхи ( в воскресень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Picture 6" descr="http://im3-tub-ru.yandex.net/i?id=180458430-65-72&amp;n=2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042920" y="2492280"/>
            <a:ext cx="3168720" cy="295272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8" descr="http://s44.radikal.ru/i106/0906/46/1b4483f3a4fb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651640" y="189000"/>
            <a:ext cx="3168360" cy="4319640"/>
          </a:xfrm>
          <a:prstGeom prst="rect">
            <a:avLst/>
          </a:prstGeom>
          <a:ln w="0">
            <a:noFill/>
          </a:ln>
        </p:spPr>
      </p:pic>
      <p:sp>
        <p:nvSpPr>
          <p:cNvPr id="456" name="Прямоугольник 6"/>
          <p:cNvSpPr/>
          <p:nvPr/>
        </p:nvSpPr>
        <p:spPr>
          <a:xfrm>
            <a:off x="4356000" y="472428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роицу было принято украшать внутреннюю часть дома березовыми ветвями. Традиционной пищей были яйца, яичница и другие блюда из яи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459" name="Прямоугольник 3"/>
          <p:cNvSpPr/>
          <p:nvPr/>
        </p:nvSpPr>
        <p:spPr>
          <a:xfrm>
            <a:off x="1187280" y="189000"/>
            <a:ext cx="705672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сиделки (супредки)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раивались в осенне-зимний период Вечерами молодежь собиралась у одинокой пожилой женщины, девушки и молодые женщины приносили кудель и другую работу - пряли, вышивали, вязали. Здесь обсуждали всякие сельские дела, рассказывали истории и сказки, пели песни. Пришедшие на вечерку парни присматривали невест, шутили, развлекал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Рисунок 140" descr="http://rtrclub.ru/images/VidHandmade/800/3/ru--7.jpg"/>
          <p:cNvPicPr/>
          <p:nvPr/>
        </p:nvPicPr>
        <p:blipFill>
          <a:blip r:embed="rId4"/>
          <a:stretch/>
        </p:blipFill>
        <p:spPr>
          <a:xfrm>
            <a:off x="6588000" y="2349360"/>
            <a:ext cx="2352960" cy="388800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3" descr="7893"/>
          <p:cNvPicPr/>
          <p:nvPr/>
        </p:nvPicPr>
        <p:blipFill>
          <a:blip r:embed="rId5"/>
          <a:stretch/>
        </p:blipFill>
        <p:spPr>
          <a:xfrm>
            <a:off x="1042920" y="2349360"/>
            <a:ext cx="504180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464" name="Прямоугольник 3"/>
          <p:cNvSpPr/>
          <p:nvPr/>
        </p:nvSpPr>
        <p:spPr>
          <a:xfrm>
            <a:off x="4284720" y="333360"/>
            <a:ext cx="468000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боры (хороводы, улицы)-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тнее развлечение  молодежи  на околице деревни, на берегу реки или у леса.  Плели венки из полевых цветов,  играли в игры, пели и плясали, водили хороводы. Задерживались допоздна. Главной фигурой был хороший местный гармонис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Рисунок 108" descr="http://h6.img.mediacache.rugion.ru/_i/forum/files/95/72/96/9572962_0s369_1321208756.jpg"/>
          <p:cNvPicPr/>
          <p:nvPr/>
        </p:nvPicPr>
        <p:blipFill>
          <a:blip r:embed="rId4"/>
          <a:stretch/>
        </p:blipFill>
        <p:spPr>
          <a:xfrm>
            <a:off x="5148360" y="3645000"/>
            <a:ext cx="3276360" cy="2819160"/>
          </a:xfrm>
          <a:prstGeom prst="rect">
            <a:avLst/>
          </a:prstGeom>
          <a:ln w="0">
            <a:noFill/>
          </a:ln>
        </p:spPr>
      </p:pic>
      <p:pic>
        <p:nvPicPr>
          <p:cNvPr id="466" name="Рисунок 171" descr="http://www.villina.net/_nw/1/64896255.jpg"/>
          <p:cNvPicPr/>
          <p:nvPr/>
        </p:nvPicPr>
        <p:blipFill>
          <a:blip r:embed="rId5"/>
          <a:stretch/>
        </p:blipFill>
        <p:spPr>
          <a:xfrm>
            <a:off x="900000" y="333360"/>
            <a:ext cx="3218040" cy="280836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5" descr="http://www.poseti-nn.ru/images/afisha/6145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692360" y="3284640"/>
            <a:ext cx="2374920" cy="33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470" name="Прямоугольник 1"/>
          <p:cNvSpPr/>
          <p:nvPr/>
        </p:nvSpPr>
        <p:spPr>
          <a:xfrm>
            <a:off x="971640" y="189000"/>
            <a:ext cx="756108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ряд русской свадьб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одых осыпали хмелем, так как хмель – это древний символ плодородия и многочадия . Невеста берет  с собою в дом жениха родительское благословение и сундук с приданым .Старинный обычай – разувание мужа молодой женой. Смысл  - таким образом молодая супруга подчеркивала свою покорность или согласие на главенство мужчины в семье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Picture 3" descr="http://os1.i.ua/3/1/7778292_5504c0a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700360" y="3573360"/>
            <a:ext cx="4608360" cy="30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474" name="Прямоугольник 1"/>
          <p:cNvSpPr/>
          <p:nvPr/>
        </p:nvSpPr>
        <p:spPr>
          <a:xfrm>
            <a:off x="971640" y="189000"/>
            <a:ext cx="75610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ряд Крещ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4"/>
          <p:cNvSpPr/>
          <p:nvPr/>
        </p:nvSpPr>
        <p:spPr>
          <a:xfrm>
            <a:off x="1042920" y="315000"/>
            <a:ext cx="7777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Главным обрядом, отмечавшим начало жизни ребенка было его крещение. Обряд совершали в церкви или дома. Как правило, младенца крестили на третий или сороковой день после рождения. Родителям не положено было присутствовать при крещении, вместо них были крестная мать, которая дарила рубашку и крестный отец, который должен был подарить ребенку нательный крест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6" descr="Обряд крещения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843280" y="2913120"/>
            <a:ext cx="4392720" cy="37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479" name="Прямоугольник 3"/>
          <p:cNvSpPr/>
          <p:nvPr/>
        </p:nvSpPr>
        <p:spPr>
          <a:xfrm>
            <a:off x="2987640" y="189000"/>
            <a:ext cx="333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тание на русской трой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2" descr="i?id=18758126-36-72&amp;n=21"/>
          <p:cNvPicPr/>
          <p:nvPr/>
        </p:nvPicPr>
        <p:blipFill>
          <a:blip r:embed="rId4"/>
          <a:stretch/>
        </p:blipFill>
        <p:spPr>
          <a:xfrm>
            <a:off x="971640" y="692280"/>
            <a:ext cx="4105080" cy="288108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4" descr="http://s6.postimage.org/qn8efdzk1/image.jpg"/>
          <p:cNvPicPr/>
          <p:nvPr/>
        </p:nvPicPr>
        <p:blipFill>
          <a:blip r:embed="rId5"/>
          <a:stretch/>
        </p:blipFill>
        <p:spPr>
          <a:xfrm>
            <a:off x="4427640" y="3357720"/>
            <a:ext cx="4537080" cy="3352680"/>
          </a:xfrm>
          <a:prstGeom prst="rect">
            <a:avLst/>
          </a:prstGeom>
          <a:ln w="0">
            <a:noFill/>
          </a:ln>
        </p:spPr>
      </p:pic>
      <p:sp>
        <p:nvSpPr>
          <p:cNvPr id="48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6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Прямоугольник 9"/>
          <p:cNvSpPr/>
          <p:nvPr/>
        </p:nvSpPr>
        <p:spPr>
          <a:xfrm>
            <a:off x="5219640" y="69228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йка, тройка прилетела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куны в той тройке белы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 санях сидит царица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окоса, белолица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махнула рукавом –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покрылось серебро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487" name="Прямоугольник 4"/>
          <p:cNvSpPr/>
          <p:nvPr/>
        </p:nvSpPr>
        <p:spPr>
          <a:xfrm>
            <a:off x="3205440" y="0"/>
            <a:ext cx="256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сская из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Picture 11" descr="http://www.drugaya-arh.ru/200-text/arh-slov/pic-hata1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258920" y="4149720"/>
            <a:ext cx="3673440" cy="250344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7" descr="http://img0.liveinternet.ru/images/attach/c/1/54/668/54668832_srub2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580000" y="3978360"/>
            <a:ext cx="3321000" cy="2619360"/>
          </a:xfrm>
          <a:prstGeom prst="rect">
            <a:avLst/>
          </a:prstGeom>
          <a:ln w="0">
            <a:noFill/>
          </a:ln>
        </p:spPr>
      </p:pic>
      <p:sp>
        <p:nvSpPr>
          <p:cNvPr id="490" name="Прямоугольник 11"/>
          <p:cNvSpPr/>
          <p:nvPr/>
        </p:nvSpPr>
        <p:spPr>
          <a:xfrm>
            <a:off x="1042920" y="620640"/>
            <a:ext cx="48974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 традиционный дом состоит из двух частей: холодной (сени, клеть, подклеть) и тёплой (там, где находилась печь).  Всё в доме было продуманно до мелочей и выверено веками. Дом строился из сосны. А крышу крыли соломой или осиновыми дощечками. Только русские сравнивали дом с колесницей, которая должна привести семью к лучшему будущему. Снаружи дома украшались резьбой. До наших времён сохранилась традиция использования наличников. В сенях хозяева хранили различную утварь, а в самом доме чётко выделялся, так называемый «бабий кут». Где хозяйки готовили и рукодельнича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Рисунок 17" descr="http://www.burykina-o.narod.ru/club/r_slides/slide04.jpg"/>
          <p:cNvPicPr/>
          <p:nvPr/>
        </p:nvPicPr>
        <p:blipFill>
          <a:blip r:embed="rId8"/>
          <a:stretch/>
        </p:blipFill>
        <p:spPr>
          <a:xfrm>
            <a:off x="5940360" y="549360"/>
            <a:ext cx="302436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5" descr="http://supercook.ru/images-skazki-vypusk/rus-izba-02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332000" y="260280"/>
            <a:ext cx="3816360" cy="5689800"/>
          </a:xfrm>
          <a:prstGeom prst="rect">
            <a:avLst/>
          </a:prstGeom>
          <a:ln w="0">
            <a:noFill/>
          </a:ln>
        </p:spPr>
      </p:pic>
      <p:sp>
        <p:nvSpPr>
          <p:cNvPr id="495" name="Прямоугольник 4"/>
          <p:cNvSpPr/>
          <p:nvPr/>
        </p:nvSpPr>
        <p:spPr>
          <a:xfrm>
            <a:off x="5364000" y="907920"/>
            <a:ext cx="3024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 ни терем, ни изб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золота, да резьб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Терем, терем, теремо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н затейлив и высо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нем окошки слюдяны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се наличники резны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 на крыше петуш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Золотые гребеш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 в перилах на крылечк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астер вырезал колеч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Завитушки да цве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 раскрасил от ру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терему резные двер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дверях цветы и звер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изразцах на печке в ря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тицы райские сидя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498" name="Rectangle 1"/>
          <p:cNvSpPr/>
          <p:nvPr/>
        </p:nvSpPr>
        <p:spPr>
          <a:xfrm>
            <a:off x="1042920" y="198720"/>
            <a:ext cx="352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ядом с горницей передн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льня в горнице соседн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остель в ней высо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а – до потолк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м перины, одея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одушек там немал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тоит, покрыт ковро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рь с хозяйкиным добр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Picture 1" descr="0_21cd4_f693cc32_XL"/>
          <p:cNvPicPr/>
          <p:nvPr/>
        </p:nvPicPr>
        <p:blipFill>
          <a:blip r:embed="rId4"/>
          <a:stretch/>
        </p:blipFill>
        <p:spPr>
          <a:xfrm>
            <a:off x="5580000" y="260280"/>
            <a:ext cx="2952720" cy="201636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2" descr="1312409706_muzei"/>
          <p:cNvPicPr/>
          <p:nvPr/>
        </p:nvPicPr>
        <p:blipFill>
          <a:blip r:embed="rId5"/>
          <a:stretch/>
        </p:blipFill>
        <p:spPr>
          <a:xfrm>
            <a:off x="1116000" y="2708280"/>
            <a:ext cx="3456000" cy="380052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4" descr="http://img1.liveinternet.ru/images/attach/c/3/77/406/77406103_4bf4f21c80ff5351d55169f7c800b18e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932360" y="2708280"/>
            <a:ext cx="3672000" cy="37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407" name="Rectangle 2"/>
          <p:cNvSpPr/>
          <p:nvPr/>
        </p:nvSpPr>
        <p:spPr>
          <a:xfrm>
            <a:off x="2790720" y="-27000"/>
            <a:ext cx="353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Arial"/>
                <a:ea typeface="Calibri"/>
              </a:rPr>
              <a:t>Русский нар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3"/>
          <p:cNvSpPr/>
          <p:nvPr/>
        </p:nvSpPr>
        <p:spPr>
          <a:xfrm>
            <a:off x="900000" y="1050120"/>
            <a:ext cx="82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ренная область расселения русского народа- Восточно-Европейская равнина. По мере освоения земель русские находились в тесном контакте с другими народами. Благодаря этому великое географическое и историческое пространство , объединяемое понятием Русь и Росс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я является многонациональным государством, на территории которого проживает более 180 наро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5" descr="http://im4-tub-ru.yandex.net/i?id=45978915-03-72&amp;n=2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577960" y="3716280"/>
            <a:ext cx="3961080" cy="21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504" name="Rectangle 1"/>
          <p:cNvSpPr/>
          <p:nvPr/>
        </p:nvSpPr>
        <p:spPr>
          <a:xfrm>
            <a:off x="2050920" y="-28800"/>
            <a:ext cx="42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сская печь в изб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Прямоугольник 6"/>
          <p:cNvSpPr/>
          <p:nvPr/>
        </p:nvSpPr>
        <p:spPr>
          <a:xfrm>
            <a:off x="5580000" y="4005360"/>
            <a:ext cx="295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тенам резные лав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убовый стол рез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ле печки сохнут трав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ирали их вес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настой варили, чт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ть зимою от хвороб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3" descr="http://a18003.rimg.info/icon/17615530005312f4a72fc8da96650b9b0eba3897cf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187280" y="2708280"/>
            <a:ext cx="3961080" cy="375300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7" descr="http://900igr.net/datas/istorija/Russkij-byt/0027-027-Pech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435640" y="836640"/>
            <a:ext cx="3168720" cy="1871640"/>
          </a:xfrm>
          <a:prstGeom prst="rect">
            <a:avLst/>
          </a:prstGeom>
          <a:ln w="0">
            <a:noFill/>
          </a:ln>
        </p:spPr>
      </p:pic>
      <p:sp>
        <p:nvSpPr>
          <p:cNvPr id="508" name="Rectangle 1"/>
          <p:cNvSpPr/>
          <p:nvPr/>
        </p:nvSpPr>
        <p:spPr>
          <a:xfrm>
            <a:off x="1116000" y="557280"/>
            <a:ext cx="3527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м в доме был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чь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ны чёрны, закопчён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красивы изнутр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не гнили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жили людям добрым от душ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опились печи по-чёрном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2" descr="http://im0-tub-ru.yandex.net/i?id=18277144-01-72&amp;n=2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547640" y="3141720"/>
            <a:ext cx="3240360" cy="3371760"/>
          </a:xfrm>
          <a:prstGeom prst="rect">
            <a:avLst/>
          </a:prstGeom>
          <a:ln w="0">
            <a:noFill/>
          </a:ln>
        </p:spPr>
      </p:pic>
      <p:sp>
        <p:nvSpPr>
          <p:cNvPr id="512" name="Прямоугольник 5"/>
          <p:cNvSpPr/>
          <p:nvPr/>
        </p:nvSpPr>
        <p:spPr>
          <a:xfrm>
            <a:off x="2634840" y="0"/>
            <a:ext cx="48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асный угол в русской изб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4" descr="http://im8-tub-ru.yandex.net/i?id=620618422-16-72&amp;n=21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476360" y="907920"/>
            <a:ext cx="2951280" cy="1873440"/>
          </a:xfrm>
          <a:prstGeom prst="rect">
            <a:avLst/>
          </a:prstGeom>
          <a:ln w="0">
            <a:noFill/>
          </a:ln>
        </p:spPr>
      </p:pic>
      <p:sp>
        <p:nvSpPr>
          <p:cNvPr id="514" name="Прямоугольник 8"/>
          <p:cNvSpPr/>
          <p:nvPr/>
        </p:nvSpPr>
        <p:spPr>
          <a:xfrm>
            <a:off x="4929120" y="692280"/>
            <a:ext cx="309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… Гой ты, Русь моя родна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ты, ризы в образах…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5" descr="http://rosgorodishe.narod.ru/fotoalbom/pic144.jp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796000" y="1557360"/>
            <a:ext cx="3097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518" name="Прямоугольник 3"/>
          <p:cNvSpPr/>
          <p:nvPr/>
        </p:nvSpPr>
        <p:spPr>
          <a:xfrm>
            <a:off x="2624760" y="0"/>
            <a:ext cx="290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суда   на Ру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3" descr="a640"/>
          <p:cNvPicPr/>
          <p:nvPr/>
        </p:nvPicPr>
        <p:blipFill>
          <a:blip r:embed="rId4"/>
          <a:stretch/>
        </p:blipFill>
        <p:spPr>
          <a:xfrm>
            <a:off x="1116000" y="692280"/>
            <a:ext cx="2592360" cy="216036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4" descr="image002"/>
          <p:cNvPicPr/>
          <p:nvPr/>
        </p:nvPicPr>
        <p:blipFill>
          <a:blip r:embed="rId5"/>
          <a:stretch/>
        </p:blipFill>
        <p:spPr>
          <a:xfrm>
            <a:off x="1042920" y="3357720"/>
            <a:ext cx="2737080" cy="2879640"/>
          </a:xfrm>
          <a:prstGeom prst="rect">
            <a:avLst/>
          </a:prstGeom>
          <a:ln w="0">
            <a:noFill/>
          </a:ln>
        </p:spPr>
      </p:pic>
      <p:pic>
        <p:nvPicPr>
          <p:cNvPr id="521" name="Рисунок 128" descr="http://www.ocnt.isu.ru/decor/IMG/b4.jpg"/>
          <p:cNvPicPr/>
          <p:nvPr/>
        </p:nvPicPr>
        <p:blipFill>
          <a:blip r:embed="rId6"/>
          <a:stretch/>
        </p:blipFill>
        <p:spPr>
          <a:xfrm>
            <a:off x="6588000" y="692280"/>
            <a:ext cx="2232000" cy="1873080"/>
          </a:xfrm>
          <a:prstGeom prst="rect">
            <a:avLst/>
          </a:prstGeom>
          <a:ln w="0">
            <a:noFill/>
          </a:ln>
        </p:spPr>
      </p:pic>
      <p:pic>
        <p:nvPicPr>
          <p:cNvPr id="522" name="Рисунок 142" descr="http://im3-tub-ru.yandex.net/i?id=5505095-37-72"/>
          <p:cNvPicPr/>
          <p:nvPr/>
        </p:nvPicPr>
        <p:blipFill>
          <a:blip r:embed="rId7"/>
          <a:stretch/>
        </p:blipFill>
        <p:spPr>
          <a:xfrm>
            <a:off x="4500720" y="692280"/>
            <a:ext cx="1428480" cy="2016000"/>
          </a:xfrm>
          <a:prstGeom prst="rect">
            <a:avLst/>
          </a:prstGeom>
          <a:ln w="0">
            <a:noFill/>
          </a:ln>
        </p:spPr>
      </p:pic>
      <p:pic>
        <p:nvPicPr>
          <p:cNvPr id="523" name="Рисунок 69" descr="http://img-2007-08.photosight.ru/20/2257889.jpg"/>
          <p:cNvPicPr/>
          <p:nvPr/>
        </p:nvPicPr>
        <p:blipFill>
          <a:blip r:embed="rId8"/>
          <a:stretch/>
        </p:blipFill>
        <p:spPr>
          <a:xfrm>
            <a:off x="4356000" y="2997360"/>
            <a:ext cx="45370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526" name="Прямоугольник 3"/>
          <p:cNvSpPr/>
          <p:nvPr/>
        </p:nvSpPr>
        <p:spPr>
          <a:xfrm>
            <a:off x="2637720" y="0"/>
            <a:ext cx="265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сские утвар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muzey_241-160x213"/>
          <p:cNvPicPr/>
          <p:nvPr/>
        </p:nvPicPr>
        <p:blipFill>
          <a:blip r:embed="rId4"/>
          <a:stretch/>
        </p:blipFill>
        <p:spPr>
          <a:xfrm>
            <a:off x="5003640" y="620640"/>
            <a:ext cx="1800360" cy="273708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4" descr="17748"/>
          <p:cNvPicPr/>
          <p:nvPr/>
        </p:nvPicPr>
        <p:blipFill>
          <a:blip r:embed="rId5"/>
          <a:stretch/>
        </p:blipFill>
        <p:spPr>
          <a:xfrm>
            <a:off x="1116000" y="620640"/>
            <a:ext cx="3456000" cy="279252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5" descr="1313823929_kerosinovaya-lampa"/>
          <p:cNvPicPr/>
          <p:nvPr/>
        </p:nvPicPr>
        <p:blipFill>
          <a:blip r:embed="rId6"/>
          <a:stretch/>
        </p:blipFill>
        <p:spPr>
          <a:xfrm>
            <a:off x="7596360" y="620640"/>
            <a:ext cx="1368360" cy="252108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7" descr="http://im8-tub-ru.yandex.net/i?id=100077084-32-72&amp;n=21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093080" y="3645000"/>
            <a:ext cx="1726920" cy="287964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8" descr="muzei01_full"/>
          <p:cNvPicPr/>
          <p:nvPr/>
        </p:nvPicPr>
        <p:blipFill>
          <a:blip r:embed="rId9"/>
          <a:stretch/>
        </p:blipFill>
        <p:spPr>
          <a:xfrm>
            <a:off x="1619280" y="3716280"/>
            <a:ext cx="507672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534" name="Прямоугольник 4"/>
          <p:cNvSpPr/>
          <p:nvPr/>
        </p:nvSpPr>
        <p:spPr>
          <a:xfrm>
            <a:off x="3206880" y="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сская ба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3" descr="http://pics.livejournal.com/kristyushatmb/pic/00018hsk/s640x48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435640" y="3716280"/>
            <a:ext cx="3492360" cy="293688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5" descr="http://im6-tub-ru.yandex.net/i?id=403824467-10-72&amp;n=21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476360" y="3716280"/>
            <a:ext cx="3240000" cy="295272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2" descr="http://im5-tub-ru.yandex.net/i?id=200960048-49-72&amp;n=21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372360" y="765000"/>
            <a:ext cx="2520720" cy="2303640"/>
          </a:xfrm>
          <a:prstGeom prst="rect">
            <a:avLst/>
          </a:prstGeom>
          <a:ln w="0">
            <a:noFill/>
          </a:ln>
        </p:spPr>
      </p:pic>
      <p:pic>
        <p:nvPicPr>
          <p:cNvPr id="538" name="Рисунок 44" descr="http://www.burykina-o.narod.ru/club/r_slides/slide16.jpg"/>
          <p:cNvPicPr/>
          <p:nvPr/>
        </p:nvPicPr>
        <p:blipFill>
          <a:blip r:embed="rId10"/>
          <a:stretch/>
        </p:blipFill>
        <p:spPr>
          <a:xfrm>
            <a:off x="0" y="9220320"/>
            <a:ext cx="5943600" cy="4457520"/>
          </a:xfrm>
          <a:prstGeom prst="rect">
            <a:avLst/>
          </a:prstGeom>
          <a:ln w="0">
            <a:noFill/>
          </a:ln>
        </p:spPr>
      </p:pic>
      <p:pic>
        <p:nvPicPr>
          <p:cNvPr id="539" name="Рисунок 47" descr="http://www.burykina-o.narod.ru/club/r_slides/slide17.jpg"/>
          <p:cNvPicPr/>
          <p:nvPr/>
        </p:nvPicPr>
        <p:blipFill>
          <a:blip r:embed="rId11"/>
          <a:stretch/>
        </p:blipFill>
        <p:spPr>
          <a:xfrm>
            <a:off x="0" y="13677840"/>
            <a:ext cx="5943600" cy="4467240"/>
          </a:xfrm>
          <a:prstGeom prst="rect">
            <a:avLst/>
          </a:prstGeom>
          <a:ln w="0">
            <a:noFill/>
          </a:ln>
        </p:spPr>
      </p:pic>
      <p:pic>
        <p:nvPicPr>
          <p:cNvPr id="540" name="Рисунок 50" descr="http://www.burykina-o.narod.ru/club/r_slides/slide18.jpg"/>
          <p:cNvPicPr/>
          <p:nvPr/>
        </p:nvPicPr>
        <p:blipFill>
          <a:blip r:embed="rId12"/>
          <a:stretch/>
        </p:blipFill>
        <p:spPr>
          <a:xfrm>
            <a:off x="0" y="18145080"/>
            <a:ext cx="5943600" cy="4457880"/>
          </a:xfrm>
          <a:prstGeom prst="rect">
            <a:avLst/>
          </a:prstGeom>
          <a:ln w="0">
            <a:noFill/>
          </a:ln>
        </p:spPr>
      </p:pic>
      <p:pic>
        <p:nvPicPr>
          <p:cNvPr id="541" name="Рисунок 53" descr="http://www.burykina-o.narod.ru/club/r_slides/slide19.jpg"/>
          <p:cNvPicPr/>
          <p:nvPr/>
        </p:nvPicPr>
        <p:blipFill>
          <a:blip r:embed="rId13"/>
          <a:stretch/>
        </p:blipFill>
        <p:spPr>
          <a:xfrm>
            <a:off x="0" y="22602960"/>
            <a:ext cx="5943600" cy="4457520"/>
          </a:xfrm>
          <a:prstGeom prst="rect">
            <a:avLst/>
          </a:prstGeom>
          <a:ln w="0">
            <a:noFill/>
          </a:ln>
        </p:spPr>
      </p:pic>
      <p:sp>
        <p:nvSpPr>
          <p:cNvPr id="542" name="Rectangle 11"/>
          <p:cNvSpPr/>
          <p:nvPr/>
        </p:nvSpPr>
        <p:spPr>
          <a:xfrm>
            <a:off x="971640" y="421920"/>
            <a:ext cx="511308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ня была не только местом для мытья, а также особенным, почти священным местом. Считалось, что баня объединяет 4 главные природные стихии: огонь, воду, воздух и землю. Поэтому человек, посетивший баню, как бы вбирал в себя силу всех этих стихий и становился крепче, сильнее и здоровее. Недаром на Руси бытовала поговорка «Помылся – будто заново родился!»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Не зря веник является не только символом русской парной бани, её украшением, но и инструментом лечения или профилактики болезней. Веники, собранные из разнообразных пород деревьев и лекарственных трав используются для лечения самых разных заболеваний и недуг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1" descr="tropa_922"/>
          <p:cNvPicPr/>
          <p:nvPr/>
        </p:nvPicPr>
        <p:blipFill>
          <a:blip r:embed="rId4"/>
          <a:stretch/>
        </p:blipFill>
        <p:spPr>
          <a:xfrm>
            <a:off x="5435640" y="620640"/>
            <a:ext cx="2844720" cy="2376720"/>
          </a:xfrm>
          <a:prstGeom prst="rect">
            <a:avLst/>
          </a:prstGeom>
          <a:ln w="0">
            <a:noFill/>
          </a:ln>
        </p:spPr>
      </p:pic>
      <p:sp>
        <p:nvSpPr>
          <p:cNvPr id="546" name="Прямоугольник 4"/>
          <p:cNvSpPr/>
          <p:nvPr/>
        </p:nvSpPr>
        <p:spPr>
          <a:xfrm>
            <a:off x="1250640" y="189000"/>
            <a:ext cx="480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 Руси за водой ходили с коромысл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2" descr="http://im0-tub-ru.yandex.net/i?id=123309110-36-72&amp;n=2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835280" y="692280"/>
            <a:ext cx="2197080" cy="23050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4" descr="http://content.foto.mail.ru/mail/lyudmila-1946/_blogs/i-18110.jpg"/>
          <p:cNvPicPr/>
          <p:nvPr/>
        </p:nvPicPr>
        <p:blipFill>
          <a:blip r:embed="rId7"/>
          <a:stretch/>
        </p:blipFill>
        <p:spPr>
          <a:xfrm>
            <a:off x="2124000" y="3284640"/>
            <a:ext cx="571500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3" descr="79340759_large_russkie_narodnuye_kostyumuy_6"/>
          <p:cNvPicPr/>
          <p:nvPr/>
        </p:nvPicPr>
        <p:blipFill>
          <a:blip r:embed="rId4"/>
          <a:stretch/>
        </p:blipFill>
        <p:spPr>
          <a:xfrm>
            <a:off x="1258920" y="1844640"/>
            <a:ext cx="3097080" cy="4824360"/>
          </a:xfrm>
          <a:prstGeom prst="rect">
            <a:avLst/>
          </a:prstGeom>
          <a:ln w="0">
            <a:noFill/>
          </a:ln>
        </p:spPr>
      </p:pic>
      <p:sp>
        <p:nvSpPr>
          <p:cNvPr id="552" name="Прямоугольник 7"/>
          <p:cNvSpPr/>
          <p:nvPr/>
        </p:nvSpPr>
        <p:spPr>
          <a:xfrm>
            <a:off x="971640" y="83664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Женский костюм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вичья рубаха, праздничные головные уборы, понё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Прямоугольник 8"/>
          <p:cNvSpPr/>
          <p:nvPr/>
        </p:nvSpPr>
        <p:spPr>
          <a:xfrm>
            <a:off x="5364000" y="587700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ужской костюм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баха, порты, пояс, сермя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4" descr="i?id=241750542-29-72"/>
          <p:cNvPicPr/>
          <p:nvPr/>
        </p:nvPicPr>
        <p:blipFill>
          <a:blip r:embed="rId5"/>
          <a:stretch/>
        </p:blipFill>
        <p:spPr>
          <a:xfrm>
            <a:off x="5219640" y="3141720"/>
            <a:ext cx="2448000" cy="265248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6" descr="http://im5-tub-ru.yandex.net/i?id=636355988-44-72&amp;n=21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516720" y="333360"/>
            <a:ext cx="2519280" cy="2664000"/>
          </a:xfrm>
          <a:prstGeom prst="rect">
            <a:avLst/>
          </a:prstGeom>
          <a:ln w="0">
            <a:noFill/>
          </a:ln>
        </p:spPr>
      </p:pic>
      <p:sp>
        <p:nvSpPr>
          <p:cNvPr id="556" name="Прямоугольник 12"/>
          <p:cNvSpPr/>
          <p:nvPr/>
        </p:nvSpPr>
        <p:spPr>
          <a:xfrm>
            <a:off x="923040" y="115920"/>
            <a:ext cx="547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сский национальный костю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4" descr="1260993858_chastushki-russkiy-folklor-v-tuve"/>
          <p:cNvPicPr/>
          <p:nvPr/>
        </p:nvPicPr>
        <p:blipFill>
          <a:blip r:embed="rId1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559" name="Прямоугольник 3"/>
          <p:cNvSpPr/>
          <p:nvPr/>
        </p:nvSpPr>
        <p:spPr>
          <a:xfrm>
            <a:off x="2195640" y="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ап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2" descr="i?id=17692540-52-72&amp;n=21"/>
          <p:cNvPicPr/>
          <p:nvPr/>
        </p:nvPicPr>
        <p:blipFill>
          <a:blip r:embed="rId4"/>
          <a:stretch/>
        </p:blipFill>
        <p:spPr>
          <a:xfrm>
            <a:off x="1476360" y="981000"/>
            <a:ext cx="2519280" cy="244800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3" descr="i?id=431694681-20-72&amp;n=21"/>
          <p:cNvPicPr/>
          <p:nvPr/>
        </p:nvPicPr>
        <p:blipFill>
          <a:blip r:embed="rId5"/>
          <a:stretch/>
        </p:blipFill>
        <p:spPr>
          <a:xfrm>
            <a:off x="1332000" y="4076640"/>
            <a:ext cx="2768400" cy="259236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4" descr="i?id=78847383-38-72&amp;n=21"/>
          <p:cNvPicPr/>
          <p:nvPr/>
        </p:nvPicPr>
        <p:blipFill>
          <a:blip r:embed="rId6"/>
          <a:stretch/>
        </p:blipFill>
        <p:spPr>
          <a:xfrm>
            <a:off x="5580000" y="4076640"/>
            <a:ext cx="2952720" cy="2592360"/>
          </a:xfrm>
          <a:prstGeom prst="rect">
            <a:avLst/>
          </a:prstGeom>
          <a:ln w="0">
            <a:noFill/>
          </a:ln>
        </p:spPr>
      </p:pic>
      <p:sp>
        <p:nvSpPr>
          <p:cNvPr id="563" name="Прямоугольник 7"/>
          <p:cNvSpPr/>
          <p:nvPr/>
        </p:nvSpPr>
        <p:spPr>
          <a:xfrm>
            <a:off x="4356000" y="189000"/>
            <a:ext cx="457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пти – один из самых древних видов обуви. Лапти плелись из лыка различных деревьев, преимущественно липы (лычники), из мочала – липового луба, размоченного и разодранного на волокна (мочалыжники). Делались лапти и из коры ракиты (верзки), ивы (ивняки), вяза (вязовики), березы (берестянники), дуба (дубовики), из тала (шелюжники), из пеньковых оческов, старых веревок (курпы, крутцы, чуни, шептуны), из конского волоса – грив и хвостов – (волосянники), и даже из соломы (соломенники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566" name="Прямоугольник 4"/>
          <p:cNvSpPr/>
          <p:nvPr/>
        </p:nvSpPr>
        <p:spPr>
          <a:xfrm>
            <a:off x="2195640" y="0"/>
            <a:ext cx="412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сское гостеприим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Прямоугольник 7"/>
          <p:cNvSpPr/>
          <p:nvPr/>
        </p:nvSpPr>
        <p:spPr>
          <a:xfrm>
            <a:off x="971640" y="476280"/>
            <a:ext cx="817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ое гостеприимство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оже неотъемлемая часть наших культурных традиций. Гостям также были всегда рады, делились с ними последним куском. Недаром  говорили: «Что есть в печи – на стол мечи!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речали гостей хлебом, солью. Со словами: «Добро пожаловать!»   Гость отламывает маленький кусочек хлеба, макает его в соль и куша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Рисунок 120" descr="http://www.clipartbank.ru/watermark.php?i=75304"/>
          <p:cNvPicPr/>
          <p:nvPr/>
        </p:nvPicPr>
        <p:blipFill>
          <a:blip r:embed="rId4"/>
          <a:stretch/>
        </p:blipFill>
        <p:spPr>
          <a:xfrm>
            <a:off x="1258920" y="2060640"/>
            <a:ext cx="3313080" cy="4392720"/>
          </a:xfrm>
          <a:prstGeom prst="rect">
            <a:avLst/>
          </a:prstGeom>
          <a:ln w="0">
            <a:noFill/>
          </a:ln>
        </p:spPr>
      </p:pic>
      <p:sp>
        <p:nvSpPr>
          <p:cNvPr id="569" name="Прямоугольник 9"/>
          <p:cNvSpPr/>
          <p:nvPr/>
        </p:nvSpPr>
        <p:spPr>
          <a:xfrm>
            <a:off x="4932360" y="206064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рогих гостей встречаем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ышным круглым каравае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на блюдце расписном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белоснежным рушником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вай мы вам подносим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лонясь, отведать просим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Рисунок 175" descr="http://moygorod.tv/uploads/posts/2012-09/prihodite-v-gosti-2.jpg"/>
          <p:cNvPicPr/>
          <p:nvPr/>
        </p:nvPicPr>
        <p:blipFill>
          <a:blip r:embed="rId5"/>
          <a:stretch/>
        </p:blipFill>
        <p:spPr>
          <a:xfrm>
            <a:off x="5219640" y="3789360"/>
            <a:ext cx="327672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4" descr="1260993858_chastushki-russkiy-folklor-v-tuve"/>
          <p:cNvPicPr/>
          <p:nvPr/>
        </p:nvPicPr>
        <p:blipFill>
          <a:blip r:embed="rId1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573" name="Прямоугольник 1"/>
          <p:cNvSpPr/>
          <p:nvPr/>
        </p:nvSpPr>
        <p:spPr>
          <a:xfrm>
            <a:off x="2627280" y="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сское застол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Прямоугольник 7"/>
          <p:cNvSpPr/>
          <p:nvPr/>
        </p:nvSpPr>
        <p:spPr>
          <a:xfrm>
            <a:off x="1116000" y="404640"/>
            <a:ext cx="75596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славное праздничное застолье с давних времен хранит множество традиций, обычаев и обрядов.   За столом собирались все члены семьи и близкие родственники. Застольный этикет был очень сдержан и строг. За столом сидели чинно, да и разговоры старались вести серьезные и добрые.  Обязательным элементом праздника является молитва.  Для многих праздников предназначались строго определенные ритуальные блюда, и часто их готовили только раз в году. Заранее знали и ждали, когда на столе будут фаршированный поросенок, гусь или индейка, медовый или маковый пирог, пышные и румяные блины, крашеные яйца и куличи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3" descr="http://img-fotki.yandex.ru/get/3509/swirelka.21/0_29f64_dc55dd10_XL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050920" y="2565360"/>
            <a:ext cx="597708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412" name="Rectangle 1"/>
          <p:cNvSpPr/>
          <p:nvPr/>
        </p:nvSpPr>
        <p:spPr>
          <a:xfrm>
            <a:off x="884160" y="369000"/>
            <a:ext cx="817236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циональная культура </a:t>
            </a:r>
            <a:r>
              <a:rPr b="0" lang="ru-RU" sz="24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– это национальная память народа, то, что выделяет данный народ в ряду других, хранит человека от обезличивания, позволяет ему ощутить связь времен и покол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нталите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   каждый народ имеет свои уникальные свойства менталитета, присущие только ему, в зависимости от ментальности нации строятся традиции, обряды, обычаи  и другие составляющие культуры. Менталитет русского народа, безусловно, качественно отличается от других национальностей, в первую очередь особым гостеприимством, широтой традиций и другими особенност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4" descr="1260993858_chastushki-russkiy-folklor-v-tuve"/>
          <p:cNvPicPr/>
          <p:nvPr/>
        </p:nvPicPr>
        <p:blipFill>
          <a:blip r:embed="rId1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6" descr="http://im2-tub-ru.yandex.net/i?id=46487969-15-72&amp;n=17"/>
          <p:cNvPicPr/>
          <p:nvPr/>
        </p:nvPicPr>
        <p:blipFill>
          <a:blip r:embed="rId4"/>
          <a:stretch/>
        </p:blipFill>
        <p:spPr>
          <a:xfrm>
            <a:off x="2050920" y="549360"/>
            <a:ext cx="5616720" cy="324000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8" descr="http://img11.nnm.ru/7/5/4/8/3/d632aabfc2f44bd2c2b7a8eaa68_prev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042920" y="3933720"/>
            <a:ext cx="2016360" cy="271944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10" descr="http://im6-tub-ru.yandex.net/i?id=275927320-63-72"/>
          <p:cNvPicPr/>
          <p:nvPr/>
        </p:nvPicPr>
        <p:blipFill>
          <a:blip r:embed="rId7"/>
          <a:stretch/>
        </p:blipFill>
        <p:spPr>
          <a:xfrm>
            <a:off x="5292720" y="3933720"/>
            <a:ext cx="1871640" cy="266400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12" descr="http://vasi.net/uploads/posts/2008-05/mthumbs/1212071084_2201_08_1.jp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203640" y="3933720"/>
            <a:ext cx="2016000" cy="271944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14" descr="http://im2-tub-ru.yandex.net/i?id=133821087-03-72"/>
          <p:cNvPicPr/>
          <p:nvPr/>
        </p:nvPicPr>
        <p:blipFill>
          <a:blip r:embed="rId10"/>
          <a:stretch/>
        </p:blipFill>
        <p:spPr>
          <a:xfrm>
            <a:off x="7308720" y="3933720"/>
            <a:ext cx="1656000" cy="2664000"/>
          </a:xfrm>
          <a:prstGeom prst="rect">
            <a:avLst/>
          </a:prstGeom>
          <a:ln w="0">
            <a:noFill/>
          </a:ln>
        </p:spPr>
      </p:pic>
      <p:sp>
        <p:nvSpPr>
          <p:cNvPr id="583" name="Прямоугольник 1"/>
          <p:cNvSpPr/>
          <p:nvPr/>
        </p:nvSpPr>
        <p:spPr>
          <a:xfrm>
            <a:off x="3203640" y="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сская кух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Прямоугольник 1"/>
          <p:cNvSpPr/>
          <p:nvPr/>
        </p:nvSpPr>
        <p:spPr>
          <a:xfrm>
            <a:off x="1042920" y="620640"/>
            <a:ext cx="5616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ычай чаепития  на Руси обычай древний  -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рог гость – так привеча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вай ему целебны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оматный, крепкий ча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Picture 2" descr="http://www.piromagazin.ru/img/fed/18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24360" y="620640"/>
            <a:ext cx="3252960" cy="208764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4" descr="1260993858_chastushki-russkiy-folklor-v-tuve"/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1" descr="uz-v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588" name="Прямоугольник 1"/>
          <p:cNvSpPr/>
          <p:nvPr/>
        </p:nvSpPr>
        <p:spPr>
          <a:xfrm>
            <a:off x="3203640" y="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аепитие на Рус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Рисунок 80" descr="http://i066.radikal.ru/1006/6e/e87271179c10.jpg"/>
          <p:cNvPicPr/>
          <p:nvPr/>
        </p:nvPicPr>
        <p:blipFill>
          <a:blip r:embed="rId6"/>
          <a:stretch/>
        </p:blipFill>
        <p:spPr>
          <a:xfrm>
            <a:off x="1476360" y="2852640"/>
            <a:ext cx="57596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592" name="Прямоугольник 4"/>
          <p:cNvSpPr/>
          <p:nvPr/>
        </p:nvSpPr>
        <p:spPr>
          <a:xfrm>
            <a:off x="1042920" y="692280"/>
            <a:ext cx="734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усство народных промыслов – это связующее звено прошедшего с настоящим, настоящего с будущ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гата земля российская разнообразными народными промыслами: гжель, хохлома, жостово, русская матрешка, палех, тульские самовары, вологодские кружева, русская финифть, уральские промыслы, , павловские посадские платки и друг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Прямоугольник 5"/>
          <p:cNvSpPr/>
          <p:nvPr/>
        </p:nvSpPr>
        <p:spPr>
          <a:xfrm>
            <a:off x="2476800" y="0"/>
            <a:ext cx="374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родные промысл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3" descr="http://img-fotki.yandex.ru/get/5402/kovlevelen.0/0_31adb_28e571bd_L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908000" y="2421000"/>
            <a:ext cx="626436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597" name="Прямоугольник 4"/>
          <p:cNvSpPr/>
          <p:nvPr/>
        </p:nvSpPr>
        <p:spPr>
          <a:xfrm>
            <a:off x="2426040" y="0"/>
            <a:ext cx="489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сский народный фолькл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2"/>
          <p:cNvSpPr/>
          <p:nvPr/>
        </p:nvSpPr>
        <p:spPr>
          <a:xfrm>
            <a:off x="1042920" y="341640"/>
            <a:ext cx="74167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яды, приуроченные к крупным праздникам, включали большое количество разных произведений народного искусства (Фольклор): старинные лирические песни, свадебные, хороводные, календарно-обрядовые, плясовые; однако в повседневной жизни преобладали частушки,песни, приговоры, хороводы, игры, танцы, драматические сценки, маски, народные костюмы, своеобразный реквизит, устное народное творчество-  пестушки, загадки, сказки, поговорки и многое друго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астуш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Picture 4" descr="http://900igr.net/datai/istorija/Russkij-narod/0006-012-Samo-slovo-folklor-prishlo-k-nam-iz-dalekoj-Anglii-i-perevoditsja.jpg"/>
          <p:cNvPicPr/>
          <p:nvPr/>
        </p:nvPicPr>
        <p:blipFill>
          <a:blip r:embed="rId4"/>
          <a:stretch/>
        </p:blipFill>
        <p:spPr>
          <a:xfrm>
            <a:off x="1116000" y="2133720"/>
            <a:ext cx="3600360" cy="251928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6" descr="http://mith.ru/folk/folk01.jpg"/>
          <p:cNvPicPr/>
          <p:nvPr/>
        </p:nvPicPr>
        <p:blipFill>
          <a:blip r:embed="rId5"/>
          <a:stretch/>
        </p:blipFill>
        <p:spPr>
          <a:xfrm>
            <a:off x="5219640" y="2060640"/>
            <a:ext cx="3313080" cy="259236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8" descr="http://im6-tub-ru.yandex.net/i?id=120778090-22-72"/>
          <p:cNvPicPr/>
          <p:nvPr/>
        </p:nvPicPr>
        <p:blipFill>
          <a:blip r:embed="rId6"/>
          <a:stretch/>
        </p:blipFill>
        <p:spPr>
          <a:xfrm>
            <a:off x="2771640" y="4797360"/>
            <a:ext cx="31687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1" descr="uz-v1"/>
          <p:cNvPicPr/>
          <p:nvPr/>
        </p:nvPicPr>
        <p:blipFill>
          <a:blip r:embed="rId2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604" name="Прямоугольник 3"/>
          <p:cNvSpPr/>
          <p:nvPr/>
        </p:nvSpPr>
        <p:spPr>
          <a:xfrm>
            <a:off x="1072800" y="0"/>
            <a:ext cx="771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сские народные музыкальные инструм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2" descr="http://clubtrade.ru/images/artcats/625/photo/1_clubtrade_dk_(10).jpg"/>
          <p:cNvPicPr/>
          <p:nvPr/>
        </p:nvPicPr>
        <p:blipFill>
          <a:blip r:embed="rId3"/>
          <a:stretch/>
        </p:blipFill>
        <p:spPr>
          <a:xfrm>
            <a:off x="1042920" y="549360"/>
            <a:ext cx="3457800" cy="309564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4" descr="http://www.lipetskinfo.ru/photo/theme/033/142/main.jpg"/>
          <p:cNvPicPr/>
          <p:nvPr/>
        </p:nvPicPr>
        <p:blipFill>
          <a:blip r:embed="rId4"/>
          <a:stretch/>
        </p:blipFill>
        <p:spPr>
          <a:xfrm>
            <a:off x="5219640" y="549360"/>
            <a:ext cx="3710160" cy="317160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22" descr="http://im8-tub-ru.yandex.net/i?id=233145215-61-72"/>
          <p:cNvPicPr/>
          <p:nvPr/>
        </p:nvPicPr>
        <p:blipFill>
          <a:blip r:embed="rId5"/>
          <a:stretch/>
        </p:blipFill>
        <p:spPr>
          <a:xfrm>
            <a:off x="1116000" y="3860640"/>
            <a:ext cx="2735280" cy="2521080"/>
          </a:xfrm>
          <a:prstGeom prst="rect">
            <a:avLst/>
          </a:prstGeom>
          <a:ln w="0">
            <a:noFill/>
          </a:ln>
        </p:spPr>
      </p:pic>
      <p:sp>
        <p:nvSpPr>
          <p:cNvPr id="608" name="Прямоугольник 7"/>
          <p:cNvSpPr/>
          <p:nvPr/>
        </p:nvSpPr>
        <p:spPr>
          <a:xfrm>
            <a:off x="4140360" y="3716280"/>
            <a:ext cx="48956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одные инструменты в фольклоре используются обычно в быту пастухов или для некоторых видов танцев и песе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нные инструменты - балалайка, гудок, духовые инструмент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ховые инструменты –дудка, рожок, жалейка   военные трубы, охотничьи рога, бубны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1" descr="uz-v1"/>
          <p:cNvPicPr/>
          <p:nvPr/>
        </p:nvPicPr>
        <p:blipFill>
          <a:blip r:embed="rId2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611" name="Прямоугольник 4"/>
          <p:cNvSpPr/>
          <p:nvPr/>
        </p:nvSpPr>
        <p:spPr>
          <a:xfrm>
            <a:off x="900000" y="476280"/>
            <a:ext cx="8028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 один дом на Руси не обходился без народных оберегов. Русский народ верил, что обереги надёжно охраняют от болезней, «дурного глаза», стихийных бедствий и различных напастей,  для защиты дома и его обитателей от злых духов, болезней, для привлечения домового и его задабривания. Собираясь в дальнюю дорогу, человек брал с собой оберег, чтобы вложенные в него добро и любовь согревали душу и напоминали о родном доме и семье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Прямоугольник 1"/>
          <p:cNvSpPr/>
          <p:nvPr/>
        </p:nvSpPr>
        <p:spPr>
          <a:xfrm>
            <a:off x="3203640" y="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ереги на Рус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Picture 3" descr="p47_r_venichek"/>
          <p:cNvPicPr/>
          <p:nvPr/>
        </p:nvPicPr>
        <p:blipFill>
          <a:blip r:embed="rId3"/>
          <a:stretch/>
        </p:blipFill>
        <p:spPr>
          <a:xfrm>
            <a:off x="6588000" y="2565360"/>
            <a:ext cx="2229120" cy="37432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4" descr="884372-5e77e71b14f95a5e"/>
          <p:cNvPicPr/>
          <p:nvPr/>
        </p:nvPicPr>
        <p:blipFill>
          <a:blip r:embed="rId4"/>
          <a:stretch/>
        </p:blipFill>
        <p:spPr>
          <a:xfrm>
            <a:off x="3780000" y="2565360"/>
            <a:ext cx="2571480" cy="381636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8" descr="http://2c-foto.ru/5ff078f9436028dbdf43147ec817617a.jpg"/>
          <p:cNvPicPr/>
          <p:nvPr/>
        </p:nvPicPr>
        <p:blipFill>
          <a:blip r:embed="rId5"/>
          <a:stretch/>
        </p:blipFill>
        <p:spPr>
          <a:xfrm>
            <a:off x="1042920" y="2565360"/>
            <a:ext cx="230508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1" descr="uz-v1"/>
          <p:cNvPicPr/>
          <p:nvPr/>
        </p:nvPicPr>
        <p:blipFill>
          <a:blip r:embed="rId2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618" name="Прямоугольник 4"/>
          <p:cNvSpPr/>
          <p:nvPr/>
        </p:nvSpPr>
        <p:spPr>
          <a:xfrm>
            <a:off x="2484360" y="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укла- обере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Прямоугольник 6"/>
          <p:cNvSpPr/>
          <p:nvPr/>
        </p:nvSpPr>
        <p:spPr>
          <a:xfrm>
            <a:off x="1042920" y="476280"/>
            <a:ext cx="7705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ая народная кукла является исторической частицей культуры народов России. Кукла, как игровой образ, символизирует человека, его эпоху, историю культуры народов (русские обряды и обычаи). Тряпичные куклы выполнялись в народных традициях с применением старинных техник и технологий. Народная кукла с давних времён делалась из веточек и лоскутиков, сухой травы. Куклы символизировали всё тайное и волшебное, что есть в душе челове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Рисунок 553" descr="Русская народна кукла"/>
          <p:cNvPicPr/>
          <p:nvPr/>
        </p:nvPicPr>
        <p:blipFill>
          <a:blip r:embed="rId3"/>
          <a:stretch/>
        </p:blipFill>
        <p:spPr>
          <a:xfrm>
            <a:off x="971640" y="2492280"/>
            <a:ext cx="1871640" cy="1944720"/>
          </a:xfrm>
          <a:prstGeom prst="rect">
            <a:avLst/>
          </a:prstGeom>
          <a:ln w="0">
            <a:noFill/>
          </a:ln>
        </p:spPr>
      </p:pic>
      <p:pic>
        <p:nvPicPr>
          <p:cNvPr id="621" name="Рисунок 576" descr="Берегиня"/>
          <p:cNvPicPr/>
          <p:nvPr/>
        </p:nvPicPr>
        <p:blipFill>
          <a:blip r:embed="rId4"/>
          <a:stretch/>
        </p:blipFill>
        <p:spPr>
          <a:xfrm>
            <a:off x="3059280" y="2492280"/>
            <a:ext cx="1728720" cy="1944720"/>
          </a:xfrm>
          <a:prstGeom prst="rect">
            <a:avLst/>
          </a:prstGeom>
          <a:ln w="0">
            <a:noFill/>
          </a:ln>
        </p:spPr>
      </p:pic>
      <p:pic>
        <p:nvPicPr>
          <p:cNvPr id="622" name="Рисунок 578" descr="http://img-fotki.yandex.ru/get/6005/zaryanka-tlt.6/0_5a158_871afc8a_M"/>
          <p:cNvPicPr/>
          <p:nvPr/>
        </p:nvPicPr>
        <p:blipFill>
          <a:blip r:embed="rId5"/>
          <a:stretch/>
        </p:blipFill>
        <p:spPr>
          <a:xfrm>
            <a:off x="5219640" y="2492280"/>
            <a:ext cx="1656000" cy="1944720"/>
          </a:xfrm>
          <a:prstGeom prst="rect">
            <a:avLst/>
          </a:prstGeom>
          <a:ln w="0">
            <a:noFill/>
          </a:ln>
        </p:spPr>
      </p:pic>
      <p:pic>
        <p:nvPicPr>
          <p:cNvPr id="623" name="Рисунок 580" descr="Капустка"/>
          <p:cNvPicPr/>
          <p:nvPr/>
        </p:nvPicPr>
        <p:blipFill>
          <a:blip r:embed="rId6"/>
          <a:stretch/>
        </p:blipFill>
        <p:spPr>
          <a:xfrm>
            <a:off x="7236000" y="2492280"/>
            <a:ext cx="1692000" cy="2016360"/>
          </a:xfrm>
          <a:prstGeom prst="rect">
            <a:avLst/>
          </a:prstGeom>
          <a:ln w="0">
            <a:noFill/>
          </a:ln>
        </p:spPr>
      </p:pic>
      <p:pic>
        <p:nvPicPr>
          <p:cNvPr id="624" name="Рисунок 588" descr="Коляда"/>
          <p:cNvPicPr/>
          <p:nvPr/>
        </p:nvPicPr>
        <p:blipFill>
          <a:blip r:embed="rId7"/>
          <a:stretch/>
        </p:blipFill>
        <p:spPr>
          <a:xfrm>
            <a:off x="971640" y="4653000"/>
            <a:ext cx="1871640" cy="201600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13" descr="Неразлучники"/>
          <p:cNvPicPr/>
          <p:nvPr/>
        </p:nvPicPr>
        <p:blipFill>
          <a:blip r:embed="rId8"/>
          <a:stretch/>
        </p:blipFill>
        <p:spPr>
          <a:xfrm>
            <a:off x="3059280" y="4653000"/>
            <a:ext cx="1944360" cy="1998720"/>
          </a:xfrm>
          <a:prstGeom prst="rect">
            <a:avLst/>
          </a:prstGeom>
          <a:ln w="0">
            <a:noFill/>
          </a:ln>
        </p:spPr>
      </p:pic>
      <p:pic>
        <p:nvPicPr>
          <p:cNvPr id="626" name="Рисунок 593" descr="Птица-Радость"/>
          <p:cNvPicPr/>
          <p:nvPr/>
        </p:nvPicPr>
        <p:blipFill>
          <a:blip r:embed="rId9"/>
          <a:stretch/>
        </p:blipFill>
        <p:spPr>
          <a:xfrm>
            <a:off x="7380360" y="4724280"/>
            <a:ext cx="1566720" cy="1944720"/>
          </a:xfrm>
          <a:prstGeom prst="rect">
            <a:avLst/>
          </a:prstGeom>
          <a:ln w="0">
            <a:noFill/>
          </a:ln>
        </p:spPr>
      </p:pic>
      <p:pic>
        <p:nvPicPr>
          <p:cNvPr id="627" name="Рисунок 604" descr="Травница"/>
          <p:cNvPicPr/>
          <p:nvPr/>
        </p:nvPicPr>
        <p:blipFill>
          <a:blip r:embed="rId10"/>
          <a:stretch/>
        </p:blipFill>
        <p:spPr>
          <a:xfrm>
            <a:off x="5435640" y="4653000"/>
            <a:ext cx="1512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1" descr="uz-v1"/>
          <p:cNvPicPr/>
          <p:nvPr/>
        </p:nvPicPr>
        <p:blipFill>
          <a:blip r:embed="rId2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630" name="Прямоугольник 5"/>
          <p:cNvSpPr/>
          <p:nvPr/>
        </p:nvSpPr>
        <p:spPr>
          <a:xfrm>
            <a:off x="3562920" y="0"/>
            <a:ext cx="164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мов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Прямоугольник 6"/>
          <p:cNvSpPr/>
          <p:nvPr/>
        </p:nvSpPr>
        <p:spPr>
          <a:xfrm>
            <a:off x="1042920" y="1074600"/>
            <a:ext cx="49690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овы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ут в домах и дворах. На Руси верили, что ни один дом не стоит без домового. От уважительного отношения к домовому напрямую зависело благополучие дома. При переезде на новое место домовой обязательно звался с собой. Его перевозили в лапте, на хлебной лопатке или на венике, приговаривая при этом «вот те сани, поезжай с нами  Ежели в котором дому Домовой полюбит хозяина, то кормит и холит его лошадей, о всём печётся, и у самого хозяина бороду плетёт в косы. Чей же дом не полюбит, там разоряет хозяина в корень, переводя у него скот, беспокоя его по ночам, и ломая всё в дом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Picture 10" descr="http://im3-tub-ru.yandex.net/i?id=102206690-20-72"/>
          <p:cNvPicPr/>
          <p:nvPr/>
        </p:nvPicPr>
        <p:blipFill>
          <a:blip r:embed="rId3"/>
          <a:stretch/>
        </p:blipFill>
        <p:spPr>
          <a:xfrm>
            <a:off x="6012000" y="1413000"/>
            <a:ext cx="31176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1" descr="uz-v1"/>
          <p:cNvPicPr/>
          <p:nvPr/>
        </p:nvPicPr>
        <p:blipFill>
          <a:blip r:embed="rId2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4"/>
          <p:cNvSpPr/>
          <p:nvPr/>
        </p:nvSpPr>
        <p:spPr>
          <a:xfrm>
            <a:off x="1116000" y="3008160"/>
            <a:ext cx="3816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представить семью в виде дерева, то крона – это вы, наше будуще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что радует глаз  ветви – ваши родители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ные линии его потомк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вол - ваши пред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корни –  родоначальник, это что держит крону, это тради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Picture 6" descr="http://www.stihi.ru/pics/2012/07/28/3396.jpg"/>
          <p:cNvPicPr/>
          <p:nvPr/>
        </p:nvPicPr>
        <p:blipFill>
          <a:blip r:embed="rId3"/>
          <a:stretch/>
        </p:blipFill>
        <p:spPr>
          <a:xfrm>
            <a:off x="5148360" y="836640"/>
            <a:ext cx="3816360" cy="5545080"/>
          </a:xfrm>
          <a:prstGeom prst="rect">
            <a:avLst/>
          </a:prstGeom>
          <a:ln w="0">
            <a:noFill/>
          </a:ln>
        </p:spPr>
      </p:pic>
      <p:sp>
        <p:nvSpPr>
          <p:cNvPr id="637" name="Прямоугольник 5"/>
          <p:cNvSpPr/>
          <p:nvPr/>
        </p:nvSpPr>
        <p:spPr>
          <a:xfrm>
            <a:off x="2782080" y="0"/>
            <a:ext cx="433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Генеалогическое древо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Прямоугольник 6"/>
          <p:cNvSpPr/>
          <p:nvPr/>
        </p:nvSpPr>
        <p:spPr>
          <a:xfrm>
            <a:off x="971640" y="105264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мильное древо – схематическое представление родственных связей в виде дерева .Генеалогическим деревом также называют представление родословных в виде восходящих или нисходящих генеалогических табли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5" descr="http://zhdemgostey.ru/wp-content/uploads/2012/01/gosty.jpg"/>
          <p:cNvPicPr/>
          <p:nvPr/>
        </p:nvPicPr>
        <p:blipFill>
          <a:blip r:embed="rId4"/>
          <a:stretch/>
        </p:blipFill>
        <p:spPr>
          <a:xfrm>
            <a:off x="1692360" y="2637000"/>
            <a:ext cx="6408720" cy="4032000"/>
          </a:xfrm>
          <a:prstGeom prst="rect">
            <a:avLst/>
          </a:prstGeom>
          <a:ln w="0">
            <a:noFill/>
          </a:ln>
        </p:spPr>
      </p:pic>
      <p:sp>
        <p:nvSpPr>
          <p:cNvPr id="416" name="Прямоугольник 13"/>
          <p:cNvSpPr/>
          <p:nvPr/>
        </p:nvSpPr>
        <p:spPr>
          <a:xfrm>
            <a:off x="1116000" y="260280"/>
            <a:ext cx="7777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радиц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передача от предшествующих поколений обычаев и обрядов,  направлены на духовный мир личности и выполняет роль средств воспроизведения, повторения и закрепления общепринятых общественных отношений не непосредственно, а через формирование морального и духовного облика человека, складывающегося в соответствии с этими отношениями.  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: русское гостеприимство)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419" name="Rectangle 3"/>
          <p:cNvSpPr/>
          <p:nvPr/>
        </p:nvSpPr>
        <p:spPr>
          <a:xfrm>
            <a:off x="1332000" y="126360"/>
            <a:ext cx="720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ычай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исывает человеку более детальные поведение и поступки в определённых ситуациях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только символическое, но всякое вообще повторяющееся и установленное традицией действ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апример: рукопожатия при встрече близких друзей или родственников,  вредный обычай-  угощать спиртным при встрече родственников, друзей и знакомых)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2" descr="http://im5-tub-ru.yandex.net/i?id=84543357-12-72&amp;n=2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116000" y="2093760"/>
            <a:ext cx="3095640" cy="25797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5" descr="http://www.zhaba.ru/_pics/ordjt4e0wnv7y5x0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662360" y="2852640"/>
            <a:ext cx="388944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424" name="Прямоугольник 5"/>
          <p:cNvSpPr/>
          <p:nvPr/>
        </p:nvSpPr>
        <p:spPr>
          <a:xfrm>
            <a:off x="1042920" y="0"/>
            <a:ext cx="7632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ряд</a:t>
            </a:r>
            <a:r>
              <a:rPr b="0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нкретизирует форму выражения общепринятого в той или иной местности поведения в особо яркие моменты жизни человека (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:   обряды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адебный,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щения, погребе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Обряды считались столь же необходимым компонентом жизни, как и праздни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рядовая культур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о и есть порядок во всех проявлениях общественной жизни к данному случаю, обрядовых действий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ода, этический кодекс, регулирующий коллективные настроения и эмоции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2" descr="http://im6-tub-ru.yandex.net/i?id=261442159-02-72&amp;n=2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116000" y="2421000"/>
            <a:ext cx="3743280" cy="338436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6" descr="http://im7-tub-ru.yandex.net/i?id=532937725-54-72"/>
          <p:cNvPicPr/>
          <p:nvPr/>
        </p:nvPicPr>
        <p:blipFill>
          <a:blip r:embed="rId6"/>
          <a:stretch/>
        </p:blipFill>
        <p:spPr>
          <a:xfrm>
            <a:off x="5076720" y="3068640"/>
            <a:ext cx="3816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2" descr="http://im5-tub-ru.yandex.net/i?id=250097992-01-72"/>
          <p:cNvPicPr/>
          <p:nvPr/>
        </p:nvPicPr>
        <p:blipFill>
          <a:blip r:embed="rId4"/>
          <a:stretch/>
        </p:blipFill>
        <p:spPr>
          <a:xfrm>
            <a:off x="5940360" y="260280"/>
            <a:ext cx="2952720" cy="273708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3" descr="http://slavs.org.ua/img/calendar_t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971640" y="2809800"/>
            <a:ext cx="4248000" cy="3832200"/>
          </a:xfrm>
          <a:prstGeom prst="rect">
            <a:avLst/>
          </a:prstGeom>
          <a:ln w="0">
            <a:noFill/>
          </a:ln>
        </p:spPr>
      </p:pic>
      <p:sp>
        <p:nvSpPr>
          <p:cNvPr id="431" name="Прямоугольник 6"/>
          <p:cNvSpPr/>
          <p:nvPr/>
        </p:nvSpPr>
        <p:spPr>
          <a:xfrm>
            <a:off x="1042920" y="189000"/>
            <a:ext cx="457200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родный календарь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уси  назывался месяцесловом. Месяцеслов охватывал весь год крестьянской жизни, «описывая» его  по дням месяц за месяцем, где каждому дню соответствовали свои праздники или будни, обычаи и суеверия, традиции и обряды, природные приметы и яв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Прямоугольник 7"/>
          <p:cNvSpPr/>
          <p:nvPr/>
        </p:nvSpPr>
        <p:spPr>
          <a:xfrm>
            <a:off x="5435640" y="3284640"/>
            <a:ext cx="3708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одный календарь является своего рода энциклопедией крестьянского быта.  Он включает в себя знание  природы,  сельскохозяйственный опыт, обряды, нормы общественной жизни и является слиянием языческого и христианского начал, народным православием.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435" name="Прямоугольник 4"/>
          <p:cNvSpPr/>
          <p:nvPr/>
        </p:nvSpPr>
        <p:spPr>
          <a:xfrm>
            <a:off x="1187280" y="0"/>
            <a:ext cx="7777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азднично-обрядовая культур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Прямоугольник 5"/>
          <p:cNvSpPr/>
          <p:nvPr/>
        </p:nvSpPr>
        <p:spPr>
          <a:xfrm>
            <a:off x="900000" y="549360"/>
            <a:ext cx="8172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зимние праздники –  две святочные недели (святки):   Рождество, Новый год (по старому стилю) и Крещение. В праздники затевали магические игры, производили символические действия с зерном, хлебом, соломой ("чтобы был урожай"),  ходили по домам колядовать,  девушки гада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6" descr="http://im4-tub-ru.yandex.net/i?id=314727918-04-72&amp;n=2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580000" y="2271600"/>
            <a:ext cx="3168720" cy="33130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2" descr="http://im2-tub-ru.yandex.net/i?id=458563178-64-72&amp;n=21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187280" y="2421000"/>
            <a:ext cx="3672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3" descr="frame22P_var"/>
          <p:cNvPicPr/>
          <p:nvPr/>
        </p:nvPicPr>
        <p:blipFill>
          <a:blip r:embed="rId1"/>
          <a:srcRect l="0" t="4850" r="92044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1" descr="uz-v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pic>
        <p:nvPicPr>
          <p:cNvPr id="441" name="Рисунок 136" descr="http://culture.astrgorod.ru/sites/default/files/maslenitsapost42.jpg"/>
          <p:cNvPicPr/>
          <p:nvPr/>
        </p:nvPicPr>
        <p:blipFill>
          <a:blip r:embed="rId4"/>
          <a:stretch/>
        </p:blipFill>
        <p:spPr>
          <a:xfrm>
            <a:off x="1042920" y="189000"/>
            <a:ext cx="3816360" cy="3024000"/>
          </a:xfrm>
          <a:prstGeom prst="rect">
            <a:avLst/>
          </a:prstGeom>
          <a:ln w="0">
            <a:noFill/>
          </a:ln>
        </p:spPr>
      </p:pic>
      <p:sp>
        <p:nvSpPr>
          <p:cNvPr id="442" name="Прямоугольник 6"/>
          <p:cNvSpPr/>
          <p:nvPr/>
        </p:nvSpPr>
        <p:spPr>
          <a:xfrm>
            <a:off x="5003640" y="476280"/>
            <a:ext cx="3889440" cy="25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слениц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роводы зимы и встреча весны)- длилась целую неделю и   Начиная с четверга масленичной недели все работы прекращались, начиналось шумное веселье. Ходили друг к другу в гости, обильно угощались блинами, оладьями, пирогами, была и выпивк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Прямоугольник 8"/>
          <p:cNvSpPr/>
          <p:nvPr/>
        </p:nvSpPr>
        <p:spPr>
          <a:xfrm>
            <a:off x="900000" y="3357720"/>
            <a:ext cx="4680000" cy="33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окая Масленица – Сырная неделя!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 пришла нарядная к нам Весну встречать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чь блины и развлекаться будем всю неделю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 Зиму студёную из дому прогнать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едельник – «Встреча»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торник – «Заигрыш»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а- «Лакомк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верг – «Разгуляй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ятница «Вечера  у тёщи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бота –»Золовкины угощения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кресенье – «Прощеный день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ышные гулянье Ярмарка венчает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свиданья, Масленица, приходи опять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9" descr="http://ru-an.info/Photo/2011/news_linked/foto-878-637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72000" y="3357720"/>
            <a:ext cx="44640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05:48:04Z</dcterms:created>
  <dc:creator>DESIGN</dc:creator>
  <dc:description/>
  <dc:language>en-US</dc:language>
  <cp:lastModifiedBy>Катя</cp:lastModifiedBy>
  <dcterms:modified xsi:type="dcterms:W3CDTF">2014-05-06T09:38:23Z</dcterms:modified>
  <cp:revision>14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a390000000000010250300207f7000400038000</vt:lpwstr>
  </property>
</Properties>
</file>