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1B4-0695-432A-AC54-5385D5A8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185-D849-4677-A7E3-51619A66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209-8D35-4894-BAF6-389DFDFB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5AE-BADF-4F90-883C-B189C765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41C5-B28B-4887-A246-B1D28CDC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4BA9-9045-45AC-AD8D-CFE7ED8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505D-EC8E-4FBC-A13A-F2CD2E5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6D17-2199-46C4-BC53-E098D6F8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6B86-B546-4713-9125-F72D08C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A2B6-F117-41F3-A822-F3DDD30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1C4-3E77-4AD9-9CA8-1FB6D1F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5FD-033C-4325-94D0-2E5868D4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ED12-BB96-48D2-8592-262A71E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5673-EFC5-4403-8F25-730B58F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BB47-B63E-431B-B69E-DE9190DF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D246-C2BF-4AB9-934C-539C6A99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0298-EA09-426D-BE16-10EB4781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AFC-CF37-45F3-A88C-C3245C5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814-B598-4747-BCA3-249C163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F05-337C-4378-90CD-76A8F995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BC1-3454-452E-A5AB-DE171FF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35A-38B0-40BA-85D0-28321A0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B32-8D8F-4EFD-88A3-97CDF42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540-9CF0-4A1F-A067-1F3CA35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7A3-CC9F-42A1-B7B5-764D17403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10E-AB53-4487-A5CA-F0E99179D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ru.wikipedia.org/wiki/NYSE" TargetMode="External"/><Relationship Id="rId5" Type="http://schemas.openxmlformats.org/officeDocument/2006/relationships/hyperlink" Target="http://ru.wikipedia.org/wiki/NASDAQ" TargetMode="External"/><Relationship Id="rId6" Type="http://schemas.openxmlformats.org/officeDocument/2006/relationships/hyperlink" Target="http://en.wikipedia.org/wiki/American_Stock_Exchange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58920" y="2205000"/>
            <a:ext cx="68421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ЬЮ-ЙОР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487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9417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а из наиболее характерных черт Нью-Йорка – этническое многообразие. В прошлом подавляющее большинство населения города составляли белые переселенцы из Европы. Этнический облик современного города существенно изменился по мере того, как эмиграция в страну стала быстро 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590544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581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род Жёлтого дьявола, "Большое яблоко", столица мира, не являющаяся столицей своей страны... Нью-Йорк... Характеризовать его можно по-разному, отношение к нему тоже может быть самым полярным: этот город можно любить и ненавидеть (причём два столь противоречивых чувства в данном случае можно испытывать одновременно), но не признать величие этого города невозмож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5329440" cy="3930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лландские переселенцы, в 17 веке выкупившие у индейцев Манхэттен, за какие-то 24 доллара, и не представляли, во что со временем превратится облюбованный ими остров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6516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51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имеющая прецедентов в истории человечества атака террористов Усамы Бен Ладена, наверное, поэтому и была направлена на город, аналогов которому в мире не суще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51240"/>
            <a:ext cx="388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умасшедшем ритме они крутятся в продуваемом Атлантическими ветрами Аду едва ли не все 24 часа в сутки, ведомые одной лишь целью - заработать столько, чтобы навсегда вырваться из этого безумного заповедника неограниченных возможностей. Иные же стремятся сюда, лишь за тем, чтобы, живя в нечеловеческих условиях ночлежек для нелегалов, хотя бы одной ногой попасть на шестерёнку этого конвейера, который, дай-то Бог вынесет тебя в светлое будущее, именуемое "американской мечтой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3214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67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72428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является финансовым центром страны: в нем находятся такие биржи, как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New York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NASDAQ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en:American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en:New York Mercantile Exchange и en:New York Board of Trade. Нью-Йоркская финансовая отрасль сосредоточена на Уолл-стрит в нижнем Манхэтт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113360" cy="458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907920"/>
            <a:ext cx="345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был первоначальным центром американской кинематографии, пока она не переместилась в Голливуд, но и сейчас в Нью-Йорке продолжают производить некоторые фильмы и телепередачи. Нью-Йорк также столица моды США, здесь находятся штаб-квартиры многих модельеров. В Нью-Йорке есть множество издательств, и здесь часто впервые печатаются новые кни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51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стал неоспоримым мировым городом-лидером, после строительства штаб-квартиры ООН в Нью-Йорке, которое стало символизировать уникальное политическое значение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553440" cy="39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292720" cy="344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58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, крупнейший город США, ядро самой густонаселенной в мире зоны урбанизации. Город расположен на крайнем юго-востоке штата Нью-Йорк, в месте впадения реки Гудзон в Атлантический оке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6:11Z</dcterms:created>
  <dc:creator>eMachines</dc:creator>
  <dc:description/>
  <dc:language>en-US</dc:language>
  <cp:lastModifiedBy>eMachines</cp:lastModifiedBy>
  <dcterms:modified xsi:type="dcterms:W3CDTF">2011-09-24T16:23:12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50300207f7000400038000</vt:lpwstr>
  </property>
</Properties>
</file>