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A77-9844-4BF3-B09A-135A30F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07D-B200-4343-ACE1-44D7F2C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213-B795-4891-9FD0-B0C9D27B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0A2-ADF7-4C40-ACA2-13C01DFE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7A55-A93C-444D-A866-4485E3B7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013E-8963-40F7-9B62-4A16B4FC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A7D3-3EE1-479E-AED2-70919FB1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A243-2EE4-4B98-AD99-080E2171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AF3E-E748-4F9F-976F-FDE4660F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2B74-C5EF-4DE6-8129-CF69900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A293-4122-4EC8-A9D4-AF5C238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C98-8BED-4BDC-AC32-334690D0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9CB4-7B03-401C-986C-CCC20FC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1D98-BF34-4980-83F4-BD0AE2D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386F-1FD1-4B80-ADEB-D4E73FB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56B-050E-4E43-879E-6CF1DE60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42A-BF90-4509-B0D8-25D0C76D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18E-CD6E-4083-88B3-6F5CAFC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52F-B2FF-4DFA-94D2-FD778EA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A60-72A8-4611-8374-F42258E1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85A-14B9-4D7D-8C77-8D84CCD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46E-56E2-4D54-A19D-26B6809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456-E394-4001-AA28-44FA8B1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68D-DB84-4859-B5F8-1713D12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285A-B5F4-4065-AEF8-4B9AB8B1F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E8F3-782B-4C3E-84B7-BE99F48CC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ru.wikipedia.org/wiki/NYSE" TargetMode="External"/><Relationship Id="rId5" Type="http://schemas.openxmlformats.org/officeDocument/2006/relationships/hyperlink" Target="http://ru.wikipedia.org/wiki/NASDAQ" TargetMode="External"/><Relationship Id="rId6" Type="http://schemas.openxmlformats.org/officeDocument/2006/relationships/hyperlink" Target="http://en.wikipedia.org/wiki/American_Stock_Exchange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58920" y="2205000"/>
            <a:ext cx="68421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ЬЮ-ЙОР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48784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9417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а из наиболее характерных черт Нью-Йорка – этническое многообразие. В прошлом подавляющее большинство населения города составляли белые переселенцы из Европы. Этнический облик современного города существенно изменился по мере того, как эмиграция в страну стала быстро 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5905440" cy="331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581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род Жёлтого дьявола, "Большое яблоко", столица мира, не являющаяся столицей своей страны... Нью-Йорк... Характеризовать его можно по-разному, отношение к нему тоже может быть самым полярным: этот город можно любить и ненавидеть (причём два столь противоречивых чувства в данном случае можно испытывать одновременно), но не признать величие этого города невозмож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5329440" cy="3930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лландские переселенцы, в 17 веке выкупившие у индейцев Манхэттен, за какие-то 24 доллара, и не представляли, во что со временем превратится облюбованный ими остров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6516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51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имеющая прецедентов в истории человечества атака террористов Усамы Бен Ладена, наверное, поэтому и была направлена на город, аналогов которому в мире не существу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51240"/>
            <a:ext cx="388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сумасшедшем ритме они крутятся в продуваемом Атлантическими ветрами Аду едва ли не все 24 часа в сутки, ведомые одной лишь целью - заработать столько, чтобы навсегда вырваться из этого безумного заповедника неограниченных возможностей. Иные же стремятся сюда, лишь за тем, чтобы, живя в нечеловеческих условиях ночлежек для нелегалов, хотя бы одной ногой попасть на шестерёнку этого конвейера, который, дай-то Бог вынесет тебя в светлое будущее, именуемое "американской мечтой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3214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67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472428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является финансовым центром страны: в нем находятся такие биржи, как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New York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NASDAQ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en:American Stock Exchang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en:New York Mercantile Exchange и en:New York Board of Trade. Нью-Йоркская финансовая отрасль сосредоточена на Уолл-стрит в нижнем Манхэтт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907920"/>
            <a:ext cx="4113360" cy="458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907920"/>
            <a:ext cx="345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был первоначальным центром американской кинематографии, пока она не переместилась в Голливуд, но и сейчас в Нью-Йорке продолжают производить некоторые фильмы и телепередачи. Нью-Йорк также столица моды США, здесь находятся штаб-квартиры многих модельеров. В Нью-Йорке есть множество издательств, и здесь часто впервые печатаются новые кни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516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 стал неоспоримым мировым городом-лидером, после строительства штаб-квартиры ООН в Нью-Йорке, которое стало символизировать уникальное политическое значение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553440" cy="39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292720" cy="3443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589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ЬЮ-ЙОРК, крупнейший город США, ядро самой густонаселенной в мире зоны урбанизации. Город расположен на крайнем юго-востоке штата Нью-Йорк, в месте впадения реки Гудзон в Атлантический оке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6:11Z</dcterms:created>
  <dc:creator>eMachines</dc:creator>
  <dc:description/>
  <dc:language>en-US</dc:language>
  <cp:lastModifiedBy>eMachines</cp:lastModifiedBy>
  <dcterms:modified xsi:type="dcterms:W3CDTF">2011-09-24T16:23:12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50300207f7000400038000</vt:lpwstr>
  </property>
</Properties>
</file>