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5025F-514B-44EE-9516-1531D4C62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46920-A742-4B89-8241-FD0B4223E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60811-D99F-41C2-A7DA-D75229742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DF72A-D6E9-4A06-BC67-F9A014706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C400B-D215-4202-A4FA-48F81E969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FFFCF-7056-4A88-AB1C-96BC67F3A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96B39-F952-42D2-8DB6-957944B70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B3E10-D8D2-49E8-A143-DE4175C68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74C24-D28F-4741-ACE4-4B463F922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EA96B-B5D6-4CEA-AC9E-CBD1A82E9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DA648-0C0D-4EC2-A72C-0A56AFE10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7758C-F8CB-4D16-90D6-18276AC18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2419C-9BAB-4DB0-950E-19776DDC6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66216-1E5E-49E5-A2AD-1E933A4FD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499AF-432B-416F-B27E-7F6929CCD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E886E-438C-4FFE-B775-E5F290D68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E2A67-1713-4EDF-BE5E-AD4913D4A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95815-8032-4C8D-9B2E-7568BF1DF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F2B7C-3EC0-4CAA-BD2F-68C280EB9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8E164-EEBE-48C9-9253-BF37B8FD4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D50B1-91C0-4710-A5D5-F275DF066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4098F-6842-4CB7-B4C4-A94C7C397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A758E-A430-4918-A772-D102C21E5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F87C3-F457-43F3-8E19-A2FEDD7C7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F5C73-A94C-4678-AFE3-0AEB02288DC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03B81-C714-4D4D-A67C-C97E6BF2399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hyperlink" Target="http://ru.wikipedia.org/wiki/NYSE" TargetMode="External"/><Relationship Id="rId5" Type="http://schemas.openxmlformats.org/officeDocument/2006/relationships/hyperlink" Target="http://ru.wikipedia.org/wiki/NASDAQ" TargetMode="External"/><Relationship Id="rId6" Type="http://schemas.openxmlformats.org/officeDocument/2006/relationships/hyperlink" Target="http://en.wikipedia.org/wiki/American_Stock_Exchange" TargetMode="External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258920" y="2205000"/>
            <a:ext cx="6842160" cy="149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НЬЮ-ЙОРК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5487840" y="6397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2700360" y="333360"/>
            <a:ext cx="4105080" cy="439272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250920" y="4941720"/>
            <a:ext cx="8569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Одна из наиболее характерных черт Нью-Йорка – этническое многообразие. В прошлом подавляющее большинство населения города составляли белые переселенцы из Европы. Этнический облик современного города существенно изменился по мере того, как эмиграция в страну стала быстро раст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3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1835280" y="836640"/>
            <a:ext cx="5905440" cy="331308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250920" y="4581360"/>
            <a:ext cx="86421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Город Жёлтого дьявола, "Большое яблоко", столица мира, не являющаяся столицей своей страны... Нью-Йорк... Характеризовать его можно по-разному, отношение к нему тоже может быть самым полярным: этот город можно любить и ненавидеть (причём два столь противоречивых чувства в данном случае можно испытывать одновременно), но не признать величие этого города невозможно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895480" y="6397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2268360" y="2492280"/>
            <a:ext cx="5329440" cy="393084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684360" y="620640"/>
            <a:ext cx="7920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Голландские переселенцы, в 17 веке выкупившие у индейцев Манхэттен, за какие-то 24 доллара, и не представляли, во что со временем превратится облюбованный ими островок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2050920" y="1197000"/>
            <a:ext cx="5651640" cy="367668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0" y="551664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Не имеющая прецедентов в истории человечества атака террористов Усамы Бен Ладена, наверное, поэтому и была направлена на город, аналогов которому в мире не существует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71636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5003640" y="651240"/>
            <a:ext cx="38894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В сумасшедшем ритме они крутятся в продуваемом Атлантическими ветрами Аду едва ли не все 24 часа в сутки, ведомые одной лишь целью - заработать столько, чтобы навсегда вырваться из этого безумного заповедника неограниченных возможностей. Иные же стремятся сюда, лишь за тем, чтобы, живя в нечеловеческих условиях ночлежек для нелегалов, хотя бы одной ногой попасть на шестерёнку этого конвейера, который, дай-то Бог вынесет тебя в светлое будущее, именуемое "американской мечтой"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8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179280" y="260280"/>
            <a:ext cx="4321440" cy="403236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4767120" y="352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4572000" y="260280"/>
            <a:ext cx="4392720" cy="403236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826920" y="4724280"/>
            <a:ext cx="7705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Нью-Йорк является финансовым центром страны: в нем находятся такие биржи, как </a:t>
            </a:r>
            <a:r>
              <a:rPr b="0" lang="en-US" sz="1800" spc="-1" strike="noStrike" u="sng">
                <a:solidFill>
                  <a:srgbClr val="00ccff"/>
                </a:solidFill>
                <a:uFillTx/>
                <a:latin typeface="Arial"/>
                <a:hlinkClick r:id="rId4"/>
              </a:rPr>
              <a:t>New York Stock Exchange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cff"/>
                </a:solidFill>
                <a:uFillTx/>
                <a:latin typeface="Arial"/>
                <a:hlinkClick r:id="rId5"/>
              </a:rPr>
              <a:t>NASDAQ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cff"/>
                </a:solidFill>
                <a:uFillTx/>
                <a:latin typeface="Arial"/>
                <a:hlinkClick r:id="rId6"/>
              </a:rPr>
              <a:t>en:American Stock Exchange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, en:New York Mercantile Exchange и en:New York Board of Trade. Нью-Йоркская финансовая отрасль сосредоточена на Уолл-стрит в нижнем Манхэттен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5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4356000" y="907920"/>
            <a:ext cx="4113360" cy="458172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324000" y="907920"/>
            <a:ext cx="345744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Нью-Йорк был первоначальным центром американской кинематографии, пока она не переместилась в Голливуд, но и сейчас в Нью-Йорке продолжают производить некоторые фильмы и телепередачи. Нью-Йорк также столица моды США, здесь находятся штаб-квартиры многих модельеров. В Нью-Йорке есть множество издательств, и здесь часто впервые печатаются новые книги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7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95280" y="5516640"/>
            <a:ext cx="842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Нью-Йорк стал неоспоримым мировым городом-лидером, после строительства штаб-квартиры ООН в Нью-Йорке, которое стало символизировать уникальное политическое значение город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1403280" y="1052640"/>
            <a:ext cx="6553440" cy="394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9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979640" y="1484280"/>
            <a:ext cx="5292720" cy="34434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0" y="558972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НЬЮ-ЙОРК, крупнейший город США, ядро самой густонаселенной в мире зоны урбанизации. Город расположен на крайнем юго-востоке штата Нью-Йорк, в месте впадения реки Гудзон в Атлантический океан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1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6:16:11Z</dcterms:created>
  <dc:creator>eMachines</dc:creator>
  <dc:description/>
  <dc:language>en-US</dc:language>
  <cp:lastModifiedBy>eMachines</cp:lastModifiedBy>
  <dcterms:modified xsi:type="dcterms:W3CDTF">2011-09-24T16:23:12Z</dcterms:modified>
  <cp:revision>1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d8070000000000010250300207f7000400038000</vt:lpwstr>
  </property>
</Properties>
</file>