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7EF-F5AB-4C07-BE75-3C273AB3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3B1-AFBC-4ED0-868C-8065BEDA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581-153D-47D3-8605-4195F557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B59-A486-4EAB-B0FE-A86DC776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472C-0DC1-47B8-80DA-09C02276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D08-8E9A-4D45-98E0-073AEAE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062-79FF-4FB3-B81D-6C37B9B1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F69-26C3-4D4A-9F19-3E7D4153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A457-E863-4B31-A837-4EB0DC6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D76A-F92E-4B1C-86D1-D52530D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76E7-91D7-4D97-B1EE-9111E64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358-A074-4ED2-9A06-BB44DAE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7F31-FDD4-44A4-8035-CF11250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CB89-A73D-4BFD-AE49-CA4B4A7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C9A7-2E25-4DDA-87FA-6642AD6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9530-1F27-4664-A5EE-F919B0EF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F54-1985-4E7F-A25E-203B8AB2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2F0-D36B-4DD0-B933-82F6CF9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39D-9C4F-47C0-A83B-1395D8D9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C43-1F82-480F-B746-48CD5044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898-F5E4-40C1-9566-64785B19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8AF-D82B-47FE-9AB9-3A99DAD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35E-7E39-4960-9DB1-2324D313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25D-6E0A-4464-8273-470EEFB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DC0-1D43-4FA6-ACF3-963FCE08C9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A96D-EB57-4DBC-8F06-5C94718F9F6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611280" y="170028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Palette"/>
              </a:rPr>
              <a:t>Нидерланды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2171160"/>
            <a:ext cx="874872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идерланды являются родиной множества известнейших художник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лландский язык относится к группе западно-германских языков. На нем говорят около 25 млн. человек по всему мир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ым популярным видом спорта является футбол. Большое значение также имеют теннис, велосипедный спорт, хоккей на траве, волейбол, гандбол, конькобежный спорт и гольф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ди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льду, ежегодно устраивающиеся в северных земля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ки на буер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ие народных песе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77280" cy="60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754200" y="148428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адноевропейское государство, омываемое Северным морем, граничащее с Германией и Бельгие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олицей государства является Амстердам, но парламент и правительство находятся в Гаа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упные города: Роттердам — самый большой порт страны и один из крупнейших портов мира, Утрехт — центр железнодорожной системы страны и Эйндховен — центр электроники и высоких технолог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18" descr="EU_location_NED"/>
          <p:cNvPicPr/>
          <p:nvPr/>
        </p:nvPicPr>
        <p:blipFill>
          <a:blip r:embed="rId1"/>
          <a:stretch/>
        </p:blipFill>
        <p:spPr>
          <a:xfrm>
            <a:off x="5651640" y="1484280"/>
            <a:ext cx="31050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920000" cy="26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4" descr="NetherlandsMapBig"/>
          <p:cNvPicPr/>
          <p:nvPr/>
        </p:nvPicPr>
        <p:blipFill>
          <a:blip r:embed="rId1"/>
          <a:stretch/>
        </p:blipFill>
        <p:spPr>
          <a:xfrm>
            <a:off x="1547640" y="404640"/>
            <a:ext cx="5986800" cy="645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стопримечатель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ролевский дворе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вартал красных фонар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циональный Парк "Де Хоге Велуве"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Тейлер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трова Вадденского мор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репость Аммерсоен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мок Де Хаа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Мейдерсло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мок Радбауд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47640" y="-360"/>
            <a:ext cx="612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стопримечательност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9280" y="836640"/>
            <a:ext cx="3529080" cy="30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узей Ван Го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узей в Амстердаме, содержащий самую большую в мире коллекцию картин и рисунков Винсента Ван Гога, а также работы его современников, в том числе Поля Гог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, Клода Моне, Ан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улуз-Лотр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, Пабло Пикасс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10" descr="Van_Gogh_Museum"/>
          <p:cNvPicPr/>
          <p:nvPr/>
        </p:nvPicPr>
        <p:blipFill>
          <a:blip r:embed="rId1"/>
          <a:stretch/>
        </p:blipFill>
        <p:spPr>
          <a:xfrm>
            <a:off x="3814920" y="765000"/>
            <a:ext cx="5329080" cy="35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58px-Van_Gogh_Vase_with_Fifteen_Sunflowers_Amsterdam"/>
          <p:cNvPicPr/>
          <p:nvPr/>
        </p:nvPicPr>
        <p:blipFill>
          <a:blip r:embed="rId2"/>
          <a:stretch/>
        </p:blipFill>
        <p:spPr>
          <a:xfrm>
            <a:off x="4067280" y="4653000"/>
            <a:ext cx="1411200" cy="1849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800px-Vincent_Van_Gogh_-_The_Potato_Eaters"/>
          <p:cNvPicPr/>
          <p:nvPr/>
        </p:nvPicPr>
        <p:blipFill>
          <a:blip r:embed="rId3"/>
          <a:stretch/>
        </p:blipFill>
        <p:spPr>
          <a:xfrm>
            <a:off x="5724360" y="4508640"/>
            <a:ext cx="2953080" cy="208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олевский дворец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6" descr="800px-Dampaleis"/>
          <p:cNvPicPr/>
          <p:nvPr/>
        </p:nvPicPr>
        <p:blipFill>
          <a:blip r:embed="rId1"/>
          <a:stretch/>
        </p:blipFill>
        <p:spPr>
          <a:xfrm>
            <a:off x="4716360" y="1052640"/>
            <a:ext cx="3743280" cy="2390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_66"/>
          <p:cNvPicPr/>
          <p:nvPr/>
        </p:nvPicPr>
        <p:blipFill>
          <a:blip r:embed="rId2"/>
          <a:stretch/>
        </p:blipFill>
        <p:spPr>
          <a:xfrm>
            <a:off x="4606920" y="3645000"/>
            <a:ext cx="453708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324000" y="1125360"/>
            <a:ext cx="4103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олевский дворец на площади Дам — главный архитектурный памятник голландской столицы. Он был построен 1648—1655 гг., когда Амстердам был крупнейшим центром морской торговли, столицей империи, раскинувшейся от Америки до Австрали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начально это здание служило ратушей и было самым большим и самым роскошным в город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адурода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к миниатюр, миниатюрный город в Схевенингене, Гаага, в Нидерланд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ставляет из себя модель голландского города в масштабе 1:25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роена в 1952  год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3000 фигурок люде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madurodam_10"/>
          <p:cNvPicPr/>
          <p:nvPr/>
        </p:nvPicPr>
        <p:blipFill>
          <a:blip r:embed="rId1"/>
          <a:stretch/>
        </p:blipFill>
        <p:spPr>
          <a:xfrm>
            <a:off x="4716360" y="9079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madurodam_2"/>
          <p:cNvPicPr/>
          <p:nvPr/>
        </p:nvPicPr>
        <p:blipFill>
          <a:blip r:embed="rId2"/>
          <a:stretch/>
        </p:blipFill>
        <p:spPr>
          <a:xfrm>
            <a:off x="4716360" y="3789360"/>
            <a:ext cx="4427640" cy="294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циональный парк Де-Хоге-Велюв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60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храняемая природная зона в нидерландской провинции Гелдерланд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является частью области Велюве площадью 1000 км², самой большой равнинной природной территории в Северо-Западной Европ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арк расположен на песчаных почвах Велюве, оставшихся после схода ледника. Представлены такие ландшафты, как открытые пески, вересковые пустоши и хвойные леса. Внутри парка сохранились остатки поселени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ан в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93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5" descr="800px-Zandverstuiving_hoge_veluwe_4"/>
          <p:cNvPicPr/>
          <p:nvPr/>
        </p:nvPicPr>
        <p:blipFill>
          <a:blip r:embed="rId1"/>
          <a:stretch/>
        </p:blipFill>
        <p:spPr>
          <a:xfrm>
            <a:off x="4859280" y="1628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Замок Де Хаар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37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упнейший замок Де Хаар расположен недалеко от Утрехт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обенностью замка считается система подземных ходов, ведущих к вельветовой пещер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л перестроен в 1892-1912 годах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e_haar1"/>
          <p:cNvPicPr/>
          <p:nvPr/>
        </p:nvPicPr>
        <p:blipFill>
          <a:blip r:embed="rId1"/>
          <a:stretch/>
        </p:blipFill>
        <p:spPr>
          <a:xfrm>
            <a:off x="4356000" y="1125360"/>
            <a:ext cx="4572000" cy="3260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0:19:41Z</dcterms:created>
  <dc:creator>Я</dc:creator>
  <dc:description/>
  <dc:language>en-US</dc:language>
  <cp:lastModifiedBy>Денис</cp:lastModifiedBy>
  <dcterms:modified xsi:type="dcterms:W3CDTF">2012-05-15T12:06:28Z</dcterms:modified>
  <cp:revision>69</cp:revision>
  <dc:subject/>
  <dc:title>Презентация PowerPoint</dc:title>
</cp:coreProperties>
</file>