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98F-6BCB-4F4A-AB3A-D5FB14C8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71F-63E1-4005-A50D-8CC23E54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2E4-D398-4E17-832B-B265B1F3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49F-072D-42F5-99B8-D740DE66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EDDA-2B66-4AF6-A985-B8A7EB18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436A-97F9-4DCE-9403-96BDC3D1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8EC3-27B9-4551-8440-41D02A6D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BB50-BDBD-4183-B2B5-15EC9A58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C7E-7397-4F84-AA0D-8A428ED8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12FF-FA6B-46AF-817B-B6BA0838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AC53-15D9-4EE5-8943-EA86046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EF5-E525-4A67-9EB3-A26D786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1BE1-5688-4908-A141-68C25A09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1C6C-29BF-4A2D-BCAC-339F640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23CB-E90C-48B4-AB06-8C8A001C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46C0-9DFF-4D75-A316-057CC5C2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4931-2722-49CD-951B-5D810C35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6D6-1254-405B-9DFE-BE0FF057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2B9-4E41-4ECC-A4FB-D4535C23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960-99FF-45FC-B845-A60B1C99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956-18E6-4166-BBB4-98DA6BB1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8BF-F477-47AF-8A83-ABA11D8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F78-8AEF-4747-9B67-87170DAB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1A1-3516-46E3-80F0-AF6ADFB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75CD-70DC-4556-9E2F-C1F53CE455C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E33F-BDD0-4D09-A072-04163B20632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611280" y="170028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Palette"/>
              </a:rPr>
              <a:t>Нидерланды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2171160"/>
            <a:ext cx="874872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идерланды являются родиной множества известнейших художник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лландский язык относится к группе западно-германских языков. На нем говорят около 25 млн. человек по всему мир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мым популярным видом спорта является футбол. Большое значение также имеют теннис, велосипедный спорт, хоккей на траве, волейбол, гандбол, конькобежный спорт и гольф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ади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ки на льду, ежегодно устраивающиеся в северных земля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ки на буера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ие народных песе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77280" cy="60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идерланд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754200" y="1484280"/>
            <a:ext cx="48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падноевропейское государство, омываемое Северным морем, граничащее с Германией и Бельгие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олицей государства является Амстердам, но парламент и правительство находятся в Гааг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пные города: Роттердам — самый большой порт страны и один из крупнейших портов мира, Утрехт — центр железнодорожной системы страны и Эйндховен — центр электроники и высоких технолог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18" descr="EU_location_NED"/>
          <p:cNvPicPr/>
          <p:nvPr/>
        </p:nvPicPr>
        <p:blipFill>
          <a:blip r:embed="rId1"/>
          <a:stretch/>
        </p:blipFill>
        <p:spPr>
          <a:xfrm>
            <a:off x="5651640" y="1484280"/>
            <a:ext cx="3105000" cy="370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920000" cy="26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4" descr="NetherlandsMapBig"/>
          <p:cNvPicPr/>
          <p:nvPr/>
        </p:nvPicPr>
        <p:blipFill>
          <a:blip r:embed="rId1"/>
          <a:stretch/>
        </p:blipFill>
        <p:spPr>
          <a:xfrm>
            <a:off x="1547640" y="404640"/>
            <a:ext cx="5986800" cy="645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олевский дворе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вартал красных фонар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циональный Парк "Де Хоге Велуве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узей Тейлер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трова Вадденского мор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репость Аммерсоен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узей Ван Гог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мок Де Хаа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мок Мейдерсло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мок Радбауд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47640" y="-360"/>
            <a:ext cx="6121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остопримечательност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79280" y="836640"/>
            <a:ext cx="3529080" cy="30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узей Ван Го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узей в Амстердаме, содержащий самую большую в мире коллекцию картин и рисунков Винсента Ван Гога, а также работы его современников, в том числе Поля Гог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, Клода Моне, Анр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Тулуз-Лотр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, Пабло Пикасс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0" descr="Van_Gogh_Museum"/>
          <p:cNvPicPr/>
          <p:nvPr/>
        </p:nvPicPr>
        <p:blipFill>
          <a:blip r:embed="rId1"/>
          <a:stretch/>
        </p:blipFill>
        <p:spPr>
          <a:xfrm>
            <a:off x="3814920" y="765000"/>
            <a:ext cx="5329080" cy="3548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58px-Van_Gogh_Vase_with_Fifteen_Sunflowers_Amsterdam"/>
          <p:cNvPicPr/>
          <p:nvPr/>
        </p:nvPicPr>
        <p:blipFill>
          <a:blip r:embed="rId2"/>
          <a:stretch/>
        </p:blipFill>
        <p:spPr>
          <a:xfrm>
            <a:off x="4067280" y="4653000"/>
            <a:ext cx="1411200" cy="1849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800px-Vincent_Van_Gogh_-_The_Potato_Eaters"/>
          <p:cNvPicPr/>
          <p:nvPr/>
        </p:nvPicPr>
        <p:blipFill>
          <a:blip r:embed="rId3"/>
          <a:stretch/>
        </p:blipFill>
        <p:spPr>
          <a:xfrm>
            <a:off x="5724360" y="4508640"/>
            <a:ext cx="2953080" cy="2084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ролевский дворец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6" descr="800px-Dampaleis"/>
          <p:cNvPicPr/>
          <p:nvPr/>
        </p:nvPicPr>
        <p:blipFill>
          <a:blip r:embed="rId1"/>
          <a:stretch/>
        </p:blipFill>
        <p:spPr>
          <a:xfrm>
            <a:off x="4716360" y="1052640"/>
            <a:ext cx="3743280" cy="2390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_66"/>
          <p:cNvPicPr/>
          <p:nvPr/>
        </p:nvPicPr>
        <p:blipFill>
          <a:blip r:embed="rId2"/>
          <a:stretch/>
        </p:blipFill>
        <p:spPr>
          <a:xfrm>
            <a:off x="4606920" y="3645000"/>
            <a:ext cx="4537080" cy="28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324000" y="1125360"/>
            <a:ext cx="41036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олевский дворец на площади Дам — главный архитектурный памятник голландской столицы. Он был построен 1648—1655 гг., когда Амстердам был крупнейшим центром морской торговли, столицей империи, раскинувшейся от Америки до Австрали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начально это здание служило ратушей и было самым большим и самым роскошным в город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Мадурода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арк миниатюр, миниатюрный город в Схевенингене, Гаага, в Нидерланд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яет из себя модель голландского города в масштабе 1:25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строена в 1952  год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3000 фигурок люде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madurodam_10"/>
          <p:cNvPicPr/>
          <p:nvPr/>
        </p:nvPicPr>
        <p:blipFill>
          <a:blip r:embed="rId1"/>
          <a:stretch/>
        </p:blipFill>
        <p:spPr>
          <a:xfrm>
            <a:off x="4716360" y="907920"/>
            <a:ext cx="4140360" cy="2749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madurodam_2"/>
          <p:cNvPicPr/>
          <p:nvPr/>
        </p:nvPicPr>
        <p:blipFill>
          <a:blip r:embed="rId2"/>
          <a:stretch/>
        </p:blipFill>
        <p:spPr>
          <a:xfrm>
            <a:off x="4716360" y="3789360"/>
            <a:ext cx="4427640" cy="294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ациональный парк Де-Хоге-Велюв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460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храняемая природная зона в нидерландской провинции Гелдерланд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арк является частью области Велюве площадью 1000 км², самой большой равнинной природной территории в Северо-Западной Европ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арк расположен на песчаных почвах Велюве, оставшихся после схода ледника. Представлены такие ландшафты, как открытые пески, вересковые пустоши и хвойные леса. Внутри парка сохранились остатки поселени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ан в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93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5" descr="800px-Zandverstuiving_hoge_veluwe_4"/>
          <p:cNvPicPr/>
          <p:nvPr/>
        </p:nvPicPr>
        <p:blipFill>
          <a:blip r:embed="rId1"/>
          <a:stretch/>
        </p:blipFill>
        <p:spPr>
          <a:xfrm>
            <a:off x="4859280" y="162864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Замок Де Хаар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37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упнейший замок Де Хаар расположен недалеко от Утрехт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обенностью замка считается система подземных ходов, ведущих к вельветовой пещер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ыл перестроен в 1892-1912 годах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e_haar1"/>
          <p:cNvPicPr/>
          <p:nvPr/>
        </p:nvPicPr>
        <p:blipFill>
          <a:blip r:embed="rId1"/>
          <a:stretch/>
        </p:blipFill>
        <p:spPr>
          <a:xfrm>
            <a:off x="4356000" y="1125360"/>
            <a:ext cx="4572000" cy="326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0:19:41Z</dcterms:created>
  <dc:creator>Я</dc:creator>
  <dc:description/>
  <dc:language>en-US</dc:language>
  <cp:lastModifiedBy>Денис</cp:lastModifiedBy>
  <dcterms:modified xsi:type="dcterms:W3CDTF">2012-05-15T12:06:28Z</dcterms:modified>
  <cp:revision>69</cp:revision>
  <dc:subject/>
  <dc:title>Презентация PowerPoint</dc:title>
</cp:coreProperties>
</file>