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E49-6C89-4B8C-ADA2-28A52021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8EA-700D-4C16-9FDB-62C070D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ED9-B874-4E30-AAE4-493A7249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573-EB44-443C-ADC2-F21063F9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42A-B2C5-449B-B64A-9AEBB1DF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FC9-759B-483C-9BF7-0DEBF8E2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A1D0-0040-4980-863B-795CF95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819-E267-4FF8-AC46-5C5A2F7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41D3-0114-4CC7-B193-F9E6A54A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B0E-1949-4568-BBAE-6914F89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DC96-4F91-416B-AE59-E14C47E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9FE-2BBE-40BF-A46D-AA236BB9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F166-949C-47E2-AE0C-0A21DA1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92FD-D553-4478-8B6F-59D27C1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E1EC-4E40-4F20-B669-8761124F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67A4-40CC-4EA8-BB34-E4ED1602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47AE-842B-4150-BA25-F7460070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847-6A36-4483-A81D-7BE2AC0E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A54-0701-4F55-82F1-9778A08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402-0C89-4BDB-A017-11A00EF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3A2-920E-4D65-BE08-E9AC4EAD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877-DB19-4B98-967E-9C4C7727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258-A9B3-4F7D-8EE2-0FC0817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8A9-4E91-4387-82FF-C4BC9E1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15CC-F973-4997-A4D2-0BBB9F4B9AE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FFD2-E436-4DB3-8AE7-49F32E4031F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611280" y="170028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Palette"/>
              </a:rPr>
              <a:t>Нидерланды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2171160"/>
            <a:ext cx="874872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идерланды являются родиной множества известнейших художник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лландский язык относится к группе западно-германских языков. На нем говорят около 25 млн. человек по всему мир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ым популярным видом спорта является футбол. Большое значение также имеют теннис, велосипедный спорт, хоккей на траве, волейбол, гандбол, конькобежный спорт и гольф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ди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льду, ежегодно устраивающиеся в северных земля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буер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ие народных пес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77280" cy="60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754200" y="148428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адноевропейское государство, омываемое Северным морем, граничащее с Германией и Бельг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лицей государства является Амстердам, но парламент и правительство находятся в Гаа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ые города: Роттердам — самый большой порт страны и один из крупнейших портов мира, Утрехт — центр железнодорожной системы страны и Эйндховен — центр электроники и высоких технолог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8" descr="EU_location_NED"/>
          <p:cNvPicPr/>
          <p:nvPr/>
        </p:nvPicPr>
        <p:blipFill>
          <a:blip r:embed="rId1"/>
          <a:stretch/>
        </p:blipFill>
        <p:spPr>
          <a:xfrm>
            <a:off x="5651640" y="1484280"/>
            <a:ext cx="31050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9200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4" descr="NetherlandsMapBig"/>
          <p:cNvPicPr/>
          <p:nvPr/>
        </p:nvPicPr>
        <p:blipFill>
          <a:blip r:embed="rId1"/>
          <a:stretch/>
        </p:blipFill>
        <p:spPr>
          <a:xfrm>
            <a:off x="1547640" y="404640"/>
            <a:ext cx="5986800" cy="645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левский дворе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вартал красных фонар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циональный Парк "Де Хоге Велуве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Тейле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рова Вадденского мо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епость Аммерсоен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мок Де Хаа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Мейдерсло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Радбауд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47640" y="-360"/>
            <a:ext cx="612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стопримечательност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9280" y="836640"/>
            <a:ext cx="352908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зей в Амстердаме, содержащий самую большую в мире коллекцию картин и рисунков Винсента Ван Гога, а также работы его современников, в том числе Поля Гог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, Клода Моне, Ан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улуз-Лот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, Пабло Пикасс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0" descr="Van_Gogh_Museum"/>
          <p:cNvPicPr/>
          <p:nvPr/>
        </p:nvPicPr>
        <p:blipFill>
          <a:blip r:embed="rId1"/>
          <a:stretch/>
        </p:blipFill>
        <p:spPr>
          <a:xfrm>
            <a:off x="3814920" y="765000"/>
            <a:ext cx="5329080" cy="35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58px-Van_Gogh_Vase_with_Fifteen_Sunflowers_Amsterdam"/>
          <p:cNvPicPr/>
          <p:nvPr/>
        </p:nvPicPr>
        <p:blipFill>
          <a:blip r:embed="rId2"/>
          <a:stretch/>
        </p:blipFill>
        <p:spPr>
          <a:xfrm>
            <a:off x="4067280" y="4653000"/>
            <a:ext cx="1411200" cy="1849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800px-Vincent_Van_Gogh_-_The_Potato_Eaters"/>
          <p:cNvPicPr/>
          <p:nvPr/>
        </p:nvPicPr>
        <p:blipFill>
          <a:blip r:embed="rId3"/>
          <a:stretch/>
        </p:blipFill>
        <p:spPr>
          <a:xfrm>
            <a:off x="5724360" y="4508640"/>
            <a:ext cx="2953080" cy="208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олевский дворец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6" descr="800px-Dampaleis"/>
          <p:cNvPicPr/>
          <p:nvPr/>
        </p:nvPicPr>
        <p:blipFill>
          <a:blip r:embed="rId1"/>
          <a:stretch/>
        </p:blipFill>
        <p:spPr>
          <a:xfrm>
            <a:off x="4716360" y="1052640"/>
            <a:ext cx="374328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_66"/>
          <p:cNvPicPr/>
          <p:nvPr/>
        </p:nvPicPr>
        <p:blipFill>
          <a:blip r:embed="rId2"/>
          <a:stretch/>
        </p:blipFill>
        <p:spPr>
          <a:xfrm>
            <a:off x="4606920" y="3645000"/>
            <a:ext cx="453708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324000" y="1125360"/>
            <a:ext cx="4103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олевский дворец на площади Дам — главный архитектурный памятник голландской столицы. Он был построен 1648—1655 гг., когда Амстердам был крупнейшим центром морской торговли, столицей империи, раскинувшейся от Америки до Австрал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начально это здание служило ратушей и было самым большим и самым роскошным в город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адурода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к миниатюр, миниатюрный город в Схевенингене, Гаага, в Нидерланд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из себя модель голландского города в масштабе 1:25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роена в 1952  год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3000 фигурок люде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madurodam_10"/>
          <p:cNvPicPr/>
          <p:nvPr/>
        </p:nvPicPr>
        <p:blipFill>
          <a:blip r:embed="rId1"/>
          <a:stretch/>
        </p:blipFill>
        <p:spPr>
          <a:xfrm>
            <a:off x="4716360" y="9079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madurodam_2"/>
          <p:cNvPicPr/>
          <p:nvPr/>
        </p:nvPicPr>
        <p:blipFill>
          <a:blip r:embed="rId2"/>
          <a:stretch/>
        </p:blipFill>
        <p:spPr>
          <a:xfrm>
            <a:off x="4716360" y="3789360"/>
            <a:ext cx="4427640" cy="294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циональный парк Де-Хоге-Велюв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60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храняемая природная зона в нидерландской провинции Гелдерланд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является частью области Велюве площадью 1000 км², самой большой равнинной природной территории в Северо-Западной Европ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расположен на песчаных почвах Велюве, оставшихся после схода ледника. Представлены такие ландшафты, как открытые пески, вересковые пустоши и хвойные леса. Внутри парка сохранились остатки поселени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ан 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93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5" descr="800px-Zandverstuiving_hoge_veluwe_4"/>
          <p:cNvPicPr/>
          <p:nvPr/>
        </p:nvPicPr>
        <p:blipFill>
          <a:blip r:embed="rId1"/>
          <a:stretch/>
        </p:blipFill>
        <p:spPr>
          <a:xfrm>
            <a:off x="4859280" y="1628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Замок Де Хаар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37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пнейший замок Де Хаар расположен недалеко от Утрехт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енностью замка считается система подземных ходов, ведущих к вельветовой пещер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л перестроен в 1892-1912 годах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e_haar1"/>
          <p:cNvPicPr/>
          <p:nvPr/>
        </p:nvPicPr>
        <p:blipFill>
          <a:blip r:embed="rId1"/>
          <a:stretch/>
        </p:blipFill>
        <p:spPr>
          <a:xfrm>
            <a:off x="4356000" y="1125360"/>
            <a:ext cx="4572000" cy="326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0:19:41Z</dcterms:created>
  <dc:creator>Я</dc:creator>
  <dc:description/>
  <dc:language>en-US</dc:language>
  <cp:lastModifiedBy>Денис</cp:lastModifiedBy>
  <dcterms:modified xsi:type="dcterms:W3CDTF">2012-05-15T12:06:28Z</dcterms:modified>
  <cp:revision>69</cp:revision>
  <dc:subject/>
  <dc:title>Презентация PowerPoint</dc:title>
</cp:coreProperties>
</file>