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7.png" ContentType="image/png"/>
  <Override PartName="/ppt/media/image27.gif" ContentType="image/gif"/>
  <Override PartName="/ppt/media/image32.png" ContentType="image/png"/>
  <Override PartName="/ppt/media/image1.jpeg" ContentType="image/jpeg"/>
  <Override PartName="/ppt/media/image28.gif" ContentType="image/gif"/>
  <Override PartName="/ppt/media/image8.png" ContentType="image/png"/>
  <Override PartName="/ppt/media/image12.wmf" ContentType="image/x-wmf"/>
  <Override PartName="/ppt/media/image13.png" ContentType="image/png"/>
  <Override PartName="/ppt/media/image33.wmf" ContentType="image/x-wmf"/>
  <Override PartName="/ppt/media/image30.png" ContentType="image/png"/>
  <Override PartName="/ppt/media/image5.png" ContentType="image/png"/>
  <Override PartName="/ppt/media/image21.wmf" ContentType="image/x-wmf"/>
  <Override PartName="/ppt/media/image25.gif" ContentType="image/gif"/>
  <Override PartName="/ppt/media/image4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9C7-78B0-410F-826E-AA527DEF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9B5-F479-44B4-97E3-24636C08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3A0-2803-4294-98CC-19274B2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3CC-7ED8-474F-B5E0-DA0AE17C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32B3-85A2-4E97-A655-980278D9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B6F-B3E6-450B-AC73-CC7423B4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FCD-2D1E-4C50-8731-20BFD0A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5C5-D1AD-4B36-9BF3-2184CD1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85E-B06F-4ADA-83AA-E7D7ADF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8941-7851-4F18-897A-002A74B3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E641-A05B-4718-A74A-11CEEED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805-8EF3-421E-8C78-11280AB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BE6-C331-40FE-9832-FE3A22F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565-7A30-4802-9E13-7B37ECB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17FC-76B0-492D-9FB1-E22A0BE9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794-17E6-4589-BD34-CE0BA88B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78A2-BA75-4675-8062-EDF2BFA9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217-1E36-4795-AD16-E834975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ABC-22D9-4128-99A0-21475F28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529-4F05-4596-8D17-D24D27E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CFB-3ED7-401D-ACBF-A5CEBD8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B2A-B3E1-4039-97C7-A15D59D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59D-66CA-4911-A27F-DC65610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6E2-319B-4B05-859C-DE77920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2A0-ECAE-498B-9688-283672CA10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E68-4AEC-4FC5-91CE-939FC3FD6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image" Target="../media/image27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7"/>
          <p:cNvSpPr txBox="1"/>
          <p:nvPr/>
        </p:nvSpPr>
        <p:spPr>
          <a:xfrm rot="21259800">
            <a:off x="2193840" y="611280"/>
            <a:ext cx="64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66ff33"/>
                    </a:gs>
                    <a:gs pos="100000">
                      <a:srgbClr val="000000"/>
                    </a:gs>
                  </a:gsLst>
                  <a:lin ang="3342000"/>
                </a:gradFill>
                <a:effectLst>
                  <a:outerShdw dist="85328" dir="1593903" blurRad="0" rotWithShape="0">
                    <a:srgbClr val="ffff00">
                      <a:alpha val="80000"/>
                    </a:srgbClr>
                  </a:outerShdw>
                </a:effectLst>
                <a:latin typeface="Impact"/>
              </a:rPr>
              <a:t>Нефтяная промышленность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66ff33"/>
                  </a:gs>
                  <a:gs pos="100000">
                    <a:srgbClr val="000000"/>
                  </a:gs>
                </a:gsLst>
                <a:lin ang="3342000"/>
              </a:gradFill>
              <a:effectLst>
                <a:outerShdw dist="85328" dir="1593903" blurRad="0" rotWithShape="0">
                  <a:srgbClr val="ffff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694836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393594" blurRad="0" rotWithShape="0">
                    <a:srgbClr val="ff66ff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393594" blurRad="0" rotWithShape="0">
                  <a:srgbClr val="ff66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227560" y="4869000"/>
            <a:ext cx="28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опова В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2"/>
          <p:cNvGrpSpPr/>
          <p:nvPr/>
        </p:nvGrpSpPr>
        <p:grpSpPr>
          <a:xfrm>
            <a:off x="971640" y="1747800"/>
            <a:ext cx="7488000" cy="5110200"/>
            <a:chOff x="971640" y="1747800"/>
            <a:chExt cx="7488000" cy="5110200"/>
          </a:xfrm>
        </p:grpSpPr>
        <p:grpSp>
          <p:nvGrpSpPr>
            <p:cNvPr id="247" name="Group 48"/>
            <p:cNvGrpSpPr/>
            <p:nvPr/>
          </p:nvGrpSpPr>
          <p:grpSpPr>
            <a:xfrm>
              <a:off x="971640" y="1747800"/>
              <a:ext cx="7488000" cy="5110200"/>
              <a:chOff x="971640" y="1747800"/>
              <a:chExt cx="7488000" cy="5110200"/>
            </a:xfrm>
          </p:grpSpPr>
          <p:pic>
            <p:nvPicPr>
              <p:cNvPr id="248" name="Picture 7" descr="usa1"/>
              <p:cNvPicPr/>
              <p:nvPr/>
            </p:nvPicPr>
            <p:blipFill>
              <a:blip r:embed="rId2"/>
              <a:srcRect l="0" t="80985" r="84398" b="0"/>
              <a:stretch/>
            </p:blipFill>
            <p:spPr>
              <a:xfrm>
                <a:off x="971640" y="1747800"/>
                <a:ext cx="7488000" cy="511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Oval 33"/>
              <p:cNvSpPr/>
              <p:nvPr/>
            </p:nvSpPr>
            <p:spPr>
              <a:xfrm>
                <a:off x="4644720" y="2251080"/>
                <a:ext cx="14436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Text Box 32"/>
            <p:cNvSpPr/>
            <p:nvPr/>
          </p:nvSpPr>
          <p:spPr>
            <a:xfrm>
              <a:off x="4410360" y="1768320"/>
              <a:ext cx="14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адхо-Б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39" descr="стр"/>
          <p:cNvPicPr/>
          <p:nvPr/>
        </p:nvPicPr>
        <p:blipFill>
          <a:blip r:embed="rId3"/>
          <a:stretch/>
        </p:blipFill>
        <p:spPr>
          <a:xfrm rot="8280600">
            <a:off x="4571640" y="2636640"/>
            <a:ext cx="2016000" cy="38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5" descr="j0336981"/>
          <p:cNvPicPr/>
          <p:nvPr/>
        </p:nvPicPr>
        <p:blipFill>
          <a:blip r:embed="rId4"/>
          <a:stretch/>
        </p:blipFill>
        <p:spPr>
          <a:xfrm>
            <a:off x="3851280" y="465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6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645080" y="2251080"/>
            <a:ext cx="28728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2050920" y="1052640"/>
            <a:ext cx="50421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ефтепрово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5" descr="j0283227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4019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31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8" name="WordArt 34"/>
          <p:cNvSpPr txBox="1"/>
          <p:nvPr/>
        </p:nvSpPr>
        <p:spPr>
          <a:xfrm>
            <a:off x="1258920" y="1052640"/>
            <a:ext cx="6924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71785" dir="18900000" blurRad="0" rotWithShape="0">
                    <a:srgbClr val="0000cc"/>
                  </a:outerShdw>
                </a:effectLst>
                <a:latin typeface="Arial"/>
              </a:rPr>
              <a:t>нефтепровод(строительство)</a:t>
            </a:r>
            <a:endParaRPr b="0" i="1" lang="en-US" sz="2000" spc="1" strike="noStrike">
              <a:ln w="2844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71785" dir="18900000" blurRad="0" rotWithShape="0">
                  <a:srgbClr val="0000cc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9" name="Group 40"/>
          <p:cNvGrpSpPr/>
          <p:nvPr/>
        </p:nvGrpSpPr>
        <p:grpSpPr>
          <a:xfrm>
            <a:off x="0" y="4437000"/>
            <a:ext cx="9105120" cy="2421000"/>
            <a:chOff x="0" y="4437000"/>
            <a:chExt cx="9105120" cy="2421000"/>
          </a:xfrm>
        </p:grpSpPr>
        <p:grpSp>
          <p:nvGrpSpPr>
            <p:cNvPr id="260" name="Group 4"/>
            <p:cNvGrpSpPr/>
            <p:nvPr/>
          </p:nvGrpSpPr>
          <p:grpSpPr>
            <a:xfrm>
              <a:off x="0" y="4876920"/>
              <a:ext cx="9105120" cy="1981080"/>
              <a:chOff x="0" y="4876920"/>
              <a:chExt cx="9105120" cy="1981080"/>
            </a:xfrm>
          </p:grpSpPr>
          <p:grpSp>
            <p:nvGrpSpPr>
              <p:cNvPr id="261" name="Group 5"/>
              <p:cNvGrpSpPr/>
              <p:nvPr/>
            </p:nvGrpSpPr>
            <p:grpSpPr>
              <a:xfrm>
                <a:off x="0" y="4876920"/>
                <a:ext cx="9105120" cy="1981080"/>
                <a:chOff x="0" y="4876920"/>
                <a:chExt cx="9105120" cy="1981080"/>
              </a:xfrm>
            </p:grpSpPr>
            <p:sp>
              <p:nvSpPr>
                <p:cNvPr id="262" name="Rectangle 6"/>
                <p:cNvSpPr/>
                <p:nvPr/>
              </p:nvSpPr>
              <p:spPr>
                <a:xfrm>
                  <a:off x="0" y="4876920"/>
                  <a:ext cx="9105120" cy="1981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7"/>
                <p:cNvSpPr/>
                <p:nvPr/>
              </p:nvSpPr>
              <p:spPr>
                <a:xfrm>
                  <a:off x="86400" y="4950360"/>
                  <a:ext cx="798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сев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8"/>
                <p:cNvSpPr/>
                <p:nvPr/>
              </p:nvSpPr>
              <p:spPr>
                <a:xfrm>
                  <a:off x="8590680" y="4876920"/>
                  <a:ext cx="49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ю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Text Box 9"/>
                <p:cNvSpPr/>
                <p:nvPr/>
              </p:nvSpPr>
              <p:spPr>
                <a:xfrm>
                  <a:off x="8076240" y="546372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алди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Group 10"/>
                <p:cNvGrpSpPr/>
                <p:nvPr/>
              </p:nvGrpSpPr>
              <p:grpSpPr>
                <a:xfrm>
                  <a:off x="171360" y="5463720"/>
                  <a:ext cx="8720280" cy="1279080"/>
                  <a:chOff x="171360" y="5463720"/>
                  <a:chExt cx="8720280" cy="1279080"/>
                </a:xfrm>
              </p:grpSpPr>
              <p:sp>
                <p:nvSpPr>
                  <p:cNvPr id="267" name="Line 11"/>
                  <p:cNvSpPr/>
                  <p:nvPr/>
                </p:nvSpPr>
                <p:spPr>
                  <a:xfrm>
                    <a:off x="600840" y="6270480"/>
                    <a:ext cx="7730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12"/>
                  <p:cNvSpPr/>
                  <p:nvPr/>
                </p:nvSpPr>
                <p:spPr>
                  <a:xfrm>
                    <a:off x="60084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13"/>
                  <p:cNvSpPr/>
                  <p:nvPr/>
                </p:nvSpPr>
                <p:spPr>
                  <a:xfrm>
                    <a:off x="8331480" y="6270480"/>
                    <a:ext cx="343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14"/>
                  <p:cNvSpPr/>
                  <p:nvPr/>
                </p:nvSpPr>
                <p:spPr>
                  <a:xfrm>
                    <a:off x="867492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15"/>
                  <p:cNvSpPr/>
                  <p:nvPr/>
                </p:nvSpPr>
                <p:spPr>
                  <a:xfrm>
                    <a:off x="600840" y="5500440"/>
                    <a:ext cx="8073720" cy="77004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Text Box 16"/>
                  <p:cNvSpPr/>
                  <p:nvPr/>
                </p:nvSpPr>
                <p:spPr>
                  <a:xfrm>
                    <a:off x="429840" y="634392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Text Box 17"/>
                  <p:cNvSpPr/>
                  <p:nvPr/>
                </p:nvSpPr>
                <p:spPr>
                  <a:xfrm>
                    <a:off x="7814880" y="6343920"/>
                    <a:ext cx="1076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80 к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Text Box 18"/>
                  <p:cNvSpPr/>
                  <p:nvPr/>
                </p:nvSpPr>
                <p:spPr>
                  <a:xfrm>
                    <a:off x="171360" y="5463720"/>
                    <a:ext cx="96264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Text Box 19"/>
                <p:cNvSpPr/>
                <p:nvPr/>
              </p:nvSpPr>
              <p:spPr>
                <a:xfrm>
                  <a:off x="2922120" y="5316840"/>
                  <a:ext cx="1070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Р. Юко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20"/>
                <p:cNvSpPr/>
                <p:nvPr/>
              </p:nvSpPr>
              <p:spPr>
                <a:xfrm>
                  <a:off x="5669280" y="5023440"/>
                  <a:ext cx="1821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Аляскинский  хр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1"/>
                <p:cNvSpPr/>
                <p:nvPr/>
              </p:nvSpPr>
              <p:spPr>
                <a:xfrm>
                  <a:off x="6613920" y="62708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2"/>
                <p:cNvSpPr/>
                <p:nvPr/>
              </p:nvSpPr>
              <p:spPr>
                <a:xfrm>
                  <a:off x="6270480" y="634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23"/>
                <p:cNvSpPr/>
                <p:nvPr/>
              </p:nvSpPr>
              <p:spPr>
                <a:xfrm>
                  <a:off x="87120" y="5463720"/>
                  <a:ext cx="1020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Прадхо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е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Freeform 24"/>
              <p:cNvSpPr/>
              <p:nvPr/>
            </p:nvSpPr>
            <p:spPr>
              <a:xfrm>
                <a:off x="3092400" y="6019920"/>
                <a:ext cx="772920" cy="266760"/>
              </a:xfrm>
              <a:prstGeom prst="pie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35"/>
            <p:cNvSpPr/>
            <p:nvPr/>
          </p:nvSpPr>
          <p:spPr>
            <a:xfrm>
              <a:off x="180720" y="445932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4г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6"/>
            <p:cNvSpPr/>
            <p:nvPr/>
          </p:nvSpPr>
          <p:spPr>
            <a:xfrm>
              <a:off x="6230520" y="4437000"/>
              <a:ext cx="26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 июня 1977 го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39"/>
          <p:cNvGrpSpPr/>
          <p:nvPr/>
        </p:nvGrpSpPr>
        <p:grpSpPr>
          <a:xfrm>
            <a:off x="2984040" y="1916280"/>
            <a:ext cx="5973480" cy="2304720"/>
            <a:chOff x="2984040" y="1916280"/>
            <a:chExt cx="5973480" cy="2304720"/>
          </a:xfrm>
        </p:grpSpPr>
        <p:sp>
          <p:nvSpPr>
            <p:cNvPr id="284" name="AutoShape 37"/>
            <p:cNvSpPr/>
            <p:nvPr/>
          </p:nvSpPr>
          <p:spPr>
            <a:xfrm>
              <a:off x="2987640" y="1916280"/>
              <a:ext cx="5905440" cy="2304720"/>
            </a:xfrm>
            <a:prstGeom prst="wedgeRoundRectCallout">
              <a:avLst>
                <a:gd name="adj1" fmla="val -67689"/>
                <a:gd name="adj2" fmla="val 110675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2984040" y="2060640"/>
              <a:ext cx="5973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Строительство вел консорциум Бритиш Петролеум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Экссон, Атлантик ричфил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частвовало более 20 тыс. рабочих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словия работы экстремальные(температура опуск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лась до -74</a:t>
              </a:r>
              <a:r>
                <a:rPr b="0" lang="ru-RU" sz="2000" spc="-1" strike="noStrike" baseline="30000">
                  <a:solidFill>
                    <a:srgbClr val="800000"/>
                  </a:solidFill>
                  <a:latin typeface="Times New Roman"/>
                </a:rPr>
                <a:t>0</a:t>
              </a: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 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Общая стоимость строительства 7 млрд. доллар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186"/>
          <p:cNvPicPr/>
          <p:nvPr/>
        </p:nvPicPr>
        <p:blipFill>
          <a:blip r:embed="rId2"/>
          <a:stretch/>
        </p:blipFill>
        <p:spPr>
          <a:xfrm>
            <a:off x="3419640" y="0"/>
            <a:ext cx="1879560" cy="914400"/>
          </a:xfrm>
          <a:prstGeom prst="rect">
            <a:avLst/>
          </a:prstGeom>
          <a:ln w="0">
            <a:noFill/>
          </a:ln>
        </p:spPr>
      </p:pic>
      <p:sp>
        <p:nvSpPr>
          <p:cNvPr id="287" name="WordArt 4"/>
          <p:cNvSpPr txBox="1"/>
          <p:nvPr/>
        </p:nvSpPr>
        <p:spPr>
          <a:xfrm>
            <a:off x="395280" y="40464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66ff33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48236" dir="19740743" blurRad="0" rotWithShape="0">
                    <a:srgbClr val="008080">
                      <a:alpha val="50000"/>
                    </a:srgbClr>
                  </a:outerShdw>
                </a:effectLst>
                <a:latin typeface="Impact"/>
              </a:rPr>
              <a:t>Перспективы развития</a:t>
            </a:r>
            <a:endParaRPr b="0" lang="en-US" sz="2000" spc="1" strike="noStrike">
              <a:ln w="381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66ff33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48236" dir="19740743" blurRad="0" rotWithShape="0">
                  <a:srgbClr val="0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1403280" y="1341360"/>
            <a:ext cx="61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30844" dir="19862236" blurRad="0" rotWithShape="0">
                    <a:srgbClr val="0000ff">
                      <a:alpha val="50000"/>
                    </a:srgbClr>
                  </a:outerShdw>
                </a:effectLst>
                <a:latin typeface="Times New Roman"/>
              </a:rPr>
              <a:t>нефтяной промышленности</a:t>
            </a:r>
            <a:endParaRPr b="0" lang="en-US" sz="2000" spc="1" strike="noStrike">
              <a:ln w="1260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130844" dir="19862236" blurRad="0" rotWithShape="0">
                  <a:srgbClr val="0000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9" name="Group 76"/>
          <p:cNvGrpSpPr/>
          <p:nvPr/>
        </p:nvGrpSpPr>
        <p:grpSpPr>
          <a:xfrm>
            <a:off x="179280" y="4797360"/>
            <a:ext cx="1233720" cy="1204200"/>
            <a:chOff x="179280" y="4797360"/>
            <a:chExt cx="1233720" cy="1204200"/>
          </a:xfrm>
        </p:grpSpPr>
        <p:grpSp>
          <p:nvGrpSpPr>
            <p:cNvPr id="290" name="Group 45"/>
            <p:cNvGrpSpPr/>
            <p:nvPr/>
          </p:nvGrpSpPr>
          <p:grpSpPr>
            <a:xfrm>
              <a:off x="179280" y="5084640"/>
              <a:ext cx="1008000" cy="916920"/>
              <a:chOff x="179280" y="5084640"/>
              <a:chExt cx="1008000" cy="91692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179280" y="5205240"/>
                <a:ext cx="1008000" cy="60336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0066"/>
                  </a:gs>
                  <a:gs pos="50000">
                    <a:srgbClr val="ff99cc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Group 14"/>
              <p:cNvGrpSpPr/>
              <p:nvPr/>
            </p:nvGrpSpPr>
            <p:grpSpPr>
              <a:xfrm>
                <a:off x="252360" y="5084640"/>
                <a:ext cx="447480" cy="916920"/>
                <a:chOff x="252360" y="5084640"/>
                <a:chExt cx="447480" cy="916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252360" y="5084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10"/>
                <p:cNvSpPr/>
                <p:nvPr/>
              </p:nvSpPr>
              <p:spPr>
                <a:xfrm>
                  <a:off x="466560" y="5385960"/>
                  <a:ext cx="0" cy="36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3"/>
                <p:cNvSpPr/>
                <p:nvPr/>
              </p:nvSpPr>
              <p:spPr>
                <a:xfrm>
                  <a:off x="538200" y="5367600"/>
                  <a:ext cx="0" cy="36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Text Box 44"/>
              <p:cNvSpPr/>
              <p:nvPr/>
            </p:nvSpPr>
            <p:spPr>
              <a:xfrm>
                <a:off x="685800" y="532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67"/>
            <p:cNvSpPr/>
            <p:nvPr/>
          </p:nvSpPr>
          <p:spPr>
            <a:xfrm>
              <a:off x="180720" y="479736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77"/>
          <p:cNvGrpSpPr/>
          <p:nvPr/>
        </p:nvGrpSpPr>
        <p:grpSpPr>
          <a:xfrm>
            <a:off x="1188720" y="3429000"/>
            <a:ext cx="1287720" cy="1132920"/>
            <a:chOff x="1188720" y="3429000"/>
            <a:chExt cx="1287720" cy="1132920"/>
          </a:xfrm>
        </p:grpSpPr>
        <p:grpSp>
          <p:nvGrpSpPr>
            <p:cNvPr id="299" name="Group 54"/>
            <p:cNvGrpSpPr/>
            <p:nvPr/>
          </p:nvGrpSpPr>
          <p:grpSpPr>
            <a:xfrm>
              <a:off x="1188720" y="3645000"/>
              <a:ext cx="986040" cy="916920"/>
              <a:chOff x="1188720" y="3645000"/>
              <a:chExt cx="986040" cy="916920"/>
            </a:xfrm>
          </p:grpSpPr>
          <p:sp>
            <p:nvSpPr>
              <p:cNvPr id="300" name="AutoShape 52"/>
              <p:cNvSpPr/>
              <p:nvPr/>
            </p:nvSpPr>
            <p:spPr>
              <a:xfrm>
                <a:off x="1260360" y="3860640"/>
                <a:ext cx="9144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ccff33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20"/>
              <p:cNvGrpSpPr/>
              <p:nvPr/>
            </p:nvGrpSpPr>
            <p:grpSpPr>
              <a:xfrm>
                <a:off x="1188720" y="3645000"/>
                <a:ext cx="447480" cy="916920"/>
                <a:chOff x="1188720" y="3645000"/>
                <a:chExt cx="447480" cy="916920"/>
              </a:xfrm>
            </p:grpSpPr>
            <p:sp>
              <p:nvSpPr>
                <p:cNvPr id="302" name="Rectangle 21"/>
                <p:cNvSpPr/>
                <p:nvPr/>
              </p:nvSpPr>
              <p:spPr>
                <a:xfrm>
                  <a:off x="1188720" y="364500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2"/>
                <p:cNvSpPr/>
                <p:nvPr/>
              </p:nvSpPr>
              <p:spPr>
                <a:xfrm>
                  <a:off x="1402920" y="400536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3"/>
                <p:cNvSpPr/>
                <p:nvPr/>
              </p:nvSpPr>
              <p:spPr>
                <a:xfrm>
                  <a:off x="1474560" y="398340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Text Box 68"/>
            <p:cNvSpPr/>
            <p:nvPr/>
          </p:nvSpPr>
          <p:spPr>
            <a:xfrm>
              <a:off x="1332720" y="3429000"/>
              <a:ext cx="11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78"/>
          <p:cNvGrpSpPr/>
          <p:nvPr/>
        </p:nvGrpSpPr>
        <p:grpSpPr>
          <a:xfrm>
            <a:off x="2412720" y="2133720"/>
            <a:ext cx="1191600" cy="1132560"/>
            <a:chOff x="2412720" y="2133720"/>
            <a:chExt cx="1191600" cy="1132560"/>
          </a:xfrm>
        </p:grpSpPr>
        <p:grpSp>
          <p:nvGrpSpPr>
            <p:cNvPr id="307" name="Group 56"/>
            <p:cNvGrpSpPr/>
            <p:nvPr/>
          </p:nvGrpSpPr>
          <p:grpSpPr>
            <a:xfrm>
              <a:off x="2412720" y="2349360"/>
              <a:ext cx="986040" cy="916920"/>
              <a:chOff x="2412720" y="2349360"/>
              <a:chExt cx="986040" cy="916920"/>
            </a:xfrm>
          </p:grpSpPr>
          <p:sp>
            <p:nvSpPr>
              <p:cNvPr id="308" name="AutoShape 49"/>
              <p:cNvSpPr/>
              <p:nvPr/>
            </p:nvSpPr>
            <p:spPr>
              <a:xfrm>
                <a:off x="2484360" y="256464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cc0000"/>
                  </a:gs>
                  <a:gs pos="50000">
                    <a:srgbClr val="cccc00"/>
                  </a:gs>
                  <a:gs pos="100000">
                    <a:srgbClr val="cc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28"/>
              <p:cNvGrpSpPr/>
              <p:nvPr/>
            </p:nvGrpSpPr>
            <p:grpSpPr>
              <a:xfrm>
                <a:off x="2412720" y="2349360"/>
                <a:ext cx="447480" cy="916920"/>
                <a:chOff x="2412720" y="2349360"/>
                <a:chExt cx="447480" cy="916920"/>
              </a:xfrm>
            </p:grpSpPr>
            <p:sp>
              <p:nvSpPr>
                <p:cNvPr id="310" name="Rectangle 29"/>
                <p:cNvSpPr/>
                <p:nvPr/>
              </p:nvSpPr>
              <p:spPr>
                <a:xfrm>
                  <a:off x="2412720" y="234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30"/>
                <p:cNvSpPr/>
                <p:nvPr/>
              </p:nvSpPr>
              <p:spPr>
                <a:xfrm>
                  <a:off x="2626920" y="27093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31"/>
                <p:cNvSpPr/>
                <p:nvPr/>
              </p:nvSpPr>
              <p:spPr>
                <a:xfrm>
                  <a:off x="2698560" y="2687400"/>
                  <a:ext cx="0" cy="43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" name="Rectangle 70"/>
            <p:cNvSpPr/>
            <p:nvPr/>
          </p:nvSpPr>
          <p:spPr>
            <a:xfrm>
              <a:off x="2484720" y="21337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г</a:t>
              </a: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83"/>
          <p:cNvGrpSpPr/>
          <p:nvPr/>
        </p:nvGrpSpPr>
        <p:grpSpPr>
          <a:xfrm>
            <a:off x="3133440" y="3645000"/>
            <a:ext cx="1232280" cy="1061280"/>
            <a:chOff x="3133440" y="3645000"/>
            <a:chExt cx="1232280" cy="1061280"/>
          </a:xfrm>
        </p:grpSpPr>
        <p:grpSp>
          <p:nvGrpSpPr>
            <p:cNvPr id="315" name="Group 61"/>
            <p:cNvGrpSpPr/>
            <p:nvPr/>
          </p:nvGrpSpPr>
          <p:grpSpPr>
            <a:xfrm>
              <a:off x="3133440" y="3789360"/>
              <a:ext cx="984240" cy="916920"/>
              <a:chOff x="3133440" y="3789360"/>
              <a:chExt cx="984240" cy="916920"/>
            </a:xfrm>
          </p:grpSpPr>
          <p:sp>
            <p:nvSpPr>
              <p:cNvPr id="316" name="AutoShape 47"/>
              <p:cNvSpPr/>
              <p:nvPr/>
            </p:nvSpPr>
            <p:spPr>
              <a:xfrm>
                <a:off x="3203280" y="400536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99ff66"/>
                  </a:gs>
                  <a:gs pos="100000">
                    <a:srgbClr val="00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32"/>
              <p:cNvGrpSpPr/>
              <p:nvPr/>
            </p:nvGrpSpPr>
            <p:grpSpPr>
              <a:xfrm>
                <a:off x="3133440" y="3789360"/>
                <a:ext cx="447480" cy="916920"/>
                <a:chOff x="3133440" y="3789360"/>
                <a:chExt cx="447480" cy="916920"/>
              </a:xfrm>
            </p:grpSpPr>
            <p:sp>
              <p:nvSpPr>
                <p:cNvPr id="318" name="Rectangle 33"/>
                <p:cNvSpPr/>
                <p:nvPr/>
              </p:nvSpPr>
              <p:spPr>
                <a:xfrm>
                  <a:off x="3133440" y="378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34"/>
                <p:cNvSpPr/>
                <p:nvPr/>
              </p:nvSpPr>
              <p:spPr>
                <a:xfrm>
                  <a:off x="3347640" y="414972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5"/>
                <p:cNvSpPr/>
                <p:nvPr/>
              </p:nvSpPr>
              <p:spPr>
                <a:xfrm>
                  <a:off x="3419280" y="41277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Text Box 71"/>
            <p:cNvSpPr/>
            <p:nvPr/>
          </p:nvSpPr>
          <p:spPr>
            <a:xfrm>
              <a:off x="3133440" y="3645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79"/>
          <p:cNvGrpSpPr/>
          <p:nvPr/>
        </p:nvGrpSpPr>
        <p:grpSpPr>
          <a:xfrm>
            <a:off x="4141800" y="2421000"/>
            <a:ext cx="1447920" cy="1132560"/>
            <a:chOff x="4141800" y="2421000"/>
            <a:chExt cx="1447920" cy="1132560"/>
          </a:xfrm>
        </p:grpSpPr>
        <p:grpSp>
          <p:nvGrpSpPr>
            <p:cNvPr id="323" name="Group 59"/>
            <p:cNvGrpSpPr/>
            <p:nvPr/>
          </p:nvGrpSpPr>
          <p:grpSpPr>
            <a:xfrm>
              <a:off x="4141800" y="2636640"/>
              <a:ext cx="1293480" cy="916920"/>
              <a:chOff x="4141800" y="2636640"/>
              <a:chExt cx="1293480" cy="916920"/>
            </a:xfrm>
          </p:grpSpPr>
          <p:sp>
            <p:nvSpPr>
              <p:cNvPr id="324" name="AutoShape 51"/>
              <p:cNvSpPr/>
              <p:nvPr/>
            </p:nvSpPr>
            <p:spPr>
              <a:xfrm>
                <a:off x="4211640" y="2852640"/>
                <a:ext cx="122364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d60093"/>
                  </a:gs>
                  <a:gs pos="50000">
                    <a:srgbClr val="ff66ff"/>
                  </a:gs>
                  <a:gs pos="100000">
                    <a:srgbClr val="d6009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4,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4141800" y="2636640"/>
                <a:ext cx="447480" cy="916920"/>
                <a:chOff x="4141800" y="2636640"/>
                <a:chExt cx="447480" cy="916920"/>
              </a:xfrm>
            </p:grpSpPr>
            <p:sp>
              <p:nvSpPr>
                <p:cNvPr id="326" name="Rectangle 17"/>
                <p:cNvSpPr/>
                <p:nvPr/>
              </p:nvSpPr>
              <p:spPr>
                <a:xfrm>
                  <a:off x="4141800" y="263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"/>
                <p:cNvSpPr/>
                <p:nvPr/>
              </p:nvSpPr>
              <p:spPr>
                <a:xfrm>
                  <a:off x="4356000" y="299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9"/>
                <p:cNvSpPr/>
                <p:nvPr/>
              </p:nvSpPr>
              <p:spPr>
                <a:xfrm>
                  <a:off x="4427640" y="297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Text Box 72"/>
            <p:cNvSpPr/>
            <p:nvPr/>
          </p:nvSpPr>
          <p:spPr>
            <a:xfrm>
              <a:off x="4357440" y="2421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80"/>
          <p:cNvGrpSpPr/>
          <p:nvPr/>
        </p:nvGrpSpPr>
        <p:grpSpPr>
          <a:xfrm>
            <a:off x="5005080" y="5300640"/>
            <a:ext cx="1376640" cy="1132920"/>
            <a:chOff x="5005080" y="5300640"/>
            <a:chExt cx="1376640" cy="1132920"/>
          </a:xfrm>
        </p:grpSpPr>
        <p:grpSp>
          <p:nvGrpSpPr>
            <p:cNvPr id="331" name="Group 63"/>
            <p:cNvGrpSpPr/>
            <p:nvPr/>
          </p:nvGrpSpPr>
          <p:grpSpPr>
            <a:xfrm>
              <a:off x="5005080" y="5516640"/>
              <a:ext cx="1128600" cy="916920"/>
              <a:chOff x="5005080" y="5516640"/>
              <a:chExt cx="1128600" cy="916920"/>
            </a:xfrm>
          </p:grpSpPr>
          <p:sp>
            <p:nvSpPr>
              <p:cNvPr id="332" name="AutoShape 46"/>
              <p:cNvSpPr/>
              <p:nvPr/>
            </p:nvSpPr>
            <p:spPr>
              <a:xfrm>
                <a:off x="5076360" y="5734080"/>
                <a:ext cx="105732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66ffff"/>
                  </a:gs>
                  <a:gs pos="100000">
                    <a:srgbClr val="00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8,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36"/>
              <p:cNvGrpSpPr/>
              <p:nvPr/>
            </p:nvGrpSpPr>
            <p:grpSpPr>
              <a:xfrm>
                <a:off x="5005080" y="5516640"/>
                <a:ext cx="447480" cy="916920"/>
                <a:chOff x="5005080" y="5516640"/>
                <a:chExt cx="447480" cy="916920"/>
              </a:xfrm>
            </p:grpSpPr>
            <p:sp>
              <p:nvSpPr>
                <p:cNvPr id="334" name="Rectangle 37"/>
                <p:cNvSpPr/>
                <p:nvPr/>
              </p:nvSpPr>
              <p:spPr>
                <a:xfrm>
                  <a:off x="5005080" y="551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38"/>
                <p:cNvSpPr/>
                <p:nvPr/>
              </p:nvSpPr>
              <p:spPr>
                <a:xfrm>
                  <a:off x="5219280" y="587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39"/>
                <p:cNvSpPr/>
                <p:nvPr/>
              </p:nvSpPr>
              <p:spPr>
                <a:xfrm>
                  <a:off x="5290920" y="585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Text Box 73"/>
            <p:cNvSpPr/>
            <p:nvPr/>
          </p:nvSpPr>
          <p:spPr>
            <a:xfrm>
              <a:off x="5149440" y="5300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81"/>
          <p:cNvGrpSpPr/>
          <p:nvPr/>
        </p:nvGrpSpPr>
        <p:grpSpPr>
          <a:xfrm>
            <a:off x="5942160" y="3284640"/>
            <a:ext cx="1374840" cy="1132560"/>
            <a:chOff x="5942160" y="3284640"/>
            <a:chExt cx="1374840" cy="1132560"/>
          </a:xfrm>
        </p:grpSpPr>
        <p:grpSp>
          <p:nvGrpSpPr>
            <p:cNvPr id="339" name="Group 65"/>
            <p:cNvGrpSpPr/>
            <p:nvPr/>
          </p:nvGrpSpPr>
          <p:grpSpPr>
            <a:xfrm>
              <a:off x="5942160" y="3500280"/>
              <a:ext cx="1077840" cy="916920"/>
              <a:chOff x="5942160" y="3500280"/>
              <a:chExt cx="1077840" cy="916920"/>
            </a:xfrm>
          </p:grpSpPr>
          <p:sp>
            <p:nvSpPr>
              <p:cNvPr id="340" name="AutoShape 48"/>
              <p:cNvSpPr/>
              <p:nvPr/>
            </p:nvSpPr>
            <p:spPr>
              <a:xfrm>
                <a:off x="6012000" y="3715920"/>
                <a:ext cx="10080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9900ff"/>
                  </a:gs>
                  <a:gs pos="50000">
                    <a:srgbClr val="ccff99"/>
                  </a:gs>
                  <a:gs pos="100000">
                    <a:srgbClr val="99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Group 40"/>
              <p:cNvGrpSpPr/>
              <p:nvPr/>
            </p:nvGrpSpPr>
            <p:grpSpPr>
              <a:xfrm>
                <a:off x="5942160" y="3500280"/>
                <a:ext cx="447480" cy="916920"/>
                <a:chOff x="5942160" y="3500280"/>
                <a:chExt cx="447480" cy="916920"/>
              </a:xfrm>
            </p:grpSpPr>
            <p:sp>
              <p:nvSpPr>
                <p:cNvPr id="342" name="Rectangle 41"/>
                <p:cNvSpPr/>
                <p:nvPr/>
              </p:nvSpPr>
              <p:spPr>
                <a:xfrm>
                  <a:off x="5942160" y="350028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42"/>
                <p:cNvSpPr/>
                <p:nvPr/>
              </p:nvSpPr>
              <p:spPr>
                <a:xfrm>
                  <a:off x="6156360" y="386064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43"/>
                <p:cNvSpPr/>
                <p:nvPr/>
              </p:nvSpPr>
              <p:spPr>
                <a:xfrm>
                  <a:off x="6228000" y="383868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Text Box 74"/>
            <p:cNvSpPr/>
            <p:nvPr/>
          </p:nvSpPr>
          <p:spPr>
            <a:xfrm>
              <a:off x="6084720" y="3284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Line 85"/>
          <p:cNvSpPr/>
          <p:nvPr/>
        </p:nvSpPr>
        <p:spPr>
          <a:xfrm flipV="1">
            <a:off x="1258920" y="4508640"/>
            <a:ext cx="57636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6"/>
          <p:cNvSpPr/>
          <p:nvPr/>
        </p:nvSpPr>
        <p:spPr>
          <a:xfrm flipV="1">
            <a:off x="2195640" y="3212640"/>
            <a:ext cx="50472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7"/>
          <p:cNvSpPr/>
          <p:nvPr/>
        </p:nvSpPr>
        <p:spPr>
          <a:xfrm>
            <a:off x="3419640" y="2852640"/>
            <a:ext cx="43164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8"/>
          <p:cNvSpPr/>
          <p:nvPr/>
        </p:nvSpPr>
        <p:spPr>
          <a:xfrm flipV="1">
            <a:off x="4140360" y="3428640"/>
            <a:ext cx="647640" cy="86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9"/>
          <p:cNvSpPr/>
          <p:nvPr/>
        </p:nvSpPr>
        <p:spPr>
          <a:xfrm>
            <a:off x="5364000" y="3068640"/>
            <a:ext cx="360360" cy="23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0"/>
          <p:cNvSpPr/>
          <p:nvPr/>
        </p:nvSpPr>
        <p:spPr>
          <a:xfrm flipV="1">
            <a:off x="6156360" y="4365360"/>
            <a:ext cx="43164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1"/>
          <p:cNvSpPr/>
          <p:nvPr/>
        </p:nvSpPr>
        <p:spPr>
          <a:xfrm flipV="1">
            <a:off x="7093080" y="3789360"/>
            <a:ext cx="57456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93"/>
          <p:cNvGrpSpPr/>
          <p:nvPr/>
        </p:nvGrpSpPr>
        <p:grpSpPr>
          <a:xfrm>
            <a:off x="7453440" y="2781360"/>
            <a:ext cx="1303200" cy="1061280"/>
            <a:chOff x="7453440" y="2781360"/>
            <a:chExt cx="1303200" cy="1061280"/>
          </a:xfrm>
        </p:grpSpPr>
        <p:grpSp>
          <p:nvGrpSpPr>
            <p:cNvPr id="354" name="Group 82"/>
            <p:cNvGrpSpPr/>
            <p:nvPr/>
          </p:nvGrpSpPr>
          <p:grpSpPr>
            <a:xfrm>
              <a:off x="7453440" y="2781360"/>
              <a:ext cx="1303200" cy="1061280"/>
              <a:chOff x="7453440" y="2781360"/>
              <a:chExt cx="1303200" cy="1061280"/>
            </a:xfrm>
          </p:grpSpPr>
          <p:grpSp>
            <p:nvGrpSpPr>
              <p:cNvPr id="355" name="Group 66"/>
              <p:cNvGrpSpPr/>
              <p:nvPr/>
            </p:nvGrpSpPr>
            <p:grpSpPr>
              <a:xfrm>
                <a:off x="7453440" y="2925720"/>
                <a:ext cx="1006200" cy="916920"/>
                <a:chOff x="7453440" y="2925720"/>
                <a:chExt cx="1006200" cy="916920"/>
              </a:xfrm>
            </p:grpSpPr>
            <p:sp>
              <p:nvSpPr>
                <p:cNvPr id="356" name="AutoShape 50"/>
                <p:cNvSpPr/>
                <p:nvPr/>
              </p:nvSpPr>
              <p:spPr>
                <a:xfrm>
                  <a:off x="7523280" y="3212640"/>
                  <a:ext cx="936360" cy="60912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9999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Group 24"/>
                <p:cNvGrpSpPr/>
                <p:nvPr/>
              </p:nvGrpSpPr>
              <p:grpSpPr>
                <a:xfrm>
                  <a:off x="7453440" y="2925720"/>
                  <a:ext cx="447480" cy="916920"/>
                  <a:chOff x="7453440" y="2925720"/>
                  <a:chExt cx="447480" cy="916920"/>
                </a:xfrm>
              </p:grpSpPr>
              <p:sp>
                <p:nvSpPr>
                  <p:cNvPr id="358" name="Rectangle 25"/>
                  <p:cNvSpPr/>
                  <p:nvPr/>
                </p:nvSpPr>
                <p:spPr>
                  <a:xfrm>
                    <a:off x="7453440" y="2925720"/>
                    <a:ext cx="4474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Line 26"/>
                  <p:cNvSpPr/>
                  <p:nvPr/>
                </p:nvSpPr>
                <p:spPr>
                  <a:xfrm>
                    <a:off x="7667640" y="3285720"/>
                    <a:ext cx="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Line 27"/>
                  <p:cNvSpPr/>
                  <p:nvPr/>
                </p:nvSpPr>
                <p:spPr>
                  <a:xfrm>
                    <a:off x="7739280" y="3263760"/>
                    <a:ext cx="0" cy="43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Text Box 75"/>
              <p:cNvSpPr/>
              <p:nvPr/>
            </p:nvSpPr>
            <p:spPr>
              <a:xfrm>
                <a:off x="7524360" y="2781360"/>
                <a:ext cx="123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00"/>
                    </a:solidFill>
                    <a:latin typeface="Times New Roman"/>
                  </a:rPr>
                  <a:t>2002 г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Text Box 92"/>
            <p:cNvSpPr/>
            <p:nvPr/>
          </p:nvSpPr>
          <p:spPr>
            <a:xfrm>
              <a:off x="7813080" y="32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0"/>
          <p:cNvGrpSpPr/>
          <p:nvPr/>
        </p:nvGrpSpPr>
        <p:grpSpPr>
          <a:xfrm>
            <a:off x="250920" y="404640"/>
            <a:ext cx="8900280" cy="1295640"/>
            <a:chOff x="250920" y="404640"/>
            <a:chExt cx="8900280" cy="1295640"/>
          </a:xfrm>
        </p:grpSpPr>
        <p:sp>
          <p:nvSpPr>
            <p:cNvPr id="364" name="AutoShape 4"/>
            <p:cNvSpPr/>
            <p:nvPr/>
          </p:nvSpPr>
          <p:spPr>
            <a:xfrm>
              <a:off x="250920" y="404640"/>
              <a:ext cx="8497800" cy="1295640"/>
            </a:xfrm>
            <a:prstGeom prst="flowChartOnlineStorage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99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Арабо – израильская война, получившая наз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йны Судного дня. ОПЕК объявила эмбар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а поставку нефти всем странам поддержавшим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Израи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7649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250920" y="1989000"/>
            <a:ext cx="8892360" cy="1152720"/>
            <a:chOff x="250920" y="1989000"/>
            <a:chExt cx="8892360" cy="1152720"/>
          </a:xfrm>
        </p:grpSpPr>
        <p:sp>
          <p:nvSpPr>
            <p:cNvPr id="367" name="AutoShape 5"/>
            <p:cNvSpPr/>
            <p:nvPr/>
          </p:nvSpPr>
          <p:spPr>
            <a:xfrm>
              <a:off x="250920" y="1989000"/>
              <a:ext cx="8642160" cy="1152720"/>
            </a:xfrm>
            <a:prstGeom prst="flowChartOnlineStorag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Гражданская война в Ливане (накануне страны 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роизводители нефти пригрозили создать новы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финансовый центр в Ливане в противовес Западу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7641360" y="22050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22"/>
          <p:cNvGrpSpPr/>
          <p:nvPr/>
        </p:nvGrpSpPr>
        <p:grpSpPr>
          <a:xfrm>
            <a:off x="324000" y="3573360"/>
            <a:ext cx="8611200" cy="1224000"/>
            <a:chOff x="324000" y="3573360"/>
            <a:chExt cx="8611200" cy="1224000"/>
          </a:xfrm>
        </p:grpSpPr>
        <p:sp>
          <p:nvSpPr>
            <p:cNvPr id="370" name="AutoShape 6"/>
            <p:cNvSpPr/>
            <p:nvPr/>
          </p:nvSpPr>
          <p:spPr>
            <a:xfrm>
              <a:off x="324000" y="357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cccc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79 год- исламская революция в Иране (под анти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падными лозунгами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80 год-ирано-иракская вой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3"/>
            <p:cNvSpPr/>
            <p:nvPr/>
          </p:nvSpPr>
          <p:spPr>
            <a:xfrm>
              <a:off x="7433280" y="375912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3"/>
          <p:cNvGrpSpPr/>
          <p:nvPr/>
        </p:nvGrpSpPr>
        <p:grpSpPr>
          <a:xfrm>
            <a:off x="324000" y="5229360"/>
            <a:ext cx="8819280" cy="1439640"/>
            <a:chOff x="324000" y="5229360"/>
            <a:chExt cx="8819280" cy="1439640"/>
          </a:xfrm>
        </p:grpSpPr>
        <p:sp>
          <p:nvSpPr>
            <p:cNvPr id="373" name="AutoShape 17"/>
            <p:cNvSpPr/>
            <p:nvPr/>
          </p:nvSpPr>
          <p:spPr>
            <a:xfrm>
              <a:off x="324000" y="5229360"/>
              <a:ext cx="8424720" cy="1439640"/>
            </a:xfrm>
            <a:prstGeom prst="flowChartOnlineStorag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99ff99"/>
                </a:gs>
                <a:gs pos="100000">
                  <a:srgbClr val="33cc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1979 год – ввод Советских войск в Афганистан. П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инициативе Саудовской Аравии рынок был н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воднен дешевой нефтью. ОПЕК добилась пад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цен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24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7301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5456" y="4105"/>
                </a:lnTo>
                <a:lnTo>
                  <a:pt x="5456" y="18118"/>
                </a:lnTo>
                <a:lnTo>
                  <a:pt x="3794" y="1811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8"/>
          <p:cNvGrpSpPr/>
          <p:nvPr/>
        </p:nvGrpSpPr>
        <p:grpSpPr>
          <a:xfrm>
            <a:off x="250920" y="333360"/>
            <a:ext cx="8684280" cy="1224000"/>
            <a:chOff x="250920" y="333360"/>
            <a:chExt cx="8684280" cy="1224000"/>
          </a:xfrm>
        </p:grpSpPr>
        <p:sp>
          <p:nvSpPr>
            <p:cNvPr id="377" name="AutoShape 9"/>
            <p:cNvSpPr/>
            <p:nvPr/>
          </p:nvSpPr>
          <p:spPr>
            <a:xfrm>
              <a:off x="250920" y="33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f99ff"/>
                </a:gs>
                <a:gs pos="100000">
                  <a:srgbClr val="cc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ккупация Ираком Кувейта из-за превыш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Кувейтом экспортных квот.В январе 1991 год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США начали операцию «Буря в пустыне»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7433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250920" y="2060640"/>
            <a:ext cx="8755920" cy="1295280"/>
            <a:chOff x="250920" y="2060640"/>
            <a:chExt cx="8755920" cy="1295280"/>
          </a:xfrm>
        </p:grpSpPr>
        <p:sp>
          <p:nvSpPr>
            <p:cNvPr id="380" name="AutoShape 7"/>
            <p:cNvSpPr/>
            <p:nvPr/>
          </p:nvSpPr>
          <p:spPr>
            <a:xfrm>
              <a:off x="250920" y="2060640"/>
              <a:ext cx="8424720" cy="1295280"/>
            </a:xfrm>
            <a:prstGeom prst="flowChartOnlineStorag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66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К концу 1997 года объем добычи нефти странам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ОПЕК достиг рекордного уровня – 27,74 млн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баррелей в день. Большинство стран постоянно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превышали свои квоты. Кризис перепроизвод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2"/>
            <p:cNvSpPr/>
            <p:nvPr/>
          </p:nvSpPr>
          <p:spPr>
            <a:xfrm>
              <a:off x="7504920" y="2246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20"/>
          <p:cNvGrpSpPr/>
          <p:nvPr/>
        </p:nvGrpSpPr>
        <p:grpSpPr>
          <a:xfrm>
            <a:off x="179280" y="3716280"/>
            <a:ext cx="8964000" cy="1295280"/>
            <a:chOff x="179280" y="3716280"/>
            <a:chExt cx="8964000" cy="1295280"/>
          </a:xfrm>
        </p:grpSpPr>
        <p:sp>
          <p:nvSpPr>
            <p:cNvPr id="383" name="AutoShape 5"/>
            <p:cNvSpPr/>
            <p:nvPr/>
          </p:nvSpPr>
          <p:spPr>
            <a:xfrm>
              <a:off x="179280" y="3716280"/>
              <a:ext cx="8713800" cy="1295280"/>
            </a:xfrm>
            <a:prstGeom prst="flowChartOnlineStorage">
              <a:avLst/>
            </a:prstGeom>
            <a:gradFill rotWithShape="0">
              <a:gsLst>
                <a:gs pos="0">
                  <a:srgbClr val="cc00ff"/>
                </a:gs>
                <a:gs pos="50000">
                  <a:srgbClr val="ccffcc"/>
                </a:gs>
                <a:gs pos="100000">
                  <a:srgbClr val="cc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осле терактов цены на нефть пошли вниз. Стран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ПЕК, собравшись на конференцию в Вене, решил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 сокращать экспор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7641360" y="400536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1"/>
          <p:cNvGrpSpPr/>
          <p:nvPr/>
        </p:nvGrpSpPr>
        <p:grpSpPr>
          <a:xfrm>
            <a:off x="179280" y="5300640"/>
            <a:ext cx="8964000" cy="1295280"/>
            <a:chOff x="179280" y="5300640"/>
            <a:chExt cx="8964000" cy="1295280"/>
          </a:xfrm>
        </p:grpSpPr>
        <p:sp>
          <p:nvSpPr>
            <p:cNvPr id="386" name="AutoShape 6"/>
            <p:cNvSpPr/>
            <p:nvPr/>
          </p:nvSpPr>
          <p:spPr>
            <a:xfrm>
              <a:off x="179280" y="5300640"/>
              <a:ext cx="8748720" cy="1295280"/>
            </a:xfrm>
            <a:prstGeom prst="flowChartOnlineStorag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ccc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сстановление мировой экономики после теракт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2001 года. Антитеррористическая операция в Афг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истане. Ожидаемая война США против Ирак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бастовки в Венесуэл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2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22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5"/>
          <p:cNvSpPr/>
          <p:nvPr/>
        </p:nvSpPr>
        <p:spPr>
          <a:xfrm>
            <a:off x="179280" y="189000"/>
            <a:ext cx="8713800" cy="648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 доступным данным,  нефтяная промышленность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уже вступила в период истощения существующи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 тех регионах, которые находятся в США или где – то р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ом, перспективы нефтеразведки не блестя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ало шансов обеспечивать в ближайшие годы хотя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осполнение запасов. Зависимость от поставок из стр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ерсидского залива увеличивается и для СШ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торые пока снабжаются в основном из 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сточ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Object 4" descr=""/>
          <p:cNvPicPr/>
          <p:nvPr/>
        </p:nvPicPr>
        <p:blipFill>
          <a:blip r:embed="rId2"/>
          <a:stretch/>
        </p:blipFill>
        <p:spPr>
          <a:xfrm>
            <a:off x="2627280" y="3573360"/>
            <a:ext cx="3600360" cy="2616480"/>
          </a:xfrm>
          <a:prstGeom prst="rect">
            <a:avLst/>
          </a:prstGeom>
          <a:ln w="0">
            <a:noFill/>
          </a:ln>
        </p:spPr>
      </p:pic>
      <p:sp>
        <p:nvSpPr>
          <p:cNvPr id="391" name="WordArt 12"/>
          <p:cNvSpPr txBox="1"/>
          <p:nvPr/>
        </p:nvSpPr>
        <p:spPr>
          <a:xfrm>
            <a:off x="324000" y="260280"/>
            <a:ext cx="8496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92" name="Picture 14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395280" y="189000"/>
            <a:ext cx="5473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Impact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79280" y="1557360"/>
            <a:ext cx="6624720" cy="64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щие сведения о нефтяной промыш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826920" y="3645000"/>
            <a:ext cx="5545440" cy="718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нергетический кризис 1973 – 1974го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356000" y="4797360"/>
            <a:ext cx="2521080" cy="719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фть Аля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4000" y="2637000"/>
            <a:ext cx="7920000" cy="576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Этапы исторического развития 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XIX – XX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е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1187280" y="5877000"/>
            <a:ext cx="6912000" cy="6969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ерспективы развития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1311120" y="479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395280" y="4724280"/>
            <a:ext cx="3224160" cy="648000"/>
            <a:chOff x="395280" y="4724280"/>
            <a:chExt cx="3224160" cy="648000"/>
          </a:xfrm>
        </p:grpSpPr>
        <p:sp>
          <p:nvSpPr>
            <p:cNvPr id="119" name="AutoShape 10"/>
            <p:cNvSpPr/>
            <p:nvPr/>
          </p:nvSpPr>
          <p:spPr>
            <a:xfrm>
              <a:off x="395280" y="4724280"/>
              <a:ext cx="3224160" cy="6480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468360" y="4797360"/>
              <a:ext cx="31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Нефтяные ресурсы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loud"/>
          <p:cNvSpPr/>
          <p:nvPr/>
        </p:nvSpPr>
        <p:spPr>
          <a:xfrm>
            <a:off x="1403280" y="2133720"/>
            <a:ext cx="3025800" cy="140796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80360" y="21286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70036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le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684360" y="404640"/>
            <a:ext cx="799128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33cc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ff00ff"/>
                  </a:outerShdw>
                </a:effectLst>
                <a:latin typeface="Arial"/>
              </a:rPr>
              <a:t>Общие сведения</a:t>
            </a:r>
            <a:endParaRPr b="0" lang="en-US" sz="2000" spc="1" strike="noStrike">
              <a:ln w="381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33cc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64600" dir="674838" blurRad="0" rotWithShape="0">
                  <a:srgbClr val="ff00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0" y="1484280"/>
            <a:ext cx="914400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06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0066"/>
                  </a:outerShdw>
                </a:effectLst>
                <a:latin typeface="Arial"/>
              </a:rPr>
              <a:t>о нефтяной промышленности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40186" dir="1096358" blurRad="0" rotWithShape="0">
                  <a:srgbClr val="ff0066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Object 12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234000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3"/>
          <p:cNvSpPr txBox="1"/>
          <p:nvPr/>
        </p:nvSpPr>
        <p:spPr>
          <a:xfrm>
            <a:off x="2195640" y="2781360"/>
            <a:ext cx="1512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Сырая нефть</a:t>
            </a:r>
            <a:endParaRPr b="0" lang="en-US" sz="20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128" name="WordArt 14"/>
          <p:cNvGrpSpPr/>
          <p:nvPr/>
        </p:nvGrpSpPr>
        <p:grpSpPr>
          <a:xfrm>
            <a:off x="536400" y="3713040"/>
            <a:ext cx="5626440" cy="534960"/>
            <a:chOff x="536400" y="3713040"/>
            <a:chExt cx="5626440" cy="534960"/>
          </a:xfrm>
        </p:grpSpPr>
        <p:pic>
          <p:nvPicPr>
            <p:cNvPr id="129" name="WordArt 14" descr=""/>
            <p:cNvPicPr/>
            <p:nvPr/>
          </p:nvPicPr>
          <p:blipFill>
            <a:blip r:embed="rId3"/>
            <a:stretch/>
          </p:blipFill>
          <p:spPr>
            <a:xfrm>
              <a:off x="536400" y="3713040"/>
              <a:ext cx="562644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9640" y="3716280"/>
              <a:ext cx="5616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яная промышленност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17"/>
          <p:cNvSpPr txBox="1"/>
          <p:nvPr/>
        </p:nvSpPr>
        <p:spPr>
          <a:xfrm>
            <a:off x="539640" y="4292640"/>
            <a:ext cx="560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33ccff"/>
                  </a:outerShdw>
                </a:effectLst>
                <a:latin typeface="Arial"/>
              </a:rPr>
              <a:t>Газовая промышленность</a:t>
            </a:r>
            <a:endParaRPr b="0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33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250920" y="5157720"/>
            <a:ext cx="698508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фть – это большая и сложная группа тверды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зообразных и жидких углеводородов (соединения С и 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щая примес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468360" y="189000"/>
            <a:ext cx="835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27703" dir="16539743" blurRad="0" rotWithShape="0">
                    <a:srgbClr val="ff6600"/>
                  </a:outerShdw>
                </a:effectLst>
                <a:latin typeface="Impact"/>
              </a:rPr>
              <a:t>Этапы развития нефтяной промышленности </a:t>
            </a:r>
            <a:endParaRPr b="0" lang="en-US" sz="2000" spc="1" strike="noStrike">
              <a:ln w="2844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27703" dir="16539743" blurRad="0" rotWithShape="0">
                  <a:srgbClr val="ff66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176364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7593595" blurRad="0" rotWithShape="0">
                    <a:srgbClr val="ff6600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7593595" blurRad="0" rotWithShape="0">
                  <a:srgbClr val="ff66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324000" y="2565000"/>
            <a:ext cx="8603640" cy="4030920"/>
            <a:chOff x="324000" y="2565000"/>
            <a:chExt cx="8603640" cy="4030920"/>
          </a:xfrm>
        </p:grpSpPr>
        <p:grpSp>
          <p:nvGrpSpPr>
            <p:cNvPr id="136" name="Group 22"/>
            <p:cNvGrpSpPr/>
            <p:nvPr/>
          </p:nvGrpSpPr>
          <p:grpSpPr>
            <a:xfrm>
              <a:off x="324000" y="5589360"/>
              <a:ext cx="1762920" cy="1006560"/>
              <a:chOff x="324000" y="5589360"/>
              <a:chExt cx="1762920" cy="1006560"/>
            </a:xfrm>
          </p:grpSpPr>
          <p:sp>
            <p:nvSpPr>
              <p:cNvPr id="137" name="Line 10"/>
              <p:cNvSpPr/>
              <p:nvPr/>
            </p:nvSpPr>
            <p:spPr>
              <a:xfrm>
                <a:off x="324000" y="659592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 flipV="1">
                <a:off x="1834920" y="558936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23"/>
            <p:cNvGrpSpPr/>
            <p:nvPr/>
          </p:nvGrpSpPr>
          <p:grpSpPr>
            <a:xfrm>
              <a:off x="2087280" y="4581000"/>
              <a:ext cx="1762920" cy="1006560"/>
              <a:chOff x="2087280" y="4581000"/>
              <a:chExt cx="1762920" cy="1006560"/>
            </a:xfrm>
          </p:grpSpPr>
          <p:sp>
            <p:nvSpPr>
              <p:cNvPr id="140" name="Line 24"/>
              <p:cNvSpPr/>
              <p:nvPr/>
            </p:nvSpPr>
            <p:spPr>
              <a:xfrm>
                <a:off x="2087280" y="5587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 flipV="1">
                <a:off x="3598200" y="4581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6"/>
            <p:cNvGrpSpPr/>
            <p:nvPr/>
          </p:nvGrpSpPr>
          <p:grpSpPr>
            <a:xfrm>
              <a:off x="3887640" y="3573000"/>
              <a:ext cx="1762920" cy="1006560"/>
              <a:chOff x="3887640" y="3573000"/>
              <a:chExt cx="1762920" cy="1006560"/>
            </a:xfrm>
          </p:grpSpPr>
          <p:sp>
            <p:nvSpPr>
              <p:cNvPr id="143" name="Line 27"/>
              <p:cNvSpPr/>
              <p:nvPr/>
            </p:nvSpPr>
            <p:spPr>
              <a:xfrm>
                <a:off x="3887640" y="4579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28"/>
              <p:cNvSpPr/>
              <p:nvPr/>
            </p:nvSpPr>
            <p:spPr>
              <a:xfrm flipV="1">
                <a:off x="5398560" y="3573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5687640" y="2565000"/>
              <a:ext cx="1763640" cy="1006560"/>
              <a:chOff x="5687640" y="2565000"/>
              <a:chExt cx="1763640" cy="1006560"/>
            </a:xfrm>
          </p:grpSpPr>
          <p:sp>
            <p:nvSpPr>
              <p:cNvPr id="146" name="Line 30"/>
              <p:cNvSpPr/>
              <p:nvPr/>
            </p:nvSpPr>
            <p:spPr>
              <a:xfrm>
                <a:off x="5687640" y="3571560"/>
                <a:ext cx="15112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1"/>
              <p:cNvSpPr/>
              <p:nvPr/>
            </p:nvSpPr>
            <p:spPr>
              <a:xfrm flipV="1">
                <a:off x="7198920" y="2565000"/>
                <a:ext cx="25236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Line 33"/>
            <p:cNvSpPr/>
            <p:nvPr/>
          </p:nvSpPr>
          <p:spPr>
            <a:xfrm>
              <a:off x="7416720" y="2565360"/>
              <a:ext cx="151092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Picture 46" descr="j0282942"/>
          <p:cNvPicPr/>
          <p:nvPr/>
        </p:nvPicPr>
        <p:blipFill>
          <a:blip r:embed="rId2"/>
          <a:stretch/>
        </p:blipFill>
        <p:spPr>
          <a:xfrm>
            <a:off x="5867280" y="4221000"/>
            <a:ext cx="32767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3"/>
          <p:cNvGrpSpPr/>
          <p:nvPr/>
        </p:nvGrpSpPr>
        <p:grpSpPr>
          <a:xfrm>
            <a:off x="250920" y="5154480"/>
            <a:ext cx="1512720" cy="1360800"/>
            <a:chOff x="250920" y="5154480"/>
            <a:chExt cx="1512720" cy="1360800"/>
          </a:xfrm>
        </p:grpSpPr>
        <p:sp>
          <p:nvSpPr>
            <p:cNvPr id="151" name="AutoShape 41"/>
            <p:cNvSpPr/>
            <p:nvPr/>
          </p:nvSpPr>
          <p:spPr>
            <a:xfrm>
              <a:off x="250920" y="522936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WordArt 50"/>
            <p:cNvSpPr txBox="1"/>
            <p:nvPr/>
          </p:nvSpPr>
          <p:spPr>
            <a:xfrm>
              <a:off x="324000" y="5661000"/>
              <a:ext cx="14396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59-187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63840" y="515448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1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64"/>
          <p:cNvGrpSpPr/>
          <p:nvPr/>
        </p:nvGrpSpPr>
        <p:grpSpPr>
          <a:xfrm>
            <a:off x="2050920" y="4149720"/>
            <a:ext cx="1511280" cy="1357200"/>
            <a:chOff x="2050920" y="4149720"/>
            <a:chExt cx="1511280" cy="1357200"/>
          </a:xfrm>
        </p:grpSpPr>
        <p:sp>
          <p:nvSpPr>
            <p:cNvPr id="155" name="AutoShape 42"/>
            <p:cNvSpPr/>
            <p:nvPr/>
          </p:nvSpPr>
          <p:spPr>
            <a:xfrm>
              <a:off x="2050920" y="4221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WordArt 49"/>
            <p:cNvSpPr txBox="1"/>
            <p:nvPr/>
          </p:nvSpPr>
          <p:spPr>
            <a:xfrm>
              <a:off x="2124000" y="465300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80-1910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7" name="Text Box 56"/>
            <p:cNvSpPr/>
            <p:nvPr/>
          </p:nvSpPr>
          <p:spPr>
            <a:xfrm>
              <a:off x="2411640" y="4149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2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65"/>
          <p:cNvGrpSpPr/>
          <p:nvPr/>
        </p:nvGrpSpPr>
        <p:grpSpPr>
          <a:xfrm>
            <a:off x="3851280" y="3141720"/>
            <a:ext cx="1512720" cy="1357200"/>
            <a:chOff x="3851280" y="3141720"/>
            <a:chExt cx="1512720" cy="1357200"/>
          </a:xfrm>
        </p:grpSpPr>
        <p:sp>
          <p:nvSpPr>
            <p:cNvPr id="159" name="AutoShape 43"/>
            <p:cNvSpPr/>
            <p:nvPr/>
          </p:nvSpPr>
          <p:spPr>
            <a:xfrm>
              <a:off x="3851280" y="321300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WordArt 51"/>
            <p:cNvSpPr txBox="1"/>
            <p:nvPr/>
          </p:nvSpPr>
          <p:spPr>
            <a:xfrm>
              <a:off x="3851280" y="3716280"/>
              <a:ext cx="15112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11-192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1" name="Text Box 58"/>
            <p:cNvSpPr/>
            <p:nvPr/>
          </p:nvSpPr>
          <p:spPr>
            <a:xfrm>
              <a:off x="4140720" y="3141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3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66"/>
          <p:cNvGrpSpPr/>
          <p:nvPr/>
        </p:nvGrpSpPr>
        <p:grpSpPr>
          <a:xfrm>
            <a:off x="5651640" y="2133720"/>
            <a:ext cx="1514160" cy="1357200"/>
            <a:chOff x="5651640" y="2133720"/>
            <a:chExt cx="1514160" cy="1357200"/>
          </a:xfrm>
        </p:grpSpPr>
        <p:sp>
          <p:nvSpPr>
            <p:cNvPr id="163" name="AutoShape 44"/>
            <p:cNvSpPr/>
            <p:nvPr/>
          </p:nvSpPr>
          <p:spPr>
            <a:xfrm>
              <a:off x="5651640" y="2205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WordArt 52"/>
            <p:cNvSpPr txBox="1"/>
            <p:nvPr/>
          </p:nvSpPr>
          <p:spPr>
            <a:xfrm>
              <a:off x="5724360" y="2565360"/>
              <a:ext cx="1441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30-е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5" name="Text Box 60"/>
            <p:cNvSpPr/>
            <p:nvPr/>
          </p:nvSpPr>
          <p:spPr>
            <a:xfrm>
              <a:off x="5867640" y="2133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4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67"/>
          <p:cNvGrpSpPr/>
          <p:nvPr/>
        </p:nvGrpSpPr>
        <p:grpSpPr>
          <a:xfrm>
            <a:off x="7451640" y="1125360"/>
            <a:ext cx="1513080" cy="1357560"/>
            <a:chOff x="7451640" y="1125360"/>
            <a:chExt cx="1513080" cy="1357560"/>
          </a:xfrm>
        </p:grpSpPr>
        <p:sp>
          <p:nvSpPr>
            <p:cNvPr id="167" name="AutoShape 45"/>
            <p:cNvSpPr/>
            <p:nvPr/>
          </p:nvSpPr>
          <p:spPr>
            <a:xfrm>
              <a:off x="7451640" y="1197000"/>
              <a:ext cx="15130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WordArt 53"/>
            <p:cNvSpPr txBox="1"/>
            <p:nvPr/>
          </p:nvSpPr>
          <p:spPr>
            <a:xfrm>
              <a:off x="7451640" y="1628640"/>
              <a:ext cx="15130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2-я пол.XX в.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9" name="Text Box 62"/>
            <p:cNvSpPr/>
            <p:nvPr/>
          </p:nvSpPr>
          <p:spPr>
            <a:xfrm>
              <a:off x="7741080" y="112536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5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AutoShape 68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4299" y="11112"/>
                </a:moveTo>
                <a:lnTo>
                  <a:pt x="3794" y="18118"/>
                </a:lnTo>
                <a:lnTo>
                  <a:pt x="3794" y="4105"/>
                </a:lnTo>
                <a:close/>
              </a:path>
              <a:path fill="darken" w="21600" h="22223">
                <a:moveTo>
                  <a:pt x="16144" y="4105"/>
                </a:moveTo>
                <a:lnTo>
                  <a:pt x="16144" y="18118"/>
                </a:lnTo>
                <a:lnTo>
                  <a:pt x="17806" y="18118"/>
                </a:lnTo>
                <a:lnTo>
                  <a:pt x="17806" y="410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1"/>
          <p:cNvGrpSpPr/>
          <p:nvPr/>
        </p:nvGrpSpPr>
        <p:grpSpPr>
          <a:xfrm>
            <a:off x="468360" y="189000"/>
            <a:ext cx="8281800" cy="1224000"/>
            <a:chOff x="468360" y="189000"/>
            <a:chExt cx="8281800" cy="1224000"/>
          </a:xfrm>
        </p:grpSpPr>
        <p:sp>
          <p:nvSpPr>
            <p:cNvPr id="172" name="AutoShape 4"/>
            <p:cNvSpPr/>
            <p:nvPr/>
          </p:nvSpPr>
          <p:spPr>
            <a:xfrm>
              <a:off x="468360" y="189000"/>
              <a:ext cx="8281800" cy="1224000"/>
            </a:xfrm>
            <a:prstGeom prst="can">
              <a:avLst>
                <a:gd name="adj" fmla="val 33074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ccff33"/>
                </a:gs>
                <a:gs pos="100000">
                  <a:srgbClr val="ffcc66"/>
                </a:gs>
              </a:gsLst>
              <a:lin ang="5400000"/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3997800" y="189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1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684360" y="549360"/>
              <a:ext cx="765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ериад </a:t>
              </a:r>
              <a:r>
                <a:rPr b="1" i="1" lang="ru-RU" sz="2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нецивилизованной разработки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 начался в 1859 году, когда полковник Эдвин Л.Дрейк пробурил около Титусвила (Пенсильв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ия) первую нефтяную скважину</a:t>
              </a:r>
              <a:r>
                <a:rPr b="0" lang="ru-RU" sz="2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468360" y="1484280"/>
            <a:ext cx="8207280" cy="1224000"/>
            <a:chOff x="468360" y="1484280"/>
            <a:chExt cx="8207280" cy="1224000"/>
          </a:xfrm>
        </p:grpSpPr>
        <p:sp>
          <p:nvSpPr>
            <p:cNvPr id="176" name="AutoShape 9"/>
            <p:cNvSpPr/>
            <p:nvPr/>
          </p:nvSpPr>
          <p:spPr>
            <a:xfrm>
              <a:off x="468360" y="1557360"/>
              <a:ext cx="8207280" cy="1150920"/>
            </a:xfrm>
            <a:prstGeom prst="flowChartMagneticDisk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cccc"/>
                </a:gs>
                <a:gs pos="100000">
                  <a:srgbClr val="9999ff"/>
                </a:gs>
              </a:gsLst>
              <a:lin ang="5400000"/>
            </a:gradFill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3853440" y="148428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2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611280" y="198900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бразование Standart Oil Compani.Контроль цен над переработкой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транспортировкой, добычей и сбытом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250920" y="2968560"/>
            <a:ext cx="8893080" cy="1252440"/>
            <a:chOff x="250920" y="2968560"/>
            <a:chExt cx="8893080" cy="1252440"/>
          </a:xfrm>
        </p:grpSpPr>
        <p:sp>
          <p:nvSpPr>
            <p:cNvPr id="180" name="AutoShape 11"/>
            <p:cNvSpPr/>
            <p:nvPr/>
          </p:nvSpPr>
          <p:spPr>
            <a:xfrm>
              <a:off x="250920" y="2997360"/>
              <a:ext cx="8675640" cy="12236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ffcc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3997800" y="296856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3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395280" y="3354480"/>
              <a:ext cx="87487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озрождение конкуренции. Рост потребления нефти и нефтепродукт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звитие разведки, добычи и продажи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4"/>
          <p:cNvGrpSpPr/>
          <p:nvPr/>
        </p:nvGrpSpPr>
        <p:grpSpPr>
          <a:xfrm>
            <a:off x="179280" y="4292640"/>
            <a:ext cx="9215640" cy="1152360"/>
            <a:chOff x="179280" y="4292640"/>
            <a:chExt cx="9215640" cy="1152360"/>
          </a:xfrm>
        </p:grpSpPr>
        <p:sp>
          <p:nvSpPr>
            <p:cNvPr id="184" name="AutoShape 12"/>
            <p:cNvSpPr/>
            <p:nvPr/>
          </p:nvSpPr>
          <p:spPr>
            <a:xfrm>
              <a:off x="179280" y="4365720"/>
              <a:ext cx="8785440" cy="1079280"/>
            </a:xfrm>
            <a:prstGeom prst="flowChartMagneticDisk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4069440" y="429264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4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250920" y="465300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ведение государственного регулирования производства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фтяной газ и газовый бензин приобретают самостоятельное  значени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35"/>
          <p:cNvGrpSpPr/>
          <p:nvPr/>
        </p:nvGrpSpPr>
        <p:grpSpPr>
          <a:xfrm>
            <a:off x="179280" y="5445000"/>
            <a:ext cx="8965440" cy="1224000"/>
            <a:chOff x="179280" y="5445000"/>
            <a:chExt cx="8965440" cy="1224000"/>
          </a:xfrm>
        </p:grpSpPr>
        <p:sp>
          <p:nvSpPr>
            <p:cNvPr id="188" name="AutoShape 10"/>
            <p:cNvSpPr/>
            <p:nvPr/>
          </p:nvSpPr>
          <p:spPr>
            <a:xfrm>
              <a:off x="179280" y="5516640"/>
              <a:ext cx="8785440" cy="1152360"/>
            </a:xfrm>
            <a:prstGeom prst="flowChartMagneticDisk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99cc"/>
                </a:gs>
                <a:gs pos="100000">
                  <a:srgbClr val="ff9933"/>
                </a:gs>
              </a:gsLst>
              <a:lin ang="54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4213800" y="5445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5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09240" y="5877000"/>
              <a:ext cx="883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спространение нефтепромышленности США по всему миру.Она стал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более чувствительной к политическим и экономическим событиям в мире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3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324000" y="189000"/>
            <a:ext cx="84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91658" dir="19582341" blurRad="0" rotWithShape="0">
                    <a:srgbClr val="ff0000">
                      <a:alpha val="80000"/>
                    </a:srgbClr>
                  </a:outerShdw>
                </a:effectLst>
                <a:latin typeface="Times New Roman"/>
              </a:rPr>
              <a:t>Энергетический кризис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91658" dir="19582341" blurRad="0" rotWithShape="0">
                  <a:srgbClr val="ff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2050920" y="90792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3 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5940360" y="189000"/>
            <a:ext cx="235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4 годо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5" name="Picture 7" descr="falcons"/>
          <p:cNvPicPr/>
          <p:nvPr/>
        </p:nvPicPr>
        <p:blipFill>
          <a:blip r:embed="rId2"/>
          <a:stretch/>
        </p:blipFill>
        <p:spPr>
          <a:xfrm>
            <a:off x="250920" y="3933720"/>
            <a:ext cx="3600360" cy="27036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8"/>
          <p:cNvGrpSpPr/>
          <p:nvPr/>
        </p:nvGrpSpPr>
        <p:grpSpPr>
          <a:xfrm>
            <a:off x="180720" y="1700280"/>
            <a:ext cx="3901320" cy="1744560"/>
            <a:chOff x="180720" y="1700280"/>
            <a:chExt cx="3901320" cy="1744560"/>
          </a:xfrm>
        </p:grpSpPr>
        <p:sp>
          <p:nvSpPr>
            <p:cNvPr id="197" name="Text Box 10"/>
            <p:cNvSpPr/>
            <p:nvPr/>
          </p:nvSpPr>
          <p:spPr>
            <a:xfrm>
              <a:off x="1191600" y="2924280"/>
              <a:ext cx="28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Ценны на нефт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180720" y="2924280"/>
              <a:ext cx="10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3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г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2989080" y="17002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74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V="1">
              <a:off x="1042920" y="1915920"/>
              <a:ext cx="2016360" cy="10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 rot="19917600">
              <a:off x="1238760" y="19681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ffff"/>
                  </a:solidFill>
                  <a:latin typeface="Times New Roman"/>
                </a:rPr>
                <a:t>(в 5 раз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7"/>
          <p:cNvSpPr/>
          <p:nvPr/>
        </p:nvSpPr>
        <p:spPr>
          <a:xfrm>
            <a:off x="4788000" y="141300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мбарго 1973 -1974 г.г. на нефть арабских стран, адресованное прежде всего США в связи с поддержкой Израиля в арабо-израильских конфликтах, привёл к первому из резких скачков цен на нефть, разоривших мировую экономик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916360" y="907920"/>
            <a:ext cx="32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07932" dir="18900000" blurRad="0" rotWithShape="0">
                    <a:srgbClr val="292929">
                      <a:alpha val="50000"/>
                    </a:srgbClr>
                  </a:outerShdw>
                </a:effectLst>
                <a:latin typeface="Arial"/>
              </a:rPr>
              <a:t>нефти.</a:t>
            </a:r>
            <a:endParaRPr b="0" lang="en-US" sz="20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07932" dir="18900000" blurRad="0" rotWithShape="0">
                  <a:srgbClr val="29292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Object 28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392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8"/>
          <p:cNvGrpSpPr/>
          <p:nvPr/>
        </p:nvGrpSpPr>
        <p:grpSpPr>
          <a:xfrm>
            <a:off x="684360" y="4673520"/>
            <a:ext cx="7537320" cy="531720"/>
            <a:chOff x="684360" y="4673520"/>
            <a:chExt cx="7537320" cy="531720"/>
          </a:xfrm>
        </p:grpSpPr>
        <p:sp>
          <p:nvSpPr>
            <p:cNvPr id="206" name="Rectangle 31"/>
            <p:cNvSpPr/>
            <p:nvPr/>
          </p:nvSpPr>
          <p:spPr>
            <a:xfrm>
              <a:off x="684360" y="4869000"/>
              <a:ext cx="360360" cy="33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2"/>
            <p:cNvSpPr/>
            <p:nvPr/>
          </p:nvSpPr>
          <p:spPr>
            <a:xfrm>
              <a:off x="1391760" y="4673520"/>
              <a:ext cx="68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3 млрд. тонн разведанные запасы нефти в СШ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9"/>
          <p:cNvGrpSpPr/>
          <p:nvPr/>
        </p:nvGrpSpPr>
        <p:grpSpPr>
          <a:xfrm>
            <a:off x="539640" y="5157720"/>
            <a:ext cx="8604360" cy="825480"/>
            <a:chOff x="539640" y="5157720"/>
            <a:chExt cx="8604360" cy="825480"/>
          </a:xfrm>
        </p:grpSpPr>
        <p:sp>
          <p:nvSpPr>
            <p:cNvPr id="209" name="Rectangle 30"/>
            <p:cNvSpPr/>
            <p:nvPr/>
          </p:nvSpPr>
          <p:spPr>
            <a:xfrm>
              <a:off x="539640" y="55166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1150920" y="515772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14 млрд. тонн разведанные запасы нефти в Западном полушар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0"/>
          <p:cNvGrpSpPr/>
          <p:nvPr/>
        </p:nvGrpSpPr>
        <p:grpSpPr>
          <a:xfrm>
            <a:off x="468360" y="6035760"/>
            <a:ext cx="8207280" cy="825480"/>
            <a:chOff x="468360" y="6035760"/>
            <a:chExt cx="8207280" cy="825480"/>
          </a:xfrm>
        </p:grpSpPr>
        <p:sp>
          <p:nvSpPr>
            <p:cNvPr id="212" name="Rectangle 29"/>
            <p:cNvSpPr/>
            <p:nvPr/>
          </p:nvSpPr>
          <p:spPr>
            <a:xfrm>
              <a:off x="468360" y="6237360"/>
              <a:ext cx="360360" cy="333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1116000" y="6035760"/>
              <a:ext cx="755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cc00"/>
                  </a:solidFill>
                  <a:latin typeface="Times New Roman"/>
                </a:rPr>
                <a:t>133 млрд. тонн разведанные запасы нефти в остальных странах ми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WordArt 4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овые запас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Object 8" descr=""/>
          <p:cNvPicPr/>
          <p:nvPr/>
        </p:nvPicPr>
        <p:blipFill>
          <a:blip r:embed="rId2"/>
          <a:stretch/>
        </p:blipFill>
        <p:spPr>
          <a:xfrm>
            <a:off x="0" y="1628640"/>
            <a:ext cx="4753080" cy="306252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4" descr=""/>
          <p:cNvPicPr/>
          <p:nvPr/>
        </p:nvPicPr>
        <p:blipFill>
          <a:blip r:embed="rId3"/>
          <a:stretch/>
        </p:blipFill>
        <p:spPr>
          <a:xfrm>
            <a:off x="5364000" y="4113360"/>
            <a:ext cx="3780000" cy="2744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311948"/>
          <p:cNvPicPr/>
          <p:nvPr/>
        </p:nvPicPr>
        <p:blipFill>
          <a:blip r:embed="rId4"/>
          <a:stretch/>
        </p:blipFill>
        <p:spPr>
          <a:xfrm>
            <a:off x="250920" y="189000"/>
            <a:ext cx="2233440" cy="1727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6"/>
          <p:cNvSpPr txBox="1"/>
          <p:nvPr/>
        </p:nvSpPr>
        <p:spPr>
          <a:xfrm>
            <a:off x="2556000" y="404640"/>
            <a:ext cx="633708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43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Потребление нефти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3132000" y="90792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68321" dir="20281825" blurRad="0" rotWithShape="0">
                    <a:srgbClr val="9900ff">
                      <a:alpha val="50000"/>
                    </a:srgbClr>
                  </a:outerShdw>
                </a:effectLst>
                <a:latin typeface="Arial"/>
              </a:rPr>
              <a:t>и нефтепродук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68321" dir="20281825" blurRad="0" rotWithShape="0">
                  <a:srgbClr val="9900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AutoShape 9"/>
          <p:cNvSpPr/>
          <p:nvPr/>
        </p:nvSpPr>
        <p:spPr>
          <a:xfrm rot="2010600">
            <a:off x="3850920" y="4005000"/>
            <a:ext cx="2023920" cy="4856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0" y="0"/>
                </a:lnTo>
                <a:lnTo>
                  <a:pt x="21600" y="10800"/>
                </a:lnTo>
                <a:lnTo>
                  <a:pt x="13860" y="21600"/>
                </a:lnTo>
                <a:lnTo>
                  <a:pt x="0" y="21600"/>
                </a:lnTo>
                <a:lnTo>
                  <a:pt x="7740" y="1080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00ffff"/>
              </a:gs>
              <a:gs pos="100000">
                <a:srgbClr val="ff0066"/>
              </a:gs>
            </a:gsLst>
            <a:lin ang="3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1"/>
          <p:cNvGrpSpPr/>
          <p:nvPr/>
        </p:nvGrpSpPr>
        <p:grpSpPr>
          <a:xfrm>
            <a:off x="250920" y="5157720"/>
            <a:ext cx="3759840" cy="1008720"/>
            <a:chOff x="250920" y="5157720"/>
            <a:chExt cx="3759840" cy="1008720"/>
          </a:xfrm>
        </p:grpSpPr>
        <p:sp>
          <p:nvSpPr>
            <p:cNvPr id="222" name="Rectangle 10"/>
            <p:cNvSpPr/>
            <p:nvPr/>
          </p:nvSpPr>
          <p:spPr>
            <a:xfrm>
              <a:off x="250920" y="5445000"/>
              <a:ext cx="431640" cy="4111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969480" y="5157720"/>
              <a:ext cx="304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2 млрд. тонн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потребляют осталь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страны мир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0"/>
          <p:cNvGrpSpPr/>
          <p:nvPr/>
        </p:nvGrpSpPr>
        <p:grpSpPr>
          <a:xfrm>
            <a:off x="324000" y="4290840"/>
            <a:ext cx="3729960" cy="703800"/>
            <a:chOff x="324000" y="4290840"/>
            <a:chExt cx="3729960" cy="703800"/>
          </a:xfrm>
        </p:grpSpPr>
        <p:sp>
          <p:nvSpPr>
            <p:cNvPr id="225" name="Rectangle 12"/>
            <p:cNvSpPr/>
            <p:nvPr/>
          </p:nvSpPr>
          <p:spPr>
            <a:xfrm>
              <a:off x="324000" y="4508640"/>
              <a:ext cx="431640" cy="411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948600" y="4290840"/>
              <a:ext cx="31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1 млрд. тонн 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потребляют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5435640" y="1677960"/>
            <a:ext cx="3326760" cy="642600"/>
            <a:chOff x="5435640" y="1677960"/>
            <a:chExt cx="3326760" cy="642600"/>
          </a:xfrm>
        </p:grpSpPr>
        <p:sp>
          <p:nvSpPr>
            <p:cNvPr id="228" name="Rectangle 14"/>
            <p:cNvSpPr/>
            <p:nvPr/>
          </p:nvSpPr>
          <p:spPr>
            <a:xfrm>
              <a:off x="5435640" y="1844640"/>
              <a:ext cx="358560" cy="40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7"/>
            <p:cNvSpPr/>
            <p:nvPr/>
          </p:nvSpPr>
          <p:spPr>
            <a:xfrm>
              <a:off x="6225480" y="1677960"/>
              <a:ext cx="253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350 млн. тонн неф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добывают в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"/>
          <p:cNvGrpSpPr/>
          <p:nvPr/>
        </p:nvGrpSpPr>
        <p:grpSpPr>
          <a:xfrm>
            <a:off x="5364000" y="2421000"/>
            <a:ext cx="3776760" cy="947520"/>
            <a:chOff x="5364000" y="2421000"/>
            <a:chExt cx="3776760" cy="947520"/>
          </a:xfrm>
        </p:grpSpPr>
        <p:sp>
          <p:nvSpPr>
            <p:cNvPr id="231" name="Rectangle 15"/>
            <p:cNvSpPr/>
            <p:nvPr/>
          </p:nvSpPr>
          <p:spPr>
            <a:xfrm>
              <a:off x="5364000" y="2637000"/>
              <a:ext cx="358920" cy="409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5866200" y="2421000"/>
              <a:ext cx="32745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15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Экспортируют с Ближне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осто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24"/>
          <p:cNvGrpSpPr/>
          <p:nvPr/>
        </p:nvGrpSpPr>
        <p:grpSpPr>
          <a:xfrm>
            <a:off x="5364000" y="3500280"/>
            <a:ext cx="3782880" cy="916920"/>
            <a:chOff x="5364000" y="3500280"/>
            <a:chExt cx="3782880" cy="916920"/>
          </a:xfrm>
        </p:grpSpPr>
        <p:sp>
          <p:nvSpPr>
            <p:cNvPr id="234" name="Rectangle 16"/>
            <p:cNvSpPr/>
            <p:nvPr/>
          </p:nvSpPr>
          <p:spPr>
            <a:xfrm>
              <a:off x="5364000" y="3645000"/>
              <a:ext cx="358920" cy="4093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72ff4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5898240" y="3500280"/>
              <a:ext cx="324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50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экспортируют из Канады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Мексики, Венесуэлы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sa1"/>
          <p:cNvPicPr/>
          <p:nvPr/>
        </p:nvPicPr>
        <p:blipFill>
          <a:blip r:embed="rId2"/>
          <a:stretch/>
        </p:blipFill>
        <p:spPr>
          <a:xfrm>
            <a:off x="2411280" y="1700280"/>
            <a:ext cx="6732720" cy="5157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j0336981"/>
          <p:cNvPicPr/>
          <p:nvPr/>
        </p:nvPicPr>
        <p:blipFill>
          <a:blip r:embed="rId3"/>
          <a:stretch/>
        </p:blipFill>
        <p:spPr>
          <a:xfrm>
            <a:off x="2595600" y="6119640"/>
            <a:ext cx="264960" cy="27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j0336981"/>
          <p:cNvPicPr/>
          <p:nvPr/>
        </p:nvPicPr>
        <p:blipFill>
          <a:blip r:embed="rId4"/>
          <a:stretch/>
        </p:blipFill>
        <p:spPr>
          <a:xfrm>
            <a:off x="4240080" y="4821120"/>
            <a:ext cx="449280" cy="45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336981"/>
          <p:cNvPicPr/>
          <p:nvPr/>
        </p:nvPicPr>
        <p:blipFill>
          <a:blip r:embed="rId5"/>
          <a:stretch/>
        </p:blipFill>
        <p:spPr>
          <a:xfrm>
            <a:off x="5194440" y="5362560"/>
            <a:ext cx="44928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2"/>
          <p:cNvSpPr txBox="1"/>
          <p:nvPr/>
        </p:nvSpPr>
        <p:spPr>
          <a:xfrm>
            <a:off x="250920" y="189000"/>
            <a:ext cx="85690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19669" dir="18118131" blurRad="0" rotWithShape="0">
                    <a:srgbClr val="66ffff"/>
                  </a:outerShdw>
                </a:effectLst>
                <a:latin typeface="Impact"/>
              </a:rPr>
              <a:t>Нефтяные районы США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19669" dir="18118131" blurRad="0" rotWithShape="0">
                  <a:srgbClr val="66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50920" y="184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-2160" y="1844640"/>
            <a:ext cx="2133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Общее чис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месторожд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15 тысяч(в о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овном это н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большие мест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ожде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-3600" y="3789360"/>
            <a:ext cx="246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Ежегодно бу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ится 25-30 ты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фтяных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-1800" y="4888080"/>
            <a:ext cx="2446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Всего с 1859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пробурено око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2,5 млн.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(большая часть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их уже истощ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 менее чем на 4/5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34:30Z</dcterms:created>
  <dc:creator>USER</dc:creator>
  <dc:description>Наталья Николаевна Димитрова школа 37</dc:description>
  <dc:language>en-US</dc:language>
  <cp:lastModifiedBy>Спиридонова Наталья Николаевна</cp:lastModifiedBy>
  <dcterms:modified xsi:type="dcterms:W3CDTF">2011-09-14T06:54:10Z</dcterms:modified>
  <cp:revision>42</cp:revision>
  <dc:subject/>
  <dc:title>Нефтяная промышленность СШ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a0000000000010250300207f7000400038000</vt:lpwstr>
  </property>
</Properties>
</file>