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15F-55FF-4A57-AAC5-D44D9082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EC3-17A2-4868-A6AD-7FD9D698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98A-C532-440D-8D26-68BC62AA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688-96B2-4DAC-97E5-A1BD8E52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472-6F68-410B-95B9-5E66A12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94A-FBAD-472C-BAB5-594A8B92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AFF-4BDE-4153-831D-A5049C88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56A-362C-4249-B23B-F07AE750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B6B-03F4-408A-BF46-D3C1C023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01C-A3A7-429E-941D-16978C8D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EED-EADC-4EE4-B562-6E3CD304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141-3FE9-4059-B905-B5EC6984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187A-2A0F-480F-ABFE-67256B107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165240" y="1182600"/>
            <a:ext cx="5675040" cy="5187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трану: СШ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Россия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Болгария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Конг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272880" y="2154240"/>
            <a:ext cx="833148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92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трану: Герм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ЮА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Австрал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Брази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272880" y="2730600"/>
            <a:ext cx="8331480" cy="397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трану: Афганистан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Росс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Франц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Индонез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417600" y="3090960"/>
            <a:ext cx="811368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факторы размещ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5480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территориальную структуру хоз-в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Объект 8"/>
          <p:cNvGrpSpPr/>
          <p:nvPr/>
        </p:nvGrpSpPr>
        <p:grpSpPr>
          <a:xfrm>
            <a:off x="438120" y="1584360"/>
            <a:ext cx="8261280" cy="4554360"/>
            <a:chOff x="438120" y="1584360"/>
            <a:chExt cx="8261280" cy="4554360"/>
          </a:xfrm>
        </p:grpSpPr>
        <p:pic>
          <p:nvPicPr>
            <p:cNvPr id="81" name="Объект 8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сокоразвитые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– отличаются динамичным развитием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                               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Штат Калифорния в США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Старопромышленные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  -  развиты старые отрасли промышленности: угольная,    металлургия, текстильная. Великобритания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Аграрные районы –</a:t>
              </a:r>
              <a:r>
                <a:rPr b="0" lang="ru-RU" sz="2500" spc="-1" strike="noStrike">
                  <a:solidFill>
                    <a:srgbClr val="000000"/>
                  </a:solidFill>
                  <a:latin typeface="Calibri"/>
                </a:rPr>
                <a:t> районы  слаборазвитого сельского хоз-ва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Районы нового освоения</a:t>
              </a:r>
              <a:r>
                <a:rPr b="0" lang="ru-RU" sz="2500" spc="-1" strike="noStrike">
                  <a:solidFill>
                    <a:srgbClr val="000000"/>
                  </a:solidFill>
                  <a:latin typeface="Calibri"/>
                </a:rPr>
                <a:t>. – труднодоступные и малообжитые. Север России, север Канады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еографическая картина мира под влиянием НТР быстро меня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Всё меньше на Земле остаётся территорий свободных от производ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астёт его концентра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Усиливается роль НТР в размещении производительных с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45440" cy="1143000"/>
          </a:xfrm>
          <a:prstGeom prst="rect">
            <a:avLst/>
          </a:prstGeom>
          <a:solidFill>
            <a:srgbClr val="d99694"/>
          </a:solidFill>
          <a:ln w="9360">
            <a:solidFill>
              <a:srgbClr val="632523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лнить табл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804960" y="1822320"/>
            <a:ext cx="7315200" cy="414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solidFill>
            <a:srgbClr val="d99694"/>
          </a:solidFill>
          <a:ln w="9360">
            <a:solidFill>
              <a:srgbClr val="953735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епкие орешки для интеллекту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1916280"/>
          <a:ext cx="7921800" cy="2665080"/>
        </p:xfrm>
        <a:graphic>
          <a:graphicData uri="http://schemas.openxmlformats.org/drawingml/2006/table">
            <a:tbl>
              <a:tblPr/>
              <a:tblGrid>
                <a:gridCol w="3803760"/>
                <a:gridCol w="4118040"/>
              </a:tblGrid>
              <a:tr h="1417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лияет ли НТР на развитие современного школьного образования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равочных материалах найти определения основным понятиям к уроку и выписать в тетрад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волюция, эволюция, прогр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, техника, произво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оём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, кибернетика, менеджмент,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ОКР, К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ые черты НТ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сновные направления Н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433440" y="1573200"/>
            <a:ext cx="8265960" cy="4583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6804000" y="1700280"/>
            <a:ext cx="1728720" cy="2332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4"/>
          <a:stretch/>
        </p:blipFill>
        <p:spPr>
          <a:xfrm>
            <a:off x="900000" y="1700280"/>
            <a:ext cx="109548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5"/>
          <a:stretch/>
        </p:blipFill>
        <p:spPr>
          <a:xfrm>
            <a:off x="5292720" y="2133720"/>
            <a:ext cx="62856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Объект 2"/>
          <p:cNvGrpSpPr/>
          <p:nvPr/>
        </p:nvGrpSpPr>
        <p:grpSpPr>
          <a:xfrm>
            <a:off x="438120" y="1584360"/>
            <a:ext cx="8261280" cy="4554360"/>
            <a:chOff x="438120" y="1584360"/>
            <a:chExt cx="8261280" cy="4554360"/>
          </a:xfrm>
        </p:grpSpPr>
        <p:pic>
          <p:nvPicPr>
            <p:cNvPr id="54" name="Объект 2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spcBef>
                  <a:spcPts val="901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Рост расходов на НИОКР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2. Качественное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улучшение системы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образова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Рисунок 2" descr="C:\Program Files\Microsoft Office\MEDIA\CAGCAT10\j0215086.wmf"/>
          <p:cNvPicPr/>
          <p:nvPr/>
        </p:nvPicPr>
        <p:blipFill>
          <a:blip r:embed="rId2"/>
          <a:stretch/>
        </p:blipFill>
        <p:spPr>
          <a:xfrm>
            <a:off x="4448160" y="2060640"/>
            <a:ext cx="454176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ка и технолог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457200" y="1547640"/>
            <a:ext cx="8229600" cy="4719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C:\Program Files\Microsoft Office\MEDIA\CAGCAT10\j0235241.wmf"/>
          <p:cNvPicPr/>
          <p:nvPr/>
        </p:nvPicPr>
        <p:blipFill>
          <a:blip r:embed="rId2"/>
          <a:stretch/>
        </p:blipFill>
        <p:spPr>
          <a:xfrm>
            <a:off x="1692360" y="177336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C:\Program Files\Microsoft Office\MEDIA\CAGCAT10\j0292020.wmf"/>
          <p:cNvPicPr/>
          <p:nvPr/>
        </p:nvPicPr>
        <p:blipFill>
          <a:blip r:embed="rId3"/>
          <a:stretch/>
        </p:blipFill>
        <p:spPr>
          <a:xfrm>
            <a:off x="1547640" y="3429000"/>
            <a:ext cx="1368720" cy="100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C:\Program Files\Microsoft Office\MEDIA\CAGCAT10\j0335112.wmf"/>
          <p:cNvPicPr/>
          <p:nvPr/>
        </p:nvPicPr>
        <p:blipFill>
          <a:blip r:embed="rId4"/>
          <a:stretch/>
        </p:blipFill>
        <p:spPr>
          <a:xfrm>
            <a:off x="1258920" y="486900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58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влени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8229600" cy="4602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87344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мировое хозяйство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тиндустриальная структу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469800" y="2109960"/>
            <a:ext cx="8229600" cy="4576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207972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структуру мирового хозя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536400" y="1822320"/>
            <a:ext cx="792504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21:19Z</dcterms:created>
  <dc:creator>User</dc:creator>
  <dc:description/>
  <dc:language>en-US</dc:language>
  <cp:lastModifiedBy>Administrator</cp:lastModifiedBy>
  <dcterms:modified xsi:type="dcterms:W3CDTF">2013-12-03T18:14:51Z</dcterms:modified>
  <cp:revision>55</cp:revision>
  <dc:subject/>
  <dc:title>НТ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160000000000010250300207f7000400038000</vt:lpwstr>
  </property>
</Properties>
</file>