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377-E60F-430F-8BE9-DEF600C6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0E3-9B32-424A-ADFB-C44559EE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A6D-39CD-466D-8E7D-2930761A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7DB-37F9-4CB6-B8D6-1052A076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0FC-57A5-4475-9B67-19F98DE8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012-FB15-4871-9973-281E977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B3E-82D2-4AA3-AC2C-28C60D42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6CA-5764-4AC4-926E-572EF6B2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6BF-104B-40EA-880B-908F13C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CB6-2EB2-44F3-B5F6-35E3A6F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038-ECEC-4FFD-A86F-068F193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526-8519-4AB4-B06C-2C5B80E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2A68-6B11-4E87-9949-FEA1A0561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400068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 rot="20419200">
            <a:off x="555480" y="585360"/>
            <a:ext cx="2576520" cy="24703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3127320" y="60480"/>
            <a:ext cx="6394680" cy="394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01"/>
          <p:cNvPicPr/>
          <p:nvPr/>
        </p:nvPicPr>
        <p:blipFill>
          <a:blip r:embed="rId3"/>
          <a:stretch/>
        </p:blipFill>
        <p:spPr>
          <a:xfrm>
            <a:off x="285840" y="3857760"/>
            <a:ext cx="1828800" cy="263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-1"/>
          <p:cNvPicPr/>
          <p:nvPr/>
        </p:nvPicPr>
        <p:blipFill>
          <a:blip r:embed="rId4"/>
          <a:stretch/>
        </p:blipFill>
        <p:spPr>
          <a:xfrm>
            <a:off x="2500200" y="3857760"/>
            <a:ext cx="1714680" cy="26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suka"/>
          <p:cNvPicPr/>
          <p:nvPr/>
        </p:nvPicPr>
        <p:blipFill>
          <a:blip r:embed="rId5"/>
          <a:stretch/>
        </p:blipFill>
        <p:spPr>
          <a:xfrm>
            <a:off x="4643280" y="3857760"/>
            <a:ext cx="192888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Эфиопия. Племя Мурзи (22 фото)"/>
          <p:cNvPicPr/>
          <p:nvPr/>
        </p:nvPicPr>
        <p:blipFill>
          <a:blip r:embed="rId6"/>
          <a:stretch/>
        </p:blipFill>
        <p:spPr>
          <a:xfrm>
            <a:off x="6929280" y="3857760"/>
            <a:ext cx="1941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ставители  монголоидной  р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248112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428920" y="30002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6357960" y="1714680"/>
            <a:ext cx="2286000" cy="2786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4857840" y="30002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3643200" y="4486320"/>
            <a:ext cx="199080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полните таблиц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1680" y="2286000"/>
          <a:ext cx="8229600" cy="2824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ные 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вропеоидная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нголоидная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роидная  р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, г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рас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 rot="20766000">
            <a:off x="357120" y="9284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СПАСИБО  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ЗА  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деление ветви человеческих предков от предков обезьян произошло от 3 до 5 млн. лет назад. Примерно 30 – 40 тыс. лет назад возник современный биологический вид – человек разумный  (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Homo  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8143920" cy="43574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480" y="285840"/>
            <a:ext cx="4786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 многие тясячелетия  физический облик человеческих существ претерпел изменения. Шёл естественный отбор: выживали и давали потомство организмы, наиболее приспособленные к особенностям мест обитания. Людей на Земле было немного. Отдельные их группы жили далеко одна от другой, в резко отличавшихся природных  условиях. Исторически складывались группы людей - р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европеиодная раса"/>
          <p:cNvPicPr/>
          <p:nvPr/>
        </p:nvPicPr>
        <p:blipFill>
          <a:blip r:embed="rId1"/>
          <a:stretch/>
        </p:blipFill>
        <p:spPr>
          <a:xfrm rot="745800">
            <a:off x="6654960" y="163440"/>
            <a:ext cx="17618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сахаптины"/>
          <p:cNvPicPr/>
          <p:nvPr/>
        </p:nvPicPr>
        <p:blipFill>
          <a:blip r:embed="rId2"/>
          <a:stretch/>
        </p:blipFill>
        <p:spPr>
          <a:xfrm>
            <a:off x="6072120" y="2857680"/>
            <a:ext cx="247176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d2d8a"/>
                </a:solidFill>
                <a:latin typeface="Monotype Corsiva"/>
              </a:rPr>
              <a:t>Это исторически сложившаяся группа людей, объединенных общностью происхождения, территорией проживания, общими морфологическими и физиологическими наследственными особенностями, а также традициями и обыча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1"/>
          <a:stretch/>
        </p:blipFill>
        <p:spPr>
          <a:xfrm>
            <a:off x="1494000" y="85680"/>
            <a:ext cx="637056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071880" y="928800"/>
            <a:ext cx="3214800" cy="628560"/>
          </a:xfrm>
          <a:prstGeom prst="rect">
            <a:avLst/>
          </a:prstGeom>
          <a:noFill/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Monotype Corsiva"/>
              </a:rPr>
              <a:t>Рас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24000" y="2708280"/>
            <a:ext cx="374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Монгол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азиатско-американ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2714400" y="1773360"/>
            <a:ext cx="849240" cy="655560"/>
          </a:xfrm>
          <a:prstGeom prst="line">
            <a:avLst/>
          </a:prstGeom>
          <a:ln w="22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643120" y="3714840"/>
            <a:ext cx="3743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Monotype Corsiva"/>
              </a:rPr>
              <a:t>       </a:t>
            </a: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Европе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евразий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572000" y="1857240"/>
            <a:ext cx="46080" cy="17146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148360" y="2643120"/>
            <a:ext cx="3743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Негрои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</a:rPr>
              <a:t>(экваториальн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796000" y="1773360"/>
            <a:ext cx="990720" cy="869760"/>
          </a:xfrm>
          <a:prstGeom prst="line">
            <a:avLst/>
          </a:prstGeom>
          <a:ln w="22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моноголоидная раса"/>
          <p:cNvPicPr/>
          <p:nvPr/>
        </p:nvPicPr>
        <p:blipFill>
          <a:blip r:embed="rId1"/>
          <a:stretch/>
        </p:blipFill>
        <p:spPr>
          <a:xfrm>
            <a:off x="500040" y="3643200"/>
            <a:ext cx="1981080" cy="228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негроидная раса"/>
          <p:cNvPicPr/>
          <p:nvPr/>
        </p:nvPicPr>
        <p:blipFill>
          <a:blip r:embed="rId2"/>
          <a:stretch/>
        </p:blipFill>
        <p:spPr>
          <a:xfrm>
            <a:off x="6572160" y="3643200"/>
            <a:ext cx="192888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3"/>
          <a:stretch/>
        </p:blipFill>
        <p:spPr>
          <a:xfrm>
            <a:off x="3714840" y="5000760"/>
            <a:ext cx="178596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14392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едставители негроидной ра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 rot="21190800">
            <a:off x="979560" y="1638000"/>
            <a:ext cx="3730680" cy="396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397188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ставители европеоидной ра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 rot="20617200">
            <a:off x="692280" y="1724040"/>
            <a:ext cx="2663640" cy="327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857680" y="2643120"/>
            <a:ext cx="2523960" cy="3810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5500800" y="3929040"/>
            <a:ext cx="34574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6:55:01Z</dcterms:created>
  <dc:creator>hobbit</dc:creator>
  <dc:description/>
  <dc:language>en-US</dc:language>
  <cp:lastModifiedBy>Санек</cp:lastModifiedBy>
  <dcterms:modified xsi:type="dcterms:W3CDTF">2011-09-10T11:36:22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2d0000000000010243100207f6000400038000</vt:lpwstr>
  </property>
</Properties>
</file>