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343-AA8A-4512-BE7B-693A549F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70B-3F7B-4D34-87FF-0858975C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1C1-CEA9-4A43-BC00-75E9BC11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CE0-9B02-4224-A7C7-8A7E10C8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FFC-ACFA-44D4-9508-39A93AA2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FFB-8C07-4897-81BA-F6844D6A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2FB-6839-418E-A378-6AA8DECB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81F-89D5-4DE3-8D46-19DAAD5E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78E-0CC4-4BCA-AE3E-84E1E3D5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7F1-F757-48BE-BF3F-D6E6D696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C73-23E9-461A-88FB-108EB98D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E62-C612-49C2-B165-6FECDE74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5F62-781E-4C6B-996B-5341849FD7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71680" y="400068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 rot="20419200">
            <a:off x="555480" y="585360"/>
            <a:ext cx="2576520" cy="24703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3127320" y="60480"/>
            <a:ext cx="6394680" cy="3944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01"/>
          <p:cNvPicPr/>
          <p:nvPr/>
        </p:nvPicPr>
        <p:blipFill>
          <a:blip r:embed="rId3"/>
          <a:stretch/>
        </p:blipFill>
        <p:spPr>
          <a:xfrm>
            <a:off x="285840" y="3857760"/>
            <a:ext cx="1828800" cy="2636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-1"/>
          <p:cNvPicPr/>
          <p:nvPr/>
        </p:nvPicPr>
        <p:blipFill>
          <a:blip r:embed="rId4"/>
          <a:stretch/>
        </p:blipFill>
        <p:spPr>
          <a:xfrm>
            <a:off x="2500200" y="3857760"/>
            <a:ext cx="1714680" cy="2643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suka"/>
          <p:cNvPicPr/>
          <p:nvPr/>
        </p:nvPicPr>
        <p:blipFill>
          <a:blip r:embed="rId5"/>
          <a:stretch/>
        </p:blipFill>
        <p:spPr>
          <a:xfrm>
            <a:off x="4643280" y="3857760"/>
            <a:ext cx="1928880" cy="2643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Эфиопия. Племя Мурзи (22 фото)"/>
          <p:cNvPicPr/>
          <p:nvPr/>
        </p:nvPicPr>
        <p:blipFill>
          <a:blip r:embed="rId6"/>
          <a:stretch/>
        </p:blipFill>
        <p:spPr>
          <a:xfrm>
            <a:off x="6929280" y="3857760"/>
            <a:ext cx="194184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едставители  монголоидной  р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2481120" cy="2857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2428920" y="300024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6357960" y="1714680"/>
            <a:ext cx="2286000" cy="2786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4857840" y="30002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5"/>
          <a:stretch/>
        </p:blipFill>
        <p:spPr>
          <a:xfrm>
            <a:off x="3643200" y="4486320"/>
            <a:ext cx="199080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аполните таблиц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71680" y="2286000"/>
          <a:ext cx="8229600" cy="2824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ные 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вропеоидная р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нголоидная р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гроидная  р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, гу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ко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рас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 rot="20766000">
            <a:off x="357120" y="9284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СПАСИБО  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ЗА  ВНИМА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тделение ветви человеческих предков от предков обезьян произошло от 3 до 5 млн. лет назад. Примерно 30 – 40 тыс. лет назад возник современный биологический вид – человек разумный  (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Homo   Sapi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00040" y="2214720"/>
            <a:ext cx="8143920" cy="435744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cover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5480" y="285840"/>
            <a:ext cx="47862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а многие тясячелетия  физический облик человеческих существ претерпел изменения. Шёл естественный отбор: выживали и давали потомство организмы, наиболее приспособленные к особенностям мест обитания. Людей на Земле было немного. Отдельные их группы жили далеко одна от другой, в резко отличавшихся природных  условиях. Исторически складывались группы людей - ра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европеиодная раса"/>
          <p:cNvPicPr/>
          <p:nvPr/>
        </p:nvPicPr>
        <p:blipFill>
          <a:blip r:embed="rId1"/>
          <a:stretch/>
        </p:blipFill>
        <p:spPr>
          <a:xfrm rot="745800">
            <a:off x="6654960" y="163440"/>
            <a:ext cx="17618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сахаптины"/>
          <p:cNvPicPr/>
          <p:nvPr/>
        </p:nvPicPr>
        <p:blipFill>
          <a:blip r:embed="rId2"/>
          <a:stretch/>
        </p:blipFill>
        <p:spPr>
          <a:xfrm>
            <a:off x="6072120" y="2857680"/>
            <a:ext cx="247176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d2d8a"/>
                </a:solidFill>
                <a:latin typeface="Monotype Corsiva"/>
              </a:rPr>
              <a:t>Это исторически сложившаяся группа людей, объединенных общностью происхождения, территорией проживания, общими морфологическими и физиологическими наследственными особенностями, а также традициями и обыча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рямоугольник 5" descr=""/>
          <p:cNvPicPr/>
          <p:nvPr/>
        </p:nvPicPr>
        <p:blipFill>
          <a:blip r:embed="rId1"/>
          <a:stretch/>
        </p:blipFill>
        <p:spPr>
          <a:xfrm>
            <a:off x="1494000" y="85680"/>
            <a:ext cx="637056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3071880" y="928800"/>
            <a:ext cx="3214800" cy="628560"/>
          </a:xfrm>
          <a:prstGeom prst="rect">
            <a:avLst/>
          </a:prstGeom>
          <a:noFill/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33"/>
                </a:solidFill>
                <a:latin typeface="Monotype Corsiva"/>
              </a:rPr>
              <a:t>Расы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24000" y="2708280"/>
            <a:ext cx="374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Монголои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(азиатско-американск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 flipH="1">
            <a:off x="2714400" y="1773360"/>
            <a:ext cx="849240" cy="655560"/>
          </a:xfrm>
          <a:prstGeom prst="line">
            <a:avLst/>
          </a:prstGeom>
          <a:ln w="22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2643120" y="3714840"/>
            <a:ext cx="3743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Monotype Corsiva"/>
              </a:rPr>
              <a:t>       </a:t>
            </a: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Европеои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(евразийск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4572000" y="1857240"/>
            <a:ext cx="46080" cy="171468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5148360" y="2643120"/>
            <a:ext cx="3743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Негрои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(экваториальна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5796000" y="1773360"/>
            <a:ext cx="990720" cy="869760"/>
          </a:xfrm>
          <a:prstGeom prst="line">
            <a:avLst/>
          </a:prstGeom>
          <a:ln w="22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моноголоидная раса"/>
          <p:cNvPicPr/>
          <p:nvPr/>
        </p:nvPicPr>
        <p:blipFill>
          <a:blip r:embed="rId1"/>
          <a:stretch/>
        </p:blipFill>
        <p:spPr>
          <a:xfrm>
            <a:off x="500040" y="3643200"/>
            <a:ext cx="1981080" cy="228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негроидная раса"/>
          <p:cNvPicPr/>
          <p:nvPr/>
        </p:nvPicPr>
        <p:blipFill>
          <a:blip r:embed="rId2"/>
          <a:stretch/>
        </p:blipFill>
        <p:spPr>
          <a:xfrm>
            <a:off x="6572160" y="3643200"/>
            <a:ext cx="192888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3"/>
          <a:stretch/>
        </p:blipFill>
        <p:spPr>
          <a:xfrm>
            <a:off x="3714840" y="5000760"/>
            <a:ext cx="178596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814392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99760" y="21384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едставители негроидной р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 rot="21190800">
            <a:off x="979560" y="1638000"/>
            <a:ext cx="3730680" cy="396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714920" y="2571840"/>
            <a:ext cx="397188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редставители европеоидной р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 rot="20617200">
            <a:off x="692280" y="1724040"/>
            <a:ext cx="2663640" cy="327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2857680" y="2643120"/>
            <a:ext cx="2523960" cy="381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5500800" y="3929040"/>
            <a:ext cx="345744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6:55:01Z</dcterms:created>
  <dc:creator>hobbit</dc:creator>
  <dc:description/>
  <dc:language>en-US</dc:language>
  <cp:lastModifiedBy>Санек</cp:lastModifiedBy>
  <dcterms:modified xsi:type="dcterms:W3CDTF">2011-09-10T11:36:22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2d0000000000010243100207f6000400038000</vt:lpwstr>
  </property>
</Properties>
</file>