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6E2-5AE4-41FC-94F9-BF51EC44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075-147D-43D9-B355-83F3E112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2EF-D66A-490E-8434-9FBB9B12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7BE-9D03-4991-BA67-19F352E1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5CD0-4283-41A7-A078-290BD247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C9BC-37F5-4313-896A-20177F62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8A7E-4F2B-47FB-B853-17E00F21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00A1-9FC0-4619-B786-5CC0C662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A995-DEDA-4EC7-B170-01CFDBCC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7715-77F8-459E-B224-168A1773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9BCA-657B-43C1-98F1-050720DD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3F3-1140-4EF2-82A5-E649E134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5AD5-C9B3-4CB0-9256-537DAA5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5BFE-38DF-40F7-A619-10D604D3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84A8-744C-4EBE-A0DF-3998F939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2C0A-0113-4D4A-8306-B6A7167E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E73D-71C7-4E47-A9EC-4D729368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ADE7-797E-4E6F-9DFC-B1D5579D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A8D4-F640-4CB6-AE6E-1925883F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BCD6-B042-47E4-B4C3-CE566462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AA7A-E4AC-414F-BA97-D0244FDF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FCB1-B650-4137-ACA6-91B2D4BB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E4F-4F99-4736-BD7F-40E1EB73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3ADD-FE8D-4FC6-8AC4-890D7F89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60ED-5C23-4E46-8069-B6F738B3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04AE-C9EE-4AF0-881C-FC09934A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45F0-D607-4E1E-8DC6-EB48B7A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9F629-A2D1-4A9D-80C0-3FB9EEEE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AE84-B23D-4F31-9D75-6D0108B1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DC99-2649-4611-BA07-C6BCEB5C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8AF7-D6DF-4D9A-B78C-834D7E0A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8261-8B52-4AD2-95F2-C8C7B376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CC1E-866F-4110-99A2-8701E373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F31-4888-4BFD-875E-AC5E7776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550A-5EC5-489E-BBB5-59B8F280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1E901-43CA-4AE1-8936-18ABAC07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017F6-7D3E-482C-B46B-1AA9919D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B514-AC0C-4F08-94FE-10A631CD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DF6B-2532-427F-89A4-1954D571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DC824-D58B-449F-8B5A-4C5420AF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0D45-2602-42A2-8F72-8D10BCD4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8083-0018-48B2-B42F-4F8A5389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A716-EF9C-4864-AB14-6CC330BC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1D687-A589-437F-AD65-FF7AFB95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5A2-0AC1-43F6-BE9F-71BC9C5B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CC2F-2554-4482-9638-98CD912D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82E44-5416-401C-BC15-2FF31CA3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CBB28-7835-4B66-B27C-B49ECABC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384F-16F4-4E45-BA7C-2FBAA69B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7982F-F08D-485D-A657-C3ED97EB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0717-42ED-40F3-80C9-5DD8D2F6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CAF6A-4184-4C2B-BF60-30516401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BA165-ECC9-48BB-A97D-DB05A963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50BA3-A655-4BFB-8A6B-3E01786F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4E20-EF35-4E99-A364-DEAC4ABE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37D-7564-4204-A0C8-98C005BB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1A687-2CBA-42EA-8AD1-D666C7C7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901EB-F7AC-49F9-950A-2EC57D6C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9E07D-AE17-4C61-A3ED-A522AC6B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CD60D-8FA1-4D82-A0F7-B64484FA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DB715-D274-48A1-9697-16A86883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35221-3545-4272-A0E7-53E2B550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9EAC3-5E7E-4E5D-8386-A8A8BC58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23B65C-04B4-468D-9636-11CBA3E4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E0179-1E34-4FBF-AFB4-EE0BCC15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009A0-3F6E-4CF0-AFC9-1099E26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C92-8D9E-4806-AB51-9F3B7AD8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EE9B4-3B99-48B5-8950-8F8E7C0B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1A98A-4152-45FD-9F26-CAED26FA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8DEF7-E035-415E-BBFD-7EABC51D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21A-8C46-4896-ABC2-F5EC0A94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978-A828-448D-9E9A-3566D493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e1e"/>
            </a:gs>
            <a:gs pos="100000">
              <a:srgbClr val="7b7b7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D8A7-FB95-4CFF-90D3-BED8BF349EF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64DE-46FF-4883-9883-26654F1E4E0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4BCE-3DA2-4559-9083-3AA91BE2663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b587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854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FB60-34CC-41CE-9B94-5C7B3AFB309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5FD6-05B5-4517-B208-9B302A651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2753-3E5D-471C-8A11-4A8F0956E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ые популярные и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жские: Андрей, Никита, Артём, Макс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нские: Валерия, Полина, Вероника, Викто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дкие и необычные име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жские: Ярослав, Юрий, Тимур, Тигр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ские: Эмилия, Софья, Светлана, Натал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озраст матери рождённого ребён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лет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-20лет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-30-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1-40лет-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1год истарше-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регистрировано семей, имеющи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го ребёнка-8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оих детей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их детей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тверых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ять детей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есть детей и более-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по 2010 г. рождение, смерть, расторжение брака и количества детей при разводах заметно уменьшается. Заключение брака, наоборот, увеличивается. Естественный прирост населения составляет 43 – 63 человек, что в принципе не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3 по 2010г. рождение, смерть, расторжение брака и количества детей при разводах  увеличивается, но заключение брака уменьшается. Естественный прирост населения – 63-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4 по 2010 г. рождение, заключение, расторжение брака и количества детей при разводах опять уменьшается, но смертность увеличивается. Естественный прирост населения – 82-61, это уже можно назвать демографическим кризисом, а это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 2005 по 2010г. рождение, смертность уменьшается, а заключение и расторжение брака, количество детей при разводах – увеличивается. Естественный прирост населения – 61-44, это как и в предыдущей ситуации – плох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С каждым годом, начиная с 2004 по 2010г, в городском округе ЗАТО Светлый преобладает демографический криз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Заключение браков уменьш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Предлож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тобы разрядить сложившуюся ситуацию нужно, в первую очередь, улучшать отношения с люд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мертность увеличивается потому что люди не заботятся о своем здоровье – надо думать о себе, о будущ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анные предоставила руководитель органа ЗАГС  А.С. Михайлюк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9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Инфраструктур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пос. Светлый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Промышл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мышленность городского округа ЗАТО Светлый представлена двумя муниципальными предприятиями: МУП «ЖКХ» и МУП «Пекарн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продукции МУП «Пекарня»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10 года составил 515,2 тыс. руб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производства МУП «ЖКХ» - 55 309, тыс. рублей, что в 1,15 раз больше, чем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лугодии 2009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Проект по географическому краеведенью</a:t>
            </a:r>
            <a:br>
              <a:rPr sz="3600"/>
            </a:br>
            <a:br>
              <a:rPr sz="3600"/>
            </a:b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«Население п. Светлы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692360" y="522936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Выполнила ученица 10 « А» класса Немтырева Лидия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уководитель Курбатова  Людмила Францевн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Учитель географии СОШ №2 городского округа п.Светлый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2960" y="39204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ы производства продукции промышленных предприятий ЗАТО Светлый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угодии 2010 г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00040" y="2214720"/>
          <a:ext cx="8429760" cy="3152520"/>
        </p:xfrm>
        <a:graphic>
          <a:graphicData uri="http://schemas.openxmlformats.org/drawingml/2006/table">
            <a:tbl>
              <a:tblPr/>
              <a:tblGrid>
                <a:gridCol w="2271600"/>
                <a:gridCol w="1229040"/>
                <a:gridCol w="1703160"/>
                <a:gridCol w="1612800"/>
                <a:gridCol w="16131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. изм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.07.2008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09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е на 01.07.2010 г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Пекарня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749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5, 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156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П «ЖКХ» в т.ч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ыс. руб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519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001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 306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населению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316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948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372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слуги предпринимателя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204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053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934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Дошкольные учреж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42960" y="1065240"/>
          <a:ext cx="7674120" cy="450864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дошкольных учреждениях – всего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дошкольных учреждений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70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щеобразов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28760" y="777960"/>
          <a:ext cx="8286480" cy="527508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ест в общеобразовательных школах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8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площадь зданий общеобразовательных учрежде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28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учащихся в государственных и муниципальных общеобразовательных школ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ельный вес учащихся дневных общеобразовательных учреждений, занимающихся во вторую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7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ачебные больничные учреждения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больничных коек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1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28760" y="777960"/>
          <a:ext cx="8286480" cy="51116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еременных женщин и рожениц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коек для больных людей -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йко/ме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рачебные больнич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28760" y="777960"/>
          <a:ext cx="8286480" cy="534024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рачебных амбулаторно-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щность врачебных амбулаторно- поликлинических учреждений –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ещений в смен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по формам собственности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дер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 Российской Федерац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9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убы и развлекательные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28760" y="571680"/>
          <a:ext cx="8286480" cy="6141960"/>
        </p:xfrm>
        <a:graphic>
          <a:graphicData uri="http://schemas.openxmlformats.org/drawingml/2006/table">
            <a:tbl>
              <a:tblPr/>
              <a:tblGrid>
                <a:gridCol w="771480"/>
                <a:gridCol w="4228920"/>
                <a:gridCol w="1571760"/>
                <a:gridCol w="1714320"/>
              </a:tblGrid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зрительских мест в клубах и учреждения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общедоступных библиот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музее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арков культуры и отдых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детских музыкальных, художественных, хореографических школ и школ искус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ная мощность указанных шко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тивные залы -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9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ссейны плавательные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зеркала воды - всего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скостные сооружения (стадионы, спортивные площадки)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-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. мет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55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2"/>
          <a:stretch/>
        </p:blipFill>
        <p:spPr>
          <a:xfrm>
            <a:off x="420840" y="1438200"/>
            <a:ext cx="7022880" cy="24386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28760" y="40719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населения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Структура трудоспособного насел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Содержимое 3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ЦЕЛЬ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ть у учащихся любовь к своей малой родине. Принять активное участие в решении проблем, связанных с реализацией национального проекта в области образования, здравоохранения и социального развития посел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Структура профессиональной деятельности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ая соединительная линия 5"/>
          <p:cNvSpPr/>
          <p:nvPr/>
        </p:nvSpPr>
        <p:spPr>
          <a:xfrm flipV="1">
            <a:off x="1071720" y="3714840"/>
            <a:ext cx="35712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ая служб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57120" y="2785680"/>
            <a:ext cx="41436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енность военнослужащих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городке составляет 5 тыс.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Рисунок 5" descr="хорошая.JPG"/>
          <p:cNvPicPr/>
          <p:nvPr/>
        </p:nvPicPr>
        <p:blipFill>
          <a:blip r:embed="rId2"/>
          <a:stretch/>
        </p:blipFill>
        <p:spPr>
          <a:xfrm>
            <a:off x="4357800" y="19288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500040" y="3071880"/>
            <a:ext cx="4429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ников в образовательных учреждениях около 250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Рисунок 4" descr="DSC01335.JPG"/>
          <p:cNvPicPr/>
          <p:nvPr/>
        </p:nvPicPr>
        <p:blipFill>
          <a:blip r:embed="rId2"/>
          <a:stretch/>
        </p:blipFill>
        <p:spPr>
          <a:xfrm>
            <a:off x="5072040" y="3143160"/>
            <a:ext cx="180972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7" descr="DSC01366.JPG"/>
          <p:cNvPicPr/>
          <p:nvPr/>
        </p:nvPicPr>
        <p:blipFill>
          <a:blip r:embed="rId3"/>
          <a:stretch/>
        </p:blipFill>
        <p:spPr>
          <a:xfrm>
            <a:off x="642924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8" descr="DSC01359.JPG"/>
          <p:cNvPicPr/>
          <p:nvPr/>
        </p:nvPicPr>
        <p:blipFill>
          <a:blip r:embed="rId4"/>
          <a:stretch/>
        </p:blipFill>
        <p:spPr>
          <a:xfrm>
            <a:off x="3857760" y="20718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9" descr="DSC01360.JPG"/>
          <p:cNvPicPr/>
          <p:nvPr/>
        </p:nvPicPr>
        <p:blipFill>
          <a:blip r:embed="rId5"/>
          <a:stretch/>
        </p:blipFill>
        <p:spPr>
          <a:xfrm>
            <a:off x="3857760" y="407196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6" descr="DSC01363.JPG"/>
          <p:cNvPicPr/>
          <p:nvPr/>
        </p:nvPicPr>
        <p:blipFill>
          <a:blip r:embed="rId6"/>
          <a:stretch/>
        </p:blipFill>
        <p:spPr>
          <a:xfrm>
            <a:off x="6429240" y="4071960"/>
            <a:ext cx="1809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ские учрежден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Содержимое 2"/>
          <p:cNvSpPr/>
          <p:nvPr/>
        </p:nvSpPr>
        <p:spPr>
          <a:xfrm>
            <a:off x="428760" y="2857680"/>
            <a:ext cx="4643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СЧ и военном госпитале работ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70 человек, из них в МСЧ - 24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Содержимое 6" descr="P1010133.JPG"/>
          <p:cNvPicPr/>
          <p:nvPr/>
        </p:nvPicPr>
        <p:blipFill>
          <a:blip r:embed="rId2"/>
          <a:stretch/>
        </p:blipFill>
        <p:spPr>
          <a:xfrm>
            <a:off x="5149800" y="2398680"/>
            <a:ext cx="3471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енно-важные предприят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85480" y="2643120"/>
            <a:ext cx="49006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УП Пекарня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ет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ЭЧ – более 50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троительной воинской части – 240 человек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фере обслуживания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0 человек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АО «Таймер» заняты около 220 человек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Рисунок 7" descr="DSC01338.JPG"/>
          <p:cNvPicPr/>
          <p:nvPr/>
        </p:nvPicPr>
        <p:blipFill>
          <a:blip r:embed="rId2"/>
          <a:stretch/>
        </p:blipFill>
        <p:spPr>
          <a:xfrm>
            <a:off x="5000760" y="2357280"/>
            <a:ext cx="27860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сновываясь на проведенном исследовании можно сделать следующие вывод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емографическая ситуация в пос. Светлый по основным критериям соответствует показателям Саратовской области и общероссийским показателям.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оводимые мероприятия администрацией пос. Светлый направленные на стабилизацию и рост  численности населения в п. Светлый дают желаемые результ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посёлке Светлый ведётся активная работа по снижению безработицы путём формирования новых рабочих ме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деляется большое внимание развитию детских дошкольных и школьных учрежден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школе проводится большая разъяснительная и воспитательная  работа среди учащихся  направленная  на  развитие семейных ценностей. Что должно привести в будущем к снижению разводов среди молодёжи и рождению дет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я школы  совместно с центром занятости населения в п. Светлом помогают учащимся стать эффективными «диагностами» своей карьеры и принять правильное решение при выборе  будущей професс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инять меры по улучшению просветительской работы среди населения по мерам предотвращения заболеваемости. Привлечь высококвалифицированные рабочие кадры для работы в поликлинике и больнице п.Светлы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снить численность населения п. Светлый. И ее влияние на развитие инфраструктуры в посел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количество рождающихся и умерших людей в п. Светлый, а также количество заключенных браков и расторгаемых браков. По результатам полученных исследований предложить меры направленные на устранение причин влияющих на вышеуказанные показател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следовать рынок труда и занятость в п. Светлый. Выявить причины безработицы в поселке и предложить пути выхода из сложившейся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71640" y="162828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Численность населения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Демографические показатели численности нас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14240" y="1000080"/>
          <a:ext cx="7929720" cy="5224680"/>
        </p:xfrm>
        <a:graphic>
          <a:graphicData uri="http://schemas.openxmlformats.org/drawingml/2006/table">
            <a:tbl>
              <a:tblPr/>
              <a:tblGrid>
                <a:gridCol w="3357720"/>
                <a:gridCol w="1643040"/>
                <a:gridCol w="1500120"/>
                <a:gridCol w="14288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нварь-июн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енность населения, (среднегодовая), 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8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9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1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одившихся (человек)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льч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cc00"/>
                        </a:buClr>
                        <a:buSzPct val="12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воч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умерших (челове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бра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о развод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й прирост (на 1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даем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ертность (на 1000 населен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Object 2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се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3640" y="3629520"/>
            <a:ext cx="2588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2960" y="692280"/>
          <a:ext cx="7674120" cy="5744880"/>
        </p:xfrm>
        <a:graphic>
          <a:graphicData uri="http://schemas.openxmlformats.org/drawingml/2006/table">
            <a:tbl>
              <a:tblPr/>
              <a:tblGrid>
                <a:gridCol w="714240"/>
                <a:gridCol w="3643560"/>
                <a:gridCol w="1627200"/>
                <a:gridCol w="16891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ения показ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Численность постоянного насел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8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2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пенсионеров,  имеющих ограниченные способности к трудовой деятель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 дети -инвалид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 – все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7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них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0 до 6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7 до 17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6 до 15 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 детей, состоящих на учете для определения в дошкольное учреждени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7" name="Object 56" descr=""/>
          <p:cNvPicPr/>
          <p:nvPr/>
        </p:nvPicPr>
        <p:blipFill>
          <a:blip r:embed="rId2"/>
          <a:stretch/>
        </p:blipFill>
        <p:spPr>
          <a:xfrm>
            <a:off x="8902800" y="0"/>
            <a:ext cx="24120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Демографическая ситуаци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f4a09"/>
                </a:solidFill>
                <a:latin typeface="Tahoma"/>
              </a:rPr>
              <a:t>в пос. Светлы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Monotype Corsiva"/>
              </a:rPr>
              <a:t>Сведения о количестве зарегистрированных актов гражданского состояния о рождении, смерти, заключении брака, расторжении брака в городском округе ЗАТО Светлый Саратовской области с 01.01.2010 по 31.12.2010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24000" y="2133720"/>
          <a:ext cx="8351640" cy="4519440"/>
        </p:xfrm>
        <a:graphic>
          <a:graphicData uri="http://schemas.openxmlformats.org/drawingml/2006/table">
            <a:tbl>
              <a:tblPr/>
              <a:tblGrid>
                <a:gridCol w="3392280"/>
                <a:gridCol w="1000080"/>
                <a:gridCol w="1008000"/>
                <a:gridCol w="863640"/>
                <a:gridCol w="1008360"/>
                <a:gridCol w="10792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. Ро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альчи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дев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. Смер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мужч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женщ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. Заключ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. Расторжение бр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 осталось детей при разводах в неполных семь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395280" y="587700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7:22:17Z</dcterms:created>
  <dc:creator>Helen</dc:creator>
  <dc:description/>
  <dc:language>en-US</dc:language>
  <cp:lastModifiedBy>Kurbatoff</cp:lastModifiedBy>
  <dcterms:modified xsi:type="dcterms:W3CDTF">2011-03-22T11:02:21Z</dcterms:modified>
  <cp:revision>63</cp:revision>
  <dc:subject/>
  <dc:title>Занятость насе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20000000000010250300207f7000400038000</vt:lpwstr>
  </property>
</Properties>
</file>