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5A8E-A162-4F06-A9E0-62DA8A47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2EFC-62C1-40B8-8B5D-AD7E118F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11A0-5D2F-4B30-9B22-E31C2D4D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E7B1-21D0-4965-B35B-E5055F66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6487-C46D-4DC9-BBE6-5242B0DD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DE71-81C4-40FB-8B3E-06FB2ADF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9D91-FFF8-4C99-B06F-EF2ADA76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8A47-05DF-49D3-8068-7066A82E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AED8-8C9C-4829-9ECC-C53606F8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E27D-9E7C-4999-B151-702C9336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357A-B681-460A-84EF-E3275EEC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556E-97D8-47D7-A131-5BF8DEAA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3FED-8A78-43E5-A3D8-4D9F4F64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9004-8BF3-4ABA-AC87-07DAEA4C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D94B-5FB2-4C23-8178-B964BAFF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19D3-DE11-4607-8AA3-3F4D5FAA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5A4A-A59C-4A37-9D47-D1907FD5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701A3-85B4-41AF-97EC-3D62B131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B62F8-AD50-4F21-80C9-1F977810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92F7A-FFFA-4C2F-A681-80648933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A640D-80BA-4359-9F47-DCF57317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0EFA0-E295-47CE-BC76-6234E3EE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F05-BF71-461B-B39B-46441630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77DD0-3200-4405-968C-EF85FAAB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11A76-362F-46CD-9441-E5A9BD24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47A9C-6C29-41F7-8F59-BC371165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0748E-9A4A-4458-9C5A-67D48E5F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65403-92BD-4066-A7C8-FDB018ED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4FFBF-CF7C-4BED-819B-81DE547D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D1B2F-FF72-4E80-8D0A-C6E4B2E1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6A089-E5EC-4E76-A823-F2AA2BC7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6CE18-DB91-4D2B-BC72-4E33988C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DA3E4-AB93-489A-A592-A77E6571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4F29-E118-404C-B84B-9316541E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85357-274F-4C82-81AB-88964DF1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E882D-0BD4-45AB-886D-E835074A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85735-BC64-45B2-A5B4-C1E66A94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07964-38EC-4B23-BC06-B91CAFB1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BEF28-42DB-451B-B26B-3FBBAD42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002E9-27A7-4261-8769-5B442015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0355D-CBC3-47F4-A89A-A964E58E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E8E5C-DA1F-4B39-837D-DC43D300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0D3A5-2D0F-4C43-A21C-7CE44557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4831E-F66A-4D84-96D7-FDCBF9E8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26A-D9AC-4AB3-B938-C254A625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17412-5671-45AF-A5C8-1A41F77C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64323-1402-4656-AAF2-F478EE52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5A627-A3CE-44F8-A3CB-A9129403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90796-0ACC-49CC-8DAD-C80BC8FA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FB3B0-36D7-4C63-9382-0FA1974E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E140D-8196-4BEC-874D-B30D179C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8E1EE-75AA-419F-8A44-73F2662D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7F0F6-5EE8-40BB-A1FE-FDCC6761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8BFE0-0B0B-449F-A432-AEAFAFD5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DE59F-1F65-4779-8560-A61245D0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09B9-D39B-4629-8351-129CEAB0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AFB7A-BC35-471E-BA67-9F3BF2CE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52B84C-FEAE-4FC8-9C5F-8409C96F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E25C96-5C77-4D57-AB3F-9DCC12DE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4547B2-CBB4-4305-8D2E-EA94A433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2FCA85-16E2-4F4B-834F-ED4FD66F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5B2F99-B85C-4BE8-B7A0-7B4D3582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8944C0-8269-41B6-AC1B-7D12AC91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D73B09-5623-4D68-8D3E-FAB87800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DE58D4-18AE-407E-A60A-4FE5DED6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FE0016-8411-4947-8982-0B2DF4AB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F1B7-D55C-4CEE-BBCE-394E8636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AFCB3B-2010-45B1-8364-586727A9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53FB62-7E5F-42A1-B1E3-EEF8E27D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77249A-3B42-452D-83FF-054B22E3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10B7-D002-4763-8989-B81FC460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DAA-A04F-4827-AA6D-77269B21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e1e"/>
            </a:gs>
            <a:gs pos="100000">
              <a:srgbClr val="7b7b7b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CE88-E6A0-498B-89F1-FAA83376CD8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EB9D-F16C-4351-90F4-14BF16D0D7C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8804-62F8-4D22-BC6B-A489CE85136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6658-697E-4AA5-964B-882BBDB0F06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8423-4160-48EC-8A8F-9005372A9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57E3-27CE-494B-92C3-8ABF62D061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амые популярные име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ужские: Андрей, Никита, Артём, Макс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енские: Валерия, Полина, Вероника, Виктор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едкие и необычные имен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жские: Ярослав, Юрий, Тимур, Тигра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енские: Эмилия, Софья, Светлана, Наталь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озраст матери рождённого ребёнк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лет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лет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лет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лет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-20лет-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1-30-1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1-40лет-3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1год истарше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регистрировано семей, имеющи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го ребёнка-8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воих детей-5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оих детей-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тверых детей-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ять детей-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есть детей и более-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Анализ данн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 2003по 2010 г. рождение, смерть, расторжение брака и количества детей при разводах заметно уменьшается. Заключение брака, наоборот, увеличивается. Естественный прирост населения составляет 43 – 63 человек, что в принципе неплох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 2003 по 2010г. рождение, смерть, расторжение брака и количества детей при разводах  увеличивается, но заключение брака уменьшается. Естественный прирост населения – 63-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Анализ данн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 2004 по 2010 г. рождение, заключение, расторжение брака и количества детей при разводах опять уменьшается, но смертность увеличивается. Естественный прирост населения – 82-61, это уже можно назвать демографическим кризисом, а это плох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 2005 по 2010г. рождение, смертность уменьшается, а заключение и расторжение брака, количество детей при разводах – увеличивается. Естественный прирост населения – 61-44, это как и в предыдущей ситуации – плох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С каждым годом, начиная с 2004 по 2010г, в городском округе ЗАТО Светлый преобладает демографический криз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Заключение браков уменьша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Предлож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Чтобы разрядить сложившуюся ситуацию нужно, в первую очередь, улучшать отношения с людь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мертность увеличивается потому что люди не заботятся о своем здоровье – надо думать о себе, о будущ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Данные предоставила руководитель органа ЗАГС  А.С. Михайлюк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71640" y="1628280"/>
            <a:ext cx="6480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Инфраструктура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пос. Светлый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Промышлен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мышленность городского округа ЗАТО Светлый представлена двумя муниципальными предприятиями: МУП «ЖКХ» и МУП «Пекарня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м производства продукции МУП «Пекарня»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олугодии 2010 года составил 515,2 тыс. руб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м производства МУП «ЖКХ» - 55 309, тыс. рублей, что в 1,15 раз больше, чем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олугодии 2009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Проект по географическому краеведенью</a:t>
            </a:r>
            <a:br>
              <a:rPr sz="3600"/>
            </a:br>
            <a:br>
              <a:rPr sz="3600"/>
            </a:b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«Население п. Светлый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692360" y="522936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Выполнила ученица 10 « А» класса Немтырева Лидия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Руководитель Курбатова  Людмила Францевна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Учитель географии СОШ №2 городского округа п.Светлый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42960" y="39204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мы производства продукции промышленных предприятий ЗАТО Светлый в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лугодии 2010 г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00040" y="2214720"/>
          <a:ext cx="8429760" cy="3152520"/>
        </p:xfrm>
        <a:graphic>
          <a:graphicData uri="http://schemas.openxmlformats.org/drawingml/2006/table">
            <a:tbl>
              <a:tblPr/>
              <a:tblGrid>
                <a:gridCol w="2271600"/>
                <a:gridCol w="1229040"/>
                <a:gridCol w="1703160"/>
                <a:gridCol w="1612800"/>
                <a:gridCol w="161316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. изм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ие н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.07.2008 г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ие на 01.07.2009 г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ие на 01.07.2010 г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П «Пекарня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ыс. руб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749,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155, 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156,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П «ЖКХ» в т.ч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ыс. руб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 519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001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 306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Услуги населению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 316,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948,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 372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Услуги предпринимателям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204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 053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934,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9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Дошкольные учрежд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42960" y="1065240"/>
          <a:ext cx="7674120" cy="4508640"/>
        </p:xfrm>
        <a:graphic>
          <a:graphicData uri="http://schemas.openxmlformats.org/drawingml/2006/table">
            <a:tbl>
              <a:tblPr/>
              <a:tblGrid>
                <a:gridCol w="714240"/>
                <a:gridCol w="3643560"/>
                <a:gridCol w="1627200"/>
                <a:gridCol w="16891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мест в дошкольных учреждениях – всего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ая площадь зданий дошкольных учреждений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70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3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щеобразователь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28760" y="777960"/>
          <a:ext cx="8286480" cy="527508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мест в общеобразовательных школах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58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58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ая площадь зданий общеобразовательных учреждени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28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учащихся в государственных и муниципальных общеобразовательных школах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06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дельный вес учащихся дневных общеобразовательных учреждений, занимающихся во вторую смен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7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рачебные больнич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28760" y="777960"/>
          <a:ext cx="8286480" cy="511164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ачебные больничные учреждения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врачебных больничных коек -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йко/мес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1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рачебные больнич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428760" y="777960"/>
          <a:ext cx="8286480" cy="511164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коек для беременных женщин и рожениц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йко/мес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коек для больных людей -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йко/мес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5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рачебные больнич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28760" y="777960"/>
          <a:ext cx="8286480" cy="534024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врачебных амбулаторно-поликлинических учреждений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щность врачебных амбулаторно- поликлинических учреждений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ещений в смен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9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лубы и развлекатель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28760" y="571680"/>
          <a:ext cx="8286480" cy="614196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зрительских мест в клубах и учреждениях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общедоступных библиот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музее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арков культуры и отдых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детских музыкальных, художественных, хореографических школ и школ искусст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ектная мощность указанных шко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ртивные залы -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щадь -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9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ссейны плавательные -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щадь зеркала воды - всего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скостные сооружения (стадионы, спортивные площадки) -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щадь -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55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3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2"/>
          <a:stretch/>
        </p:blipFill>
        <p:spPr>
          <a:xfrm>
            <a:off x="420840" y="1438200"/>
            <a:ext cx="7022880" cy="24386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28760" y="40719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 населения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7" name="Содержимое 3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Структура трудоспособного населен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9" name="Содержимое 3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ЦЕЛЬ ПРОЕК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итать у учащихся любовь к своей малой родине. Принять активное участие в решении проблем, связанных с реализацией национального проекта в области образования, здравоохранения и социального развития посел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Структура профессиональной деятельности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1" name="Содержимое 3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ая соединительная линия 5"/>
          <p:cNvSpPr/>
          <p:nvPr/>
        </p:nvSpPr>
        <p:spPr>
          <a:xfrm flipV="1">
            <a:off x="1071720" y="3714840"/>
            <a:ext cx="357120" cy="35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енная служб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57120" y="2785680"/>
            <a:ext cx="41436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сленность военнослужащих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городке составляет 5 тыс.человек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5" name="Рисунок 5" descr="хорошая.JPG"/>
          <p:cNvPicPr/>
          <p:nvPr/>
        </p:nvPicPr>
        <p:blipFill>
          <a:blip r:embed="rId2"/>
          <a:stretch/>
        </p:blipFill>
        <p:spPr>
          <a:xfrm>
            <a:off x="4357800" y="192888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тельные учрежден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Содержимое 2"/>
          <p:cNvSpPr/>
          <p:nvPr/>
        </p:nvSpPr>
        <p:spPr>
          <a:xfrm>
            <a:off x="500040" y="3071880"/>
            <a:ext cx="4429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ников в образовательных учреждениях около 250 челове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Рисунок 4" descr="DSC01335.JPG"/>
          <p:cNvPicPr/>
          <p:nvPr/>
        </p:nvPicPr>
        <p:blipFill>
          <a:blip r:embed="rId2"/>
          <a:stretch/>
        </p:blipFill>
        <p:spPr>
          <a:xfrm>
            <a:off x="5072040" y="3143160"/>
            <a:ext cx="1809720" cy="135756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7" descr="DSC01366.JPG"/>
          <p:cNvPicPr/>
          <p:nvPr/>
        </p:nvPicPr>
        <p:blipFill>
          <a:blip r:embed="rId3"/>
          <a:stretch/>
        </p:blipFill>
        <p:spPr>
          <a:xfrm>
            <a:off x="6429240" y="207180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8" descr="DSC01359.JPG"/>
          <p:cNvPicPr/>
          <p:nvPr/>
        </p:nvPicPr>
        <p:blipFill>
          <a:blip r:embed="rId4"/>
          <a:stretch/>
        </p:blipFill>
        <p:spPr>
          <a:xfrm>
            <a:off x="3857760" y="207180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9" descr="DSC01360.JPG"/>
          <p:cNvPicPr/>
          <p:nvPr/>
        </p:nvPicPr>
        <p:blipFill>
          <a:blip r:embed="rId5"/>
          <a:stretch/>
        </p:blipFill>
        <p:spPr>
          <a:xfrm>
            <a:off x="3857760" y="407196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342" name="Содержимое 6" descr="DSC01363.JPG"/>
          <p:cNvPicPr/>
          <p:nvPr/>
        </p:nvPicPr>
        <p:blipFill>
          <a:blip r:embed="rId6"/>
          <a:stretch/>
        </p:blipFill>
        <p:spPr>
          <a:xfrm>
            <a:off x="6429240" y="4071960"/>
            <a:ext cx="18097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ицинские учрежден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Содержимое 2"/>
          <p:cNvSpPr/>
          <p:nvPr/>
        </p:nvSpPr>
        <p:spPr>
          <a:xfrm>
            <a:off x="428760" y="2857680"/>
            <a:ext cx="4643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СЧ и военном госпитале работ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70 человек, из них в МСЧ - 24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Содержимое 6" descr="P1010133.JPG"/>
          <p:cNvPicPr/>
          <p:nvPr/>
        </p:nvPicPr>
        <p:blipFill>
          <a:blip r:embed="rId2"/>
          <a:stretch/>
        </p:blipFill>
        <p:spPr>
          <a:xfrm>
            <a:off x="5149800" y="2398680"/>
            <a:ext cx="3471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зненно-важные предприят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85480" y="2643120"/>
            <a:ext cx="490068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УП Пекарня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ет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 человек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ЭЧ – более 500 человек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троительной воинской части – 240 человек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фере обслуживания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0 человек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АО «Таймер» заняты около 220 человек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8" name="Рисунок 7" descr="DSC01338.JPG"/>
          <p:cNvPicPr/>
          <p:nvPr/>
        </p:nvPicPr>
        <p:blipFill>
          <a:blip r:embed="rId2"/>
          <a:stretch/>
        </p:blipFill>
        <p:spPr>
          <a:xfrm>
            <a:off x="5000760" y="2357280"/>
            <a:ext cx="27860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сновываясь на проведенном исследовании можно сделать следующие выводы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Демографическая ситуация в пос. Светлый по основным критериям соответствует показателям Саратовской области и общероссийским показателям.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роводимые мероприятия администрацией пос. Светлый направленные на стабилизацию и рост  численности населения в п. Светлый дают желаемые результат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посёлке Светлый ведётся активная работа по снижению безработицы путём формирования новых рабочих ме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деляется большое внимание развитию детских дошкольных и школьных учреждени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школе проводится большая разъяснительная и воспитательная  работа среди учащихся  направленная  на  развитие семейных ценностей. Что должно привести в будущем к снижению разводов среди молодёжи и рождению дете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чителя школы  совместно с центром занятости населения в п. Светлом помогают учащимся стать эффективными «диагностами» своей карьеры и принять правильное решение при выборе  будущей професси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ринять меры по улучшению просветительской работы среди населения по мерам предотвращения заболеваемости. Привлечь высококвалифицированные рабочие кадры для работы в поликлинике и больнице п.Светлы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ЗАДАЧИ ПРОЕК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яснить численность населения п. Светлый. И ее влияние на развитие инфраструктуры в посел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следовать количество рождающихся и умерших людей в п. Светлый, а также количество заключенных браков и расторгаемых браков. По результатам полученных исследований предложить меры направленные на устранение причин влияющих на вышеуказанные показатели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следовать рынок труда и занятость в п. Светлый. Выявить причины безработицы в поселке и предложить пути выхода из сложившейся ситу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71640" y="1628280"/>
            <a:ext cx="6480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Численность населения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Демографические показатели численности насе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14240" y="1000080"/>
          <a:ext cx="7929720" cy="5224680"/>
        </p:xfrm>
        <a:graphic>
          <a:graphicData uri="http://schemas.openxmlformats.org/drawingml/2006/table">
            <a:tbl>
              <a:tblPr/>
              <a:tblGrid>
                <a:gridCol w="3357720"/>
                <a:gridCol w="1643040"/>
                <a:gridCol w="1500120"/>
                <a:gridCol w="14288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нварь-июн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8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нварь-июн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нварь-июн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енность населения, (среднегодовая), че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 8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 9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 1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о родившихся (человек), 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cc00"/>
                        </a:buClr>
                        <a:buSzPct val="12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льчи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cc00"/>
                        </a:buClr>
                        <a:buSzPct val="12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воче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о умерших (человек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о бра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о развод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стественный прирост (на 100 населен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ждаемость (на 1000 населен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ертность (на 1000 населен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3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асел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42960" y="692280"/>
          <a:ext cx="7674120" cy="5744880"/>
        </p:xfrm>
        <a:graphic>
          <a:graphicData uri="http://schemas.openxmlformats.org/drawingml/2006/table">
            <a:tbl>
              <a:tblPr/>
              <a:tblGrid>
                <a:gridCol w="714240"/>
                <a:gridCol w="3643560"/>
                <a:gridCol w="1627200"/>
                <a:gridCol w="16891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Численность постоянного населен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18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пенсионер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52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пенсионеров,  имеющих ограниченные способности к трудовой деятельн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дети -инвалиды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детей –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7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 них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0 до 6 л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7 до 17 л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4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6 до 15 л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22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детей, состоящих на учете для определения в дошкольное учреждени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7" name="Object 56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258920" y="227664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Демографическая ситуаци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в пос. Светлы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Monotype Corsiva"/>
              </a:rPr>
              <a:t>Сведения о количестве зарегистрированных актов гражданского состояния о рождении, смерти, заключении брака, расторжении брака в городском округе ЗАТО Светлый Саратовской области с 01.01.2010 по 31.12.2010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24000" y="2133720"/>
          <a:ext cx="8351640" cy="4519440"/>
        </p:xfrm>
        <a:graphic>
          <a:graphicData uri="http://schemas.openxmlformats.org/drawingml/2006/table">
            <a:tbl>
              <a:tblPr/>
              <a:tblGrid>
                <a:gridCol w="3392280"/>
                <a:gridCol w="1000080"/>
                <a:gridCol w="1008000"/>
                <a:gridCol w="863640"/>
                <a:gridCol w="1008360"/>
                <a:gridCol w="10792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. Ро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мальчи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девоч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. Смер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мужч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женщ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. Заключение бра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. Расторжение бра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осталось детей при разводах в неполных семья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17:22:17Z</dcterms:created>
  <dc:creator>Helen</dc:creator>
  <dc:description/>
  <dc:language>en-US</dc:language>
  <cp:lastModifiedBy>Kurbatoff</cp:lastModifiedBy>
  <dcterms:modified xsi:type="dcterms:W3CDTF">2011-03-22T11:02:21Z</dcterms:modified>
  <cp:revision>63</cp:revision>
  <dc:subject/>
  <dc:title>Занятость насел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120000000000010250300207f7000400038000</vt:lpwstr>
  </property>
</Properties>
</file>