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E5E1-10CB-4662-B959-C277927D1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B6ED-1A17-43E7-87D1-40B48836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37F4-19B0-48BD-A475-7845A0C47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E5F4-53D4-4859-B3DC-450310EBC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225A-5830-403C-9353-576684EFC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9962-7955-4A40-99FB-2A6CDA11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A350-F046-403B-B52E-A2C68F20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3034-8CF9-4D0C-A25F-F9B04341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EB16-F9AF-4755-B61C-A4C0CA56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DA27-4583-47DD-AE70-628A764E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4705-64CD-47F9-B24A-FCE194A0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626F-A272-438F-8BBB-9E886325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3375-117E-463C-87AB-5DD97A3A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089B-BAE2-465E-A237-07A8AEFC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B06F-C17A-4476-B0AB-483F6AD8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8DFA-2B31-4482-ACA8-48B1539F2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426E-7A98-4EA0-968F-96369F13A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0BCE0-24B6-4A6A-841A-27DCAFD8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D806E-7078-42F7-BAAD-30547E06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D86A3-0D51-4129-86E2-FF97E6DE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32437-7DDE-4767-B93D-5CE8FC38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4835D-2A3C-4181-A315-5BCB4CEF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36D3-06EB-4421-8F5A-431E85DE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13437-1373-4318-8B8E-6D1F217B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6AB80-04CB-4753-BD65-1C530FF0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93021-87FF-4F11-ABFA-F4587657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B48E3-377F-4A28-BCCD-89FC119C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95117-9660-441D-A2CF-4971EEDE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71E48-816E-4958-A9B9-D0F4CE6D0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F4E3E-0A9B-4DA2-9832-B88F80B12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16109-8A7D-4932-9F50-A6760B641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4F521-25CB-4B75-B751-E99B1AEA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5CD6A-F74D-4F0B-87F0-0249C617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0331-EE7E-484A-82F2-CFE63987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206A2-341F-40CE-B10E-09925311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9CF74-CBB9-4F7E-9D26-EDA78EA8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E08EE-5FEB-48CB-B844-A41A8DDA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90694-6848-4F98-B0DD-BFD1A3D8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2EF4A-14BA-41C1-A48D-EE8B9CC1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A887A-ECA0-4A57-BA2C-F83821B8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71C70-E309-42C9-961C-783A0C02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38BF3-5A8F-4EF6-8D41-C1FE4A8E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D1AFA-EE11-407D-8DB5-8D22E74C9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82019-BE94-495A-B0C5-96DF07CF3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19D7-8822-4957-A32A-44B694A8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92BF4-6D3A-4B54-A8B8-A58EF508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9BAA3-552F-4CC0-B40E-951DC9E0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86C8F-E654-48B9-9CFD-B96B07DD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4B014-7DD6-4281-8FD3-792B21BF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C5C18-AFDC-4BEF-BC54-2A9492B8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31828-08EB-4E4A-AFFD-CA7BB29B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8B6EA-FA18-4134-84E3-7A003250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4835A-3292-45A3-8A30-3612541D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C26DC-9F29-49C8-B2F2-28B8967F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F0476-F065-461C-B022-2C4EA7599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D43F-9F37-497C-87DB-E22BA747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A7DCF-2051-4A01-98E8-6C86D5470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B716DE-AA46-4AC7-905A-2D468CAE2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E9609C-E9FA-4E0C-8088-D682E1FF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FAD7B9-BD8D-49BC-9CAF-5D0BAA8E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9BCE9D-DFE0-4BE8-8722-87710044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1957E0-90CF-42F3-B95E-25D89914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A154AA-F970-49E6-8C7B-59748C2D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9B26A0-3438-4372-9639-D0251D45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8FCE15-B8CF-4D7C-965A-E9259427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6121E4-5CE6-48F8-B07A-E8BF5829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67A8-EAAE-4D6A-B116-362F18D4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9BC873-1C95-49FA-8AFA-115DDD42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DE682E-D7E2-409B-A188-777C58A07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6E0829-9964-4AC0-A850-3AD73D472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14CA-6312-4739-BA45-E91BD0FF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D6E0-024A-4851-96A9-D81A0C28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1e1e"/>
            </a:gs>
            <a:gs pos="100000">
              <a:srgbClr val="7b7b7b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1b587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e854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1F0C-62A4-478D-BFF8-424187D8B92F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1b587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e854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24F7-0826-4660-99AB-56D917897DF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1b587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e854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10DD-9FD2-495A-80F4-E01B0C1FFF4F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1b587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e854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0BE3-1201-418A-94C6-DB4D039D784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76AE-D71A-49FB-AB77-248B66A384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CD30-7B3A-4055-9275-DC9A452F0F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амые популярные име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ужские: Андрей, Никита, Артём, Макси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енские: Валерия, Полина, Вероника, Виктор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едкие и необычные имен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ужские: Ярослав, Юрий, Тимур, Тигра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енские: Эмилия, Софья, Светлана, Наталь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озраст матери рождённого ребёнк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4лет-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5лет-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6лет-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лет-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8-20лет-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1-30-1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1-40лет-3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1год истарше-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арегистрировано семей, имеющи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дного ребёнка-8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воих детей-5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роих детей-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етверых детей-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ять детей-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Шесть детей и более-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Анализ данных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С 2003по 2010 г. рождение, смерть, расторжение брака и количества детей при разводах заметно уменьшается. Заключение брака, наоборот, увеличивается. Естественный прирост населения составляет 43 – 63 человек, что в принципе неплох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С 2003 по 2010г. рождение, смерть, расторжение брака и количества детей при разводах  увеличивается, но заключение брака уменьшается. Естественный прирост населения – 63-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">
            <a:hlinkClick r:id="rId2" action="ppaction://hlinksldjump"/>
          </p:cNvPr>
          <p:cNvSpPr/>
          <p:nvPr/>
        </p:nvSpPr>
        <p:spPr>
          <a:xfrm>
            <a:off x="395280" y="5877000"/>
            <a:ext cx="360360" cy="720720"/>
          </a:xfrm>
          <a:custGeom>
            <a:avLst/>
            <a:gdLst>
              <a:gd name="textAreaLeft" fmla="*/ 48240 w 360360"/>
              <a:gd name="textAreaRight" fmla="*/ 312120 w 360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Анализ данных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С 2004 по 2010 г. рождение, заключение, расторжение брака и количества детей при разводах опять уменьшается, но смертность увеличивается. Естественный прирост населения – 82-61, это уже можно назвать демографическим кризисом, а это плох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С 2005 по 2010г. рождение, смертность уменьшается, а заключение и расторжение брака, количество детей при разводах – увеличивается. Естественный прирост населения – 61-44, это как и в предыдущей ситуации – плох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">
            <a:hlinkClick r:id="rId2" action="ppaction://hlinksldjump"/>
          </p:cNvPr>
          <p:cNvSpPr/>
          <p:nvPr/>
        </p:nvSpPr>
        <p:spPr>
          <a:xfrm>
            <a:off x="395280" y="5877000"/>
            <a:ext cx="360360" cy="720720"/>
          </a:xfrm>
          <a:custGeom>
            <a:avLst/>
            <a:gdLst>
              <a:gd name="textAreaLeft" fmla="*/ 48240 w 360360"/>
              <a:gd name="textAreaRight" fmla="*/ 312120 w 360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С каждым годом, начиная с 2004 по 2010г, в городском округе ЗАТО Светлый преобладает демографический кризи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Заключение браков уменьшае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">
            <a:hlinkClick r:id="rId2" action="ppaction://hlinksldjump"/>
          </p:cNvPr>
          <p:cNvSpPr/>
          <p:nvPr/>
        </p:nvSpPr>
        <p:spPr>
          <a:xfrm>
            <a:off x="395280" y="5877000"/>
            <a:ext cx="360360" cy="720720"/>
          </a:xfrm>
          <a:custGeom>
            <a:avLst/>
            <a:gdLst>
              <a:gd name="textAreaLeft" fmla="*/ 48240 w 360360"/>
              <a:gd name="textAreaRight" fmla="*/ 312120 w 360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Предложе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Чтобы разрядить сложившуюся ситуацию нужно, в первую очередь, улучшать отношения с людь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Смертность увеличивается потому что люди не заботятся о своем здоровье – надо думать о себе, о будущ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Данные предоставила руководитель органа ЗАГС  А.С. Михайлюко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">
            <a:hlinkClick r:id="rId2" action="ppaction://hlinksldjump"/>
          </p:cNvPr>
          <p:cNvSpPr/>
          <p:nvPr/>
        </p:nvSpPr>
        <p:spPr>
          <a:xfrm>
            <a:off x="395280" y="5877000"/>
            <a:ext cx="360360" cy="720720"/>
          </a:xfrm>
          <a:custGeom>
            <a:avLst/>
            <a:gdLst>
              <a:gd name="textAreaLeft" fmla="*/ 48240 w 360360"/>
              <a:gd name="textAreaRight" fmla="*/ 312120 w 360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77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77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971640" y="1628280"/>
            <a:ext cx="6480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f4a09"/>
                </a:solidFill>
                <a:latin typeface="Tahoma"/>
              </a:rPr>
              <a:t>Инфраструктура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f4a09"/>
                </a:solidFill>
                <a:latin typeface="Tahoma"/>
              </a:rPr>
              <a:t>пос. Светлый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Промышлен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1384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мышленность городского округа ЗАТО Светлый представлена двумя муниципальными предприятиями: МУП «ЖКХ» и МУП «Пекарня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ъем производства продукции МУП «Пекарня» 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олугодии 2010 года составил 515,2 тыс. рубл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ъем производства МУП «ЖКХ» - 55 309, тыс. рублей, что в 1,15 раз больше, чем 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олугодии 2009 г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Проект по географическому краеведенью</a:t>
            </a:r>
            <a:br>
              <a:rPr sz="3600"/>
            </a:br>
            <a:br>
              <a:rPr sz="3600"/>
            </a:b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«Население п. Светлый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692360" y="522936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Выполнила ученица 10 « А» класса Немтырева Лидия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Руководитель Курбатова  Людмила Францевна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Учитель географии СОШ №2 городского округа п.Светлый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42960" y="39204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ъемы производства продукции промышленных предприятий ЗАТО Светлый в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олугодии 2010 г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500040" y="2214720"/>
          <a:ext cx="8429760" cy="3152520"/>
        </p:xfrm>
        <a:graphic>
          <a:graphicData uri="http://schemas.openxmlformats.org/drawingml/2006/table">
            <a:tbl>
              <a:tblPr/>
              <a:tblGrid>
                <a:gridCol w="2271600"/>
                <a:gridCol w="1229040"/>
                <a:gridCol w="1703160"/>
                <a:gridCol w="1612800"/>
                <a:gridCol w="1613160"/>
              </a:tblGrid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и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. изм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полнение на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.07.2008 г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полнение на 01.07.2009 г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полнение на 01.07.2010 г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П «Пекарня»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ыс. руб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749,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155, 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156,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П «ЖКХ» в т.ч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ыс. руб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 519,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 001,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 306,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Услуги населению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 316,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948,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 372,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Услуги предпринимателям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 204,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 053,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 934,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9" name="Object 2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4360" y="-171720"/>
            <a:ext cx="777240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Дошкольные учрежд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642960" y="1065240"/>
          <a:ext cx="7674120" cy="4508640"/>
        </p:xfrm>
        <a:graphic>
          <a:graphicData uri="http://schemas.openxmlformats.org/drawingml/2006/table">
            <a:tbl>
              <a:tblPr/>
              <a:tblGrid>
                <a:gridCol w="714240"/>
                <a:gridCol w="3643560"/>
                <a:gridCol w="1627200"/>
                <a:gridCol w="16891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а измер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чения 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мест в дошкольных учреждениях – всего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т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по формам собственности: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льная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ы Российской Федерации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ая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ная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ая площадь зданий дошкольных учреждений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в. метров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70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3" name="Object 2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щеобразовательные учре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428760" y="777960"/>
          <a:ext cx="8286480" cy="5275080"/>
        </p:xfrm>
        <a:graphic>
          <a:graphicData uri="http://schemas.openxmlformats.org/drawingml/2006/table">
            <a:tbl>
              <a:tblPr/>
              <a:tblGrid>
                <a:gridCol w="771480"/>
                <a:gridCol w="4228920"/>
                <a:gridCol w="1571760"/>
                <a:gridCol w="1714320"/>
              </a:tblGrid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а измер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чения 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мест в общеобразовательных школах –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т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58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по формам собственности: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льна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ы Российской Федерации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а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58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на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ая площадь зданий общеобразовательных учреждени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в. метров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28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енность учащихся в государственных и муниципальных общеобразовательных школах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06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дельный вес учащихся дневных общеобразовательных учреждений, занимающихся во вторую смену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7" name="Object 2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рачебные больничные учре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428760" y="777960"/>
          <a:ext cx="8286480" cy="5111640"/>
        </p:xfrm>
        <a:graphic>
          <a:graphicData uri="http://schemas.openxmlformats.org/drawingml/2006/table">
            <a:tbl>
              <a:tblPr/>
              <a:tblGrid>
                <a:gridCol w="771480"/>
                <a:gridCol w="4228920"/>
                <a:gridCol w="1571760"/>
                <a:gridCol w="1714320"/>
              </a:tblGrid>
              <a:tr h="79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а измер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чения 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рачебные больничные учреждения –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по формам собственности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ы Российской Федер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врачебных больничных коек -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йко/мест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по формам собственности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ы Российской Федер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1" name="Object 2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рачебные больничные учре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428760" y="777960"/>
          <a:ext cx="8286480" cy="5111640"/>
        </p:xfrm>
        <a:graphic>
          <a:graphicData uri="http://schemas.openxmlformats.org/drawingml/2006/table">
            <a:tbl>
              <a:tblPr/>
              <a:tblGrid>
                <a:gridCol w="771480"/>
                <a:gridCol w="4228920"/>
                <a:gridCol w="1571760"/>
                <a:gridCol w="1714320"/>
              </a:tblGrid>
              <a:tr h="79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а измер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чения 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коек для беременных женщин и рожениц –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йко/мест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по формам собственности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ы Российской Федер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коек для больных людей -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йко/мест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по формам собственности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ы Российской Федер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5" name="Object 2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рачебные больничные учре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28760" y="777960"/>
          <a:ext cx="8286480" cy="5340240"/>
        </p:xfrm>
        <a:graphic>
          <a:graphicData uri="http://schemas.openxmlformats.org/drawingml/2006/table">
            <a:tbl>
              <a:tblPr/>
              <a:tblGrid>
                <a:gridCol w="771480"/>
                <a:gridCol w="4228920"/>
                <a:gridCol w="1571760"/>
                <a:gridCol w="1714320"/>
              </a:tblGrid>
              <a:tr h="79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а измер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чения 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врачебных амбулаторно-поликлинических учреждений –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по формам собственности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ы Российской Федер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щность врачебных амбулаторно- поликлинических учреждений –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ещений в смену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по формам собственности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ы Российской Федер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9" name="Object 2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лубы и развлекательные учре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428760" y="571680"/>
          <a:ext cx="8286480" cy="6141960"/>
        </p:xfrm>
        <a:graphic>
          <a:graphicData uri="http://schemas.openxmlformats.org/drawingml/2006/table">
            <a:tbl>
              <a:tblPr/>
              <a:tblGrid>
                <a:gridCol w="771480"/>
                <a:gridCol w="4228920"/>
                <a:gridCol w="1571760"/>
                <a:gridCol w="1714320"/>
              </a:tblGrid>
              <a:tr h="80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а измер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чения 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зрительских мест в клубах и учреждениях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общедоступных библиоте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музее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парков культуры и отдых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детских музыкальных, художественных, хореографических школ и школ искусст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ектная мощность указанных школ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ортивные залы -всего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ощадь - всего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в. метр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91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ссейны плавательные - всего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ощадь зеркала воды - всего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в. метр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оскостные сооружения (стадионы, спортивные площадки) - всего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ощадь - всего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в. метр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 55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3" name="Object 2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2"/>
          <a:stretch/>
        </p:blipFill>
        <p:spPr>
          <a:xfrm>
            <a:off x="420840" y="1438200"/>
            <a:ext cx="7022880" cy="24386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28760" y="40719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уктура населения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7" name="Содержимое 3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Структура трудоспособного населения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9" name="Содержимое 3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7467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ЦЕЛЬ ПРОЕК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спитать у учащихся любовь к своей малой родине. Принять активное участие в решении проблем, связанных с реализацией национального проекта в области образования, здравоохранения и социального развития посел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Структура профессиональной деятельности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1" name="Содержимое 3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  <p:sp>
        <p:nvSpPr>
          <p:cNvPr id="332" name="Прямая соединительная линия 5"/>
          <p:cNvSpPr/>
          <p:nvPr/>
        </p:nvSpPr>
        <p:spPr>
          <a:xfrm flipV="1">
            <a:off x="1071720" y="3714840"/>
            <a:ext cx="357120" cy="35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енная служб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57120" y="2785680"/>
            <a:ext cx="414360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исленность военнослужащих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городке составляет 5 тыс.человек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5" name="Рисунок 5" descr="хорошая.JPG"/>
          <p:cNvPicPr/>
          <p:nvPr/>
        </p:nvPicPr>
        <p:blipFill>
          <a:blip r:embed="rId2"/>
          <a:stretch/>
        </p:blipFill>
        <p:spPr>
          <a:xfrm>
            <a:off x="4357800" y="1928880"/>
            <a:ext cx="3238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овательные учреждения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Содержимое 2"/>
          <p:cNvSpPr/>
          <p:nvPr/>
        </p:nvSpPr>
        <p:spPr>
          <a:xfrm>
            <a:off x="500040" y="3071880"/>
            <a:ext cx="44290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ников в образовательных учреждениях около 250 челове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Рисунок 4" descr="DSC01335.JPG"/>
          <p:cNvPicPr/>
          <p:nvPr/>
        </p:nvPicPr>
        <p:blipFill>
          <a:blip r:embed="rId2"/>
          <a:stretch/>
        </p:blipFill>
        <p:spPr>
          <a:xfrm>
            <a:off x="5072040" y="3143160"/>
            <a:ext cx="1809720" cy="135756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7" descr="DSC01366.JPG"/>
          <p:cNvPicPr/>
          <p:nvPr/>
        </p:nvPicPr>
        <p:blipFill>
          <a:blip r:embed="rId3"/>
          <a:stretch/>
        </p:blipFill>
        <p:spPr>
          <a:xfrm>
            <a:off x="6429240" y="2071800"/>
            <a:ext cx="1809720" cy="135720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8" descr="DSC01359.JPG"/>
          <p:cNvPicPr/>
          <p:nvPr/>
        </p:nvPicPr>
        <p:blipFill>
          <a:blip r:embed="rId4"/>
          <a:stretch/>
        </p:blipFill>
        <p:spPr>
          <a:xfrm>
            <a:off x="3857760" y="2071800"/>
            <a:ext cx="1809720" cy="135720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9" descr="DSC01360.JPG"/>
          <p:cNvPicPr/>
          <p:nvPr/>
        </p:nvPicPr>
        <p:blipFill>
          <a:blip r:embed="rId5"/>
          <a:stretch/>
        </p:blipFill>
        <p:spPr>
          <a:xfrm>
            <a:off x="3857760" y="4071960"/>
            <a:ext cx="1809720" cy="1357200"/>
          </a:xfrm>
          <a:prstGeom prst="rect">
            <a:avLst/>
          </a:prstGeom>
          <a:ln w="0">
            <a:noFill/>
          </a:ln>
        </p:spPr>
      </p:pic>
      <p:pic>
        <p:nvPicPr>
          <p:cNvPr id="342" name="Содержимое 6" descr="DSC01363.JPG"/>
          <p:cNvPicPr/>
          <p:nvPr/>
        </p:nvPicPr>
        <p:blipFill>
          <a:blip r:embed="rId6"/>
          <a:stretch/>
        </p:blipFill>
        <p:spPr>
          <a:xfrm>
            <a:off x="6429240" y="4071960"/>
            <a:ext cx="180972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дицинские учреждения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Содержимое 2"/>
          <p:cNvSpPr/>
          <p:nvPr/>
        </p:nvSpPr>
        <p:spPr>
          <a:xfrm>
            <a:off x="428760" y="2857680"/>
            <a:ext cx="4643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МСЧ и военном госпитале работа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70 человек, из них в МСЧ - 24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Содержимое 6" descr="P1010133.JPG"/>
          <p:cNvPicPr/>
          <p:nvPr/>
        </p:nvPicPr>
        <p:blipFill>
          <a:blip r:embed="rId2"/>
          <a:stretch/>
        </p:blipFill>
        <p:spPr>
          <a:xfrm>
            <a:off x="5149800" y="2398680"/>
            <a:ext cx="34718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зненно-важные предприятия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285480" y="2643120"/>
            <a:ext cx="490068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МУП Пекарня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ет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 человек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ЭЧ – более 500 человек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троительной воинской части – 240 человек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фере обслуживания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0 человек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ОАО «Таймер» заняты около 220 человек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8" name="Рисунок 7" descr="DSC01338.JPG"/>
          <p:cNvPicPr/>
          <p:nvPr/>
        </p:nvPicPr>
        <p:blipFill>
          <a:blip r:embed="rId2"/>
          <a:stretch/>
        </p:blipFill>
        <p:spPr>
          <a:xfrm>
            <a:off x="5000760" y="2357280"/>
            <a:ext cx="278604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сновываясь на проведенном исследовании можно сделать следующие выводы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Демографическая ситуация в пос. Светлый по основным критериям соответствует показателям Саратовской области и общероссийским показателям.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Проводимые мероприятия администрацией пос. Светлый направленные на стабилизацию и рост  численности населения в п. Светлый дают желаемые результат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В посёлке Светлый ведётся активная работа по снижению безработицы путём формирования новых рабочих мес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Уделяется большое внимание развитию детских дошкольных и школьных учреждени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В школе проводится большая разъяснительная и воспитательная  работа среди учащихся  направленная  на  развитие семейных ценностей. Что должно привести в будущем к снижению разводов среди молодёжи и рождению дете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Учителя школы  совместно с центром занятости населения в п. Светлом помогают учащимся стать эффективными «диагностами» своей карьеры и принять правильное решение при выборе  будущей професси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Принять меры по улучшению просветительской работы среди населения по мерам предотвращения заболеваемости. Привлечь высококвалифицированные рабочие кадры для работы в поликлинике и больнице п.Светлы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ЗАДАЧИ ПРОЕК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яснить численность населения п. Светлый. И ее влияние на развитие инфраструктуры в посел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следовать количество рождающихся и умерших людей в п. Светлый, а также количество заключенных браков и расторгаемых браков. По результатам полученных исследований предложить меры направленные на устранение причин влияющих на вышеуказанные показатели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следовать рынок труда и занятость в п. Светлый. Выявить причины безработицы в поселке и предложить пути выхода из сложившейся ситу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971640" y="1628280"/>
            <a:ext cx="6480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f4a09"/>
                </a:solidFill>
                <a:latin typeface="Tahoma"/>
              </a:rPr>
              <a:t>Численность населения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Демографические показатели численности насел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714240" y="1000080"/>
          <a:ext cx="7929720" cy="5224680"/>
        </p:xfrm>
        <a:graphic>
          <a:graphicData uri="http://schemas.openxmlformats.org/drawingml/2006/table">
            <a:tbl>
              <a:tblPr/>
              <a:tblGrid>
                <a:gridCol w="3357720"/>
                <a:gridCol w="1643040"/>
                <a:gridCol w="1500120"/>
                <a:gridCol w="14288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нварь-июнь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8 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нварь-июнь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9 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нварь-июнь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0 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исленность населения, (среднегодовая), чел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 8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 96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 1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исло родившихся (человек), в том числе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cc00"/>
                        </a:buClr>
                        <a:buSzPct val="12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альчик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cc00"/>
                        </a:buClr>
                        <a:buSzPct val="12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воче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исло умерших (человек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исло брак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исло развод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стественный прирост (на 100 населени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ождаемость (на 1000 населени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ертность (на 1000 населени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3" name="Object 2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-17172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Населе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642960" y="692280"/>
          <a:ext cx="7674120" cy="5744880"/>
        </p:xfrm>
        <a:graphic>
          <a:graphicData uri="http://schemas.openxmlformats.org/drawingml/2006/table">
            <a:tbl>
              <a:tblPr/>
              <a:tblGrid>
                <a:gridCol w="714240"/>
                <a:gridCol w="3643560"/>
                <a:gridCol w="1627200"/>
                <a:gridCol w="16891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а измер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чения 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Численность постоянного населения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18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енность пенсионер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52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енность пенсионеров,  имеющих ограниченные способности к трудовой деятельност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дети -инвалиды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енность детей – всего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27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 них</a:t>
                      </a: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0 до 6 л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7 до 17 л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40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6 до 15 л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22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енность детей, состоящих на учете для определения в дошкольное учреждение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7" name="Object 56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258920" y="227664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f4a09"/>
                </a:solidFill>
                <a:latin typeface="Tahoma"/>
              </a:rPr>
              <a:t>Демографическая ситуация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f4a09"/>
                </a:solidFill>
                <a:latin typeface="Tahoma"/>
              </a:rPr>
              <a:t>в пос. Светлый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Monotype Corsiva"/>
              </a:rPr>
              <a:t>Сведения о количестве зарегистрированных актов гражданского состояния о рождении, смерти, заключении брака, расторжении брака в городском округе ЗАТО Светлый Саратовской области с 01.01.2010 по 31.12.2010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24000" y="2133720"/>
          <a:ext cx="8351640" cy="4519440"/>
        </p:xfrm>
        <a:graphic>
          <a:graphicData uri="http://schemas.openxmlformats.org/drawingml/2006/table">
            <a:tbl>
              <a:tblPr/>
              <a:tblGrid>
                <a:gridCol w="3392280"/>
                <a:gridCol w="1000080"/>
                <a:gridCol w="1008000"/>
                <a:gridCol w="863640"/>
                <a:gridCol w="1008360"/>
                <a:gridCol w="107928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0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0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0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0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. Ро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- мальчик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- девоч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5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7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5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. Смер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- мужчи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- женщи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7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3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3. Заключение бра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4. Расторжение бра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  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- осталось детей при разводах в неполных семья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>
            <a:hlinkClick r:id="rId2" action="ppaction://hlinksldjump"/>
          </p:cNvPr>
          <p:cNvSpPr/>
          <p:nvPr/>
        </p:nvSpPr>
        <p:spPr>
          <a:xfrm>
            <a:off x="395280" y="5877000"/>
            <a:ext cx="360360" cy="720720"/>
          </a:xfrm>
          <a:custGeom>
            <a:avLst/>
            <a:gdLst>
              <a:gd name="textAreaLeft" fmla="*/ 48240 w 360360"/>
              <a:gd name="textAreaRight" fmla="*/ 312120 w 360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2T17:22:17Z</dcterms:created>
  <dc:creator>Helen</dc:creator>
  <dc:description/>
  <dc:language>en-US</dc:language>
  <cp:lastModifiedBy>Kurbatoff</cp:lastModifiedBy>
  <dcterms:modified xsi:type="dcterms:W3CDTF">2011-03-22T11:02:21Z</dcterms:modified>
  <cp:revision>63</cp:revision>
  <dc:subject/>
  <dc:title>Занятость насел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120000000000010243100207f6000400038000</vt:lpwstr>
  </property>
</Properties>
</file>