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8B1-38B6-4A31-B50D-D9E65B88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901-9E69-40BB-807C-6CCCEAB7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595-54FD-4EB6-9AB1-2EDF1933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A8F-38A1-41A3-B302-67A6316F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F0D9-5CD3-456F-B83E-49E4DB26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EF2F-A1D4-4B9B-ABCA-332ED29B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26FF-F5BD-4612-9728-DC2242A0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72E0-FF3D-48EB-93E2-1B9F2702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5B67-243B-4553-BC5B-4985F41F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59D7-9832-4917-B04B-BED0FB1B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9657-64C0-4C54-91A1-E56381A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F5D-0DED-4121-A4DB-13FFE92E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BBB9-0DD8-462A-B110-A7CBCDEE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DD44-AE7A-4BC1-9892-2FF1A4B9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68A2-CC50-49A5-A4DC-FAAB1841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409C-14F3-460C-9D08-B6187D6B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8326-0B4B-4A74-88B4-42F3DDBD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4616-8182-4DBE-B48C-A02CFDE7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1184C-C965-4552-A3B5-21E6498A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3E97-6182-4D3B-AB4D-658CE26A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781E-74B8-4EF1-BEB1-7EE76EF3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0EE6-49C2-49CF-A787-784CD08F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57C-86B7-4198-9296-ECD44340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B067-3543-41C9-9E57-64E6BAE7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3360-F8F8-4BDB-9DE1-113814ED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291CE-43FE-44AB-9FF2-47292468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537E2-5E3E-4A7E-8AED-205D2B0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5EAA9-E573-4E47-8837-7B6BD87D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EEF26-BA67-4530-A714-5C69DC24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86CD-8DBA-43D0-8FFA-39AFF82B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8CE15-2B94-499E-B152-4450B390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B33B-6224-4973-AE5E-E95E7868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B9BF4-6330-4D3A-BD2A-95A7FC39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4D9-59AE-43B2-BFD9-0C502BB1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4908-4714-48B1-8E69-307C0AF9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81016-43DF-4FF8-9B14-C8352DA8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91380-3CC4-4033-A935-653745DF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F3E7B-F8BB-4FE6-B956-DE67C4B7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A9103-ACCB-4702-8F69-D35F55C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E1FD4-FDA5-4C95-AD44-6A30F666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4460-793C-4ACF-B807-3B57D54F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CFC1-52D6-4992-A44E-1ACF19B6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896AC-2D83-4919-AEE7-DD5CD72C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C03B-5BFE-4D51-AF96-5F1938CD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07B-5E78-4F5F-87C8-98F17951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B2951-4EC0-4064-ACDE-E7CBF115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6C850-6D2B-454B-8B65-30B97521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CF001-26B8-44C6-A9CF-7C769AA6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7961C-CE6C-4CE0-8DC9-3E65E824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67248-F40D-4E98-87ED-C6789AA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3F74B-418E-4F87-B5F8-C86472AF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F4BE5-0E1A-442F-A33E-2818448D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4BA24-F553-4BD9-9DB0-DA6461FC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BAFA9-32A1-4501-820D-A1D5CD0E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62061-E1D3-487D-A9D3-764B308A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063-9910-4FC8-AF01-B5A154E9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9C5B3-541F-4BC1-90F2-C83F6B4C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8336F-80E0-4567-858A-214DC5A9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C7EE7-4291-4994-B333-14097453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680E6-2C3C-4BCB-BAA0-54A843F5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F20AF-6477-4EE6-99C5-7EFCB61E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7BAD9-6785-4CDD-9208-00863644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71D75-050E-460F-BE2A-91807FF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8D532-9ACF-4473-8755-906B01E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2B7B0-3B7B-465E-8E80-A40B4E38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C3CEF-D40B-41F5-A9F1-4F52C665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BBB-11BA-4509-A6EC-6D1F5AE3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D9CCA-0DB7-4B7D-BAE6-E834DE06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5A47A-1079-43C8-9A94-C0425CD0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9572A-6E2D-4677-927D-FDFB6959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5C3-6456-48DD-BB75-4392F19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143-F33C-4812-9625-D889C230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e1e"/>
            </a:gs>
            <a:gs pos="100000">
              <a:srgbClr val="7b7b7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52B0-B542-404B-BE08-DD08D1903D9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5664-E74F-4B9D-BACF-DF3DB551BCF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4549-7E2C-4BC5-976B-4827331C47A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A30F-E7D0-4721-9660-661DB02D8D6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0BD7-CA84-4FAA-98A2-CCEAF4083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2CC0-C693-405E-9997-6AB5D97D7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ые популярные и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жские: Андрей, Никита, Артём, Макс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нские: Валерия, Полина, Вероника, Викто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дкие и необычные име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жские: Ярослав, Юрий, Тимур, Тигр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ские: Эмилия, Софья, Светлана, Натал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озраст матери рождённого ребён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-20лет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-30-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1-40лет-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1год истарше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регистрировано семей, имеющи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го ребёнка-8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оих детей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их детей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тверых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ять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есть детей и более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по 2010 г. рождение, смерть, расторжение брака и количества детей при разводах заметно уменьшается. Заключение брака, наоборот, увеличивается. Естественный прирост населения составляет 43 – 63 человек, что в принципе не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 по 2010г. рождение, смерть, расторжение брака и количества детей при разводах  увеличивается, но заключение брака уменьшается. Естественный прирост населения – 63-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4 по 2010 г. рождение, заключение, расторжение брака и количества детей при разводах опять уменьшается, но смертность увеличивается. Естественный прирост населения – 82-61, это уже можно назвать демографическим кризисом, а это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5 по 2010г. рождение, смертность уменьшается, а заключение и расторжение брака, количество детей при разводах – увеличивается. Естественный прирост населения – 61-44, это как и в предыдущей ситуации –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С каждым годом, начиная с 2004 по 2010г, в городском округе ЗАТО Светлый преобладает демографический криз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Заключение браков уменьш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Предлож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тобы разрядить сложившуюся ситуацию нужно, в первую очередь, улучшать отношения с люд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мертность увеличивается потому что люди не заботятся о своем здоровье – надо думать о себе, о будущ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анные предоставила руководитель органа ЗАГС  А.С. Михайлюк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Инфраструктур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пос. Светлый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мышл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мышленность городского округа ЗАТО Светлый представлена двумя муниципальными предприятиями: МУП «ЖКХ» и МУП «Пекарн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продукции МУП «Пекарня»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10 года составил 515,2 тыс. руб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МУП «ЖКХ» - 55 309, тыс. рублей, что в 1,15 раз больше, чем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09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Проект по географическому краеведенью</a:t>
            </a:r>
            <a:br>
              <a:rPr sz="3600"/>
            </a:br>
            <a:br>
              <a:rPr sz="3600"/>
            </a:b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«Население п. Светлы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692360" y="522936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ыполнила ученица 10 « А» класса Немтырева Лидия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уководитель Курбатова  Людмила Францевн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Учитель географии СОШ №2 городского округа п.Светлый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2960" y="39204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ы производства продукции промышленных предприятий ЗАТО Светлый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угодии 2010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00040" y="2214720"/>
          <a:ext cx="8429760" cy="3152520"/>
        </p:xfrm>
        <a:graphic>
          <a:graphicData uri="http://schemas.openxmlformats.org/drawingml/2006/table">
            <a:tbl>
              <a:tblPr/>
              <a:tblGrid>
                <a:gridCol w="2271600"/>
                <a:gridCol w="1229040"/>
                <a:gridCol w="1703160"/>
                <a:gridCol w="1612800"/>
                <a:gridCol w="16131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. изм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.07.2008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09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10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Пекарня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749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5, 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6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ЖКХ» в т.ч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519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001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 306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населению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316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948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372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предпринимателя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204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053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934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ошкольные учреж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42960" y="1065240"/>
          <a:ext cx="7674120" cy="450864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дошкольных учреждениях – всего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дошкольных учреждений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70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щеобразов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28760" y="777960"/>
          <a:ext cx="8286480" cy="527508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общеобразовательных школах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общеобразовательных учрежде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28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учащихся в государственных и муниципальных общеобразовательных школ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ельный вес учащихся дневных общеобразовательных учреждений, занимающихся во вторую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7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ачебные больничные учреждения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больничных коек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1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еременных женщин и рожениц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ольных людей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28760" y="777960"/>
          <a:ext cx="8286480" cy="53402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амбулаторно-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щность врачебных амбулаторно- 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ещений в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убы и развлек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28760" y="571680"/>
          <a:ext cx="8286480" cy="614196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зрительских мест в клубах и учреждения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общедоступных библиот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узее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арков культуры и отдых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детских музыкальных, художественных, хореографических школ и школ искус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ная мощность указанных шко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тивные залы -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9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ссейны плавательные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зеркала воды - всего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скостные сооружения (стадионы, спортивные площадки)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55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2"/>
          <a:stretch/>
        </p:blipFill>
        <p:spPr>
          <a:xfrm>
            <a:off x="420840" y="1438200"/>
            <a:ext cx="7022880" cy="24386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28760" y="40719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населения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Структура трудоспособного насел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ь у учащихся любовь к своей малой родине. Принять активное участие в решении проблем, связанных с реализацией национального проекта в области образования, здравоохранения и социального развития посел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Структура профессиональной деятельности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ая соединительная линия 5"/>
          <p:cNvSpPr/>
          <p:nvPr/>
        </p:nvSpPr>
        <p:spPr>
          <a:xfrm flipV="1">
            <a:off x="1071720" y="3714840"/>
            <a:ext cx="35712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ая служб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57120" y="2785680"/>
            <a:ext cx="41436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енность военнослужащих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родке составляет 5 тыс.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Рисунок 5" descr="хорошая.JPG"/>
          <p:cNvPicPr/>
          <p:nvPr/>
        </p:nvPicPr>
        <p:blipFill>
          <a:blip r:embed="rId2"/>
          <a:stretch/>
        </p:blipFill>
        <p:spPr>
          <a:xfrm>
            <a:off x="4357800" y="19288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500040" y="3071880"/>
            <a:ext cx="4429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ников в образовательных учреждениях около 250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Рисунок 4" descr="DSC01335.JPG"/>
          <p:cNvPicPr/>
          <p:nvPr/>
        </p:nvPicPr>
        <p:blipFill>
          <a:blip r:embed="rId2"/>
          <a:stretch/>
        </p:blipFill>
        <p:spPr>
          <a:xfrm>
            <a:off x="5072040" y="3143160"/>
            <a:ext cx="180972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7" descr="DSC01366.JPG"/>
          <p:cNvPicPr/>
          <p:nvPr/>
        </p:nvPicPr>
        <p:blipFill>
          <a:blip r:embed="rId3"/>
          <a:stretch/>
        </p:blipFill>
        <p:spPr>
          <a:xfrm>
            <a:off x="642924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8" descr="DSC01359.JPG"/>
          <p:cNvPicPr/>
          <p:nvPr/>
        </p:nvPicPr>
        <p:blipFill>
          <a:blip r:embed="rId4"/>
          <a:stretch/>
        </p:blipFill>
        <p:spPr>
          <a:xfrm>
            <a:off x="385776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9" descr="DSC01360.JPG"/>
          <p:cNvPicPr/>
          <p:nvPr/>
        </p:nvPicPr>
        <p:blipFill>
          <a:blip r:embed="rId5"/>
          <a:stretch/>
        </p:blipFill>
        <p:spPr>
          <a:xfrm>
            <a:off x="3857760" y="407196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6" descr="DSC01363.JPG"/>
          <p:cNvPicPr/>
          <p:nvPr/>
        </p:nvPicPr>
        <p:blipFill>
          <a:blip r:embed="rId6"/>
          <a:stretch/>
        </p:blipFill>
        <p:spPr>
          <a:xfrm>
            <a:off x="6429240" y="407196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ски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Содержимое 2"/>
          <p:cNvSpPr/>
          <p:nvPr/>
        </p:nvSpPr>
        <p:spPr>
          <a:xfrm>
            <a:off x="428760" y="2857680"/>
            <a:ext cx="4643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СЧ и военном госпитале работ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70 человек, из них в МСЧ - 24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Содержимое 6" descr="P1010133.JPG"/>
          <p:cNvPicPr/>
          <p:nvPr/>
        </p:nvPicPr>
        <p:blipFill>
          <a:blip r:embed="rId2"/>
          <a:stretch/>
        </p:blipFill>
        <p:spPr>
          <a:xfrm>
            <a:off x="5149800" y="2398680"/>
            <a:ext cx="3471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енно-важные предприят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85480" y="2643120"/>
            <a:ext cx="49006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УП Пекарня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ет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ЭЧ – более 50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троительной воинской части – 24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фере обслуживания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0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АО «Таймер» заняты около 220 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Рисунок 7" descr="DSC01338.JPG"/>
          <p:cNvPicPr/>
          <p:nvPr/>
        </p:nvPicPr>
        <p:blipFill>
          <a:blip r:embed="rId2"/>
          <a:stretch/>
        </p:blipFill>
        <p:spPr>
          <a:xfrm>
            <a:off x="5000760" y="2357280"/>
            <a:ext cx="27860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ываясь на проведенном исследовании можно сделать следующие вывод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емографическая ситуация в пос. Светлый по основным критериям соответствует показателям Саратовской области и общероссийским показателям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оводимые мероприятия администрацией пос. Светлый направленные на стабилизацию и рост  численности населения в п. Светлый дают желаемые результ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посёлке Светлый ведётся активная работа по снижению безработицы путём формирования новых рабочих ме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деляется большое внимание развитию детских дошкольных и школьных учрежден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школе проводится большая разъяснительная и воспитательная  работа среди учащихся  направленная  на  развитие семейных ценностей. Что должно привести в будущем к снижению разводов среди молодёжи и рождению дет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я школы  совместно с центром занятости населения в п. Светлом помогают учащимся стать эффективными «диагностами» своей карьеры и принять правильное решение при выборе  будущей професс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инять меры по улучшению просветительской работы среди населения по мерам предотвращения заболеваемости. Привлечь высококвалифицированные рабочие кадры для работы в поликлинике и больнице п.Светлы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снить численность населения п. Светлый. И ее влияние на развитие инфраструктуры в посел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количество рождающихся и умерших людей в п. Светлый, а также количество заключенных браков и расторгаемых браков. По результатам полученных исследований предложить меры направленные на устранение причин влияющих на вышеуказанные показател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рынок труда и занятость в п. Светлый. Выявить причины безработицы в поселке и предложить пути выхода из сложившейся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Численность населения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Демографические показатели численности нас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14240" y="1000080"/>
          <a:ext cx="7929720" cy="5224680"/>
        </p:xfrm>
        <a:graphic>
          <a:graphicData uri="http://schemas.openxmlformats.org/drawingml/2006/table">
            <a:tbl>
              <a:tblPr/>
              <a:tblGrid>
                <a:gridCol w="3357720"/>
                <a:gridCol w="1643040"/>
                <a:gridCol w="1500120"/>
                <a:gridCol w="14288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 населения, (среднегодовая), 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8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9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1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одившихся (человек)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льч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воч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умерших (челове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бра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азв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й прирост (на 1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даем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ертн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се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2960" y="692280"/>
          <a:ext cx="7674120" cy="574488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исленность постоянного насел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2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,  имеющих ограниченные способности к трудовой деятель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дети -инвалид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 –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7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них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0 до 6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7 до 17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6 до 15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, состоящих на учете для определения в дошкольное учреждени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7" name="Object 56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Демографическая ситуаци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в пос. Светлы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Monotype Corsiva"/>
              </a:rPr>
              <a:t>Сведения о количестве зарегистрированных актов гражданского состояния о рождении, смерти, заключении брака, расторжении брака в городском округе ЗАТО Светлый Саратовской области с 01.01.2010 по 31.12.2010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24000" y="2133720"/>
          <a:ext cx="8351640" cy="4519440"/>
        </p:xfrm>
        <a:graphic>
          <a:graphicData uri="http://schemas.openxmlformats.org/drawingml/2006/table">
            <a:tbl>
              <a:tblPr/>
              <a:tblGrid>
                <a:gridCol w="3392280"/>
                <a:gridCol w="1000080"/>
                <a:gridCol w="1008000"/>
                <a:gridCol w="863640"/>
                <a:gridCol w="1008360"/>
                <a:gridCol w="10792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. Ро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альч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дев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. Смер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ужч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женщ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. Заключ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. Расторж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осталось детей при разводах в неполных семь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7:22:17Z</dcterms:created>
  <dc:creator>Helen</dc:creator>
  <dc:description/>
  <dc:language>en-US</dc:language>
  <cp:lastModifiedBy>Kurbatoff</cp:lastModifiedBy>
  <dcterms:modified xsi:type="dcterms:W3CDTF">2011-03-22T11:02:21Z</dcterms:modified>
  <cp:revision>63</cp:revision>
  <dc:subject/>
  <dc:title>Занятость насе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120000000000010243100207f6000400038000</vt:lpwstr>
  </property>
</Properties>
</file>