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93AC-6B92-4112-B3AC-5195BC4C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E740-7E78-4894-A18B-34B6FEC3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B51-2AA1-412E-B4D8-B1647959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8FD-3A60-4570-A913-DDB13334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1F12-9AC4-4DAC-82C0-666633A2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8573-2A5C-44F2-A257-4C4795AC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7408-42D6-48C8-AA74-6EF54374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9834-C648-40DC-B932-C34061A5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6547-F914-4D85-B8BC-1D4A8086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452C-E7D2-4794-BCE6-E80269F8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6644-16CE-44A2-9113-59D00321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137-7EF4-430F-97AA-3EC86D96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24A9-55BF-449B-8C23-81107ACA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F22E-3548-4795-A950-2B110B12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173F-2EE0-44F1-9125-A67ADA7A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9AF1-8BF9-429D-AFD4-E8B95BD8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D525-CE60-4C70-9E80-4D0A9F24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40C00-7906-4F0E-80F6-71D70B90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16BA6-FF5F-4187-B09B-1D9D4190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FBF1E-E3D6-4931-AD07-5B8A2439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827BA-72A4-4BB1-8669-2808EFD8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F2153-0818-4129-9F88-B3E0ED53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4E2-6F29-4DBE-8076-F2BDB0C9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FD060-54F4-43B2-9359-8049098A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51162-882F-4400-A089-43FC50B0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A6F03-F4FF-4F2A-9F84-90BB438C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55619-E397-40E0-A9BD-ED997275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F0ED1-C869-4395-AFDC-3798A060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4D87A-3BEA-4457-A594-491E53E3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784C1-06AB-4E08-BDC4-31444987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33FB8-B843-460F-ADBC-665A765A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4E766-4309-4E90-8F98-7616411A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41915-D9E8-4224-8589-5DB7F261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381-CC38-4F1D-BA41-5F3EB39D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2E793-03A8-4FFE-945A-DFD9AB5B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9D33D-2E94-4557-B27C-638E7DE7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1ADD3-A949-47A6-8DB4-3538F5B9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FAFB7-DB81-40A1-B6FA-AC6658F1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46AF2-D114-4BC1-951C-3E9D0C0E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CB9F8-F028-4F15-A2E6-6AF8D11F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161F3-1607-4014-BC6E-6EEF1F09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AE266-F973-43DF-9559-87CE97E7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5B2CB-1DCE-4B16-84CD-E2D4FD03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6F725-CF1C-46CA-AAB1-377E5926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DEF-8F06-4A76-9B61-3037D458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A03B8-A786-4EF9-A4ED-30674027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9A885-D37A-4074-B0D4-8BA8A07F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CD081-5C51-47CB-810F-53252537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FEECF-4331-42AF-845F-26159B76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C7B1A-14D5-4D51-A575-F0C410AB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73F2F-A209-4688-A1B9-2DF162FA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F8BBB-4813-4647-BA48-DFBFDE87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9DD85-B52A-43E4-9FDD-B2E232DB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E9D1D-EE68-4FB1-A80C-BB87D730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5D97B-2063-40FD-AD80-E532A2CD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9C3-A126-4176-8B02-1CA53146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6A96E-506D-4986-B66C-3AFCB968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C90114-6A5E-4389-8802-3E16445C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1142C0-A9F6-4AEE-9968-6F226EFA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F321F-D574-4D2D-B0F2-062C44DF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5968EC-EA76-4ED7-9E79-26E6446B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D0C7E5-EF2D-4EC4-85AB-DAFA749A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E7646-9EDB-464B-8507-4D8A5BA9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4A0EEB-4E7C-472E-BE31-B71860C5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4781A9-3F07-4BB8-9A8A-0BF48069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791558-80B7-41C6-BBD0-756CB94C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D9DD-A218-4BD9-B6A4-3C05C592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492A30-62EC-4D21-8E09-DCD1D7DE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857E6-FE92-4B83-BB1D-EE02F9C6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8D289-6975-412F-AC7C-3336E615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DC7D-3501-46CE-BF82-297B2F70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DB1-D4F6-47E4-8EBA-997A9424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e1e"/>
            </a:gs>
            <a:gs pos="100000">
              <a:srgbClr val="7b7b7b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2703-D7CE-4619-874C-7989A1488E2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AA41-E72F-4B64-8ABE-B5E57C8E606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DD7E-585C-47FD-9F26-3914DC8F5B3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2DBF-4093-49DE-8721-1B753753B7B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2B16-408D-426F-A492-4F1856D09E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C044-56A0-464E-8FE8-2AE7617E82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амые популярные име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ужские: Андрей, Никита, Артём, Макс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енские: Валерия, Полина, Вероника, Виктор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дкие и необычные имен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жские: Ярослав, Юрий, Тимур, Тигр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енские: Эмилия, Софья, Светлана, Наталь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озраст матери рождённого ребёнк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-20лет-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-30-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1-40лет-3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1год истарше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регистрировано семей, имеющи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го ребёнка-8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воих детей-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оих детей-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тверых детей-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ять детей-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есть детей и более-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Анализ дан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3по 2010 г. рождение, смерть, расторжение брака и количества детей при разводах заметно уменьшается. Заключение брака, наоборот, увеличивается. Естественный прирост населения составляет 43 – 63 человек, что в принципе неплох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3 по 2010г. рождение, смерть, расторжение брака и количества детей при разводах  увеличивается, но заключение брака уменьшается. Естественный прирост населения – 63-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Анализ дан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4 по 2010 г. рождение, заключение, расторжение брака и количества детей при разводах опять уменьшается, но смертность увеличивается. Естественный прирост населения – 82-61, это уже можно назвать демографическим кризисом, а это плох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5 по 2010г. рождение, смертность уменьшается, а заключение и расторжение брака, количество детей при разводах – увеличивается. Естественный прирост населения – 61-44, это как и в предыдущей ситуации – плох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С каждым годом, начиная с 2004 по 2010г, в городском округе ЗАТО Светлый преобладает демографический криз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Заключение браков уменьш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Предлож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Чтобы разрядить сложившуюся ситуацию нужно, в первую очередь, улучшать отношения с людь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мертность увеличивается потому что люди не заботятся о своем здоровье – надо думать о себе, о будущ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Данные предоставила руководитель органа ЗАГС  А.С. Михайлюк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71640" y="162828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Инфраструктура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пос. Светлый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Промышлен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мышленность городского округа ЗАТО Светлый представлена двумя муниципальными предприятиями: МУП «ЖКХ» и МУП «Пекарня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м производства продукции МУП «Пекарня»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лугодии 2010 года составил 515,2 тыс. руб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м производства МУП «ЖКХ» - 55 309, тыс. рублей, что в 1,15 раз больше, чем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лугодии 2009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Проект по географическому краеведенью</a:t>
            </a:r>
            <a:br>
              <a:rPr sz="3600"/>
            </a:br>
            <a:br>
              <a:rPr sz="3600"/>
            </a:b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«Население п. Светлый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692360" y="522936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Выполнила ученица 10 « А» класса Немтырева Лидия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уководитель Курбатова  Людмила Францевна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Учитель географии СОШ №2 городского округа п.Светлый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42960" y="39204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мы производства продукции промышленных предприятий ЗАТО Светлый 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лугодии 2010 г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00040" y="2214720"/>
          <a:ext cx="8429760" cy="3152520"/>
        </p:xfrm>
        <a:graphic>
          <a:graphicData uri="http://schemas.openxmlformats.org/drawingml/2006/table">
            <a:tbl>
              <a:tblPr/>
              <a:tblGrid>
                <a:gridCol w="2271600"/>
                <a:gridCol w="1229040"/>
                <a:gridCol w="1703160"/>
                <a:gridCol w="1612800"/>
                <a:gridCol w="161316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. изм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ие н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.07.2008 г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ие на 01.07.2009 г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ие на 01.07.2010 г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П «Пекарня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ыс. руб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749,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155, 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156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П «ЖКХ» в т.ч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ыс. руб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 519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001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 306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Услуги населению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316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948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 372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Услуги предпринимателя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204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053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934,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9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Дошкольные учрежд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42960" y="1065240"/>
          <a:ext cx="7674120" cy="4508640"/>
        </p:xfrm>
        <a:graphic>
          <a:graphicData uri="http://schemas.openxmlformats.org/drawingml/2006/table">
            <a:tbl>
              <a:tblPr/>
              <a:tblGrid>
                <a:gridCol w="714240"/>
                <a:gridCol w="3643560"/>
                <a:gridCol w="1627200"/>
                <a:gridCol w="16891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мест в дошкольных учреждениях – всего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ая площадь зданий дошкольных учреждений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70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3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щеобразователь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28760" y="777960"/>
          <a:ext cx="8286480" cy="527508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мест в общеобразовательных школах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58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58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ая площадь зданий общеобразовательных учреждени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28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учащихся в государственных и муниципальных общеобразовательных школах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06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дельный вес учащихся дневных общеобразовательных учреждений, занимающихся во вторую смен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7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ачебные больнич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28760" y="777960"/>
          <a:ext cx="8286480" cy="511164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ачебные больничные учреждения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врачебных больничных коек -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йко/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1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ачебные больнич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28760" y="777960"/>
          <a:ext cx="8286480" cy="511164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коек для беременных женщин и рожениц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йко/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коек для больных людей -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йко/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5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ачебные больнич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28760" y="777960"/>
          <a:ext cx="8286480" cy="534024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врачебных амбулаторно-поликлинических учреждений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щность врачебных амбулаторно- поликлинических учреждений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ещений в смен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9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лубы и развлекатель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28760" y="571680"/>
          <a:ext cx="8286480" cy="614196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зрительских мест в клубах и учреждениях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общедоступных библиот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музее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арков культуры и отдых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детских музыкальных, художественных, хореографических школ и школ искусст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ектная мощность указанных шко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ртивные залы -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9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ссейны плавательные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 зеркала воды - всего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скостные сооружения (стадионы, спортивные площадки)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55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3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2"/>
          <a:stretch/>
        </p:blipFill>
        <p:spPr>
          <a:xfrm>
            <a:off x="420840" y="1438200"/>
            <a:ext cx="7022880" cy="24386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28760" y="40719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населения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7" name="Содержимое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Структура трудоспособного населен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9" name="Содержимое 3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ЦЕЛЬ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ать у учащихся любовь к своей малой родине. Принять активное участие в решении проблем, связанных с реализацией национального проекта в области образования, здравоохранения и социального развития посел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Структура профессиональной деятельности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1" name="Содержимое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ая соединительная линия 5"/>
          <p:cNvSpPr/>
          <p:nvPr/>
        </p:nvSpPr>
        <p:spPr>
          <a:xfrm flipV="1">
            <a:off x="1071720" y="3714840"/>
            <a:ext cx="357120" cy="35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енная служб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57120" y="2785680"/>
            <a:ext cx="41436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сленность военнослужащих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городке составляет 5 тыс.человек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5" name="Рисунок 5" descr="хорошая.JPG"/>
          <p:cNvPicPr/>
          <p:nvPr/>
        </p:nvPicPr>
        <p:blipFill>
          <a:blip r:embed="rId2"/>
          <a:stretch/>
        </p:blipFill>
        <p:spPr>
          <a:xfrm>
            <a:off x="4357800" y="19288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тельные учрежден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Содержимое 2"/>
          <p:cNvSpPr/>
          <p:nvPr/>
        </p:nvSpPr>
        <p:spPr>
          <a:xfrm>
            <a:off x="500040" y="3071880"/>
            <a:ext cx="4429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ников в образовательных учреждениях около 250 челове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Рисунок 4" descr="DSC01335.JPG"/>
          <p:cNvPicPr/>
          <p:nvPr/>
        </p:nvPicPr>
        <p:blipFill>
          <a:blip r:embed="rId2"/>
          <a:stretch/>
        </p:blipFill>
        <p:spPr>
          <a:xfrm>
            <a:off x="5072040" y="3143160"/>
            <a:ext cx="1809720" cy="13575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7" descr="DSC01366.JPG"/>
          <p:cNvPicPr/>
          <p:nvPr/>
        </p:nvPicPr>
        <p:blipFill>
          <a:blip r:embed="rId3"/>
          <a:stretch/>
        </p:blipFill>
        <p:spPr>
          <a:xfrm>
            <a:off x="6429240" y="207180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8" descr="DSC01359.JPG"/>
          <p:cNvPicPr/>
          <p:nvPr/>
        </p:nvPicPr>
        <p:blipFill>
          <a:blip r:embed="rId4"/>
          <a:stretch/>
        </p:blipFill>
        <p:spPr>
          <a:xfrm>
            <a:off x="3857760" y="207180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9" descr="DSC01360.JPG"/>
          <p:cNvPicPr/>
          <p:nvPr/>
        </p:nvPicPr>
        <p:blipFill>
          <a:blip r:embed="rId5"/>
          <a:stretch/>
        </p:blipFill>
        <p:spPr>
          <a:xfrm>
            <a:off x="3857760" y="407196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342" name="Содержимое 6" descr="DSC01363.JPG"/>
          <p:cNvPicPr/>
          <p:nvPr/>
        </p:nvPicPr>
        <p:blipFill>
          <a:blip r:embed="rId6"/>
          <a:stretch/>
        </p:blipFill>
        <p:spPr>
          <a:xfrm>
            <a:off x="6429240" y="4071960"/>
            <a:ext cx="18097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ицинские учрежден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Содержимое 2"/>
          <p:cNvSpPr/>
          <p:nvPr/>
        </p:nvSpPr>
        <p:spPr>
          <a:xfrm>
            <a:off x="428760" y="2857680"/>
            <a:ext cx="4643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СЧ и военном госпитале работ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70 человек, из них в МСЧ - 24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Содержимое 6" descr="P1010133.JPG"/>
          <p:cNvPicPr/>
          <p:nvPr/>
        </p:nvPicPr>
        <p:blipFill>
          <a:blip r:embed="rId2"/>
          <a:stretch/>
        </p:blipFill>
        <p:spPr>
          <a:xfrm>
            <a:off x="5149800" y="2398680"/>
            <a:ext cx="3471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зненно-важные предприят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85480" y="2643120"/>
            <a:ext cx="490068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УП Пекарня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ет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 человек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ЭЧ – более 500 человек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троительной воинской части – 240 человек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фере обслуживания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0 человек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АО «Таймер» заняты около 220 человек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8" name="Рисунок 7" descr="DSC01338.JPG"/>
          <p:cNvPicPr/>
          <p:nvPr/>
        </p:nvPicPr>
        <p:blipFill>
          <a:blip r:embed="rId2"/>
          <a:stretch/>
        </p:blipFill>
        <p:spPr>
          <a:xfrm>
            <a:off x="5000760" y="2357280"/>
            <a:ext cx="27860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новываясь на проведенном исследовании можно сделать следующие выводы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Демографическая ситуация в пос. Светлый по основным критериям соответствует показателям Саратовской области и общероссийским показателям.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роводимые мероприятия администрацией пос. Светлый направленные на стабилизацию и рост  численности населения в п. Светлый дают желаемые результа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посёлке Светлый ведётся активная работа по снижению безработицы путём формирования новых рабочих ме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деляется большое внимание развитию детских дошкольных и школьных учреждени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школе проводится большая разъяснительная и воспитательная  работа среди учащихся  направленная  на  развитие семейных ценностей. Что должно привести в будущем к снижению разводов среди молодёжи и рождению дете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чителя школы  совместно с центром занятости населения в п. Светлом помогают учащимся стать эффективными «диагностами» своей карьеры и принять правильное решение при выборе  будущей професс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ринять меры по улучшению просветительской работы среди населения по мерам предотвращения заболеваемости. Привлечь высококвалифицированные рабочие кадры для работы в поликлинике и больнице п.Светлы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ЗАДАЧИ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яснить численность населения п. Светлый. И ее влияние на развитие инфраструктуры в посел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следовать количество рождающихся и умерших людей в п. Светлый, а также количество заключенных браков и расторгаемых браков. По результатам полученных исследований предложить меры направленные на устранение причин влияющих на вышеуказанные показатели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следовать рынок труда и занятость в п. Светлый. Выявить причины безработицы в поселке и предложить пути выхода из сложившейся ситу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71640" y="162828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Численность населения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Демографические показатели численности насе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14240" y="1000080"/>
          <a:ext cx="7929720" cy="5224680"/>
        </p:xfrm>
        <a:graphic>
          <a:graphicData uri="http://schemas.openxmlformats.org/drawingml/2006/table">
            <a:tbl>
              <a:tblPr/>
              <a:tblGrid>
                <a:gridCol w="3357720"/>
                <a:gridCol w="1643040"/>
                <a:gridCol w="1500120"/>
                <a:gridCol w="14288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-июн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8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-июн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-июн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енность населения, (среднегодовая), че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8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9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 1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родившихся (человек)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льчи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воче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умерших (человек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бра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развод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стественный прирост (на 100 насел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ждаемость (на 1000 насел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ертность (на 1000 насел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3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асел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42960" y="692280"/>
          <a:ext cx="7674120" cy="5744880"/>
        </p:xfrm>
        <a:graphic>
          <a:graphicData uri="http://schemas.openxmlformats.org/drawingml/2006/table">
            <a:tbl>
              <a:tblPr/>
              <a:tblGrid>
                <a:gridCol w="714240"/>
                <a:gridCol w="3643560"/>
                <a:gridCol w="1627200"/>
                <a:gridCol w="16891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Численность постоянного населе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8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пенсионе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52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пенсионеров,  имеющих ограниченные способности к трудовой деятель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дети -инвалид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детей –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7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 них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0 до 6 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7 до 17 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4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6 до 15 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2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детей, состоящих на учете для определения в дошкольное учреждени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7" name="Object 56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258920" y="227664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Демографическая ситуаци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в пос. Светлы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Monotype Corsiva"/>
              </a:rPr>
              <a:t>Сведения о количестве зарегистрированных актов гражданского состояния о рождении, смерти, заключении брака, расторжении брака в городском округе ЗАТО Светлый Саратовской области с 01.01.2010 по 31.12.2010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24000" y="2133720"/>
          <a:ext cx="8351640" cy="4519440"/>
        </p:xfrm>
        <a:graphic>
          <a:graphicData uri="http://schemas.openxmlformats.org/drawingml/2006/table">
            <a:tbl>
              <a:tblPr/>
              <a:tblGrid>
                <a:gridCol w="3392280"/>
                <a:gridCol w="1000080"/>
                <a:gridCol w="1008000"/>
                <a:gridCol w="863640"/>
                <a:gridCol w="1008360"/>
                <a:gridCol w="10792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. Ро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мальчи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девоч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. Смер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мужч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женщ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. Заключение бра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. Расторжение бра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осталось детей при разводах в неполных семь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7:22:17Z</dcterms:created>
  <dc:creator>Helen</dc:creator>
  <dc:description/>
  <dc:language>en-US</dc:language>
  <cp:lastModifiedBy>Kurbatoff</cp:lastModifiedBy>
  <dcterms:modified xsi:type="dcterms:W3CDTF">2011-03-22T11:02:21Z</dcterms:modified>
  <cp:revision>63</cp:revision>
  <dc:subject/>
  <dc:title>Занятость насе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120000000000010243100207f6000400038000</vt:lpwstr>
  </property>
</Properties>
</file>