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CEC-37A2-4657-BC76-84A2ACC0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FF3-D579-4F57-9DD8-A6E77FD5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7F1-8D18-4DC7-9F51-6FB19C67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96B-30DF-4615-9CA3-8BDB9329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ED1-52E4-42B0-AA42-D65F6EC8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F42-8097-49A7-B20D-A3406F4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D29-E97D-42F7-A080-BDBF0F9E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306-10FC-40F5-AC0E-BB85A134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938-6A69-494F-A21A-1C4F23E1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AA4-20AE-4A77-B776-FDCC2340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BED-FC6B-4D89-A567-5EF18F89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E41-88F2-4C94-BC9F-2C36DDF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6C55-3A6E-4A39-A65D-D1CF54075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14440" y="723960"/>
            <a:ext cx="6315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ЕГРОИДНАЯ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6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69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ОНГОЛОИДНАЯ Р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75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064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словия обитания людей оказали влияние на внешний облик человека и способствовали формированию различных р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ЕВРОПЕОИДНАЯ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6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99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1:02:34Z</dcterms:created>
  <dc:creator>COMP</dc:creator>
  <dc:description/>
  <dc:language>en-US</dc:language>
  <cp:lastModifiedBy>COMP</cp:lastModifiedBy>
  <dcterms:modified xsi:type="dcterms:W3CDTF">2013-02-17T14:55:12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d0000000000010250300207f7000400038000</vt:lpwstr>
  </property>
</Properties>
</file>