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8765-3DAE-49E6-A827-5823BAC9C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E790-5927-4EC8-9A87-2B885C9AF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1436-46C5-4C3F-A9E5-5E3CE44A3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E845-F201-409A-A8CB-7E42BEA03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AF7B-BFFD-48B4-A5BA-AAD10486C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0075-03B4-4A27-B9B6-CC0253DA0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84DA-19B8-448D-87F7-74A6A7C2C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C06A-0388-46BC-B337-E770E42B0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5EF8-0B19-40C7-B62C-8AF1F6165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B5E2-F5FA-4EBA-AB9C-F227269B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FDC1-67AF-4860-B1A8-78AC8417B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3324-6FFB-418A-B12C-6562853D6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E5177-0F83-4161-A4AE-5E91FCB3BA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14440" y="723960"/>
            <a:ext cx="63151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НЕГРОИДНАЯ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РАС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56908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2803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69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МОНГОЛОИДНАЯ РАС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835164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84978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28036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692360" y="333360"/>
            <a:ext cx="597528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806436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79200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35164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личные условия обитания людей оказали влияние на внешний облик человека и способствовали формированию различных р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ЕВРОПЕОИДНАЯ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РАС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813600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3563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39952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28036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28036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0T11:02:34Z</dcterms:created>
  <dc:creator>COMP</dc:creator>
  <dc:description/>
  <dc:language>en-US</dc:language>
  <cp:lastModifiedBy>COMP</cp:lastModifiedBy>
  <dcterms:modified xsi:type="dcterms:W3CDTF">2013-02-17T14:55:12Z</dcterms:modified>
  <cp:revision>1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e0d0000000000010250300207f7000400038000</vt:lpwstr>
  </property>
</Properties>
</file>