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945-2D43-4EDB-9C3C-E4DD629D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0E0-A761-4AF8-831B-3A7D773B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6CF-C7A7-4790-8224-1AA02F80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F5D-B53E-4C38-9502-312CC916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1F9-EFC4-4E3A-9419-BEA98F43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AE5-7ACF-4282-8B65-616A6927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D1B-E04F-4AEC-8F31-BD210EA2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7A8-531B-41D7-97E4-06CD8BD5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879-9B31-4AF8-A6D4-F9EADA90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7FC-B88D-499F-94DE-3F4F319E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F39-B0DE-4D30-803D-DC76E6C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7FC-B8B7-430C-81B4-7B76EA6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1314-EA43-43BC-BF62-8097FB92F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14440" y="723960"/>
            <a:ext cx="6315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ЕГРОИДНАЯ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А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69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69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ОНГОЛОИДНАЯ Р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752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064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словия обитания людей оказали влияние на внешний облик человека и способствовали формированию различных р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ЕВРОПЕОИДНАЯ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6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99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1:02:34Z</dcterms:created>
  <dc:creator>COMP</dc:creator>
  <dc:description/>
  <dc:language>en-US</dc:language>
  <cp:lastModifiedBy>COMP</cp:lastModifiedBy>
  <dcterms:modified xsi:type="dcterms:W3CDTF">2013-02-17T14:55:12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d0000000000010250300207f7000400038000</vt:lpwstr>
  </property>
</Properties>
</file>