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EAA-FB83-4BC1-B400-AC97A9BB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9CD-2437-4EEA-AA33-D71A2441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030-2FB7-4A9C-80B5-3EB3D653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A22-D5D5-494F-A2C1-799A2DA6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9DC8-689C-458C-9F6D-6B089D83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8454-B8FA-43B3-B195-895B02E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1DE-FBBD-46C7-A4B3-9DE897F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149-1CD2-4596-B1B3-11F2CB3E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328C-64A9-406B-A7A8-C81B4FA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0CAA-9BEA-4756-B4D6-35B6B38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8721-9473-471E-8361-E010A39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4C5-7345-4E57-8692-06257EC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152-8C2D-4DD4-9AE8-34C61BA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50EA-1461-4690-B3CF-3E90627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FCBA-9AE4-4615-A05B-EEA5AA8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6CC4-B4D8-40B0-86FD-B7912EDE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349B-DED0-45F2-97C3-01C958D4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1B0-552F-400D-96B6-10A87EA3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065-E0DD-42DE-91EB-42B9C61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B5A-95D7-469C-B55C-0FB12D4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619-7B9D-4D30-A0BE-CF2146A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8D6-EB69-45FF-9B76-0ABCB59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83D-B6B1-4589-8340-E409E8EE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450-E130-4CE5-8865-639F4755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6A7-4C82-4881-904A-CA87A059C9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45F0-5347-42BD-BDEA-6FF086D0AD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lteam1.narod.ru/site3/images/symbol/perm_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heraldicum.ru/russia/subjects/towns/images/ekatburg.gi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«Удивительное мы встретили новое чудо, о котором до сих пор не слыхивали… горы, заходящие в морскую лук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м же высота до небе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ревнерусские лето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4941720"/>
            <a:ext cx="1368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Населения Свердловской облас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исленность населения Свердловской области 4395,6 тыс. чел. (5-е место в Росси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2006 г. зафиксировано сокращение численности населения за счёт естественной убыли, которое составило 19,9 тыс. челове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2006 г. число прибывших на территорию Свердловской области превысило число выбывших на 9,5 тыс. челове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лотность населения 22,6 человека на км², что почти втрое выше среднего по РФ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ля городского населения превышает 83 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4826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орода выросли из заводских посел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рбанизация 75%. Около 150 городов, из них 4 – города-миллионера (Екатеринбург, Пермь, Уфа, Челябинск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464000" cy="397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48360" y="476280"/>
            <a:ext cx="39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районе проживает 22 млн. человек. Средняя плотность населения- 25 чел./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граф 53, вопрос 1 (письмен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39236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Население и хозяйственное освоение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51280" y="5949720"/>
            <a:ext cx="216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92" name="" descr="Картинка 3 из 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25244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6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1763640" cy="137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4 из 27"/>
          <p:cNvPicPr/>
          <p:nvPr/>
        </p:nvPicPr>
        <p:blipFill>
          <a:blip r:embed="rId5"/>
          <a:stretch/>
        </p:blipFill>
        <p:spPr>
          <a:xfrm>
            <a:off x="6659640" y="2276640"/>
            <a:ext cx="2195280" cy="18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6 из 62"/>
          <p:cNvPicPr/>
          <p:nvPr/>
        </p:nvPicPr>
        <p:blipFill>
          <a:blip r:embed="rId6"/>
          <a:stretch/>
        </p:blipFill>
        <p:spPr>
          <a:xfrm>
            <a:off x="7093080" y="115920"/>
            <a:ext cx="1406520" cy="18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5080" y="1844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4125960"/>
            <a:ext cx="8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Ку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6880" y="17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3716280"/>
            <a:ext cx="162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Картинка 9 из 32"/>
          <p:cNvPicPr/>
          <p:nvPr/>
        </p:nvPicPr>
        <p:blipFill>
          <a:blip r:embed="rId7"/>
          <a:stretch/>
        </p:blipFill>
        <p:spPr>
          <a:xfrm>
            <a:off x="7308720" y="4653000"/>
            <a:ext cx="1314720" cy="172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10880" y="6357960"/>
            <a:ext cx="1194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5 из 36"/>
          <p:cNvPicPr/>
          <p:nvPr/>
        </p:nvPicPr>
        <p:blipFill>
          <a:blip r:embed="rId8"/>
          <a:stretch/>
        </p:blipFill>
        <p:spPr>
          <a:xfrm>
            <a:off x="395280" y="4508640"/>
            <a:ext cx="1544760" cy="187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8720" y="6375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У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12 из 24"/>
          <p:cNvPicPr/>
          <p:nvPr/>
        </p:nvPicPr>
        <p:blipFill>
          <a:blip r:embed="rId9"/>
          <a:stretch/>
        </p:blipFill>
        <p:spPr>
          <a:xfrm>
            <a:off x="370836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672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Удму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28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Люди заселяли Урал и продвигались постепенно, вдоль горных степей до края ледн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Древнее население Урала – предки удмуртов, коми, хантов и других в эпоху первобытности создали богатую и своеобразную культуру</a:t>
            </a:r>
            <a:r>
              <a:rPr b="1" i="1" lang="ru-RU" sz="2000" spc="-1" strike="noStrike">
                <a:solidFill>
                  <a:srgbClr val="000000"/>
                </a:solidFill>
                <a:latin typeface="Papyrus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492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Заселение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тоянки первобытного чело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pyru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Южном Урале появляется много стоянок первобытного человека. Как правило, они располагались вблизи озер.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64000" y="3110040"/>
            <a:ext cx="5483160" cy="35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5280" y="2997360"/>
            <a:ext cx="3240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оз. Еловое жилища представляли собой шалаши из жердей. В землю жерди уходили неглубоко, на величину д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Население Южного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Papyrus"/>
              </a:rPr>
              <a:t>Первые люди разговаривали на языке современных народов ханты и манси. В степях Южного Урала, а также на территории Челябинской области жили абашевские племе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76800" y="1397160"/>
            <a:ext cx="4867200" cy="546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Этапы проникновения русских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на Ура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-XIV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 – распространение новгородского влияния на  северные и северо-восточные районы Урала. Развитие пушного промыс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этап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еред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– проникновение московитян на Урал. Присоединение к Москве Новгорода и всех его владений, включая уральск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этап – вторая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-  Присоединение Башкирии, открытие Южно-Уральских г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этап – начало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– поход Ермака, активная хозяйственная деятельность Строгановых  на Каме и Чусов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-42840"/>
            <a:ext cx="7380360" cy="690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3840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7003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Города – заводы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Население УрЭР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322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вропа - Аз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2276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тык цивил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5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азнообразие национального и этнического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916280"/>
            <a:ext cx="0" cy="50472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3141720"/>
            <a:ext cx="0" cy="57636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373720"/>
            <a:ext cx="87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селение многонациональное: русские- 80%, башкиры, удмурты, коми-пермяки, мордва, чуваши, марийцы, т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04:30Z</dcterms:created>
  <dc:creator>teacher</dc:creator>
  <dc:description/>
  <dc:language>en-US</dc:language>
  <cp:lastModifiedBy>Miheeva</cp:lastModifiedBy>
  <dcterms:modified xsi:type="dcterms:W3CDTF">2010-03-04T13:38:51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a0000000000010250300207f7000400038000</vt:lpwstr>
  </property>
</Properties>
</file>