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A62-FA34-4691-8583-68F95FB5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41D-EFDC-4A70-A309-1679EA6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9EC-5E0C-43B8-98AF-2A720749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FA9-0DCF-47EB-B301-85F21D4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47D-D98D-4DA9-81F5-B9413068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E00-4F95-4393-98FB-9976CA41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C992-0138-4BE2-A14F-7C9E135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CBD1-A79C-43D8-A077-36B94B34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C094-5AA9-4A8E-8316-AE91E06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EDC-3176-412C-8FFB-C73A8AC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61A-2387-436C-83CB-6CCC5A1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D07-DAB2-4897-99D8-2B26556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D13F-00D2-4EEF-A521-76482BB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D2A1-096B-45D5-BD3A-CD8803D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76D1-3323-4330-ACEF-437800F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8633-1485-4AE9-B8D9-3FC97261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83F1-74AB-4B9B-BDFD-55920782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DD7-30B4-4004-A558-A4E0B6F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D37-D335-47CB-B195-9C0005A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2DC-F0CC-40FE-9DC5-C158EE6E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077-D7D5-49F9-85C6-5BAB72DD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793-0828-479D-ADC8-172CDA8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988-036F-4938-86FA-04A54F70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F29-77DE-4F69-917C-CC25C8C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279-50C9-4435-AEFE-D76FE5453D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906-FCCC-4C68-8882-FF99D9213C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lteam1.narod.ru/site3/images/symbol/perm_g.gif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heraldicum.ru/russia/subjects/towns/images/ekatburg.gi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«Удивительное мы встретили новое чудо, о котором до сих пор не слыхивали… горы, заходящие в морскую луку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им же высота до небес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ревнерусские лето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4941720"/>
            <a:ext cx="1368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Населения Свердловской облас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исленность населения Свердловской области 4395,6 тыс. чел. (5-е место в Росси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зафиксировано сокращение численности населения за счёт естественной убыли, которое составило 19,9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2006 г. число прибывших на территорию Свердловской области превысило число выбывших на 9,5 тыс. челове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лотность населения 22,6 человека на км², что почти втрое выше среднего по РФ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ля городского населения превышает 83 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284280"/>
            <a:ext cx="4826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орода выросли из заводских посел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рбанизация 75%. Около 150 городов, из них 4 – города-миллионера (Екатеринбург, Пермь, Уфа, Челябинск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22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4464000" cy="397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48360" y="476280"/>
            <a:ext cx="39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районе проживает 22 млн. человек. Средняя плотность населения- 25 чел./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раграф 53, вопрос 1 (письмен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39236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и хозяйственное осво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1280" y="5949720"/>
            <a:ext cx="216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92" name="" descr="Картинка 3 из 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60280"/>
            <a:ext cx="125244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6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6640"/>
            <a:ext cx="1763640" cy="137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4 из 27"/>
          <p:cNvPicPr/>
          <p:nvPr/>
        </p:nvPicPr>
        <p:blipFill>
          <a:blip r:embed="rId5"/>
          <a:stretch/>
        </p:blipFill>
        <p:spPr>
          <a:xfrm>
            <a:off x="6659640" y="2276640"/>
            <a:ext cx="2195280" cy="1842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6 из 62"/>
          <p:cNvPicPr/>
          <p:nvPr/>
        </p:nvPicPr>
        <p:blipFill>
          <a:blip r:embed="rId6"/>
          <a:stretch/>
        </p:blipFill>
        <p:spPr>
          <a:xfrm>
            <a:off x="7093080" y="115920"/>
            <a:ext cx="1406520" cy="18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65080" y="18446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Челяб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4125960"/>
            <a:ext cx="897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Ку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6880" y="17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3716280"/>
            <a:ext cx="162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Картинка 9 из 32"/>
          <p:cNvPicPr/>
          <p:nvPr/>
        </p:nvPicPr>
        <p:blipFill>
          <a:blip r:embed="rId7"/>
          <a:stretch/>
        </p:blipFill>
        <p:spPr>
          <a:xfrm>
            <a:off x="7308720" y="4653000"/>
            <a:ext cx="1314720" cy="172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10880" y="6357960"/>
            <a:ext cx="1194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Картинка 5 из 36"/>
          <p:cNvPicPr/>
          <p:nvPr/>
        </p:nvPicPr>
        <p:blipFill>
          <a:blip r:embed="rId8"/>
          <a:stretch/>
        </p:blipFill>
        <p:spPr>
          <a:xfrm>
            <a:off x="395280" y="4508640"/>
            <a:ext cx="1544760" cy="187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8720" y="63752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12 из 24"/>
          <p:cNvPicPr/>
          <p:nvPr/>
        </p:nvPicPr>
        <p:blipFill>
          <a:blip r:embed="rId9"/>
          <a:stretch/>
        </p:blipFill>
        <p:spPr>
          <a:xfrm>
            <a:off x="370836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672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Удму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28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Люди заселяли Урал и продвигались постепенно, вдоль горных степей до края ледн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Papyrus"/>
              </a:rPr>
              <a:t>Древнее население Урала – предки удмуртов, коми, хантов и других в эпоху первобытности создали богатую и своеобразную культуру</a:t>
            </a:r>
            <a:r>
              <a:rPr b="1" i="1" lang="ru-RU" sz="2000" spc="-1" strike="noStrike">
                <a:solidFill>
                  <a:srgbClr val="000000"/>
                </a:solidFill>
                <a:latin typeface="Papyrus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94920" y="0"/>
            <a:ext cx="655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Заселение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тоянки первобытного чело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pyru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Южном Урале появляется много стоянок первобытного человека. Как правило, они располагались вблизи озер.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3110040"/>
            <a:ext cx="5483160" cy="35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395280" y="2997360"/>
            <a:ext cx="3240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оз. Еловое жилища представляли собой шалаши из жердей. В землю жерди уходили неглубоко, на величину д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Население Южного Урал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3683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Papyru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Papyrus"/>
              </a:rPr>
              <a:t>Первые люди разговаривали на языке современных народов ханты и манси. В степях Южного Урала, а также на территории Челябинской области жили абашевские племе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76800" y="1397160"/>
            <a:ext cx="4867200" cy="546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Этапы проникновения русских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на Урал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-XIV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 – распространение новгородского влияния на  северные и северо-восточные районы Урала. Развитие пушного промыс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этап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еред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роникновение московитян на Урал. Присоединение к Москве Новгорода и всех его владений, включая уральск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этап – вторая полов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-  Присоединение Башкирии, открытие Южно-Уральских г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этап – начал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а – поход Ермака, активная хозяйственная деятельность Строгановых  на Каме и Чусов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-42840"/>
            <a:ext cx="7380360" cy="690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3840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43280" y="-360"/>
            <a:ext cx="27003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Города – заводы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Население УрЭР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3224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Европа - Аз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227664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тык цивил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57336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знообразие национального и этнического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916280"/>
            <a:ext cx="0" cy="50472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3141720"/>
            <a:ext cx="0" cy="576360"/>
          </a:xfrm>
          <a:prstGeom prst="line">
            <a:avLst/>
          </a:prstGeom>
          <a:ln w="889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373720"/>
            <a:ext cx="87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селение многонациональное: русские- 80%, башкиры, удмурты, коми-пермяки, мордва, чуваши, марийцы, т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04:30Z</dcterms:created>
  <dc:creator>teacher</dc:creator>
  <dc:description/>
  <dc:language>en-US</dc:language>
  <cp:lastModifiedBy>Miheeva</cp:lastModifiedBy>
  <dcterms:modified xsi:type="dcterms:W3CDTF">2010-03-04T13:38:51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a0000000000010250300207f7000400038000</vt:lpwstr>
  </property>
</Properties>
</file>