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E53-08DA-4AAD-BA00-63754194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0F49-D4C4-4C57-949A-041848C8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B80-BC9E-4EBA-BAAF-AFD1C936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F145-9744-44F9-8CF2-D88D0F7B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CB97-DB60-47DE-8F8E-E7782A54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6AE9-4057-4DDB-9EFE-CCDD59B3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19C7-195A-402A-B95F-03453D50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F12D-D4C0-4A33-943A-F251CD97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B22E-3692-4BF5-957C-2717660E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1F3E-CBCF-4311-A108-013BE1E3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07E7-39C2-481F-9451-7D51AD63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DBC4-D7E7-444E-A234-AC6364D5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6A08-7C4D-4B4B-9C1E-2FC12DE9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BECF-8660-4D41-B26F-764D9E07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AD4A-8639-48FD-908A-DE860FB4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C13A-9D8A-482F-9FEC-E295DB31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0E37-BA0D-46B5-9C47-07C61729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04A-A463-47EA-9CB3-28ADC87E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C1E-4795-4989-ABE0-4F01DE1A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00F-EBF0-41F6-8ECB-6DAC8C0A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69D-AD83-4710-B6E1-31533967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9D2-2F14-467A-8988-38DF8D6C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D3F-F85F-4BCC-BE96-2DB8F180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C2D-591E-4A46-859A-ED358D39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F9A6-AB73-4184-9FCA-36ABAE05AD5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7A23-3058-4DB5-8439-EFBB5F776D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lteam1.narod.ru/site3/images/symbol/perm_g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heraldicum.ru/russia/subjects/towns/images/ekatburg.gif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«Удивительное мы встретили новое чудо, о котором до сих пор не слыхивали… горы, заходящие в морскую луку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им же высота до небес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ревнерусские лето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19640" y="4941720"/>
            <a:ext cx="13683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7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Населения Свердловской област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Численность населения Свердловской области 4395,6 тыс. чел. (5-е место в России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 2006 г. зафиксировано сокращение численности населения за счёт естественной убыли, которое составило 19,9 тыс. челове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 2006 г. число прибывших на территорию Свердловской области превысило число выбывших на 9,5 тыс. челове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лотность населения 22,6 человека на км², что почти втрое выше среднего по РФ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оля городского населения превышает 83 %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3284280"/>
            <a:ext cx="48261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орода выросли из заводских посел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Урбанизация 75%. Около 150 городов, из них 4 – города-миллионера (Екатеринбург, Пермь, Уфа, Челябинск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3227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88000" y="2781360"/>
            <a:ext cx="4464000" cy="3979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148360" y="476280"/>
            <a:ext cx="399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районе проживает 22 млн. человек. Средняя плотность населения- 25 чел./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Домашнее зада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раграф 53, вопрос 1 (письмен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5280" y="549000"/>
            <a:ext cx="439236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Население и хозяйственное освоение Урал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51280" y="5949720"/>
            <a:ext cx="216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Verdana"/>
            </a:endParaRPr>
          </a:p>
        </p:txBody>
      </p:sp>
      <p:pic>
        <p:nvPicPr>
          <p:cNvPr id="92" name="" descr="Картинка 3 из 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60280"/>
            <a:ext cx="1252440" cy="1584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Картинка 6 из 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276640"/>
            <a:ext cx="1763640" cy="1376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Картинка 4 из 27"/>
          <p:cNvPicPr/>
          <p:nvPr/>
        </p:nvPicPr>
        <p:blipFill>
          <a:blip r:embed="rId5"/>
          <a:stretch/>
        </p:blipFill>
        <p:spPr>
          <a:xfrm>
            <a:off x="6659640" y="2276640"/>
            <a:ext cx="2195280" cy="1842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Картинка 6 из 62"/>
          <p:cNvPicPr/>
          <p:nvPr/>
        </p:nvPicPr>
        <p:blipFill>
          <a:blip r:embed="rId6"/>
          <a:stretch/>
        </p:blipFill>
        <p:spPr>
          <a:xfrm>
            <a:off x="7093080" y="115920"/>
            <a:ext cx="1406520" cy="182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165080" y="184464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Челяб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08720" y="4125960"/>
            <a:ext cx="897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Ку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6880" y="170028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Перм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9800" y="3716280"/>
            <a:ext cx="1628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Екатер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Картинка 9 из 32"/>
          <p:cNvPicPr/>
          <p:nvPr/>
        </p:nvPicPr>
        <p:blipFill>
          <a:blip r:embed="rId7"/>
          <a:stretch/>
        </p:blipFill>
        <p:spPr>
          <a:xfrm>
            <a:off x="7308720" y="4653000"/>
            <a:ext cx="1314720" cy="1728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310880" y="6357960"/>
            <a:ext cx="1194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Оре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Картинка 5 из 36"/>
          <p:cNvPicPr/>
          <p:nvPr/>
        </p:nvPicPr>
        <p:blipFill>
          <a:blip r:embed="rId8"/>
          <a:stretch/>
        </p:blipFill>
        <p:spPr>
          <a:xfrm>
            <a:off x="395280" y="4508640"/>
            <a:ext cx="1544760" cy="1873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8720" y="63752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У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Картинка 12 из 24"/>
          <p:cNvPicPr/>
          <p:nvPr/>
        </p:nvPicPr>
        <p:blipFill>
          <a:blip r:embed="rId9"/>
          <a:stretch/>
        </p:blipFill>
        <p:spPr>
          <a:xfrm>
            <a:off x="3708360" y="443700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96720" y="62373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Удмур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428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Papyrus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Papyrus"/>
              </a:rPr>
              <a:t>Люди заселяли Урал и продвигались постепенно, вдоль горных степей до края ледни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Papyrus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Papyrus"/>
              </a:rPr>
              <a:t>Древнее население Урала – предки удмуртов, коми, хантов и других в эпоху первобытности создали богатую и своеобразную культуру</a:t>
            </a:r>
            <a:r>
              <a:rPr b="1" i="1" lang="ru-RU" sz="2000" spc="-1" strike="noStrike">
                <a:solidFill>
                  <a:srgbClr val="000000"/>
                </a:solidFill>
                <a:latin typeface="Papyrus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314960" y="0"/>
            <a:ext cx="482904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94920" y="0"/>
            <a:ext cx="6553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Заселение Урал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Стоянки первобытного челове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pyrus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 Южном Урале появляется много стоянок первобытного человека. Как правило, они располагались вблизи озер.</a:t>
            </a:r>
            <a:r>
              <a:rPr b="0" i="1" lang="en-US" sz="2800" spc="-1" strike="noStrike">
                <a:solidFill>
                  <a:srgbClr val="000000"/>
                </a:solidFill>
                <a:latin typeface="Papyrus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64000" y="3110040"/>
            <a:ext cx="5483160" cy="3585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395280" y="2997360"/>
            <a:ext cx="32400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 оз. Еловое жилища представляли собой шалаши из жердей. В землю жерди уходили неглубоко, на величину дер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Население Южного Урал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3683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Papyrus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Papyrus"/>
              </a:rPr>
              <a:t>Первые люди разговаривали на языке современных народов ханты и манси. В степях Южного Урала, а также на территории Челябинской области жили абашевские племе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76800" y="1397160"/>
            <a:ext cx="4867200" cy="5460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Этапы проникновения русских 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на Урал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 этап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-XIV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к – распространение новгородского влияния на  северные и северо-восточные районы Урала. Развитие пушного промыс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 этап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V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ередин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VI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ка – проникновение московитян на Урал. Присоединение к Москве Новгорода и всех его владений, включая уральск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этап – вторая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ка -  Присоединение Башкирии, открытие Южно-Уральских г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 этап – начало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ка – поход Ермака, активная хозяйственная деятельность Строгановых  на Каме и Чусов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63640" y="-42840"/>
            <a:ext cx="7380360" cy="6900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3038400" cy="4724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43280" y="-360"/>
            <a:ext cx="270036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Города – заводы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9900"/>
                </a:solidFill>
                <a:latin typeface="Garamond"/>
              </a:rPr>
              <a:t>Население УрЭР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3322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Европа - Аз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708360" y="141300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9280" y="227664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тык цивилиз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3573360"/>
            <a:ext cx="35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Разнообразие национального и этнического сост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1916280"/>
            <a:ext cx="0" cy="504720"/>
          </a:xfrm>
          <a:prstGeom prst="line">
            <a:avLst/>
          </a:prstGeom>
          <a:ln w="889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9640" y="3141720"/>
            <a:ext cx="0" cy="576360"/>
          </a:xfrm>
          <a:prstGeom prst="line">
            <a:avLst/>
          </a:prstGeom>
          <a:ln w="889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5373720"/>
            <a:ext cx="87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селение многонациональное: русские- 80%, башкиры, удмурты, коми-пермяки, мордва, чуваши, марийцы, тат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7:04:30Z</dcterms:created>
  <dc:creator>teacher</dc:creator>
  <dc:description/>
  <dc:language>en-US</dc:language>
  <cp:lastModifiedBy>Miheeva</cp:lastModifiedBy>
  <dcterms:modified xsi:type="dcterms:W3CDTF">2010-03-04T13:38:51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0a0000000000010250300207f7000400038000</vt:lpwstr>
  </property>
</Properties>
</file>