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AE49-9378-4783-B4DE-7068ACA5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1B64-3842-43BD-AFA0-843032AB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D384-2757-45F3-931E-F1C8268B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B00C-5BC9-428A-9CC0-7F94C1381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3CDB-333A-4C3A-9DC3-EE34425E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CD36-CFFD-422A-8B2F-A0B3C5CD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6E92-2511-491F-97BE-AF0FCEDA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8C99-CB43-491A-953E-39381BF1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106C-11AC-4B5E-A993-2C8227D4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D2DD-96F1-42C1-98AA-9C1842BA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1CB9-A5EB-4553-8F69-685E56BE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7BB4-823F-4EED-B6AB-C8D67183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1D68-F76D-4C5B-878E-C804D9C9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7DF2-29BD-4CE5-AB86-CB1B4249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E9A9-3831-4160-B4DE-E1098DF3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39DD-4D5D-48B0-BB16-4978964F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F2AF-F1E0-4E28-9309-A7E85CDA5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630A5-9E1C-4FFE-B57D-9446E665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49B00-F208-4878-AD80-33C51627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0EC2C-5B54-4AC6-A6EA-C1F3C1F9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8BE1C-4BEA-4765-AAF2-D39F92F1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B771C-20FC-4913-A1CF-95A161C7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34C7-EC51-482D-A986-B74E4907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06FB6-4358-41D2-BCB5-7CBAE888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8F400-2995-4332-842A-79F32611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5F8E8-3B0A-450C-9097-1A36A680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B8904-7575-454B-B2A4-E2A3CB6A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0295D-CAE1-4BC6-BF75-6D4626CC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47C95-5D44-4671-A161-357EEEE5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4F266-168C-446B-883E-A6DF20FF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C71E-9021-412B-82EF-A425AE1B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24C6-40F4-4DA7-97FA-B37A846B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DBCF-F135-4A60-9170-245FA319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BFF3-AA2F-4951-93E4-20AB070F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7B3A-9156-4980-B6C9-8394DE5A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7880-1628-419A-BBBE-8EB6088A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1CB0-7648-4873-B18F-96F5531F98B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7AD6-8436-4473-910E-5E2DE8E1ACF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6EF0-743E-4C66-A4ED-FCFF7DFDAD3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helteam1.narod.ru/site3/images/symbol/perm_g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heraldicum.ru/russia/subjects/towns/images/ekatburg.gif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Удивительное мы встретили новое чудо, о котором до сих пор не слыхивали… горы, заходящие в морскую луку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м же высота до небес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евнерусские лето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Население. Коренные народы: башкиры – тюркская группа, удмурты – финская группа, коми-пермяки – финская группа Основу системы расселения Урала составляют города. Их более 140. 70 % современных городов основывались сразу как городские поселения в эпоху Петра I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Население. Основные причины миграции – суровые климатические условия, слабое развитие социальной инфраструктуры, сложность трудоустройства женщин, катастрофическая экологическая ситуация. Только в последние годы благодаря исходу русского населения из государств центральной Азии число въезжающих в район стало превышать число отъезжающих из него. В основном уезжает из района молодежь. Поэтому населеие Урала из года в год всё более стареет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3284280"/>
            <a:ext cx="48261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орода выросли из заводских посел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рбанизация 75%. Около 150 городов, из них 4 – города-миллионера (Екатеринбург, Пермь, Уфа, Челябинск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Челябинск"/>
          <p:cNvPicPr/>
          <p:nvPr/>
        </p:nvPicPr>
        <p:blipFill>
          <a:blip r:embed="rId1"/>
          <a:stretch/>
        </p:blipFill>
        <p:spPr>
          <a:xfrm>
            <a:off x="0" y="0"/>
            <a:ext cx="5076720" cy="3227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Екатеринбург"/>
          <p:cNvPicPr/>
          <p:nvPr/>
        </p:nvPicPr>
        <p:blipFill>
          <a:blip r:embed="rId2"/>
          <a:stretch/>
        </p:blipFill>
        <p:spPr>
          <a:xfrm>
            <a:off x="4788000" y="2781360"/>
            <a:ext cx="4464000" cy="3979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Копия Фото0065"/>
          <p:cNvPicPr/>
          <p:nvPr/>
        </p:nvPicPr>
        <p:blipFill>
          <a:blip r:embed="rId1"/>
          <a:stretch/>
        </p:blipFill>
        <p:spPr>
          <a:xfrm>
            <a:off x="1763640" y="-42840"/>
            <a:ext cx="7380360" cy="6900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Фото0065"/>
          <p:cNvPicPr/>
          <p:nvPr/>
        </p:nvPicPr>
        <p:blipFill>
          <a:blip r:embed="rId2"/>
          <a:stretch/>
        </p:blipFill>
        <p:spPr>
          <a:xfrm>
            <a:off x="0" y="2133720"/>
            <a:ext cx="3038400" cy="47242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43280" y="-360"/>
            <a:ext cx="270036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Garamond"/>
              </a:rPr>
              <a:t>Города – заводы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Домашнее задание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раграф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8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вопросы на стр.159, задание №5 (письмен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280" y="549000"/>
            <a:ext cx="4392360" cy="301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9900"/>
                </a:solidFill>
                <a:latin typeface="Garamond"/>
              </a:rPr>
              <a:t>Население и города Урала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51280" y="5949720"/>
            <a:ext cx="2160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cc00"/>
              </a:solidFill>
              <a:latin typeface="Verdana"/>
            </a:endParaRPr>
          </a:p>
        </p:txBody>
      </p:sp>
      <p:pic>
        <p:nvPicPr>
          <p:cNvPr id="138" name="Picture 5" descr="Картинка 3 из 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60280"/>
            <a:ext cx="1252440" cy="158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Картинка 6 из 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2276640"/>
            <a:ext cx="1763640" cy="1376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Картинка 4 из 27"/>
          <p:cNvPicPr/>
          <p:nvPr/>
        </p:nvPicPr>
        <p:blipFill>
          <a:blip r:embed="rId5"/>
          <a:stretch/>
        </p:blipFill>
        <p:spPr>
          <a:xfrm>
            <a:off x="6659640" y="2276640"/>
            <a:ext cx="2195280" cy="1842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Картинка 6 из 62"/>
          <p:cNvPicPr/>
          <p:nvPr/>
        </p:nvPicPr>
        <p:blipFill>
          <a:blip r:embed="rId6"/>
          <a:stretch/>
        </p:blipFill>
        <p:spPr>
          <a:xfrm>
            <a:off x="7093080" y="115920"/>
            <a:ext cx="1406520" cy="18273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9"/>
          <p:cNvSpPr/>
          <p:nvPr/>
        </p:nvSpPr>
        <p:spPr>
          <a:xfrm>
            <a:off x="7165080" y="184464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Arial"/>
              </a:rPr>
              <a:t>Челябинс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7308720" y="4125960"/>
            <a:ext cx="897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Arial"/>
              </a:rPr>
              <a:t>Курга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686880" y="170028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Arial"/>
              </a:rPr>
              <a:t>Перм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469800" y="3716280"/>
            <a:ext cx="1628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Arial"/>
              </a:rPr>
              <a:t>Екатеринбур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13" descr="Картинка 9 из 32"/>
          <p:cNvPicPr/>
          <p:nvPr/>
        </p:nvPicPr>
        <p:blipFill>
          <a:blip r:embed="rId7"/>
          <a:stretch/>
        </p:blipFill>
        <p:spPr>
          <a:xfrm>
            <a:off x="7308720" y="4653000"/>
            <a:ext cx="1314720" cy="1728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4"/>
          <p:cNvSpPr/>
          <p:nvPr/>
        </p:nvSpPr>
        <p:spPr>
          <a:xfrm>
            <a:off x="7310880" y="6357960"/>
            <a:ext cx="1194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Arial"/>
              </a:rPr>
              <a:t>Оренбур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15" descr="Картинка 5 из 36"/>
          <p:cNvPicPr/>
          <p:nvPr/>
        </p:nvPicPr>
        <p:blipFill>
          <a:blip r:embed="rId8"/>
          <a:stretch/>
        </p:blipFill>
        <p:spPr>
          <a:xfrm>
            <a:off x="395280" y="4508640"/>
            <a:ext cx="1544760" cy="18730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6"/>
          <p:cNvSpPr/>
          <p:nvPr/>
        </p:nvSpPr>
        <p:spPr>
          <a:xfrm>
            <a:off x="828720" y="63752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Arial"/>
              </a:rPr>
              <a:t>Уф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17" descr="Картинка 12 из 24"/>
          <p:cNvPicPr/>
          <p:nvPr/>
        </p:nvPicPr>
        <p:blipFill>
          <a:blip r:embed="rId9"/>
          <a:stretch/>
        </p:blipFill>
        <p:spPr>
          <a:xfrm>
            <a:off x="3708360" y="443700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8"/>
          <p:cNvSpPr/>
          <p:nvPr/>
        </p:nvSpPr>
        <p:spPr>
          <a:xfrm>
            <a:off x="3996720" y="623736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00"/>
                </a:solidFill>
                <a:latin typeface="Arial"/>
              </a:rPr>
              <a:t>Удмурт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Прямоугольник 2" descr=""/>
          <p:cNvPicPr/>
          <p:nvPr/>
        </p:nvPicPr>
        <p:blipFill>
          <a:blip r:embed="rId1"/>
          <a:stretch/>
        </p:blipFill>
        <p:spPr>
          <a:xfrm>
            <a:off x="360360" y="426960"/>
            <a:ext cx="8362800" cy="9810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3"/>
          <p:cNvSpPr/>
          <p:nvPr/>
        </p:nvSpPr>
        <p:spPr>
          <a:xfrm>
            <a:off x="785880" y="2000160"/>
            <a:ext cx="3929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состав Уральского экономического района входят: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Курганская, Оренбургская, Пермская, Свердловская, Челябинская области,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 так же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республики Башкортостан и Удмуртска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2" descr="image002"/>
          <p:cNvPicPr/>
          <p:nvPr/>
        </p:nvPicPr>
        <p:blipFill>
          <a:blip r:embed="rId2"/>
          <a:stretch/>
        </p:blipFill>
        <p:spPr>
          <a:xfrm>
            <a:off x="5108400" y="1352520"/>
            <a:ext cx="3907080" cy="535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9900"/>
                </a:solidFill>
                <a:latin typeface="Garamond"/>
              </a:rPr>
              <a:t>Население Южного Урала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3683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Papyrus"/>
              </a:rPr>
              <a:t>         </a:t>
            </a:r>
            <a:r>
              <a:rPr b="1" i="1" lang="ru-RU" sz="2800" spc="-1" strike="noStrike">
                <a:solidFill>
                  <a:srgbClr val="000000"/>
                </a:solidFill>
                <a:latin typeface="Papyrus"/>
              </a:rPr>
              <a:t>Первые люди разговаривали на языке современных народов ханты и манси. В степях Южного Урала, а также на территории Челябинской области жили абашевские племе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5" descr="DSCF1055"/>
          <p:cNvPicPr/>
          <p:nvPr/>
        </p:nvPicPr>
        <p:blipFill>
          <a:blip r:embed="rId1"/>
          <a:stretch/>
        </p:blipFill>
        <p:spPr>
          <a:xfrm>
            <a:off x="4276800" y="1397160"/>
            <a:ext cx="4867200" cy="5460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9900"/>
                </a:solidFill>
                <a:latin typeface="Garamond"/>
              </a:rPr>
              <a:t>Население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3322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вропа - Аз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5" descr="yt3"/>
          <p:cNvPicPr/>
          <p:nvPr/>
        </p:nvPicPr>
        <p:blipFill>
          <a:blip r:embed="rId1"/>
          <a:stretch/>
        </p:blipFill>
        <p:spPr>
          <a:xfrm>
            <a:off x="3708360" y="141300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179280" y="227664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ык цивилизац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250920" y="3573360"/>
            <a:ext cx="352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нообразие национального и этнического соста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1979640" y="1916280"/>
            <a:ext cx="0" cy="504720"/>
          </a:xfrm>
          <a:prstGeom prst="line">
            <a:avLst/>
          </a:prstGeom>
          <a:ln w="889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1979640" y="3141720"/>
            <a:ext cx="0" cy="576360"/>
          </a:xfrm>
          <a:prstGeom prst="line">
            <a:avLst/>
          </a:prstGeom>
          <a:ln w="889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250920" y="5373720"/>
            <a:ext cx="87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селение многонациональное: русские- 80%, башкиры, удмурты, коми-пермяки, мордва, чуваши, марийцы, татар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Задание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428480"/>
            <a:ext cx="419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Определит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численность и плотность населения района. Оцените степень заселения территории УЭ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Проанализируйт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намику численности населения района. Сделайте вывод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Оценит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рбанизированность района. Перечислите города-миллионеры Урал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рал – многонациональный район. Как происходило заселение территор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уя Интернет-ресурсы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составьт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рассказ о народах, проживающих на Урал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6" descr="Картинка 2 из 10726"/>
          <p:cNvPicPr/>
          <p:nvPr/>
        </p:nvPicPr>
        <p:blipFill>
          <a:blip r:embed="rId1"/>
          <a:stretch/>
        </p:blipFill>
        <p:spPr>
          <a:xfrm>
            <a:off x="6521400" y="0"/>
            <a:ext cx="2622600" cy="3357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Картинка 7 из 11630"/>
          <p:cNvPicPr/>
          <p:nvPr/>
        </p:nvPicPr>
        <p:blipFill>
          <a:blip r:embed="rId2"/>
          <a:stretch/>
        </p:blipFill>
        <p:spPr>
          <a:xfrm>
            <a:off x="4429080" y="1285920"/>
            <a:ext cx="2165400" cy="3071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Картинка 9 из 11630"/>
          <p:cNvPicPr/>
          <p:nvPr/>
        </p:nvPicPr>
        <p:blipFill>
          <a:blip r:embed="rId3"/>
          <a:stretch/>
        </p:blipFill>
        <p:spPr>
          <a:xfrm>
            <a:off x="6643800" y="3171960"/>
            <a:ext cx="250020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Прямоугольник 3" descr=""/>
          <p:cNvPicPr/>
          <p:nvPr/>
        </p:nvPicPr>
        <p:blipFill>
          <a:blip r:embed="rId1"/>
          <a:stretch/>
        </p:blipFill>
        <p:spPr>
          <a:xfrm>
            <a:off x="268200" y="225360"/>
            <a:ext cx="7454880" cy="174312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4"/>
          <p:cNvSpPr/>
          <p:nvPr/>
        </p:nvSpPr>
        <p:spPr>
          <a:xfrm>
            <a:off x="571680" y="1428840"/>
            <a:ext cx="78580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районе проживает 20.4 млн. человек. Средняя плотность населения- 25 чел./км, но в южных и особенно северных районах она резко снижается( до 1 чел./км и ниже). Население Урала за последние годы несколько выросло за счет русских переселенцев из Средней Азии и Казахстана, но в дальнейшем оно будет сокращаться, поскольку естественный прирост в районе- отрицательный(-5). Для Урала характерен высокий уровень урбанизированности, сосредоточение большинства населения в крупных городах, что в значительной степени объясняется преобладанием крупных предприятий в промышленности Ура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5219640" y="4941720"/>
            <a:ext cx="136836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007 г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342108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Население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214280"/>
            <a:ext cx="407196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Урал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граница между двумя культурными мирами, двумя цивилизациями. За свою историю он испытал множество влияний разных народов: индусов и греков, китайцев и финнов, угров и персов, арабов и скифов, булгар и тюркских племён. Особенно сильное влияние оказала культура русски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AutoShape 4"/>
          <p:cNvSpPr/>
          <p:nvPr/>
        </p:nvSpPr>
        <p:spPr>
          <a:xfrm rot="5400000">
            <a:off x="6751440" y="4749480"/>
            <a:ext cx="647640" cy="720720"/>
          </a:xfrm>
          <a:prstGeom prst="rightArrowCallout">
            <a:avLst>
              <a:gd name="adj1" fmla="val 27824"/>
              <a:gd name="adj2" fmla="val 27821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5292720" y="5516640"/>
            <a:ext cx="385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рал  - многонациональный райо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788000" y="0"/>
          <a:ext cx="4032000" cy="4795920"/>
        </p:xfrm>
        <a:graphic>
          <a:graphicData uri="http://schemas.openxmlformats.org/drawingml/2006/table">
            <a:tbl>
              <a:tblPr/>
              <a:tblGrid>
                <a:gridCol w="1204920"/>
                <a:gridCol w="707760"/>
                <a:gridCol w="704880"/>
                <a:gridCol w="708120"/>
                <a:gridCol w="706320"/>
              </a:tblGrid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Состав на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Состав нас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Численность (тыс.чел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9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9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3300"/>
                          </a:solidFill>
                          <a:uFillTx/>
                          <a:latin typeface="Tahoma"/>
                          <a:ea typeface="Times New Roman"/>
                        </a:rPr>
                        <a:t>Башки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Башкортор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9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8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7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6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Челябинская обла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Пермская обла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29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>
                      <a:noFill/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23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Оренбургская обла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3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3300"/>
                          </a:solidFill>
                          <a:uFillTx/>
                          <a:latin typeface="Tahoma"/>
                          <a:ea typeface="Times New Roman"/>
                        </a:rPr>
                        <a:t>Чуваш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Башкотор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3300"/>
                          </a:solidFill>
                          <a:uFillTx/>
                          <a:latin typeface="Tahoma"/>
                          <a:ea typeface="Times New Roman"/>
                        </a:rPr>
                        <a:t>Удмур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Удмуртская республ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Итого Башки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2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8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7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Итого Чуваш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Итого Удмур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82" name="Rectangle 314"/>
          <p:cNvSpPr/>
          <p:nvPr/>
        </p:nvSpPr>
        <p:spPr>
          <a:xfrm>
            <a:off x="1285920" y="4508640"/>
            <a:ext cx="407196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Задание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о предложенно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таблице постройте диаграмму «Соотношение башкир, чуваш и удмуртов с 1936 по 2007 гг.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7:04:30Z</dcterms:created>
  <dc:creator>teacher</dc:creator>
  <dc:description/>
  <dc:language>en-US</dc:language>
  <cp:lastModifiedBy>User</cp:lastModifiedBy>
  <dcterms:modified xsi:type="dcterms:W3CDTF">2012-01-28T19:29:26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1a0000000000010250300207f7000400038000</vt:lpwstr>
  </property>
</Properties>
</file>