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670-2081-4A98-A92D-BDC32BC3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CEE-6264-4F42-95E6-752F953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B33-8887-47A3-83DE-68EC7E02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B68-C6B3-48B5-BE00-7A8F6879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9D4-993B-4004-9BB6-227247CC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293-959F-4523-9060-7C7099D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B335-F6F2-4741-A99C-E009CAE4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E79-1732-48B9-98F5-3F86608D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0D9-EDCE-4118-9155-32E9C843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23B-5A1E-4FC9-AADE-A962A2DB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B6D-F5C9-4BCE-BE10-B3E3CC1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948-6F65-4F8C-AEAA-6AAA4DE2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1AD-8631-407C-99A5-CFBF444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35E-61ED-4CDB-9F33-E889A63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0681-9A93-4BD9-ACD7-FE4ADDE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79C9-8DBD-493D-BE09-DC7DF058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4CF-CDAD-4283-89A5-B2552911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52B7-B0DA-458F-8877-11EB792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5F9A-65FE-4A06-9A19-78BE282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70DA-1D5E-40B8-AED6-9EFE05A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681C-E367-4FDD-A9B5-E2871B39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7B1E-0410-4806-869E-4D0FB410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8E5-7B9D-4C38-BD8E-86C1043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6052-474A-4088-BF1D-77E69D9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F454-8703-4360-864F-BF5AE23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5B20-0A50-4CB3-BF46-7D451D8A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F1BD-A20B-41F9-A4AE-76C3E86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A489-6AAB-45D0-9E4C-E4AC03B4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32CB-D6CC-4AAA-BEA6-F97E4402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02B2-C6D7-49BC-8EE3-253ACDB1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5D8-744E-46A7-9629-8C9D310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782-C6B7-4A3A-B9D4-163C6EB6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87B-AD83-44E9-8AA2-14B9D65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20A-EECE-4E46-A0C0-7CF34D4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B27-F45A-4003-BC88-E60E714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273-87E8-4515-B810-19BF33E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30F-7FE8-4377-8657-8079C9CBD5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FB3-8514-415A-9BDC-6B4590C2495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B84C-4BCE-4FCE-BB4D-C41003765E3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Население. Коренные народы: башкиры – тюркская группа, удмурты – финская группа, коми-пермяки – финская группа Основу системы расселения Урала составляют города. Их более 140. 70 % современных городов основывались сразу как городские поселения в эпоху Петра I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Население. Основные причины миграции – суровые климатические условия, слабое развитие социальной инфраструктуры, сложность трудоустройства женщин, катастрофическая экологическая ситуация. Только в последние годы благодаря исходу русского населения из государств центральной Азии число въезжающих в район стало превышать число отъезжающих из него. В основном уезжает из района молодежь. Поэтому населеие Урала из года в год всё более стареет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Челябинск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Екатеринбург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Копия Фото0065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Фото0065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опросы на стр.159, задание №5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и города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138" name="Picture 5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13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5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6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7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8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62800" cy="98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785880" y="2000160"/>
            <a:ext cx="3929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состав Уральского экономического района входят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урганская, Оренбургская, Пермская, Свердловская, Челябинская области,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 так же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республики Башкортостан и Удмуртск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image002"/>
          <p:cNvPicPr/>
          <p:nvPr/>
        </p:nvPicPr>
        <p:blipFill>
          <a:blip r:embed="rId2"/>
          <a:stretch/>
        </p:blipFill>
        <p:spPr>
          <a:xfrm>
            <a:off x="5108400" y="1352520"/>
            <a:ext cx="3907080" cy="535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DSCF1055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5" descr="yt3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дание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419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предели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численность и плотность населения района. Оцените степень заселения территории УЭ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оанализируй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намику численности населения района. Сделайте вы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цени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банизированность района. Перечислите города-миллионеры Ур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л – многонациональный район. Как происходило заселение терри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я Интернет-ресурс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оставь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ссказ о народах, проживающих на Ура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6" descr="Картинка 2 из 10726"/>
          <p:cNvPicPr/>
          <p:nvPr/>
        </p:nvPicPr>
        <p:blipFill>
          <a:blip r:embed="rId1"/>
          <a:stretch/>
        </p:blipFill>
        <p:spPr>
          <a:xfrm>
            <a:off x="6521400" y="0"/>
            <a:ext cx="262260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артинка 7 из 11630"/>
          <p:cNvPicPr/>
          <p:nvPr/>
        </p:nvPicPr>
        <p:blipFill>
          <a:blip r:embed="rId2"/>
          <a:stretch/>
        </p:blipFill>
        <p:spPr>
          <a:xfrm>
            <a:off x="4429080" y="1285920"/>
            <a:ext cx="2165400" cy="307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Картинка 9 из 11630"/>
          <p:cNvPicPr/>
          <p:nvPr/>
        </p:nvPicPr>
        <p:blipFill>
          <a:blip r:embed="rId3"/>
          <a:stretch/>
        </p:blipFill>
        <p:spPr>
          <a:xfrm>
            <a:off x="6643800" y="3171960"/>
            <a:ext cx="2500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7454880" cy="1743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71680" y="1428840"/>
            <a:ext cx="7858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районе проживает 20.4 млн. человек. Средняя плотность населения- 25 чел./км, но в южных и особенно северных районах она резко снижается( до 1 чел./км и ниже). Население Урала за последние годы несколько выросло за счет русских переселенцев из Средней Азии и Казахстана, но в дальнейшем оно будет сокращаться, поскольку естественный прирост в районе- отрицательный(-5). Для Урала характерен высокий уровень урбанизированности, сосредоточение большинства населения в крупных городах, что в значительной степени объясняется преобладанием крупных предприятий в промышленности Ура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3421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4071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Ур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граница между двумя культурными мирами, двумя цивилизациями. За свою историю он испытал множество влияний разных народов: индусов и греков, китайцев и финнов, угров и персов, арабов и скифов, булгар и тюркских племён. Особенно сильное влияние оказала культура русски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 rot="5400000">
            <a:off x="6751440" y="4749480"/>
            <a:ext cx="647640" cy="720720"/>
          </a:xfrm>
          <a:prstGeom prst="rightArrowCallout">
            <a:avLst>
              <a:gd name="adj1" fmla="val 27824"/>
              <a:gd name="adj2" fmla="val 2782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292720" y="551664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ал  - многонациональный рай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788000" y="0"/>
          <a:ext cx="4032000" cy="4795920"/>
        </p:xfrm>
        <a:graphic>
          <a:graphicData uri="http://schemas.openxmlformats.org/drawingml/2006/table">
            <a:tbl>
              <a:tblPr/>
              <a:tblGrid>
                <a:gridCol w="1204920"/>
                <a:gridCol w="707760"/>
                <a:gridCol w="704880"/>
                <a:gridCol w="708120"/>
                <a:gridCol w="7063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исленность (тыс.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Башки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р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еляби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Перм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Оренбург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Чува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Удму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Удмуртская республ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Башки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Чуваш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Удмур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314"/>
          <p:cNvSpPr/>
          <p:nvPr/>
        </p:nvSpPr>
        <p:spPr>
          <a:xfrm>
            <a:off x="1285920" y="4508640"/>
            <a:ext cx="40719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о предложенно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аблице постройте диаграмму «Соотношение башкир, чуваш и удмуртов с 1936 по 2007 гг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User</cp:lastModifiedBy>
  <dcterms:modified xsi:type="dcterms:W3CDTF">2012-01-28T19:29:26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a0000000000010250300207f7000400038000</vt:lpwstr>
  </property>
</Properties>
</file>