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wmf" ContentType="image/x-wmf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9B3-E53E-49CF-8D4C-6B09AA10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DFB-1F61-4566-A844-A63FD12A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62E-08DB-4AE8-9DEE-91A39592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B2A-161A-40CE-B903-52044D31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F9A5-73A7-49D5-BBA5-68BF9F93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62AC-E9B1-47C7-8723-191D16EF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9BAC-3F43-451C-B794-E3AD8F0F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A376-547E-44F4-A9DD-B827C38E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856D-4253-4773-B3AF-E24D3FA7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AA0B-CC44-413B-9EEE-8E0E0E9C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A5ED-D710-4402-BC09-F97FBEE9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749-9569-4E81-895D-28F62A57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685B-718C-4EC3-906E-26AFC6F2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3BA0-2EEC-43D5-8373-FEE446F1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DD54-1E56-4B65-8148-37652C7E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BC8C-0D56-4800-BCA9-2728D233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B51D-408C-4AF3-8DC3-9977C844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E50AE-74A1-4EFB-9528-DA5254E5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6C891-0E18-4BD5-BAE0-C54A691D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C4A1-C0E5-437D-B7CE-51587E7D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7ED17-388D-4096-A97F-C711F4E4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C949-7FC9-43B5-A455-DAB5D2EE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864-B06A-4C91-8D17-7CF8C1EA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FC175-310B-40DC-99A8-F8AE81DC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CC4F-A7AD-4066-AB82-F2EBFA62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9B89F-230C-4E34-809B-C6773F2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78DF1-02AA-4D67-AF68-F24EAC94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412D-D1D6-4A43-8831-659AF1C9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990D-C434-452E-8D46-C9C7920A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710C-1465-4950-9B1C-261D19D4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A1461-3372-409E-895B-1E7862A4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EFFCD-97A9-4DF1-A631-8483790D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552E7-28D5-4A36-9B21-9E185A5A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188-4F76-47DB-86EB-6BF71693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1F1BF-AA09-4CCA-8918-E637CED0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6D719-4682-4B7A-AAA3-754B6145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5E1CC-AF7E-4132-9CA4-AFB8FF6B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CE7B7-C68A-4129-A7B5-0CAAFD63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E67D5-814F-4777-9ADB-3D5BEA4D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83582-5893-4A87-8EBD-D014B9BA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E67A5-1CFF-4B2B-81E9-272BCD83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79576-24F3-47FD-AED0-E53195BB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ABA54-8D2B-4BB5-A568-143C18FE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1868F-7713-4C6C-B58A-7B7A9DE9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6788-E236-423F-B693-DC178057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BB5FB-3F8B-4880-8348-615AC93D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CC4EC-B52E-4D71-BF25-69724B20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42702-0419-4AD7-8A7B-8E8AC9EB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B6EBC-BBD7-4A29-8130-A885F0D3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02703-7090-4B9D-A6D5-A5FCAC1F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144A8-FED6-4E07-A8B9-77F348DB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EA2EF-D208-4D77-9EC5-B895FC9B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B0E35-9C2D-4579-B4D6-C3D54C10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3AA49-0D06-4540-B932-F9422D4A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95C63-81AB-4AB1-8C4F-8B12E3DE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225-73CB-45C5-975B-DFB452A2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63863-6277-44AF-AC38-6FF12A2C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F9BFA-4CE3-4C32-B06C-12E73E0D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0F541-4E3F-4D66-BDD7-C3446F41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CC96A-C744-4596-9B47-59E9F055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701B9-3EBF-450A-B455-C9556DE5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5CFA5-281E-465E-907A-85ED460E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DE1C6-239C-4DB7-8FDD-7F255AD9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241BD-EBF6-4B6B-9C50-FE671A20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BC79E-DCD6-4F81-9DFE-E3F075AC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49B99-9509-4BF8-BABC-D9EDCDCD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242-BA2A-4422-B08A-5A028F6E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5FC50-1D8F-46E0-BB72-E69C94D3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490B8-39BD-42AA-A387-897122FC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C5E36-EA70-455C-B3E8-504F8A97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ED5-B69E-4C0F-8D7B-672A0951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282-672E-4993-826B-F2403EA4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bbc9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daba7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70BD-ABE0-484A-8CB1-1CEF78BF89F9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bbc9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daba7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5616-C56B-4A13-907B-360BF3520B6D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bbc9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daba7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7D07-E194-4701-B6B4-7F55C69552DB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D8C8-C5D6-4D83-A054-D50A9D82A54F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bbc9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daba7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F642-2663-451F-93AD-6D78659BF7A9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96e2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7F28-A77C-45E2-BC2F-E863AA23F8B7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rf-agency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208080" y="-12600"/>
            <a:ext cx="3095640" cy="13604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41880" y="4786560"/>
            <a:ext cx="8002440" cy="14209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Выполнила ученица 9б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Кривец Людмил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863640" y="285840"/>
            <a:ext cx="8280360" cy="62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Impact"/>
              </a:rPr>
              <a:t>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57" name="Прямоугольник 5" descr=""/>
          <p:cNvPicPr/>
          <p:nvPr/>
        </p:nvPicPr>
        <p:blipFill>
          <a:blip r:embed="rId2"/>
          <a:stretch/>
        </p:blipFill>
        <p:spPr>
          <a:xfrm>
            <a:off x="847800" y="2371680"/>
            <a:ext cx="7705800" cy="1938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Русский язык является родным не только для русских, но и для других народов , живущих в Ро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Из 29 млн. человек нерусского населения РФ 27 владеют русским языком, т.е. 92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Из 145,2 млн. чел. ( по переписи 2002 года) русским владеют 142,6млн. Человек – 98,2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Казаки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8" name="Содержимое 4" descr="14.jpg"/>
          <p:cNvPicPr/>
          <p:nvPr/>
        </p:nvPicPr>
        <p:blipFill>
          <a:blip r:embed="rId1"/>
          <a:stretch/>
        </p:blipFill>
        <p:spPr>
          <a:xfrm>
            <a:off x="357120" y="128592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289" name="Содержимое 5" descr="kazaki_of_russia_43.jpg"/>
          <p:cNvPicPr/>
          <p:nvPr/>
        </p:nvPicPr>
        <p:blipFill>
          <a:blip r:embed="rId2"/>
          <a:stretch/>
        </p:blipFill>
        <p:spPr>
          <a:xfrm>
            <a:off x="4473720" y="214200"/>
            <a:ext cx="4494240" cy="30006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6" descr="01_02_01.jpg"/>
          <p:cNvPicPr/>
          <p:nvPr/>
        </p:nvPicPr>
        <p:blipFill>
          <a:blip r:embed="rId3"/>
          <a:stretch/>
        </p:blipFill>
        <p:spPr>
          <a:xfrm>
            <a:off x="928800" y="4071960"/>
            <a:ext cx="2214360" cy="257328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7" descr="0_d091_8b13b2e9_XL.jpg"/>
          <p:cNvPicPr/>
          <p:nvPr/>
        </p:nvPicPr>
        <p:blipFill>
          <a:blip r:embed="rId4"/>
          <a:stretch/>
        </p:blipFill>
        <p:spPr>
          <a:xfrm>
            <a:off x="4500720" y="3303720"/>
            <a:ext cx="4429080" cy="3322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Цыгане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3" name="Содержимое 3" descr="0_23ef_ffdbf52_XL.jpg"/>
          <p:cNvPicPr/>
          <p:nvPr/>
        </p:nvPicPr>
        <p:blipFill>
          <a:blip r:embed="rId1"/>
          <a:stretch/>
        </p:blipFill>
        <p:spPr>
          <a:xfrm>
            <a:off x="4500720" y="0"/>
            <a:ext cx="4425840" cy="331956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4" descr="preview_ImageSrc_3278.jpg"/>
          <p:cNvPicPr/>
          <p:nvPr/>
        </p:nvPicPr>
        <p:blipFill>
          <a:blip r:embed="rId2"/>
          <a:stretch/>
        </p:blipFill>
        <p:spPr>
          <a:xfrm>
            <a:off x="4500720" y="3470400"/>
            <a:ext cx="4429080" cy="314964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5" descr="1250568459_f.jpg"/>
          <p:cNvPicPr/>
          <p:nvPr/>
        </p:nvPicPr>
        <p:blipFill>
          <a:blip r:embed="rId3"/>
          <a:stretch/>
        </p:blipFill>
        <p:spPr>
          <a:xfrm>
            <a:off x="285840" y="1428840"/>
            <a:ext cx="3714840" cy="5337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ru-RU" sz="4100" spc="-1" strike="noStrike">
                <a:solidFill>
                  <a:srgbClr val="ffffff"/>
                </a:solidFill>
                <a:latin typeface="Bookman Old Style"/>
              </a:rPr>
              <a:t>Конфессиональный состав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Содержимое 3" descr="mapa-19.jpg"/>
          <p:cNvPicPr/>
          <p:nvPr/>
        </p:nvPicPr>
        <p:blipFill>
          <a:blip r:embed="rId1"/>
          <a:stretch/>
        </p:blipFill>
        <p:spPr>
          <a:xfrm>
            <a:off x="500040" y="714240"/>
            <a:ext cx="8045640" cy="6143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5920" bIns="259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28760" y="428400"/>
            <a:ext cx="3471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бсолютное преобладание православия – 9\10.восточнославянские народы – русские, украинцы, белорусы, угро-финские народы – мордвы, удмурты, коми, карелы, народы тюркской группы – чуваши, хакасы, яку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Рисунок 3" descr="big-18-235-20946_b.jpg"/>
          <p:cNvPicPr/>
          <p:nvPr/>
        </p:nvPicPr>
        <p:blipFill>
          <a:blip r:embed="rId1"/>
          <a:stretch/>
        </p:blipFill>
        <p:spPr>
          <a:xfrm>
            <a:off x="6643800" y="1214280"/>
            <a:ext cx="2230200" cy="335448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4" descr="hram.jpg"/>
          <p:cNvPicPr/>
          <p:nvPr/>
        </p:nvPicPr>
        <p:blipFill>
          <a:blip r:embed="rId2"/>
          <a:stretch/>
        </p:blipFill>
        <p:spPr>
          <a:xfrm>
            <a:off x="3929040" y="3214800"/>
            <a:ext cx="2540160" cy="3289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826308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Вторая по численности верующих религия – ислам. Ее исповедуют татары, башкиры, почти все народы Северного Кавказа</a:t>
            </a:r>
            <a:br>
              <a:rPr sz="41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3" name="Рисунок 2" descr="1191359076_masha2.jpg"/>
          <p:cNvPicPr/>
          <p:nvPr/>
        </p:nvPicPr>
        <p:blipFill>
          <a:blip r:embed="rId1"/>
          <a:stretch/>
        </p:blipFill>
        <p:spPr>
          <a:xfrm>
            <a:off x="6572160" y="1714680"/>
            <a:ext cx="2266920" cy="352404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3" descr="429bac4919ca6227b2306455d1ddec3b.jpg"/>
          <p:cNvPicPr/>
          <p:nvPr/>
        </p:nvPicPr>
        <p:blipFill>
          <a:blip r:embed="rId2"/>
          <a:stretch/>
        </p:blipFill>
        <p:spPr>
          <a:xfrm>
            <a:off x="571680" y="2500200"/>
            <a:ext cx="5072040" cy="3803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Буддизм – распространение среди монголоязычных  народов – бурят, калмыков, тувинцев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28400" y="3571920"/>
            <a:ext cx="825804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Рисунок 4" descr="pic_200554_20mn18s3mls17.jpg"/>
          <p:cNvPicPr/>
          <p:nvPr/>
        </p:nvPicPr>
        <p:blipFill>
          <a:blip r:embed="rId1"/>
          <a:stretch/>
        </p:blipFill>
        <p:spPr>
          <a:xfrm>
            <a:off x="3786120" y="2357280"/>
            <a:ext cx="5041800" cy="342900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5" descr="buddizm4.jpg"/>
          <p:cNvPicPr/>
          <p:nvPr/>
        </p:nvPicPr>
        <p:blipFill>
          <a:blip r:embed="rId2"/>
          <a:stretch/>
        </p:blipFill>
        <p:spPr>
          <a:xfrm>
            <a:off x="357120" y="2000160"/>
            <a:ext cx="2882880" cy="4254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Шаманизм – родоплеменные, языческие верования</a:t>
            </a: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0" name="Содержимое 3" descr="aiportret2.jpg"/>
          <p:cNvPicPr/>
          <p:nvPr/>
        </p:nvPicPr>
        <p:blipFill>
          <a:blip r:embed="rId1"/>
          <a:stretch/>
        </p:blipFill>
        <p:spPr>
          <a:xfrm>
            <a:off x="6357960" y="1857240"/>
            <a:ext cx="2571840" cy="385452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6" descr="005.jpg"/>
          <p:cNvPicPr/>
          <p:nvPr/>
        </p:nvPicPr>
        <p:blipFill>
          <a:blip r:embed="rId2"/>
          <a:stretch/>
        </p:blipFill>
        <p:spPr>
          <a:xfrm>
            <a:off x="4143240" y="2214720"/>
            <a:ext cx="2071800" cy="32112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7" descr="Kamlanie.gif"/>
          <p:cNvPicPr/>
          <p:nvPr/>
        </p:nvPicPr>
        <p:blipFill>
          <a:blip r:embed="rId3"/>
          <a:stretch/>
        </p:blipFill>
        <p:spPr>
          <a:xfrm>
            <a:off x="428760" y="1571760"/>
            <a:ext cx="3643200" cy="258120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8" descr="f6e428bb2e62.jpg"/>
          <p:cNvPicPr/>
          <p:nvPr/>
        </p:nvPicPr>
        <p:blipFill>
          <a:blip r:embed="rId4"/>
          <a:stretch/>
        </p:blipFill>
        <p:spPr>
          <a:xfrm>
            <a:off x="1071720" y="4286160"/>
            <a:ext cx="2214360" cy="2406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58040" cy="479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Bookman Old Style"/>
              </a:rPr>
              <a:t>Используемые материалы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Bookman Old Style"/>
              </a:rPr>
              <a:t>1)Учебник Географии 9кл.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Bookman Old Style"/>
              </a:rPr>
              <a:t>2)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US" sz="46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www.rf-agency.ru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3)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 www.rf-agency.ru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305920" cy="515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Этнографическое положение России: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b0f0"/>
                </a:solidFill>
                <a:latin typeface="Bookman Old Style"/>
              </a:rPr>
              <a:t>1. Стык Европы и Азии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Bookman Old Style"/>
              </a:rPr>
              <a:t>2. Западная часть – европейское влияние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Bookman Old Style"/>
              </a:rPr>
              <a:t>3. Кавказ – самостоятельная целостность, но очень тесно связан с Ближним и Средним Востоком. Место стыка Христианского и мусульманского мира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Bookman Old Style"/>
              </a:rPr>
              <a:t>4. Центральная Азия – место встречи разных культур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Bookman Old Style"/>
              </a:rPr>
              <a:t>5. Крайний Север – «четвертый мир», край народов (26 – 180 тысяч). Территория неблагоприятная для прожива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400" y="704880"/>
            <a:ext cx="8334360" cy="28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ru-RU" sz="4600" spc="-1" strike="noStrike">
                <a:solidFill>
                  <a:srgbClr val="ff0066"/>
                </a:solidFill>
                <a:latin typeface="Bookman Old Style"/>
              </a:rPr>
              <a:t>Национальный </a:t>
            </a:r>
            <a:br>
              <a:rPr sz="4600"/>
            </a:br>
            <a:r>
              <a:rPr b="1" lang="ru-RU" sz="4600" spc="-1" strike="noStrike">
                <a:solidFill>
                  <a:srgbClr val="ff0066"/>
                </a:solidFill>
                <a:latin typeface="Bookman Old Style"/>
              </a:rPr>
              <a:t>                  и </a:t>
            </a:r>
            <a:br>
              <a:rPr sz="4600"/>
            </a:br>
            <a:r>
              <a:rPr b="1" lang="ru-RU" sz="4600" spc="-1" strike="noStrike">
                <a:solidFill>
                  <a:srgbClr val="ff0066"/>
                </a:solidFill>
                <a:latin typeface="Bookman Old Style"/>
              </a:rPr>
              <a:t>   религиозный состав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773360"/>
          </a:xfrm>
          <a:prstGeom prst="rect">
            <a:avLst/>
          </a:prstGeom>
          <a:solidFill>
            <a:srgbClr val="59513d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d41d"/>
                </a:solidFill>
                <a:latin typeface="Comic Sans MS"/>
              </a:rPr>
              <a:t>Самым многочисленным народом в России являются русские. Их численность — 115,9 млн., на втором месте — татары (5,6 млн.), на третьем — украинцы (2,9 млн.), на четвёртом — башкиры (1,7 млн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4" descr=""/>
          <p:cNvPicPr/>
          <p:nvPr/>
        </p:nvPicPr>
        <p:blipFill>
          <a:blip r:embed="rId2"/>
          <a:stretch/>
        </p:blipFill>
        <p:spPr>
          <a:xfrm>
            <a:off x="1143000" y="171468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501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66"/>
                </a:solidFill>
                <a:latin typeface="Bookman Old Style"/>
              </a:rPr>
              <a:t>   </a:t>
            </a:r>
            <a:r>
              <a:rPr b="0" lang="ru-RU" sz="2500" spc="-1" strike="noStrike">
                <a:solidFill>
                  <a:srgbClr val="ff0066"/>
                </a:solidFill>
                <a:latin typeface="Bookman Old Style"/>
              </a:rPr>
              <a:t>На 1 месте по численности – Индоевропейская языковая  семья. Русские, украинцы, белорусы, немцы, осетины.</a:t>
            </a:r>
            <a:br>
              <a:rPr sz="2500"/>
            </a:br>
            <a:r>
              <a:rPr b="0" lang="ru-RU" sz="2500" spc="-1" strike="noStrike">
                <a:solidFill>
                  <a:srgbClr val="ff0066"/>
                </a:solidFill>
                <a:latin typeface="Bookman Old Style"/>
              </a:rPr>
              <a:t>   На 2 месте – алтайская языковая семья. 12 млн. человек. Татары, башкиры, чуваши, алтайцы, хакасы, тувинцы, якуты, балкарцы, кумыки, карачаевцы, казахи.</a:t>
            </a:r>
            <a:br>
              <a:rPr sz="2500"/>
            </a:br>
            <a:r>
              <a:rPr b="0" lang="ru-RU" sz="2500" spc="-1" strike="noStrike">
                <a:solidFill>
                  <a:srgbClr val="ff0066"/>
                </a:solidFill>
                <a:latin typeface="Bookman Old Style"/>
              </a:rPr>
              <a:t>   Уральско-юкагирская семья – мордва, удмурты, марийцы.</a:t>
            </a:r>
            <a:br>
              <a:rPr sz="2500"/>
            </a:br>
            <a:r>
              <a:rPr b="0" lang="ru-RU" sz="2500" spc="-1" strike="noStrike">
                <a:solidFill>
                  <a:srgbClr val="ff0066"/>
                </a:solidFill>
                <a:latin typeface="Bookman Old Style"/>
              </a:rPr>
              <a:t>Северокавказская семья – самый компактный ареал.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ru-RU" sz="4100" spc="-1" strike="noStrike">
                <a:solidFill>
                  <a:srgbClr val="ffffff"/>
                </a:solidFill>
                <a:latin typeface="Bookman Old Style"/>
              </a:rPr>
              <a:t>Мозаичность и пестрот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Содержимое 3" descr="005.jpg"/>
          <p:cNvPicPr/>
          <p:nvPr/>
        </p:nvPicPr>
        <p:blipFill>
          <a:blip r:embed="rId1"/>
          <a:stretch/>
        </p:blipFill>
        <p:spPr>
          <a:xfrm>
            <a:off x="214200" y="1071720"/>
            <a:ext cx="2551320" cy="1962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" descr="25big.jpg"/>
          <p:cNvPicPr/>
          <p:nvPr/>
        </p:nvPicPr>
        <p:blipFill>
          <a:blip r:embed="rId2"/>
          <a:stretch/>
        </p:blipFill>
        <p:spPr>
          <a:xfrm>
            <a:off x="500040" y="3143160"/>
            <a:ext cx="2571840" cy="22258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5" descr="080daa1f72762057ac5de76947ea6603.jpg"/>
          <p:cNvPicPr/>
          <p:nvPr/>
        </p:nvPicPr>
        <p:blipFill>
          <a:blip r:embed="rId3"/>
          <a:stretch/>
        </p:blipFill>
        <p:spPr>
          <a:xfrm>
            <a:off x="5500800" y="1143000"/>
            <a:ext cx="3360600" cy="194616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6" descr="71526.jpg"/>
          <p:cNvPicPr/>
          <p:nvPr/>
        </p:nvPicPr>
        <p:blipFill>
          <a:blip r:embed="rId4"/>
          <a:stretch/>
        </p:blipFill>
        <p:spPr>
          <a:xfrm>
            <a:off x="5929200" y="3143160"/>
            <a:ext cx="2928960" cy="211320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7" descr="img_1674.jpg"/>
          <p:cNvPicPr/>
          <p:nvPr/>
        </p:nvPicPr>
        <p:blipFill>
          <a:blip r:embed="rId5"/>
          <a:stretch/>
        </p:blipFill>
        <p:spPr>
          <a:xfrm>
            <a:off x="2857680" y="1143000"/>
            <a:ext cx="2628720" cy="21240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8" descr="khak_1.jpg"/>
          <p:cNvPicPr/>
          <p:nvPr/>
        </p:nvPicPr>
        <p:blipFill>
          <a:blip r:embed="rId6"/>
          <a:stretch/>
        </p:blipFill>
        <p:spPr>
          <a:xfrm>
            <a:off x="3071880" y="2832120"/>
            <a:ext cx="2738520" cy="18399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9" descr="tatary.jpg"/>
          <p:cNvPicPr/>
          <p:nvPr/>
        </p:nvPicPr>
        <p:blipFill>
          <a:blip r:embed="rId7"/>
          <a:stretch/>
        </p:blipFill>
        <p:spPr>
          <a:xfrm>
            <a:off x="3571920" y="4572000"/>
            <a:ext cx="2651040" cy="200016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10" descr="250-1W0.jpg"/>
          <p:cNvPicPr/>
          <p:nvPr/>
        </p:nvPicPr>
        <p:blipFill>
          <a:blip r:embed="rId8"/>
          <a:stretch/>
        </p:blipFill>
        <p:spPr>
          <a:xfrm>
            <a:off x="1071720" y="4572000"/>
            <a:ext cx="2381040" cy="204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             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Мозаичность и пестрота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              «этнической карты» РФ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начительная часть народов России расселена за пределами своих республ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96e2e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редоточенность размещения многих народов, их интенсивные контакты между собой и особенно с русскими способствовали процессу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ссимиляции</a:t>
            </a:r>
            <a:r>
              <a:rPr b="1" lang="ru-RU" sz="3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«растворение» одних народов среди других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14200" y="214200"/>
            <a:ext cx="856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Ассимиляция – 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слияние одного народа (или его части) с другим путём усвоения его языка, культуры и часто утраты своего языка, культуры и национального самосозна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0" y="1700280"/>
            <a:ext cx="611280" cy="2089080"/>
          </a:xfrm>
          <a:custGeom>
            <a:avLst/>
            <a:gdLst>
              <a:gd name="textAreaLeft" fmla="*/ 81720 w 611280"/>
              <a:gd name="textAreaRight" fmla="*/ 529560 w 611280"/>
              <a:gd name="textAreaTop" fmla="*/ 365400 h 2089080"/>
              <a:gd name="textAreaBottom" fmla="*/ 15145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8423280" y="1413000"/>
            <a:ext cx="720720" cy="2305080"/>
          </a:xfrm>
          <a:custGeom>
            <a:avLst/>
            <a:gdLst>
              <a:gd name="textAreaLeft" fmla="*/ 96480 w 720720"/>
              <a:gd name="textAreaRight" fmla="*/ 624240 w 72072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4360" y="2637000"/>
            <a:ext cx="287964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Естественная ассимиля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5214960" y="2714760"/>
            <a:ext cx="309708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асильственная ассимиля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>
            <a:off x="1476360" y="3500280"/>
            <a:ext cx="1511280" cy="1081080"/>
          </a:xfrm>
          <a:prstGeom prst="downArrowCallout">
            <a:avLst>
              <a:gd name="adj1" fmla="val 34951"/>
              <a:gd name="adj2" fmla="val 34948"/>
              <a:gd name="adj3" fmla="val 16667"/>
              <a:gd name="adj4" fmla="val 6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>
            <a:off x="6012000" y="3573360"/>
            <a:ext cx="1511280" cy="1008000"/>
          </a:xfrm>
          <a:prstGeom prst="downArrowCallout">
            <a:avLst>
              <a:gd name="adj1" fmla="val 37485"/>
              <a:gd name="adj2" fmla="val 37482"/>
              <a:gd name="adj3" fmla="val 16667"/>
              <a:gd name="adj4" fmla="val 6666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0"/>
          <p:cNvSpPr/>
          <p:nvPr/>
        </p:nvSpPr>
        <p:spPr>
          <a:xfrm>
            <a:off x="0" y="4365720"/>
            <a:ext cx="4427640" cy="2492280"/>
          </a:xfrm>
          <a:prstGeom prst="horizontalScrol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исходит при контакт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тнически разнородных груп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селения, смешанных брак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11"/>
          <p:cNvSpPr/>
          <p:nvPr/>
        </p:nvSpPr>
        <p:spPr>
          <a:xfrm>
            <a:off x="4572000" y="4365720"/>
            <a:ext cx="4572000" cy="2492280"/>
          </a:xfrm>
          <a:prstGeom prst="horizontalScroll">
            <a:avLst>
              <a:gd name="adj" fmla="val 125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саждается с помощ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нуждения (например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рещение обучения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нигоиздания на родном язык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т.д.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12"/>
          <p:cNvSpPr/>
          <p:nvPr/>
        </p:nvSpPr>
        <p:spPr>
          <a:xfrm>
            <a:off x="428760" y="3571920"/>
            <a:ext cx="8135640" cy="3024000"/>
          </a:xfrm>
          <a:prstGeom prst="ellipse">
            <a:avLst/>
          </a:prstGeom>
          <a:solidFill>
            <a:srgbClr val="96e2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народов расселена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елах республ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итульная нация –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род, давш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звание республ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44280"/>
          <a:ext cx="9109080" cy="6813720"/>
        </p:xfrm>
        <a:graphic>
          <a:graphicData uri="http://schemas.openxmlformats.org/drawingml/2006/table">
            <a:tbl>
              <a:tblPr/>
              <a:tblGrid>
                <a:gridCol w="3419640"/>
                <a:gridCol w="2520720"/>
                <a:gridCol w="1800360"/>
                <a:gridCol w="136836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., 2000г. тыс. ч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коре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ру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4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гес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ченск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гуше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аш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ва (Тув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ардино-Балкар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ая Осе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свед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1 Ингуш.+ Чече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тарс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мык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ий Э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чаево-Черке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3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е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кас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шкортос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ыг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р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мур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т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до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утия (Сах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1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+ тата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3:45:19Z</dcterms:created>
  <dc:creator>Мама</dc:creator>
  <dc:description/>
  <dc:language>en-US</dc:language>
  <cp:lastModifiedBy>Paradise</cp:lastModifiedBy>
  <dcterms:modified xsi:type="dcterms:W3CDTF">2010-11-07T17:50:48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20000000000010250300207f7000400038000</vt:lpwstr>
  </property>
</Properties>
</file>