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A31-A879-4B46-B373-A63F111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73E-13F1-480B-A986-AFDBA79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6C3-B3B8-45E9-9004-66B5777E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1A4-DF97-4671-9A73-E71BBE8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53C5-B394-4695-A8BE-D89EFF93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16A-A86F-4533-A4F0-47C23145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E40-4A62-4966-959D-2B463848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C922-F3DD-4F9C-8068-C78C5979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472-6277-43FE-A5D4-1405563B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7F4-93DF-4414-AD26-E107D18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5F31-027C-4CEF-B6D0-90EC814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22B-F7AE-4E9A-90ED-1787AD81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7CC3-61F9-4F56-879D-22CEB2A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31D-E566-4396-A470-CFA0163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11B8-48C4-4286-A5D7-A978348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8D0D-65B6-4AB3-8248-5A05C2A3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A190-965A-4F9A-B6E2-AB52B647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32B1-FB50-4BEC-AD93-F87838D4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5E64-FD64-4C2C-9302-2D42A3F8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AE46-3A52-469F-A273-D9F3A85C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9CF3-41FE-445A-87AC-73FDCC4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1412-B7F1-48C5-ABFF-BBA9AF5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F5A-CC73-49F9-9FEC-7D2A43D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13F9-1F60-4BBF-85F1-23BB5342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1A55-BAF6-4EF4-BBB8-D3BC9E5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4305-F7A0-40FC-ADCD-91A4D95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E8D0-BAAE-4D0C-94A6-FC721C6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E387-3B72-4FE4-8DB8-2067DBD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9CE2-3E21-4822-81CD-E0181C7D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02EA-35F2-4D3E-B496-5223DE0D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E03A-83D2-4EFD-8675-08BC36DE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127DA-4AFC-4CD9-B0FA-2D755E8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BCAE4-90B6-413D-A0BF-8B98D04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8A9-3DE4-4C82-A65D-0337B847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8872-E8EA-49AB-9E79-A498D94E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7871-8A76-4EE8-BBAD-1B40A327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9011-ACE8-4AEB-8976-FBDF67F5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5071-9BB0-4636-ABB4-8676FA2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9288-7D46-4AAF-BF4C-63D55FC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7D95-5247-4298-A6D2-85CA5A8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2C75-2E73-472F-BB8F-7558A0D0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EFDF-857A-4F47-A7BB-D826B074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8D84-7519-4D58-B4FE-3698FC9C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E7C1-AADF-46E9-BAF8-84EA8722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358-4CEC-41BE-91C5-DF0152F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5786-8078-4F05-8BE4-C220B16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2CB3-2D9D-4FA5-8AEE-B2E3497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5D18-409A-4A0D-AE53-9E088322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C732-FA7B-42B0-B3B4-BA71E98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FA70-F6E6-4505-88EC-4BFB04B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E901-C9C4-46CB-94E5-DEBFEBE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9C65E-7295-4CF0-B7DC-049151C2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1B28-ADA0-44AB-85BF-1A19909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D0D2-E32B-41D5-BCBE-F94A9F26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F57E-F63E-422E-BDCC-BD0CDE00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ADC-EA24-40FF-89CB-279C82EA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54CA-E73A-4E17-983B-E6A9B8EE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F3E6-C735-40C6-9D53-47688A3D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60DE-0B5F-42E9-A6B3-2E1356F1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FE17B-3DCA-4A32-931B-414DA55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CFE39-C143-44E7-B703-63F954FA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4828-B5D1-4961-BECC-98F0C13A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96DB7-F5B9-4B91-B94F-BE104AC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0CFE-2B35-4320-B8CF-C6B9E2C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BA3C-9D2B-46A3-9215-9F7E4FE3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7A4E-442B-4B91-9C23-F30BEF0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9C4-544C-435F-9A6B-EC963E7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6B3A-9E73-440D-94EA-376D4511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FFAC-06A4-42ED-BAAA-11C1D38B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3994-4B7C-465B-9F8D-1EB6B1A0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36E-1DA7-4FC2-80AB-0B84360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BB9-DCD1-47E7-83D2-166FFCD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395-0C80-486C-81E6-68D5CB9D9E12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9AE-1083-4F6A-9AFD-E5505BEFB395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0EC3-993F-4C23-B843-8350176D9F73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97AC-6FC5-440C-95CC-E32E2D432878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8D03-7CC9-4500-893E-A0DA30EFC0F1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222-908D-4E70-B7F4-8A52277EAC7C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f-agenc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08080" y="-12600"/>
            <a:ext cx="3095640" cy="1360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41880" y="4786560"/>
            <a:ext cx="8002440" cy="14209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ыполнила ученица 9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ривец Людмил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863640" y="285840"/>
            <a:ext cx="828036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7" name="Прямоугольник 5" descr=""/>
          <p:cNvPicPr/>
          <p:nvPr/>
        </p:nvPicPr>
        <p:blipFill>
          <a:blip r:embed="rId2"/>
          <a:stretch/>
        </p:blipFill>
        <p:spPr>
          <a:xfrm>
            <a:off x="847800" y="2371680"/>
            <a:ext cx="7705800" cy="1938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Русский язык является родным не только для русских, но и для других народов , живущих в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 29 млн. человек нерусского населения РФ 27 владеют русским языком, т.е. 9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 145,2 млн. чел. ( по переписи 2002 года) русским владеют 142,6млн. Человек – 98,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Казаки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Содержимое 4" descr="14.jpg"/>
          <p:cNvPicPr/>
          <p:nvPr/>
        </p:nvPicPr>
        <p:blipFill>
          <a:blip r:embed="rId1"/>
          <a:stretch/>
        </p:blipFill>
        <p:spPr>
          <a:xfrm>
            <a:off x="357120" y="12859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5" descr="kazaki_of_russia_43.jpg"/>
          <p:cNvPicPr/>
          <p:nvPr/>
        </p:nvPicPr>
        <p:blipFill>
          <a:blip r:embed="rId2"/>
          <a:stretch/>
        </p:blipFill>
        <p:spPr>
          <a:xfrm>
            <a:off x="4473720" y="214200"/>
            <a:ext cx="4494240" cy="30006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01_02_01.jpg"/>
          <p:cNvPicPr/>
          <p:nvPr/>
        </p:nvPicPr>
        <p:blipFill>
          <a:blip r:embed="rId3"/>
          <a:stretch/>
        </p:blipFill>
        <p:spPr>
          <a:xfrm>
            <a:off x="928800" y="4071960"/>
            <a:ext cx="2214360" cy="25732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7" descr="0_d091_8b13b2e9_XL.jpg"/>
          <p:cNvPicPr/>
          <p:nvPr/>
        </p:nvPicPr>
        <p:blipFill>
          <a:blip r:embed="rId4"/>
          <a:stretch/>
        </p:blipFill>
        <p:spPr>
          <a:xfrm>
            <a:off x="4500720" y="3303720"/>
            <a:ext cx="4429080" cy="332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Цыгане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Содержимое 3" descr="0_23ef_ffdbf52_XL.jpg"/>
          <p:cNvPicPr/>
          <p:nvPr/>
        </p:nvPicPr>
        <p:blipFill>
          <a:blip r:embed="rId1"/>
          <a:stretch/>
        </p:blipFill>
        <p:spPr>
          <a:xfrm>
            <a:off x="4500720" y="0"/>
            <a:ext cx="4425840" cy="33195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preview_ImageSrc_3278.jpg"/>
          <p:cNvPicPr/>
          <p:nvPr/>
        </p:nvPicPr>
        <p:blipFill>
          <a:blip r:embed="rId2"/>
          <a:stretch/>
        </p:blipFill>
        <p:spPr>
          <a:xfrm>
            <a:off x="4500720" y="3470400"/>
            <a:ext cx="4429080" cy="31496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1250568459_f.jpg"/>
          <p:cNvPicPr/>
          <p:nvPr/>
        </p:nvPicPr>
        <p:blipFill>
          <a:blip r:embed="rId3"/>
          <a:stretch/>
        </p:blipFill>
        <p:spPr>
          <a:xfrm>
            <a:off x="285840" y="1428840"/>
            <a:ext cx="3714840" cy="533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Конфессиональный состав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Содержимое 3" descr="mapa-19.jpg"/>
          <p:cNvPicPr/>
          <p:nvPr/>
        </p:nvPicPr>
        <p:blipFill>
          <a:blip r:embed="rId1"/>
          <a:stretch/>
        </p:blipFill>
        <p:spPr>
          <a:xfrm>
            <a:off x="500040" y="714240"/>
            <a:ext cx="8045640" cy="614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5920" bIns="259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28760" y="428400"/>
            <a:ext cx="3471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солютное преобладание православия – 9\10.восточнославянские народы – русские, украинцы, белорусы, угро-финские народы – мордвы, удмурты, коми, карелы, народы тюркской группы – чуваши, хакасы, яку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Рисунок 3" descr="big-18-235-20946_b.jpg"/>
          <p:cNvPicPr/>
          <p:nvPr/>
        </p:nvPicPr>
        <p:blipFill>
          <a:blip r:embed="rId1"/>
          <a:stretch/>
        </p:blipFill>
        <p:spPr>
          <a:xfrm>
            <a:off x="6643800" y="1214280"/>
            <a:ext cx="2230200" cy="33544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" descr="hram.jpg"/>
          <p:cNvPicPr/>
          <p:nvPr/>
        </p:nvPicPr>
        <p:blipFill>
          <a:blip r:embed="rId2"/>
          <a:stretch/>
        </p:blipFill>
        <p:spPr>
          <a:xfrm>
            <a:off x="3929040" y="321480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630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торая по численности верующих религия – ислам. Ее исповедуют татары, башкиры, почти все народы Северного Кавказа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3" name="Рисунок 2" descr="1191359076_masha2.jpg"/>
          <p:cNvPicPr/>
          <p:nvPr/>
        </p:nvPicPr>
        <p:blipFill>
          <a:blip r:embed="rId1"/>
          <a:stretch/>
        </p:blipFill>
        <p:spPr>
          <a:xfrm>
            <a:off x="6572160" y="1714680"/>
            <a:ext cx="2266920" cy="35240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429bac4919ca6227b2306455d1ddec3b.jpg"/>
          <p:cNvPicPr/>
          <p:nvPr/>
        </p:nvPicPr>
        <p:blipFill>
          <a:blip r:embed="rId2"/>
          <a:stretch/>
        </p:blipFill>
        <p:spPr>
          <a:xfrm>
            <a:off x="571680" y="250020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Буддизм – распространение среди монголоязычных  народов – бурят, калмыков, тувинцев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28400" y="3571920"/>
            <a:ext cx="825804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4" descr="pic_200554_20mn18s3mls17.jpg"/>
          <p:cNvPicPr/>
          <p:nvPr/>
        </p:nvPicPr>
        <p:blipFill>
          <a:blip r:embed="rId1"/>
          <a:stretch/>
        </p:blipFill>
        <p:spPr>
          <a:xfrm>
            <a:off x="3786120" y="2357280"/>
            <a:ext cx="5041800" cy="34290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5" descr="buddizm4.jpg"/>
          <p:cNvPicPr/>
          <p:nvPr/>
        </p:nvPicPr>
        <p:blipFill>
          <a:blip r:embed="rId2"/>
          <a:stretch/>
        </p:blipFill>
        <p:spPr>
          <a:xfrm>
            <a:off x="357120" y="2000160"/>
            <a:ext cx="2882880" cy="42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Шаманизм – родоплеменные, языческие верования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Содержимое 3" descr="aiportret2.jpg"/>
          <p:cNvPicPr/>
          <p:nvPr/>
        </p:nvPicPr>
        <p:blipFill>
          <a:blip r:embed="rId1"/>
          <a:stretch/>
        </p:blipFill>
        <p:spPr>
          <a:xfrm>
            <a:off x="6357960" y="1857240"/>
            <a:ext cx="2571840" cy="38545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005.jpg"/>
          <p:cNvPicPr/>
          <p:nvPr/>
        </p:nvPicPr>
        <p:blipFill>
          <a:blip r:embed="rId2"/>
          <a:stretch/>
        </p:blipFill>
        <p:spPr>
          <a:xfrm>
            <a:off x="4143240" y="2214720"/>
            <a:ext cx="2071800" cy="32112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7" descr="Kamlanie.gif"/>
          <p:cNvPicPr/>
          <p:nvPr/>
        </p:nvPicPr>
        <p:blipFill>
          <a:blip r:embed="rId3"/>
          <a:stretch/>
        </p:blipFill>
        <p:spPr>
          <a:xfrm>
            <a:off x="428760" y="1571760"/>
            <a:ext cx="3643200" cy="2581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f6e428bb2e62.jpg"/>
          <p:cNvPicPr/>
          <p:nvPr/>
        </p:nvPicPr>
        <p:blipFill>
          <a:blip r:embed="rId4"/>
          <a:stretch/>
        </p:blipFill>
        <p:spPr>
          <a:xfrm>
            <a:off x="1071720" y="4286160"/>
            <a:ext cx="2214360" cy="2406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58040" cy="479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Используемые материалы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1)Учебник Географии 9кл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2)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www.rf-agency.ru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3)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www.rf-agency.r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51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Этнографическое положение России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1. Стык Европы и Азии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2. Западная часть – европейское влияни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3. Кавказ – самостоятельная целостность, но очень тесно связан с Ближним и Средним Востоком. Место стыка Христианского и мусульманского мира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4. Центральная Азия – место встречи разных культур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5. Крайний Север – «четвертый мир», край народов (26 – 180 тысяч). Территория неблагоприятная для прожив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400" y="704880"/>
            <a:ext cx="833436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Национальный </a:t>
            </a:r>
            <a:br>
              <a:rPr sz="4600"/>
            </a:b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                  и </a:t>
            </a:r>
            <a:br>
              <a:rPr sz="4600"/>
            </a:b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   религиозный соста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59513d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d41d"/>
                </a:solidFill>
                <a:latin typeface="Comic Sans MS"/>
              </a:rPr>
              <a:t>Самым многочисленным народом в России являются русские. Их численность — 115,9 млн., на втором месте — татары (5,6 млн.), на третьем — украинцы (2,9 млн.), на четвёртом — башкиры (1,7 мл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4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501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</a:t>
            </a: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На 1 месте по численности – Индоевропейская языковая  семья. Русские, украинцы, белорусы, немцы, осетины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На 2 месте – алтайская языковая семья. 12 млн. человек. Татары, башкиры, чуваши, алтайцы, хакасы, тувинцы, якуты, балкарцы, кумыки, карачаевцы, казахи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Уральско-юкагирская семья – мордва, удмурты, марийцы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Северокавказская семья – самый компактный ареал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Мозаичность и пестрот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Содержимое 3" descr="005.jpg"/>
          <p:cNvPicPr/>
          <p:nvPr/>
        </p:nvPicPr>
        <p:blipFill>
          <a:blip r:embed="rId1"/>
          <a:stretch/>
        </p:blipFill>
        <p:spPr>
          <a:xfrm>
            <a:off x="214200" y="1071720"/>
            <a:ext cx="2551320" cy="1962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25big.jpg"/>
          <p:cNvPicPr/>
          <p:nvPr/>
        </p:nvPicPr>
        <p:blipFill>
          <a:blip r:embed="rId2"/>
          <a:stretch/>
        </p:blipFill>
        <p:spPr>
          <a:xfrm>
            <a:off x="500040" y="3143160"/>
            <a:ext cx="2571840" cy="22258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080daa1f72762057ac5de76947ea6603.jpg"/>
          <p:cNvPicPr/>
          <p:nvPr/>
        </p:nvPicPr>
        <p:blipFill>
          <a:blip r:embed="rId3"/>
          <a:stretch/>
        </p:blipFill>
        <p:spPr>
          <a:xfrm>
            <a:off x="5500800" y="1143000"/>
            <a:ext cx="3360600" cy="19461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71526.jpg"/>
          <p:cNvPicPr/>
          <p:nvPr/>
        </p:nvPicPr>
        <p:blipFill>
          <a:blip r:embed="rId4"/>
          <a:stretch/>
        </p:blipFill>
        <p:spPr>
          <a:xfrm>
            <a:off x="5929200" y="3143160"/>
            <a:ext cx="2928960" cy="21132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img_1674.jpg"/>
          <p:cNvPicPr/>
          <p:nvPr/>
        </p:nvPicPr>
        <p:blipFill>
          <a:blip r:embed="rId5"/>
          <a:stretch/>
        </p:blipFill>
        <p:spPr>
          <a:xfrm>
            <a:off x="2857680" y="1143000"/>
            <a:ext cx="2628720" cy="2124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khak_1.jpg"/>
          <p:cNvPicPr/>
          <p:nvPr/>
        </p:nvPicPr>
        <p:blipFill>
          <a:blip r:embed="rId6"/>
          <a:stretch/>
        </p:blipFill>
        <p:spPr>
          <a:xfrm>
            <a:off x="3071880" y="2832120"/>
            <a:ext cx="2738520" cy="18399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9" descr="tatary.jpg"/>
          <p:cNvPicPr/>
          <p:nvPr/>
        </p:nvPicPr>
        <p:blipFill>
          <a:blip r:embed="rId7"/>
          <a:stretch/>
        </p:blipFill>
        <p:spPr>
          <a:xfrm>
            <a:off x="3571920" y="4572000"/>
            <a:ext cx="2651040" cy="2000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0" descr="250-1W0.jpg"/>
          <p:cNvPicPr/>
          <p:nvPr/>
        </p:nvPicPr>
        <p:blipFill>
          <a:blip r:embed="rId8"/>
          <a:stretch/>
        </p:blipFill>
        <p:spPr>
          <a:xfrm>
            <a:off x="1071720" y="4572000"/>
            <a:ext cx="2381040" cy="20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Мозаичность и пестрот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«этнической карты» РФ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начительная часть народов России расселена за пределами своих респуб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редоточенность размещения многих народов, их интенсивные контакты между собой и особенно с русскими способствовали процессу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ссимиляции</a:t>
            </a: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«растворение» одних народов среди других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14200" y="214200"/>
            <a:ext cx="85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Ассимиляция –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лияние одного народа (или его части) с другим путём усвоения его языка, культуры и часто утраты своего языка, культуры и национального самосозн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700280"/>
            <a:ext cx="611280" cy="2089080"/>
          </a:xfrm>
          <a:custGeom>
            <a:avLst/>
            <a:gdLst>
              <a:gd name="textAreaLeft" fmla="*/ 81720 w 611280"/>
              <a:gd name="textAreaRight" fmla="*/ 529560 w 61128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8423280" y="141300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4360" y="2637000"/>
            <a:ext cx="2879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Естественная ассими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5214960" y="2714760"/>
            <a:ext cx="3097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асильственная ассими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1476360" y="3500280"/>
            <a:ext cx="1511280" cy="1081080"/>
          </a:xfrm>
          <a:prstGeom prst="downArrowCallout">
            <a:avLst>
              <a:gd name="adj1" fmla="val 34951"/>
              <a:gd name="adj2" fmla="val 34948"/>
              <a:gd name="adj3" fmla="val 1666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6012000" y="3573360"/>
            <a:ext cx="1511280" cy="1008000"/>
          </a:xfrm>
          <a:prstGeom prst="downArrowCallout">
            <a:avLst>
              <a:gd name="adj1" fmla="val 37485"/>
              <a:gd name="adj2" fmla="val 37482"/>
              <a:gd name="adj3" fmla="val 16667"/>
              <a:gd name="adj4" fmla="val 6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0" y="4365720"/>
            <a:ext cx="4427640" cy="2492280"/>
          </a:xfrm>
          <a:prstGeom prst="horizontalScrol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исходит при контак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нически разнородных гру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еления, смешанных бра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4572000" y="4365720"/>
            <a:ext cx="4572000" cy="2492280"/>
          </a:xfrm>
          <a:prstGeom prst="horizontalScrol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аждается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нуждения (например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рещение обучени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нигоиздания на родном язы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т.д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428760" y="3571920"/>
            <a:ext cx="8135640" cy="3024000"/>
          </a:xfrm>
          <a:prstGeom prst="ellipse">
            <a:avLst/>
          </a:prstGeom>
          <a:solidFill>
            <a:srgbClr val="96e2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народов расселен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елах республ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итульная нация –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род, давш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звание республ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44280"/>
          <a:ext cx="9109080" cy="6813720"/>
        </p:xfrm>
        <a:graphic>
          <a:graphicData uri="http://schemas.openxmlformats.org/drawingml/2006/table">
            <a:tbl>
              <a:tblPr/>
              <a:tblGrid>
                <a:gridCol w="3419640"/>
                <a:gridCol w="2520720"/>
                <a:gridCol w="1800360"/>
                <a:gridCol w="136836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., 2000г. тыс. 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коре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ру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ге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чен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гуше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аш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ва (Ту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-Балка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Осе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свед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 Ингуш.+ Чече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мык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й Э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чаево-Черке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ка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шкорто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ыг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о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утия (Сах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+ тата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3:45:19Z</dcterms:created>
  <dc:creator>Мама</dc:creator>
  <dc:description/>
  <dc:language>en-US</dc:language>
  <cp:lastModifiedBy>Paradise</cp:lastModifiedBy>
  <dcterms:modified xsi:type="dcterms:W3CDTF">2010-11-07T17:50:48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20000000000010250300207f7000400038000</vt:lpwstr>
  </property>
</Properties>
</file>