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.wmf" ContentType="image/x-wmf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1ACF-424E-49E9-900F-480D039C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F786-85C4-4A47-B697-8BFEF8D3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BBC-F37E-4970-8537-7C5C5CD7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63A-8962-44D3-8E76-2691C3B8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03B3-3E38-4158-A7E5-AB5FAAAB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8376-AF03-4A1B-8D12-BE8C6BE0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D3AD-6954-4612-8C91-0306D3EC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C2B8-EBB1-4CED-9F29-7D3210C5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ACEB-2EDF-4AA3-B3E9-FF0B1104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AEF4-01D5-4CD9-B041-247DDFEA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16D1-8E34-4ADF-8BA9-EA3E9F4D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725-98A9-4215-947B-412EA478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6569-2FAF-4B2A-889B-85586927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7755-C70F-4D08-ABB5-783C9D0B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1DB1-CD8A-4C1F-89AA-72E67E41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AC3F-A37E-4B5B-9E75-2EA3A062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CB56-17A1-42DB-A240-F319ADC3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2FE96-AD30-404A-844F-46152A2D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7DC33-FE03-4451-AB2A-31D915A8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7CA7D-024B-46E7-BAFF-D7514459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F4754-D8A7-445C-8051-702C73C9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94B2F-B61F-4B80-A56A-44A84AEA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B1A-03F8-4551-ABFC-D441EA60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C9F74-DE50-4915-B64B-82BF0BFA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01708-B189-45C9-AF5F-95E4E4BA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13C0E-A32B-486E-810F-6F93166D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222B3-9681-4AE3-8C2E-517A846F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46211-A8B2-4571-881D-500CAC95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93651-C675-4A3E-88AA-63F8B136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06A5A-EA36-4488-8413-46372BC0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96E5A-2BA7-49B2-BA35-4A30C040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494A0-FF99-4F99-8804-113D590C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C5298-F8C5-4FE2-A3E9-20E3499A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80C-0804-465A-8D80-7F6EC0BB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058B6-7547-4356-9722-A02F5D03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F8481-136B-4609-995D-584C6BF1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CDCBB-081F-4E05-8F06-15023F1E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47F66-7DBC-4C6E-9DBE-61FF9B58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44DB3-295D-4612-8E78-1C5DD5C6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C6FFB-0E64-4344-81A2-CE957531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9836B-25F1-404B-B2AB-FC54B47B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6241B-1CAF-48AA-B6CD-1FDD6F7B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8F6E3-500F-45C4-814A-A4771401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F5E03-2D81-4671-AA93-9F3FB417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AC5D-617C-4032-A4C6-5F3FC93F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D8021-3D02-4225-909C-B20E344B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8BC5A-6C24-423A-951A-FFCEA96D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9233B-DE2B-488B-ACCB-3E053114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A9CD6-886A-4EA7-8A78-9EEF25C1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F6B6C-F218-460B-A997-E1B09B77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68264-2B47-4AE3-9D7A-370D186E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00697-603F-4ECC-886A-6A6FA379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D6BF0-6F61-467A-A994-26E9EDA0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30F36-AB73-4478-A8FB-A54DAF6D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5BE70-59CE-4506-85B6-4435A702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9C85-6EE6-4111-A231-33BD24A0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F7247-2BA0-4839-84B5-EFBEDACE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A5392-5166-462E-880C-DD992BFA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87FFA-38C1-4898-90FF-6682F277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9C0C2-0C4B-4232-A8F4-99D93BF7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5518E-FA82-40D9-A25F-8CEE36A2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6BE92-29BC-4C51-9E52-ECC7A191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A7261-130F-467F-808F-6B8DD508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7A4C8-52C8-4F40-9BE6-957ECC2E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90AA2-2817-4035-978A-BB7E2614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7C506-3CCD-4846-9663-89409DFC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1A5-85BE-4EA8-B5B3-DA1FC20F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F903A-BD68-4EAF-BDFC-BD883652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3A290-A8E6-40E2-8AB1-A244F5A4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DD2A8-C0CC-4412-810F-9CCED226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F18-5451-4C16-840F-B6EF3D63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1E7-321B-4D5C-AFCC-7FFBBCFE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bbc9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daba7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96e2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F8C6-4B5A-4353-86C6-B08D02C83751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bbc9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daba7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96e2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EC79-7949-4204-99E7-90B1CD3286A6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bbc9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daba7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96e2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A948-4AD0-443F-9536-3BC389F71543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96e2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5656-7529-4808-94A4-551D3FFFC036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bbc9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daba7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96e2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252E-B60B-4873-AE0B-96323FBD45BA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96e2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CD21-8A91-482F-9CBC-9857DDBCFB0B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rf-agency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208080" y="-12600"/>
            <a:ext cx="3095640" cy="13604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41880" y="4786560"/>
            <a:ext cx="8002440" cy="14209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Выполнила ученица 9б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Кривец Людмила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863640" y="285840"/>
            <a:ext cx="8280360" cy="62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57" name="Прямоугольник 5" descr=""/>
          <p:cNvPicPr/>
          <p:nvPr/>
        </p:nvPicPr>
        <p:blipFill>
          <a:blip r:embed="rId2"/>
          <a:stretch/>
        </p:blipFill>
        <p:spPr>
          <a:xfrm>
            <a:off x="847800" y="2371680"/>
            <a:ext cx="7705800" cy="1938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Русский язык является родным не только для русских, но и для других народов , живущих в Ро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Из 29 млн. человек нерусского населения РФ 27 владеют русским языком, т.е. 92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Из 145,2 млн. чел. ( по переписи 2002 года) русским владеют 142,6млн. Человек – 98,2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Казаки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8" name="Содержимое 4" descr="14.jpg"/>
          <p:cNvPicPr/>
          <p:nvPr/>
        </p:nvPicPr>
        <p:blipFill>
          <a:blip r:embed="rId1"/>
          <a:stretch/>
        </p:blipFill>
        <p:spPr>
          <a:xfrm>
            <a:off x="357120" y="128592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289" name="Содержимое 5" descr="kazaki_of_russia_43.jpg"/>
          <p:cNvPicPr/>
          <p:nvPr/>
        </p:nvPicPr>
        <p:blipFill>
          <a:blip r:embed="rId2"/>
          <a:stretch/>
        </p:blipFill>
        <p:spPr>
          <a:xfrm>
            <a:off x="4473720" y="214200"/>
            <a:ext cx="4494240" cy="300060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6" descr="01_02_01.jpg"/>
          <p:cNvPicPr/>
          <p:nvPr/>
        </p:nvPicPr>
        <p:blipFill>
          <a:blip r:embed="rId3"/>
          <a:stretch/>
        </p:blipFill>
        <p:spPr>
          <a:xfrm>
            <a:off x="928800" y="4071960"/>
            <a:ext cx="2214360" cy="257328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7" descr="0_d091_8b13b2e9_XL.jpg"/>
          <p:cNvPicPr/>
          <p:nvPr/>
        </p:nvPicPr>
        <p:blipFill>
          <a:blip r:embed="rId4"/>
          <a:stretch/>
        </p:blipFill>
        <p:spPr>
          <a:xfrm>
            <a:off x="4500720" y="3303720"/>
            <a:ext cx="4429080" cy="3322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Цыгане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3" name="Содержимое 3" descr="0_23ef_ffdbf52_XL.jpg"/>
          <p:cNvPicPr/>
          <p:nvPr/>
        </p:nvPicPr>
        <p:blipFill>
          <a:blip r:embed="rId1"/>
          <a:stretch/>
        </p:blipFill>
        <p:spPr>
          <a:xfrm>
            <a:off x="4500720" y="0"/>
            <a:ext cx="4425840" cy="331956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4" descr="preview_ImageSrc_3278.jpg"/>
          <p:cNvPicPr/>
          <p:nvPr/>
        </p:nvPicPr>
        <p:blipFill>
          <a:blip r:embed="rId2"/>
          <a:stretch/>
        </p:blipFill>
        <p:spPr>
          <a:xfrm>
            <a:off x="4500720" y="3470400"/>
            <a:ext cx="4429080" cy="314964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5" descr="1250568459_f.jpg"/>
          <p:cNvPicPr/>
          <p:nvPr/>
        </p:nvPicPr>
        <p:blipFill>
          <a:blip r:embed="rId3"/>
          <a:stretch/>
        </p:blipFill>
        <p:spPr>
          <a:xfrm>
            <a:off x="285840" y="1428840"/>
            <a:ext cx="3714840" cy="5337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ru-RU" sz="4100" spc="-1" strike="noStrike">
                <a:solidFill>
                  <a:srgbClr val="ffffff"/>
                </a:solidFill>
                <a:latin typeface="Bookman Old Style"/>
              </a:rPr>
              <a:t>Конфессиональный состав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7" name="Содержимое 3" descr="mapa-19.jpg"/>
          <p:cNvPicPr/>
          <p:nvPr/>
        </p:nvPicPr>
        <p:blipFill>
          <a:blip r:embed="rId1"/>
          <a:stretch/>
        </p:blipFill>
        <p:spPr>
          <a:xfrm>
            <a:off x="500040" y="714240"/>
            <a:ext cx="8045640" cy="6143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5920" bIns="259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28760" y="428400"/>
            <a:ext cx="3471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бсолютное преобладание православия – 9\10.восточнославянские народы – русские, украинцы, белорусы, угро-финские народы – мордвы, удмурты, коми, карелы, народы тюркской группы – чуваши, хакасы, якут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Рисунок 3" descr="big-18-235-20946_b.jpg"/>
          <p:cNvPicPr/>
          <p:nvPr/>
        </p:nvPicPr>
        <p:blipFill>
          <a:blip r:embed="rId1"/>
          <a:stretch/>
        </p:blipFill>
        <p:spPr>
          <a:xfrm>
            <a:off x="6643800" y="1214280"/>
            <a:ext cx="2230200" cy="335448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4" descr="hram.jpg"/>
          <p:cNvPicPr/>
          <p:nvPr/>
        </p:nvPicPr>
        <p:blipFill>
          <a:blip r:embed="rId2"/>
          <a:stretch/>
        </p:blipFill>
        <p:spPr>
          <a:xfrm>
            <a:off x="3929040" y="3214800"/>
            <a:ext cx="2540160" cy="3289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8263080" cy="242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Вторая по численности верующих религия – ислам. Ее исповедуют татары, башкиры, почти все народы Северного Кавказа</a:t>
            </a:r>
            <a:br>
              <a:rPr sz="41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3" name="Рисунок 2" descr="1191359076_masha2.jpg"/>
          <p:cNvPicPr/>
          <p:nvPr/>
        </p:nvPicPr>
        <p:blipFill>
          <a:blip r:embed="rId1"/>
          <a:stretch/>
        </p:blipFill>
        <p:spPr>
          <a:xfrm>
            <a:off x="6572160" y="1714680"/>
            <a:ext cx="2266920" cy="352404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3" descr="429bac4919ca6227b2306455d1ddec3b.jpg"/>
          <p:cNvPicPr/>
          <p:nvPr/>
        </p:nvPicPr>
        <p:blipFill>
          <a:blip r:embed="rId2"/>
          <a:stretch/>
        </p:blipFill>
        <p:spPr>
          <a:xfrm>
            <a:off x="571680" y="2500200"/>
            <a:ext cx="5072040" cy="3803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Буддизм – распространение среди монголоязычных  народов – бурят, калмыков, тувинцев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28400" y="3571920"/>
            <a:ext cx="825804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Рисунок 4" descr="pic_200554_20mn18s3mls17.jpg"/>
          <p:cNvPicPr/>
          <p:nvPr/>
        </p:nvPicPr>
        <p:blipFill>
          <a:blip r:embed="rId1"/>
          <a:stretch/>
        </p:blipFill>
        <p:spPr>
          <a:xfrm>
            <a:off x="3786120" y="2357280"/>
            <a:ext cx="5041800" cy="342900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5" descr="buddizm4.jpg"/>
          <p:cNvPicPr/>
          <p:nvPr/>
        </p:nvPicPr>
        <p:blipFill>
          <a:blip r:embed="rId2"/>
          <a:stretch/>
        </p:blipFill>
        <p:spPr>
          <a:xfrm>
            <a:off x="357120" y="2000160"/>
            <a:ext cx="2882880" cy="4254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Шаманизм – родоплеменные, языческие верования</a:t>
            </a: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0" name="Содержимое 3" descr="aiportret2.jpg"/>
          <p:cNvPicPr/>
          <p:nvPr/>
        </p:nvPicPr>
        <p:blipFill>
          <a:blip r:embed="rId1"/>
          <a:stretch/>
        </p:blipFill>
        <p:spPr>
          <a:xfrm>
            <a:off x="6357960" y="1857240"/>
            <a:ext cx="2571840" cy="385452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6" descr="005.jpg"/>
          <p:cNvPicPr/>
          <p:nvPr/>
        </p:nvPicPr>
        <p:blipFill>
          <a:blip r:embed="rId2"/>
          <a:stretch/>
        </p:blipFill>
        <p:spPr>
          <a:xfrm>
            <a:off x="4143240" y="2214720"/>
            <a:ext cx="2071800" cy="321120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7" descr="Kamlanie.gif"/>
          <p:cNvPicPr/>
          <p:nvPr/>
        </p:nvPicPr>
        <p:blipFill>
          <a:blip r:embed="rId3"/>
          <a:stretch/>
        </p:blipFill>
        <p:spPr>
          <a:xfrm>
            <a:off x="428760" y="1571760"/>
            <a:ext cx="3643200" cy="258120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8" descr="f6e428bb2e62.jpg"/>
          <p:cNvPicPr/>
          <p:nvPr/>
        </p:nvPicPr>
        <p:blipFill>
          <a:blip r:embed="rId4"/>
          <a:stretch/>
        </p:blipFill>
        <p:spPr>
          <a:xfrm>
            <a:off x="1071720" y="4286160"/>
            <a:ext cx="2214360" cy="2406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58040" cy="479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Bookman Old Style"/>
              </a:rPr>
              <a:t>Используемые материалы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Bookman Old Style"/>
              </a:rPr>
              <a:t>1)Учебник Географии 9кл.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Bookman Old Style"/>
              </a:rPr>
              <a:t>2)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46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www.rf-agency.ru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3)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www.rf-agency.ru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305920" cy="515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Этнографическое положение России: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b0f0"/>
                </a:solidFill>
                <a:latin typeface="Bookman Old Style"/>
              </a:rPr>
              <a:t>1. Стык Европы и Азии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Bookman Old Style"/>
              </a:rPr>
              <a:t>2. Западная часть – европейское влияние.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Bookman Old Style"/>
              </a:rPr>
              <a:t>3. Кавказ – самостоятельная целостность, но очень тесно связан с Ближним и Средним Востоком. Место стыка Христианского и мусульманского мира.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Bookman Old Style"/>
              </a:rPr>
              <a:t>4. Центральная Азия – место встречи разных культур.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Bookman Old Style"/>
              </a:rPr>
              <a:t>5. Крайний Север – «четвертый мир», край народов (26 – 180 тысяч). Территория неблагоприятная для проживани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400" y="704880"/>
            <a:ext cx="8334360" cy="28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ru-RU" sz="4600" spc="-1" strike="noStrike">
                <a:solidFill>
                  <a:srgbClr val="ff0066"/>
                </a:solidFill>
                <a:latin typeface="Bookman Old Style"/>
              </a:rPr>
              <a:t>Национальный </a:t>
            </a:r>
            <a:br>
              <a:rPr sz="4600"/>
            </a:br>
            <a:r>
              <a:rPr b="1" lang="ru-RU" sz="4600" spc="-1" strike="noStrike">
                <a:solidFill>
                  <a:srgbClr val="ff0066"/>
                </a:solidFill>
                <a:latin typeface="Bookman Old Style"/>
              </a:rPr>
              <a:t>                  и </a:t>
            </a:r>
            <a:br>
              <a:rPr sz="4600"/>
            </a:br>
            <a:r>
              <a:rPr b="1" lang="ru-RU" sz="4600" spc="-1" strike="noStrike">
                <a:solidFill>
                  <a:srgbClr val="ff0066"/>
                </a:solidFill>
                <a:latin typeface="Bookman Old Style"/>
              </a:rPr>
              <a:t>   религиозный состав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59513d"/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d41d"/>
                </a:solidFill>
                <a:latin typeface="Comic Sans MS"/>
              </a:rPr>
              <a:t>Самым многочисленным народом в России являются русские. Их численность — 115,9 млн., на втором месте — татары (5,6 млн.), на третьем — украинцы (2,9 млн.), на четвёртом — башкиры (1,7 млн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2" name="Object 4" descr=""/>
          <p:cNvPicPr/>
          <p:nvPr/>
        </p:nvPicPr>
        <p:blipFill>
          <a:blip r:embed="rId2"/>
          <a:stretch/>
        </p:blipFill>
        <p:spPr>
          <a:xfrm>
            <a:off x="1143000" y="171468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501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66"/>
                </a:solidFill>
                <a:latin typeface="Bookman Old Style"/>
              </a:rPr>
              <a:t>   </a:t>
            </a:r>
            <a:r>
              <a:rPr b="0" lang="ru-RU" sz="2500" spc="-1" strike="noStrike">
                <a:solidFill>
                  <a:srgbClr val="ff0066"/>
                </a:solidFill>
                <a:latin typeface="Bookman Old Style"/>
              </a:rPr>
              <a:t>На 1 месте по численности – Индоевропейская языковая  семья. Русские, украинцы, белорусы, немцы, осетины.</a:t>
            </a:r>
            <a:br>
              <a:rPr sz="2500"/>
            </a:br>
            <a:r>
              <a:rPr b="0" lang="ru-RU" sz="2500" spc="-1" strike="noStrike">
                <a:solidFill>
                  <a:srgbClr val="ff0066"/>
                </a:solidFill>
                <a:latin typeface="Bookman Old Style"/>
              </a:rPr>
              <a:t>   На 2 месте – алтайская языковая семья. 12 млн. человек. Татары, башкиры, чуваши, алтайцы, хакасы, тувинцы, якуты, балкарцы, кумыки, карачаевцы, казахи.</a:t>
            </a:r>
            <a:br>
              <a:rPr sz="2500"/>
            </a:br>
            <a:r>
              <a:rPr b="0" lang="ru-RU" sz="2500" spc="-1" strike="noStrike">
                <a:solidFill>
                  <a:srgbClr val="ff0066"/>
                </a:solidFill>
                <a:latin typeface="Bookman Old Style"/>
              </a:rPr>
              <a:t>   Уральско-юкагирская семья – мордва, удмурты, марийцы.</a:t>
            </a:r>
            <a:br>
              <a:rPr sz="2500"/>
            </a:br>
            <a:r>
              <a:rPr b="0" lang="ru-RU" sz="2500" spc="-1" strike="noStrike">
                <a:solidFill>
                  <a:srgbClr val="ff0066"/>
                </a:solidFill>
                <a:latin typeface="Bookman Old Style"/>
              </a:rPr>
              <a:t>Северокавказская семья – самый компактный ареал.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ru-RU" sz="4100" spc="-1" strike="noStrike">
                <a:solidFill>
                  <a:srgbClr val="ffffff"/>
                </a:solidFill>
                <a:latin typeface="Bookman Old Style"/>
              </a:rPr>
              <a:t>Мозаичность и пестрота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Содержимое 3" descr="005.jpg"/>
          <p:cNvPicPr/>
          <p:nvPr/>
        </p:nvPicPr>
        <p:blipFill>
          <a:blip r:embed="rId1"/>
          <a:stretch/>
        </p:blipFill>
        <p:spPr>
          <a:xfrm>
            <a:off x="214200" y="1071720"/>
            <a:ext cx="2551320" cy="19620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4" descr="25big.jpg"/>
          <p:cNvPicPr/>
          <p:nvPr/>
        </p:nvPicPr>
        <p:blipFill>
          <a:blip r:embed="rId2"/>
          <a:stretch/>
        </p:blipFill>
        <p:spPr>
          <a:xfrm>
            <a:off x="500040" y="3143160"/>
            <a:ext cx="2571840" cy="22258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5" descr="080daa1f72762057ac5de76947ea6603.jpg"/>
          <p:cNvPicPr/>
          <p:nvPr/>
        </p:nvPicPr>
        <p:blipFill>
          <a:blip r:embed="rId3"/>
          <a:stretch/>
        </p:blipFill>
        <p:spPr>
          <a:xfrm>
            <a:off x="5500800" y="1143000"/>
            <a:ext cx="3360600" cy="194616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6" descr="71526.jpg"/>
          <p:cNvPicPr/>
          <p:nvPr/>
        </p:nvPicPr>
        <p:blipFill>
          <a:blip r:embed="rId4"/>
          <a:stretch/>
        </p:blipFill>
        <p:spPr>
          <a:xfrm>
            <a:off x="5929200" y="3143160"/>
            <a:ext cx="2928960" cy="211320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7" descr="img_1674.jpg"/>
          <p:cNvPicPr/>
          <p:nvPr/>
        </p:nvPicPr>
        <p:blipFill>
          <a:blip r:embed="rId5"/>
          <a:stretch/>
        </p:blipFill>
        <p:spPr>
          <a:xfrm>
            <a:off x="2857680" y="1143000"/>
            <a:ext cx="2628720" cy="21240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8" descr="khak_1.jpg"/>
          <p:cNvPicPr/>
          <p:nvPr/>
        </p:nvPicPr>
        <p:blipFill>
          <a:blip r:embed="rId6"/>
          <a:stretch/>
        </p:blipFill>
        <p:spPr>
          <a:xfrm>
            <a:off x="3071880" y="2832120"/>
            <a:ext cx="2738520" cy="183996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9" descr="tatary.jpg"/>
          <p:cNvPicPr/>
          <p:nvPr/>
        </p:nvPicPr>
        <p:blipFill>
          <a:blip r:embed="rId7"/>
          <a:stretch/>
        </p:blipFill>
        <p:spPr>
          <a:xfrm>
            <a:off x="3571920" y="4572000"/>
            <a:ext cx="2651040" cy="200016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10" descr="250-1W0.jpg"/>
          <p:cNvPicPr/>
          <p:nvPr/>
        </p:nvPicPr>
        <p:blipFill>
          <a:blip r:embed="rId8"/>
          <a:stretch/>
        </p:blipFill>
        <p:spPr>
          <a:xfrm>
            <a:off x="1071720" y="4572000"/>
            <a:ext cx="2381040" cy="2048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              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Мозаичность и пестрота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               «этнической карты» РФ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начительная часть народов России расселена за пределами своих республи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редоточенность размещения многих народов, их интенсивные контакты между собой и особенно с русскими способствовали процессу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ссимиляции</a:t>
            </a:r>
            <a:r>
              <a:rPr b="1" lang="ru-RU" sz="3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(«растворение» одних народов среди других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14200" y="214200"/>
            <a:ext cx="856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Ассимиляция – </a:t>
            </a: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слияние одного народа (или его части) с другим путём усвоения его языка, культуры и часто утраты своего языка, культуры и национального самосозна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0" y="1700280"/>
            <a:ext cx="611280" cy="2089080"/>
          </a:xfrm>
          <a:custGeom>
            <a:avLst/>
            <a:gdLst>
              <a:gd name="textAreaLeft" fmla="*/ 81720 w 611280"/>
              <a:gd name="textAreaRight" fmla="*/ 529560 w 611280"/>
              <a:gd name="textAreaTop" fmla="*/ 365400 h 2089080"/>
              <a:gd name="textAreaBottom" fmla="*/ 151452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8423280" y="1413000"/>
            <a:ext cx="720720" cy="2305080"/>
          </a:xfrm>
          <a:custGeom>
            <a:avLst/>
            <a:gdLst>
              <a:gd name="textAreaLeft" fmla="*/ 96480 w 720720"/>
              <a:gd name="textAreaRight" fmla="*/ 624240 w 72072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4360" y="2637000"/>
            <a:ext cx="287964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Естественная ассимиля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5214960" y="2714760"/>
            <a:ext cx="309708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Насильственная ассимиля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8"/>
          <p:cNvSpPr/>
          <p:nvPr/>
        </p:nvSpPr>
        <p:spPr>
          <a:xfrm>
            <a:off x="1476360" y="3500280"/>
            <a:ext cx="1511280" cy="1081080"/>
          </a:xfrm>
          <a:prstGeom prst="downArrowCallout">
            <a:avLst>
              <a:gd name="adj1" fmla="val 34951"/>
              <a:gd name="adj2" fmla="val 34948"/>
              <a:gd name="adj3" fmla="val 16667"/>
              <a:gd name="adj4" fmla="val 6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9"/>
          <p:cNvSpPr/>
          <p:nvPr/>
        </p:nvSpPr>
        <p:spPr>
          <a:xfrm>
            <a:off x="6012000" y="3573360"/>
            <a:ext cx="1511280" cy="1008000"/>
          </a:xfrm>
          <a:prstGeom prst="downArrowCallout">
            <a:avLst>
              <a:gd name="adj1" fmla="val 37485"/>
              <a:gd name="adj2" fmla="val 37482"/>
              <a:gd name="adj3" fmla="val 16667"/>
              <a:gd name="adj4" fmla="val 6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10"/>
          <p:cNvSpPr/>
          <p:nvPr/>
        </p:nvSpPr>
        <p:spPr>
          <a:xfrm>
            <a:off x="0" y="4365720"/>
            <a:ext cx="4427640" cy="2492280"/>
          </a:xfrm>
          <a:prstGeom prst="horizontalScrol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исходит при контакт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тнически разнородных груп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селения, смешанных брак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11"/>
          <p:cNvSpPr/>
          <p:nvPr/>
        </p:nvSpPr>
        <p:spPr>
          <a:xfrm>
            <a:off x="4572000" y="4365720"/>
            <a:ext cx="4572000" cy="2492280"/>
          </a:xfrm>
          <a:prstGeom prst="horizontalScrol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саждается с помощь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нуждения (например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прещение обучения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нигоиздания на родном язык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т.д.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12"/>
          <p:cNvSpPr/>
          <p:nvPr/>
        </p:nvSpPr>
        <p:spPr>
          <a:xfrm>
            <a:off x="428760" y="3571920"/>
            <a:ext cx="8135640" cy="3024000"/>
          </a:xfrm>
          <a:prstGeom prst="ellipse">
            <a:avLst/>
          </a:prstGeom>
          <a:solidFill>
            <a:srgbClr val="96e2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народов расселена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елах республ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итульная нация –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род, давш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звание республи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44280"/>
          <a:ext cx="9109080" cy="6813720"/>
        </p:xfrm>
        <a:graphic>
          <a:graphicData uri="http://schemas.openxmlformats.org/drawingml/2006/table">
            <a:tbl>
              <a:tblPr/>
              <a:tblGrid>
                <a:gridCol w="3419640"/>
                <a:gridCol w="2520720"/>
                <a:gridCol w="1800360"/>
                <a:gridCol w="136836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., 2000г. тыс. ч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коре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ру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гест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ченск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гуше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аш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ва (Тув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бардино-Балкар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ая Осе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свед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1 Ингуш.+ Чече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тарст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мык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ий Э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ачаево-Черкес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3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ел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касс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шкортост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ыге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р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мур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т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дов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кутия (Сах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1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+ тата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3:45:19Z</dcterms:created>
  <dc:creator>Мама</dc:creator>
  <dc:description/>
  <dc:language>en-US</dc:language>
  <cp:lastModifiedBy>Paradise</cp:lastModifiedBy>
  <dcterms:modified xsi:type="dcterms:W3CDTF">2010-11-07T17:50:48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120000000000010250300207f7000400038000</vt:lpwstr>
  </property>
</Properties>
</file>