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4B6-BD81-40A7-890F-38EFADF9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01C-79C1-4980-B62E-DE462E59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3BD-7594-41D9-81FA-1034FA31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ED1-E666-48F6-A29F-987C0A37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F9D6-664C-44EC-B6C0-8E9A0E06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F704-9BD2-4853-9ADC-649F911C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6DD0-9C15-493E-8181-EC1ECB7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FA05-4A03-456F-AAE6-F13DB476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D403-C8BD-4EFF-AF7B-067143D4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AB13-2276-41B3-A2B1-75AEF062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0FBE-F5F2-44EA-BF27-2CF33FE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AFC-F6B1-4E78-8A73-F48A9CBE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F1AD-A053-4B85-8C2D-1C317686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8266-2284-4A2C-AAC3-DF65F87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8199-B11E-40DB-8A6E-49275428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8467-BF9E-4955-9BC3-F25C269B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DE8B-B948-458C-BEC9-6EDE6746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E2A-7BB0-400B-9B2C-E6EAE7B6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8F1-6CEC-49C5-A0E3-2A2A9494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293-3390-4515-9BF4-DF1C7117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14D-DDA6-4415-BE7D-1FA0AF27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9D7-EDB5-430A-B8CF-1A567E0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B32-3080-40A9-9FA1-13C8B8BE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4A6-A0E0-434F-A181-45F71CD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552C-63BE-41B7-B112-C3DA53D8A6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ECE3-C5AF-412C-90CF-AC35EF33A5AC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1;&#1077;&#1089;&#1089;&#1090;&#1086;&#1095;&#1085;&#1072;&#1103;_&#1086;&#1073;&#1083;&#1072;&#1089;&#1090;&#1100;" TargetMode="External"/><Relationship Id="rId3" Type="http://schemas.openxmlformats.org/officeDocument/2006/relationships/hyperlink" Target="http://ru.wikipedia.org/wiki/&#1057;&#1086;&#1083;&#1105;&#1085;&#1086;&#1077;_&#1086;&#1079;&#1077;&#1088;&#1086;" TargetMode="External"/><Relationship Id="rId4" Type="http://schemas.openxmlformats.org/officeDocument/2006/relationships/hyperlink" Target="http://ru.wikipedia.org/wiki/&#1048;&#1079;&#1088;&#1072;&#1080;&#1083;&#1100;" TargetMode="External"/><Relationship Id="rId5" Type="http://schemas.openxmlformats.org/officeDocument/2006/relationships/hyperlink" Target="http://ru.wikipedia.org/wiki/&#1048;&#1086;&#1088;&#1076;&#1072;&#1085;&#1080;&#1103;" TargetMode="External"/><Relationship Id="rId6" Type="http://schemas.openxmlformats.org/officeDocument/2006/relationships/hyperlink" Target="http://ru.wikipedia.org/wiki/&#1052;&#1077;&#1088;&#1090;&#1074;&#1086;&#1077;_&#1084;&#1086;&#1088;&#1077;#cite_note-ISRAMAR-0" TargetMode="External"/><Relationship Id="rId7" Type="http://schemas.openxmlformats.org/officeDocument/2006/relationships/hyperlink" Target="http://ru.wikipedia.org/wiki/&#1059;&#1088;&#1086;&#1074;&#1077;&#1085;&#1100;_&#1084;&#1086;&#1088;&#1103;" TargetMode="External"/><Relationship Id="rId8" Type="http://schemas.openxmlformats.org/officeDocument/2006/relationships/hyperlink" Target="http://ru.wikipedia.org/wiki/&#1047;&#1077;&#1084;&#1083;&#1103;" TargetMode="External"/><Relationship Id="rId9" Type="http://schemas.openxmlformats.org/officeDocument/2006/relationships/hyperlink" Target="http://ru.wikipedia.org/wiki/&#1057;&#1086;&#1083;&#1105;&#1085;&#1086;&#1089;&#1090;&#1100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74;&#1089;&#1072;&#1085;&#1080;&#1081;_%28&#1075;&#1077;&#1086;&#1075;&#1088;&#1072;&#1092;%29" TargetMode="External"/><Relationship Id="rId2" Type="http://schemas.openxmlformats.org/officeDocument/2006/relationships/hyperlink" Target="http://ru.wikipedia.org/wiki/&#1057;&#1086;&#1083;&#1105;&#1085;&#1086;&#1089;&#1090;&#1100;" TargetMode="External"/><Relationship Id="rId3" Type="http://schemas.openxmlformats.org/officeDocument/2006/relationships/hyperlink" Target="http://ru.wikipedia.org/wiki/&#1056;&#1099;&#1073;&#1072;" TargetMode="External"/><Relationship Id="rId4" Type="http://schemas.openxmlformats.org/officeDocument/2006/relationships/hyperlink" Target="http://ru.wikipedia.org/wiki/&#1054;&#1088;&#1075;&#1072;&#1085;&#1080;&#1079;&#1084;" TargetMode="External"/><Relationship Id="rId5" Type="http://schemas.openxmlformats.org/officeDocument/2006/relationships/hyperlink" Target="http://ru.wikipedia.org/wiki/&#1050;&#1091;&#1084;&#1088;&#1072;&#1085;&#1089;&#1082;&#1080;&#1077;_&#1088;&#1091;&#1082;&#1086;&#1087;&#1080;&#1089;&#1080;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63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240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Мертвое море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5500800" y="4214880"/>
            <a:ext cx="2857320" cy="14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500800" y="4357800"/>
            <a:ext cx="27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ружинец Юл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у Сош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№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 Геленджик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битнева Е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ертвое море – климатический курор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79280" y="1916280"/>
            <a:ext cx="42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чебная грязь Мертвого мор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дают самым высоким эффектом терапевтического воздействия в мире. Грязь продукт жизнедеятельности единственной и уникальнй археобактерии живущей в насыщенном растворе солей Мертвого моря, существующей на Земле во времения ее происхождения. Биологически активные вещества придают грязи асептические свойства, благотворно влияют на внутриклеточный обмен, способствуют омоложению и продлению активной жизни клеток, природной гармонии их развит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572160" y="29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1054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Экологические проблем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4000" y="198900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76200" y="1866960"/>
            <a:ext cx="405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За последнее столетие уровень воды упал на 25 метров, и разрушительный процесс только прогрессирует. На сегодняшний день уровень моря падает в среднем на 1 метр в год. В 1977 году из-за осушения море оказалось поделённым на две части, северную и южную. Южная часть находится под контролем минералогических заводов. Предприятия ведут добычу брома, карбоната калия и других минералов. Кристаллизация солей происходит посредством испарения. Для этих целей южная часть была превращена в систему сообщающихся бассейн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51"/>
          <p:cNvPicPr/>
          <p:nvPr/>
        </p:nvPicPr>
        <p:blipFill>
          <a:blip r:embed="rId1"/>
          <a:stretch/>
        </p:blipFill>
        <p:spPr>
          <a:xfrm>
            <a:off x="4427640" y="2060640"/>
            <a:ext cx="43210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ричины экологической катастроф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5280" y="2205000"/>
            <a:ext cx="590544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- Хозяйственное использование вод, ранее впадавших в Мёртвое мо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- Выкачивание грунтовых в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- Климатические изме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840200" y="4457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85"/>
          <p:cNvPicPr/>
          <p:nvPr/>
        </p:nvPicPr>
        <p:blipFill>
          <a:blip r:embed="rId1"/>
          <a:stretch/>
        </p:blipFill>
        <p:spPr>
          <a:xfrm>
            <a:off x="5148360" y="1916280"/>
            <a:ext cx="3492360" cy="232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Dead_sea_ecological_disaster_-_Waste_water"/>
          <p:cNvPicPr/>
          <p:nvPr/>
        </p:nvPicPr>
        <p:blipFill>
          <a:blip r:embed="rId2"/>
          <a:stretch/>
        </p:blipFill>
        <p:spPr>
          <a:xfrm>
            <a:off x="684360" y="3573360"/>
            <a:ext cx="43923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з чего состоит дно Мертвого мор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но состои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крупи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:\Documents and Settings\admin\Рабочий стол\презентации\мертвое море\0932d820a9989c3e563858bcc8d9be78.jpg"/>
          <p:cNvPicPr/>
          <p:nvPr/>
        </p:nvPicPr>
        <p:blipFill>
          <a:blip r:embed="rId1"/>
          <a:stretch/>
        </p:blipFill>
        <p:spPr>
          <a:xfrm>
            <a:off x="3214800" y="2071800"/>
            <a:ext cx="5263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верено на себ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ертвом море нельзя утону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C:\Documents and Settings\Администратор\Рабочий стол\фото\ЕГИПЕТ\фото\DSC00255.JPG"/>
          <p:cNvPicPr/>
          <p:nvPr/>
        </p:nvPicPr>
        <p:blipFill>
          <a:blip r:embed="rId1"/>
          <a:stretch/>
        </p:blipFill>
        <p:spPr>
          <a:xfrm>
            <a:off x="178596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язь Мертвого моря действительно лечеб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C:\Documents and Settings\Администратор\Рабочий стол\фото\ЕГИПЕТ\фото\DSC00241.JPG"/>
          <p:cNvPicPr/>
          <p:nvPr/>
        </p:nvPicPr>
        <p:blipFill>
          <a:blip r:embed="rId1"/>
          <a:stretch/>
        </p:blipFill>
        <p:spPr>
          <a:xfrm>
            <a:off x="500040" y="23572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Администратор\Рабочий стол\фото\ЕГИПЕТ\фото\DSC00245.JPG"/>
          <p:cNvPicPr/>
          <p:nvPr/>
        </p:nvPicPr>
        <p:blipFill>
          <a:blip r:embed="rId2"/>
          <a:stretch/>
        </p:blipFill>
        <p:spPr>
          <a:xfrm>
            <a:off x="3833640" y="2357280"/>
            <a:ext cx="4667400" cy="350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верено на себ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9" name="Picture 4" descr="81"/>
          <p:cNvPicPr/>
          <p:nvPr/>
        </p:nvPicPr>
        <p:blipFill>
          <a:blip r:embed="rId1"/>
          <a:stretch/>
        </p:blipFill>
        <p:spPr>
          <a:xfrm>
            <a:off x="900000" y="1797120"/>
            <a:ext cx="6912000" cy="46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2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rcRect l="0" t="0" r="36" b="53"/>
          <a:stretch/>
        </p:blipFill>
        <p:spPr>
          <a:xfrm>
            <a:off x="3924360" y="3357720"/>
            <a:ext cx="4713120" cy="3193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Мёртвое море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 —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бессточное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солёное озеро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между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Израилем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Иорданией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. Его поверхность и побережье находятся на уровне 422 м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6"/>
              </a:rPr>
              <a:t>[1]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ниже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7"/>
              </a:rPr>
              <a:t>уровня моря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и этот уровень постоянно снижается. Побережье озера является самым низким участком суши на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8"/>
              </a:rPr>
              <a:t>Земле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. Мертвое море это один из самых солёных водоемов на Земле,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9"/>
              </a:rPr>
              <a:t>солёность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достигает 33,7 %. Длина озера 67 км, ширина 18 км в самом широком месте, максимальная глубина 378 м.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9640" y="7650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Краткая географ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3419640" y="4149720"/>
            <a:ext cx="2881080" cy="719280"/>
          </a:xfrm>
          <a:prstGeom prst="line">
            <a:avLst/>
          </a:prstGeom>
          <a:ln w="936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6156360" y="4724280"/>
            <a:ext cx="28728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24000" y="3933720"/>
            <a:ext cx="3456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Times New Roman"/>
              </a:rPr>
              <a:t>Концентрация соли в растворе жидкости Мертвого моря 31.5%. Состав Na - 34.9 mg/l, Ka - 75,60 mg/l, Ru - 0,06 mg/l, Ca - 15,8 mg/l, Mg - 41,96 mg/l, Cl - 208,02 mg/l, Br - 6,92 mg/l, H2SO4 - 0.54 mg/l, H2CO3 - 0,24 mg/l. Выделяется более 20 минералов, некоторые их них используются для промышленной добыч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193840" y="374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38" b="-14"/>
          <a:stretch/>
        </p:blipFill>
        <p:spPr>
          <a:xfrm>
            <a:off x="755640" y="1844640"/>
            <a:ext cx="3600360" cy="2411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4419720" y="45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619520" y="529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rcRect l="0" t="0" r="38" b="0"/>
          <a:stretch/>
        </p:blipFill>
        <p:spPr>
          <a:xfrm>
            <a:off x="5148360" y="1806480"/>
            <a:ext cx="3529080" cy="2487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250920" y="465300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Мертвое море лежит на самом низком уровне Сирийско-Африканского разлома в долине между Иудейскими горами и горами Моаф на глубине порядка 400 м под уровнем мирового океана. Возраст современного состояния в пределах 15 000 л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Размеры: длина с севера на юг 72 км. Максимальная ширина с запада на восток 15 км. Площадь поверхности 1015 квадратных километров. Объем жидкости около 110 кубических километ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rcRect l="6602" t="16420" r="62566" b="16336"/>
          <a:stretch/>
        </p:blipFill>
        <p:spPr>
          <a:xfrm>
            <a:off x="5357880" y="2000160"/>
            <a:ext cx="3251160" cy="2722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2852640"/>
            <a:ext cx="4465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На западе Мертвое море омывает на территорию государства Израиль, на востоке Хашимитское королевство Иорданию. Море не соединяется с мировым океаном и является большим озером. Питает Мертвое море река Иордан и водсбор с ручьев стекающих в зимний период со склонов Иудейских гор на стороне Израиля и с гор Моаф в Иордании, свою лепту вносят подземные источники минеральной воды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История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2133720"/>
            <a:ext cx="4897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Первое упоминание названия «Мёртвое море» найдено в трудах древнегреческого учёного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Павсания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, который одним из первых исследовал его воды. Море называется «мёртвым», потому что считалось, что из-за высокого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содержания соли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в нём не может жить ни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рыба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, ни другие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организмы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В окрестностях Мёртвого моря были найдены так же знаменитые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Кумранские рукописи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. Это более 600 манускриптов, доказывающих, что иудейская секта ессеев ещё во II веке до Рождества Христова исповедовала принципы, удивительно схожие с евангельскими заповедями. Первые свитки с манускриптами из Кумрана случайно нашёл мальчик-бедуин в 1947 году. В районе Мёртвого моря находились библейские города Содом и Гомор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508880" y="34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6"/>
          <a:stretch/>
        </p:blipFill>
        <p:spPr>
          <a:xfrm>
            <a:off x="5435640" y="1989000"/>
            <a:ext cx="34783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лимат на Мертвом мор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1989000"/>
            <a:ext cx="324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Климат резко континентальный, пустынный. 330 солнечных дней в году. Осадков выпадает примерно 50 мм в го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Атмосферное давление 800 мм ртутного столба и достаточно стабильно. Средняя температура воздуха летом около +40, зимой - не ниже +20 градусов. Температура воды  +40 градусов летом, до +17 зимо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dead_sea_israel2"/>
          <p:cNvPicPr/>
          <p:nvPr/>
        </p:nvPicPr>
        <p:blipFill>
          <a:blip r:embed="rId1"/>
          <a:stretch/>
        </p:blipFill>
        <p:spPr>
          <a:xfrm>
            <a:off x="3564000" y="1916280"/>
            <a:ext cx="533556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здействие на челове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68360" y="1989000"/>
            <a:ext cx="52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95280" y="1844640"/>
            <a:ext cx="504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Солнечное излучение в районе Мертвого моря практически лишено своего вредного, «жесткого» компонента: тут можно без неприятных последствий находиться на солнце по 8 часов в день. Зато в самом море можно купаться всего два (максимум три) раза в день, и то — не дольше, чем по 20 минут. Чрезвычайно соленая вода Мертвого моря при попадании на слизистые оболочки вызывает сильное жжение. Посему, окунаясь в этот водоем, следует беречь от воды нос, рот и особенно глаза, а в случае чего — немедленно промыть их под душем. Ну а брызгать водой на соседей в Мертвом море станет только законченный человеконенавистник, к тому же начисто лишенный инстинкта самосохранения. Еще несколько советов на ту же тему: принимать душ каждый раз после купания, не нырять (кстати, все равно не получится), и не протирать глаза мокрыми от морской воды рук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Dead_sea_newspaper"/>
          <p:cNvPicPr/>
          <p:nvPr/>
        </p:nvPicPr>
        <p:blipFill>
          <a:blip r:embed="rId1"/>
          <a:stretch/>
        </p:blipFill>
        <p:spPr>
          <a:xfrm>
            <a:off x="5508720" y="1844640"/>
            <a:ext cx="3476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ертвое море – климатический курор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844640"/>
            <a:ext cx="54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Уникальные особенности природных факторов необычайно удачно сложились именно здесь: весь набор - вода, воздух, солнце содействуют исцелен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Минеральная вода Мертвого моря 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прозрачная, бесцветная, вязкая, маслянистая жидкость. Оказывает диффузионный эффект насыщения межклеточной жидкости и плазмы необходимыми ион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Погружение в воду Мертвого моря доставляет удовольствие, архимедова сила из-за плотности воды столь значительна, что человек в ней не тонет, испытывая при этом ощущение невесом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big_109_21032010181704"/>
          <p:cNvPicPr/>
          <p:nvPr/>
        </p:nvPicPr>
        <p:blipFill>
          <a:blip r:embed="rId1"/>
          <a:stretch/>
        </p:blipFill>
        <p:spPr>
          <a:xfrm>
            <a:off x="5508720" y="1989000"/>
            <a:ext cx="3132000" cy="182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34"/>
          <p:cNvPicPr/>
          <p:nvPr/>
        </p:nvPicPr>
        <p:blipFill>
          <a:blip r:embed="rId2"/>
          <a:stretch/>
        </p:blipFill>
        <p:spPr>
          <a:xfrm>
            <a:off x="5651640" y="3860640"/>
            <a:ext cx="29527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ертвое море – климатический курор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79280" y="2082960"/>
            <a:ext cx="388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Воздух на Мертвом море 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крайне сухой, не содержит аллергенов, насыщен ионами минералов от испарений с поверхности Мертвого моря, содержит повышенную концентрацию кислорода из-за его высокого парциального давления в глубине впадины геологического разлома. Здесь человек находится в условиях круглосуточной лечебной ингаляции. Высокое содержание йонов брома оказывает успокаивающее влияние на нервную систему и является основным элементом антистрессовой терап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004"/>
          <p:cNvPicPr/>
          <p:nvPr/>
        </p:nvPicPr>
        <p:blipFill>
          <a:blip r:embed="rId1"/>
          <a:stretch/>
        </p:blipFill>
        <p:spPr>
          <a:xfrm>
            <a:off x="4716360" y="1916280"/>
            <a:ext cx="3600720" cy="270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45"/>
          <p:cNvPicPr/>
          <p:nvPr/>
        </p:nvPicPr>
        <p:blipFill>
          <a:blip r:embed="rId2"/>
          <a:stretch/>
        </p:blipFill>
        <p:spPr>
          <a:xfrm>
            <a:off x="4716360" y="4724280"/>
            <a:ext cx="36007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4:54:23Z</dcterms:created>
  <dc:creator>Шумский</dc:creator>
  <dc:description/>
  <dc:language>en-US</dc:language>
  <cp:lastModifiedBy>Admin</cp:lastModifiedBy>
  <dcterms:modified xsi:type="dcterms:W3CDTF">2011-04-17T10:50:32Z</dcterms:modified>
  <cp:revision>11</cp:revision>
  <dc:subject/>
  <dc:title>Мертв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200000000000010250300207f7000400038000</vt:lpwstr>
  </property>
</Properties>
</file>