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16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5EEC-00F8-405B-8B7A-F2D7F3F4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FAD-3EAA-4A13-8C53-4266A71C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DC04-A703-4FB0-A38F-442A101C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1978-416A-4A18-85F7-F9EDE2B1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F17C-7ED3-42B1-AFE6-172935A3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D33A-BD9C-47A0-BC53-598745AE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8D22-1CF8-479B-9D5A-4CF9AF40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B86A-C438-470B-89F7-963C49C6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9883-2DD4-4256-9336-D1CF072D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9C08-5B11-4C0C-901C-579D206F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5B8C-93C7-4A96-BBAE-A91B01CB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D1EA-1763-49FF-9C7D-09B7E7BA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C64E-113C-4558-948C-20028AB3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B86E-21AF-4F74-86AF-C7EC1A10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5369-337B-4FB7-A4B2-9C8E8560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7EB5-57BE-43A6-8CD5-E8A99700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657B-A329-4E29-81F1-AA5151D3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C161-16DD-4D49-A497-2011F6D7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170F-584F-4C8F-9726-4E8A3F03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0AE5-AF09-44B1-8660-A922C749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92B5-4929-459F-86C6-847B2B11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586-4D0C-42B3-9AB9-B8A0A537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FB4D-1F12-4D35-ABDB-3D5CAB59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45A-A00F-41C7-8C38-79CFB71A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E392-413A-43A5-B77D-F03AAFF3829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D670-1E52-4A16-8FCE-27458AB7EF67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1041;&#1077;&#1089;&#1089;&#1090;&#1086;&#1095;&#1085;&#1072;&#1103;_&#1086;&#1073;&#1083;&#1072;&#1089;&#1090;&#1100;" TargetMode="External"/><Relationship Id="rId3" Type="http://schemas.openxmlformats.org/officeDocument/2006/relationships/hyperlink" Target="http://ru.wikipedia.org/wiki/&#1057;&#1086;&#1083;&#1105;&#1085;&#1086;&#1077;_&#1086;&#1079;&#1077;&#1088;&#1086;" TargetMode="External"/><Relationship Id="rId4" Type="http://schemas.openxmlformats.org/officeDocument/2006/relationships/hyperlink" Target="http://ru.wikipedia.org/wiki/&#1048;&#1079;&#1088;&#1072;&#1080;&#1083;&#1100;" TargetMode="External"/><Relationship Id="rId5" Type="http://schemas.openxmlformats.org/officeDocument/2006/relationships/hyperlink" Target="http://ru.wikipedia.org/wiki/&#1048;&#1086;&#1088;&#1076;&#1072;&#1085;&#1080;&#1103;" TargetMode="External"/><Relationship Id="rId6" Type="http://schemas.openxmlformats.org/officeDocument/2006/relationships/hyperlink" Target="http://ru.wikipedia.org/wiki/&#1052;&#1077;&#1088;&#1090;&#1074;&#1086;&#1077;_&#1084;&#1086;&#1088;&#1077;#cite_note-ISRAMAR-0" TargetMode="External"/><Relationship Id="rId7" Type="http://schemas.openxmlformats.org/officeDocument/2006/relationships/hyperlink" Target="http://ru.wikipedia.org/wiki/&#1059;&#1088;&#1086;&#1074;&#1077;&#1085;&#1100;_&#1084;&#1086;&#1088;&#1103;" TargetMode="External"/><Relationship Id="rId8" Type="http://schemas.openxmlformats.org/officeDocument/2006/relationships/hyperlink" Target="http://ru.wikipedia.org/wiki/&#1047;&#1077;&#1084;&#1083;&#1103;" TargetMode="External"/><Relationship Id="rId9" Type="http://schemas.openxmlformats.org/officeDocument/2006/relationships/hyperlink" Target="http://ru.wikipedia.org/wiki/&#1057;&#1086;&#1083;&#1105;&#1085;&#1086;&#1089;&#1090;&#1100;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2;&#1074;&#1089;&#1072;&#1085;&#1080;&#1081;_%28&#1075;&#1077;&#1086;&#1075;&#1088;&#1072;&#1092;%29" TargetMode="External"/><Relationship Id="rId2" Type="http://schemas.openxmlformats.org/officeDocument/2006/relationships/hyperlink" Target="http://ru.wikipedia.org/wiki/&#1057;&#1086;&#1083;&#1105;&#1085;&#1086;&#1089;&#1090;&#1100;" TargetMode="External"/><Relationship Id="rId3" Type="http://schemas.openxmlformats.org/officeDocument/2006/relationships/hyperlink" Target="http://ru.wikipedia.org/wiki/&#1056;&#1099;&#1073;&#1072;" TargetMode="External"/><Relationship Id="rId4" Type="http://schemas.openxmlformats.org/officeDocument/2006/relationships/hyperlink" Target="http://ru.wikipedia.org/wiki/&#1054;&#1088;&#1075;&#1072;&#1085;&#1080;&#1079;&#1084;" TargetMode="External"/><Relationship Id="rId5" Type="http://schemas.openxmlformats.org/officeDocument/2006/relationships/hyperlink" Target="http://ru.wikipedia.org/wiki/&#1050;&#1091;&#1084;&#1088;&#1072;&#1085;&#1089;&#1082;&#1080;&#1077;_&#1088;&#1091;&#1082;&#1086;&#1087;&#1080;&#1089;&#1080;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63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240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Мертвое море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5500800" y="4214880"/>
            <a:ext cx="2857320" cy="1428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5500800" y="4357800"/>
            <a:ext cx="27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полнила: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ружинец Юл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у Сош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№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. Геленджик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: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битнева Е.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Мертвое море – климатический курорт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79280" y="1916280"/>
            <a:ext cx="424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ечебная грязь Мертвого мор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дают самым высоким эффектом терапевтического воздействия в мире. Грязь продукт жизнедеятельности единственной и уникальнй археобактерии живущей в насыщенном растворе солей Мертвого моря, существующей на Земле во времения ее происхождения. Биологически активные вещества придают грязи асептические свойства, благотворно влияют на внутриклеточный обмен, способствуют омоложению и продлению активной жизни клеток, природной гармонии их развит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572160" y="29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10544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Экологические проблем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24000" y="1989000"/>
            <a:ext cx="59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76200" y="1866960"/>
            <a:ext cx="405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За последнее столетие уровень воды упал на 25 метров, и разрушительный процесс только прогрессирует. На сегодняшний день уровень моря падает в среднем на 1 метр в год. В 1977 году из-за осушения море оказалось поделённым на две части, северную и южную. Южная часть находится под контролем минералогических заводов. Предприятия ведут добычу брома, карбоната калия и других минералов. Кристаллизация солей происходит посредством испарения. Для этих целей южная часть была превращена в систему сообщающихся бассейн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51"/>
          <p:cNvPicPr/>
          <p:nvPr/>
        </p:nvPicPr>
        <p:blipFill>
          <a:blip r:embed="rId1"/>
          <a:stretch/>
        </p:blipFill>
        <p:spPr>
          <a:xfrm>
            <a:off x="4427640" y="2060640"/>
            <a:ext cx="43210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ричины экологической катастрофы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95280" y="2205000"/>
            <a:ext cx="5905440" cy="17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- Хозяйственное использование вод, ранее впадавших в Мёртвое мор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- Выкачивание грунтовых в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- Климатические измен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840200" y="4457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85"/>
          <p:cNvPicPr/>
          <p:nvPr/>
        </p:nvPicPr>
        <p:blipFill>
          <a:blip r:embed="rId1"/>
          <a:stretch/>
        </p:blipFill>
        <p:spPr>
          <a:xfrm>
            <a:off x="5148360" y="1916280"/>
            <a:ext cx="3492360" cy="2325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Dead_sea_ecological_disaster_-_Waste_water"/>
          <p:cNvPicPr/>
          <p:nvPr/>
        </p:nvPicPr>
        <p:blipFill>
          <a:blip r:embed="rId2"/>
          <a:stretch/>
        </p:blipFill>
        <p:spPr>
          <a:xfrm>
            <a:off x="684360" y="3573360"/>
            <a:ext cx="43923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Из чего состоит дно Мертвого мор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но состои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крупи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C:\Documents and Settings\admin\Рабочий стол\презентации\мертвое море\0932d820a9989c3e563858bcc8d9be78.jpg"/>
          <p:cNvPicPr/>
          <p:nvPr/>
        </p:nvPicPr>
        <p:blipFill>
          <a:blip r:embed="rId1"/>
          <a:stretch/>
        </p:blipFill>
        <p:spPr>
          <a:xfrm>
            <a:off x="3214800" y="2071800"/>
            <a:ext cx="52639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оверено на себе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Мертвом море нельзя утону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" descr="C:\Documents and Settings\Администратор\Рабочий стол\фото\ЕГИПЕТ\фото\DSC00255.JPG"/>
          <p:cNvPicPr/>
          <p:nvPr/>
        </p:nvPicPr>
        <p:blipFill>
          <a:blip r:embed="rId1"/>
          <a:stretch/>
        </p:blipFill>
        <p:spPr>
          <a:xfrm>
            <a:off x="1785960" y="25718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язь Мертвого моря действительно лечеб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2" descr="C:\Documents and Settings\Администратор\Рабочий стол\фото\ЕГИПЕТ\фото\DSC00241.JPG"/>
          <p:cNvPicPr/>
          <p:nvPr/>
        </p:nvPicPr>
        <p:blipFill>
          <a:blip r:embed="rId1"/>
          <a:stretch/>
        </p:blipFill>
        <p:spPr>
          <a:xfrm>
            <a:off x="500040" y="2357280"/>
            <a:ext cx="3143160" cy="4191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Documents and Settings\Администратор\Рабочий стол\фото\ЕГИПЕТ\фото\DSC00245.JPG"/>
          <p:cNvPicPr/>
          <p:nvPr/>
        </p:nvPicPr>
        <p:blipFill>
          <a:blip r:embed="rId2"/>
          <a:stretch/>
        </p:blipFill>
        <p:spPr>
          <a:xfrm>
            <a:off x="3833640" y="2357280"/>
            <a:ext cx="4667400" cy="350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оверено на себе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9" name="Picture 4" descr="81"/>
          <p:cNvPicPr/>
          <p:nvPr/>
        </p:nvPicPr>
        <p:blipFill>
          <a:blip r:embed="rId1"/>
          <a:stretch/>
        </p:blipFill>
        <p:spPr>
          <a:xfrm>
            <a:off x="900000" y="1797120"/>
            <a:ext cx="6912000" cy="46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21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"/>
          <p:cNvPicPr/>
          <p:nvPr/>
        </p:nvPicPr>
        <p:blipFill>
          <a:blip r:embed="rId1"/>
          <a:srcRect l="0" t="0" r="36" b="53"/>
          <a:stretch/>
        </p:blipFill>
        <p:spPr>
          <a:xfrm>
            <a:off x="3924360" y="3357720"/>
            <a:ext cx="4713120" cy="3193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Мёртвое море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 — 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бессточное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солёное озеро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между 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4"/>
              </a:rPr>
              <a:t>Израилем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и 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5"/>
              </a:rPr>
              <a:t>Иорданией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. Его поверхность и побережье находятся на уровне 422 м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6"/>
              </a:rPr>
              <a:t>[1]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ниже 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7"/>
              </a:rPr>
              <a:t>уровня моря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и этот уровень постоянно снижается. Побережье озера является самым низким участком суши на 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8"/>
              </a:rPr>
              <a:t>Земле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. Мертвое море это один из самых солёных водоемов на Земле, </a:t>
            </a:r>
            <a:r>
              <a:rPr b="0" lang="ru-RU" sz="1800" spc="-1" strike="noStrike" u="sng">
                <a:solidFill>
                  <a:srgbClr val="996633"/>
                </a:solidFill>
                <a:uFillTx/>
                <a:latin typeface="Times New Roman"/>
                <a:hlinkClick r:id="rId9"/>
              </a:rPr>
              <a:t>солёность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достигает 33,7 %. Длина озера 67 км, ширина 18 км в самом широком месте, максимальная глубина 378 м.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39640" y="76500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Краткая географическая спра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3419640" y="4149720"/>
            <a:ext cx="2881080" cy="719280"/>
          </a:xfrm>
          <a:prstGeom prst="line">
            <a:avLst/>
          </a:prstGeom>
          <a:ln w="9360">
            <a:solidFill>
              <a:srgbClr val="66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6156360" y="4724280"/>
            <a:ext cx="28728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24000" y="3933720"/>
            <a:ext cx="3456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33"/>
                </a:solidFill>
                <a:latin typeface="Times New Roman"/>
              </a:rPr>
              <a:t>Концентрация соли в растворе жидкости Мертвого моря 31.5%. Состав Na - 34.9 mg/l, Ka - 75,60 mg/l, Ru - 0,06 mg/l, Ca - 15,8 mg/l, Mg - 41,96 mg/l, Cl - 208,02 mg/l, Br - 6,92 mg/l, H2SO4 - 0.54 mg/l, H2CO3 - 0,24 mg/l. Выделяется более 20 минералов, некоторые их них используются для промышленной добыч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еографическое положе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193840" y="374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rcRect l="0" t="0" r="38" b="-14"/>
          <a:stretch/>
        </p:blipFill>
        <p:spPr>
          <a:xfrm>
            <a:off x="755640" y="1844640"/>
            <a:ext cx="3600360" cy="24112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4419720" y="45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4619520" y="529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rcRect l="0" t="0" r="38" b="0"/>
          <a:stretch/>
        </p:blipFill>
        <p:spPr>
          <a:xfrm>
            <a:off x="5148360" y="1806480"/>
            <a:ext cx="3529080" cy="24876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0"/>
          <p:cNvSpPr/>
          <p:nvPr/>
        </p:nvSpPr>
        <p:spPr>
          <a:xfrm>
            <a:off x="250920" y="465300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Мертвое море лежит на самом низком уровне Сирийско-Африканского разлома в долине между Иудейскими горами и горами Моаф на глубине порядка 400 м под уровнем мирового океана. Возраст современного состояния в пределах 15 000 л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Размеры: длина с севера на юг 72 км. Максимальная ширина с запада на восток 15 км. Площадь поверхности 1015 квадратных километров. Объем жидкости около 110 кубических километ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rcRect l="6602" t="16420" r="62566" b="16336"/>
          <a:stretch/>
        </p:blipFill>
        <p:spPr>
          <a:xfrm>
            <a:off x="5357880" y="2000160"/>
            <a:ext cx="3251160" cy="2722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еографическое положен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39640" y="2852640"/>
            <a:ext cx="4465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На западе Мертвое море омывает на территорию государства Израиль, на востоке Хашимитское королевство Иорданию. Море не соединяется с мировым океаном и является большим озером. Питает Мертвое море река Иордан и водсбор с ручьев стекающих в зимний период со склонов Иудейских гор на стороне Израиля и с гор Моаф в Иордании, свою лепту вносят подземные источники минеральной воды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История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2133720"/>
            <a:ext cx="48974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Первое упоминание названия «Мёртвое море» найдено в трудах древнегреческого учёного </a:t>
            </a:r>
            <a:r>
              <a:rPr b="0" lang="ru-RU" sz="16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Павсания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, который одним из первых исследовал его воды. Море называется «мёртвым», потому что считалось, что из-за высокого </a:t>
            </a:r>
            <a:r>
              <a:rPr b="0" lang="ru-RU" sz="16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содержания соли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 в нём не может жить ни </a:t>
            </a:r>
            <a:r>
              <a:rPr b="0" lang="ru-RU" sz="16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рыба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, ни другие </a:t>
            </a:r>
            <a:r>
              <a:rPr b="0" lang="ru-RU" sz="1600" spc="-1" strike="noStrike" u="sng">
                <a:solidFill>
                  <a:srgbClr val="996633"/>
                </a:solidFill>
                <a:uFillTx/>
                <a:latin typeface="Times New Roman"/>
                <a:hlinkClick r:id="rId4"/>
              </a:rPr>
              <a:t>организмы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 В окрестностях Мёртвого моря были найдены так же знаменитые </a:t>
            </a:r>
            <a:r>
              <a:rPr b="0" lang="ru-RU" sz="1600" spc="-1" strike="noStrike" u="sng">
                <a:solidFill>
                  <a:srgbClr val="996633"/>
                </a:solidFill>
                <a:uFillTx/>
                <a:latin typeface="Times New Roman"/>
                <a:hlinkClick r:id="rId5"/>
              </a:rPr>
              <a:t>Кумранские рукописи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. Это более 600 манускриптов, доказывающих, что иудейская секта ессеев ещё во II веке до Рождества Христова исповедовала принципы, удивительно схожие с евангельскими заповедями. Первые свитки с манускриптами из Кумрана случайно нашёл мальчик-бедуин в 1947 году. В районе Мёртвого моря находились библейские города Содом и Гомор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508880" y="34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6"/>
          <a:stretch/>
        </p:blipFill>
        <p:spPr>
          <a:xfrm>
            <a:off x="5435640" y="1989000"/>
            <a:ext cx="347832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лимат на Мертвом мор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50920" y="1989000"/>
            <a:ext cx="3241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Климат резко континентальный, пустынный. 330 солнечных дней в году. Осадков выпадает примерно 50 мм в го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Атмосферное давление 800 мм ртутного столба и достаточно стабильно. Средняя температура воздуха летом около +40, зимой - не ниже +20 градусов. Температура воды  +40 градусов летом, до +17 зимой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dead_sea_israel2"/>
          <p:cNvPicPr/>
          <p:nvPr/>
        </p:nvPicPr>
        <p:blipFill>
          <a:blip r:embed="rId1"/>
          <a:stretch/>
        </p:blipFill>
        <p:spPr>
          <a:xfrm>
            <a:off x="3564000" y="1916280"/>
            <a:ext cx="533556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оздействие на челове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68360" y="1989000"/>
            <a:ext cx="52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95280" y="1844640"/>
            <a:ext cx="5040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Солнечное излучение в районе Мертвого моря практически лишено своего вредного, «жесткого» компонента: тут можно без неприятных последствий находиться на солнце по 8 часов в день. Зато в самом море можно купаться всего два (максимум три) раза в день, и то — не дольше, чем по 20 минут. Чрезвычайно соленая вода Мертвого моря при попадании на слизистые оболочки вызывает сильное жжение. Посему, окунаясь в этот водоем, следует беречь от воды нос, рот и особенно глаза, а в случае чего — немедленно промыть их под душем. Ну а брызгать водой на соседей в Мертвом море станет только законченный человеконенавистник, к тому же начисто лишенный инстинкта самосохранения. Еще несколько советов на ту же тему: принимать душ каждый раз после купания, не нырять (кстати, все равно не получится), и не протирать глаза мокрыми от морской воды рук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7" descr="Dead_sea_newspaper"/>
          <p:cNvPicPr/>
          <p:nvPr/>
        </p:nvPicPr>
        <p:blipFill>
          <a:blip r:embed="rId1"/>
          <a:stretch/>
        </p:blipFill>
        <p:spPr>
          <a:xfrm>
            <a:off x="5508720" y="1844640"/>
            <a:ext cx="34765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Мертвое море – климатический курорт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24000" y="1844640"/>
            <a:ext cx="540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Уникальные особенности природных факторов необычайно удачно сложились именно здесь: весь набор - вода, воздух, солнце содействуют исцелени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Минеральная вода Мертвого моря 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 прозрачная, бесцветная, вязкая, маслянистая жидкость. Оказывает диффузионный эффект насыщения межклеточной жидкости и плазмы необходимыми ион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Погружение в воду Мертвого моря доставляет удовольствие, архимедова сила из-за плотности воды столь значительна, что человек в ней не тонет, испытывая при этом ощущение невесомост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big_109_21032010181704"/>
          <p:cNvPicPr/>
          <p:nvPr/>
        </p:nvPicPr>
        <p:blipFill>
          <a:blip r:embed="rId1"/>
          <a:stretch/>
        </p:blipFill>
        <p:spPr>
          <a:xfrm>
            <a:off x="5508720" y="1989000"/>
            <a:ext cx="3132000" cy="1822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34"/>
          <p:cNvPicPr/>
          <p:nvPr/>
        </p:nvPicPr>
        <p:blipFill>
          <a:blip r:embed="rId2"/>
          <a:stretch/>
        </p:blipFill>
        <p:spPr>
          <a:xfrm>
            <a:off x="5651640" y="3860640"/>
            <a:ext cx="29527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Мертвое море – климатический курорт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79280" y="2082960"/>
            <a:ext cx="388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Воздух на Мертвом море </a:t>
            </a:r>
            <a:r>
              <a:rPr b="0" lang="ru-RU" sz="1800" spc="-1" strike="noStrike">
                <a:solidFill>
                  <a:srgbClr val="993300"/>
                </a:solidFill>
                <a:latin typeface="Times New Roman"/>
              </a:rPr>
              <a:t>крайне сухой, не содержит аллергенов, насыщен ионами минералов от испарений с поверхности Мертвого моря, содержит повышенную концентрацию кислорода из-за его высокого парциального давления в глубине впадины геологического разлома. Здесь человек находится в условиях круглосуточной лечебной ингаляции. Высокое содержание йонов брома оказывает успокаивающее влияние на нервную систему и является основным элементом антистрессовой терап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004"/>
          <p:cNvPicPr/>
          <p:nvPr/>
        </p:nvPicPr>
        <p:blipFill>
          <a:blip r:embed="rId1"/>
          <a:stretch/>
        </p:blipFill>
        <p:spPr>
          <a:xfrm>
            <a:off x="4716360" y="1916280"/>
            <a:ext cx="3600720" cy="2700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45"/>
          <p:cNvPicPr/>
          <p:nvPr/>
        </p:nvPicPr>
        <p:blipFill>
          <a:blip r:embed="rId2"/>
          <a:stretch/>
        </p:blipFill>
        <p:spPr>
          <a:xfrm>
            <a:off x="4716360" y="4724280"/>
            <a:ext cx="360072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4:54:23Z</dcterms:created>
  <dc:creator>Шумский</dc:creator>
  <dc:description/>
  <dc:language>en-US</dc:language>
  <cp:lastModifiedBy>Admin</cp:lastModifiedBy>
  <dcterms:modified xsi:type="dcterms:W3CDTF">2011-04-17T10:50:32Z</dcterms:modified>
  <cp:revision>11</cp:revision>
  <dc:subject/>
  <dc:title>Мертвое мо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200000000000010250300207f7000400038000</vt:lpwstr>
  </property>
</Properties>
</file>