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1.jpeg" ContentType="image/jpeg"/>
  <Override PartName="/ppt/media/image29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6.png" ContentType="image/png"/>
  <Override PartName="/ppt/media/image3.gif" ContentType="image/gif"/>
  <Override PartName="/ppt/media/image12.jpeg" ContentType="image/jpeg"/>
  <Override PartName="/ppt/media/image23.png" ContentType="image/pn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14.jpeg" ContentType="image/jpeg"/>
  <Override PartName="/ppt/media/image16.png" ContentType="image/png"/>
  <Override PartName="/ppt/media/image17.jpeg" ContentType="image/jpeg"/>
  <Override PartName="/ppt/media/image15.png" ContentType="image/png"/>
  <Override PartName="/ppt/media/image18.jpeg" ContentType="image/jpeg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29B62-D648-4F77-A82B-CB8CBC5684F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40168-0B76-46C1-AC35-CF0C8CF8B8D0}" type="slidenum"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15D7-4FFE-4A20-BAC1-9A5348B14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EC73-B7E2-488C-BC44-80E5F6CA8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A7AF-86CF-429D-82B4-DBAAFE10B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BDBB-67B7-4F38-BA74-27FD00E94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ACC9F-9E70-4B42-AF66-416A2BAF7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74174-44C4-44FD-AD6F-AA62F23BC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85AD7-9EE6-4FF1-87FE-956DCF4B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0DF8F-7669-4F6B-9234-87A0C13E9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3DFA0-8EE3-4AFD-A3B3-427BEE6B7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7DE68-5E6F-45DF-BAE1-11E3AC5E2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A15B8-A39F-4D7D-8484-ADDADAD8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12D9-686E-4C58-8C97-38E78EFE8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2BAEC-C008-45E9-8E0D-D042640B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AFA1D-D479-4002-8B6F-A5F1A7DC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9873D-1525-43B4-B22F-EA8A4D099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016B7-29C2-48D3-8437-3C9A56AFE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213C9-6F75-472F-8C14-ADCC6F138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BA9F-4029-4A83-9D0A-010E69FBB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EF74-1B79-4A60-BDBC-1D7AE08D1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A623-4F27-4C20-B872-7DEAABD1C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64DE-C8D9-4ED0-82C4-E8E1DBC8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4DA0-B3F8-4DC9-9C11-770E51DB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AF8F-D509-4372-BC25-57C456F4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0412-DA22-47BE-AD14-6322B113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280" y="99720"/>
            <a:ext cx="1431000" cy="6644160"/>
            <a:chOff x="-8280" y="99720"/>
            <a:chExt cx="1431000" cy="6644160"/>
          </a:xfrm>
        </p:grpSpPr>
        <p:sp>
          <p:nvSpPr>
            <p:cNvPr id="1" name="Arc 3"/>
            <p:cNvSpPr/>
            <p:nvPr/>
          </p:nvSpPr>
          <p:spPr>
            <a:xfrm rot="2700000">
              <a:off x="550440" y="249120"/>
              <a:ext cx="722520" cy="722520"/>
            </a:xfrm>
            <a:prstGeom prst="pie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 rot="2700000">
              <a:off x="542520" y="257760"/>
              <a:ext cx="695160" cy="690480"/>
            </a:xfrm>
            <a:prstGeom prst="pie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 rot="2700000">
              <a:off x="537840" y="298080"/>
              <a:ext cx="650880" cy="635040"/>
            </a:xfrm>
            <a:prstGeom prst="pie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rc 6"/>
            <p:cNvSpPr/>
            <p:nvPr/>
          </p:nvSpPr>
          <p:spPr>
            <a:xfrm rot="2700000">
              <a:off x="530280" y="326520"/>
              <a:ext cx="572760" cy="566640"/>
            </a:xfrm>
            <a:prstGeom prst="pie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Arc 7"/>
            <p:cNvSpPr/>
            <p:nvPr/>
          </p:nvSpPr>
          <p:spPr>
            <a:xfrm rot="2700000">
              <a:off x="465480" y="429120"/>
              <a:ext cx="341280" cy="34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Arc 8"/>
            <p:cNvSpPr/>
            <p:nvPr/>
          </p:nvSpPr>
          <p:spPr>
            <a:xfrm rot="2700000">
              <a:off x="550440" y="1490760"/>
              <a:ext cx="722160" cy="722520"/>
            </a:xfrm>
            <a:prstGeom prst="pie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Arc 9"/>
            <p:cNvSpPr/>
            <p:nvPr/>
          </p:nvSpPr>
          <p:spPr>
            <a:xfrm rot="2700000">
              <a:off x="541800" y="1499400"/>
              <a:ext cx="695520" cy="690480"/>
            </a:xfrm>
            <a:prstGeom prst="pie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Arc 10"/>
            <p:cNvSpPr/>
            <p:nvPr/>
          </p:nvSpPr>
          <p:spPr>
            <a:xfrm rot="2700000">
              <a:off x="537840" y="1539360"/>
              <a:ext cx="650880" cy="635040"/>
            </a:xfrm>
            <a:prstGeom prst="pie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" name="Arc 11"/>
            <p:cNvSpPr/>
            <p:nvPr/>
          </p:nvSpPr>
          <p:spPr>
            <a:xfrm rot="2700000">
              <a:off x="530280" y="1568520"/>
              <a:ext cx="573120" cy="566640"/>
            </a:xfrm>
            <a:prstGeom prst="pie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" name="Arc 12"/>
            <p:cNvSpPr/>
            <p:nvPr/>
          </p:nvSpPr>
          <p:spPr>
            <a:xfrm rot="2700000">
              <a:off x="465480" y="1675440"/>
              <a:ext cx="341280" cy="34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" name="Arc 13"/>
            <p:cNvSpPr/>
            <p:nvPr/>
          </p:nvSpPr>
          <p:spPr>
            <a:xfrm rot="2700000">
              <a:off x="550440" y="2741760"/>
              <a:ext cx="722160" cy="722520"/>
            </a:xfrm>
            <a:prstGeom prst="pie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Arc 14"/>
            <p:cNvSpPr/>
            <p:nvPr/>
          </p:nvSpPr>
          <p:spPr>
            <a:xfrm rot="2700000">
              <a:off x="550440" y="3997440"/>
              <a:ext cx="722160" cy="722520"/>
            </a:xfrm>
            <a:prstGeom prst="pie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Arc 15"/>
            <p:cNvSpPr/>
            <p:nvPr/>
          </p:nvSpPr>
          <p:spPr>
            <a:xfrm rot="2700000">
              <a:off x="541800" y="4006080"/>
              <a:ext cx="695520" cy="690480"/>
            </a:xfrm>
            <a:prstGeom prst="pie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Arc 16"/>
            <p:cNvSpPr/>
            <p:nvPr/>
          </p:nvSpPr>
          <p:spPr>
            <a:xfrm rot="2700000">
              <a:off x="537840" y="4046040"/>
              <a:ext cx="650880" cy="635040"/>
            </a:xfrm>
            <a:prstGeom prst="pie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Arc 17"/>
            <p:cNvSpPr/>
            <p:nvPr/>
          </p:nvSpPr>
          <p:spPr>
            <a:xfrm rot="2700000">
              <a:off x="530280" y="4075200"/>
              <a:ext cx="573120" cy="566640"/>
            </a:xfrm>
            <a:prstGeom prst="pie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" name="Arc 18"/>
            <p:cNvSpPr/>
            <p:nvPr/>
          </p:nvSpPr>
          <p:spPr>
            <a:xfrm rot="2700000">
              <a:off x="465480" y="4177080"/>
              <a:ext cx="341280" cy="34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" name="Arc 19"/>
            <p:cNvSpPr/>
            <p:nvPr/>
          </p:nvSpPr>
          <p:spPr>
            <a:xfrm rot="2700000">
              <a:off x="550440" y="5243400"/>
              <a:ext cx="722520" cy="722520"/>
            </a:xfrm>
            <a:prstGeom prst="pie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Arc 20"/>
            <p:cNvSpPr/>
            <p:nvPr/>
          </p:nvSpPr>
          <p:spPr>
            <a:xfrm rot="18900000">
              <a:off x="141120" y="877680"/>
              <a:ext cx="722520" cy="722160"/>
            </a:xfrm>
            <a:prstGeom prst="pie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Arc 21"/>
            <p:cNvSpPr/>
            <p:nvPr/>
          </p:nvSpPr>
          <p:spPr>
            <a:xfrm rot="18900000">
              <a:off x="155520" y="888480"/>
              <a:ext cx="703440" cy="702000"/>
            </a:xfrm>
            <a:prstGeom prst="pie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Arc 22"/>
            <p:cNvSpPr/>
            <p:nvPr/>
          </p:nvSpPr>
          <p:spPr>
            <a:xfrm rot="18900000">
              <a:off x="220320" y="922320"/>
              <a:ext cx="657360" cy="641520"/>
            </a:xfrm>
            <a:prstGeom prst="pie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Arc 23"/>
            <p:cNvSpPr/>
            <p:nvPr/>
          </p:nvSpPr>
          <p:spPr>
            <a:xfrm rot="18900000">
              <a:off x="312840" y="955800"/>
              <a:ext cx="573120" cy="569880"/>
            </a:xfrm>
            <a:prstGeom prst="pie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" name="Arc 24"/>
            <p:cNvSpPr/>
            <p:nvPr/>
          </p:nvSpPr>
          <p:spPr>
            <a:xfrm rot="18900000">
              <a:off x="617400" y="1066680"/>
              <a:ext cx="341280" cy="34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" name="Arc 25"/>
            <p:cNvSpPr/>
            <p:nvPr/>
          </p:nvSpPr>
          <p:spPr>
            <a:xfrm rot="18900000">
              <a:off x="150840" y="2119320"/>
              <a:ext cx="722160" cy="722160"/>
            </a:xfrm>
            <a:prstGeom prst="pie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" name="Arc 26"/>
            <p:cNvSpPr/>
            <p:nvPr/>
          </p:nvSpPr>
          <p:spPr>
            <a:xfrm rot="18900000">
              <a:off x="165240" y="2130120"/>
              <a:ext cx="703080" cy="701640"/>
            </a:xfrm>
            <a:prstGeom prst="pie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" name="Arc 27"/>
            <p:cNvSpPr/>
            <p:nvPr/>
          </p:nvSpPr>
          <p:spPr>
            <a:xfrm rot="18900000">
              <a:off x="229680" y="2163600"/>
              <a:ext cx="657360" cy="641520"/>
            </a:xfrm>
            <a:prstGeom prst="pie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" name="Arc 28"/>
            <p:cNvSpPr/>
            <p:nvPr/>
          </p:nvSpPr>
          <p:spPr>
            <a:xfrm rot="18900000">
              <a:off x="317520" y="2197080"/>
              <a:ext cx="573120" cy="569880"/>
            </a:xfrm>
            <a:prstGeom prst="pie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" name="Arc 29"/>
            <p:cNvSpPr/>
            <p:nvPr/>
          </p:nvSpPr>
          <p:spPr>
            <a:xfrm rot="18900000">
              <a:off x="617040" y="2308320"/>
              <a:ext cx="341280" cy="342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" name="Arc 30"/>
            <p:cNvSpPr/>
            <p:nvPr/>
          </p:nvSpPr>
          <p:spPr>
            <a:xfrm rot="2700000">
              <a:off x="541800" y="2750400"/>
              <a:ext cx="695520" cy="690480"/>
            </a:xfrm>
            <a:prstGeom prst="pie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" name="Arc 31"/>
            <p:cNvSpPr/>
            <p:nvPr/>
          </p:nvSpPr>
          <p:spPr>
            <a:xfrm rot="2700000">
              <a:off x="537840" y="2790360"/>
              <a:ext cx="650880" cy="635040"/>
            </a:xfrm>
            <a:prstGeom prst="pie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" name="Arc 32"/>
            <p:cNvSpPr/>
            <p:nvPr/>
          </p:nvSpPr>
          <p:spPr>
            <a:xfrm rot="2700000">
              <a:off x="534960" y="2819520"/>
              <a:ext cx="573120" cy="566640"/>
            </a:xfrm>
            <a:prstGeom prst="pie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" name="Arc 33"/>
            <p:cNvSpPr/>
            <p:nvPr/>
          </p:nvSpPr>
          <p:spPr>
            <a:xfrm rot="2700000">
              <a:off x="465480" y="2926440"/>
              <a:ext cx="341280" cy="34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" name="Arc 34"/>
            <p:cNvSpPr/>
            <p:nvPr/>
          </p:nvSpPr>
          <p:spPr>
            <a:xfrm rot="18900000">
              <a:off x="155520" y="3369960"/>
              <a:ext cx="722520" cy="722160"/>
            </a:xfrm>
            <a:prstGeom prst="pie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" name="Arc 35"/>
            <p:cNvSpPr/>
            <p:nvPr/>
          </p:nvSpPr>
          <p:spPr>
            <a:xfrm rot="18900000">
              <a:off x="178920" y="3381120"/>
              <a:ext cx="703440" cy="701640"/>
            </a:xfrm>
            <a:prstGeom prst="pie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" name="Arc 36"/>
            <p:cNvSpPr/>
            <p:nvPr/>
          </p:nvSpPr>
          <p:spPr>
            <a:xfrm rot="18900000">
              <a:off x="234720" y="3414240"/>
              <a:ext cx="657000" cy="641520"/>
            </a:xfrm>
            <a:prstGeom prst="pie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" name="Arc 37"/>
            <p:cNvSpPr/>
            <p:nvPr/>
          </p:nvSpPr>
          <p:spPr>
            <a:xfrm rot="18900000">
              <a:off x="322200" y="3448080"/>
              <a:ext cx="573120" cy="569880"/>
            </a:xfrm>
            <a:prstGeom prst="pie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" name="Arc 38"/>
            <p:cNvSpPr/>
            <p:nvPr/>
          </p:nvSpPr>
          <p:spPr>
            <a:xfrm rot="18900000">
              <a:off x="622080" y="3559320"/>
              <a:ext cx="341280" cy="342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" name="Arc 39"/>
            <p:cNvSpPr/>
            <p:nvPr/>
          </p:nvSpPr>
          <p:spPr>
            <a:xfrm rot="18900000">
              <a:off x="150840" y="4626000"/>
              <a:ext cx="722160" cy="722160"/>
            </a:xfrm>
            <a:prstGeom prst="pie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" name="Arc 40"/>
            <p:cNvSpPr/>
            <p:nvPr/>
          </p:nvSpPr>
          <p:spPr>
            <a:xfrm rot="18900000">
              <a:off x="165240" y="4636800"/>
              <a:ext cx="703080" cy="701640"/>
            </a:xfrm>
            <a:prstGeom prst="pie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" name="Arc 41"/>
            <p:cNvSpPr/>
            <p:nvPr/>
          </p:nvSpPr>
          <p:spPr>
            <a:xfrm rot="18900000">
              <a:off x="229680" y="4670280"/>
              <a:ext cx="657360" cy="641520"/>
            </a:xfrm>
            <a:prstGeom prst="pie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" name="Arc 42"/>
            <p:cNvSpPr/>
            <p:nvPr/>
          </p:nvSpPr>
          <p:spPr>
            <a:xfrm rot="18900000">
              <a:off x="322200" y="4703760"/>
              <a:ext cx="573120" cy="569880"/>
            </a:xfrm>
            <a:prstGeom prst="pie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" name="Arc 43"/>
            <p:cNvSpPr/>
            <p:nvPr/>
          </p:nvSpPr>
          <p:spPr>
            <a:xfrm rot="18900000">
              <a:off x="617040" y="4815000"/>
              <a:ext cx="341280" cy="342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" name="Arc 44"/>
            <p:cNvSpPr/>
            <p:nvPr/>
          </p:nvSpPr>
          <p:spPr>
            <a:xfrm rot="2700000">
              <a:off x="542520" y="5252040"/>
              <a:ext cx="695160" cy="690480"/>
            </a:xfrm>
            <a:prstGeom prst="pie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" name="Arc 45"/>
            <p:cNvSpPr/>
            <p:nvPr/>
          </p:nvSpPr>
          <p:spPr>
            <a:xfrm rot="2700000">
              <a:off x="537840" y="5292360"/>
              <a:ext cx="650880" cy="635040"/>
            </a:xfrm>
            <a:prstGeom prst="pie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" name="Arc 46"/>
            <p:cNvSpPr/>
            <p:nvPr/>
          </p:nvSpPr>
          <p:spPr>
            <a:xfrm rot="2700000">
              <a:off x="530280" y="5320800"/>
              <a:ext cx="572760" cy="566640"/>
            </a:xfrm>
            <a:prstGeom prst="pie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" name="Arc 47"/>
            <p:cNvSpPr/>
            <p:nvPr/>
          </p:nvSpPr>
          <p:spPr>
            <a:xfrm rot="2700000">
              <a:off x="465480" y="5428080"/>
              <a:ext cx="341280" cy="34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" name="Arc 48"/>
            <p:cNvSpPr/>
            <p:nvPr/>
          </p:nvSpPr>
          <p:spPr>
            <a:xfrm rot="18900000">
              <a:off x="150840" y="5872320"/>
              <a:ext cx="722160" cy="722160"/>
            </a:xfrm>
            <a:prstGeom prst="pie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" name="Arc 49"/>
            <p:cNvSpPr/>
            <p:nvPr/>
          </p:nvSpPr>
          <p:spPr>
            <a:xfrm rot="18900000">
              <a:off x="164880" y="5882760"/>
              <a:ext cx="703080" cy="702000"/>
            </a:xfrm>
            <a:prstGeom prst="pie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50"/>
            <p:cNvSpPr/>
            <p:nvPr/>
          </p:nvSpPr>
          <p:spPr>
            <a:xfrm rot="18900000">
              <a:off x="229680" y="5916600"/>
              <a:ext cx="657360" cy="641520"/>
            </a:xfrm>
            <a:prstGeom prst="pie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1"/>
            <p:cNvSpPr/>
            <p:nvPr/>
          </p:nvSpPr>
          <p:spPr>
            <a:xfrm rot="18900000">
              <a:off x="317520" y="5950080"/>
              <a:ext cx="573120" cy="569880"/>
            </a:xfrm>
            <a:prstGeom prst="pie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rc 52"/>
            <p:cNvSpPr/>
            <p:nvPr/>
          </p:nvSpPr>
          <p:spPr>
            <a:xfrm rot="18900000">
              <a:off x="617400" y="6060960"/>
              <a:ext cx="341280" cy="34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1"/>
          </p:nvPr>
        </p:nvSpPr>
        <p:spPr>
          <a:xfrm>
            <a:off x="1252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2"/>
          </p:nvPr>
        </p:nvSpPr>
        <p:spPr>
          <a:xfrm>
            <a:off x="3690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3"/>
          </p:nvPr>
        </p:nvSpPr>
        <p:spPr>
          <a:xfrm>
            <a:off x="7119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12158-2EA4-4044-9EE3-D521D236E09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1054080" y="-1427040"/>
            <a:ext cx="7039440" cy="7203960"/>
            <a:chOff x="1054080" y="-1427040"/>
            <a:chExt cx="7039440" cy="7203960"/>
          </a:xfrm>
        </p:grpSpPr>
        <p:sp>
          <p:nvSpPr>
            <p:cNvPr id="93" name="Arc 3"/>
            <p:cNvSpPr/>
            <p:nvPr/>
          </p:nvSpPr>
          <p:spPr>
            <a:xfrm rot="18900000">
              <a:off x="2084400" y="-395280"/>
              <a:ext cx="4978440" cy="4976640"/>
            </a:xfrm>
            <a:prstGeom prst="pie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" name="Arc 4"/>
            <p:cNvSpPr/>
            <p:nvPr/>
          </p:nvSpPr>
          <p:spPr>
            <a:xfrm rot="18900000">
              <a:off x="2141640" y="-257040"/>
              <a:ext cx="4821120" cy="4851360"/>
            </a:xfrm>
            <a:prstGeom prst="pie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" name="Arc 5"/>
            <p:cNvSpPr/>
            <p:nvPr/>
          </p:nvSpPr>
          <p:spPr>
            <a:xfrm rot="18900000">
              <a:off x="2339640" y="256680"/>
              <a:ext cx="4368600" cy="4432320"/>
            </a:xfrm>
            <a:prstGeom prst="pie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" name="Arc 6"/>
            <p:cNvSpPr/>
            <p:nvPr/>
          </p:nvSpPr>
          <p:spPr>
            <a:xfrm rot="18900000">
              <a:off x="2663640" y="809280"/>
              <a:ext cx="3860640" cy="3965400"/>
            </a:xfrm>
            <a:prstGeom prst="pie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" name="Arc 7"/>
            <p:cNvSpPr/>
            <p:nvPr/>
          </p:nvSpPr>
          <p:spPr>
            <a:xfrm rot="18900000">
              <a:off x="2295360" y="90000"/>
              <a:ext cx="4604040" cy="4604040"/>
            </a:xfrm>
            <a:prstGeom prst="pi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" name="Arc 8"/>
            <p:cNvSpPr/>
            <p:nvPr/>
          </p:nvSpPr>
          <p:spPr>
            <a:xfrm rot="18900000">
              <a:off x="2346480" y="217080"/>
              <a:ext cx="4458960" cy="4486320"/>
            </a:xfrm>
            <a:prstGeom prst="pie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" name="Arc 9"/>
            <p:cNvSpPr/>
            <p:nvPr/>
          </p:nvSpPr>
          <p:spPr>
            <a:xfrm rot="18900000">
              <a:off x="2552760" y="677520"/>
              <a:ext cx="4043160" cy="4100400"/>
            </a:xfrm>
            <a:prstGeom prst="pie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" name="Arc 10"/>
            <p:cNvSpPr/>
            <p:nvPr/>
          </p:nvSpPr>
          <p:spPr>
            <a:xfrm rot="18900000">
              <a:off x="2830320" y="1188720"/>
              <a:ext cx="3570120" cy="3668760"/>
            </a:xfrm>
            <a:prstGeom prst="pie">
              <a:avLst/>
            </a:prstGeom>
            <a:gradFill rotWithShape="0">
              <a:gsLst>
                <a:gs pos="0">
                  <a:srgbClr val="9900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" name="Arc 11"/>
            <p:cNvSpPr/>
            <p:nvPr/>
          </p:nvSpPr>
          <p:spPr>
            <a:xfrm rot="18900000">
              <a:off x="3553920" y="3316320"/>
              <a:ext cx="2038320" cy="2038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4"/>
          </p:nvPr>
        </p:nvSpPr>
        <p:spPr>
          <a:xfrm>
            <a:off x="498240" y="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5"/>
          </p:nvPr>
        </p:nvSpPr>
        <p:spPr>
          <a:xfrm>
            <a:off x="3124080" y="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6"/>
          </p:nvPr>
        </p:nvSpPr>
        <p:spPr>
          <a:xfrm>
            <a:off x="6727680" y="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115B8-B81C-4891-A0B0-A662A17AC6FA}" type="slidenum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8.jpeg"/><Relationship Id="rId13" Type="http://schemas.openxmlformats.org/officeDocument/2006/relationships/image" Target="../media/image19.jpeg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21.jpe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3" descr="179a_shool36"/>
          <p:cNvPicPr/>
          <p:nvPr/>
        </p:nvPicPr>
        <p:blipFill>
          <a:blip r:embed="rId1">
            <a:lum bright="-4000"/>
          </a:blip>
          <a:stretch/>
        </p:blipFill>
        <p:spPr>
          <a:xfrm>
            <a:off x="142920" y="142920"/>
            <a:ext cx="1884240" cy="14176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151" name="Picture 2" descr="J:\Краеведение в школе\Вики-Владимир\Starostina T.V..jpg"/>
          <p:cNvPicPr/>
          <p:nvPr/>
        </p:nvPicPr>
        <p:blipFill>
          <a:blip r:embed="rId2"/>
          <a:stretch/>
        </p:blipFill>
        <p:spPr>
          <a:xfrm>
            <a:off x="2771640" y="1916280"/>
            <a:ext cx="4176720" cy="313056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152" name="Rectangle 3"/>
          <p:cNvSpPr/>
          <p:nvPr/>
        </p:nvSpPr>
        <p:spPr>
          <a:xfrm>
            <a:off x="2627280" y="5383440"/>
            <a:ext cx="4319640" cy="1310760"/>
          </a:xfrm>
          <a:prstGeom prst="rect">
            <a:avLst/>
          </a:prstGeom>
          <a:gradFill rotWithShape="0">
            <a:gsLst>
              <a:gs pos="0">
                <a:srgbClr val="c6d9f1"/>
              </a:gs>
              <a:gs pos="50000">
                <a:srgbClr val="ffffff"/>
              </a:gs>
              <a:gs pos="100000">
                <a:srgbClr val="c6d9f1"/>
              </a:gs>
            </a:gsLst>
            <a:lin ang="8100000"/>
          </a:gradFill>
          <a:ln w="15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Старостина Татьяна Владимировна,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зам. директора по УВР, учитель географии высшей категории,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победитель конкурса лучших учителей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ПНП  «Образование»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340000" y="692280"/>
          <a:ext cx="6337080" cy="1271160"/>
        </p:xfrm>
        <a:graphic>
          <a:graphicData uri="http://schemas.openxmlformats.org/drawingml/2006/table">
            <a:tbl>
              <a:tblPr/>
              <a:tblGrid>
                <a:gridCol w="6337080"/>
              </a:tblGrid>
              <a:tr h="1271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0099"/>
                          </a:solidFill>
                          <a:latin typeface="Arial Unicode MS"/>
                          <a:ea typeface="Times New Roman"/>
                        </a:rPr>
                        <a:t>Муниципальное образовательное учреждение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0099"/>
                          </a:solidFill>
                          <a:latin typeface="Arial Unicode MS"/>
                          <a:ea typeface="Times New Roman"/>
                        </a:rPr>
                        <a:t>средняя общеобразовательная школа  № 36 г. Владимира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4" name="Picture 11" descr="D:\КАРТИНКИ\Коллекция картинок1\j0285333.gif"/>
          <p:cNvPicPr/>
          <p:nvPr/>
        </p:nvPicPr>
        <p:blipFill>
          <a:blip r:embed="rId3"/>
          <a:stretch/>
        </p:blipFill>
        <p:spPr>
          <a:xfrm>
            <a:off x="684360" y="3860640"/>
            <a:ext cx="2290680" cy="2291040"/>
          </a:xfrm>
          <a:prstGeom prst="rect">
            <a:avLst/>
          </a:prstGeom>
          <a:ln w="0">
            <a:noFill/>
          </a:ln>
        </p:spPr>
      </p:pic>
    </p:spTree>
  </p:cSld>
  <p:transition advTm="30000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60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Times New Roman"/>
              </a:rPr>
              <a:t>Топливная промышленность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78" name="Схема 2" descr=""/>
          <p:cNvPicPr/>
          <p:nvPr/>
        </p:nvPicPr>
        <p:blipFill>
          <a:blip r:embed="rId1"/>
          <a:stretch/>
        </p:blipFill>
        <p:spPr>
          <a:xfrm>
            <a:off x="1407960" y="1706400"/>
            <a:ext cx="7132680" cy="46580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Добыча золота в шахте"/>
          <p:cNvPicPr/>
          <p:nvPr/>
        </p:nvPicPr>
        <p:blipFill>
          <a:blip r:embed="rId2"/>
          <a:stretch/>
        </p:blipFill>
        <p:spPr>
          <a:xfrm>
            <a:off x="4929120" y="1214280"/>
            <a:ext cx="2500560" cy="185760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180" name="Picture 10" descr="Добыча нефти в море"/>
          <p:cNvPicPr/>
          <p:nvPr/>
        </p:nvPicPr>
        <p:blipFill>
          <a:blip r:embed="rId3"/>
          <a:stretch/>
        </p:blipFill>
        <p:spPr>
          <a:xfrm>
            <a:off x="6357960" y="3214800"/>
            <a:ext cx="2457360" cy="171432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181" name="Picture 10" descr="poi16"/>
          <p:cNvPicPr/>
          <p:nvPr/>
        </p:nvPicPr>
        <p:blipFill>
          <a:blip r:embed="rId4"/>
          <a:stretch/>
        </p:blipFill>
        <p:spPr>
          <a:xfrm>
            <a:off x="5000760" y="5072040"/>
            <a:ext cx="2344680" cy="161604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14280" y="357120"/>
            <a:ext cx="777240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ff00"/>
                </a:solidFill>
                <a:latin typeface="Times New Roman"/>
              </a:rPr>
              <a:t>Угольная промышленность: страны-лидеры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0" y="2000160"/>
          <a:ext cx="4191120" cy="4484880"/>
        </p:xfrm>
        <a:graphic>
          <a:graphicData uri="http://schemas.openxmlformats.org/drawingml/2006/table">
            <a:tbl>
              <a:tblPr/>
              <a:tblGrid>
                <a:gridCol w="2095560"/>
                <a:gridCol w="2095560"/>
              </a:tblGrid>
              <a:tr h="731880"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Страна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Добыча,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млн. тонн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тай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7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я 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стралия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5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я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ЮАР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ермания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ьша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НДР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краина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pic>
        <p:nvPicPr>
          <p:cNvPr id="184" name="Picture 10" descr="wer2"/>
          <p:cNvPicPr/>
          <p:nvPr/>
        </p:nvPicPr>
        <p:blipFill>
          <a:blip r:embed="rId11"/>
          <a:stretch/>
        </p:blipFill>
        <p:spPr>
          <a:xfrm>
            <a:off x="237960" y="2571840"/>
            <a:ext cx="4096080" cy="3071880"/>
          </a:xfrm>
          <a:prstGeom prst="rect">
            <a:avLst/>
          </a:prstGeom>
          <a:ln w="9360">
            <a:solidFill>
              <a:srgbClr val="ffff59"/>
            </a:solidFill>
            <a:miter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C:\Documents and Settings\Admin\Рабочий стол\Рисунок4.jpg"/>
          <p:cNvPicPr/>
          <p:nvPr/>
        </p:nvPicPr>
        <p:blipFill>
          <a:blip r:embed="rId1"/>
          <a:stretch/>
        </p:blipFill>
        <p:spPr>
          <a:xfrm>
            <a:off x="857160" y="1384200"/>
            <a:ext cx="8021880" cy="5259600"/>
          </a:xfrm>
          <a:prstGeom prst="rect">
            <a:avLst/>
          </a:prstGeom>
          <a:ln w="9360">
            <a:solidFill>
              <a:srgbClr val="e5e500"/>
            </a:solidFill>
            <a:miter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14280" y="285840"/>
            <a:ext cx="7772400" cy="96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ffcc"/>
                </a:solidFill>
                <a:latin typeface="Times New Roman"/>
              </a:rPr>
              <a:t>Картосхема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14280" y="357120"/>
            <a:ext cx="777240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ff00"/>
                </a:solidFill>
                <a:latin typeface="Times New Roman"/>
              </a:rPr>
              <a:t>Нефтяная промышленность: страны-лидеры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4572000" y="1857240"/>
          <a:ext cx="4214880" cy="4859640"/>
        </p:xfrm>
        <a:graphic>
          <a:graphicData uri="http://schemas.openxmlformats.org/drawingml/2006/table">
            <a:tbl>
              <a:tblPr/>
              <a:tblGrid>
                <a:gridCol w="2928960"/>
                <a:gridCol w="1285920"/>
              </a:tblGrid>
              <a:tr h="731880"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Страна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Добыча,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млн. т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удовская Аравия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5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я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ран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ксика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несуэла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5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тай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рвегия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рак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ликобритания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нада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pic>
        <p:nvPicPr>
          <p:cNvPr id="189" name="Picture 10" descr="Добыча нефти"/>
          <p:cNvPicPr/>
          <p:nvPr/>
        </p:nvPicPr>
        <p:blipFill>
          <a:blip r:embed="rId12"/>
          <a:stretch/>
        </p:blipFill>
        <p:spPr>
          <a:xfrm>
            <a:off x="1357200" y="2357280"/>
            <a:ext cx="3059280" cy="2293920"/>
          </a:xfrm>
          <a:prstGeom prst="rect">
            <a:avLst/>
          </a:prstGeom>
          <a:ln w="9360">
            <a:solidFill>
              <a:srgbClr val="e5e500"/>
            </a:solidFill>
            <a:miter/>
          </a:ln>
        </p:spPr>
      </p:pic>
      <p:pic>
        <p:nvPicPr>
          <p:cNvPr id="190" name="Picture 11" descr="Добыча нефти (сл"/>
          <p:cNvPicPr/>
          <p:nvPr/>
        </p:nvPicPr>
        <p:blipFill>
          <a:blip r:embed="rId13"/>
          <a:stretch/>
        </p:blipFill>
        <p:spPr>
          <a:xfrm>
            <a:off x="285840" y="4500720"/>
            <a:ext cx="2868480" cy="2151000"/>
          </a:xfrm>
          <a:prstGeom prst="rect">
            <a:avLst/>
          </a:prstGeom>
          <a:ln w="9360">
            <a:solidFill>
              <a:srgbClr val="e5e500"/>
            </a:solidFill>
            <a:miter/>
          </a:ln>
        </p:spPr>
      </p:pic>
      <p:sp>
        <p:nvSpPr>
          <p:cNvPr id="191" name="Прямоугольник 9"/>
          <p:cNvSpPr/>
          <p:nvPr/>
        </p:nvSpPr>
        <p:spPr>
          <a:xfrm>
            <a:off x="0" y="1714680"/>
            <a:ext cx="4714920" cy="9464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33cc"/>
                </a:solidFill>
                <a:uFillTx/>
                <a:latin typeface="Times New Roman"/>
              </a:rPr>
              <a:t>ОПЕК – организация стран-экспортеров нефти (2007г.): </a:t>
            </a:r>
            <a:r>
              <a:rPr b="0" lang="ru-RU" sz="1400" spc="-1" strike="noStrike">
                <a:solidFill>
                  <a:srgbClr val="0033cc"/>
                </a:solidFill>
                <a:latin typeface="Times New Roman"/>
              </a:rPr>
              <a:t>Алжир, Ангола, Венесуэла, Индонезия, Иран, Ирак, Катар, Кувейт, Ливия, Нигерия, ОАЭ, Саудовская Аравия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600" y="35676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ffcc"/>
                </a:solidFill>
                <a:latin typeface="Times New Roman"/>
              </a:rPr>
              <a:t>Картосхема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93" name="Picture 3" descr="C:\Documents and Settings\Admin\Рабочий стол\Рисунок2.jpg"/>
          <p:cNvPicPr/>
          <p:nvPr/>
        </p:nvPicPr>
        <p:blipFill>
          <a:blip r:embed="rId1"/>
          <a:stretch/>
        </p:blipFill>
        <p:spPr>
          <a:xfrm>
            <a:off x="928800" y="1357200"/>
            <a:ext cx="7929360" cy="5194440"/>
          </a:xfrm>
          <a:prstGeom prst="rect">
            <a:avLst/>
          </a:prstGeom>
          <a:ln w="9360">
            <a:solidFill>
              <a:srgbClr val="e5e500"/>
            </a:solidFill>
            <a:miter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1428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ff00"/>
                </a:solidFill>
                <a:latin typeface="Times New Roman"/>
              </a:rPr>
              <a:t>Газовая промышленность: страны-лидеры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572000" y="1857240"/>
          <a:ext cx="4191120" cy="4859640"/>
        </p:xfrm>
        <a:graphic>
          <a:graphicData uri="http://schemas.openxmlformats.org/drawingml/2006/table">
            <a:tbl>
              <a:tblPr/>
              <a:tblGrid>
                <a:gridCol w="2583000"/>
                <a:gridCol w="1608120"/>
              </a:tblGrid>
              <a:tr h="731880"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Страна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Добыча,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млрд. м³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я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5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нада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ликобритания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лжир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онезия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дерланды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ран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рвегия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збекистан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уд. Аравия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pic>
        <p:nvPicPr>
          <p:cNvPr id="196" name="Picture 11" descr="Нефтеперерабатывающий завод"/>
          <p:cNvPicPr/>
          <p:nvPr/>
        </p:nvPicPr>
        <p:blipFill>
          <a:blip r:embed="rId12"/>
          <a:stretch/>
        </p:blipFill>
        <p:spPr>
          <a:xfrm>
            <a:off x="285840" y="2500200"/>
            <a:ext cx="4127400" cy="3143520"/>
          </a:xfrm>
          <a:prstGeom prst="rect">
            <a:avLst/>
          </a:prstGeom>
          <a:ln w="9360">
            <a:solidFill>
              <a:srgbClr val="ffff59"/>
            </a:solidFill>
            <a:miter/>
          </a:ln>
        </p:spPr>
      </p:pic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71600" y="35676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ffcc"/>
                </a:solidFill>
                <a:latin typeface="Times New Roman"/>
              </a:rPr>
              <a:t>Картосхема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98" name="Picture 2" descr="C:\Documents and Settings\Admin\Рабочий стол\Рисунок3.jpg"/>
          <p:cNvPicPr/>
          <p:nvPr/>
        </p:nvPicPr>
        <p:blipFill>
          <a:blip r:embed="rId1"/>
          <a:stretch/>
        </p:blipFill>
        <p:spPr>
          <a:xfrm>
            <a:off x="642960" y="1285920"/>
            <a:ext cx="8318520" cy="5357880"/>
          </a:xfrm>
          <a:prstGeom prst="rect">
            <a:avLst/>
          </a:prstGeom>
          <a:ln w="9360">
            <a:solidFill>
              <a:srgbClr val="e5e500"/>
            </a:solidFill>
            <a:miter/>
          </a:ln>
        </p:spPr>
      </p:pic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14280" y="499680"/>
            <a:ext cx="7772400" cy="81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5e500"/>
                </a:solidFill>
                <a:latin typeface="Times New Roman"/>
              </a:rPr>
              <a:t>Динамика электроэнергетики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00" name="Схема 6" descr=""/>
          <p:cNvPicPr/>
          <p:nvPr/>
        </p:nvPicPr>
        <p:blipFill>
          <a:blip r:embed="rId1"/>
          <a:stretch/>
        </p:blipFill>
        <p:spPr>
          <a:xfrm>
            <a:off x="1158840" y="4638600"/>
            <a:ext cx="7790040" cy="18655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1" descr="vet5"/>
          <p:cNvPicPr/>
          <p:nvPr/>
        </p:nvPicPr>
        <p:blipFill>
          <a:blip r:embed="rId2"/>
          <a:stretch/>
        </p:blipFill>
        <p:spPr>
          <a:xfrm>
            <a:off x="5786280" y="1500120"/>
            <a:ext cx="2702160" cy="2025720"/>
          </a:xfrm>
          <a:prstGeom prst="rect">
            <a:avLst/>
          </a:prstGeom>
          <a:ln w="9360">
            <a:solidFill>
              <a:srgbClr val="ffff59"/>
            </a:solidFill>
            <a:miter/>
          </a:ln>
        </p:spPr>
      </p:pic>
      <p:pic>
        <p:nvPicPr>
          <p:cNvPr id="202" name="Picture 11" descr="Солнечная электростанция"/>
          <p:cNvPicPr/>
          <p:nvPr/>
        </p:nvPicPr>
        <p:blipFill>
          <a:blip r:embed="rId3"/>
          <a:stretch/>
        </p:blipFill>
        <p:spPr>
          <a:xfrm>
            <a:off x="3143160" y="2535120"/>
            <a:ext cx="2714760" cy="2036880"/>
          </a:xfrm>
          <a:prstGeom prst="rect">
            <a:avLst/>
          </a:prstGeom>
          <a:ln w="9360">
            <a:solidFill>
              <a:srgbClr val="ffff59"/>
            </a:solidFill>
            <a:miter/>
          </a:ln>
        </p:spPr>
      </p:pic>
      <p:pic>
        <p:nvPicPr>
          <p:cNvPr id="203" name="Picture 12" descr="Добыча каменного угля"/>
          <p:cNvPicPr/>
          <p:nvPr/>
        </p:nvPicPr>
        <p:blipFill>
          <a:blip r:embed="rId4"/>
          <a:stretch/>
        </p:blipFill>
        <p:spPr>
          <a:xfrm>
            <a:off x="1143000" y="1428840"/>
            <a:ext cx="2500200" cy="1874880"/>
          </a:xfrm>
          <a:prstGeom prst="rect">
            <a:avLst/>
          </a:prstGeom>
          <a:ln w="9360">
            <a:solidFill>
              <a:srgbClr val="ffff59"/>
            </a:solidFill>
            <a:miter/>
          </a:ln>
        </p:spPr>
      </p:pic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85600" y="428400"/>
            <a:ext cx="735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ff00"/>
                </a:solidFill>
                <a:latin typeface="Times New Roman"/>
              </a:rPr>
              <a:t>Электроэнергетика: страны-лидеры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05" name="Picture 12" descr="res5"/>
          <p:cNvPicPr/>
          <p:nvPr/>
        </p:nvPicPr>
        <p:blipFill>
          <a:blip r:embed="rId1"/>
          <a:stretch/>
        </p:blipFill>
        <p:spPr>
          <a:xfrm>
            <a:off x="214200" y="2786040"/>
            <a:ext cx="3429000" cy="2786040"/>
          </a:xfrm>
          <a:prstGeom prst="rect">
            <a:avLst/>
          </a:prstGeom>
          <a:ln w="9360">
            <a:solidFill>
              <a:srgbClr val="ffff59"/>
            </a:solidFill>
            <a:miter/>
          </a:ln>
        </p:spPr>
      </p:pic>
      <p:graphicFrame>
        <p:nvGraphicFramePr>
          <p:cNvPr id="206" name=""/>
          <p:cNvGraphicFramePr/>
          <p:nvPr/>
        </p:nvGraphicFramePr>
        <p:xfrm>
          <a:off x="3929040" y="1928880"/>
          <a:ext cx="5000760" cy="4727520"/>
        </p:xfrm>
        <a:graphic>
          <a:graphicData uri="http://schemas.openxmlformats.org/drawingml/2006/table">
            <a:tbl>
              <a:tblPr/>
              <a:tblGrid>
                <a:gridCol w="2314440"/>
                <a:gridCol w="1354320"/>
                <a:gridCol w="1332000"/>
              </a:tblGrid>
              <a:tr h="998640"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Страна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Выработка, млрд. кВт•ч 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На душу нас.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372960"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8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40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2960"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тай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25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5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2960"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пония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0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2960"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я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5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5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2960"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нада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5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90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2960"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ермания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5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6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2960"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я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2960"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ранция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5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2960"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ликобритания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5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2960"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разилия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1600" y="357120"/>
            <a:ext cx="777240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ffcc"/>
                </a:solidFill>
                <a:latin typeface="Times New Roman"/>
              </a:rPr>
              <a:t>Картосхема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08" name="Picture 2" descr="C:\Documents and Settings\Admin\Рабочий стол\Рисунок5.jpg"/>
          <p:cNvPicPr/>
          <p:nvPr/>
        </p:nvPicPr>
        <p:blipFill>
          <a:blip r:embed="rId1"/>
          <a:stretch/>
        </p:blipFill>
        <p:spPr>
          <a:xfrm>
            <a:off x="928800" y="1285920"/>
            <a:ext cx="7858080" cy="5310000"/>
          </a:xfrm>
          <a:prstGeom prst="rect">
            <a:avLst/>
          </a:prstGeom>
          <a:ln w="9360">
            <a:solidFill>
              <a:srgbClr val="e5e500"/>
            </a:solidFill>
            <a:miter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85880" y="4714560"/>
            <a:ext cx="7772400" cy="144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fcc00"/>
                </a:solidFill>
                <a:latin typeface="Arial Black"/>
              </a:rPr>
              <a:t>ТЭК мира</a:t>
            </a:r>
            <a:endParaRPr b="0" i="1" lang="en-US" sz="96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56" name="Picture 10" descr="Разработка рудника"/>
          <p:cNvPicPr/>
          <p:nvPr/>
        </p:nvPicPr>
        <p:blipFill>
          <a:blip r:embed="rId1"/>
          <a:stretch/>
        </p:blipFill>
        <p:spPr>
          <a:xfrm>
            <a:off x="2320920" y="1357200"/>
            <a:ext cx="4394160" cy="3071880"/>
          </a:xfrm>
          <a:prstGeom prst="rect">
            <a:avLst/>
          </a:prstGeom>
          <a:ln w="9360">
            <a:solidFill>
              <a:srgbClr val="ffff59"/>
            </a:solidFill>
            <a:miter/>
          </a:ln>
        </p:spPr>
      </p:pic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14280" y="-360"/>
            <a:ext cx="777240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ff00"/>
                </a:solidFill>
                <a:latin typeface="Times New Roman"/>
              </a:rPr>
              <a:t>Типы электростанций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14200" y="1143000"/>
          <a:ext cx="8786880" cy="5500800"/>
        </p:xfrm>
        <a:graphic>
          <a:graphicData uri="http://schemas.openxmlformats.org/drawingml/2006/table">
            <a:tbl>
              <a:tblPr/>
              <a:tblGrid>
                <a:gridCol w="1525680"/>
                <a:gridCol w="1960560"/>
                <a:gridCol w="2728800"/>
                <a:gridCol w="2571840"/>
              </a:tblGrid>
              <a:tr h="213480">
                <a:tc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Тип эл. станции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8a008a"/>
                      </a:solidFill>
                    </a:lnL>
                    <a:lnR w="5760">
                      <a:solidFill>
                        <a:srgbClr val="8a008a"/>
                      </a:solidFill>
                    </a:lnR>
                    <a:lnT w="5760">
                      <a:solidFill>
                        <a:srgbClr val="8a008a"/>
                      </a:solidFill>
                    </a:lnT>
                    <a:lnB w="5760">
                      <a:solidFill>
                        <a:srgbClr val="8a008a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Источник энергии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8a008a"/>
                      </a:solidFill>
                    </a:lnL>
                    <a:lnR w="5760">
                      <a:solidFill>
                        <a:srgbClr val="8a008a"/>
                      </a:solidFill>
                    </a:lnR>
                    <a:lnT w="5760">
                      <a:solidFill>
                        <a:srgbClr val="8a008a"/>
                      </a:solidFill>
                    </a:lnT>
                    <a:lnB w="5760">
                      <a:solidFill>
                        <a:srgbClr val="8a008a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Районы размещения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8a008a"/>
                      </a:solidFill>
                    </a:lnL>
                    <a:lnR w="5760">
                      <a:solidFill>
                        <a:srgbClr val="8a008a"/>
                      </a:solidFill>
                    </a:lnR>
                    <a:lnT w="5760">
                      <a:solidFill>
                        <a:srgbClr val="8a008a"/>
                      </a:solidFill>
                    </a:lnT>
                    <a:lnB w="5760">
                      <a:solidFill>
                        <a:srgbClr val="8a008a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Экологические последствия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8a008a"/>
                      </a:solidFill>
                    </a:lnL>
                    <a:lnR w="5760">
                      <a:solidFill>
                        <a:srgbClr val="8a008a"/>
                      </a:solidFill>
                    </a:lnR>
                    <a:lnT w="5760">
                      <a:solidFill>
                        <a:srgbClr val="8a008a"/>
                      </a:solidFill>
                    </a:lnT>
                    <a:lnB w="5760">
                      <a:solidFill>
                        <a:srgbClr val="8a008a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1336320"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Гидравлические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8a008a"/>
                      </a:solidFill>
                    </a:lnL>
                    <a:lnR w="5760">
                      <a:solidFill>
                        <a:srgbClr val="8a008a"/>
                      </a:solidFill>
                    </a:lnR>
                    <a:lnT w="5760">
                      <a:solidFill>
                        <a:srgbClr val="8a008a"/>
                      </a:solidFill>
                    </a:lnT>
                    <a:lnB w="5760">
                      <a:solidFill>
                        <a:srgbClr val="8a008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нергия воды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8a008a"/>
                      </a:solidFill>
                    </a:lnL>
                    <a:lnR w="5760">
                      <a:solidFill>
                        <a:srgbClr val="8a008a"/>
                      </a:solidFill>
                    </a:lnR>
                    <a:lnT w="5760">
                      <a:solidFill>
                        <a:srgbClr val="8a008a"/>
                      </a:solidFill>
                    </a:lnT>
                    <a:lnB w="5760">
                      <a:solidFill>
                        <a:srgbClr val="8a008a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ки с большим падением и расходом воды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8a008a"/>
                      </a:solidFill>
                    </a:lnL>
                    <a:lnR w="5760">
                      <a:solidFill>
                        <a:srgbClr val="8a008a"/>
                      </a:solidFill>
                    </a:lnR>
                    <a:lnT w="5760">
                      <a:solidFill>
                        <a:srgbClr val="8a008a"/>
                      </a:solidFill>
                    </a:lnT>
                    <a:lnB w="5760">
                      <a:solidFill>
                        <a:srgbClr val="8a008a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топление больших участков плодородных земель, подъем грунтовых вод, изменение микроклимата, изменение режима реки, заиление водоемов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8a008a"/>
                      </a:solidFill>
                    </a:lnL>
                    <a:lnR w="5760">
                      <a:solidFill>
                        <a:srgbClr val="8a008a"/>
                      </a:solidFill>
                    </a:lnR>
                    <a:lnT w="5760">
                      <a:solidFill>
                        <a:srgbClr val="8a008a"/>
                      </a:solidFill>
                    </a:lnT>
                    <a:lnB w="5760">
                      <a:solidFill>
                        <a:srgbClr val="8a008a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0"/>
                    </a:gradFill>
                  </a:tcPr>
                </a:tc>
              </a:tr>
              <a:tr h="1144080"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Тепловые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8a008a"/>
                      </a:solidFill>
                    </a:lnL>
                    <a:lnR w="5760">
                      <a:solidFill>
                        <a:srgbClr val="8a008a"/>
                      </a:solidFill>
                    </a:lnR>
                    <a:lnT w="5760">
                      <a:solidFill>
                        <a:srgbClr val="8a008a"/>
                      </a:solidFill>
                    </a:lnT>
                    <a:lnB w="5760">
                      <a:solidFill>
                        <a:srgbClr val="8a008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нергия сгорания топлива (мазут, газ, уголь, горючие сланцы, торф)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8a008a"/>
                      </a:solidFill>
                    </a:lnL>
                    <a:lnR w="5760">
                      <a:solidFill>
                        <a:srgbClr val="8a008a"/>
                      </a:solidFill>
                    </a:lnR>
                    <a:lnT w="5760">
                      <a:solidFill>
                        <a:srgbClr val="8a008a"/>
                      </a:solidFill>
                    </a:lnT>
                    <a:lnB w="5760">
                      <a:solidFill>
                        <a:srgbClr val="8a008a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урочены к топливным бассейнам с дальнейшей передачей электроэнергии на расстояния или в районах сосредоточения потребителя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8a008a"/>
                      </a:solidFill>
                    </a:lnL>
                    <a:lnR w="5760">
                      <a:solidFill>
                        <a:srgbClr val="8a008a"/>
                      </a:solidFill>
                    </a:lnR>
                    <a:lnT w="5760">
                      <a:solidFill>
                        <a:srgbClr val="8a008a"/>
                      </a:solidFill>
                    </a:lnT>
                    <a:lnB w="5760">
                      <a:solidFill>
                        <a:srgbClr val="8a008a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рязнение атмосферного воздуха, тепловое загрязнение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8a008a"/>
                      </a:solidFill>
                    </a:lnL>
                    <a:lnR w="5760">
                      <a:solidFill>
                        <a:srgbClr val="8a008a"/>
                      </a:solidFill>
                    </a:lnR>
                    <a:lnT w="5760">
                      <a:solidFill>
                        <a:srgbClr val="8a008a"/>
                      </a:solidFill>
                    </a:lnT>
                    <a:lnB w="5760">
                      <a:solidFill>
                        <a:srgbClr val="8a008a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0"/>
                    </a:gradFill>
                  </a:tcPr>
                </a:tc>
              </a:tr>
              <a:tr h="954360"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Атомные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8a008a"/>
                      </a:solidFill>
                    </a:lnL>
                    <a:lnR w="5760">
                      <a:solidFill>
                        <a:srgbClr val="8a008a"/>
                      </a:solidFill>
                    </a:lnR>
                    <a:lnT w="5760">
                      <a:solidFill>
                        <a:srgbClr val="8a008a"/>
                      </a:solidFill>
                    </a:lnT>
                    <a:lnB w="5760">
                      <a:solidFill>
                        <a:srgbClr val="8a008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дерное топливо (урановые руды)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8a008a"/>
                      </a:solidFill>
                    </a:lnL>
                    <a:lnR w="5760">
                      <a:solidFill>
                        <a:srgbClr val="8a008a"/>
                      </a:solidFill>
                    </a:lnR>
                    <a:lnT w="5760">
                      <a:solidFill>
                        <a:srgbClr val="8a008a"/>
                      </a:solidFill>
                    </a:lnT>
                    <a:lnB w="5760">
                      <a:solidFill>
                        <a:srgbClr val="8a008a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энергодефицитных районах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8a008a"/>
                      </a:solidFill>
                    </a:lnL>
                    <a:lnR w="5760">
                      <a:solidFill>
                        <a:srgbClr val="8a008a"/>
                      </a:solidFill>
                    </a:lnR>
                    <a:lnT w="5760">
                      <a:solidFill>
                        <a:srgbClr val="8a008a"/>
                      </a:solidFill>
                    </a:lnT>
                    <a:lnB w="5760">
                      <a:solidFill>
                        <a:srgbClr val="8a008a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асность радиационного загрязнения в случае аварии. Необходимость утилизации радиоактивных отходов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8a008a"/>
                      </a:solidFill>
                    </a:lnL>
                    <a:lnR w="5760">
                      <a:solidFill>
                        <a:srgbClr val="8a008a"/>
                      </a:solidFill>
                    </a:lnR>
                    <a:lnT w="5760">
                      <a:solidFill>
                        <a:srgbClr val="8a008a"/>
                      </a:solidFill>
                    </a:lnT>
                    <a:lnB w="5760">
                      <a:solidFill>
                        <a:srgbClr val="8a008a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0"/>
                    </a:gradFill>
                  </a:tcPr>
                </a:tc>
              </a:tr>
              <a:tr h="426960"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Приливные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8a008a"/>
                      </a:solidFill>
                    </a:lnL>
                    <a:lnR w="5760">
                      <a:solidFill>
                        <a:srgbClr val="8a008a"/>
                      </a:solidFill>
                    </a:lnR>
                    <a:lnT w="5760">
                      <a:solidFill>
                        <a:srgbClr val="8a008a"/>
                      </a:solidFill>
                    </a:lnT>
                    <a:lnB w="5760">
                      <a:solidFill>
                        <a:srgbClr val="8a008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нергия приливов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8a008a"/>
                      </a:solidFill>
                    </a:lnL>
                    <a:lnR w="5760">
                      <a:solidFill>
                        <a:srgbClr val="8a008a"/>
                      </a:solidFill>
                    </a:lnR>
                    <a:lnT w="5760">
                      <a:solidFill>
                        <a:srgbClr val="8a008a"/>
                      </a:solidFill>
                    </a:lnT>
                    <a:lnB w="5760">
                      <a:solidFill>
                        <a:srgbClr val="8a008a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узких морских заливах с высокими приливами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8a008a"/>
                      </a:solidFill>
                    </a:lnL>
                    <a:lnR w="5760">
                      <a:solidFill>
                        <a:srgbClr val="8a008a"/>
                      </a:solidFill>
                    </a:lnR>
                    <a:lnT w="5760">
                      <a:solidFill>
                        <a:srgbClr val="8a008a"/>
                      </a:solidFill>
                    </a:lnT>
                    <a:lnB w="5760">
                      <a:solidFill>
                        <a:srgbClr val="8a008a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значительны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8a008a"/>
                      </a:solidFill>
                    </a:lnL>
                    <a:lnR w="5760">
                      <a:solidFill>
                        <a:srgbClr val="8a008a"/>
                      </a:solidFill>
                    </a:lnR>
                    <a:lnT w="5760">
                      <a:solidFill>
                        <a:srgbClr val="8a008a"/>
                      </a:solidFill>
                    </a:lnT>
                    <a:lnB w="5760">
                      <a:solidFill>
                        <a:srgbClr val="8a008a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0"/>
                    </a:gradFill>
                  </a:tcPr>
                </a:tc>
              </a:tr>
              <a:tr h="426960"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Ветровые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8a008a"/>
                      </a:solidFill>
                    </a:lnL>
                    <a:lnR w="5760">
                      <a:solidFill>
                        <a:srgbClr val="8a008a"/>
                      </a:solidFill>
                    </a:lnR>
                    <a:lnT w="5760">
                      <a:solidFill>
                        <a:srgbClr val="8a008a"/>
                      </a:solidFill>
                    </a:lnT>
                    <a:lnB w="5760">
                      <a:solidFill>
                        <a:srgbClr val="8a008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нергия ветра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8a008a"/>
                      </a:solidFill>
                    </a:lnL>
                    <a:lnR w="5760">
                      <a:solidFill>
                        <a:srgbClr val="8a008a"/>
                      </a:solidFill>
                    </a:lnR>
                    <a:lnT w="5760">
                      <a:solidFill>
                        <a:srgbClr val="8a008a"/>
                      </a:solidFill>
                    </a:lnT>
                    <a:lnB w="5760">
                      <a:solidFill>
                        <a:srgbClr val="8a008a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районах с ветровой активность.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8a008a"/>
                      </a:solidFill>
                    </a:lnL>
                    <a:lnR w="5760">
                      <a:solidFill>
                        <a:srgbClr val="8a008a"/>
                      </a:solidFill>
                    </a:lnR>
                    <a:lnT w="5760">
                      <a:solidFill>
                        <a:srgbClr val="8a008a"/>
                      </a:solidFill>
                    </a:lnT>
                    <a:lnB w="5760">
                      <a:solidFill>
                        <a:srgbClr val="8a008a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значительны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8a008a"/>
                      </a:solidFill>
                    </a:lnL>
                    <a:lnR w="5760">
                      <a:solidFill>
                        <a:srgbClr val="8a008a"/>
                      </a:solidFill>
                    </a:lnR>
                    <a:lnT w="5760">
                      <a:solidFill>
                        <a:srgbClr val="8a008a"/>
                      </a:solidFill>
                    </a:lnT>
                    <a:lnB w="5760">
                      <a:solidFill>
                        <a:srgbClr val="8a008a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0"/>
                    </a:gradFill>
                  </a:tcPr>
                </a:tc>
              </a:tr>
              <a:tr h="426600"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Солнечные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8a008a"/>
                      </a:solidFill>
                    </a:lnL>
                    <a:lnR w="5760">
                      <a:solidFill>
                        <a:srgbClr val="8a008a"/>
                      </a:solidFill>
                    </a:lnR>
                    <a:lnT w="5760">
                      <a:solidFill>
                        <a:srgbClr val="8a008a"/>
                      </a:solidFill>
                    </a:lnT>
                    <a:lnB w="5760">
                      <a:solidFill>
                        <a:srgbClr val="8a008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нергия Солнца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8a008a"/>
                      </a:solidFill>
                    </a:lnL>
                    <a:lnR w="5760">
                      <a:solidFill>
                        <a:srgbClr val="8a008a"/>
                      </a:solidFill>
                    </a:lnR>
                    <a:lnT w="5760">
                      <a:solidFill>
                        <a:srgbClr val="8a008a"/>
                      </a:solidFill>
                    </a:lnT>
                    <a:lnB w="5760">
                      <a:solidFill>
                        <a:srgbClr val="8a008a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открытых пространствах с ясной солнечной погодой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8a008a"/>
                      </a:solidFill>
                    </a:lnL>
                    <a:lnR w="5760">
                      <a:solidFill>
                        <a:srgbClr val="8a008a"/>
                      </a:solidFill>
                    </a:lnR>
                    <a:lnT w="5760">
                      <a:solidFill>
                        <a:srgbClr val="8a008a"/>
                      </a:solidFill>
                    </a:lnT>
                    <a:lnB w="5760">
                      <a:solidFill>
                        <a:srgbClr val="8a008a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значительны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8a008a"/>
                      </a:solidFill>
                    </a:lnL>
                    <a:lnR w="5760">
                      <a:solidFill>
                        <a:srgbClr val="8a008a"/>
                      </a:solidFill>
                    </a:lnR>
                    <a:lnT w="5760">
                      <a:solidFill>
                        <a:srgbClr val="8a008a"/>
                      </a:solidFill>
                    </a:lnT>
                    <a:lnB w="5760">
                      <a:solidFill>
                        <a:srgbClr val="8a008a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0"/>
                    </a:gradFill>
                  </a:tcPr>
                </a:tc>
              </a:tr>
              <a:tr h="572040"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Геотермальные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8a008a"/>
                      </a:solidFill>
                    </a:lnL>
                    <a:lnR w="5760">
                      <a:solidFill>
                        <a:srgbClr val="8a008a"/>
                      </a:solidFill>
                    </a:lnR>
                    <a:lnT w="5760">
                      <a:solidFill>
                        <a:srgbClr val="8a008a"/>
                      </a:solidFill>
                    </a:lnT>
                    <a:lnB w="5760">
                      <a:solidFill>
                        <a:srgbClr val="8a008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нергия недр Земли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8a008a"/>
                      </a:solidFill>
                    </a:lnL>
                    <a:lnR w="5760">
                      <a:solidFill>
                        <a:srgbClr val="8a008a"/>
                      </a:solidFill>
                    </a:lnR>
                    <a:lnT w="5760">
                      <a:solidFill>
                        <a:srgbClr val="8a008a"/>
                      </a:solidFill>
                    </a:lnT>
                    <a:lnB w="5760">
                      <a:solidFill>
                        <a:srgbClr val="8a008a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районах значительных запасов горячих (термальных) вод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8a008a"/>
                      </a:solidFill>
                    </a:lnL>
                    <a:lnR w="5760">
                      <a:solidFill>
                        <a:srgbClr val="8a008a"/>
                      </a:solidFill>
                    </a:lnR>
                    <a:lnT w="5760">
                      <a:solidFill>
                        <a:srgbClr val="8a008a"/>
                      </a:solidFill>
                    </a:lnT>
                    <a:lnB w="5760">
                      <a:solidFill>
                        <a:srgbClr val="8a008a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значительны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8a008a"/>
                      </a:solidFill>
                    </a:lnL>
                    <a:lnR w="5760">
                      <a:solidFill>
                        <a:srgbClr val="8a008a"/>
                      </a:solidFill>
                    </a:lnR>
                    <a:lnT w="5760">
                      <a:solidFill>
                        <a:srgbClr val="8a008a"/>
                      </a:solidFill>
                    </a:lnT>
                    <a:lnB w="5760">
                      <a:solidFill>
                        <a:srgbClr val="8a008a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0"/>
                    </a:gradFill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85920" y="357120"/>
            <a:ext cx="774864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ff00"/>
                </a:solidFill>
                <a:latin typeface="Times New Roman"/>
              </a:rPr>
              <a:t>Соотношение разных типов электростанций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12" name="Содержимое 4" descr=""/>
          <p:cNvPicPr/>
          <p:nvPr/>
        </p:nvPicPr>
        <p:blipFill>
          <a:blip r:embed="rId1"/>
          <a:stretch/>
        </p:blipFill>
        <p:spPr>
          <a:xfrm>
            <a:off x="1359000" y="1914480"/>
            <a:ext cx="7804080" cy="4462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840" y="42840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ff00"/>
                </a:solidFill>
                <a:latin typeface="Times New Roman"/>
              </a:rPr>
              <a:t>Электроэнергетика: страны-лидеры по видам станций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1357200" y="1928880"/>
          <a:ext cx="7548840" cy="4728960"/>
        </p:xfrm>
        <a:graphic>
          <a:graphicData uri="http://schemas.openxmlformats.org/drawingml/2006/table">
            <a:tbl>
              <a:tblPr/>
              <a:tblGrid>
                <a:gridCol w="1714680"/>
                <a:gridCol w="2720880"/>
                <a:gridCol w="3113280"/>
              </a:tblGrid>
              <a:tr h="1070280"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50045"/>
                          </a:solidFill>
                          <a:latin typeface="Times New Roman"/>
                        </a:rPr>
                        <a:t>Виды 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50045"/>
                          </a:solidFill>
                          <a:latin typeface="Times New Roman"/>
                        </a:rPr>
                        <a:t>электро-станций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000" marR="6300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50045"/>
                          </a:solidFill>
                          <a:latin typeface="Times New Roman"/>
                        </a:rPr>
                        <a:t>По общему размеру выработки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000" marR="6300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50045"/>
                          </a:solidFill>
                          <a:latin typeface="Times New Roman"/>
                        </a:rPr>
                        <a:t>По доле данного типа энергии в общем объеме выработки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000" marR="6300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13500000"/>
                    </a:gradFill>
                  </a:tcPr>
                </a:tc>
              </a:tr>
              <a:tr h="1097640"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ТЭС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000" marR="6300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gradFill rotWithShape="0">
                      <a:gsLst>
                        <a:gs pos="0">
                          <a:srgbClr val="ffa1a4"/>
                        </a:gs>
                        <a:gs pos="100000">
                          <a:srgbClr val="ffe2e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, Китай, Россия, Япония, Германия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000" marR="6300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gradFill rotWithShape="0">
                      <a:gsLst>
                        <a:gs pos="0">
                          <a:srgbClr val="ffa1a4"/>
                        </a:gs>
                        <a:gs pos="100000">
                          <a:srgbClr val="ffe2e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ьша, ЮАР, Саудовская Аравия, Кувейт, ОАЭ, Алжир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000" marR="6300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gradFill rotWithShape="0">
                      <a:gsLst>
                        <a:gs pos="0">
                          <a:srgbClr val="ffa1a4"/>
                        </a:gs>
                        <a:gs pos="100000">
                          <a:srgbClr val="ffe2e3"/>
                        </a:gs>
                      </a:gsLst>
                      <a:lin ang="5400000"/>
                    </a:gradFill>
                  </a:tcPr>
                </a:tc>
              </a:tr>
              <a:tr h="1097640"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ГЭС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000" marR="6300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gradFill rotWithShape="0">
                      <a:gsLst>
                        <a:gs pos="0">
                          <a:srgbClr val="ffa1a4"/>
                        </a:gs>
                        <a:gs pos="100000">
                          <a:srgbClr val="ffe2e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нада, США, Бразилия, Россия, Китай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000" marR="6300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gradFill rotWithShape="0">
                      <a:gsLst>
                        <a:gs pos="0">
                          <a:srgbClr val="ffa1a4"/>
                        </a:gs>
                        <a:gs pos="100000">
                          <a:srgbClr val="ffe2e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рвегия, Бразилия, Киргизия, Таджикистан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000" marR="6300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gradFill rotWithShape="0">
                      <a:gsLst>
                        <a:gs pos="0">
                          <a:srgbClr val="ffa1a4"/>
                        </a:gs>
                        <a:gs pos="100000">
                          <a:srgbClr val="ffe2e3"/>
                        </a:gs>
                      </a:gsLst>
                      <a:lin ang="5400000"/>
                    </a:gradFill>
                  </a:tcPr>
                </a:tc>
              </a:tr>
              <a:tr h="1463400"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АЭС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000" marR="6300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gradFill rotWithShape="0">
                      <a:gsLst>
                        <a:gs pos="0">
                          <a:srgbClr val="ffa1a4"/>
                        </a:gs>
                        <a:gs pos="100000">
                          <a:srgbClr val="ffe2e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, Франция, Япония, ФРГ, Россия, Великобритания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000" marR="6300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gradFill rotWithShape="0">
                      <a:gsLst>
                        <a:gs pos="0">
                          <a:srgbClr val="ffa1a4"/>
                        </a:gs>
                        <a:gs pos="100000">
                          <a:srgbClr val="ffe2e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тва, Франция, Бельгия, Швеция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000" marR="6300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gradFill rotWithShape="0">
                      <a:gsLst>
                        <a:gs pos="0">
                          <a:srgbClr val="ffa1a4"/>
                        </a:gs>
                        <a:gs pos="100000">
                          <a:srgbClr val="ffe2e3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600" y="28584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ff00"/>
                </a:solidFill>
                <a:latin typeface="Times New Roman"/>
              </a:rPr>
              <a:t>Крупнейшие ГЭС мира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357200" y="1500120"/>
          <a:ext cx="7500960" cy="5100840"/>
        </p:xfrm>
        <a:graphic>
          <a:graphicData uri="http://schemas.openxmlformats.org/drawingml/2006/table">
            <a:tbl>
              <a:tblPr/>
              <a:tblGrid>
                <a:gridCol w="2286000"/>
                <a:gridCol w="2214720"/>
                <a:gridCol w="1500120"/>
                <a:gridCol w="1500120"/>
              </a:tblGrid>
              <a:tr h="915120"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Название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Страна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Мощность, млн. кВт · ч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Река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</a:tr>
              <a:tr h="61020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айпу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разилия – Парагвай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solidFill>
                      <a:srgbClr val="ffeced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6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solidFill>
                      <a:srgbClr val="ffeced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рана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solidFill>
                      <a:srgbClr val="ffeced"/>
                    </a:solidFill>
                  </a:tcPr>
                </a:tc>
              </a:tr>
              <a:tr h="32580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анд-Кули 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solidFill>
                      <a:srgbClr val="ffeced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8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solidFill>
                      <a:srgbClr val="ffeced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роно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solidFill>
                      <a:srgbClr val="ffeced"/>
                    </a:solidFill>
                  </a:tcPr>
                </a:tc>
              </a:tr>
              <a:tr h="32436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ури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несуэла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solidFill>
                      <a:srgbClr val="ffeced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3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solidFill>
                      <a:srgbClr val="ffeced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умбия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solidFill>
                      <a:srgbClr val="ffeced"/>
                    </a:solidFill>
                  </a:tcPr>
                </a:tc>
              </a:tr>
              <a:tr h="32580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укури 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разилия  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solidFill>
                      <a:srgbClr val="ffeced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solidFill>
                      <a:srgbClr val="ffeced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окантинс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solidFill>
                      <a:srgbClr val="ffeced"/>
                    </a:solidFill>
                  </a:tcPr>
                </a:tc>
              </a:tr>
              <a:tr h="65016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яно-Шушенская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solidFill>
                      <a:srgbClr val="ffeced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4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solidFill>
                      <a:srgbClr val="ffeced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нисей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solidFill>
                      <a:srgbClr val="ffeced"/>
                    </a:solidFill>
                  </a:tcPr>
                </a:tc>
              </a:tr>
              <a:tr h="32580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сноярская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solidFill>
                      <a:srgbClr val="ffeced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solidFill>
                      <a:srgbClr val="ffeced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нисей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solidFill>
                      <a:srgbClr val="ffeced"/>
                    </a:solidFill>
                  </a:tcPr>
                </a:tc>
              </a:tr>
              <a:tr h="32436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а-Гранд – 2 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нада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solidFill>
                      <a:srgbClr val="ffeced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3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solidFill>
                      <a:srgbClr val="ffeced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а-Гранд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solidFill>
                      <a:srgbClr val="ffeced"/>
                    </a:solidFill>
                  </a:tcPr>
                </a:tc>
              </a:tr>
              <a:tr h="32580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рчилл-Фолс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нада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solidFill>
                      <a:srgbClr val="ffeced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2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solidFill>
                      <a:srgbClr val="ffeced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рчилл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solidFill>
                      <a:srgbClr val="ffeced"/>
                    </a:solidFill>
                  </a:tcPr>
                </a:tc>
              </a:tr>
              <a:tr h="32580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ратская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solidFill>
                      <a:srgbClr val="ffeced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5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solidFill>
                      <a:srgbClr val="ffeced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гара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solidFill>
                      <a:srgbClr val="ffeced"/>
                    </a:solidFill>
                  </a:tcPr>
                </a:tc>
              </a:tr>
              <a:tr h="64764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ть-Илимская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solidFill>
                      <a:srgbClr val="ffeced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3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solidFill>
                      <a:srgbClr val="ffeced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гара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solidFill>
                      <a:srgbClr val="ffeced"/>
                    </a:solidFill>
                  </a:tcPr>
                </a:tc>
              </a:tr>
            </a:tbl>
          </a:graphicData>
        </a:graphic>
      </p:graphicFrame>
      <p:pic>
        <p:nvPicPr>
          <p:cNvPr id="217" name="Picture 9" descr="Братская ГЭС"/>
          <p:cNvPicPr/>
          <p:nvPr/>
        </p:nvPicPr>
        <p:blipFill>
          <a:blip r:embed="rId1"/>
          <a:stretch/>
        </p:blipFill>
        <p:spPr>
          <a:xfrm>
            <a:off x="142920" y="142920"/>
            <a:ext cx="1785960" cy="1359000"/>
          </a:xfrm>
          <a:prstGeom prst="rect">
            <a:avLst/>
          </a:prstGeom>
          <a:ln w="9360">
            <a:solidFill>
              <a:srgbClr val="ffff59"/>
            </a:solidFill>
            <a:miter/>
          </a:ln>
        </p:spPr>
      </p:pic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7160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ff00"/>
                </a:solidFill>
                <a:latin typeface="Times New Roman"/>
              </a:rPr>
              <a:t>Крупнейшие ядерные державы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285920" y="1357200"/>
          <a:ext cx="7500960" cy="5286600"/>
        </p:xfrm>
        <a:graphic>
          <a:graphicData uri="http://schemas.openxmlformats.org/drawingml/2006/table">
            <a:tbl>
              <a:tblPr/>
              <a:tblGrid>
                <a:gridCol w="1481040"/>
                <a:gridCol w="1744560"/>
                <a:gridCol w="2041560"/>
                <a:gridCol w="2233800"/>
              </a:tblGrid>
              <a:tr h="480960"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трана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Число действующих реакторов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ощность, млн. кВт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ля всей производимой электроэнергии в стране, %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23976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30303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,8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22,0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</a:tr>
              <a:tr h="23976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Франция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30303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,5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77,0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</a:tr>
              <a:tr h="24120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Япония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30303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9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30,7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</a:tr>
              <a:tr h="23976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Великобритания 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30303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7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25,8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</a:tr>
              <a:tr h="24156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30303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8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11,4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</a:tr>
              <a:tr h="23940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Канада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30303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8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19,0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</a:tr>
              <a:tr h="23976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Германия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30303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,7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29,3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</a:tr>
              <a:tr h="24156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Украина 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30303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7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34,2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</a:tr>
              <a:tr h="23976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Швеция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30303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53,0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</a:tr>
              <a:tr h="23940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Республ. Корея 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30303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2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35,4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</a:tr>
              <a:tr h="24156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Испания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30303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1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35,0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</a:tr>
              <a:tr h="23976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Индия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30303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1,3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</a:tr>
              <a:tr h="23940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Бельгия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30303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5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55,7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</a:tr>
              <a:tr h="24156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Тайвань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30303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9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31,7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</a:tr>
              <a:tr h="23976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Болгария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30303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45,6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</a:tr>
              <a:tr h="24120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Швейцария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30303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36,8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</a:tr>
              <a:tr h="23976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Финляндия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30303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29,5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</a:tr>
              <a:tr h="23976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Венгрия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30303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43,7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</a:tr>
              <a:tr h="24120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Чехия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30303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28,2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</a:tr>
              <a:tr h="23976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Словакия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30303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49,0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ff00"/>
                </a:solidFill>
                <a:latin typeface="Times New Roman"/>
              </a:rPr>
              <a:t>Альтернативные </a:t>
            </a:r>
            <a:br>
              <a:rPr sz="4400"/>
            </a:br>
            <a:r>
              <a:rPr b="0" i="1" lang="ru-RU" sz="4400" spc="-1" strike="noStrike">
                <a:solidFill>
                  <a:srgbClr val="00ff00"/>
                </a:solidFill>
                <a:latin typeface="Times New Roman"/>
              </a:rPr>
              <a:t>источники энергии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357200" y="2428920"/>
          <a:ext cx="7572600" cy="3597120"/>
        </p:xfrm>
        <a:graphic>
          <a:graphicData uri="http://schemas.openxmlformats.org/drawingml/2006/table">
            <a:tbl>
              <a:tblPr/>
              <a:tblGrid>
                <a:gridCol w="1928880"/>
                <a:gridCol w="2201760"/>
                <a:gridCol w="1227240"/>
                <a:gridCol w="2214720"/>
              </a:tblGrid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ambria"/>
                          <a:ea typeface="Times New Roman"/>
                        </a:rPr>
                        <a:t>ГеоТЭС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008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ambria"/>
                          <a:ea typeface="Times New Roman"/>
                        </a:rPr>
                        <a:t>ПЭС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008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ambria"/>
                          <a:ea typeface="Times New Roman"/>
                        </a:rPr>
                        <a:t>СЭС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008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ambria"/>
                          <a:ea typeface="Times New Roman"/>
                        </a:rPr>
                        <a:t>ВЭУ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008a"/>
                    </a:solidFill>
                  </a:tcPr>
                </a:tc>
              </a:tr>
              <a:tr h="3049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Страны Центральной Америки, Филиппины, Исландия 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Франция, Великобритания, Канада, Россия, Индия, Китай 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dda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30 стран мира 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Западная Европ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: Дания, Германия, Великобритания, Нидерланды;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США: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Калифорния; 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Зарубежная Азия: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Индия, Китай. 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ddac"/>
                    </a:solidFill>
                  </a:tcPr>
                </a:tc>
              </a:tr>
            </a:tbl>
          </a:graphicData>
        </a:graphic>
      </p:graphicFrame>
      <p:pic>
        <p:nvPicPr>
          <p:cNvPr id="222" name="Picture 9" descr="Ветряной водяной насос"/>
          <p:cNvPicPr/>
          <p:nvPr/>
        </p:nvPicPr>
        <p:blipFill>
          <a:blip r:embed="rId1"/>
          <a:stretch/>
        </p:blipFill>
        <p:spPr>
          <a:xfrm>
            <a:off x="285840" y="142920"/>
            <a:ext cx="2786040" cy="2119320"/>
          </a:xfrm>
          <a:prstGeom prst="rect">
            <a:avLst/>
          </a:prstGeom>
          <a:ln w="9360">
            <a:solidFill>
              <a:srgbClr val="e5e500"/>
            </a:solidFill>
            <a:miter/>
          </a:ln>
        </p:spPr>
      </p:pic>
      <p:pic>
        <p:nvPicPr>
          <p:cNvPr id="223" name="Picture 12" descr="Ветряки в горах США"/>
          <p:cNvPicPr/>
          <p:nvPr/>
        </p:nvPicPr>
        <p:blipFill>
          <a:blip r:embed="rId2"/>
          <a:stretch/>
        </p:blipFill>
        <p:spPr>
          <a:xfrm>
            <a:off x="3429000" y="4572000"/>
            <a:ext cx="2857680" cy="2176560"/>
          </a:xfrm>
          <a:prstGeom prst="rect">
            <a:avLst/>
          </a:prstGeom>
          <a:ln w="9360">
            <a:solidFill>
              <a:srgbClr val="e5e500"/>
            </a:solidFill>
            <a:miter/>
          </a:ln>
        </p:spPr>
      </p:pic>
      <p:pic>
        <p:nvPicPr>
          <p:cNvPr id="224" name="Picture 10" descr="Телекоммуникационная система"/>
          <p:cNvPicPr/>
          <p:nvPr/>
        </p:nvPicPr>
        <p:blipFill>
          <a:blip r:embed="rId3"/>
          <a:stretch/>
        </p:blipFill>
        <p:spPr>
          <a:xfrm>
            <a:off x="142920" y="4572000"/>
            <a:ext cx="2806560" cy="2135160"/>
          </a:xfrm>
          <a:prstGeom prst="rect">
            <a:avLst/>
          </a:prstGeom>
          <a:ln w="9360">
            <a:solidFill>
              <a:srgbClr val="737300"/>
            </a:solidFill>
            <a:miter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500040"/>
            <a:ext cx="7772400" cy="12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План характеристики отрасли мирового хозяйства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8" name="Rectangle 1"/>
          <p:cNvSpPr/>
          <p:nvPr/>
        </p:nvSpPr>
        <p:spPr>
          <a:xfrm>
            <a:off x="1214280" y="2018880"/>
            <a:ext cx="7715520" cy="4362840"/>
          </a:xfrm>
          <a:prstGeom prst="rect">
            <a:avLst/>
          </a:prstGeom>
          <a:noFill/>
          <a:ln w="9360">
            <a:solidFill>
              <a:srgbClr val="e5e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buClr>
                <a:srgbClr val="ffff9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e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ffff9e"/>
                </a:solidFill>
                <a:latin typeface="Arial"/>
                <a:ea typeface="Times New Roman"/>
              </a:rPr>
              <a:t>Значение отрасли в мировом хозяйстве, ее отраслевой   состав, влияние НТР на ее развитие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ffff9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e"/>
                </a:solidFill>
                <a:latin typeface="Arial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ffff9e"/>
                </a:solidFill>
                <a:latin typeface="Arial"/>
                <a:ea typeface="Times New Roman"/>
              </a:rPr>
              <a:t>Сырьевые и топливные ресурсы отрасли и их размещение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ffff9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e"/>
                </a:solidFill>
                <a:latin typeface="Arial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ffff9e"/>
                </a:solidFill>
                <a:latin typeface="Arial"/>
                <a:ea typeface="Times New Roman"/>
              </a:rPr>
              <a:t>Размеры производства продукции с распределением по главным географическим регионам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ffff9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e"/>
                </a:solidFill>
                <a:latin typeface="Arial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ffff9e"/>
                </a:solidFill>
                <a:latin typeface="Arial"/>
                <a:ea typeface="Times New Roman"/>
              </a:rPr>
              <a:t>Главные страны-производители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ffff9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e"/>
                </a:solidFill>
                <a:latin typeface="Arial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ffff9e"/>
                </a:solidFill>
                <a:latin typeface="Arial"/>
                <a:ea typeface="Times New Roman"/>
              </a:rPr>
              <a:t>Главные районы и центры производства; факторы, обусловившие размещение отрасли именно в этих районах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ffff9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e"/>
                </a:solidFill>
                <a:latin typeface="Arial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ffff9e"/>
                </a:solidFill>
                <a:latin typeface="Arial"/>
                <a:ea typeface="Times New Roman"/>
              </a:rPr>
              <a:t>Природоохранные и экологические проблемы, возникающие в связи с развитием отрасли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ffff9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e"/>
                </a:solidFill>
                <a:latin typeface="Arial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ffff9e"/>
                </a:solidFill>
                <a:latin typeface="Arial"/>
                <a:ea typeface="Times New Roman"/>
              </a:rPr>
              <a:t>Главные страны (районы) экспорта продукции.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ffff9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e"/>
                </a:solidFill>
                <a:latin typeface="Arial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ffff9e"/>
                </a:solidFill>
                <a:latin typeface="Arial"/>
                <a:ea typeface="Times New Roman"/>
              </a:rPr>
              <a:t>Главные страны (районы) импорта продукции.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ffff9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e"/>
                </a:solidFill>
                <a:latin typeface="Arial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ffff9e"/>
                </a:solidFill>
                <a:latin typeface="Arial"/>
                <a:ea typeface="Times New Roman"/>
              </a:rPr>
              <a:t>Важнейшие грузопотоки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ffff9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e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9e"/>
                </a:solidFill>
                <a:latin typeface="Arial"/>
                <a:ea typeface="Times New Roman"/>
              </a:rPr>
              <a:t>Перспективы развития и размещения отрасли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428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Times New Roman"/>
              </a:rPr>
              <a:t>Эволюция мирового энергетического баланса, %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0" name="Прямоугольник 7"/>
          <p:cNvSpPr/>
          <p:nvPr/>
        </p:nvSpPr>
        <p:spPr>
          <a:xfrm>
            <a:off x="1285920" y="1857240"/>
            <a:ext cx="7572240" cy="9169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e5e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ТОПЛИВНО-ЭНЕРГЕТИЧЕСКИЙ БАЛАНС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– соотношение между производством и расходом топливно-энергетических ресурсов, источников их поступления и направлений использования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1" name="Picture 1" descr="C:\Documents and Settings\Admin\Рабочий стол\Рисунок1.jpg"/>
          <p:cNvPicPr/>
          <p:nvPr/>
        </p:nvPicPr>
        <p:blipFill>
          <a:blip r:embed="rId1"/>
          <a:stretch/>
        </p:blipFill>
        <p:spPr>
          <a:xfrm>
            <a:off x="285840" y="3071880"/>
            <a:ext cx="8572320" cy="3500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1428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Times New Roman"/>
              </a:rPr>
              <a:t>Мировое потребление основных видов топлива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63" name="Схема 3" descr=""/>
          <p:cNvPicPr/>
          <p:nvPr/>
        </p:nvPicPr>
        <p:blipFill>
          <a:blip r:embed="rId1"/>
          <a:stretch/>
        </p:blipFill>
        <p:spPr>
          <a:xfrm>
            <a:off x="1158840" y="1852560"/>
            <a:ext cx="7832880" cy="229860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4"/>
          <p:cNvSpPr/>
          <p:nvPr/>
        </p:nvSpPr>
        <p:spPr>
          <a:xfrm>
            <a:off x="1357200" y="3929040"/>
            <a:ext cx="7143840" cy="119124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В настоящее время на одного жителя Земли приходится более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 т.</a:t>
            </a:r>
            <a:r>
              <a:rPr b="0" i="1" lang="ru-RU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условного топлив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и около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 тыс. кВт•ч </a:t>
            </a:r>
            <a:r>
              <a:rPr b="0" i="1" lang="ru-RU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электроэнерги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5" name="Схема 5" descr=""/>
          <p:cNvPicPr/>
          <p:nvPr/>
        </p:nvPicPr>
        <p:blipFill>
          <a:blip r:embed="rId2"/>
          <a:stretch/>
        </p:blipFill>
        <p:spPr>
          <a:xfrm>
            <a:off x="993600" y="5364000"/>
            <a:ext cx="8017200" cy="1573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14280" y="285840"/>
            <a:ext cx="7772400" cy="18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Times New Roman"/>
              </a:rPr>
              <a:t>Мировое производство основных видов топлива и энергии в 2000 году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285920" y="2500200"/>
          <a:ext cx="7643880" cy="4056120"/>
        </p:xfrm>
        <a:graphic>
          <a:graphicData uri="http://schemas.openxmlformats.org/drawingml/2006/table">
            <a:tbl>
              <a:tblPr/>
              <a:tblGrid>
                <a:gridCol w="1143000"/>
                <a:gridCol w="749160"/>
                <a:gridCol w="655560"/>
                <a:gridCol w="995400"/>
                <a:gridCol w="970200"/>
                <a:gridCol w="649080"/>
                <a:gridCol w="803520"/>
                <a:gridCol w="838080"/>
                <a:gridCol w="839880"/>
              </a:tblGrid>
              <a:tr h="328680">
                <a:tc rowSpan="2"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Производство</a:t>
                      </a:r>
                      <a:endParaRPr b="0" lang="en-US" sz="11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00ff00"/>
                    </a:solidFill>
                  </a:tcPr>
                </a:tc>
                <a:tc rowSpan="2"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Мир</a:t>
                      </a:r>
                      <a:endParaRPr b="0" lang="en-US" sz="11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00ff00"/>
                    </a:solidFill>
                  </a:tcPr>
                </a:tc>
                <a:tc gridSpan="7"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1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00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СНГ</a:t>
                      </a:r>
                      <a:endParaRPr b="0" lang="en-US" sz="11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Зарубежная Европа</a:t>
                      </a:r>
                      <a:endParaRPr b="0" lang="en-US" sz="11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Зарубежная Азия</a:t>
                      </a:r>
                      <a:endParaRPr b="0" lang="en-US" sz="11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Африка</a:t>
                      </a:r>
                      <a:endParaRPr b="0" lang="en-US" sz="11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Северная Америка</a:t>
                      </a:r>
                      <a:endParaRPr b="0" lang="en-US" sz="11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Латинская Америка</a:t>
                      </a:r>
                      <a:endParaRPr b="0" lang="en-US" sz="11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Австралия и Океания</a:t>
                      </a:r>
                      <a:endParaRPr b="0" lang="en-US" sz="11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723960"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фть,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лн. т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ffeb99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9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efe7e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5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efe7e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efe7e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55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efe7e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5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efe7e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efe7e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efe7e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efe7ef"/>
                    </a:solidFill>
                  </a:tcPr>
                </a:tc>
              </a:tr>
              <a:tr h="725400"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/газ,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лрд. м³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ffeb99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2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efe7e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efe7e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5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efe7e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efe7e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efe7e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5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efe7e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efe7e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efe7ef"/>
                    </a:solidFill>
                  </a:tcPr>
                </a:tc>
              </a:tr>
              <a:tr h="723960"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голь,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лн. т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ffeb99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5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efe7e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efe7e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efe7e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7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efe7e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efe7e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efe7e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efe7e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efe7ef"/>
                    </a:solidFill>
                  </a:tcPr>
                </a:tc>
              </a:tr>
              <a:tr h="1097640"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л. энергия, млрд. кВт•ч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ffeb99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58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efe7e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45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efe7e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5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efe7e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75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efe7e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efe7e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5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efe7e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efe7e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efe7ef"/>
                    </a:solidFill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1428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Times New Roman"/>
              </a:rPr>
              <a:t>Душевое потребление первичных энергоресурсов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357200" y="1643040"/>
          <a:ext cx="7431120" cy="4888080"/>
        </p:xfrm>
        <a:graphic>
          <a:graphicData uri="http://schemas.openxmlformats.org/drawingml/2006/table">
            <a:tbl>
              <a:tblPr/>
              <a:tblGrid>
                <a:gridCol w="2055960"/>
                <a:gridCol w="1515960"/>
                <a:gridCol w="2071800"/>
                <a:gridCol w="1787400"/>
              </a:tblGrid>
              <a:tr h="7412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аны 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требление, кг у. т. в год 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аны 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требление, 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г у. т. в год 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289080">
                <a:tc gridSpan="2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Очень высокий уровень (&gt;5000 кг) 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daa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вия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daae"/>
                    </a:solidFill>
                  </a:tcPr>
                </a:tc>
              </a:tr>
              <a:tr h="2620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 50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daae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аиланд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5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daae"/>
                    </a:solidFill>
                  </a:tcPr>
                </a:tc>
              </a:tr>
              <a:tr h="26352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нада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 20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daae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разилия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daae"/>
                    </a:solidFill>
                  </a:tcPr>
                </a:tc>
              </a:tr>
              <a:tr h="27612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АЭ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 50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daae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тай 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daae"/>
                    </a:solidFill>
                  </a:tcPr>
                </a:tc>
              </a:tr>
              <a:tr h="30312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стралия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0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daae"/>
                    </a:solidFill>
                  </a:tcPr>
                </a:tc>
                <a:tc gridSpan="2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Низкий уровень (100 – 1000 кг) 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daa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2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удовская Аравия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0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daae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гипет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daae"/>
                    </a:solidFill>
                  </a:tcPr>
                </a:tc>
              </a:tr>
              <a:tr h="26352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ермания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0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daae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урция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daae"/>
                    </a:solidFill>
                  </a:tcPr>
                </a:tc>
              </a:tr>
              <a:tr h="26352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я 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0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daae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я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daae"/>
                    </a:solidFill>
                  </a:tcPr>
                </a:tc>
              </a:tr>
              <a:tr h="263520">
                <a:tc gridSpan="2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Высокий уровень (2500 – 5000 кг) 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daa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кистан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daae"/>
                    </a:solidFill>
                  </a:tcPr>
                </a:tc>
              </a:tr>
              <a:tr h="2890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спублика Корея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0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daae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ана 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daae"/>
                    </a:solidFill>
                  </a:tcPr>
                </a:tc>
              </a:tr>
              <a:tr h="34272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вейцария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0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daae"/>
                    </a:solidFill>
                  </a:tcPr>
                </a:tc>
                <a:tc gridSpan="2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Очень низкий уровень (менее 100 кг)  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daa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2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ьша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0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daae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мали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daae"/>
                    </a:solidFill>
                  </a:tcPr>
                </a:tc>
              </a:tr>
              <a:tr h="26352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пания 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0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daae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анзания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daae"/>
                    </a:solidFill>
                  </a:tcPr>
                </a:tc>
              </a:tr>
              <a:tr h="263520">
                <a:tc gridSpan="2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Средний уровень (1000 – 2500 кг) 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daa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 Конго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daae"/>
                    </a:solidFill>
                  </a:tcPr>
                </a:tc>
              </a:tr>
              <a:tr h="276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ргентина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0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daae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д 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daae"/>
                    </a:solidFill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85520" y="35676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Times New Roman"/>
              </a:rPr>
              <a:t>Запасы мировых энергоресурсов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214280" y="1571760"/>
            <a:ext cx="4572000" cy="5000400"/>
          </a:xfrm>
          <a:prstGeom prst="rect">
            <a:avLst/>
          </a:prstGeom>
          <a:noFill/>
          <a:ln w="9360">
            <a:solidFill>
              <a:srgbClr val="e5e5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Общегеологические запасы минерального топлива – 14 млрд. тонн, их должно хватить на 1000 лет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Полный гидроэнергетический потенциал рек Земли составляет около 33 трлн. кВт•ч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Запасы тория и урана содержат значительно больше тепловой энергии, чем все известные ныне ресурсы минерального топлива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2" name="Picture 12" descr="Известняковый карьер"/>
          <p:cNvPicPr/>
          <p:nvPr/>
        </p:nvPicPr>
        <p:blipFill>
          <a:blip r:embed="rId1"/>
          <a:stretch/>
        </p:blipFill>
        <p:spPr>
          <a:xfrm>
            <a:off x="5857920" y="2000160"/>
            <a:ext cx="3166920" cy="3714840"/>
          </a:xfrm>
          <a:prstGeom prst="rect">
            <a:avLst/>
          </a:prstGeom>
          <a:ln w="9360">
            <a:solidFill>
              <a:srgbClr val="555555"/>
            </a:solidFill>
            <a:miter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Times New Roman"/>
              </a:rPr>
              <a:t>Состояние мировых энергоресурсов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404960" y="1856880"/>
            <a:ext cx="47386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При современном уровне техники мы в состоянии извлечь из недр Земли лишь 30% имеющихся энергетических ресурсов;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Из запасов уранового сырья сравнительно небольшая их часть имеет такую концентрацию, которая делает рентабельным его извлечение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Во многих старых индустриальных районах ухудшаются горно-геологические условия эксплуатации месторождений (отдельные шахты до 3000 – 35000 м глубин; нефть добывается с глубины от 2 до 5 км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5" name="Picture 10" descr="Буровая платформа для добычи нефти"/>
          <p:cNvPicPr/>
          <p:nvPr/>
        </p:nvPicPr>
        <p:blipFill>
          <a:blip r:embed="rId1"/>
          <a:stretch/>
        </p:blipFill>
        <p:spPr>
          <a:xfrm>
            <a:off x="1214280" y="4286160"/>
            <a:ext cx="3143520" cy="2095560"/>
          </a:xfrm>
          <a:prstGeom prst="rect">
            <a:avLst/>
          </a:prstGeom>
          <a:ln w="9360">
            <a:solidFill>
              <a:srgbClr val="555555"/>
            </a:solidFill>
            <a:miter/>
          </a:ln>
        </p:spPr>
      </p:pic>
      <p:pic>
        <p:nvPicPr>
          <p:cNvPr id="176" name="Picture 11" descr="Открытый способ добычи"/>
          <p:cNvPicPr/>
          <p:nvPr/>
        </p:nvPicPr>
        <p:blipFill>
          <a:blip r:embed="rId2"/>
          <a:stretch/>
        </p:blipFill>
        <p:spPr>
          <a:xfrm>
            <a:off x="1214280" y="2000160"/>
            <a:ext cx="3159360" cy="2135160"/>
          </a:xfrm>
          <a:prstGeom prst="rect">
            <a:avLst/>
          </a:prstGeom>
          <a:ln w="9360">
            <a:solidFill>
              <a:srgbClr val="555555"/>
            </a:solidFill>
            <a:miter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13:08:27Z</dcterms:created>
  <dc:creator>starostina</dc:creator>
  <dc:description/>
  <cp:keywords/>
  <dc:language>en-US</dc:language>
  <cp:lastModifiedBy>starostina</cp:lastModifiedBy>
  <dcterms:modified xsi:type="dcterms:W3CDTF">2010-05-06T06:21:59Z</dcterms:modified>
  <cp:revision>5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21e000000000001024140</vt:lpwstr>
  </property>
  <property fmtid="{D5CDD505-2E9C-101B-9397-08002B2CF9AE}" pid="3" name="_TemplateID">
    <vt:lpwstr>TC010690191049</vt:lpwstr>
  </property>
</Properties>
</file>