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3.gif" ContentType="image/gif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1E36-2431-4D43-8CE5-7F375042FA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1B3C-4747-4214-979C-FBD09513AD75}" type="slidenum"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465-9798-46E0-8307-CC46CAB6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E17-61CA-4EFB-B032-41E46A47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ABC-205E-4F1E-8B85-190A966F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539-9FC6-46CF-892B-7CD8AA9C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D776-9225-49C2-B673-D6C6E130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6A5A-46E9-4395-9231-E4E442FF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21A7-0BF8-428D-9C31-1AB2E1C6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52F8-C01A-45EC-814B-69D9E39C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D006-943C-4AD0-898C-210A7A23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8372-81AA-44F4-B0EB-0E7D18A5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ED4A-5285-4795-AF10-30FE1EF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EBD-D411-46DA-AC52-4EB57044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ECE1-7995-4D45-8664-B12AC816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C6BB-6AE7-4C4D-8152-1F7E8D4A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F61E-70F1-4228-9612-3C0E1BD4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A1A7-35CC-413F-9F8B-A37C8F60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494D-6FA6-47F7-B70F-FC66DB55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D49-2B1D-450B-94D5-DFF0B41C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3AF-8A3E-48F3-A3B3-CF5E2F7B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CF5-864E-435C-AD9D-2A89A430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026-EE62-4944-ABAF-4E02DDF7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A66-C72B-4C0D-9053-6B44350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5DE-963F-4B7A-9596-E4319D62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D36-A6EE-4708-A668-F7307CD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2520" y="25776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5480" y="42912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1800" y="149940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1800" y="400608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1800" y="275040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2520" y="525204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4381-F60D-4CBE-99A2-1852584110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prstGeom prst="pi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prstGeom prst="pi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prstGeom prst="pie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DD39-9B58-48E3-80DF-CC73E34CA911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51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52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340000" y="69228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Топливная промышленность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Схема 2" descr=""/>
          <p:cNvPicPr/>
          <p:nvPr/>
        </p:nvPicPr>
        <p:blipFill>
          <a:blip r:embed="rId1"/>
          <a:stretch/>
        </p:blipFill>
        <p:spPr>
          <a:xfrm>
            <a:off x="1407960" y="1706400"/>
            <a:ext cx="7132680" cy="4658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Добыча золота в шахте"/>
          <p:cNvPicPr/>
          <p:nvPr/>
        </p:nvPicPr>
        <p:blipFill>
          <a:blip r:embed="rId2"/>
          <a:stretch/>
        </p:blipFill>
        <p:spPr>
          <a:xfrm>
            <a:off x="4929120" y="1214280"/>
            <a:ext cx="2500560" cy="18576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80" name="Picture 10" descr="Добыча нефти в море"/>
          <p:cNvPicPr/>
          <p:nvPr/>
        </p:nvPicPr>
        <p:blipFill>
          <a:blip r:embed="rId3"/>
          <a:stretch/>
        </p:blipFill>
        <p:spPr>
          <a:xfrm>
            <a:off x="6357960" y="3214800"/>
            <a:ext cx="2457360" cy="17143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81" name="Picture 10" descr="poi16"/>
          <p:cNvPicPr/>
          <p:nvPr/>
        </p:nvPicPr>
        <p:blipFill>
          <a:blip r:embed="rId4"/>
          <a:stretch/>
        </p:blipFill>
        <p:spPr>
          <a:xfrm>
            <a:off x="5000760" y="5072040"/>
            <a:ext cx="2344680" cy="16160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Угольная промышленность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0" y="2000160"/>
          <a:ext cx="4191120" cy="448488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731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ыча,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лн. тон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А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Д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краина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84" name="Picture 10" descr="wer2"/>
          <p:cNvPicPr/>
          <p:nvPr/>
        </p:nvPicPr>
        <p:blipFill>
          <a:blip r:embed="rId11"/>
          <a:stretch/>
        </p:blipFill>
        <p:spPr>
          <a:xfrm>
            <a:off x="237960" y="2571840"/>
            <a:ext cx="4096080" cy="3071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Рабочий стол\Рисунок4.jpg"/>
          <p:cNvPicPr/>
          <p:nvPr/>
        </p:nvPicPr>
        <p:blipFill>
          <a:blip r:embed="rId1"/>
          <a:stretch/>
        </p:blipFill>
        <p:spPr>
          <a:xfrm>
            <a:off x="857160" y="1384200"/>
            <a:ext cx="8021880" cy="525960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Нефтяная промышленность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1857240"/>
          <a:ext cx="4214880" cy="4859640"/>
        </p:xfrm>
        <a:graphic>
          <a:graphicData uri="http://schemas.openxmlformats.org/drawingml/2006/table">
            <a:tbl>
              <a:tblPr/>
              <a:tblGrid>
                <a:gridCol w="2928960"/>
                <a:gridCol w="1285920"/>
              </a:tblGrid>
              <a:tr h="731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ыча,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лн. т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довская Арав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ксик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суэла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89" name="Picture 10" descr="Добыча нефти"/>
          <p:cNvPicPr/>
          <p:nvPr/>
        </p:nvPicPr>
        <p:blipFill>
          <a:blip r:embed="rId12"/>
          <a:stretch/>
        </p:blipFill>
        <p:spPr>
          <a:xfrm>
            <a:off x="1357200" y="2357280"/>
            <a:ext cx="3059280" cy="229392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pic>
        <p:nvPicPr>
          <p:cNvPr id="190" name="Picture 11" descr="Добыча нефти (сл"/>
          <p:cNvPicPr/>
          <p:nvPr/>
        </p:nvPicPr>
        <p:blipFill>
          <a:blip r:embed="rId13"/>
          <a:stretch/>
        </p:blipFill>
        <p:spPr>
          <a:xfrm>
            <a:off x="285840" y="4500720"/>
            <a:ext cx="2868480" cy="215100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sp>
        <p:nvSpPr>
          <p:cNvPr id="191" name="Прямоугольник 9"/>
          <p:cNvSpPr/>
          <p:nvPr/>
        </p:nvSpPr>
        <p:spPr>
          <a:xfrm>
            <a:off x="0" y="1714680"/>
            <a:ext cx="4714920" cy="946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cc"/>
                </a:solidFill>
                <a:uFillTx/>
                <a:latin typeface="Times New Roman"/>
              </a:rPr>
              <a:t>ОПЕК – организация стран-экспортеров нефти (2007г.): 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Алжир, Ангола, Венесуэла, Индонезия, Иран, Ирак, Катар, Кувейт, Ливия, Нигерия, ОАЭ, Саудовская Аравия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3" name="Picture 3" descr="C:\Documents and Settings\Admin\Рабочий стол\Рисунок2.jpg"/>
          <p:cNvPicPr/>
          <p:nvPr/>
        </p:nvPicPr>
        <p:blipFill>
          <a:blip r:embed="rId1"/>
          <a:stretch/>
        </p:blipFill>
        <p:spPr>
          <a:xfrm>
            <a:off x="928800" y="1357200"/>
            <a:ext cx="7929360" cy="519444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Газовая промышленность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0" y="1857240"/>
          <a:ext cx="4191120" cy="4859640"/>
        </p:xfrm>
        <a:graphic>
          <a:graphicData uri="http://schemas.openxmlformats.org/drawingml/2006/table">
            <a:tbl>
              <a:tblPr/>
              <a:tblGrid>
                <a:gridCol w="2583000"/>
                <a:gridCol w="1608120"/>
              </a:tblGrid>
              <a:tr h="73188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быча,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лрд. м³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жи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дерланды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ан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бекиста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д. Арав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11" descr="Нефтеперерабатывающий завод"/>
          <p:cNvPicPr/>
          <p:nvPr/>
        </p:nvPicPr>
        <p:blipFill>
          <a:blip r:embed="rId12"/>
          <a:stretch/>
        </p:blipFill>
        <p:spPr>
          <a:xfrm>
            <a:off x="285840" y="2500200"/>
            <a:ext cx="4127400" cy="314352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8" name="Picture 2" descr="C:\Documents and Settings\Admin\Рабочий стол\Рисунок3.jpg"/>
          <p:cNvPicPr/>
          <p:nvPr/>
        </p:nvPicPr>
        <p:blipFill>
          <a:blip r:embed="rId1"/>
          <a:stretch/>
        </p:blipFill>
        <p:spPr>
          <a:xfrm>
            <a:off x="642960" y="1285920"/>
            <a:ext cx="8318520" cy="535788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4280" y="49968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00"/>
                </a:solidFill>
                <a:latin typeface="Times New Roman"/>
              </a:rPr>
              <a:t>Динамика электроэнергетик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0" name="Схема 6" descr=""/>
          <p:cNvPicPr/>
          <p:nvPr/>
        </p:nvPicPr>
        <p:blipFill>
          <a:blip r:embed="rId1"/>
          <a:stretch/>
        </p:blipFill>
        <p:spPr>
          <a:xfrm>
            <a:off x="1158840" y="4638600"/>
            <a:ext cx="7790040" cy="186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vet5"/>
          <p:cNvPicPr/>
          <p:nvPr/>
        </p:nvPicPr>
        <p:blipFill>
          <a:blip r:embed="rId2"/>
          <a:stretch/>
        </p:blipFill>
        <p:spPr>
          <a:xfrm>
            <a:off x="5786280" y="1500120"/>
            <a:ext cx="2702160" cy="202572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  <p:pic>
        <p:nvPicPr>
          <p:cNvPr id="202" name="Picture 11" descr="Солнечная электростанция"/>
          <p:cNvPicPr/>
          <p:nvPr/>
        </p:nvPicPr>
        <p:blipFill>
          <a:blip r:embed="rId3"/>
          <a:stretch/>
        </p:blipFill>
        <p:spPr>
          <a:xfrm>
            <a:off x="3143160" y="2535120"/>
            <a:ext cx="2714760" cy="2036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  <p:pic>
        <p:nvPicPr>
          <p:cNvPr id="203" name="Picture 12" descr="Добыча каменного угля"/>
          <p:cNvPicPr/>
          <p:nvPr/>
        </p:nvPicPr>
        <p:blipFill>
          <a:blip r:embed="rId4"/>
          <a:stretch/>
        </p:blipFill>
        <p:spPr>
          <a:xfrm>
            <a:off x="1143000" y="1428840"/>
            <a:ext cx="2500200" cy="1874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5600" y="42840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Электроэнергетика: страны-лидер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5" name="Picture 12" descr="res5"/>
          <p:cNvPicPr/>
          <p:nvPr/>
        </p:nvPicPr>
        <p:blipFill>
          <a:blip r:embed="rId1"/>
          <a:stretch/>
        </p:blipFill>
        <p:spPr>
          <a:xfrm>
            <a:off x="214200" y="2786040"/>
            <a:ext cx="3429000" cy="278604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  <p:graphicFrame>
        <p:nvGraphicFramePr>
          <p:cNvPr id="206" name=""/>
          <p:cNvGraphicFramePr/>
          <p:nvPr/>
        </p:nvGraphicFramePr>
        <p:xfrm>
          <a:off x="3929040" y="1928880"/>
          <a:ext cx="5000760" cy="4727520"/>
        </p:xfrm>
        <a:graphic>
          <a:graphicData uri="http://schemas.openxmlformats.org/drawingml/2006/table">
            <a:tbl>
              <a:tblPr/>
              <a:tblGrid>
                <a:gridCol w="2314440"/>
                <a:gridCol w="1354320"/>
                <a:gridCol w="1332000"/>
              </a:tblGrid>
              <a:tr h="99864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Выработка, млрд. кВт•ч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На душу нас.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5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5712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ffcc"/>
                </a:solidFill>
                <a:latin typeface="Times New Roman"/>
              </a:rPr>
              <a:t>Картосхем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8" name="Picture 2" descr="C:\Documents and Settings\Admin\Рабочий стол\Рисунок5.jpg"/>
          <p:cNvPicPr/>
          <p:nvPr/>
        </p:nvPicPr>
        <p:blipFill>
          <a:blip r:embed="rId1"/>
          <a:stretch/>
        </p:blipFill>
        <p:spPr>
          <a:xfrm>
            <a:off x="928800" y="1285920"/>
            <a:ext cx="7858080" cy="531000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880" y="471456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cc00"/>
                </a:solidFill>
                <a:latin typeface="Arial Black"/>
              </a:rPr>
              <a:t>ТЭК мира</a:t>
            </a:r>
            <a:endParaRPr b="0" i="1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6" name="Picture 10" descr="Разработка рудника"/>
          <p:cNvPicPr/>
          <p:nvPr/>
        </p:nvPicPr>
        <p:blipFill>
          <a:blip r:embed="rId1"/>
          <a:stretch/>
        </p:blipFill>
        <p:spPr>
          <a:xfrm>
            <a:off x="2320920" y="1357200"/>
            <a:ext cx="4394160" cy="307188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Типы электростанций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4200" y="1143000"/>
          <a:ext cx="8786880" cy="5500800"/>
        </p:xfrm>
        <a:graphic>
          <a:graphicData uri="http://schemas.openxmlformats.org/drawingml/2006/table">
            <a:tbl>
              <a:tblPr/>
              <a:tblGrid>
                <a:gridCol w="1525680"/>
                <a:gridCol w="1960560"/>
                <a:gridCol w="2728800"/>
                <a:gridCol w="2571840"/>
              </a:tblGrid>
              <a:tr h="21348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Тип эл. станци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точник энерги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йоны размеще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Экологические последств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1336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идравлически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вод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и с большим падением и расходом вод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опление больших участков плодородных земель, подъем грунтовых вод, изменение микроклимата, изменение режима реки, заиление водоемов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11440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Теплов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сгорания топлива (мазут, газ, уголь, горючие сланцы, торф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урочены к топливным бассейнам с дальнейшей передачей электроэнергии на расстояния или в районах сосредоточения потребител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рязнение атмосферного воздуха, тепловое загрязнени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9543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том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дерное топливо (урановые руды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энергодефицитных районах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асность радиационного загрязнения в случае аварии. Необходимость утилизации радиоактивных отходов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426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илив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приливов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узких морских заливах с высокими приливам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426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етров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ветр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йонах с ветровой активность.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42660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олнеч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Солнц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открытых пространствах с ясной солнечной погодой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  <a:tr h="5720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Геотермальные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я недр Земли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йонах значительных запасов горячих (термальных) вод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начительны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8a008a"/>
                      </a:solidFill>
                    </a:lnL>
                    <a:lnR w="5760">
                      <a:solidFill>
                        <a:srgbClr val="8a008a"/>
                      </a:solidFill>
                    </a:lnR>
                    <a:lnT w="5760">
                      <a:solidFill>
                        <a:srgbClr val="8a008a"/>
                      </a:solidFill>
                    </a:lnT>
                    <a:lnB w="5760">
                      <a:solidFill>
                        <a:srgbClr val="8a008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774864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Соотношение разных типов электростанций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2" name="Содержимое 4" descr=""/>
          <p:cNvPicPr/>
          <p:nvPr/>
        </p:nvPicPr>
        <p:blipFill>
          <a:blip r:embed="rId1"/>
          <a:stretch/>
        </p:blipFill>
        <p:spPr>
          <a:xfrm>
            <a:off x="1359000" y="1914480"/>
            <a:ext cx="7804080" cy="4462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840" y="42840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Электроэнергетика: страны-лидеры по видам станций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357200" y="1928880"/>
          <a:ext cx="7548840" cy="4728960"/>
        </p:xfrm>
        <a:graphic>
          <a:graphicData uri="http://schemas.openxmlformats.org/drawingml/2006/table">
            <a:tbl>
              <a:tblPr/>
              <a:tblGrid>
                <a:gridCol w="1714680"/>
                <a:gridCol w="2720880"/>
                <a:gridCol w="3113280"/>
              </a:tblGrid>
              <a:tr h="10702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Виды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электро-станци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По общему размеру выработк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50045"/>
                          </a:solidFill>
                          <a:latin typeface="Times New Roman"/>
                        </a:rPr>
                        <a:t>По доле данного типа энергии в общем объеме выработк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</a:tr>
              <a:tr h="10976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ТЭС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, Китай, Россия, Япония, Герм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, ЮАР, Саудовская Аравия, Кувейт, ОАЭ, Алжир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</a:tr>
              <a:tr h="10976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ГЭС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, США, Бразилия, Россия, Китай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вегия, Бразилия, Киргизия, Таджикистан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</a:tr>
              <a:tr h="14634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АЭС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, Франция, Япония, ФРГ, Россия, Великобритан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ва, Франция, Бельгия, Швеци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000" marR="63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gradFill rotWithShape="0">
                      <a:gsLst>
                        <a:gs pos="0">
                          <a:srgbClr val="ffa1a4"/>
                        </a:gs>
                        <a:gs pos="100000">
                          <a:srgbClr val="ffe2e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Крупнейшие ГЭС мир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57200" y="1500120"/>
          <a:ext cx="7500960" cy="5100840"/>
        </p:xfrm>
        <a:graphic>
          <a:graphicData uri="http://schemas.openxmlformats.org/drawingml/2006/table">
            <a:tbl>
              <a:tblPr/>
              <a:tblGrid>
                <a:gridCol w="2286000"/>
                <a:gridCol w="2214720"/>
                <a:gridCol w="1500120"/>
                <a:gridCol w="1500120"/>
              </a:tblGrid>
              <a:tr h="91512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Мощность, млн. кВт · ч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ек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6102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йпу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 – Парагва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н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нд-Кули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оно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4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ри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суэл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умб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кури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 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кантинс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6501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яно-Шушен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исе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яр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исей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4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-Гранд – 2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-Гранд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чилл-Фолс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чил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3258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т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ар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  <a:tr h="6476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ь-Илимска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ара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4440" marR="64440">
                    <a:lnL w="5760">
                      <a:solidFill>
                        <a:srgbClr val="ff7c80"/>
                      </a:solidFill>
                    </a:lnL>
                    <a:lnR w="5760">
                      <a:solidFill>
                        <a:srgbClr val="ff7c80"/>
                      </a:solidFill>
                    </a:lnR>
                    <a:lnT w="5760">
                      <a:solidFill>
                        <a:srgbClr val="ff7c80"/>
                      </a:solidFill>
                    </a:lnT>
                    <a:lnB w="5760">
                      <a:solidFill>
                        <a:srgbClr val="ff7c80"/>
                      </a:solidFill>
                    </a:lnB>
                    <a:solidFill>
                      <a:srgbClr val="ffeced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9" descr="Братская ГЭС"/>
          <p:cNvPicPr/>
          <p:nvPr/>
        </p:nvPicPr>
        <p:blipFill>
          <a:blip r:embed="rId1"/>
          <a:stretch/>
        </p:blipFill>
        <p:spPr>
          <a:xfrm>
            <a:off x="142920" y="142920"/>
            <a:ext cx="1785960" cy="1359000"/>
          </a:xfrm>
          <a:prstGeom prst="rect">
            <a:avLst/>
          </a:prstGeom>
          <a:ln w="9360">
            <a:solidFill>
              <a:srgbClr val="ffff59"/>
            </a:solidFill>
            <a:miter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Крупнейшие ядерные державы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85920" y="1357200"/>
          <a:ext cx="7500960" cy="5286600"/>
        </p:xfrm>
        <a:graphic>
          <a:graphicData uri="http://schemas.openxmlformats.org/drawingml/2006/table">
            <a:tbl>
              <a:tblPr/>
              <a:tblGrid>
                <a:gridCol w="1481040"/>
                <a:gridCol w="1744560"/>
                <a:gridCol w="2041560"/>
                <a:gridCol w="2233800"/>
              </a:tblGrid>
              <a:tr h="480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исло действующих реакторов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щность, млн. кВт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всей производимой электроэнергии в стране, 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2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7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4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9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Украина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4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3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4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Республ. Корея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4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5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Тайвань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Швейцар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9,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3,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41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  <a:tr h="239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ловаки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30303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Альтернативные </a:t>
            </a:r>
            <a:br>
              <a:rPr sz="4400"/>
            </a:br>
            <a:r>
              <a:rPr b="0" i="1" lang="ru-RU" sz="4400" spc="-1" strike="noStrike">
                <a:solidFill>
                  <a:srgbClr val="00ff00"/>
                </a:solidFill>
                <a:latin typeface="Times New Roman"/>
              </a:rPr>
              <a:t>источники энерги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357200" y="2428920"/>
          <a:ext cx="7572600" cy="3597120"/>
        </p:xfrm>
        <a:graphic>
          <a:graphicData uri="http://schemas.openxmlformats.org/drawingml/2006/table">
            <a:tbl>
              <a:tblPr/>
              <a:tblGrid>
                <a:gridCol w="1928880"/>
                <a:gridCol w="2201760"/>
                <a:gridCol w="1227240"/>
                <a:gridCol w="221472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ГеоТЭС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ПЭС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СЭС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ВЭУ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008a"/>
                    </a:solidFill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траны Центральной Америки, Филиппины, Исландия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Франция, Великобритания, Канада, Россия, Индия, Китай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0 стран мира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Западная Европ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: Дания, Германия, Великобритания, Нидерланды;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ША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алифорния;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Зарубежная Азия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дия, Китай.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dac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9" descr="Ветряной водяной насос"/>
          <p:cNvPicPr/>
          <p:nvPr/>
        </p:nvPicPr>
        <p:blipFill>
          <a:blip r:embed="rId1"/>
          <a:stretch/>
        </p:blipFill>
        <p:spPr>
          <a:xfrm>
            <a:off x="285840" y="142920"/>
            <a:ext cx="2786040" cy="211932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pic>
        <p:nvPicPr>
          <p:cNvPr id="223" name="Picture 12" descr="Ветряки в горах США"/>
          <p:cNvPicPr/>
          <p:nvPr/>
        </p:nvPicPr>
        <p:blipFill>
          <a:blip r:embed="rId2"/>
          <a:stretch/>
        </p:blipFill>
        <p:spPr>
          <a:xfrm>
            <a:off x="3429000" y="4572000"/>
            <a:ext cx="2857680" cy="2176560"/>
          </a:xfrm>
          <a:prstGeom prst="rect">
            <a:avLst/>
          </a:prstGeom>
          <a:ln w="9360">
            <a:solidFill>
              <a:srgbClr val="e5e500"/>
            </a:solidFill>
            <a:miter/>
          </a:ln>
        </p:spPr>
      </p:pic>
      <p:pic>
        <p:nvPicPr>
          <p:cNvPr id="224" name="Picture 10" descr="Телекоммуникационная система"/>
          <p:cNvPicPr/>
          <p:nvPr/>
        </p:nvPicPr>
        <p:blipFill>
          <a:blip r:embed="rId3"/>
          <a:stretch/>
        </p:blipFill>
        <p:spPr>
          <a:xfrm>
            <a:off x="142920" y="4572000"/>
            <a:ext cx="2806560" cy="2135160"/>
          </a:xfrm>
          <a:prstGeom prst="rect">
            <a:avLst/>
          </a:prstGeom>
          <a:ln w="9360">
            <a:solidFill>
              <a:srgbClr val="7373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500040"/>
            <a:ext cx="777240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лан характеристики отрасли мирового хозяйств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214280" y="2018880"/>
            <a:ext cx="7715520" cy="4362840"/>
          </a:xfrm>
          <a:prstGeom prst="rect">
            <a:avLst/>
          </a:prstGeom>
          <a:noFill/>
          <a:ln w="9360">
            <a:solidFill>
              <a:srgbClr val="e5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buClr>
                <a:srgbClr val="ffff9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Значение отрасли в мировом хозяйстве, ее отраслевой   состав, влияние НТР на ее развити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Сырьевые и топливные ресурсы отрасли и их размещени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Размеры производства продукции с распределением по главным географическим регионам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страны-производител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районы и центры производства; факторы, обусловившие размещение отрасли именно в этих районах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Природоохранные и экологические проблемы, возникающие в связи с развитием отрасл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страны (районы) экспорта продукции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Главные страны (районы) импорта продукции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Важнейшие грузопоток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9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9e"/>
                </a:solidFill>
                <a:latin typeface="Arial"/>
                <a:ea typeface="Times New Roman"/>
              </a:rPr>
              <a:t>Перспективы развития и размещения отрасли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Эволюция мирового энергетического баланса, %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1285920" y="1857240"/>
            <a:ext cx="7572240" cy="916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e5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ОПЛИВНО-ЭНЕРГЕТИЧЕСКИЙ БАЛАНС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соотношение между производством и расходом топливно-энергетических ресурсов, источников их поступления и направлений использовани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285840" y="3071880"/>
            <a:ext cx="8572320" cy="350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Мировое потребление основных видов топлив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3" name="Схема 3" descr=""/>
          <p:cNvPicPr/>
          <p:nvPr/>
        </p:nvPicPr>
        <p:blipFill>
          <a:blip r:embed="rId1"/>
          <a:stretch/>
        </p:blipFill>
        <p:spPr>
          <a:xfrm>
            <a:off x="1158840" y="1852560"/>
            <a:ext cx="7832880" cy="22986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4"/>
          <p:cNvSpPr/>
          <p:nvPr/>
        </p:nvSpPr>
        <p:spPr>
          <a:xfrm>
            <a:off x="1357200" y="3929040"/>
            <a:ext cx="7143840" cy="1191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 настоящее время на одного жителя Земли приходится боле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т.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условного топли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и около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тыс. кВт•ч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электроэнерги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Схема 5" descr=""/>
          <p:cNvPicPr/>
          <p:nvPr/>
        </p:nvPicPr>
        <p:blipFill>
          <a:blip r:embed="rId2"/>
          <a:stretch/>
        </p:blipFill>
        <p:spPr>
          <a:xfrm>
            <a:off x="993600" y="5364000"/>
            <a:ext cx="801720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Мировое производство основных видов топлива и энергии в 2000 году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85920" y="2500200"/>
          <a:ext cx="7643880" cy="4056120"/>
        </p:xfrm>
        <a:graphic>
          <a:graphicData uri="http://schemas.openxmlformats.org/drawingml/2006/table">
            <a:tbl>
              <a:tblPr/>
              <a:tblGrid>
                <a:gridCol w="1143000"/>
                <a:gridCol w="749160"/>
                <a:gridCol w="655560"/>
                <a:gridCol w="995400"/>
                <a:gridCol w="970200"/>
                <a:gridCol w="649080"/>
                <a:gridCol w="803520"/>
                <a:gridCol w="838080"/>
                <a:gridCol w="839880"/>
              </a:tblGrid>
              <a:tr h="328680">
                <a:tc rowSpan="2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роизводство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 rowSpan="2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Мир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 gridSpan="7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НГ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Зарубежная Европ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Зарубежная Азия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Африк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еверная Америк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Латинская Америка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Австралия и Океания</a:t>
                      </a:r>
                      <a:endParaRPr b="0" lang="en-US" sz="11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23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ть,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  <a:tr h="72540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/газ,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рд. м³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  <a:tr h="7239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оль,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т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  <a:tr h="10976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. энергия, млрд. кВт•ч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eb9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8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7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61920" marR="6192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efe7ef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Душевое потребление первичных энергоресурс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57200" y="1643040"/>
          <a:ext cx="7431120" cy="4888080"/>
        </p:xfrm>
        <a:graphic>
          <a:graphicData uri="http://schemas.openxmlformats.org/drawingml/2006/table">
            <a:tbl>
              <a:tblPr/>
              <a:tblGrid>
                <a:gridCol w="2055960"/>
                <a:gridCol w="1515960"/>
                <a:gridCol w="2071800"/>
                <a:gridCol w="1787400"/>
              </a:tblGrid>
              <a:tr h="7412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ление, кг у. т. в год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ы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ление,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 у. т. в год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8908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чень высокий уровень (&gt;50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в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2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 5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иланд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 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АЭ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 5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Низкий уровень (100 – 10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довская Арав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гипет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ц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Высокий уровень (2500 – 50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890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публика Коре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на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цар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чень низкий уровень (менее 100 кг)  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ш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ли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ания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зания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63520">
                <a:tc gridSpan="2"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редний уровень (1000 – 2500 кг)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  <a:tr h="276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гентина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0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ae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Запасы мировых энергоресурс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4280" y="1571760"/>
            <a:ext cx="4572000" cy="5000400"/>
          </a:xfrm>
          <a:prstGeom prst="rect">
            <a:avLst/>
          </a:prstGeom>
          <a:noFill/>
          <a:ln w="9360">
            <a:solidFill>
              <a:srgbClr val="e5e5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бщегеологические запасы минерального топлива – 14 млрд. тонн, их должно хватить на 1000 лет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олный гидроэнергетический потенциал рек Земли составляет около 33 трлн. кВт•ч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апасы тория и урана содержат значительно больше тепловой энергии, чем все известные ныне ресурсы минерального топлив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12" descr="Известняковый карьер"/>
          <p:cNvPicPr/>
          <p:nvPr/>
        </p:nvPicPr>
        <p:blipFill>
          <a:blip r:embed="rId1"/>
          <a:stretch/>
        </p:blipFill>
        <p:spPr>
          <a:xfrm>
            <a:off x="5857920" y="2000160"/>
            <a:ext cx="3166920" cy="3714840"/>
          </a:xfrm>
          <a:prstGeom prst="rect">
            <a:avLst/>
          </a:prstGeom>
          <a:ln w="9360">
            <a:solidFill>
              <a:srgbClr val="555555"/>
            </a:solidFill>
            <a:miter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Состояние мировых энергоресурс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404960" y="1856880"/>
            <a:ext cx="4738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ри современном уровне техники мы в состоянии извлечь из недр Земли лишь 30% имеющихся энергетических ресурсов;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Из запасов уранового сырья сравнительно небольшая их часть имеет такую концентрацию, которая делает рентабельным его извлечение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о многих старых индустриальных районах ухудшаются горно-геологические условия эксплуатации месторождений (отдельные шахты до 3000 – 35000 м глубин; нефть добывается с глубины от 2 до 5 км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10" descr="Буровая платформа для добычи нефти"/>
          <p:cNvPicPr/>
          <p:nvPr/>
        </p:nvPicPr>
        <p:blipFill>
          <a:blip r:embed="rId1"/>
          <a:stretch/>
        </p:blipFill>
        <p:spPr>
          <a:xfrm>
            <a:off x="1214280" y="4286160"/>
            <a:ext cx="3143520" cy="2095560"/>
          </a:xfrm>
          <a:prstGeom prst="rect">
            <a:avLst/>
          </a:prstGeom>
          <a:ln w="9360">
            <a:solidFill>
              <a:srgbClr val="555555"/>
            </a:solidFill>
            <a:miter/>
          </a:ln>
        </p:spPr>
      </p:pic>
      <p:pic>
        <p:nvPicPr>
          <p:cNvPr id="176" name="Picture 11" descr="Открытый способ добычи"/>
          <p:cNvPicPr/>
          <p:nvPr/>
        </p:nvPicPr>
        <p:blipFill>
          <a:blip r:embed="rId2"/>
          <a:stretch/>
        </p:blipFill>
        <p:spPr>
          <a:xfrm>
            <a:off x="1214280" y="2000160"/>
            <a:ext cx="3159360" cy="2135160"/>
          </a:xfrm>
          <a:prstGeom prst="rect">
            <a:avLst/>
          </a:prstGeom>
          <a:ln w="9360">
            <a:solidFill>
              <a:srgbClr val="555555"/>
            </a:solidFill>
            <a:miter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27Z</dcterms:created>
  <dc:creator>starostina</dc:creator>
  <dc:description/>
  <cp:keywords/>
  <dc:language>en-US</dc:language>
  <cp:lastModifiedBy>starostina</cp:lastModifiedBy>
  <dcterms:modified xsi:type="dcterms:W3CDTF">2010-05-06T06:21:59Z</dcterms:modified>
  <cp:revision>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e000000000001024140</vt:lpwstr>
  </property>
  <property fmtid="{D5CDD505-2E9C-101B-9397-08002B2CF9AE}" pid="3" name="_TemplateID">
    <vt:lpwstr>TC010690191049</vt:lpwstr>
  </property>
</Properties>
</file>