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3.gif" ContentType="image/gif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035-EE0B-48D9-BF07-BAC878F76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8D88-9E1B-41A8-A680-44B2FF50300D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105-A445-4423-8C69-54211A24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DBA-7E4B-43A2-8ADC-F01C05A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39F-41C7-42B9-BFF1-49EB2BC7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2A6-A7B9-48B7-B899-3EEE3C4D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83F-DE96-4651-8596-4C8552BB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7E86-EB00-492B-A95B-05C295DE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292-2D99-499B-96F4-10A8DA94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7B3D-7988-4F2B-9315-73CFBF8A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CE8F-79C9-40B4-BBBD-0B56FE54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0183-866F-407E-9673-11CF385F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EF98-3B17-4DB0-A650-722539B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743-08F6-4B0E-A26E-FBEDC30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20D4-DFB5-4663-ADD0-7E3E6A4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603-13B7-43E5-B720-14C024E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8C46-449C-43B5-9A91-DC5500F6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F564-DA21-4687-9ABA-EBE79B89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6FA-5308-46C3-AE4A-37D9B297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533-B55F-491A-9DC9-23C39C6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FC0-7F46-4DF2-AE7E-D29C646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035-5931-40E6-9E67-DE217A6F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3C2-5807-4C1C-9E46-26CBE88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9AB-BF06-4BE0-A49F-21E2A532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64C-3835-4805-AD42-0636523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74F-ADD6-473C-AA12-A4CE1BE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56A-00DD-4EA5-8FD9-8342A6067F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0AC-6E8F-4F6A-BFE6-09A1C98A9A8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51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2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Топливная промышленность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Схема 2" descr=""/>
          <p:cNvPicPr/>
          <p:nvPr/>
        </p:nvPicPr>
        <p:blipFill>
          <a:blip r:embed="rId1"/>
          <a:stretch/>
        </p:blipFill>
        <p:spPr>
          <a:xfrm>
            <a:off x="1407960" y="1706400"/>
            <a:ext cx="7132680" cy="465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Добыча золота в шахте"/>
          <p:cNvPicPr/>
          <p:nvPr/>
        </p:nvPicPr>
        <p:blipFill>
          <a:blip r:embed="rId2"/>
          <a:stretch/>
        </p:blipFill>
        <p:spPr>
          <a:xfrm>
            <a:off x="4929120" y="1214280"/>
            <a:ext cx="2500560" cy="1857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0" name="Picture 10" descr="Добыча нефти в море"/>
          <p:cNvPicPr/>
          <p:nvPr/>
        </p:nvPicPr>
        <p:blipFill>
          <a:blip r:embed="rId3"/>
          <a:stretch/>
        </p:blipFill>
        <p:spPr>
          <a:xfrm>
            <a:off x="6357960" y="3214800"/>
            <a:ext cx="2457360" cy="1714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1" name="Picture 10" descr="poi16"/>
          <p:cNvPicPr/>
          <p:nvPr/>
        </p:nvPicPr>
        <p:blipFill>
          <a:blip r:embed="rId4"/>
          <a:stretch/>
        </p:blipFill>
        <p:spPr>
          <a:xfrm>
            <a:off x="5000760" y="5072040"/>
            <a:ext cx="2344680" cy="16160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Угольн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000160"/>
          <a:ext cx="4191120" cy="448488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А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Д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аин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10" descr="wer2"/>
          <p:cNvPicPr/>
          <p:nvPr/>
        </p:nvPicPr>
        <p:blipFill>
          <a:blip r:embed="rId11"/>
          <a:stretch/>
        </p:blipFill>
        <p:spPr>
          <a:xfrm>
            <a:off x="237960" y="2571840"/>
            <a:ext cx="4096080" cy="3071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Рабочий стол\Рисунок4.jpg"/>
          <p:cNvPicPr/>
          <p:nvPr/>
        </p:nvPicPr>
        <p:blipFill>
          <a:blip r:embed="rId1"/>
          <a:stretch/>
        </p:blipFill>
        <p:spPr>
          <a:xfrm>
            <a:off x="857160" y="1384200"/>
            <a:ext cx="8021880" cy="52596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Нефтян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857240"/>
          <a:ext cx="4214880" cy="4859640"/>
        </p:xfrm>
        <a:graphic>
          <a:graphicData uri="http://schemas.openxmlformats.org/drawingml/2006/table">
            <a:tbl>
              <a:tblPr/>
              <a:tblGrid>
                <a:gridCol w="2928960"/>
                <a:gridCol w="128592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н. т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овская Арав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кс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суэл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10" descr="Добыча нефти"/>
          <p:cNvPicPr/>
          <p:nvPr/>
        </p:nvPicPr>
        <p:blipFill>
          <a:blip r:embed="rId12"/>
          <a:stretch/>
        </p:blipFill>
        <p:spPr>
          <a:xfrm>
            <a:off x="1357200" y="2357280"/>
            <a:ext cx="3059280" cy="229392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190" name="Picture 11" descr="Добыча нефти (сл"/>
          <p:cNvPicPr/>
          <p:nvPr/>
        </p:nvPicPr>
        <p:blipFill>
          <a:blip r:embed="rId13"/>
          <a:stretch/>
        </p:blipFill>
        <p:spPr>
          <a:xfrm>
            <a:off x="285840" y="4500720"/>
            <a:ext cx="2868480" cy="21510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sp>
        <p:nvSpPr>
          <p:cNvPr id="191" name="Прямоугольник 9"/>
          <p:cNvSpPr/>
          <p:nvPr/>
        </p:nvSpPr>
        <p:spPr>
          <a:xfrm>
            <a:off x="0" y="1714680"/>
            <a:ext cx="4714920" cy="946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cc"/>
                </a:solidFill>
                <a:uFillTx/>
                <a:latin typeface="Times New Roman"/>
              </a:rPr>
              <a:t>ОПЕК – организация стран-экспортеров нефти (2007г.): 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Алжир, Ангола, Венесуэла, Индонезия, Иран, Ирак, Катар, Кувейт, Ливия, Нигерия, ОАЭ, Саудовская Аравия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3" name="Picture 3" descr="C:\Documents and Settings\Admin\Рабочий стол\Рисунок2.jpg"/>
          <p:cNvPicPr/>
          <p:nvPr/>
        </p:nvPicPr>
        <p:blipFill>
          <a:blip r:embed="rId1"/>
          <a:stretch/>
        </p:blipFill>
        <p:spPr>
          <a:xfrm>
            <a:off x="928800" y="1357200"/>
            <a:ext cx="7929360" cy="519444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Газов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0" y="1857240"/>
          <a:ext cx="4191120" cy="4859640"/>
        </p:xfrm>
        <a:graphic>
          <a:graphicData uri="http://schemas.openxmlformats.org/drawingml/2006/table">
            <a:tbl>
              <a:tblPr/>
              <a:tblGrid>
                <a:gridCol w="2583000"/>
                <a:gridCol w="160812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рд. м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жи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дерланды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бекист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. Арав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1" descr="Нефтеперерабатывающий завод"/>
          <p:cNvPicPr/>
          <p:nvPr/>
        </p:nvPicPr>
        <p:blipFill>
          <a:blip r:embed="rId12"/>
          <a:stretch/>
        </p:blipFill>
        <p:spPr>
          <a:xfrm>
            <a:off x="285840" y="2500200"/>
            <a:ext cx="4127400" cy="314352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Picture 2" descr="C:\Documents and Settings\Admin\Рабочий стол\Рисунок3.jpg"/>
          <p:cNvPicPr/>
          <p:nvPr/>
        </p:nvPicPr>
        <p:blipFill>
          <a:blip r:embed="rId1"/>
          <a:stretch/>
        </p:blipFill>
        <p:spPr>
          <a:xfrm>
            <a:off x="642960" y="1285920"/>
            <a:ext cx="8318520" cy="535788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00"/>
                </a:solidFill>
                <a:latin typeface="Times New Roman"/>
              </a:rPr>
              <a:t>Динамика электроэнергетик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Схема 6" descr=""/>
          <p:cNvPicPr/>
          <p:nvPr/>
        </p:nvPicPr>
        <p:blipFill>
          <a:blip r:embed="rId1"/>
          <a:stretch/>
        </p:blipFill>
        <p:spPr>
          <a:xfrm>
            <a:off x="1158840" y="4638600"/>
            <a:ext cx="7790040" cy="186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vet5"/>
          <p:cNvPicPr/>
          <p:nvPr/>
        </p:nvPicPr>
        <p:blipFill>
          <a:blip r:embed="rId2"/>
          <a:stretch/>
        </p:blipFill>
        <p:spPr>
          <a:xfrm>
            <a:off x="5786280" y="1500120"/>
            <a:ext cx="2702160" cy="202572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pic>
        <p:nvPicPr>
          <p:cNvPr id="202" name="Picture 11" descr="Солнечная электростанция"/>
          <p:cNvPicPr/>
          <p:nvPr/>
        </p:nvPicPr>
        <p:blipFill>
          <a:blip r:embed="rId3"/>
          <a:stretch/>
        </p:blipFill>
        <p:spPr>
          <a:xfrm>
            <a:off x="3143160" y="2535120"/>
            <a:ext cx="2714760" cy="2036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pic>
        <p:nvPicPr>
          <p:cNvPr id="203" name="Picture 12" descr="Добыча каменного угля"/>
          <p:cNvPicPr/>
          <p:nvPr/>
        </p:nvPicPr>
        <p:blipFill>
          <a:blip r:embed="rId4"/>
          <a:stretch/>
        </p:blipFill>
        <p:spPr>
          <a:xfrm>
            <a:off x="1143000" y="1428840"/>
            <a:ext cx="2500200" cy="1874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5600" y="42840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Электроэнергетика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5" name="Picture 12" descr="res5"/>
          <p:cNvPicPr/>
          <p:nvPr/>
        </p:nvPicPr>
        <p:blipFill>
          <a:blip r:embed="rId1"/>
          <a:stretch/>
        </p:blipFill>
        <p:spPr>
          <a:xfrm>
            <a:off x="214200" y="2786040"/>
            <a:ext cx="3429000" cy="278604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graphicFrame>
        <p:nvGraphicFramePr>
          <p:cNvPr id="206" name=""/>
          <p:cNvGraphicFramePr/>
          <p:nvPr/>
        </p:nvGraphicFramePr>
        <p:xfrm>
          <a:off x="3929040" y="1928880"/>
          <a:ext cx="5000760" cy="4727520"/>
        </p:xfrm>
        <a:graphic>
          <a:graphicData uri="http://schemas.openxmlformats.org/drawingml/2006/table">
            <a:tbl>
              <a:tblPr/>
              <a:tblGrid>
                <a:gridCol w="2314440"/>
                <a:gridCol w="1354320"/>
                <a:gridCol w="1332000"/>
              </a:tblGrid>
              <a:tr h="99864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ыработка, млрд. кВт•ч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а душу нас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5712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8" name="Picture 2" descr="C:\Documents and Settings\Admin\Рабочий стол\Рисунок5.jpg"/>
          <p:cNvPicPr/>
          <p:nvPr/>
        </p:nvPicPr>
        <p:blipFill>
          <a:blip r:embed="rId1"/>
          <a:stretch/>
        </p:blipFill>
        <p:spPr>
          <a:xfrm>
            <a:off x="928800" y="1285920"/>
            <a:ext cx="7858080" cy="53100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47145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00"/>
                </a:solidFill>
                <a:latin typeface="Arial Black"/>
              </a:rPr>
              <a:t>ТЭК мира</a:t>
            </a:r>
            <a:endParaRPr b="0" i="1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6" name="Picture 10" descr="Разработка рудника"/>
          <p:cNvPicPr/>
          <p:nvPr/>
        </p:nvPicPr>
        <p:blipFill>
          <a:blip r:embed="rId1"/>
          <a:stretch/>
        </p:blipFill>
        <p:spPr>
          <a:xfrm>
            <a:off x="2320920" y="1357200"/>
            <a:ext cx="4394160" cy="3071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Типы электро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4200" y="1143000"/>
          <a:ext cx="8786880" cy="5500800"/>
        </p:xfrm>
        <a:graphic>
          <a:graphicData uri="http://schemas.openxmlformats.org/drawingml/2006/table">
            <a:tbl>
              <a:tblPr/>
              <a:tblGrid>
                <a:gridCol w="1525680"/>
                <a:gridCol w="1960560"/>
                <a:gridCol w="2728800"/>
                <a:gridCol w="2571840"/>
              </a:tblGrid>
              <a:tr h="21348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ип эл. станци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точник энерги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йоны размеще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кологические последств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1336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идравлически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вод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и с большим падением и расходом вод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опление больших участков плодородных земель, подъем грунтовых вод, изменение микроклимата, изменение режима реки, заиление водоем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11440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еплов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сгорания топлива (мазут, газ, уголь, горючие сланцы, торф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урочены к топливным бассейнам с дальнейшей передачей электроэнергии на расстояния или в районах сосредоточения потребител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рязнение атмосферного воздуха, тепловое загрязнени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954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том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дерное топливо (урановые руды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энергодефицитных районах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асность радиационного загрязнения в случае аварии. Необходимость утилизации радиоактивных отход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илив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прилив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узких морских заливах с высокими приливам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етров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ветр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йонах с ветровой активность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6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лнеч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Солнц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ткрытых пространствах с ясной солнечной погодой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5720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еотермаль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недр Земл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йонах значительных запасов горячих (термальных) во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774864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Соотношение разных типов электро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Содержимое 4" descr=""/>
          <p:cNvPicPr/>
          <p:nvPr/>
        </p:nvPicPr>
        <p:blipFill>
          <a:blip r:embed="rId1"/>
          <a:stretch/>
        </p:blipFill>
        <p:spPr>
          <a:xfrm>
            <a:off x="1359000" y="1914480"/>
            <a:ext cx="7804080" cy="446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Электроэнергетика: страны-лидеры по видам 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357200" y="1928880"/>
          <a:ext cx="7548840" cy="4728960"/>
        </p:xfrm>
        <a:graphic>
          <a:graphicData uri="http://schemas.openxmlformats.org/drawingml/2006/table">
            <a:tbl>
              <a:tblPr/>
              <a:tblGrid>
                <a:gridCol w="1714680"/>
                <a:gridCol w="2720880"/>
                <a:gridCol w="3113280"/>
              </a:tblGrid>
              <a:tr h="10702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Виды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электро-станци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По общему размеру выработ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По доле данного типа энергии в общем объеме выработ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</a:tr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Т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Китай, Россия, Япония, 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, ЮАР, Саудовская Аравия, Кувейт, ОАЭ, Алжи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Г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, США, Бразилия, Россия, Кита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, Бразилия, Киргизия, Таджикист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  <a:tr h="14634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Франция, Япония, ФРГ, Россия, 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ва, Франция, Бельгия, Швец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Крупнейшие ГЭС мир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57200" y="1500120"/>
          <a:ext cx="7500960" cy="5100840"/>
        </p:xfrm>
        <a:graphic>
          <a:graphicData uri="http://schemas.openxmlformats.org/drawingml/2006/table">
            <a:tbl>
              <a:tblPr/>
              <a:tblGrid>
                <a:gridCol w="2286000"/>
                <a:gridCol w="2214720"/>
                <a:gridCol w="1500120"/>
                <a:gridCol w="1500120"/>
              </a:tblGrid>
              <a:tr h="91512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ощность, млн. кВт · ч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ек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610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йпу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– Парагва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д-Кули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оно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4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р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умб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кури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антинс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6501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яно-Шушен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яр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4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-Гранд – 2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-Гранд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чилл-Фолс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чил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т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ар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64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ь-Илим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ар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9" descr="Братская ГЭС"/>
          <p:cNvPicPr/>
          <p:nvPr/>
        </p:nvPicPr>
        <p:blipFill>
          <a:blip r:embed="rId1"/>
          <a:stretch/>
        </p:blipFill>
        <p:spPr>
          <a:xfrm>
            <a:off x="142920" y="142920"/>
            <a:ext cx="1785960" cy="135900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Крупнейшие ядерные держав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85920" y="1357200"/>
          <a:ext cx="7500960" cy="5286600"/>
        </p:xfrm>
        <a:graphic>
          <a:graphicData uri="http://schemas.openxmlformats.org/drawingml/2006/table">
            <a:tbl>
              <a:tblPr/>
              <a:tblGrid>
                <a:gridCol w="1481040"/>
                <a:gridCol w="1744560"/>
                <a:gridCol w="2041560"/>
                <a:gridCol w="2233800"/>
              </a:tblGrid>
              <a:tr h="480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о действующих реакторов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щность, млн. кВ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всей производимой электроэнергии в стране, 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2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7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9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Украина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4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еспубл. Корея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3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Альтернативные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источники энерги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57200" y="2428920"/>
          <a:ext cx="7572600" cy="3597120"/>
        </p:xfrm>
        <a:graphic>
          <a:graphicData uri="http://schemas.openxmlformats.org/drawingml/2006/table">
            <a:tbl>
              <a:tblPr/>
              <a:tblGrid>
                <a:gridCol w="1928880"/>
                <a:gridCol w="2201760"/>
                <a:gridCol w="1227240"/>
                <a:gridCol w="22147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ГеоТ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С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ЭУ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траны Центральной Америки, Филиппины, Исландия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ранция, Великобритания, Канада, Россия, Индия, Китай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0 стран мира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Западная 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: Дания, Германия, Великобритания, Нидерланды;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Ш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лифорния;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Зарубежная Азия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ия, Китай.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dac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9" descr="Ветряной водяной насос"/>
          <p:cNvPicPr/>
          <p:nvPr/>
        </p:nvPicPr>
        <p:blipFill>
          <a:blip r:embed="rId1"/>
          <a:stretch/>
        </p:blipFill>
        <p:spPr>
          <a:xfrm>
            <a:off x="285840" y="142920"/>
            <a:ext cx="2786040" cy="211932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223" name="Picture 12" descr="Ветряки в горах США"/>
          <p:cNvPicPr/>
          <p:nvPr/>
        </p:nvPicPr>
        <p:blipFill>
          <a:blip r:embed="rId2"/>
          <a:stretch/>
        </p:blipFill>
        <p:spPr>
          <a:xfrm>
            <a:off x="3429000" y="4572000"/>
            <a:ext cx="2857680" cy="217656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224" name="Picture 10" descr="Телекоммуникационная система"/>
          <p:cNvPicPr/>
          <p:nvPr/>
        </p:nvPicPr>
        <p:blipFill>
          <a:blip r:embed="rId3"/>
          <a:stretch/>
        </p:blipFill>
        <p:spPr>
          <a:xfrm>
            <a:off x="142920" y="4572000"/>
            <a:ext cx="2806560" cy="2135160"/>
          </a:xfrm>
          <a:prstGeom prst="rect">
            <a:avLst/>
          </a:prstGeom>
          <a:ln w="9360">
            <a:solidFill>
              <a:srgbClr val="737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лан характеристики отрасли мирового хозяйств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214280" y="2018880"/>
            <a:ext cx="7715520" cy="4362840"/>
          </a:xfrm>
          <a:prstGeom prst="rect">
            <a:avLst/>
          </a:prstGeom>
          <a:noFill/>
          <a:ln w="9360">
            <a:solidFill>
              <a:srgbClr val="e5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fff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Значение отрасли в мировом хозяйстве, ее отраслевой   состав, влияние НТР на ее развит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Сырьевые и топливные ресурсы отрасли и их размещен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Размеры производства продукции с распределением по главным географическим регионам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-производите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районы и центры производства; факторы, обусловившие размещение отрасли именно в этих районах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Природоохранные и экологические проблемы, возникающие в связи с развитием отрас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 (районы) экспорта продукц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 (районы) импорта продукц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Важнейшие грузопоток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Перспективы развития и размещения отрас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Эволюция мирового энергетического баланса, %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1285920" y="1857240"/>
            <a:ext cx="7572240" cy="916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e5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ОПЛИВНО-ЭНЕРГЕТИЧЕСКИЙ БАЛАНС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соотношение между производством и расходом топливно-энергетических ресурсов, источников их поступления и направлений использова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285840" y="3071880"/>
            <a:ext cx="857232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ировое потребление основных видов топлив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3" name="Схема 3" descr=""/>
          <p:cNvPicPr/>
          <p:nvPr/>
        </p:nvPicPr>
        <p:blipFill>
          <a:blip r:embed="rId1"/>
          <a:stretch/>
        </p:blipFill>
        <p:spPr>
          <a:xfrm>
            <a:off x="1158840" y="1852560"/>
            <a:ext cx="7832880" cy="22986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1357200" y="3929040"/>
            <a:ext cx="7143840" cy="1191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 настоящее время на одного жителя Земли приходится боле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т.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условного топли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около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тыс. кВт•ч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электроэнерги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Схема 5" descr=""/>
          <p:cNvPicPr/>
          <p:nvPr/>
        </p:nvPicPr>
        <p:blipFill>
          <a:blip r:embed="rId2"/>
          <a:stretch/>
        </p:blipFill>
        <p:spPr>
          <a:xfrm>
            <a:off x="993600" y="5364000"/>
            <a:ext cx="801720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ировое производство основных видов топлива и энергии в 2000 году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85920" y="2500200"/>
          <a:ext cx="7643880" cy="4056120"/>
        </p:xfrm>
        <a:graphic>
          <a:graphicData uri="http://schemas.openxmlformats.org/drawingml/2006/table">
            <a:tbl>
              <a:tblPr/>
              <a:tblGrid>
                <a:gridCol w="1143000"/>
                <a:gridCol w="749160"/>
                <a:gridCol w="655560"/>
                <a:gridCol w="995400"/>
                <a:gridCol w="970200"/>
                <a:gridCol w="649080"/>
                <a:gridCol w="803520"/>
                <a:gridCol w="838080"/>
                <a:gridCol w="839880"/>
              </a:tblGrid>
              <a:tr h="328680">
                <a:tc row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оизводство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ир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gridSpan="7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НГ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рубежная Европ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рубежная Азия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ф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еверная Аме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Латинская Аме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встралия и Океания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23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ть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7254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/газ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рд. м³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723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ь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10976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. энергия, млрд. кВт•ч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Душевое потребление первичн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57200" y="1643040"/>
          <a:ext cx="7431120" cy="4888080"/>
        </p:xfrm>
        <a:graphic>
          <a:graphicData uri="http://schemas.openxmlformats.org/drawingml/2006/table">
            <a:tbl>
              <a:tblPr/>
              <a:tblGrid>
                <a:gridCol w="2055960"/>
                <a:gridCol w="1515960"/>
                <a:gridCol w="2071800"/>
                <a:gridCol w="1787400"/>
              </a:tblGrid>
              <a:tr h="741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ение, кг у. т. в го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ение,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 у. т. в го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8908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чень высокий уровень (&gt;5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в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2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иланд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АЭ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 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Низкий уровень (100 – 1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овская Арав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ц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Высокий уровень (2500 – 5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89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оре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на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чень низкий уровень (менее 100 кг) 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л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ания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зан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редний уровень (1000 – 25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ин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Запасы миров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4280" y="1571760"/>
            <a:ext cx="4572000" cy="5000400"/>
          </a:xfrm>
          <a:prstGeom prst="rect">
            <a:avLst/>
          </a:prstGeom>
          <a:noFill/>
          <a:ln w="9360">
            <a:solidFill>
              <a:srgbClr val="e5e5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щегеологические запасы минерального топлива – 14 млрд. тонн, их должно хватить на 1000 лет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лный гидроэнергетический потенциал рек Земли составляет около 33 трлн. кВт•ч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пасы тория и урана содержат значительно больше тепловой энергии, чем все известные ныне ресурсы минерального топлив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12" descr="Известняковый карьер"/>
          <p:cNvPicPr/>
          <p:nvPr/>
        </p:nvPicPr>
        <p:blipFill>
          <a:blip r:embed="rId1"/>
          <a:stretch/>
        </p:blipFill>
        <p:spPr>
          <a:xfrm>
            <a:off x="5857920" y="2000160"/>
            <a:ext cx="3166920" cy="371484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Состояние миров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404960" y="1856880"/>
            <a:ext cx="4738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ри современном уровне техники мы в состоянии извлечь из недр Земли лишь 30% имеющихся энергетических ресурсов;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з запасов уранового сырья сравнительно небольшая их часть имеет такую концентрацию, которая делает рентабельным его извлечен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о многих старых индустриальных районах ухудшаются горно-геологические условия эксплуатации месторождений (отдельные шахты до 3000 – 35000 м глубин; нефть добывается с глубины от 2 до 5 км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10" descr="Буровая платформа для добычи нефти"/>
          <p:cNvPicPr/>
          <p:nvPr/>
        </p:nvPicPr>
        <p:blipFill>
          <a:blip r:embed="rId1"/>
          <a:stretch/>
        </p:blipFill>
        <p:spPr>
          <a:xfrm>
            <a:off x="1214280" y="4286160"/>
            <a:ext cx="3143520" cy="209556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  <p:pic>
        <p:nvPicPr>
          <p:cNvPr id="176" name="Picture 11" descr="Открытый способ добычи"/>
          <p:cNvPicPr/>
          <p:nvPr/>
        </p:nvPicPr>
        <p:blipFill>
          <a:blip r:embed="rId2"/>
          <a:stretch/>
        </p:blipFill>
        <p:spPr>
          <a:xfrm>
            <a:off x="1214280" y="2000160"/>
            <a:ext cx="3159360" cy="213516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27Z</dcterms:created>
  <dc:creator>starostina</dc:creator>
  <dc:description/>
  <cp:keywords/>
  <dc:language>en-US</dc:language>
  <cp:lastModifiedBy>starostina</cp:lastModifiedBy>
  <dcterms:modified xsi:type="dcterms:W3CDTF">2010-05-06T06:21:59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e000000000001024140</vt:lpwstr>
  </property>
  <property fmtid="{D5CDD505-2E9C-101B-9397-08002B2CF9AE}" pid="3" name="_TemplateID">
    <vt:lpwstr>TC010690191049</vt:lpwstr>
  </property>
</Properties>
</file>