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6434-9DEF-4970-B67D-11CA65E488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C3FB-34A2-4617-BE2B-4EC4D1C035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F652-1DE7-4806-A8F6-81279F321C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37AB-6426-4396-8D5C-33EAA770A4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3242-5C02-4C2B-A8B8-1B322F3204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D3B3-5D86-44DF-97FB-EF9AC3F45C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7925-4F86-4093-A557-A8338C8A8B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8A65-D1A7-473E-92C5-DCAB671EF4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4A1B-3AD7-4BF4-BE02-D8FAC93B19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4EA9-ED13-4CF6-AA56-84E2FBE5D7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5F5A-1758-421B-A42D-3B3C1EBBE1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8A8B-7D1A-40A8-93FC-77B6FDADDE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6987-8C46-4F6B-9F5A-75E7A96729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299C-F9D0-429B-AC80-C014201030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FA6C-92EC-4D4F-BC62-F844024663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5755-0390-451B-9D0E-0041730436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6041-B2CF-4FD0-B4E8-38F709A20F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7A9D-2C7B-4DFA-A124-6ACEF5D508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518F-C2C6-4E9E-8729-E9FD90F4BD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A35A-0B41-4B0B-924A-7284D46774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5A6F-9B05-467F-93E5-4EC51E28D3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382D-08CE-4C28-AC4B-F21C7CC6F2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09CF-2DFF-4BF0-ACF5-92F74EEF34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A25-CE2E-4184-878E-53BC67CC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B90-4B08-432F-AEBD-1B628B1C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4882-7365-4CA7-BF77-EC25CEC2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D06-58EC-4E1C-898E-FC2AA76B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AE4-E3A9-4379-824B-4570A4E9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4E0-9447-46D9-99B5-E3A1E36D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3A2-52C0-4FEA-ACFD-5DBBA44F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316-35C1-4E37-B003-C11B5324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804-AFE2-4046-A924-B1E2C4CC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EF6C-846C-48B7-95B3-9B36184E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F53-44E2-4A7B-962D-394E77ED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E771-667B-4C7A-92ED-01F8DDEF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E71D-D6C7-44B1-A2D6-9E496F594B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900000" y="907920"/>
            <a:ext cx="424836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ровы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3851280" y="2637000"/>
            <a:ext cx="342576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лиг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В буддизме в отличие от христианства и ислама нет церкви, но есть община верующих – сангха. В ней нет сложной иерархии, как в христианской церкв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христианство"/>
          <p:cNvPicPr/>
          <p:nvPr/>
        </p:nvPicPr>
        <p:blipFill>
          <a:blip r:embed="rId1"/>
          <a:stretch/>
        </p:blipFill>
        <p:spPr>
          <a:xfrm>
            <a:off x="5292720" y="333360"/>
            <a:ext cx="3552840" cy="6095880"/>
          </a:xfrm>
          <a:prstGeom prst="rect">
            <a:avLst/>
          </a:prstGeom>
          <a:ln w="0">
            <a:noFill/>
          </a:ln>
        </p:spPr>
      </p:pic>
      <p:sp>
        <p:nvSpPr>
          <p:cNvPr id="69" name="WordArt 7"/>
          <p:cNvSpPr txBox="1"/>
          <p:nvPr/>
        </p:nvSpPr>
        <p:spPr>
          <a:xfrm rot="5400000">
            <a:off x="-540720" y="2564640"/>
            <a:ext cx="5400720" cy="19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Христианств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родилось как одна из сект иудаизма в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. н.э. в Палести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843280" y="2060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ристи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H="1">
            <a:off x="2771640" y="2708280"/>
            <a:ext cx="7207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5867280" y="270828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547640" y="3500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сла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156360" y="3500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о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33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Одно из основных направлений христианства – исторически сложилось, сформировалось как его восточная ветвь. Распространенно главным образом в странах Восточной Европы, Ближнего Востока, на Балкана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Зародилось в Византии</a:t>
            </a: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, где оно было господствующей религией в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IV-XI</a:t>
            </a: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в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484360" y="0"/>
            <a:ext cx="374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ослав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Основа вероучения признаны 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священное</a:t>
            </a: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писание</a:t>
            </a: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(Библия) и 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священное предание</a:t>
            </a: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библия 2"/>
          <p:cNvPicPr/>
          <p:nvPr/>
        </p:nvPicPr>
        <p:blipFill>
          <a:blip r:embed="rId1"/>
          <a:stretch/>
        </p:blipFill>
        <p:spPr>
          <a:xfrm>
            <a:off x="214200" y="2133720"/>
            <a:ext cx="3522600" cy="4267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священное предание"/>
          <p:cNvPicPr/>
          <p:nvPr/>
        </p:nvPicPr>
        <p:blipFill>
          <a:blip r:embed="rId2"/>
          <a:stretch/>
        </p:blipFill>
        <p:spPr>
          <a:xfrm rot="369000">
            <a:off x="3796920" y="2924280"/>
            <a:ext cx="51116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72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Патриаршество в России было установлено при Борисе Годунове. </a:t>
            </a:r>
            <a:br>
              <a:rPr sz="4000"/>
            </a:b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В 1589 г – Митрополит Иов стал первым патриархом на Рус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4716360" y="692280"/>
            <a:ext cx="302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толиз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6" descr="католизм"/>
          <p:cNvPicPr/>
          <p:nvPr/>
        </p:nvPicPr>
        <p:blipFill>
          <a:blip r:embed="rId1"/>
          <a:stretch/>
        </p:blipFill>
        <p:spPr>
          <a:xfrm>
            <a:off x="539640" y="476280"/>
            <a:ext cx="37674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2411280" y="0"/>
            <a:ext cx="64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Другое крупнейшее направление в христианств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«Католизм» - всеобщий, вселенский.</a:t>
            </a:r>
            <a:br>
              <a:rPr sz="3600"/>
            </a:b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Основой католического вероучения приняты </a:t>
            </a:r>
            <a:r>
              <a:rPr b="1" i="1" lang="ru-RU" sz="3600" spc="-1" strike="noStrike">
                <a:solidFill>
                  <a:srgbClr val="003399"/>
                </a:solidFill>
                <a:latin typeface="Arial"/>
              </a:rPr>
              <a:t>священное писание и священное предание</a:t>
            </a: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. Глава церкви – Папа Римск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библия"/>
          <p:cNvPicPr/>
          <p:nvPr/>
        </p:nvPicPr>
        <p:blipFill>
          <a:blip r:embed="rId1"/>
          <a:stretch/>
        </p:blipFill>
        <p:spPr>
          <a:xfrm>
            <a:off x="0" y="4765680"/>
            <a:ext cx="314964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2636640"/>
            <a:ext cx="53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В 1964 г – произошло объединение церквей. (главы церкви отменили взаимные проклятия). </a:t>
            </a:r>
            <a:br>
              <a:rPr sz="3600"/>
            </a:b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Единство церквей  - все христиане читают одно </a:t>
            </a:r>
            <a:r>
              <a:rPr b="1" i="1" lang="ru-RU" sz="3600" spc="-1" strike="noStrike">
                <a:solidFill>
                  <a:srgbClr val="003399"/>
                </a:solidFill>
                <a:latin typeface="Arial"/>
              </a:rPr>
              <a:t>Евангел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евангелие"/>
          <p:cNvPicPr/>
          <p:nvPr/>
        </p:nvPicPr>
        <p:blipFill>
          <a:blip r:embed="rId1"/>
          <a:stretch/>
        </p:blipFill>
        <p:spPr>
          <a:xfrm>
            <a:off x="5435640" y="134136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8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ислам"/>
          <p:cNvPicPr/>
          <p:nvPr/>
        </p:nvPicPr>
        <p:blipFill>
          <a:blip r:embed="rId1"/>
          <a:stretch/>
        </p:blipFill>
        <p:spPr>
          <a:xfrm>
            <a:off x="2268360" y="1844640"/>
            <a:ext cx="6258240" cy="4694400"/>
          </a:xfrm>
          <a:prstGeom prst="rect">
            <a:avLst/>
          </a:prstGeom>
          <a:ln w="0">
            <a:noFill/>
          </a:ln>
        </p:spPr>
      </p:pic>
      <p:sp>
        <p:nvSpPr>
          <p:cNvPr id="89" name="WordArt 5"/>
          <p:cNvSpPr txBox="1"/>
          <p:nvPr/>
        </p:nvSpPr>
        <p:spPr>
          <a:xfrm>
            <a:off x="684360" y="404640"/>
            <a:ext cx="3600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сла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5150880" y="76356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мусульман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буддизм2"/>
          <p:cNvPicPr/>
          <p:nvPr/>
        </p:nvPicPr>
        <p:blipFill>
          <a:blip r:embed="rId1"/>
          <a:stretch/>
        </p:blipFill>
        <p:spPr>
          <a:xfrm>
            <a:off x="250920" y="549360"/>
            <a:ext cx="4105080" cy="609588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 rot="5400000">
            <a:off x="4751280" y="2240640"/>
            <a:ext cx="4681800" cy="201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Буддизм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Одна из самых распространенных религий. Приверженцы преимущественно в Северной Африке, Юго-западной, Южной, Юго-Восточной Азии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4360" y="2565000"/>
            <a:ext cx="448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Зародился в Аравии в </a:t>
            </a:r>
            <a:r>
              <a:rPr b="1" i="1" lang="en-US" sz="4000" spc="-1" strike="noStrike">
                <a:solidFill>
                  <a:srgbClr val="003399"/>
                </a:solidFill>
                <a:latin typeface="Arial"/>
              </a:rPr>
              <a:t>VII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 в н.э.</a:t>
            </a: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Основатель </a:t>
            </a: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Мухаммед</a:t>
            </a: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, араб, живший в Мекке. </a:t>
            </a:r>
            <a:br>
              <a:rPr sz="4000"/>
            </a:b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Коран – </a:t>
            </a: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священная книга мусульм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коран"/>
          <p:cNvPicPr/>
          <p:nvPr/>
        </p:nvPicPr>
        <p:blipFill>
          <a:blip r:embed="rId1"/>
          <a:stretch/>
        </p:blipFill>
        <p:spPr>
          <a:xfrm>
            <a:off x="179280" y="404640"/>
            <a:ext cx="3780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Ислам, зародившись как национальная религия арабов, скоро стал превращаться в национальную, мировую религию. </a:t>
            </a:r>
            <a:br>
              <a:rPr sz="3600"/>
            </a:b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В</a:t>
            </a:r>
            <a:r>
              <a:rPr b="0" i="1" lang="en-US" sz="3600" spc="-1" strike="noStrike">
                <a:solidFill>
                  <a:srgbClr val="003399"/>
                </a:solidFill>
                <a:latin typeface="Arial"/>
              </a:rPr>
              <a:t> VII-IX</a:t>
            </a: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 вв. сделался господствующей и почти единственной религией в странах халифата, охватившего огромные пространства – от Испании до Средней Азии и границ Инди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Будд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– древнейшая из мировых религий, получившая название от имени, а точнее от почетного титула, её основателя Будды, что означает «просветлённый». Будда(мудрец) жил в Индии в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V-IV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в.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будда"/>
          <p:cNvPicPr/>
          <p:nvPr/>
        </p:nvPicPr>
        <p:blipFill>
          <a:blip r:embed="rId1"/>
          <a:stretch/>
        </p:blipFill>
        <p:spPr>
          <a:xfrm>
            <a:off x="2195640" y="620640"/>
            <a:ext cx="4902120" cy="5639040"/>
          </a:xfrm>
          <a:prstGeom prst="rect">
            <a:avLst/>
          </a:prstGeom>
          <a:ln w="0">
            <a:noFill/>
          </a:ln>
        </p:spPr>
      </p:pic>
      <p:sp>
        <p:nvSpPr>
          <p:cNvPr id="54" name="WordArt 5"/>
          <p:cNvSpPr txBox="1"/>
          <p:nvPr/>
        </p:nvSpPr>
        <p:spPr>
          <a:xfrm>
            <a:off x="324000" y="260280"/>
            <a:ext cx="208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дд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Буддизм вобрал в себя множество разнообразных традиций народов тех стран, которые попали в сферу его влияния, а также определил образ жизни и мысли миллионов людей этих стран. Большинство приверженцев буддизма живут сейчас в Южной, Юго-Восточной, Центральной и Восточной Ази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В России буддизм традиционно исповедуют буряты, калмыки, тувинц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буддизм"/>
          <p:cNvPicPr/>
          <p:nvPr/>
        </p:nvPicPr>
        <p:blipFill>
          <a:blip r:embed="rId1"/>
          <a:stretch/>
        </p:blipFill>
        <p:spPr>
          <a:xfrm>
            <a:off x="2771640" y="2565360"/>
            <a:ext cx="3386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36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08000" y="2997000"/>
            <a:ext cx="506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Буддисты ведут отсчет времени существования своей религии от кончины Будды (он жил с 624 по 544 г. до н. э.)</a:t>
            </a:r>
            <a:br>
              <a:rPr sz="3200"/>
            </a:b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Родина буддизма</a:t>
            </a: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 -  </a:t>
            </a: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Индия </a:t>
            </a: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(точнее, долина Ганги – одна из наиболее экономически развитых частей страны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1476360" y="0"/>
            <a:ext cx="57596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рождение буддиз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6" descr="зарождение буддизма"/>
          <p:cNvPicPr/>
          <p:nvPr/>
        </p:nvPicPr>
        <p:blipFill>
          <a:blip r:embed="rId1"/>
          <a:stretch/>
        </p:blipFill>
        <p:spPr>
          <a:xfrm>
            <a:off x="0" y="1413000"/>
            <a:ext cx="3782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Буддизм отрицал жертвоприношение и не принимал деление на варны(сословия), рассматривая общество как состоящее из двух категорий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050920" y="549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Две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 flipH="1">
            <a:off x="2411280" y="1484280"/>
            <a:ext cx="8654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5364000" y="141300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9640" y="27082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ш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куда входили брахманы(высшее сословие духовных наставников и жрецов), кшатрии(воины), гахапати(домовладель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148360" y="270828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зшая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включала в себя людей, услуживавших господствующим людям.</a:t>
            </a: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4T17:05:06Z</dcterms:created>
  <dc:creator>Пастухова</dc:creator>
  <dc:description/>
  <dc:language>en-US</dc:language>
  <cp:lastModifiedBy>Admin</cp:lastModifiedBy>
  <dcterms:modified xsi:type="dcterms:W3CDTF">2011-04-19T18:38:15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150000000000010243100207f6000400038000</vt:lpwstr>
  </property>
  <property fmtid="{D5CDD505-2E9C-101B-9397-08002B2CF9AE}" pid="3" name="Version">
    <vt:r8>6</vt:r8>
  </property>
</Properties>
</file>