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DD56-7372-474E-9AF8-E91DEDAEB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084-B558-4897-97ED-C84BADF8D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39C-24A5-4493-B3C2-3B1A93FB5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0872-15EE-420D-8280-52276EA95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3BED-A343-4BEE-AC00-F84A207E4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AE5-13EE-419A-AA55-DACA4C6C3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D7F0-4F2B-4066-9040-A3DCC3F36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877F-12D1-4A0B-89D0-3941117AE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9FFA-0741-429E-B421-D9BBDB7E4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54A-378D-4D2F-A648-D9139C024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1C3-BAC8-4255-B23C-C69400958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F5C-E4AB-409A-9D1F-4DF5F6C2A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F0CA-6AFF-4A52-97C4-5BB7E600E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626-EEFD-49AB-8B9C-BAF6A0B8E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5FE-50CC-4D2D-B335-DADE92F2C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B72-62AA-4AFB-BF3B-15A6F4717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4C6-B7C4-4A23-8666-682C7060F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9F42-C772-476D-9F86-BD9987855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CBA-03F0-49B1-A792-E2D1E4599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0BF5-292E-4149-A8F1-5B9FBC6CA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2C4-C99C-4907-AC71-9DEA4EC94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1532-C600-4D2E-B7E1-2B2D25000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8147-485F-4E3D-A1BB-652CE4566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60E-97D3-4FFC-8FA1-C892A64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D90-90AA-436B-94BA-BD06A9BA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8FD-765D-4F10-B0DC-F351AAF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648-E306-4B92-BDCE-7F61517D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EEC-B083-4D9A-B11A-8708185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0F6-98CF-4688-AD20-26A36F0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2ED-6446-4EFD-9DAB-F0E6523E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136-4489-4B12-908D-86703C1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DE2-79C6-4F2B-86B5-9F44533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1D9-6060-4C26-B069-4021B79D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40C-DA75-45C3-A301-393AB03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070-4C5B-4CFF-9F65-42C940F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3EF-1C88-4980-9CC8-A78C65CB7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00000" y="907920"/>
            <a:ext cx="4248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851280" y="2637000"/>
            <a:ext cx="34257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лиг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буддизме в отличие от христианства и ислама нет церкви, но есть община верующих – сангха. В ней нет сложной иерархии, как в христианской церкв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христианство"/>
          <p:cNvPicPr/>
          <p:nvPr/>
        </p:nvPicPr>
        <p:blipFill>
          <a:blip r:embed="rId1"/>
          <a:stretch/>
        </p:blipFill>
        <p:spPr>
          <a:xfrm>
            <a:off x="5292720" y="333360"/>
            <a:ext cx="355284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 rot="5400000">
            <a:off x="-540720" y="2564640"/>
            <a:ext cx="54007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Христиан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одилось как одна из сект иудаизма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. н.э. в Палес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843280" y="2060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ристи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771640" y="2708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867280" y="270828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547640" y="35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сла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156360" y="3500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Одно из основных направлений христианства – исторически сложилось, сформировалось как его восточная ветвь. Распространенно главным образом в странах Восточной Европы, Ближнего Востока, на Балкан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Зародилось в Византии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, где оно было господствующей религией в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V-XI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484360" y="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слав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снова вероучения признаны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пис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(Библия) и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 пред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иблия 2"/>
          <p:cNvPicPr/>
          <p:nvPr/>
        </p:nvPicPr>
        <p:blipFill>
          <a:blip r:embed="rId1"/>
          <a:stretch/>
        </p:blipFill>
        <p:spPr>
          <a:xfrm>
            <a:off x="214200" y="2133720"/>
            <a:ext cx="352260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вященное предание"/>
          <p:cNvPicPr/>
          <p:nvPr/>
        </p:nvPicPr>
        <p:blipFill>
          <a:blip r:embed="rId2"/>
          <a:stretch/>
        </p:blipFill>
        <p:spPr>
          <a:xfrm rot="369000">
            <a:off x="3796920" y="2924280"/>
            <a:ext cx="51116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2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Патриаршество в России было установлено при Борисе Годунове. </a:t>
            </a:r>
            <a:br>
              <a:rPr sz="4000"/>
            </a:b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1589 г – Митрополит Иов стал первым патриархом на Рус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716360" y="69228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тол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католизм"/>
          <p:cNvPicPr/>
          <p:nvPr/>
        </p:nvPicPr>
        <p:blipFill>
          <a:blip r:embed="rId1"/>
          <a:stretch/>
        </p:blipFill>
        <p:spPr>
          <a:xfrm>
            <a:off x="539640" y="476280"/>
            <a:ext cx="37674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2411280" y="0"/>
            <a:ext cx="64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Другое крупнейшее направление в христианс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«Католизм» - всеобщий, вселенский.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Основой католического вероучения приняты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священное писание и священное предание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. Глава церкви – Папа Рим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библия"/>
          <p:cNvPicPr/>
          <p:nvPr/>
        </p:nvPicPr>
        <p:blipFill>
          <a:blip r:embed="rId1"/>
          <a:stretch/>
        </p:blipFill>
        <p:spPr>
          <a:xfrm>
            <a:off x="0" y="4765680"/>
            <a:ext cx="3149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63664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 1964 г – произошло объединение церквей. (главы церкви отменили взаимные проклятия)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Единство церквей  - все христиане читают одно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Евангел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евангелие"/>
          <p:cNvPicPr/>
          <p:nvPr/>
        </p:nvPicPr>
        <p:blipFill>
          <a:blip r:embed="rId1"/>
          <a:stretch/>
        </p:blipFill>
        <p:spPr>
          <a:xfrm>
            <a:off x="5435640" y="13413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ислам"/>
          <p:cNvPicPr/>
          <p:nvPr/>
        </p:nvPicPr>
        <p:blipFill>
          <a:blip r:embed="rId1"/>
          <a:stretch/>
        </p:blipFill>
        <p:spPr>
          <a:xfrm>
            <a:off x="2268360" y="1844640"/>
            <a:ext cx="6258240" cy="46944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684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150880" y="76356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усульм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буддизм2"/>
          <p:cNvPicPr/>
          <p:nvPr/>
        </p:nvPicPr>
        <p:blipFill>
          <a:blip r:embed="rId1"/>
          <a:stretch/>
        </p:blipFill>
        <p:spPr>
          <a:xfrm>
            <a:off x="250920" y="549360"/>
            <a:ext cx="4105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 rot="5400000">
            <a:off x="4751280" y="2240640"/>
            <a:ext cx="468180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уддиз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дна из самых распространенных религий. Приверженцы преимущественно в Северной Африке, Юго-западной, Южной, Юго-Восточной Аз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360" y="2565000"/>
            <a:ext cx="448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Зародился в Аравии в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VII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 в н.э.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Основатель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Мухаммед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, араб, живший в Мекке.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Коран –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священная книга мусульм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оран"/>
          <p:cNvPicPr/>
          <p:nvPr/>
        </p:nvPicPr>
        <p:blipFill>
          <a:blip r:embed="rId1"/>
          <a:stretch/>
        </p:blipFill>
        <p:spPr>
          <a:xfrm>
            <a:off x="179280" y="404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Ислам, зародившись как национальная религия арабов, скоро стал превращаться в национальную, мировую религию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 VII-IX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 вв. сделался господствующей и почти единственной религией в странах халифата, охватившего огромные пространства – от Испании до Средней Азии и границ Инд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Будд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 древнейшая из мировых религий, получившая название от имени, а точнее от почетного титула, её основателя Будды, что означает «просветлённый». Будда(мудрец) жил в Индии в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V-IV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удда"/>
          <p:cNvPicPr/>
          <p:nvPr/>
        </p:nvPicPr>
        <p:blipFill>
          <a:blip r:embed="rId1"/>
          <a:stretch/>
        </p:blipFill>
        <p:spPr>
          <a:xfrm>
            <a:off x="2195640" y="620640"/>
            <a:ext cx="490212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324000" y="260280"/>
            <a:ext cx="208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вобрал в себя множество разнообразных традиций народов тех стран, которые попали в сферу его влияния, а также определил образ жизни и мысли миллионов людей этих стран. Большинство приверженцев буддизма живут сейчас в Южной, Юго-Восточной, Центральной и Восточной Аз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России буддизм традиционно исповедуют буряты, калмыки, тувинц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буддизм"/>
          <p:cNvPicPr/>
          <p:nvPr/>
        </p:nvPicPr>
        <p:blipFill>
          <a:blip r:embed="rId1"/>
          <a:stretch/>
        </p:blipFill>
        <p:spPr>
          <a:xfrm>
            <a:off x="2771640" y="2565360"/>
            <a:ext cx="338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6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08000" y="2997000"/>
            <a:ext cx="50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Буддисты ведут отсчет времени существования своей религии от кончины Будды (он жил с 624 по 544 г. до н. э.)</a:t>
            </a:r>
            <a:br>
              <a:rPr sz="3200"/>
            </a:b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Родина буддизма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 - 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ндия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(точнее, долина Ганги – одна из наиболее экономически развитых частей страны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476360" y="0"/>
            <a:ext cx="5759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рождение будд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6" descr="зарождение буддизма"/>
          <p:cNvPicPr/>
          <p:nvPr/>
        </p:nvPicPr>
        <p:blipFill>
          <a:blip r:embed="rId1"/>
          <a:stretch/>
        </p:blipFill>
        <p:spPr>
          <a:xfrm>
            <a:off x="0" y="1413000"/>
            <a:ext cx="378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отрицал жертвоприношение и не принимал деление на варны(сословия), рассматривая общество как состоящее из двух категор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050920" y="5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Две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411280" y="148428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5364000" y="1413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9640" y="27082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куда входили брахманы(высшее сословие духовных наставников и жрецов), кшатрии(воины), гахапати(домовладель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148360" y="27082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ша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включала в себя людей, услуживавших господствующим людям.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7:05:06Z</dcterms:created>
  <dc:creator>Пастухова</dc:creator>
  <dc:description/>
  <dc:language>en-US</dc:language>
  <cp:lastModifiedBy>Admin</cp:lastModifiedBy>
  <dcterms:modified xsi:type="dcterms:W3CDTF">2011-04-19T18:38:1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150000000000010243100207f6000400038000</vt:lpwstr>
  </property>
  <property fmtid="{D5CDD505-2E9C-101B-9397-08002B2CF9AE}" pid="3" name="Version">
    <vt:r8>6</vt:r8>
  </property>
</Properties>
</file>