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AA1A-F53A-4204-B151-7AD89879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06E8-2485-479F-AA6A-C4BF9A83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92B-0410-4A52-841B-3434AEA5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2C1-2361-4797-BCD3-FA30F279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6D95F-04BE-4795-B4E0-6B4F9CED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C38C1-C1DF-48BE-B33E-52EBAAC3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FCACC-4A43-4AAC-A23F-E07933A5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5D033-AA3D-4FA2-B50A-65296C0D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9E138-BB4B-4CEA-BA02-C3A1EC80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1C8FA-3AB1-4829-B369-DB543298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50C00-AE6B-4AFF-A0D3-D3B29B5D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381-8547-4627-BB85-79E0B112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8CAAF-0011-4AA4-8288-D785FD9C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AF18E-FB17-4917-9C47-DD97CC56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BC0A8-457C-498C-BEA2-868E51DA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9DD76-46DB-4F0C-A4F3-6D5FD75E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6AA08-4001-4033-B86D-35600650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E116D-0BBF-415F-AE9A-41A089EC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5BBF5-AC09-49FC-8DE1-83FCC3BE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EBC8A-F7AC-4A50-8FDF-262DA08E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7A130-0B73-4BC3-95A7-FD29B2EE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D92DD-78DF-4AE1-A0B4-21F77013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9106-9F24-4720-B1F8-C4E5B049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222E7-3B9B-45C8-9719-020C5537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C6A55-9C50-4376-BDB6-3BFA3C31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9A27C-1C6A-4C5A-904D-4E9B7689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E238E-6769-4808-AFEA-0506D082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591A7-5BFC-4CE2-AA33-EE4CBB6F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CCE39-845A-4BA6-88A3-253CAA76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88622-7578-4FE2-881B-80790C55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847F8-9B14-42EE-A877-E8128551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B71B4-01D0-4AF7-9AA9-F7C18B42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D155F-A990-4A82-8B95-D7ABD7BB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C2E-30DC-4D3E-A9DE-4388471D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6C980-1D67-4BFD-B4A3-2AAC647F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3D325-A50A-4A7C-BDFB-16CA1A64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C6C51-927D-4C29-9838-1D99E27D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D2F59-76B4-4574-8AD9-1024A936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15E46-0DA8-44E8-A619-558E8948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9FBE4-7A4C-43CC-9956-C8A497DE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283B5-00AD-49A3-8B31-728529A9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9ABBA-86E2-4665-90A1-1289C8BF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F12A0-903B-4DA8-A809-1F5ABB76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17F-7C77-4294-AD43-05A41413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5E7-39BC-430C-B58E-5FE91C41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328-2C6E-4601-93C4-916DE57D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FAE-7817-421F-9A20-C5BA65A9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06E-FF9B-4915-8E7D-369E76AD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0E3E-A22D-4D49-B978-225EA5A7D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F349-9FE4-4BBA-8BD2-A6DCFDC1D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C218-8C55-49CB-8570-AC28F92D0E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FD58-C8EF-4220-9EE1-3EBFCFE06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626256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7e7ff"/>
                </a:solidFill>
                <a:latin typeface="Arial"/>
              </a:rPr>
              <a:t>«МИР ВОДЫ»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435640" y="3886200"/>
            <a:ext cx="345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К-ПУТЕШЕСТВ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хеева Вера Николаевна, МАОУ-Гимназия № 47, г. Екатеринбур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Ответы на кроссворд «Гидросфера»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0" y="2276640"/>
          <a:ext cx="4572000" cy="414000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0" y="38880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По горизонта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1.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Залив, омывающий часть западных берегов Евро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4.  Небольшой участок суши, со всех сторон окруженный вод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5.  Плавающие ледяные горы материкового происхож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По вертика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2.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Полуостров Южной Азии, вдающийся в Индийский океа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3.   Остров в Атлантическом океане к востоку от Гренландии, имеющий вулканическое происхождение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Задание 6. Подбери к терминам определения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476280"/>
          <a:ext cx="9144000" cy="6440400"/>
        </p:xfrm>
        <a:graphic>
          <a:graphicData uri="http://schemas.openxmlformats.org/drawingml/2006/table">
            <a:tbl>
              <a:tblPr/>
              <a:tblGrid>
                <a:gridCol w="1835280"/>
                <a:gridCol w="7308720"/>
              </a:tblGrid>
              <a:tr h="81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 Бассейн ре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А.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глубление, по которому воды реки текут постоянн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 Водоразде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Б.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Вся площадь, с которой река собирает вод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. Долина ре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В. 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Граница, разделяющая бассейны рек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 Речная сис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Г. Место выхода подземных вод на поверхност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. Русло ре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.   Искусственный водое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. Устье ре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Е. 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сто впадения реки в другую реку, озеро, мор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. Источ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Ж.  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глубление в земной коре, по которой течет река от истока к устью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 Озер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З. Замкнутое природное углубление в земной коре, заполненное водо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. Пойм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И.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ека со всеми ее притока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. Пру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К.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Затопляемая часть речной долины во время разлива рек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Прямоугольник 5" descr=""/>
          <p:cNvPicPr/>
          <p:nvPr/>
        </p:nvPicPr>
        <p:blipFill>
          <a:blip r:embed="rId2"/>
          <a:stretch/>
        </p:blipFill>
        <p:spPr>
          <a:xfrm>
            <a:off x="353880" y="853920"/>
            <a:ext cx="8296560" cy="408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дание 1. Географический диктант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Красное мор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Средиземное мор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Берингово мор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Баренцево мор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Бискайский зали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Бенгальский зали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Суэцкий кан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Панамский кан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Гибралтар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Берингов проли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о. Мадагаска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о. Гренла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п-ов Индоста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п-ов Камчатк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Курильские остр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Гавайские о-в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дание 2.  Подпиши части океа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                                 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781360"/>
            <a:ext cx="8136000" cy="3024000"/>
          </a:xfrm>
          <a:custGeom>
            <a:avLst/>
            <a:gdLst/>
            <a:ahLst/>
            <a:rect l="l" t="t" r="r" b="b"/>
            <a:pathLst>
              <a:path w="3600" h="1440">
                <a:moveTo>
                  <a:pt x="0" y="30"/>
                </a:moveTo>
                <a:cubicBezTo>
                  <a:pt x="150" y="105"/>
                  <a:pt x="300" y="180"/>
                  <a:pt x="360" y="390"/>
                </a:cubicBezTo>
                <a:cubicBezTo>
                  <a:pt x="420" y="600"/>
                  <a:pt x="240" y="1140"/>
                  <a:pt x="360" y="1290"/>
                </a:cubicBezTo>
                <a:cubicBezTo>
                  <a:pt x="480" y="1440"/>
                  <a:pt x="840" y="1290"/>
                  <a:pt x="1080" y="1290"/>
                </a:cubicBezTo>
                <a:cubicBezTo>
                  <a:pt x="1320" y="1290"/>
                  <a:pt x="1590" y="1440"/>
                  <a:pt x="1800" y="1290"/>
                </a:cubicBezTo>
                <a:cubicBezTo>
                  <a:pt x="2010" y="1140"/>
                  <a:pt x="2190" y="540"/>
                  <a:pt x="2340" y="390"/>
                </a:cubicBezTo>
                <a:cubicBezTo>
                  <a:pt x="2490" y="240"/>
                  <a:pt x="2700" y="300"/>
                  <a:pt x="2700" y="390"/>
                </a:cubicBezTo>
                <a:cubicBezTo>
                  <a:pt x="2700" y="480"/>
                  <a:pt x="2280" y="870"/>
                  <a:pt x="2340" y="930"/>
                </a:cubicBezTo>
                <a:cubicBezTo>
                  <a:pt x="2400" y="990"/>
                  <a:pt x="2970" y="870"/>
                  <a:pt x="3060" y="750"/>
                </a:cubicBezTo>
                <a:cubicBezTo>
                  <a:pt x="3150" y="630"/>
                  <a:pt x="2850" y="330"/>
                  <a:pt x="2880" y="210"/>
                </a:cubicBezTo>
                <a:cubicBezTo>
                  <a:pt x="2910" y="90"/>
                  <a:pt x="3120" y="60"/>
                  <a:pt x="3240" y="30"/>
                </a:cubicBezTo>
                <a:cubicBezTo>
                  <a:pt x="3360" y="0"/>
                  <a:pt x="3540" y="30"/>
                  <a:pt x="3600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720400">
            <a:off x="2044800" y="2435760"/>
            <a:ext cx="1079640" cy="144360"/>
          </a:xfrm>
          <a:custGeom>
            <a:avLst/>
            <a:gdLst/>
            <a:ahLst/>
            <a:rect l="l" t="t" r="r" b="b"/>
            <a:pathLst>
              <a:path w="450" h="240">
                <a:moveTo>
                  <a:pt x="210" y="210"/>
                </a:moveTo>
                <a:cubicBezTo>
                  <a:pt x="270" y="240"/>
                  <a:pt x="360" y="240"/>
                  <a:pt x="390" y="210"/>
                </a:cubicBezTo>
                <a:cubicBezTo>
                  <a:pt x="420" y="180"/>
                  <a:pt x="450" y="60"/>
                  <a:pt x="390" y="30"/>
                </a:cubicBezTo>
                <a:cubicBezTo>
                  <a:pt x="330" y="0"/>
                  <a:pt x="60" y="0"/>
                  <a:pt x="30" y="30"/>
                </a:cubicBezTo>
                <a:cubicBezTo>
                  <a:pt x="0" y="60"/>
                  <a:pt x="150" y="180"/>
                  <a:pt x="210" y="21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719800">
            <a:off x="2188080" y="2645280"/>
            <a:ext cx="285840" cy="125640"/>
          </a:xfrm>
          <a:custGeom>
            <a:avLst/>
            <a:gdLst/>
            <a:ahLst/>
            <a:rect l="l" t="t" r="r" b="b"/>
            <a:pathLst>
              <a:path w="450" h="240">
                <a:moveTo>
                  <a:pt x="210" y="210"/>
                </a:moveTo>
                <a:cubicBezTo>
                  <a:pt x="270" y="240"/>
                  <a:pt x="360" y="240"/>
                  <a:pt x="390" y="210"/>
                </a:cubicBezTo>
                <a:cubicBezTo>
                  <a:pt x="420" y="180"/>
                  <a:pt x="450" y="60"/>
                  <a:pt x="390" y="30"/>
                </a:cubicBezTo>
                <a:cubicBezTo>
                  <a:pt x="330" y="0"/>
                  <a:pt x="60" y="0"/>
                  <a:pt x="30" y="30"/>
                </a:cubicBezTo>
                <a:cubicBezTo>
                  <a:pt x="0" y="60"/>
                  <a:pt x="150" y="180"/>
                  <a:pt x="210" y="21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 rot="2720400">
            <a:off x="1612080" y="1707480"/>
            <a:ext cx="365400" cy="576360"/>
          </a:xfrm>
          <a:custGeom>
            <a:avLst/>
            <a:gdLst/>
            <a:ahLst/>
            <a:rect l="l" t="t" r="r" b="b"/>
            <a:pathLst>
              <a:path w="450" h="240">
                <a:moveTo>
                  <a:pt x="210" y="210"/>
                </a:moveTo>
                <a:cubicBezTo>
                  <a:pt x="270" y="240"/>
                  <a:pt x="360" y="240"/>
                  <a:pt x="390" y="210"/>
                </a:cubicBezTo>
                <a:cubicBezTo>
                  <a:pt x="420" y="180"/>
                  <a:pt x="450" y="60"/>
                  <a:pt x="390" y="30"/>
                </a:cubicBezTo>
                <a:cubicBezTo>
                  <a:pt x="330" y="0"/>
                  <a:pt x="60" y="0"/>
                  <a:pt x="30" y="30"/>
                </a:cubicBezTo>
                <a:cubicBezTo>
                  <a:pt x="0" y="60"/>
                  <a:pt x="150" y="180"/>
                  <a:pt x="210" y="21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719800">
            <a:off x="3483720" y="2284920"/>
            <a:ext cx="285840" cy="125280"/>
          </a:xfrm>
          <a:custGeom>
            <a:avLst/>
            <a:gdLst/>
            <a:ahLst/>
            <a:rect l="l" t="t" r="r" b="b"/>
            <a:pathLst>
              <a:path w="450" h="240">
                <a:moveTo>
                  <a:pt x="210" y="210"/>
                </a:moveTo>
                <a:cubicBezTo>
                  <a:pt x="270" y="240"/>
                  <a:pt x="360" y="240"/>
                  <a:pt x="390" y="210"/>
                </a:cubicBezTo>
                <a:cubicBezTo>
                  <a:pt x="420" y="180"/>
                  <a:pt x="450" y="60"/>
                  <a:pt x="390" y="30"/>
                </a:cubicBezTo>
                <a:cubicBezTo>
                  <a:pt x="330" y="0"/>
                  <a:pt x="60" y="0"/>
                  <a:pt x="30" y="30"/>
                </a:cubicBezTo>
                <a:cubicBezTo>
                  <a:pt x="0" y="60"/>
                  <a:pt x="150" y="180"/>
                  <a:pt x="210" y="21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719800">
            <a:off x="2504160" y="2012040"/>
            <a:ext cx="942840" cy="496800"/>
          </a:xfrm>
          <a:custGeom>
            <a:avLst/>
            <a:gdLst/>
            <a:ahLst/>
            <a:rect l="l" t="t" r="r" b="b"/>
            <a:pathLst>
              <a:path w="450" h="240">
                <a:moveTo>
                  <a:pt x="210" y="210"/>
                </a:moveTo>
                <a:cubicBezTo>
                  <a:pt x="270" y="240"/>
                  <a:pt x="360" y="240"/>
                  <a:pt x="390" y="210"/>
                </a:cubicBezTo>
                <a:cubicBezTo>
                  <a:pt x="420" y="180"/>
                  <a:pt x="450" y="60"/>
                  <a:pt x="390" y="30"/>
                </a:cubicBezTo>
                <a:cubicBezTo>
                  <a:pt x="330" y="0"/>
                  <a:pt x="60" y="0"/>
                  <a:pt x="30" y="30"/>
                </a:cubicBezTo>
                <a:cubicBezTo>
                  <a:pt x="0" y="60"/>
                  <a:pt x="150" y="180"/>
                  <a:pt x="210" y="21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719800">
            <a:off x="1662480" y="2395080"/>
            <a:ext cx="861840" cy="431640"/>
          </a:xfrm>
          <a:custGeom>
            <a:avLst/>
            <a:gdLst/>
            <a:ahLst/>
            <a:rect l="l" t="t" r="r" b="b"/>
            <a:pathLst>
              <a:path w="450" h="240">
                <a:moveTo>
                  <a:pt x="210" y="210"/>
                </a:moveTo>
                <a:cubicBezTo>
                  <a:pt x="270" y="240"/>
                  <a:pt x="360" y="240"/>
                  <a:pt x="390" y="210"/>
                </a:cubicBezTo>
                <a:cubicBezTo>
                  <a:pt x="420" y="180"/>
                  <a:pt x="450" y="60"/>
                  <a:pt x="390" y="30"/>
                </a:cubicBezTo>
                <a:cubicBezTo>
                  <a:pt x="330" y="0"/>
                  <a:pt x="60" y="0"/>
                  <a:pt x="30" y="30"/>
                </a:cubicBezTo>
                <a:cubicBezTo>
                  <a:pt x="0" y="60"/>
                  <a:pt x="150" y="180"/>
                  <a:pt x="210" y="21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112000">
            <a:off x="2804760" y="2623680"/>
            <a:ext cx="731880" cy="630360"/>
          </a:xfrm>
          <a:custGeom>
            <a:avLst/>
            <a:gdLst/>
            <a:ahLst/>
            <a:rect l="l" t="t" r="r" b="b"/>
            <a:pathLst>
              <a:path w="210" h="660">
                <a:moveTo>
                  <a:pt x="0" y="90"/>
                </a:moveTo>
                <a:cubicBezTo>
                  <a:pt x="0" y="60"/>
                  <a:pt x="150" y="0"/>
                  <a:pt x="180" y="90"/>
                </a:cubicBezTo>
                <a:cubicBezTo>
                  <a:pt x="210" y="180"/>
                  <a:pt x="210" y="600"/>
                  <a:pt x="180" y="630"/>
                </a:cubicBezTo>
                <a:cubicBezTo>
                  <a:pt x="150" y="660"/>
                  <a:pt x="0" y="330"/>
                  <a:pt x="0" y="270"/>
                </a:cubicBezTo>
                <a:cubicBezTo>
                  <a:pt x="0" y="210"/>
                  <a:pt x="180" y="300"/>
                  <a:pt x="180" y="270"/>
                </a:cubicBezTo>
                <a:cubicBezTo>
                  <a:pt x="180" y="240"/>
                  <a:pt x="0" y="120"/>
                  <a:pt x="0" y="9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6591240" y="1193400"/>
            <a:ext cx="858960" cy="1728720"/>
          </a:xfrm>
          <a:custGeom>
            <a:avLst/>
            <a:gdLst/>
            <a:ahLst/>
            <a:rect l="l" t="t" r="r" b="b"/>
            <a:pathLst>
              <a:path w="570" h="570">
                <a:moveTo>
                  <a:pt x="180" y="180"/>
                </a:moveTo>
                <a:cubicBezTo>
                  <a:pt x="210" y="210"/>
                  <a:pt x="330" y="150"/>
                  <a:pt x="360" y="180"/>
                </a:cubicBezTo>
                <a:cubicBezTo>
                  <a:pt x="390" y="210"/>
                  <a:pt x="330" y="300"/>
                  <a:pt x="360" y="360"/>
                </a:cubicBezTo>
                <a:cubicBezTo>
                  <a:pt x="390" y="420"/>
                  <a:pt x="570" y="510"/>
                  <a:pt x="540" y="540"/>
                </a:cubicBezTo>
                <a:cubicBezTo>
                  <a:pt x="510" y="570"/>
                  <a:pt x="240" y="570"/>
                  <a:pt x="180" y="540"/>
                </a:cubicBezTo>
                <a:cubicBezTo>
                  <a:pt x="120" y="510"/>
                  <a:pt x="210" y="420"/>
                  <a:pt x="180" y="360"/>
                </a:cubicBezTo>
                <a:cubicBezTo>
                  <a:pt x="150" y="300"/>
                  <a:pt x="0" y="240"/>
                  <a:pt x="0" y="180"/>
                </a:cubicBezTo>
                <a:cubicBezTo>
                  <a:pt x="0" y="120"/>
                  <a:pt x="150" y="0"/>
                  <a:pt x="180" y="0"/>
                </a:cubicBezTo>
                <a:cubicBezTo>
                  <a:pt x="210" y="0"/>
                  <a:pt x="150" y="150"/>
                  <a:pt x="180" y="18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р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ли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хипела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уост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т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35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Задание 3. Квалификационный тест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вная причина возникновения поверхностных течени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приливы и отли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рельеф морского дн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постоянные вет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 Если река имеет снеговое питание, то половодье наступа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лет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б) весной           в) вес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  Какое море более солен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 Средиземно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Балтий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  Более низкую температуру поверхностных вод имеет зали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Бискайский           б) Мексиканс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Гудзо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  Найди лишне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устье,   б) исток,      в)  дельта,    г)   пой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  Какие виды вод суши не встречаются в окрестностях Екатеринбург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болота   б) реки      в)  ледники    г)   оз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  Горные породы, почти не пропускающие вод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гранит   б) песок     в)  известняк   г)   галь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   Подземные воды, расположенные на первом водоупорном сло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межпластовые воды   б) водоносный слой     в)  грунтовые в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80" y="228240"/>
            <a:ext cx="849924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Задание 4. Бухта «Загадка»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пишите название пролива разделяющего два материка, соединяющего два моря и два океана. Укажите название материков, морей и океа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ое море омывает три части свет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ой полуостров говорит о своем малом размер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ой остров говорит о своей принадлежности к одежд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какие ворота не забить го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лив соединяет эти моря России. Одно из них окраинное, а другое внутреннее. Средняя глубина одного из них в 2-3 раза больше, а площадь в 15,5 раза больше. Первое севернее, но юго-западная часть его не замерзает. Второе море расположено южнее, но 7 месяцев в году покрыто льдами. Назовите эти мор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зовите цветные мор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какого моря нет берег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ринг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едизем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м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май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р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аренцево и Бел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елтое, Черное, Красное, Бел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ргасс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Задание 5. Кроссворд «Гидросфера»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0" y="2276640"/>
          <a:ext cx="4572000" cy="414000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0" y="38880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По горизонта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1.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Залив, омывающий часть западных берегов Евро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4.  Небольшой участок суши, со всех сторон окруженный вод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5.  Плавающие ледяные горы материкового происхож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По вертика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2.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Полуостров Южной Азии, вдающийся в Индийский океа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3.   Остров в Атлантическом океане к востоку от Гренландии, имеющий вулканическое происхождение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1:05:42Z</dcterms:created>
  <dc:creator>Гимназия</dc:creator>
  <dc:description/>
  <dc:language>en-US</dc:language>
  <cp:lastModifiedBy>Miheeva</cp:lastModifiedBy>
  <dcterms:modified xsi:type="dcterms:W3CDTF">2011-08-29T13:32:16Z</dcterms:modified>
  <cp:revision>39</cp:revision>
  <dc:subject/>
  <dc:title>Новая шкала оценивания как средство  саморазвития учащихся: из опыта раб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8050000000000010243100207f6000400038000</vt:lpwstr>
  </property>
</Properties>
</file>