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D2B-B539-41B4-83A0-840AE19F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D0D-FCB3-432F-A722-B00896AE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944-352D-42E6-8C5A-269D91C8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4D8-248B-496D-A800-5A741F1E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F2662-7585-487E-8689-FD947AB1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C973C-3B9A-4452-9061-F49E588A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389FF-BF0B-4570-8FBC-849CA3D1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50562-913E-4C71-8F18-7F98BEC9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07E02-E868-4AC1-8507-F99DD8F3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60A6D-8B0D-4E0A-A936-33BC3F74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D15EE-0101-44BF-9D6B-09DC2294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1F2-015B-4E6B-AEF8-ECFE4B34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2815B-67EC-41E6-9D0B-298BBF8B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58D1E-47F8-4670-9E27-0F7296B1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7F1C2-5724-4434-B5FA-8F663ABC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C611C-3B15-4F44-BB86-264E47B8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9DF32-5EB2-44C8-A033-6D41E386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DBB38-BAFD-4036-A453-52F463DF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D7EBA-6011-4C85-9BCB-9C1B80A3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09F3E-6E2E-463E-94AA-5A75376D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84A5C-35DA-443A-BFB6-279F0960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F114-F2E8-463E-BC2C-98527968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8CE-07C8-48C9-829E-C0740C23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AD01C-8963-4C51-B1BD-8D234BE4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5D203-7469-416F-B50B-BAEB3EFD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837A-7BDE-4184-98FA-8AFD7AB5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C961D-5FAA-4A37-988B-3C18EE8D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0D595-78EF-46F1-995B-B1A47EB4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D3CD-EAEA-4D82-A6DA-2F1907E8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70C38-0587-410B-A236-5F3C21AD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DE170-1873-4268-B7CF-390D8A25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6D18B-8045-47CE-B2F1-9EEF5BE1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FC475-3656-47D9-B519-2186B514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A86-7259-4B64-8996-02A9C88A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17DA-3CC1-4734-9B8A-501D0157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717D5-48E1-4372-8141-AF45CA12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F5060-4AFB-42DE-8396-DF3B6DAF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CA625-8B6B-42D2-9E2E-A366C1A8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7D25A-E185-40A7-AAC1-D7CD8106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85B83-2BCE-4DF3-8318-15E763BD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EFEE5-A89C-4FFF-8141-02421206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88CDA-8912-4FC8-B50C-D7056AE1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763AE-3BDD-4873-9C2A-EA6833EE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0B11-76F9-4922-A74C-24298CEC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63C-6BBF-4692-9041-7F53F6A6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BDB-36B5-42C0-B6E4-1201217C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8AC-4DD4-4319-AAE9-8EC41F64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F6D-0ED1-4295-BDA8-C6B00007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2DC5-D2F7-435D-AF83-FE71F4352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3B01-4CEC-4B17-9D72-044FEF040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D87A-3104-40D4-BBFD-A027C30FF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BC46-FC42-471E-AF49-3D04A5A86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626256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7e7ff"/>
                </a:solidFill>
                <a:latin typeface="Arial"/>
              </a:rPr>
              <a:t>«МИР ВОДЫ»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435640" y="3886200"/>
            <a:ext cx="345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К-ПУТЕШЕ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хеева Вера Николаевна, МАОУ-Гимназия № 47, г. Екатеринбур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Ответы на кроссворд «Гидросфера»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0" y="2276640"/>
          <a:ext cx="4572000" cy="41400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0" y="38880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По горизонт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1.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Залив, омывающий часть западных берегов Евро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4.  Небольшой участок суши, со всех сторон окруженный вод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5.  Плавающие ледяные горы материкового происхо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По вертик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2.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Полуостров Южной Азии, вдающийся в Индийский оке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3.   Остров в Атлантическом океане к востоку от Гренландии, имеющий вулканическое происхождени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Задание 6. Подбери к терминам определения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476280"/>
          <a:ext cx="9144000" cy="6440400"/>
        </p:xfrm>
        <a:graphic>
          <a:graphicData uri="http://schemas.openxmlformats.org/drawingml/2006/table">
            <a:tbl>
              <a:tblPr/>
              <a:tblGrid>
                <a:gridCol w="1835280"/>
                <a:gridCol w="7308720"/>
              </a:tblGrid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 Бассейн ре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А.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глубление, по которому воды реки текут постоянн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 Водоразде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Б.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Вся площадь, с которой река собирает вод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. Долина ре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В. 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Граница, разделяющая бассейны рек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 Речная сис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Г. Место выхода подземных вод на поверхнос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. Русло ре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.   Искусственный водое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. Устье ре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Е. 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сто впадения реки в другую реку, озеро, мор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. Источ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Ж.  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глубление в земной коре, по которой течет река от истока к устью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 Озер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З. Замкнутое природное углубление в земной коре, заполненное водо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. Пойм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И.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ека со всеми ее притока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. Пру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К. 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Затопляемая часть речной долины во время разлива рек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Прямоугольник 5" descr=""/>
          <p:cNvPicPr/>
          <p:nvPr/>
        </p:nvPicPr>
        <p:blipFill>
          <a:blip r:embed="rId2"/>
          <a:stretch/>
        </p:blipFill>
        <p:spPr>
          <a:xfrm>
            <a:off x="353880" y="853920"/>
            <a:ext cx="8296560" cy="408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дание 1. Географический диктан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Красное мо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Средиземное мо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Берингово мо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Баренцево мо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Бискайский зали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Бенгальский зали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уэцкий ка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Панамский ка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Гибралтар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Берингов проли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о. Мадагаска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о. Гренланд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п-ов Индоста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п-ов Камчат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Курильские остр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Гавайские о-в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дание 2.  Подпиши части океа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                                 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781360"/>
            <a:ext cx="8136000" cy="3024000"/>
          </a:xfrm>
          <a:custGeom>
            <a:avLst/>
            <a:gdLst/>
            <a:ahLst/>
            <a:rect l="l" t="t" r="r" b="b"/>
            <a:pathLst>
              <a:path w="3600" h="1440">
                <a:moveTo>
                  <a:pt x="0" y="30"/>
                </a:moveTo>
                <a:cubicBezTo>
                  <a:pt x="150" y="105"/>
                  <a:pt x="300" y="180"/>
                  <a:pt x="360" y="390"/>
                </a:cubicBezTo>
                <a:cubicBezTo>
                  <a:pt x="420" y="600"/>
                  <a:pt x="240" y="1140"/>
                  <a:pt x="360" y="1290"/>
                </a:cubicBezTo>
                <a:cubicBezTo>
                  <a:pt x="480" y="1440"/>
                  <a:pt x="840" y="1290"/>
                  <a:pt x="1080" y="1290"/>
                </a:cubicBezTo>
                <a:cubicBezTo>
                  <a:pt x="1320" y="1290"/>
                  <a:pt x="1590" y="1440"/>
                  <a:pt x="1800" y="1290"/>
                </a:cubicBezTo>
                <a:cubicBezTo>
                  <a:pt x="2010" y="1140"/>
                  <a:pt x="2190" y="540"/>
                  <a:pt x="2340" y="390"/>
                </a:cubicBezTo>
                <a:cubicBezTo>
                  <a:pt x="2490" y="240"/>
                  <a:pt x="2700" y="300"/>
                  <a:pt x="2700" y="390"/>
                </a:cubicBezTo>
                <a:cubicBezTo>
                  <a:pt x="2700" y="480"/>
                  <a:pt x="2280" y="870"/>
                  <a:pt x="2340" y="930"/>
                </a:cubicBezTo>
                <a:cubicBezTo>
                  <a:pt x="2400" y="990"/>
                  <a:pt x="2970" y="870"/>
                  <a:pt x="3060" y="750"/>
                </a:cubicBezTo>
                <a:cubicBezTo>
                  <a:pt x="3150" y="630"/>
                  <a:pt x="2850" y="330"/>
                  <a:pt x="2880" y="210"/>
                </a:cubicBezTo>
                <a:cubicBezTo>
                  <a:pt x="2910" y="90"/>
                  <a:pt x="3120" y="60"/>
                  <a:pt x="3240" y="30"/>
                </a:cubicBezTo>
                <a:cubicBezTo>
                  <a:pt x="3360" y="0"/>
                  <a:pt x="3540" y="30"/>
                  <a:pt x="3600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720400">
            <a:off x="2044800" y="2435760"/>
            <a:ext cx="1079640" cy="14436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719800">
            <a:off x="2188080" y="2645280"/>
            <a:ext cx="285840" cy="12564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 rot="2720400">
            <a:off x="1612080" y="1707480"/>
            <a:ext cx="365400" cy="57636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719800">
            <a:off x="3483720" y="2284920"/>
            <a:ext cx="285840" cy="12528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719800">
            <a:off x="2504160" y="2012040"/>
            <a:ext cx="942840" cy="49680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719800">
            <a:off x="1662480" y="2395080"/>
            <a:ext cx="861840" cy="431640"/>
          </a:xfrm>
          <a:custGeom>
            <a:avLst/>
            <a:gdLst/>
            <a:ahLst/>
            <a:rect l="l" t="t" r="r" b="b"/>
            <a:pathLst>
              <a:path w="450" h="240">
                <a:moveTo>
                  <a:pt x="210" y="210"/>
                </a:moveTo>
                <a:cubicBezTo>
                  <a:pt x="270" y="240"/>
                  <a:pt x="360" y="240"/>
                  <a:pt x="390" y="210"/>
                </a:cubicBezTo>
                <a:cubicBezTo>
                  <a:pt x="420" y="180"/>
                  <a:pt x="450" y="60"/>
                  <a:pt x="390" y="30"/>
                </a:cubicBezTo>
                <a:cubicBezTo>
                  <a:pt x="330" y="0"/>
                  <a:pt x="60" y="0"/>
                  <a:pt x="30" y="30"/>
                </a:cubicBezTo>
                <a:cubicBezTo>
                  <a:pt x="0" y="60"/>
                  <a:pt x="150" y="180"/>
                  <a:pt x="210" y="21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112000">
            <a:off x="2804760" y="2623680"/>
            <a:ext cx="731880" cy="630360"/>
          </a:xfrm>
          <a:custGeom>
            <a:avLst/>
            <a:gdLst/>
            <a:ahLst/>
            <a:rect l="l" t="t" r="r" b="b"/>
            <a:pathLst>
              <a:path w="210" h="660">
                <a:moveTo>
                  <a:pt x="0" y="90"/>
                </a:moveTo>
                <a:cubicBezTo>
                  <a:pt x="0" y="60"/>
                  <a:pt x="150" y="0"/>
                  <a:pt x="180" y="90"/>
                </a:cubicBezTo>
                <a:cubicBezTo>
                  <a:pt x="210" y="180"/>
                  <a:pt x="210" y="600"/>
                  <a:pt x="180" y="630"/>
                </a:cubicBezTo>
                <a:cubicBezTo>
                  <a:pt x="150" y="660"/>
                  <a:pt x="0" y="330"/>
                  <a:pt x="0" y="270"/>
                </a:cubicBezTo>
                <a:cubicBezTo>
                  <a:pt x="0" y="210"/>
                  <a:pt x="180" y="300"/>
                  <a:pt x="180" y="270"/>
                </a:cubicBezTo>
                <a:cubicBezTo>
                  <a:pt x="180" y="240"/>
                  <a:pt x="0" y="120"/>
                  <a:pt x="0" y="9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6591240" y="1193400"/>
            <a:ext cx="858960" cy="1728720"/>
          </a:xfrm>
          <a:custGeom>
            <a:avLst/>
            <a:gdLst/>
            <a:ahLst/>
            <a:rect l="l" t="t" r="r" b="b"/>
            <a:pathLst>
              <a:path w="570" h="570">
                <a:moveTo>
                  <a:pt x="180" y="180"/>
                </a:moveTo>
                <a:cubicBezTo>
                  <a:pt x="210" y="210"/>
                  <a:pt x="330" y="150"/>
                  <a:pt x="360" y="180"/>
                </a:cubicBezTo>
                <a:cubicBezTo>
                  <a:pt x="390" y="210"/>
                  <a:pt x="330" y="300"/>
                  <a:pt x="360" y="360"/>
                </a:cubicBezTo>
                <a:cubicBezTo>
                  <a:pt x="390" y="420"/>
                  <a:pt x="570" y="510"/>
                  <a:pt x="540" y="540"/>
                </a:cubicBezTo>
                <a:cubicBezTo>
                  <a:pt x="510" y="570"/>
                  <a:pt x="240" y="570"/>
                  <a:pt x="180" y="540"/>
                </a:cubicBezTo>
                <a:cubicBezTo>
                  <a:pt x="120" y="510"/>
                  <a:pt x="210" y="420"/>
                  <a:pt x="180" y="360"/>
                </a:cubicBezTo>
                <a:cubicBezTo>
                  <a:pt x="150" y="300"/>
                  <a:pt x="0" y="240"/>
                  <a:pt x="0" y="180"/>
                </a:cubicBezTo>
                <a:cubicBezTo>
                  <a:pt x="0" y="120"/>
                  <a:pt x="150" y="0"/>
                  <a:pt x="180" y="0"/>
                </a:cubicBezTo>
                <a:cubicBezTo>
                  <a:pt x="210" y="0"/>
                  <a:pt x="150" y="150"/>
                  <a:pt x="180" y="18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р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ли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хипела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уост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т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35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Задание 3. Квалификационный тест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ая причина возникновения поверхностных течен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приливы и отли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рельеф морского дн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постоянные вет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 Если река имеет снеговое питание, то половодье наступа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лет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б) весной           в) вес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  Какое море более солен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 Средиземно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Балтий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  Более низкую температуру поверхностных вод имеет зали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Бискайский           б) Мексиканс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Гудз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  Найди лишне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устье,   б) исток,      в)  дельта,    г)   пой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  Какие виды вод суши не встречаются в окрестностях Екатеринбург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болота   б) реки      в)  ледники    г)   оз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  Горные породы, почти не пропускающие вод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гранит   б) песок     в)  известняк   г)   галь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  Подземные воды, расположенные на первом водоупорном сло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межпластовые воды   б) водоносный слой     в)  грунтовые 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80" y="228240"/>
            <a:ext cx="849924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Задание 4. Бухта «Загадка»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пишите название пролива разделяющего два материка, соединяющего два моря и два океана. Укажите название материков, морей и океа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е море омывает три части све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й полуостров говорит о своем малом размер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й остров говорит о своей принадлежности к одежд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какие ворота не забить го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лив соединяет эти моря России. Одно из них окраинное, а другое внутреннее. Средняя глубина одного из них в 2-3 раза больше, а площадь в 15,5 раза больше. Первое севернее, но юго-западная часть его не замерзает. Второе море расположено южнее, но 7 месяцев в году покрыто льдами. Назовите эти мо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овите цветные мо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какого моря нет берег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рин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едизем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м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май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р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ренцево и Бел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елтое, Черное, Красное, Бел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ргасс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Задание 5. Кроссворд «Гидросфера»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0" y="2276640"/>
          <a:ext cx="4572000" cy="41400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e941c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0" y="38880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По горизонт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1.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Залив, омывающий часть западных берегов Евро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4.  Небольшой участок суши, со всех сторон окруженный вод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5.  Плавающие ледяные горы материкового происхо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По вертик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2.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Полуостров Южной Азии, вдающийся в Индийский оке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3.   Остров в Атлантическом океане к востоку от Гренландии, имеющий вулканическое происхождени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1:05:42Z</dcterms:created>
  <dc:creator>Гимназия</dc:creator>
  <dc:description/>
  <dc:language>en-US</dc:language>
  <cp:lastModifiedBy>Miheeva</cp:lastModifiedBy>
  <dcterms:modified xsi:type="dcterms:W3CDTF">2011-08-29T13:32:16Z</dcterms:modified>
  <cp:revision>39</cp:revision>
  <dc:subject/>
  <dc:title>Новая шкала оценивания как средство  саморазвития учащихся: из опыта раб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8050000000000010243100207f6000400038000</vt:lpwstr>
  </property>
</Properties>
</file>