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E56-3C53-487A-8F49-BFA0F5B1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9C4-D110-4023-9932-EE49914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45B-508C-421F-9CA7-2E7BD36F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600-AAD6-4E8C-AE78-80827890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94CEE-4063-42B0-B7DA-2655EE3A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0D31F-8AD8-4819-9C0D-CEC703A9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13933-5FDF-4888-8F2D-89C2CDEA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D696A-BFB4-4794-B9D2-6830EBD4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EFF91-9AEE-4A90-80EF-60983C71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CF77E-C4B4-4957-8CCC-653767F2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DA4E6-58C1-4AF7-8995-2AA3876A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16C-B069-477E-8750-DFC6483C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D2517-D21A-4EDF-868A-D1AB27B6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373BE-DBBD-4680-9755-B6760098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946A3-4C4B-4ACD-8F60-3D9FB7F4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A56F7-72B4-4385-8582-775A2518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9DAD1-BB26-4F2D-9FCF-4CD75D08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DE3F-755A-4783-9525-CB1E9837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DD36-6DE4-489F-8D6C-B93C5869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574E-0D46-49B1-89DF-5D2416AF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98772-C0A3-4B77-A0F4-50FB19E8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A220-54B1-4F4F-9761-730DFEB9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9CD-28C2-4219-9BE1-BD9CDC49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DD9B-106D-4A0B-9EEA-2AB55690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B3419-731E-485B-9CD7-4A94BE08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F4A68-267D-43FF-8527-BABBE2D0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14D7-C110-485D-AB73-FA663958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263A-B379-43D3-BAD2-872A4569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A9A9-32AF-47F4-B908-FD36718A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F797-7BF0-4B3B-8FFD-723105B4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09C41-4EF2-4A46-9FF6-DDD699E8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B358-B509-4B0D-810F-ED511BA0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6B83-F651-44BE-AFE8-DB2D89A5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B59-3F18-4263-99C5-3AF26C19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EA37-4E53-4509-A8B0-B263356D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04AFB-9725-430D-9100-FEFA55EF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50F5-C412-47D5-8EAD-280CEF0C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6393D-FA9C-4A0F-92DA-E2B445E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001F-84B7-4943-B460-2DA22FA3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1E71B-92C1-49DC-AB0D-915E80FB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DC3E7-017F-468F-89BC-80912027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3F88-84E8-4A7F-8ED2-2D0C3199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B79B-D6F4-45B4-A7C8-67C5DE01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C36-6F68-428E-A435-7E2813BD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DC0-9809-427B-8ED6-BEA9DC61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888-1B4B-42D3-8154-8A7B0BBE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990-585A-49DA-A54E-9B63EE1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D90-279F-463C-AC0A-8B5D34D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C18F-6C83-4020-B6EB-D8E4484B4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3755-941A-4BA5-9562-A8ED1CB85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80A8-4E53-4DF6-9396-A9125921B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3039-E587-4E14-8A28-79CB50407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626256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7e7ff"/>
                </a:solidFill>
                <a:latin typeface="Arial"/>
              </a:rPr>
              <a:t>«МИР ВОДЫ»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435640" y="388620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еева Вера Николаевна, МАОУ-Гимназия № 47, г. Екатеринбур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Ответы на кроссворд «Гидросфера»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2276640"/>
          <a:ext cx="4572000" cy="41400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0" y="3888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горизонт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1.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Залив, омывающий часть западных берегов Евро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4.  Небольшой участок суши, со всех сторон окруженный во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5.  Плавающие ледяные горы материкового происхо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вертик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2.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Полуостров Южной Азии, вдающийся в Индийский оке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3.   Остров в Атлантическом океане к востоку от Гренландии, имеющий вулканическое происхожд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Задание 6. Подбери к терминам определения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476280"/>
          <a:ext cx="9144000" cy="6440400"/>
        </p:xfrm>
        <a:graphic>
          <a:graphicData uri="http://schemas.openxmlformats.org/drawingml/2006/table">
            <a:tbl>
              <a:tblPr/>
              <a:tblGrid>
                <a:gridCol w="1835280"/>
                <a:gridCol w="7308720"/>
              </a:tblGrid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 Бассейн ре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А.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глубление, по которому воды реки текут постоянн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 Водоразд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Б.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Вся площадь, с которой река собирает вод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 Долина ре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В.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Граница, разделяющая бассейны рек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 Речная сис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Г. Место выхода подземных вод на поверх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 Русло ре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.   Искусственный водое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 Устье ре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Е.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сто впадения реки в другую реку, озеро, мор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. Источ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Ж. 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глубление в земной коре, по которой течет река от истока к усть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 Озе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. Замкнутое природное углубление в земной коре, заполненное водо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. Пойм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И.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ека со всеми ее притока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. Пру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К.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Затопляемая часть речной долины во время разлива рек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Прямоугольник 5" descr=""/>
          <p:cNvPicPr/>
          <p:nvPr/>
        </p:nvPicPr>
        <p:blipFill>
          <a:blip r:embed="rId2"/>
          <a:stretch/>
        </p:blipFill>
        <p:spPr>
          <a:xfrm>
            <a:off x="353880" y="853920"/>
            <a:ext cx="8296560" cy="408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ние 1. Географический диктан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Красное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Средиземное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Берингово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Баренцево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Бискайский зали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Бенгальский за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уэцкий ка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Панамский ка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Гибралтар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Берингов про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о. Мадагаска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о. Гренла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п-ов Индост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п-ов Камчат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Курильские остр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Гавайские о-в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ние 2.  Подпиши части океа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                          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781360"/>
            <a:ext cx="8136000" cy="3024000"/>
          </a:xfrm>
          <a:custGeom>
            <a:avLst/>
            <a:gdLst/>
            <a:ahLst/>
            <a:rect l="l" t="t" r="r" b="b"/>
            <a:pathLst>
              <a:path w="3600" h="1440">
                <a:moveTo>
                  <a:pt x="0" y="30"/>
                </a:moveTo>
                <a:cubicBezTo>
                  <a:pt x="150" y="105"/>
                  <a:pt x="300" y="180"/>
                  <a:pt x="360" y="390"/>
                </a:cubicBezTo>
                <a:cubicBezTo>
                  <a:pt x="420" y="600"/>
                  <a:pt x="240" y="1140"/>
                  <a:pt x="360" y="1290"/>
                </a:cubicBezTo>
                <a:cubicBezTo>
                  <a:pt x="480" y="1440"/>
                  <a:pt x="840" y="1290"/>
                  <a:pt x="1080" y="1290"/>
                </a:cubicBezTo>
                <a:cubicBezTo>
                  <a:pt x="1320" y="1290"/>
                  <a:pt x="1590" y="1440"/>
                  <a:pt x="1800" y="1290"/>
                </a:cubicBezTo>
                <a:cubicBezTo>
                  <a:pt x="2010" y="1140"/>
                  <a:pt x="2190" y="540"/>
                  <a:pt x="2340" y="390"/>
                </a:cubicBezTo>
                <a:cubicBezTo>
                  <a:pt x="2490" y="240"/>
                  <a:pt x="2700" y="300"/>
                  <a:pt x="2700" y="390"/>
                </a:cubicBezTo>
                <a:cubicBezTo>
                  <a:pt x="2700" y="480"/>
                  <a:pt x="2280" y="870"/>
                  <a:pt x="2340" y="930"/>
                </a:cubicBezTo>
                <a:cubicBezTo>
                  <a:pt x="2400" y="990"/>
                  <a:pt x="2970" y="870"/>
                  <a:pt x="3060" y="750"/>
                </a:cubicBezTo>
                <a:cubicBezTo>
                  <a:pt x="3150" y="630"/>
                  <a:pt x="2850" y="330"/>
                  <a:pt x="2880" y="210"/>
                </a:cubicBezTo>
                <a:cubicBezTo>
                  <a:pt x="2910" y="90"/>
                  <a:pt x="3120" y="60"/>
                  <a:pt x="3240" y="30"/>
                </a:cubicBezTo>
                <a:cubicBezTo>
                  <a:pt x="3360" y="0"/>
                  <a:pt x="3540" y="30"/>
                  <a:pt x="3600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720400">
            <a:off x="2044800" y="2435760"/>
            <a:ext cx="1079640" cy="14436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719800">
            <a:off x="2188080" y="2645280"/>
            <a:ext cx="285840" cy="12564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 rot="2720400">
            <a:off x="1612080" y="1707480"/>
            <a:ext cx="365400" cy="57636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719800">
            <a:off x="3483720" y="2284920"/>
            <a:ext cx="285840" cy="12528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719800">
            <a:off x="2504160" y="2012040"/>
            <a:ext cx="942840" cy="49680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719800">
            <a:off x="1662480" y="2395080"/>
            <a:ext cx="861840" cy="43164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112000">
            <a:off x="2804760" y="2623680"/>
            <a:ext cx="731880" cy="630360"/>
          </a:xfrm>
          <a:custGeom>
            <a:avLst/>
            <a:gdLst/>
            <a:ahLst/>
            <a:rect l="l" t="t" r="r" b="b"/>
            <a:pathLst>
              <a:path w="210" h="660">
                <a:moveTo>
                  <a:pt x="0" y="90"/>
                </a:moveTo>
                <a:cubicBezTo>
                  <a:pt x="0" y="60"/>
                  <a:pt x="150" y="0"/>
                  <a:pt x="180" y="90"/>
                </a:cubicBezTo>
                <a:cubicBezTo>
                  <a:pt x="210" y="180"/>
                  <a:pt x="210" y="600"/>
                  <a:pt x="180" y="630"/>
                </a:cubicBezTo>
                <a:cubicBezTo>
                  <a:pt x="150" y="660"/>
                  <a:pt x="0" y="330"/>
                  <a:pt x="0" y="270"/>
                </a:cubicBezTo>
                <a:cubicBezTo>
                  <a:pt x="0" y="210"/>
                  <a:pt x="180" y="300"/>
                  <a:pt x="180" y="270"/>
                </a:cubicBezTo>
                <a:cubicBezTo>
                  <a:pt x="180" y="240"/>
                  <a:pt x="0" y="120"/>
                  <a:pt x="0" y="9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6591240" y="1193400"/>
            <a:ext cx="858960" cy="1728720"/>
          </a:xfrm>
          <a:custGeom>
            <a:avLst/>
            <a:gdLst/>
            <a:ahLst/>
            <a:rect l="l" t="t" r="r" b="b"/>
            <a:pathLst>
              <a:path w="570" h="570">
                <a:moveTo>
                  <a:pt x="180" y="180"/>
                </a:moveTo>
                <a:cubicBezTo>
                  <a:pt x="210" y="210"/>
                  <a:pt x="330" y="150"/>
                  <a:pt x="360" y="180"/>
                </a:cubicBezTo>
                <a:cubicBezTo>
                  <a:pt x="390" y="210"/>
                  <a:pt x="330" y="300"/>
                  <a:pt x="360" y="360"/>
                </a:cubicBezTo>
                <a:cubicBezTo>
                  <a:pt x="390" y="420"/>
                  <a:pt x="570" y="510"/>
                  <a:pt x="540" y="540"/>
                </a:cubicBezTo>
                <a:cubicBezTo>
                  <a:pt x="510" y="570"/>
                  <a:pt x="240" y="570"/>
                  <a:pt x="180" y="540"/>
                </a:cubicBezTo>
                <a:cubicBezTo>
                  <a:pt x="120" y="510"/>
                  <a:pt x="210" y="420"/>
                  <a:pt x="180" y="360"/>
                </a:cubicBezTo>
                <a:cubicBezTo>
                  <a:pt x="150" y="300"/>
                  <a:pt x="0" y="240"/>
                  <a:pt x="0" y="180"/>
                </a:cubicBezTo>
                <a:cubicBezTo>
                  <a:pt x="0" y="120"/>
                  <a:pt x="150" y="0"/>
                  <a:pt x="180" y="0"/>
                </a:cubicBezTo>
                <a:cubicBezTo>
                  <a:pt x="210" y="0"/>
                  <a:pt x="150" y="150"/>
                  <a:pt x="180" y="18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ли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хипела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ост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Задание 3. Квалификационный тест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ая причина возникновения поверхностных течен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приливы и отли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рельеф морского дн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остоянные вет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Если река имеет снеговое питание, то половодье наступа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ле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б) весной           в) в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Какое море более солен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 Средизем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Балтий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  Более низкую температуру поверхностных вод имеет зали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Бискайский           б) Мексиканс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Гудз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  Найди лишне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устье,   б) исток,      в)  дельта,    г)   пой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  Какие виды вод суши не встречаются в окрестностях Екатеринбург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болота   б) реки      в)  ледники    г)   оз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  Горные породы, почти не пропускающие вод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гранит   б) песок     в)  известняк   г)   гал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  Подземные воды, расположенные на первом водоупорном сло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межпластовые воды   б) водоносный слой     в)  грунтовые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80" y="228240"/>
            <a:ext cx="849924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Задание 4. Бухта «Загадка»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ишите название пролива разделяющего два материка, соединяющего два моря и два океана. Укажите название материков, морей и оке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е море омывает три части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 полуостров говорит о своем малом разме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 остров говорит о своей принадлежности к одежд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какие ворота не забить го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лив соединяет эти моря России. Одно из них окраинное, а другое внутреннее. Средняя глубина одного из них в 2-3 раза больше, а площадь в 15,5 раза больше. Первое севернее, но юго-западная часть его не замерзает. Второе море расположено южнее, но 7 месяцев в году покрыто льдами. Назовите эти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овите цветные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акого моря нет берег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рин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едизем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м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м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р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ренцево и Бел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тое, Черное, Красное, Бел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ргасс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Задание 5. Кроссворд «Гидросфера»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0" y="2276640"/>
          <a:ext cx="4572000" cy="41400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0" y="3888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горизонт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1.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Залив, омывающий часть западных берегов Евро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4.  Небольшой участок суши, со всех сторон окруженный во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5.  Плавающие ледяные горы материкового происхо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вертик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2.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Полуостров Южной Азии, вдающийся в Индийский оке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3.   Остров в Атлантическом океане к востоку от Гренландии, имеющий вулканическое происхожд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1:05:42Z</dcterms:created>
  <dc:creator>Гимназия</dc:creator>
  <dc:description/>
  <dc:language>en-US</dc:language>
  <cp:lastModifiedBy>Miheeva</cp:lastModifiedBy>
  <dcterms:modified xsi:type="dcterms:W3CDTF">2011-08-29T13:32:16Z</dcterms:modified>
  <cp:revision>39</cp:revision>
  <dc:subject/>
  <dc:title>Новая шкала оценивания как средство  саморазвития учащихся: из опыта раб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050000000000010243100207f6000400038000</vt:lpwstr>
  </property>
</Properties>
</file>