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443-707E-470D-92C7-DF6912AA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0AB-4D46-456A-AA20-182D566A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4ED-0C13-447C-984F-398C8A91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324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9644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324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9644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466-68C3-4883-9249-F7AB27A9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6720-8FC0-4437-B3E4-67D33F8A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0124-BD51-4245-8700-63C75F0B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683B-61D8-481D-BF32-31B52350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FD60-5321-4C01-AF57-3923C14E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168F-2C19-4A00-90F4-DCB10E98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68360" y="188640"/>
            <a:ext cx="6645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D328-E8A2-4B25-A352-280BEFB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5283-94F4-4D6F-B4B2-8FAB203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8C2-3846-497A-A676-0DC880E1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BACA-CA32-4AA9-B813-F24EBB1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F2BF-4AEF-4052-A45C-83E292F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D42C-0505-45D9-ADF7-9F4E5B5A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3C1A-8FF2-4A93-AC07-45BAA4A2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24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9644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24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9644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2D23-DE06-4FFA-8A1A-8E049FE6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6D2-0EB5-4A57-BC77-3E6C057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B39-1027-4B1E-B7BC-1CB8C2A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9EC-9B4C-4642-BFF6-FA78C2CA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360" y="188640"/>
            <a:ext cx="6645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94E-1665-4F04-9CB4-1C3F2A66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D27-595A-4BEA-A65D-BD7C14A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2B4-47B1-4034-BA97-7FB1F5C5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669-4704-4AA7-948A-0A54CB0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2268360" y="1484280"/>
            <a:ext cx="687564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339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237000"/>
            <a:ext cx="13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0D37-B8F0-44C7-A4C5-7BD401A82151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bdf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06F2-BB9B-4776-8FFA-A8B3DD4D1AD3}" type="slidenum">
              <a:rPr b="0" lang="ru-RU" sz="1400" spc="-1" strike="noStrike">
                <a:solidFill>
                  <a:srgbClr val="fbdf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886520" cy="1357560"/>
          </a:xfrm>
          <a:prstGeom prst="rect">
            <a:avLst/>
          </a:prstGeom>
          <a:solidFill>
            <a:srgbClr val="fbdf5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профессий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5640" y="2071800"/>
            <a:ext cx="6429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с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фесси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юде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ольк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Бога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удья и врач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окра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48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е выгодные профессии</a:t>
            </a:r>
            <a:br>
              <a:rPr sz="4400"/>
            </a:b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3080" y="1600200"/>
            <a:ext cx="67867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литик 4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едприниматель, бизнесмен 4,2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ботник государственных органов, администрации 4,1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Журналист 3,5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Полицейский 3,0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вященнослужитель 3,0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Ученый 3,0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Врач 2,8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Военнослужащий 2,7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читель 2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880" y="1886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ые престижные профессии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2720" y="1600200"/>
            <a:ext cx="6821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литик 4,0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едприниматель, бизнесмен 3,9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ботник государственных органов, администрации 3,9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Священнослужитель 3,6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Журналист 3,5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ченый 3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рач 3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Военнослужащий 3,0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 Полицейский 3,06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читель 2,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188640"/>
            <a:ext cx="827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ая профессия для детей</a:t>
            </a:r>
            <a:br>
              <a:rPr sz="4400"/>
            </a:b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00160" y="1285560"/>
            <a:ext cx="6964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рач 3,9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ботник государственных органов, администрации 3,5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едприниматель, бизнесмен 3,5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Ученый 3,3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Журналист 3,08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оеннослужащий 2,7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олитик 2,7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читель 2,6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 Полицейский 2,38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вященнослужитель 2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5640" y="1500120"/>
            <a:ext cx="66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сихологи считают, что при выборе профессии очень важно соответствие между психологическими особенностями человека и соответствующими характеристиками профессии. Профессия должна быть </a:t>
            </a: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ИНТЕР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3214800" y="2143080"/>
            <a:ext cx="5072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аша будущая проф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ыступление 11 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Анализ т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000160" y="1428480"/>
            <a:ext cx="7143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3c00"/>
                </a:solidFill>
                <a:latin typeface="Arial"/>
              </a:rPr>
              <a:t>Итак, разобравшись в своих способностях, интересах и личностных чертах, ты приступаешь к выбору уже не профессии - а ВУЗа или факультета. Выясни, какие специальности и специализации соответствуют интересующему тебя виду деятельности. Это не всегда однозначное соответствие (например, чтобы ремонтировать компьютеры, нужно получить специальность "радиоэлектроника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2286000" y="1714680"/>
            <a:ext cx="650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инятие решения должно основываться на многих факторах уже не психологического характера: репутация ВУЗА и конкур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мнение друзей, родителей, стоимость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Не поленись и выпиши на отдельном листочке бумаги плюсы и минусы каждого из вариа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оанализируйте данные вместе с друзьями и родствен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14720" y="1428840"/>
            <a:ext cx="6929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И всегда помни: </a:t>
            </a: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окончательный выбор только за тобой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ибо выбирая профессию, ты выбираешь судьбу.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офессия должна приносить удовольствие (положительные эмоции тебе) и обеспечивать максимальную реализацию твоих возмож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(пользу обществ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b33c00"/>
                </a:solidFill>
                <a:uFillTx/>
                <a:latin typeface="Arial"/>
              </a:rPr>
              <a:t>Самая трудная профессия — быть человеком и овладеть ею задача номер од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28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се профессии важны,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се профессии нужны</a:t>
            </a:r>
            <a:br>
              <a:rPr sz="3200"/>
            </a:b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86" name="Содержимое 3" descr="c27c5437272f.png"/>
          <p:cNvPicPr/>
          <p:nvPr/>
        </p:nvPicPr>
        <p:blipFill>
          <a:blip r:embed="rId1"/>
          <a:stretch/>
        </p:blipFill>
        <p:spPr>
          <a:xfrm>
            <a:off x="2462040" y="1627200"/>
            <a:ext cx="1287720" cy="2378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 34.jpg"/>
          <p:cNvPicPr/>
          <p:nvPr/>
        </p:nvPicPr>
        <p:blipFill>
          <a:blip r:embed="rId2"/>
          <a:stretch/>
        </p:blipFill>
        <p:spPr>
          <a:xfrm>
            <a:off x="2535120" y="3340080"/>
            <a:ext cx="118296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iCAMC203M.jpg"/>
          <p:cNvPicPr/>
          <p:nvPr/>
        </p:nvPicPr>
        <p:blipFill>
          <a:blip r:embed="rId3"/>
          <a:stretch/>
        </p:blipFill>
        <p:spPr>
          <a:xfrm>
            <a:off x="4754520" y="1828800"/>
            <a:ext cx="981000" cy="1127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врач.jpg"/>
          <p:cNvPicPr/>
          <p:nvPr/>
        </p:nvPicPr>
        <p:blipFill>
          <a:blip r:embed="rId4"/>
          <a:stretch/>
        </p:blipFill>
        <p:spPr>
          <a:xfrm>
            <a:off x="7327800" y="1895400"/>
            <a:ext cx="951120" cy="1360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iCA7Z72AC.jpg"/>
          <p:cNvPicPr/>
          <p:nvPr/>
        </p:nvPicPr>
        <p:blipFill>
          <a:blip r:embed="rId5"/>
          <a:stretch/>
        </p:blipFill>
        <p:spPr>
          <a:xfrm>
            <a:off x="5967360" y="3328920"/>
            <a:ext cx="1019160" cy="1279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i 55.jpg"/>
          <p:cNvPicPr/>
          <p:nvPr/>
        </p:nvPicPr>
        <p:blipFill>
          <a:blip r:embed="rId6"/>
          <a:stretch/>
        </p:blipFill>
        <p:spPr>
          <a:xfrm>
            <a:off x="7040520" y="5041800"/>
            <a:ext cx="969840" cy="1127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i 66.jpg"/>
          <p:cNvPicPr/>
          <p:nvPr/>
        </p:nvPicPr>
        <p:blipFill>
          <a:blip r:embed="rId7"/>
          <a:stretch/>
        </p:blipFill>
        <p:spPr>
          <a:xfrm>
            <a:off x="2535120" y="4767120"/>
            <a:ext cx="98928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 77.jpg"/>
          <p:cNvPicPr/>
          <p:nvPr/>
        </p:nvPicPr>
        <p:blipFill>
          <a:blip r:embed="rId8"/>
          <a:stretch/>
        </p:blipFill>
        <p:spPr>
          <a:xfrm>
            <a:off x="7607160" y="3340080"/>
            <a:ext cx="99396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13228.jpg"/>
          <p:cNvPicPr/>
          <p:nvPr/>
        </p:nvPicPr>
        <p:blipFill>
          <a:blip r:embed="rId9"/>
          <a:stretch/>
        </p:blipFill>
        <p:spPr>
          <a:xfrm>
            <a:off x="4541760" y="4754520"/>
            <a:ext cx="1316160" cy="120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2a3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2a306"/>
                </a:solidFill>
                <a:latin typeface="Arial"/>
              </a:rPr>
              <a:t>Самая трудная профессия — быть человеком и овладеть ею задача номер од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1600200"/>
            <a:ext cx="6678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  <a:ea typeface="Arial"/>
              </a:rPr>
              <a:t>Профессия – это определенный вид трудовой деятельности, характеризующийся суммой требований к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  <a:ea typeface="Arial"/>
              </a:rPr>
              <a:t>Специальность – вид занятий в рамках одной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3c00"/>
                </a:solidFill>
                <a:latin typeface="Arial"/>
                <a:ea typeface="Arial"/>
              </a:rPr>
              <a:t>Классификация – это осмысленный порядок вещей, явлений, разделение их на разновидности по каким-то важным призна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189000"/>
            <a:ext cx="871560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Классификацию видов деятельности еще в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веке предложил известный историк и государственный деятель В.Н. Татищев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5640" y="2000160"/>
            <a:ext cx="66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Нужные науки (образование, здравоохранение, экономика,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Полезные науки (математика, физика, биология, сельск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Щегольские науки (литература, искус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Тщетные науки (алхимия, астроно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Вредительские науки (колдов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8864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имеры профессий</a:t>
            </a:r>
            <a:br>
              <a:rPr sz="44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о предмету труд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03" name="Picture 17" descr="Рисунок5"/>
          <p:cNvPicPr/>
          <p:nvPr/>
        </p:nvPicPr>
        <p:blipFill>
          <a:blip r:embed="rId1">
            <a:grayscl/>
          </a:blip>
          <a:stretch/>
        </p:blipFill>
        <p:spPr>
          <a:xfrm>
            <a:off x="2143080" y="2286000"/>
            <a:ext cx="68785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7520" y="21384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Группы профессий по условиям руд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000" y="1599840"/>
            <a:ext cx="6696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5715000" y="1714680"/>
            <a:ext cx="3166920" cy="185724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715000" y="4714920"/>
            <a:ext cx="3214800" cy="172728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286000" y="4643280"/>
            <a:ext cx="3071880" cy="178596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ы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357280" y="1571760"/>
            <a:ext cx="2857680" cy="201276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климат (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9720" y="18864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имеры профессий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11" name="Picture 4" descr="Рисунок17"/>
          <p:cNvPicPr/>
          <p:nvPr/>
        </p:nvPicPr>
        <p:blipFill>
          <a:blip r:embed="rId1">
            <a:grayscl/>
          </a:blip>
          <a:stretch/>
        </p:blipFill>
        <p:spPr>
          <a:xfrm>
            <a:off x="2268360" y="1782720"/>
            <a:ext cx="6696360" cy="4160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5:58:00Z</dcterms:created>
  <dc:creator>Loner-XP</dc:creator>
  <dc:description/>
  <dc:language>en-US</dc:language>
  <cp:lastModifiedBy>Loner-XP</cp:lastModifiedBy>
  <dcterms:modified xsi:type="dcterms:W3CDTF">2011-08-31T17:00:51Z</dcterms:modified>
  <cp:revision>7</cp:revision>
  <dc:subject/>
  <dc:title>Мир професс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20000000000010250300207f7000400038000</vt:lpwstr>
  </property>
</Properties>
</file>