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E15-10A7-4553-9D52-E45883D2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66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68000" y="3964320"/>
            <a:ext cx="66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373-36F3-4705-82DD-45893E0C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9952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FBD-DC5D-47E9-8082-F43F7BBB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32400" y="160020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96440" y="160020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68000" y="396432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32400" y="396432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96440" y="396432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AA98-6ACE-4135-A013-A8225524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5421-58D5-43B7-A5B5-0249DC32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68000" y="16002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CA02-CDAD-4E0C-BA23-7BFBCD18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164D-A1D7-4BDD-AB80-04BC41F2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E633-E406-4A03-AB17-A1A507BB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E64E-93CE-46AD-958A-3606DF61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68360" y="188640"/>
            <a:ext cx="6645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17C6-BF0D-4033-AD20-032DB991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64CB-BE9E-4EBB-9C2F-D33277E1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68000" y="16002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FBBA-6BD0-46ED-821C-E1E5E666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9952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4C3A-D337-4B0D-AC3F-B4154E62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66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64A7-CB8A-43FF-AE89-B8CE7E27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66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68000" y="3964320"/>
            <a:ext cx="66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4644-9C8A-401C-8FB1-DC006EB7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69952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F7DE-A501-4021-A8BF-E29AE1E9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2400" y="160020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96440" y="160020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68000" y="396432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532400" y="396432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96440" y="3964320"/>
            <a:ext cx="2156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0367-9101-4266-9D1B-721E92E7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BC7-2AA4-457D-8FB0-7F159B93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BE1-5A90-4514-97F6-3DFF7094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936-FFDE-42D6-A6F8-B4CBAB6B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360" y="188640"/>
            <a:ext cx="6645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19B8-CB03-45FA-9459-B4B947FE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1B2-6455-4A33-BE0F-C692CF73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99520" y="396432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D6C-4D79-4FDA-A22F-84327C64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99520" y="1600200"/>
            <a:ext cx="32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68000" y="3964320"/>
            <a:ext cx="66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FD1-EC65-442A-A094-06D4EF76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2268360" y="1484280"/>
            <a:ext cx="6875640" cy="537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68000" y="16002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339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558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360" y="6237000"/>
            <a:ext cx="13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1317-27D4-49D9-B698-D0806BC40B32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68000" y="16002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bdf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2DA2-60EC-402E-B866-75D3EC2B4905}" type="slidenum">
              <a:rPr b="0" lang="ru-RU" sz="1400" spc="-1" strike="noStrike">
                <a:solidFill>
                  <a:srgbClr val="fbdf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886520" cy="1357560"/>
          </a:xfrm>
          <a:prstGeom prst="rect">
            <a:avLst/>
          </a:prstGeom>
          <a:solidFill>
            <a:srgbClr val="fbdf53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р профессий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5640" y="2071800"/>
            <a:ext cx="64292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се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рофессии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людей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только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три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Бога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учитель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судья и врач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" -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Сокра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48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ые выгодные профессии</a:t>
            </a:r>
            <a:br>
              <a:rPr sz="4400"/>
            </a:b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43080" y="1600200"/>
            <a:ext cx="67867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олитик 4,49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едприниматель, бизнесмен 4,24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Работник государственных органов, администрации 4,12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Журналист 3,53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 Полицейский 3,07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Священнослужитель 3,07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Ученый 3,01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Врач 2,84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Военнослужащий 2,72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Учитель 2,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5880" y="1886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мые престижные профессии</a:t>
            </a:r>
            <a:br>
              <a:rPr sz="4000"/>
            </a:b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142720" y="1600200"/>
            <a:ext cx="6821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олитик 4,03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едприниматель, бизнесмен 3,94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Работник государственных органов, администрации 3,92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Священнослужитель 3,60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Журналист 3,53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Ученый 3,49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Врач 3,49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Военнослужащий 3,09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 Полицейский 3,06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Учитель 2,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2600" y="188640"/>
            <a:ext cx="827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чшая профессия для детей</a:t>
            </a:r>
            <a:br>
              <a:rPr sz="4400"/>
            </a:b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00160" y="1285560"/>
            <a:ext cx="69645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Врач 3,90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Работник государственных органов, администрации 3,54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едприниматель, бизнесмен 3,51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Ученый 3,30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Журналист 3,08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Военнослужащий 2,74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Политик 2,73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Учитель 2,67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 Полицейский 2,38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Священнослужитель 2,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285640" y="1500120"/>
            <a:ext cx="66438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Психологи считают, что при выборе профессии очень важно соответствие между психологическими особенностями человека и соответствующими характеристиками профессии. Профессия должна быть </a:t>
            </a:r>
            <a:r>
              <a:rPr b="0" lang="ru-RU" sz="3200" spc="-1" strike="noStrike" u="sng">
                <a:solidFill>
                  <a:srgbClr val="b33c00"/>
                </a:solidFill>
                <a:uFillTx/>
                <a:latin typeface="Arial"/>
              </a:rPr>
              <a:t>ИНТЕРЕ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3214800" y="2143080"/>
            <a:ext cx="50720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Ваша будущая проф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выступление 11 классни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Тес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Анализ тест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000160" y="1428480"/>
            <a:ext cx="7143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3c00"/>
                </a:solidFill>
                <a:latin typeface="Arial"/>
              </a:rPr>
              <a:t>Итак, разобравшись в своих способностях, интересах и личностных чертах, ты приступаешь к выбору уже не профессии - а ВУЗа или факультета. Выясни, какие специальности и специализации соответствуют интересующему тебя виду деятельности. Это не всегда однозначное соответствие (например, чтобы ремонтировать компьютеры, нужно получить специальность "радиоэлектроника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"/>
          <p:cNvSpPr/>
          <p:nvPr/>
        </p:nvSpPr>
        <p:spPr>
          <a:xfrm>
            <a:off x="2286000" y="1714680"/>
            <a:ext cx="650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Принятие решения должно основываться на многих факторах уже не психологического характера: репутация ВУЗА и конкур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мнение друзей, родителей, стоимость обу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448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Не поленись и выпиши на отдельном листочке бумаги плюсы и минусы каждого из вариа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Проанализируйте данные вместе с друзьями и родственни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214720" y="1428840"/>
            <a:ext cx="69292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И всегда помни: </a:t>
            </a:r>
            <a:r>
              <a:rPr b="0" lang="ru-RU" sz="3200" spc="-1" strike="noStrike" u="sng">
                <a:solidFill>
                  <a:srgbClr val="b33c00"/>
                </a:solidFill>
                <a:uFillTx/>
                <a:latin typeface="Arial"/>
              </a:rPr>
              <a:t>окончательный выбор только за тобой</a:t>
            </a: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b33c00"/>
                </a:solidFill>
                <a:uFillTx/>
                <a:latin typeface="Arial"/>
              </a:rPr>
              <a:t>ибо выбирая профессию, ты выбираешь судьбу.</a:t>
            </a: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Профессия должна приносить удовольствие (положительные эмоции тебе) и обеспечивать максимальную реализацию твоих возможнос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</a:rPr>
              <a:t>(пользу обществ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448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b33c00"/>
                </a:solidFill>
                <a:uFillTx/>
                <a:latin typeface="Arial"/>
              </a:rPr>
              <a:t>Самая трудная профессия — быть человеком и овладеть ею задача номер од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62812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все профессии важны,</a:t>
            </a:r>
            <a:br>
              <a:rPr sz="3200"/>
            </a:b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все профессии нужны</a:t>
            </a:r>
            <a:br>
              <a:rPr sz="3200"/>
            </a:b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86" name="Содержимое 3" descr="c27c5437272f.png"/>
          <p:cNvPicPr/>
          <p:nvPr/>
        </p:nvPicPr>
        <p:blipFill>
          <a:blip r:embed="rId1"/>
          <a:stretch/>
        </p:blipFill>
        <p:spPr>
          <a:xfrm>
            <a:off x="2462040" y="1627200"/>
            <a:ext cx="1287720" cy="23781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i 34.jpg"/>
          <p:cNvPicPr/>
          <p:nvPr/>
        </p:nvPicPr>
        <p:blipFill>
          <a:blip r:embed="rId2"/>
          <a:stretch/>
        </p:blipFill>
        <p:spPr>
          <a:xfrm>
            <a:off x="2535120" y="3340080"/>
            <a:ext cx="118296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iCAMC203M.jpg"/>
          <p:cNvPicPr/>
          <p:nvPr/>
        </p:nvPicPr>
        <p:blipFill>
          <a:blip r:embed="rId3"/>
          <a:stretch/>
        </p:blipFill>
        <p:spPr>
          <a:xfrm>
            <a:off x="4754520" y="1828800"/>
            <a:ext cx="981000" cy="11271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врач.jpg"/>
          <p:cNvPicPr/>
          <p:nvPr/>
        </p:nvPicPr>
        <p:blipFill>
          <a:blip r:embed="rId4"/>
          <a:stretch/>
        </p:blipFill>
        <p:spPr>
          <a:xfrm>
            <a:off x="7327800" y="1895400"/>
            <a:ext cx="951120" cy="13604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iCA7Z72AC.jpg"/>
          <p:cNvPicPr/>
          <p:nvPr/>
        </p:nvPicPr>
        <p:blipFill>
          <a:blip r:embed="rId5"/>
          <a:stretch/>
        </p:blipFill>
        <p:spPr>
          <a:xfrm>
            <a:off x="5967360" y="3328920"/>
            <a:ext cx="1019160" cy="12794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8" descr="i 55.jpg"/>
          <p:cNvPicPr/>
          <p:nvPr/>
        </p:nvPicPr>
        <p:blipFill>
          <a:blip r:embed="rId6"/>
          <a:stretch/>
        </p:blipFill>
        <p:spPr>
          <a:xfrm>
            <a:off x="7040520" y="5041800"/>
            <a:ext cx="969840" cy="11271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i 66.jpg"/>
          <p:cNvPicPr/>
          <p:nvPr/>
        </p:nvPicPr>
        <p:blipFill>
          <a:blip r:embed="rId7"/>
          <a:stretch/>
        </p:blipFill>
        <p:spPr>
          <a:xfrm>
            <a:off x="2535120" y="4767120"/>
            <a:ext cx="989280" cy="2376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0" descr="i 77.jpg"/>
          <p:cNvPicPr/>
          <p:nvPr/>
        </p:nvPicPr>
        <p:blipFill>
          <a:blip r:embed="rId8"/>
          <a:stretch/>
        </p:blipFill>
        <p:spPr>
          <a:xfrm>
            <a:off x="7607160" y="3340080"/>
            <a:ext cx="993960" cy="25732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1" descr="13228.jpg"/>
          <p:cNvPicPr/>
          <p:nvPr/>
        </p:nvPicPr>
        <p:blipFill>
          <a:blip r:embed="rId9"/>
          <a:stretch/>
        </p:blipFill>
        <p:spPr>
          <a:xfrm>
            <a:off x="4541760" y="4754520"/>
            <a:ext cx="1316160" cy="1208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448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2a3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2a306"/>
                </a:solidFill>
                <a:latin typeface="Arial"/>
              </a:rPr>
              <a:t>Самая трудная профессия — быть человеком и овладеть ею задача номер од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86000" y="1600200"/>
            <a:ext cx="66787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  <a:ea typeface="Arial"/>
              </a:rPr>
              <a:t>Профессия – это определенный вид трудовой деятельности, характеризующийся суммой требований к челове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3c00"/>
                </a:solidFill>
                <a:latin typeface="Arial"/>
                <a:ea typeface="Arial"/>
              </a:rPr>
              <a:t>Специальность – вид занятий в рамках одной проф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4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68000" y="16002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33c00"/>
                </a:solidFill>
                <a:latin typeface="Arial"/>
                <a:ea typeface="Arial"/>
              </a:rPr>
              <a:t>Классификация – это осмысленный порядок вещей, явлений, разделение их на разновидности по каким-то важным признак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33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189000"/>
            <a:ext cx="8715600" cy="16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</a:rPr>
              <a:t>Классификацию видов деятельности еще в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XVIII </a:t>
            </a:r>
            <a:r>
              <a:rPr b="0" lang="ru-RU" sz="3200" spc="-1" strike="noStrike">
                <a:solidFill>
                  <a:srgbClr val="262626"/>
                </a:solidFill>
                <a:latin typeface="Arial"/>
              </a:rPr>
              <a:t>веке предложил известный историк и государственный деятель В.Н. Татищев</a:t>
            </a:r>
            <a:endParaRPr b="0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5640" y="2000160"/>
            <a:ext cx="66438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3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3c00"/>
                </a:solidFill>
                <a:latin typeface="Arial"/>
              </a:rPr>
              <a:t>Нужные науки (образование, здравоохранение, экономика,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3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3c00"/>
                </a:solidFill>
                <a:latin typeface="Arial"/>
              </a:rPr>
              <a:t>Полезные науки (математика, физика, биология, сельское хозяй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3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3c00"/>
                </a:solidFill>
                <a:latin typeface="Arial"/>
              </a:rPr>
              <a:t>Щегольские науки (литература, искус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3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3c00"/>
                </a:solidFill>
                <a:latin typeface="Arial"/>
              </a:rPr>
              <a:t>Тщетные науки (алхимия, астроном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33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3c00"/>
                </a:solidFill>
                <a:latin typeface="Arial"/>
              </a:rPr>
              <a:t>Вредительские науки (колдов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188640"/>
            <a:ext cx="841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Примеры профессий</a:t>
            </a:r>
            <a:br>
              <a:rPr sz="4400"/>
            </a:b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по предмету труда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103" name="Picture 17" descr="Рисунок5"/>
          <p:cNvPicPr/>
          <p:nvPr/>
        </p:nvPicPr>
        <p:blipFill>
          <a:blip r:embed="rId1">
            <a:grayscl/>
          </a:blip>
          <a:stretch/>
        </p:blipFill>
        <p:spPr>
          <a:xfrm>
            <a:off x="2143080" y="2286000"/>
            <a:ext cx="6878520" cy="3714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7520" y="21384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Группы профессий по условиям руда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68000" y="1599840"/>
            <a:ext cx="66963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5715000" y="1714680"/>
            <a:ext cx="3166920" cy="1857240"/>
          </a:xfrm>
          <a:prstGeom prst="flowChart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5715000" y="4714920"/>
            <a:ext cx="3214800" cy="1727280"/>
          </a:xfrm>
          <a:prstGeom prst="flowChart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286000" y="4643280"/>
            <a:ext cx="3071880" cy="1785960"/>
          </a:xfrm>
          <a:prstGeom prst="flowChart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бы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2357280" y="1571760"/>
            <a:ext cx="2857680" cy="2012760"/>
          </a:xfrm>
          <a:prstGeom prst="flowChart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ы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т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кроклимат (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9720" y="188640"/>
            <a:ext cx="791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Примеры профессий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111" name="Picture 4" descr="Рисунок17"/>
          <p:cNvPicPr/>
          <p:nvPr/>
        </p:nvPicPr>
        <p:blipFill>
          <a:blip r:embed="rId1">
            <a:grayscl/>
          </a:blip>
          <a:stretch/>
        </p:blipFill>
        <p:spPr>
          <a:xfrm>
            <a:off x="2268360" y="1782720"/>
            <a:ext cx="6696360" cy="41608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5:58:00Z</dcterms:created>
  <dc:creator>Loner-XP</dc:creator>
  <dc:description/>
  <dc:language>en-US</dc:language>
  <cp:lastModifiedBy>Loner-XP</cp:lastModifiedBy>
  <dcterms:modified xsi:type="dcterms:W3CDTF">2011-08-31T17:00:51Z</dcterms:modified>
  <cp:revision>7</cp:revision>
  <dc:subject/>
  <dc:title>Мир професс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120000000000010250300207f7000400038000</vt:lpwstr>
  </property>
</Properties>
</file>