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F83-220D-49A4-B2C6-89079ED0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38C-395D-4690-A315-B0DF54A8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C4B-42DA-49A4-B4A6-0E8456E4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324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9644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680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324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9644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B8C-FE8F-45B7-BE02-75ABA61F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E59B-AFDF-4CF7-B80C-DB319CD6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D5FC-C2B1-4DC1-86E7-A6DA650B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0206-3134-4876-93F9-351ECAD7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8070-1AB0-4DFD-A11D-538743D2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CFBE-7803-4DAE-869A-17D299AA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68360" y="188640"/>
            <a:ext cx="6645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FF3E-B800-401B-AE60-E3FE8670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E254-E0EA-4CA5-A876-2BE38573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4A5-45FC-4B3D-930D-663DD83C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29CF-48C4-475F-885C-83FC52DC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9266-D054-4F20-BA4B-13EE1C66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B764-E3BC-44B8-9EE0-A9EDA240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398D-8A92-4511-A20C-EBE4E121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24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9644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680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324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9644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4C85-3753-4366-8541-A441567F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8B7-668D-48D2-BF40-3C820B0A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5A7-D165-4E0E-8A69-434C529E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147-C39F-4D92-835A-F1519CE6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360" y="188640"/>
            <a:ext cx="6645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870-EB5F-4E6A-95A6-B547DF19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274-8709-4007-AC29-EE322449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57E-7BC0-4B05-8D72-EE3DAFF6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3C0-BBD7-4DB8-9D74-56D4C07E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2268360" y="1484280"/>
            <a:ext cx="6875640" cy="53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339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237000"/>
            <a:ext cx="13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DA62-B33A-4F0F-A29E-B3FC94904819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bdf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97DB-8DA8-4FE9-B665-60ED8740BA41}" type="slidenum">
              <a:rPr b="0" lang="ru-RU" sz="1400" spc="-1" strike="noStrike">
                <a:solidFill>
                  <a:srgbClr val="fbdf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886520" cy="1357560"/>
          </a:xfrm>
          <a:prstGeom prst="rect">
            <a:avLst/>
          </a:prstGeom>
          <a:solidFill>
            <a:srgbClr val="fbdf5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 профессий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5640" y="2071800"/>
            <a:ext cx="64292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с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офесси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юдей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ольк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р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Бога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учитель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удья и врач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окра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48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ые выгодные профессии</a:t>
            </a:r>
            <a:br>
              <a:rPr sz="4400"/>
            </a:b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3080" y="1600200"/>
            <a:ext cx="67867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литик 4,4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едприниматель, бизнесмен 4,2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ботник государственных органов, администрации 4,1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Журналист 3,5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 Полицейский 3,07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вященнослужитель 3,07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Ученый 3,01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Врач 2,8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Военнослужащий 2,7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Учитель 2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5880" y="1886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мые престижные профессии</a:t>
            </a:r>
            <a:br>
              <a:rPr sz="4000"/>
            </a:b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42720" y="1600200"/>
            <a:ext cx="6821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литик 4,0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едприниматель, бизнесмен 3,9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ботник государственных органов, администрации 3,9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Священнослужитель 3,60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Журналист 3,5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ченый 3,4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Врач 3,4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Военнослужащий 3,0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 Полицейский 3,06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Учитель 2,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188640"/>
            <a:ext cx="827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шая профессия для детей</a:t>
            </a:r>
            <a:br>
              <a:rPr sz="4400"/>
            </a:b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00160" y="1285560"/>
            <a:ext cx="6964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рач 3,90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аботник государственных органов, администрации 3,5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едприниматель, бизнесмен 3,51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Ученый 3,30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Журналист 3,08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оеннослужащий 2,7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Политик 2,7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Учитель 2,67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 Полицейский 2,38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Священнослужитель 2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85640" y="1500120"/>
            <a:ext cx="6643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сихологи считают, что при выборе профессии очень важно соответствие между психологическими особенностями человека и соответствующими характеристиками профессии. Профессия должна быть </a:t>
            </a:r>
            <a:r>
              <a:rPr b="0" lang="ru-RU" sz="3200" spc="-1" strike="noStrike" u="sng">
                <a:solidFill>
                  <a:srgbClr val="b33c00"/>
                </a:solidFill>
                <a:uFillTx/>
                <a:latin typeface="Arial"/>
              </a:rPr>
              <a:t>ИНТЕР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3214800" y="2143080"/>
            <a:ext cx="50720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аша будущая проф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выступление 11 класс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Анализ тес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000160" y="1428480"/>
            <a:ext cx="7143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3c00"/>
                </a:solidFill>
                <a:latin typeface="Arial"/>
              </a:rPr>
              <a:t>Итак, разобравшись в своих способностях, интересах и личностных чертах, ты приступаешь к выбору уже не профессии - а ВУЗа или факультета. Выясни, какие специальности и специализации соответствуют интересующему тебя виду деятельности. Это не всегда однозначное соответствие (например, чтобы ремонтировать компьютеры, нужно получить специальность "радиоэлектроника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2286000" y="1714680"/>
            <a:ext cx="650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ринятие решения должно основываться на многих факторах уже не психологического характера: репутация ВУЗА и конкур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мнение друзей, родителей, стоимость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448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Не поленись и выпиши на отдельном листочке бумаги плюсы и минусы каждого из вариа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роанализируйте данные вместе с друзьями и родственни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14720" y="1428840"/>
            <a:ext cx="69292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И всегда помни: </a:t>
            </a:r>
            <a:r>
              <a:rPr b="0" lang="ru-RU" sz="3200" spc="-1" strike="noStrike" u="sng">
                <a:solidFill>
                  <a:srgbClr val="b33c00"/>
                </a:solidFill>
                <a:uFillTx/>
                <a:latin typeface="Arial"/>
              </a:rPr>
              <a:t>окончательный выбор только за тобой</a:t>
            </a: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33c00"/>
                </a:solidFill>
                <a:uFillTx/>
                <a:latin typeface="Arial"/>
              </a:rPr>
              <a:t>ибо выбирая профессию, ты выбираешь судьбу.</a:t>
            </a: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рофессия должна приносить удовольствие (положительные эмоции тебе) и обеспечивать максимальную реализацию твоих возможнос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(пользу обществ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448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b33c00"/>
                </a:solidFill>
                <a:uFillTx/>
                <a:latin typeface="Arial"/>
              </a:rPr>
              <a:t>Самая трудная профессия — быть человеком и овладеть ею задача номер од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2812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се профессии важны,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се профессии нужны</a:t>
            </a:r>
            <a:br>
              <a:rPr sz="3200"/>
            </a:b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86" name="Содержимое 3" descr="c27c5437272f.png"/>
          <p:cNvPicPr/>
          <p:nvPr/>
        </p:nvPicPr>
        <p:blipFill>
          <a:blip r:embed="rId1"/>
          <a:stretch/>
        </p:blipFill>
        <p:spPr>
          <a:xfrm>
            <a:off x="2462040" y="1627200"/>
            <a:ext cx="1287720" cy="2378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i 34.jpg"/>
          <p:cNvPicPr/>
          <p:nvPr/>
        </p:nvPicPr>
        <p:blipFill>
          <a:blip r:embed="rId2"/>
          <a:stretch/>
        </p:blipFill>
        <p:spPr>
          <a:xfrm>
            <a:off x="2535120" y="3340080"/>
            <a:ext cx="118296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iCAMC203M.jpg"/>
          <p:cNvPicPr/>
          <p:nvPr/>
        </p:nvPicPr>
        <p:blipFill>
          <a:blip r:embed="rId3"/>
          <a:stretch/>
        </p:blipFill>
        <p:spPr>
          <a:xfrm>
            <a:off x="4754520" y="1828800"/>
            <a:ext cx="981000" cy="1127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врач.jpg"/>
          <p:cNvPicPr/>
          <p:nvPr/>
        </p:nvPicPr>
        <p:blipFill>
          <a:blip r:embed="rId4"/>
          <a:stretch/>
        </p:blipFill>
        <p:spPr>
          <a:xfrm>
            <a:off x="7327800" y="1895400"/>
            <a:ext cx="951120" cy="13604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iCA7Z72AC.jpg"/>
          <p:cNvPicPr/>
          <p:nvPr/>
        </p:nvPicPr>
        <p:blipFill>
          <a:blip r:embed="rId5"/>
          <a:stretch/>
        </p:blipFill>
        <p:spPr>
          <a:xfrm>
            <a:off x="5967360" y="3328920"/>
            <a:ext cx="1019160" cy="1279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i 55.jpg"/>
          <p:cNvPicPr/>
          <p:nvPr/>
        </p:nvPicPr>
        <p:blipFill>
          <a:blip r:embed="rId6"/>
          <a:stretch/>
        </p:blipFill>
        <p:spPr>
          <a:xfrm>
            <a:off x="7040520" y="5041800"/>
            <a:ext cx="969840" cy="1127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i 66.jpg"/>
          <p:cNvPicPr/>
          <p:nvPr/>
        </p:nvPicPr>
        <p:blipFill>
          <a:blip r:embed="rId7"/>
          <a:stretch/>
        </p:blipFill>
        <p:spPr>
          <a:xfrm>
            <a:off x="2535120" y="4767120"/>
            <a:ext cx="989280" cy="2376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i 77.jpg"/>
          <p:cNvPicPr/>
          <p:nvPr/>
        </p:nvPicPr>
        <p:blipFill>
          <a:blip r:embed="rId8"/>
          <a:stretch/>
        </p:blipFill>
        <p:spPr>
          <a:xfrm>
            <a:off x="7607160" y="3340080"/>
            <a:ext cx="993960" cy="2573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13228.jpg"/>
          <p:cNvPicPr/>
          <p:nvPr/>
        </p:nvPicPr>
        <p:blipFill>
          <a:blip r:embed="rId9"/>
          <a:stretch/>
        </p:blipFill>
        <p:spPr>
          <a:xfrm>
            <a:off x="4541760" y="4754520"/>
            <a:ext cx="1316160" cy="120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448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2a3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2a306"/>
                </a:solidFill>
                <a:latin typeface="Arial"/>
              </a:rPr>
              <a:t>Самая трудная профессия — быть человеком и овладеть ею задача номер од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0" y="1600200"/>
            <a:ext cx="66787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  <a:ea typeface="Arial"/>
              </a:rPr>
              <a:t>Профессия – это определенный вид трудовой деятельности, характеризующийся суммой требований к челов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  <a:ea typeface="Arial"/>
              </a:rPr>
              <a:t>Специальность – вид занятий в рамках одной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3c00"/>
                </a:solidFill>
                <a:latin typeface="Arial"/>
                <a:ea typeface="Arial"/>
              </a:rPr>
              <a:t>Классификация – это осмысленный порядок вещей, явлений, разделение их на разновидности по каким-то важным призна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189000"/>
            <a:ext cx="8715600" cy="16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Классификацию видов деятельности еще в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веке предложил известный историк и государственный деятель В.Н. Татищев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5640" y="2000160"/>
            <a:ext cx="6643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Нужные науки (образование, здравоохранение, экономика,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Полезные науки (математика, физика, биология, сельск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Щегольские науки (литература, искус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Тщетные науки (алхимия, астроном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Вредительские науки (колдов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18864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римеры профессий</a:t>
            </a:r>
            <a:br>
              <a:rPr sz="4400"/>
            </a:b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о предмету труда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03" name="Picture 17" descr="Рисунок5"/>
          <p:cNvPicPr/>
          <p:nvPr/>
        </p:nvPicPr>
        <p:blipFill>
          <a:blip r:embed="rId1">
            <a:grayscl/>
          </a:blip>
          <a:stretch/>
        </p:blipFill>
        <p:spPr>
          <a:xfrm>
            <a:off x="2143080" y="2286000"/>
            <a:ext cx="687852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7520" y="21384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Группы профессий по условиям руд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68000" y="1599840"/>
            <a:ext cx="66963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5715000" y="1714680"/>
            <a:ext cx="3166920" cy="185724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5715000" y="4714920"/>
            <a:ext cx="3214800" cy="172728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286000" y="4643280"/>
            <a:ext cx="3071880" cy="178596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ы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357280" y="1571760"/>
            <a:ext cx="2857680" cy="201276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т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климат (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9720" y="18864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римеры профессий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11" name="Picture 4" descr="Рисунок17"/>
          <p:cNvPicPr/>
          <p:nvPr/>
        </p:nvPicPr>
        <p:blipFill>
          <a:blip r:embed="rId1">
            <a:grayscl/>
          </a:blip>
          <a:stretch/>
        </p:blipFill>
        <p:spPr>
          <a:xfrm>
            <a:off x="2268360" y="1782720"/>
            <a:ext cx="6696360" cy="4160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5:58:00Z</dcterms:created>
  <dc:creator>Loner-XP</dc:creator>
  <dc:description/>
  <dc:language>en-US</dc:language>
  <cp:lastModifiedBy>Loner-XP</cp:lastModifiedBy>
  <dcterms:modified xsi:type="dcterms:W3CDTF">2011-08-31T17:00:51Z</dcterms:modified>
  <cp:revision>7</cp:revision>
  <dc:subject/>
  <dc:title>Мир професс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120000000000010250300207f7000400038000</vt:lpwstr>
  </property>
</Properties>
</file>