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D05-8A69-477C-8FAE-C0CC8ABB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0E4-2A85-459E-8EA5-27228546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8D2-D0D0-4F4B-8EE4-AFF97F1B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F4C-FBEB-4DF7-8E2B-ED1D6556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13D9-0935-4DAC-B098-89B07358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CD14-4908-486F-97A1-410B58BB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D0DB-74F8-49DB-8BD7-4EBB91C8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9019-7C09-4C2A-9AA9-FDB9B5D4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C643-AF5C-4ED0-8A65-795D759E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76A1-1EF3-4079-B09F-7D8A57E0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C75C-629F-4AFE-BC3F-01E3FAD7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E5A-8644-4C8A-9412-D3D680B1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F15B-8D8B-4CCF-9BA1-C62E81CC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C01A-DA05-47DA-AB1D-BE452DF3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E7F9-1B2F-4C32-A07E-3B7B816D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3BD4-0598-4FDB-BDC3-6706618A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6DD7-7CB0-4A64-AF76-6AC6A09C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FE5-BEC2-4167-AAD3-F42DBC96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B32-25AB-4881-A0C8-81E4463F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B6F-5F69-4DE3-BDBA-F0D69856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B59-8363-448C-8E71-69B76555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951-8BD8-40B1-8F6D-CEDBAFF7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5AA-0F6D-4761-B805-CDDC14A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8F5-543D-4C99-B3AD-2DA026E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3DFD-2B46-4FCD-B7FA-9D5C3B521D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AE7D-A537-4E77-8C50-20229854A1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4;&#1077;&#1090;" TargetMode="External"/><Relationship Id="rId2" Type="http://schemas.openxmlformats.org/officeDocument/2006/relationships/hyperlink" Target="http://ru.wikipedia.org/wiki/&#1062;&#1074;&#1077;&#1090;_&#1095;&#1077;&#1088;&#1090;&#1099;" TargetMode="External"/><Relationship Id="rId3" Type="http://schemas.openxmlformats.org/officeDocument/2006/relationships/hyperlink" Target="http://ru.wikipedia.org/wiki/&#1041;&#1083;&#1077;&#1089;&#1082;" TargetMode="External"/><Relationship Id="rId4" Type="http://schemas.openxmlformats.org/officeDocument/2006/relationships/hyperlink" Target="http://ru.wikipedia.org/wiki/&#1064;&#1082;&#1072;&#1083;&#1072;_&#1052;&#1086;&#1086;&#1089;&#1072;" TargetMode="External"/><Relationship Id="rId5" Type="http://schemas.openxmlformats.org/officeDocument/2006/relationships/hyperlink" Target="http://ru.wikipedia.org/wiki/&#1055;&#1083;&#1086;&#1090;&#1085;&#1086;&#1089;&#1090;&#1100;" TargetMode="External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ki.web.ru/index.php?title=&#1048;&#1089;&#1083;&#1072;&#1085;&#1076;&#1089;&#1082;&#1080;&#1081;_&#1096;&#1087;&#1072;&#1090;&amp;action=edit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50;&#1091;&#1073;&#1080;&#1095;&#1077;&#1089;&#1082;&#1072;&#1103;_&#1089;&#1080;&#1085;&#1075;&#1086;&#1085;&#1080;&#1103;" TargetMode="External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41;&#1083;&#1077;&#1089;&#1082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55;&#1083;&#1086;&#1090;&#1085;&#1086;&#1089;&#1090;&#1100;" TargetMode="External"/><Relationship Id="rId9" Type="http://schemas.openxmlformats.org/officeDocument/2006/relationships/hyperlink" Target="http://ru.wikipedia.org/wiki/&#1055;&#1086;&#1082;&#1072;&#1079;&#1072;&#1090;&#1077;&#1083;&#1100;_&#1087;&#1088;&#1077;&#1083;&#1086;&#1084;&#1083;&#1077;&#1085;&#1080;&#1103;" TargetMode="External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62;&#1074;&#1077;&#1090;" TargetMode="External"/><Relationship Id="rId3" Type="http://schemas.openxmlformats.org/officeDocument/2006/relationships/hyperlink" Target="http://ru.wikipedia.org/wiki/&#1062;&#1074;&#1077;&#1090;_&#1095;&#1077;&#1088;&#1090;&#1099;" TargetMode="External"/><Relationship Id="rId4" Type="http://schemas.openxmlformats.org/officeDocument/2006/relationships/hyperlink" Target="http://ru.wikipedia.org/wiki/&#1041;&#1083;&#1077;&#1089;&#1082;" TargetMode="External"/><Relationship Id="rId5" Type="http://schemas.openxmlformats.org/officeDocument/2006/relationships/hyperlink" Target="http://ru.wikipedia.org/wiki/&#1055;&#1088;&#1086;&#1079;&#1088;&#1072;&#1095;&#1085;&#1086;&#1089;&#1090;&#1100;_&#1089;&#1088;&#1077;&#1076;&#1099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48;&#1079;&#1083;&#1086;&#1084;" TargetMode="External"/><Relationship Id="rId9" Type="http://schemas.openxmlformats.org/officeDocument/2006/relationships/hyperlink" Target="http://ru.wikipedia.org/wiki/&#1055;&#1083;&#1086;&#1090;&#1085;&#1086;&#1089;&#1090;&#1100;" TargetMode="External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ru.wikipedia.org/wiki/&#1057;&#1080;&#1085;&#1075;&#1086;&#1085;&#1080;&#1103;" TargetMode="External"/><Relationship Id="rId3" Type="http://schemas.openxmlformats.org/officeDocument/2006/relationships/hyperlink" Target="http://ru.wikipedia.org/wiki/&#1052;&#1086;&#1085;&#1086;&#1082;&#1083;&#1080;&#1085;&#1085;&#1072;&#1103;_&#1089;&#1080;&#1085;&#1075;&#1086;&#1085;&#1080;&#1103;" TargetMode="External"/><Relationship Id="rId4" Type="http://schemas.openxmlformats.org/officeDocument/2006/relationships/hyperlink" Target="http://ru.wikipedia.org/wiki/&#1062;&#1074;&#1077;&#1090;" TargetMode="External"/><Relationship Id="rId5" Type="http://schemas.openxmlformats.org/officeDocument/2006/relationships/hyperlink" Target="http://ru.wikipedia.org/wiki/&#1062;&#1074;&#1077;&#1090;_&#1095;&#1077;&#1088;&#1090;&#1099;" TargetMode="External"/><Relationship Id="rId6" Type="http://schemas.openxmlformats.org/officeDocument/2006/relationships/hyperlink" Target="http://ru.wikipedia.org/wiki/&#1041;&#1083;&#1077;&#1089;&#1082;" TargetMode="External"/><Relationship Id="rId7" Type="http://schemas.openxmlformats.org/officeDocument/2006/relationships/hyperlink" Target="http://ru.wikipedia.org/wiki/&#1064;&#1082;&#1072;&#1083;&#1072;_&#1052;&#1086;&#1086;&#1089;&#1072;" TargetMode="External"/><Relationship Id="rId8" Type="http://schemas.openxmlformats.org/officeDocument/2006/relationships/hyperlink" Target="http://ru.wikipedia.org/wiki/&#1055;&#1083;&#1086;&#1090;&#1085;&#1086;&#1089;&#1090;&#1100;" TargetMode="Externa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58;&#1088;&#1080;&#1075;&#1086;&#1085;&#1072;&#1083;&#1100;&#1085;&#1072;&#1103;_&#1089;&#1080;&#1085;&#1075;&#1086;&#1085;&#1080;&#1103;" TargetMode="External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41;&#1083;&#1077;&#1089;&#1082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48;&#1079;&#1083;&#1086;&#1084;" TargetMode="External"/><Relationship Id="rId9" Type="http://schemas.openxmlformats.org/officeDocument/2006/relationships/hyperlink" Target="http://ru.wikipedia.org/wiki/&#1055;&#1083;&#1086;&#1090;&#1085;&#1086;&#1089;&#1090;&#1100;" TargetMode="External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image" Target="../media/image53.jpe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0;&#1084;&#1077;&#1089;&#1100;_(&#1093;&#1080;&#1084;&#1080;&#1103;)" TargetMode="External"/><Relationship Id="rId2" Type="http://schemas.openxmlformats.org/officeDocument/2006/relationships/hyperlink" Target="http://ru.wikipedia.org/wiki/&#1057;&#1080;&#1085;&#1075;&#1086;&#1085;&#1080;&#1103;" TargetMode="External"/><Relationship Id="rId3" Type="http://schemas.openxmlformats.org/officeDocument/2006/relationships/hyperlink" Target="http://ru.wikipedia.org/wiki/&#1056;&#1086;&#1084;&#1073;&#1080;&#1095;&#1077;&#1089;&#1082;&#1072;&#1103;_&#1089;&#1080;&#1085;&#1075;&#1086;&#1085;&#1080;&#1103;" TargetMode="External"/><Relationship Id="rId4" Type="http://schemas.openxmlformats.org/officeDocument/2006/relationships/hyperlink" Target="http://ru.wikipedia.org/wiki/&#1062;&#1074;&#1077;&#1090;" TargetMode="External"/><Relationship Id="rId5" Type="http://schemas.openxmlformats.org/officeDocument/2006/relationships/hyperlink" Target="http://ru.wikipedia.org/wiki/&#1062;&#1074;&#1077;&#1090;_&#1095;&#1077;&#1088;&#1090;&#1099;" TargetMode="External"/><Relationship Id="rId6" Type="http://schemas.openxmlformats.org/officeDocument/2006/relationships/hyperlink" Target="http://ru.wikipedia.org/wiki/&#1041;&#1083;&#1077;&#1089;&#1082;" TargetMode="External"/><Relationship Id="rId7" Type="http://schemas.openxmlformats.org/officeDocument/2006/relationships/hyperlink" Target="http://ru.wikipedia.org/wiki/&#1055;&#1088;&#1086;&#1079;&#1088;&#1072;&#1095;&#1085;&#1086;&#1089;&#1090;&#1100;_&#1089;&#1088;&#1077;&#1076;&#1099;" TargetMode="External"/><Relationship Id="rId8" Type="http://schemas.openxmlformats.org/officeDocument/2006/relationships/hyperlink" Target="http://ru.wikipedia.org/wiki/&#1064;&#1082;&#1072;&#1083;&#1072;_&#1052;&#1086;&#1086;&#1089;&#1072;" TargetMode="External"/><Relationship Id="rId9" Type="http://schemas.openxmlformats.org/officeDocument/2006/relationships/hyperlink" Target="http://ru.wikipedia.org/wiki/&#1057;&#1087;&#1072;&#1081;&#1085;&#1086;&#1089;&#1090;&#1100;" TargetMode="External"/><Relationship Id="rId10" Type="http://schemas.openxmlformats.org/officeDocument/2006/relationships/hyperlink" Target="http://ru.wikipedia.org/wiki/&#1048;&#1079;&#1083;&#1086;&#1084;" TargetMode="External"/><Relationship Id="rId11" Type="http://schemas.openxmlformats.org/officeDocument/2006/relationships/hyperlink" Target="http://ru.wikipedia.org/wiki/&#1055;&#1083;&#1086;&#1090;&#1085;&#1086;&#1089;&#1090;&#1100;" TargetMode="External"/><Relationship Id="rId12" Type="http://schemas.openxmlformats.org/officeDocument/2006/relationships/image" Target="../media/image59.jpeg"/><Relationship Id="rId13" Type="http://schemas.openxmlformats.org/officeDocument/2006/relationships/image" Target="../media/image60.jpeg"/><Relationship Id="rId14" Type="http://schemas.openxmlformats.org/officeDocument/2006/relationships/image" Target="../media/image61.jpe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58;&#1088;&#1080;&#1075;&#1086;&#1085;&#1072;&#1083;&#1100;&#1085;&#1072;&#1103;_&#1089;&#1080;&#1085;&#1075;&#1086;&#1085;&#1080;&#1103;" TargetMode="External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41;&#1083;&#1077;&#1089;&#1082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55;&#1083;&#1086;&#1090;&#1085;&#1086;&#1089;&#1090;&#1100;" TargetMode="External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62;&#1074;&#1077;&#1090;" TargetMode="External"/><Relationship Id="rId3" Type="http://schemas.openxmlformats.org/officeDocument/2006/relationships/hyperlink" Target="http://ru.wikipedia.org/wiki/&#1062;&#1074;&#1077;&#1090;_&#1095;&#1077;&#1088;&#1090;&#1099;" TargetMode="External"/><Relationship Id="rId4" Type="http://schemas.openxmlformats.org/officeDocument/2006/relationships/hyperlink" Target="http://ru.wikipedia.org/wiki/&#1041;&#1083;&#1077;&#1089;&#1082;" TargetMode="External"/><Relationship Id="rId5" Type="http://schemas.openxmlformats.org/officeDocument/2006/relationships/hyperlink" Target="http://ru.wikipedia.org/wiki/&#1055;&#1088;&#1086;&#1079;&#1088;&#1072;&#1095;&#1085;&#1086;&#1089;&#1090;&#1100;_&#1089;&#1088;&#1077;&#1076;&#1099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image" Target="../media/image67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64;&#1082;&#1072;&#1083;&#1072;_&#1052;&#1086;&#1086;&#1089;&#1072;" TargetMode="External"/><Relationship Id="rId6" Type="http://schemas.openxmlformats.org/officeDocument/2006/relationships/hyperlink" Target="http://ru.wikipedia.org/wiki/&#1055;&#1083;&#1086;&#1090;&#1085;&#1086;&#1089;&#1090;&#1100;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40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инералогическая шкала твёрдости Мо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79280" y="1341360"/>
          <a:ext cx="8785080" cy="4417920"/>
        </p:xfrm>
        <a:graphic>
          <a:graphicData uri="http://schemas.openxmlformats.org/drawingml/2006/table">
            <a:tbl>
              <a:tblPr/>
              <a:tblGrid>
                <a:gridCol w="2408040"/>
                <a:gridCol w="1239840"/>
                <a:gridCol w="1465200"/>
                <a:gridCol w="2078280"/>
                <a:gridCol w="15937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инер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тносит. тверд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я тверд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Полевой а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Твердость полевого аналога по шкале Моо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аль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мягкий каранда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ип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ного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2 – 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аль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медная мон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3,5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флюор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медная мон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3,5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пат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стек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ртоклаз (п. шпа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стальной но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вар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напиль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оп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напиль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ру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м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402160" y="23508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новид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226040" y="1628640"/>
            <a:ext cx="491796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1" name=""/>
          <p:cNvSpPr/>
          <p:nvPr/>
        </p:nvSpPr>
        <p:spPr>
          <a:xfrm>
            <a:off x="5707800" y="5229360"/>
            <a:ext cx="33688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еленит (волокнистый гип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321440" cy="326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39600" y="3645000"/>
            <a:ext cx="4100760" cy="307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4" name=""/>
          <p:cNvSpPr/>
          <p:nvPr/>
        </p:nvSpPr>
        <p:spPr>
          <a:xfrm>
            <a:off x="2552400" y="2997360"/>
            <a:ext cx="2021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рьино стек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48560" y="6308640"/>
            <a:ext cx="36126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лебастр (сахаровидный гип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249360" y="189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ль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41720" y="260280"/>
            <a:ext cx="8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CaCO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9280" y="692280"/>
          <a:ext cx="6048360" cy="1728720"/>
        </p:xfrm>
        <a:graphic>
          <a:graphicData uri="http://schemas.openxmlformats.org/drawingml/2006/table">
            <a:tbl>
              <a:tblPr/>
              <a:tblGrid>
                <a:gridCol w="1346400"/>
                <a:gridCol w="47019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, белый, розовый, жёлтый, коричнев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Цвет че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Твёрд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Пл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1 г/см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108000" y="3164040"/>
            <a:ext cx="5327640" cy="35352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5148360" y="620640"/>
            <a:ext cx="3841560" cy="2881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5508720" y="3789360"/>
            <a:ext cx="3527280" cy="264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275440" cy="3956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313080" cy="24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3672000" cy="275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738080" y="90360"/>
            <a:ext cx="546156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тическая разновидность -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исландский шпа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361152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79280" y="4398840"/>
            <a:ext cx="6210360" cy="234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3960720" y="1496880"/>
            <a:ext cx="50040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373040" y="2637000"/>
            <a:ext cx="24591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раморные оник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4176720" cy="2139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2376360" cy="15782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321440" cy="2387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179280" y="3238560"/>
            <a:ext cx="4537080" cy="334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5580000" y="189000"/>
            <a:ext cx="3446640" cy="247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5" name=""/>
          <p:cNvSpPr/>
          <p:nvPr/>
        </p:nvSpPr>
        <p:spPr>
          <a:xfrm>
            <a:off x="5748480" y="3500280"/>
            <a:ext cx="32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Техногенный полосчатый кальци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11320" y="6237360"/>
            <a:ext cx="179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идротерма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187440" y="189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лю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744560" y="2376360"/>
          <a:ext cx="5656320" cy="517680"/>
        </p:xfrm>
        <a:graphic>
          <a:graphicData uri="http://schemas.openxmlformats.org/drawingml/2006/table">
            <a:tbl>
              <a:tblPr/>
              <a:tblGrid>
                <a:gridCol w="1247760"/>
                <a:gridCol w="440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5016600" y="260280"/>
            <a:ext cx="6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CaF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79280" y="692280"/>
          <a:ext cx="8856720" cy="2549520"/>
        </p:xfrm>
        <a:graphic>
          <a:graphicData uri="http://schemas.openxmlformats.org/drawingml/2006/table">
            <a:tbl>
              <a:tblPr/>
              <a:tblGrid>
                <a:gridCol w="1954440"/>
                <a:gridCol w="69022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Кубическ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или бесцветный, фиолетовый, синий, сине-зеленый, желтый, коричнево-желтый, или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ная по {111}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8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Показатель прелом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33 — 1,4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1" name="" descr=""/>
          <p:cNvPicPr/>
          <p:nvPr/>
        </p:nvPicPr>
        <p:blipFill>
          <a:blip r:embed="rId10"/>
          <a:stretch/>
        </p:blipFill>
        <p:spPr>
          <a:xfrm>
            <a:off x="250920" y="3429000"/>
            <a:ext cx="4800600" cy="32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2" name="" descr=""/>
          <p:cNvPicPr/>
          <p:nvPr/>
        </p:nvPicPr>
        <p:blipFill>
          <a:blip r:embed="rId11"/>
          <a:stretch/>
        </p:blipFill>
        <p:spPr>
          <a:xfrm>
            <a:off x="5219640" y="3787920"/>
            <a:ext cx="3816360" cy="286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3" name="" descr=""/>
          <p:cNvPicPr/>
          <p:nvPr/>
        </p:nvPicPr>
        <p:blipFill>
          <a:blip r:embed="rId12"/>
          <a:stretch/>
        </p:blipFill>
        <p:spPr>
          <a:xfrm>
            <a:off x="4788000" y="1263600"/>
            <a:ext cx="403200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367800" y="1890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пат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8720" y="33336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Tahoma"/>
              </a:rPr>
              <a:t>Са5[PO4]3(F, Cl, ОН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692280"/>
          <a:ext cx="9143640" cy="2728800"/>
        </p:xfrm>
        <a:graphic>
          <a:graphicData uri="http://schemas.openxmlformats.org/drawingml/2006/table">
            <a:tbl>
              <a:tblPr/>
              <a:tblGrid>
                <a:gridCol w="2255400"/>
                <a:gridCol w="6888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ксагональная, гексагонально-дипирамидальный вид симметр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, зеленый, сине-зеленый, голубой, фиолетовый, редко крас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 че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 до жир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Прозрач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ый, просвечивающ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овершенная по (0001) и (101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Из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, неров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Пл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—3,4 г/см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179280" y="3500280"/>
            <a:ext cx="5184720" cy="3121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8" name="" descr=""/>
          <p:cNvPicPr/>
          <p:nvPr/>
        </p:nvPicPr>
        <p:blipFill>
          <a:blip r:embed="rId11"/>
          <a:stretch/>
        </p:blipFill>
        <p:spPr>
          <a:xfrm>
            <a:off x="5580000" y="3333600"/>
            <a:ext cx="3240000" cy="324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80988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616360" cy="511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1024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3600360" cy="360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4284720" y="189000"/>
            <a:ext cx="47052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116000" y="127080"/>
            <a:ext cx="7056360" cy="6548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338920" y="62064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аль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8000" y="2421000"/>
            <a:ext cx="903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ТАЛЬК - минерал подкласса слоистых силика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цве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белый, зеленоватый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цвет черты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– белая,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твердость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1;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лотность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2,6-2,8 г/см3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блес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стеклянный (перламутровый), полупрозрачный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пайность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совершенная по {001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4067280" cy="333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211640" y="3138480"/>
            <a:ext cx="4707000" cy="3530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716360" y="144360"/>
            <a:ext cx="3024360" cy="227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1825560" y="105264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Mg3Si4O10(OH)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52160" y="40392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лочные - К-Nа полевые шпаты, плагиоклазы - Са-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39400" y="4356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К[АlSi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O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85200" y="-2700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токл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692360" y="2386080"/>
            <a:ext cx="6048360" cy="428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aphicFrame>
        <p:nvGraphicFramePr>
          <p:cNvPr id="469" name=""/>
          <p:cNvGraphicFramePr/>
          <p:nvPr/>
        </p:nvGraphicFramePr>
        <p:xfrm>
          <a:off x="3247920" y="2575080"/>
          <a:ext cx="2648160" cy="2708280"/>
        </p:xfrm>
        <a:graphic>
          <a:graphicData uri="http://schemas.openxmlformats.org/drawingml/2006/table">
            <a:tbl>
              <a:tblPr/>
              <a:tblGrid>
                <a:gridCol w="662040"/>
                <a:gridCol w="1986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250920" y="692280"/>
          <a:ext cx="8191440" cy="1638000"/>
        </p:xfrm>
        <a:graphic>
          <a:graphicData uri="http://schemas.openxmlformats.org/drawingml/2006/table">
            <a:tbl>
              <a:tblPr/>
              <a:tblGrid>
                <a:gridCol w="2047680"/>
                <a:gridCol w="61437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Моноклин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, зеленоватый, серый, розов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6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185200" y="-2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вар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76240" y="4608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SiO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79280" y="477720"/>
          <a:ext cx="8964720" cy="2184480"/>
        </p:xfrm>
        <a:graphic>
          <a:graphicData uri="http://schemas.openxmlformats.org/drawingml/2006/table">
            <a:tbl>
              <a:tblPr/>
              <a:tblGrid>
                <a:gridCol w="1887480"/>
                <a:gridCol w="70772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тригон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чневый, бесцветный, фиолетовый, серый, жёл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овершен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Изл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 — 2,65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" descr=""/>
          <p:cNvPicPr/>
          <p:nvPr/>
        </p:nvPicPr>
        <p:blipFill>
          <a:blip r:embed="rId10"/>
          <a:stretch/>
        </p:blipFill>
        <p:spPr>
          <a:xfrm>
            <a:off x="5173560" y="981000"/>
            <a:ext cx="3816360" cy="57358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1"/>
          <a:stretch/>
        </p:blipFill>
        <p:spPr>
          <a:xfrm>
            <a:off x="1979640" y="2852640"/>
            <a:ext cx="3089160" cy="384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6" name="" descr=""/>
          <p:cNvPicPr/>
          <p:nvPr/>
        </p:nvPicPr>
        <p:blipFill>
          <a:blip r:embed="rId12"/>
          <a:stretch/>
        </p:blipFill>
        <p:spPr>
          <a:xfrm>
            <a:off x="76320" y="4581360"/>
            <a:ext cx="1831680" cy="2116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470040" cy="449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3187800" cy="318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5148360" y="260280"/>
            <a:ext cx="380988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0" name=""/>
          <p:cNvSpPr/>
          <p:nvPr/>
        </p:nvSpPr>
        <p:spPr>
          <a:xfrm>
            <a:off x="560160" y="2761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мети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92960" y="2761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ит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11920" y="344340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ет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50920" y="581040"/>
            <a:ext cx="4790880" cy="40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4751280" y="1844640"/>
            <a:ext cx="4221360" cy="4778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5" name=""/>
          <p:cNvSpPr/>
          <p:nvPr/>
        </p:nvSpPr>
        <p:spPr>
          <a:xfrm>
            <a:off x="1812240" y="115920"/>
            <a:ext cx="53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колки розового и черного (морион) квар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186280" y="-270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оп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42960" y="38160"/>
            <a:ext cx="18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Al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[SiO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](F,OH)</a:t>
            </a: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08000" y="401760"/>
          <a:ext cx="9036000" cy="2913120"/>
        </p:xfrm>
        <a:graphic>
          <a:graphicData uri="http://schemas.openxmlformats.org/drawingml/2006/table">
            <a:tbl>
              <a:tblPr/>
              <a:tblGrid>
                <a:gridCol w="2855160"/>
                <a:gridCol w="61808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Примес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Fe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i, Cr, 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Ромбическ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, бледно-голубой, жёлтый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вато-коричневый,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Прозрач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ная по {001}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0"/>
                        </a:rPr>
                        <a:t>Изл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1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— 3,6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9" name="" descr=""/>
          <p:cNvPicPr/>
          <p:nvPr/>
        </p:nvPicPr>
        <p:blipFill>
          <a:blip r:embed="rId12"/>
          <a:stretch/>
        </p:blipFill>
        <p:spPr>
          <a:xfrm>
            <a:off x="5626080" y="1428840"/>
            <a:ext cx="3409920" cy="531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0" name="" descr=""/>
          <p:cNvPicPr/>
          <p:nvPr/>
        </p:nvPicPr>
        <p:blipFill>
          <a:blip r:embed="rId13"/>
          <a:stretch/>
        </p:blipFill>
        <p:spPr>
          <a:xfrm>
            <a:off x="3178080" y="3284640"/>
            <a:ext cx="2392560" cy="343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836640" y="3357720"/>
            <a:ext cx="214776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191320" y="-270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р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4389480" y="1617840"/>
          <a:ext cx="365040" cy="3622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4389480" y="1617840"/>
          <a:ext cx="365040" cy="3622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389480" y="1617840"/>
          <a:ext cx="365040" cy="3622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>
            <a:off x="3549600" y="4356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Al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O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4389480" y="1876320"/>
          <a:ext cx="365040" cy="310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4389480" y="1876320"/>
          <a:ext cx="365040" cy="310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4389480" y="1876320"/>
          <a:ext cx="365040" cy="310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79280" y="477720"/>
          <a:ext cx="8964720" cy="2184480"/>
        </p:xfrm>
        <a:graphic>
          <a:graphicData uri="http://schemas.openxmlformats.org/drawingml/2006/table">
            <a:tbl>
              <a:tblPr/>
              <a:tblGrid>
                <a:gridCol w="1887480"/>
                <a:gridCol w="70772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тригон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, красный желтый, коричневый, бесцветный, фиолетовый, сер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 или мним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 — 4,1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1" name="" descr=""/>
          <p:cNvPicPr/>
          <p:nvPr/>
        </p:nvPicPr>
        <p:blipFill>
          <a:blip r:embed="rId9"/>
          <a:stretch/>
        </p:blipFill>
        <p:spPr>
          <a:xfrm>
            <a:off x="4067280" y="1324080"/>
            <a:ext cx="4962600" cy="38336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0"/>
          <a:stretch/>
        </p:blipFill>
        <p:spPr>
          <a:xfrm>
            <a:off x="179280" y="3456000"/>
            <a:ext cx="4321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5400360" cy="525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5745240" y="2781360"/>
            <a:ext cx="3154320" cy="38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27640" y="69840"/>
            <a:ext cx="2629080" cy="249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179080" y="-270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лм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90200" y="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0" y="476280"/>
          <a:ext cx="6084720" cy="3095640"/>
        </p:xfrm>
        <a:graphic>
          <a:graphicData uri="http://schemas.openxmlformats.org/drawingml/2006/table">
            <a:tbl>
              <a:tblPr/>
              <a:tblGrid>
                <a:gridCol w="1305000"/>
                <a:gridCol w="4779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бическ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о жёлтый, коричневый, серый или бесцветный. Реже встречаются голубые, зелёные, чёрные и п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маз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Прозрач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ый, полупрозрач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ная по {111}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— 3,53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прелом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2-2,4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3130560" y="2060640"/>
            <a:ext cx="5905440" cy="442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5977080" cy="448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4170600" cy="417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4291920"/>
            <a:ext cx="9144000" cy="63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Разновидности: стеатит - плотный, агалит - тонковолокнистый, благородный тальк - прозрачный светлый. Продукт гидротермального изменения магнезиальных силикатов ультраосновных пород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62440" cy="3219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4140360" cy="3921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636480"/>
            <a:ext cx="8640720" cy="471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полнитель в парфюмерно-косметической, бумажной, резиновой промышленности; кислотоогнеупорный и электроизоляционный материал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альком обрабатываются хирургические резиновые перчатки для предотвращения спаек, поэтому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использование перчаток без предварительного смывания с них этого вещества может вызвать раздражение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 частом вдыхании талька образуется талькоз (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относительно доброкачественный силикатоз, вызванный вдыханием пыли талька. Реже, чем асбестоз, сопровождается синдромом бронхита, менее выражена склонность к прогрессированию. Тяжелее протекает талькоз, вызванный косметической пудро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— болезнь лёгких при вдыхании пыли талька. Относится к профессиональным заболеваниям, ею болеют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основном рабочие добывающие тальк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 данным American Journal of Epidemiology использования талька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присыпка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увеличивает риск заболевания раком на 60%. Считается что жидкие формы косметических средств содержащие тальк относительно безвредны, однако могут вызывать аллергические реакции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3680" y="2602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ип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716360" y="115920"/>
            <a:ext cx="4322880" cy="323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5400720" cy="405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9" name=""/>
          <p:cNvSpPr/>
          <p:nvPr/>
        </p:nvSpPr>
        <p:spPr>
          <a:xfrm>
            <a:off x="2032920" y="4190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ahoma"/>
              </a:rPr>
              <a:t>CaSO</a:t>
            </a:r>
            <a:r>
              <a:rPr b="1" lang="en-US" sz="1200" spc="-1" strike="noStrike">
                <a:solidFill>
                  <a:srgbClr val="ccecff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ccecff"/>
                </a:solidFill>
                <a:latin typeface="Tahoma"/>
              </a:rPr>
              <a:t>•2H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ccecff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1125360"/>
          <a:ext cx="4716000" cy="1428480"/>
        </p:xfrm>
        <a:graphic>
          <a:graphicData uri="http://schemas.openxmlformats.org/drawingml/2006/table">
            <a:tbl>
              <a:tblPr/>
              <a:tblGrid>
                <a:gridCol w="1791360"/>
                <a:gridCol w="2924640"/>
              </a:tblGrid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, серый, крас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Твёрд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 —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Пл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1 — 2,33 г/см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>
            <a:off x="5724360" y="3789360"/>
            <a:ext cx="3287880" cy="24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4920" y="679320"/>
            <a:ext cx="4392720" cy="3714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780000" y="3573360"/>
            <a:ext cx="5206680" cy="312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500720" y="189000"/>
            <a:ext cx="4573440" cy="319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552960" y="4740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ристал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37320" y="27612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ипс с сер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4859280" y="3197160"/>
            <a:ext cx="4103640" cy="356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537080" cy="41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073480" y="95400"/>
            <a:ext cx="3962520" cy="297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1186200" y="40464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личная окр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680000" cy="35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211640" y="2924280"/>
            <a:ext cx="4784760" cy="358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3816360" cy="271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5003640" y="147600"/>
            <a:ext cx="4002120" cy="260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3167280" cy="352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851280" y="1265400"/>
            <a:ext cx="5172120" cy="525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311640" cy="287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8" name=""/>
          <p:cNvSpPr/>
          <p:nvPr/>
        </p:nvSpPr>
        <p:spPr>
          <a:xfrm>
            <a:off x="3780000" y="115920"/>
            <a:ext cx="53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краска обусловлена минералами же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магнетит, пирит, маггемит) ультрадисперсной раз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5:23:41Z</dcterms:created>
  <dc:creator>Korolev</dc:creator>
  <dc:description/>
  <dc:language>en-US</dc:language>
  <cp:lastModifiedBy>Леонова</cp:lastModifiedBy>
  <dcterms:modified xsi:type="dcterms:W3CDTF">2009-09-07T15:06:1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20000000000001024140</vt:lpwstr>
  </property>
</Properties>
</file>