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33.png" ContentType="image/png"/>
  <Override PartName="/ppt/media/image53.jpeg" ContentType="image/jpeg"/>
  <Override PartName="/ppt/media/image49.jpeg" ContentType="image/jpeg"/>
  <Override PartName="/ppt/media/image48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9.jpeg" ContentType="image/jpeg"/>
  <Override PartName="/ppt/media/image68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F8FA-BB01-4B6C-A402-248126EF1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9FCB-F7B2-4E7D-985C-BAC5B8F2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5D57-839F-4FF1-8685-4C3F56CC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CA00-CAA0-4D0E-9BDD-9063CDFF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4485-D733-41D6-BAB9-44571A90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09DF-8D3F-4AFB-83C0-E4C6C91F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C081-E2DA-4588-9921-3A1ED92A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CF5A-F75A-46C3-ADC5-3AF43BAE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8B18-A281-45D6-A572-49D0A165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BBFA-1784-46EF-AF6E-574945D7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F2FB-C248-4D58-9358-49EEB69B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A9C9-199D-4347-9620-48632A7D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9F84-2DAF-4069-AA96-4542799A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FCD5-37C5-4F2E-8066-EF813F22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8E08-3EFF-436E-BAEC-C91D2838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E706-58DC-4479-9788-C9AB8130E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35EE-131C-450A-AAE6-94CF93C5D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7810-A62D-44B3-A434-6D83D737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9E13-9FB7-413D-9451-0511B0F8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B0D6-2CB3-48CB-9E6C-44ECE067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80B4-C319-47DF-8162-CAEFEB05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A651-696C-4601-8703-3975522A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0B02-B707-454C-A098-6E800B79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1DE9-CCE2-4DBF-8B6E-8F295129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4B21-C3D0-4ACC-87FB-A0A2E8FCB3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C3AC-3D76-4B3E-975D-67B223CD95E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2;&#1074;&#1077;&#1090;" TargetMode="External"/><Relationship Id="rId2" Type="http://schemas.openxmlformats.org/officeDocument/2006/relationships/hyperlink" Target="http://ru.wikipedia.org/wiki/&#1062;&#1074;&#1077;&#1090;_&#1095;&#1077;&#1088;&#1090;&#1099;" TargetMode="External"/><Relationship Id="rId3" Type="http://schemas.openxmlformats.org/officeDocument/2006/relationships/hyperlink" Target="http://ru.wikipedia.org/wiki/&#1041;&#1083;&#1077;&#1089;&#1082;" TargetMode="External"/><Relationship Id="rId4" Type="http://schemas.openxmlformats.org/officeDocument/2006/relationships/hyperlink" Target="http://ru.wikipedia.org/wiki/&#1064;&#1082;&#1072;&#1083;&#1072;_&#1052;&#1086;&#1086;&#1089;&#1072;" TargetMode="External"/><Relationship Id="rId5" Type="http://schemas.openxmlformats.org/officeDocument/2006/relationships/hyperlink" Target="http://ru.wikipedia.org/wiki/&#1055;&#1083;&#1086;&#1090;&#1085;&#1086;&#1089;&#1090;&#1100;" TargetMode="External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iki.web.ru/index.php?title=&#1048;&#1089;&#1083;&#1072;&#1085;&#1076;&#1089;&#1082;&#1080;&#1081;_&#1096;&#1087;&#1072;&#1090;&amp;action=edit" TargetMode="External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0;&#1085;&#1075;&#1086;&#1085;&#1080;&#1103;" TargetMode="External"/><Relationship Id="rId2" Type="http://schemas.openxmlformats.org/officeDocument/2006/relationships/hyperlink" Target="http://ru.wikipedia.org/wiki/&#1050;&#1091;&#1073;&#1080;&#1095;&#1077;&#1089;&#1082;&#1072;&#1103;_&#1089;&#1080;&#1085;&#1075;&#1086;&#1085;&#1080;&#1103;" TargetMode="External"/><Relationship Id="rId3" Type="http://schemas.openxmlformats.org/officeDocument/2006/relationships/hyperlink" Target="http://ru.wikipedia.org/wiki/&#1062;&#1074;&#1077;&#1090;" TargetMode="External"/><Relationship Id="rId4" Type="http://schemas.openxmlformats.org/officeDocument/2006/relationships/hyperlink" Target="http://ru.wikipedia.org/wiki/&#1062;&#1074;&#1077;&#1090;_&#1095;&#1077;&#1088;&#1090;&#1099;" TargetMode="External"/><Relationship Id="rId5" Type="http://schemas.openxmlformats.org/officeDocument/2006/relationships/hyperlink" Target="http://ru.wikipedia.org/wiki/&#1041;&#1083;&#1077;&#1089;&#1082;" TargetMode="External"/><Relationship Id="rId6" Type="http://schemas.openxmlformats.org/officeDocument/2006/relationships/hyperlink" Target="http://ru.wikipedia.org/wiki/&#1064;&#1082;&#1072;&#1083;&#1072;_&#1052;&#1086;&#1086;&#1089;&#1072;" TargetMode="External"/><Relationship Id="rId7" Type="http://schemas.openxmlformats.org/officeDocument/2006/relationships/hyperlink" Target="http://ru.wikipedia.org/wiki/&#1057;&#1087;&#1072;&#1081;&#1085;&#1086;&#1089;&#1090;&#1100;" TargetMode="External"/><Relationship Id="rId8" Type="http://schemas.openxmlformats.org/officeDocument/2006/relationships/hyperlink" Target="http://ru.wikipedia.org/wiki/&#1055;&#1083;&#1086;&#1090;&#1085;&#1086;&#1089;&#1090;&#1100;" TargetMode="External"/><Relationship Id="rId9" Type="http://schemas.openxmlformats.org/officeDocument/2006/relationships/hyperlink" Target="http://ru.wikipedia.org/wiki/&#1055;&#1086;&#1082;&#1072;&#1079;&#1072;&#1090;&#1077;&#1083;&#1100;_&#1087;&#1088;&#1077;&#1083;&#1086;&#1084;&#1083;&#1077;&#1085;&#1080;&#1103;" TargetMode="External"/><Relationship Id="rId10" Type="http://schemas.openxmlformats.org/officeDocument/2006/relationships/image" Target="../media/image39.jpeg"/><Relationship Id="rId11" Type="http://schemas.openxmlformats.org/officeDocument/2006/relationships/image" Target="../media/image40.jpeg"/><Relationship Id="rId12" Type="http://schemas.openxmlformats.org/officeDocument/2006/relationships/image" Target="../media/image41.jpe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0;&#1085;&#1075;&#1086;&#1085;&#1080;&#1103;" TargetMode="External"/><Relationship Id="rId2" Type="http://schemas.openxmlformats.org/officeDocument/2006/relationships/hyperlink" Target="http://ru.wikipedia.org/wiki/&#1062;&#1074;&#1077;&#1090;" TargetMode="External"/><Relationship Id="rId3" Type="http://schemas.openxmlformats.org/officeDocument/2006/relationships/hyperlink" Target="http://ru.wikipedia.org/wiki/&#1062;&#1074;&#1077;&#1090;_&#1095;&#1077;&#1088;&#1090;&#1099;" TargetMode="External"/><Relationship Id="rId4" Type="http://schemas.openxmlformats.org/officeDocument/2006/relationships/hyperlink" Target="http://ru.wikipedia.org/wiki/&#1041;&#1083;&#1077;&#1089;&#1082;" TargetMode="External"/><Relationship Id="rId5" Type="http://schemas.openxmlformats.org/officeDocument/2006/relationships/hyperlink" Target="http://ru.wikipedia.org/wiki/&#1055;&#1088;&#1086;&#1079;&#1088;&#1072;&#1095;&#1085;&#1086;&#1089;&#1090;&#1100;_&#1089;&#1088;&#1077;&#1076;&#1099;" TargetMode="External"/><Relationship Id="rId6" Type="http://schemas.openxmlformats.org/officeDocument/2006/relationships/hyperlink" Target="http://ru.wikipedia.org/wiki/&#1064;&#1082;&#1072;&#1083;&#1072;_&#1052;&#1086;&#1086;&#1089;&#1072;" TargetMode="External"/><Relationship Id="rId7" Type="http://schemas.openxmlformats.org/officeDocument/2006/relationships/hyperlink" Target="http://ru.wikipedia.org/wiki/&#1057;&#1087;&#1072;&#1081;&#1085;&#1086;&#1089;&#1090;&#1100;" TargetMode="External"/><Relationship Id="rId8" Type="http://schemas.openxmlformats.org/officeDocument/2006/relationships/hyperlink" Target="http://ru.wikipedia.org/wiki/&#1048;&#1079;&#1083;&#1086;&#1084;" TargetMode="External"/><Relationship Id="rId9" Type="http://schemas.openxmlformats.org/officeDocument/2006/relationships/hyperlink" Target="http://ru.wikipedia.org/wiki/&#1055;&#1083;&#1086;&#1090;&#1085;&#1086;&#1089;&#1090;&#1100;" TargetMode="External"/><Relationship Id="rId10" Type="http://schemas.openxmlformats.org/officeDocument/2006/relationships/image" Target="../media/image42.jpeg"/><Relationship Id="rId11" Type="http://schemas.openxmlformats.org/officeDocument/2006/relationships/image" Target="../media/image43.jpe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hyperlink" Target="http://ru.wikipedia.org/wiki/&#1057;&#1080;&#1085;&#1075;&#1086;&#1085;&#1080;&#1103;" TargetMode="External"/><Relationship Id="rId3" Type="http://schemas.openxmlformats.org/officeDocument/2006/relationships/hyperlink" Target="http://ru.wikipedia.org/wiki/&#1052;&#1086;&#1085;&#1086;&#1082;&#1083;&#1080;&#1085;&#1085;&#1072;&#1103;_&#1089;&#1080;&#1085;&#1075;&#1086;&#1085;&#1080;&#1103;" TargetMode="External"/><Relationship Id="rId4" Type="http://schemas.openxmlformats.org/officeDocument/2006/relationships/hyperlink" Target="http://ru.wikipedia.org/wiki/&#1062;&#1074;&#1077;&#1090;" TargetMode="External"/><Relationship Id="rId5" Type="http://schemas.openxmlformats.org/officeDocument/2006/relationships/hyperlink" Target="http://ru.wikipedia.org/wiki/&#1062;&#1074;&#1077;&#1090;_&#1095;&#1077;&#1088;&#1090;&#1099;" TargetMode="External"/><Relationship Id="rId6" Type="http://schemas.openxmlformats.org/officeDocument/2006/relationships/hyperlink" Target="http://ru.wikipedia.org/wiki/&#1041;&#1083;&#1077;&#1089;&#1082;" TargetMode="External"/><Relationship Id="rId7" Type="http://schemas.openxmlformats.org/officeDocument/2006/relationships/hyperlink" Target="http://ru.wikipedia.org/wiki/&#1064;&#1082;&#1072;&#1083;&#1072;_&#1052;&#1086;&#1086;&#1089;&#1072;" TargetMode="External"/><Relationship Id="rId8" Type="http://schemas.openxmlformats.org/officeDocument/2006/relationships/hyperlink" Target="http://ru.wikipedia.org/wiki/&#1055;&#1083;&#1086;&#1090;&#1085;&#1086;&#1089;&#1090;&#1100;" TargetMode="External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0;&#1085;&#1075;&#1086;&#1085;&#1080;&#1103;" TargetMode="External"/><Relationship Id="rId2" Type="http://schemas.openxmlformats.org/officeDocument/2006/relationships/hyperlink" Target="http://ru.wikipedia.org/wiki/&#1058;&#1088;&#1080;&#1075;&#1086;&#1085;&#1072;&#1083;&#1100;&#1085;&#1072;&#1103;_&#1089;&#1080;&#1085;&#1075;&#1086;&#1085;&#1080;&#1103;" TargetMode="External"/><Relationship Id="rId3" Type="http://schemas.openxmlformats.org/officeDocument/2006/relationships/hyperlink" Target="http://ru.wikipedia.org/wiki/&#1062;&#1074;&#1077;&#1090;" TargetMode="External"/><Relationship Id="rId4" Type="http://schemas.openxmlformats.org/officeDocument/2006/relationships/hyperlink" Target="http://ru.wikipedia.org/wiki/&#1062;&#1074;&#1077;&#1090;_&#1095;&#1077;&#1088;&#1090;&#1099;" TargetMode="External"/><Relationship Id="rId5" Type="http://schemas.openxmlformats.org/officeDocument/2006/relationships/hyperlink" Target="http://ru.wikipedia.org/wiki/&#1041;&#1083;&#1077;&#1089;&#1082;" TargetMode="External"/><Relationship Id="rId6" Type="http://schemas.openxmlformats.org/officeDocument/2006/relationships/hyperlink" Target="http://ru.wikipedia.org/wiki/&#1064;&#1082;&#1072;&#1083;&#1072;_&#1052;&#1086;&#1086;&#1089;&#1072;" TargetMode="External"/><Relationship Id="rId7" Type="http://schemas.openxmlformats.org/officeDocument/2006/relationships/hyperlink" Target="http://ru.wikipedia.org/wiki/&#1057;&#1087;&#1072;&#1081;&#1085;&#1086;&#1089;&#1090;&#1100;" TargetMode="External"/><Relationship Id="rId8" Type="http://schemas.openxmlformats.org/officeDocument/2006/relationships/hyperlink" Target="http://ru.wikipedia.org/wiki/&#1048;&#1079;&#1083;&#1086;&#1084;" TargetMode="External"/><Relationship Id="rId9" Type="http://schemas.openxmlformats.org/officeDocument/2006/relationships/hyperlink" Target="http://ru.wikipedia.org/wiki/&#1055;&#1083;&#1086;&#1090;&#1085;&#1086;&#1089;&#1090;&#1100;" TargetMode="External"/><Relationship Id="rId10" Type="http://schemas.openxmlformats.org/officeDocument/2006/relationships/image" Target="../media/image51.jpeg"/><Relationship Id="rId11" Type="http://schemas.openxmlformats.org/officeDocument/2006/relationships/image" Target="../media/image52.jpeg"/><Relationship Id="rId12" Type="http://schemas.openxmlformats.org/officeDocument/2006/relationships/image" Target="../media/image53.jpeg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80;&#1084;&#1077;&#1089;&#1100;_(&#1093;&#1080;&#1084;&#1080;&#1103;)" TargetMode="External"/><Relationship Id="rId2" Type="http://schemas.openxmlformats.org/officeDocument/2006/relationships/hyperlink" Target="http://ru.wikipedia.org/wiki/&#1057;&#1080;&#1085;&#1075;&#1086;&#1085;&#1080;&#1103;" TargetMode="External"/><Relationship Id="rId3" Type="http://schemas.openxmlformats.org/officeDocument/2006/relationships/hyperlink" Target="http://ru.wikipedia.org/wiki/&#1056;&#1086;&#1084;&#1073;&#1080;&#1095;&#1077;&#1089;&#1082;&#1072;&#1103;_&#1089;&#1080;&#1085;&#1075;&#1086;&#1085;&#1080;&#1103;" TargetMode="External"/><Relationship Id="rId4" Type="http://schemas.openxmlformats.org/officeDocument/2006/relationships/hyperlink" Target="http://ru.wikipedia.org/wiki/&#1062;&#1074;&#1077;&#1090;" TargetMode="External"/><Relationship Id="rId5" Type="http://schemas.openxmlformats.org/officeDocument/2006/relationships/hyperlink" Target="http://ru.wikipedia.org/wiki/&#1062;&#1074;&#1077;&#1090;_&#1095;&#1077;&#1088;&#1090;&#1099;" TargetMode="External"/><Relationship Id="rId6" Type="http://schemas.openxmlformats.org/officeDocument/2006/relationships/hyperlink" Target="http://ru.wikipedia.org/wiki/&#1041;&#1083;&#1077;&#1089;&#1082;" TargetMode="External"/><Relationship Id="rId7" Type="http://schemas.openxmlformats.org/officeDocument/2006/relationships/hyperlink" Target="http://ru.wikipedia.org/wiki/&#1055;&#1088;&#1086;&#1079;&#1088;&#1072;&#1095;&#1085;&#1086;&#1089;&#1090;&#1100;_&#1089;&#1088;&#1077;&#1076;&#1099;" TargetMode="External"/><Relationship Id="rId8" Type="http://schemas.openxmlformats.org/officeDocument/2006/relationships/hyperlink" Target="http://ru.wikipedia.org/wiki/&#1064;&#1082;&#1072;&#1083;&#1072;_&#1052;&#1086;&#1086;&#1089;&#1072;" TargetMode="External"/><Relationship Id="rId9" Type="http://schemas.openxmlformats.org/officeDocument/2006/relationships/hyperlink" Target="http://ru.wikipedia.org/wiki/&#1057;&#1087;&#1072;&#1081;&#1085;&#1086;&#1089;&#1090;&#1100;" TargetMode="External"/><Relationship Id="rId10" Type="http://schemas.openxmlformats.org/officeDocument/2006/relationships/hyperlink" Target="http://ru.wikipedia.org/wiki/&#1048;&#1079;&#1083;&#1086;&#1084;" TargetMode="External"/><Relationship Id="rId11" Type="http://schemas.openxmlformats.org/officeDocument/2006/relationships/hyperlink" Target="http://ru.wikipedia.org/wiki/&#1055;&#1083;&#1086;&#1090;&#1085;&#1086;&#1089;&#1090;&#1100;" TargetMode="External"/><Relationship Id="rId12" Type="http://schemas.openxmlformats.org/officeDocument/2006/relationships/image" Target="../media/image59.jpeg"/><Relationship Id="rId13" Type="http://schemas.openxmlformats.org/officeDocument/2006/relationships/image" Target="../media/image60.jpeg"/><Relationship Id="rId14" Type="http://schemas.openxmlformats.org/officeDocument/2006/relationships/image" Target="../media/image61.jpeg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0;&#1085;&#1075;&#1086;&#1085;&#1080;&#1103;" TargetMode="External"/><Relationship Id="rId2" Type="http://schemas.openxmlformats.org/officeDocument/2006/relationships/hyperlink" Target="http://ru.wikipedia.org/wiki/&#1058;&#1088;&#1080;&#1075;&#1086;&#1085;&#1072;&#1083;&#1100;&#1085;&#1072;&#1103;_&#1089;&#1080;&#1085;&#1075;&#1086;&#1085;&#1080;&#1103;" TargetMode="External"/><Relationship Id="rId3" Type="http://schemas.openxmlformats.org/officeDocument/2006/relationships/hyperlink" Target="http://ru.wikipedia.org/wiki/&#1062;&#1074;&#1077;&#1090;" TargetMode="External"/><Relationship Id="rId4" Type="http://schemas.openxmlformats.org/officeDocument/2006/relationships/hyperlink" Target="http://ru.wikipedia.org/wiki/&#1062;&#1074;&#1077;&#1090;_&#1095;&#1077;&#1088;&#1090;&#1099;" TargetMode="External"/><Relationship Id="rId5" Type="http://schemas.openxmlformats.org/officeDocument/2006/relationships/hyperlink" Target="http://ru.wikipedia.org/wiki/&#1041;&#1083;&#1077;&#1089;&#1082;" TargetMode="External"/><Relationship Id="rId6" Type="http://schemas.openxmlformats.org/officeDocument/2006/relationships/hyperlink" Target="http://ru.wikipedia.org/wiki/&#1064;&#1082;&#1072;&#1083;&#1072;_&#1052;&#1086;&#1086;&#1089;&#1072;" TargetMode="External"/><Relationship Id="rId7" Type="http://schemas.openxmlformats.org/officeDocument/2006/relationships/hyperlink" Target="http://ru.wikipedia.org/wiki/&#1057;&#1087;&#1072;&#1081;&#1085;&#1086;&#1089;&#1090;&#1100;" TargetMode="External"/><Relationship Id="rId8" Type="http://schemas.openxmlformats.org/officeDocument/2006/relationships/hyperlink" Target="http://ru.wikipedia.org/wiki/&#1055;&#1083;&#1086;&#1090;&#1085;&#1086;&#1089;&#1090;&#1100;" TargetMode="External"/><Relationship Id="rId9" Type="http://schemas.openxmlformats.org/officeDocument/2006/relationships/image" Target="../media/image62.jpeg"/><Relationship Id="rId10" Type="http://schemas.openxmlformats.org/officeDocument/2006/relationships/image" Target="../media/image63.jpe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0;&#1085;&#1075;&#1086;&#1085;&#1080;&#1103;" TargetMode="External"/><Relationship Id="rId2" Type="http://schemas.openxmlformats.org/officeDocument/2006/relationships/hyperlink" Target="http://ru.wikipedia.org/wiki/&#1062;&#1074;&#1077;&#1090;" TargetMode="External"/><Relationship Id="rId3" Type="http://schemas.openxmlformats.org/officeDocument/2006/relationships/hyperlink" Target="http://ru.wikipedia.org/wiki/&#1062;&#1074;&#1077;&#1090;_&#1095;&#1077;&#1088;&#1090;&#1099;" TargetMode="External"/><Relationship Id="rId4" Type="http://schemas.openxmlformats.org/officeDocument/2006/relationships/hyperlink" Target="http://ru.wikipedia.org/wiki/&#1041;&#1083;&#1077;&#1089;&#1082;" TargetMode="External"/><Relationship Id="rId5" Type="http://schemas.openxmlformats.org/officeDocument/2006/relationships/hyperlink" Target="http://ru.wikipedia.org/wiki/&#1055;&#1088;&#1086;&#1079;&#1088;&#1072;&#1095;&#1085;&#1086;&#1089;&#1090;&#1100;_&#1089;&#1088;&#1077;&#1076;&#1099;" TargetMode="External"/><Relationship Id="rId6" Type="http://schemas.openxmlformats.org/officeDocument/2006/relationships/hyperlink" Target="http://ru.wikipedia.org/wiki/&#1064;&#1082;&#1072;&#1083;&#1072;_&#1052;&#1086;&#1086;&#1089;&#1072;" TargetMode="External"/><Relationship Id="rId7" Type="http://schemas.openxmlformats.org/officeDocument/2006/relationships/hyperlink" Target="http://ru.wikipedia.org/wiki/&#1057;&#1087;&#1072;&#1081;&#1085;&#1086;&#1089;&#1090;&#1100;" TargetMode="External"/><Relationship Id="rId8" Type="http://schemas.openxmlformats.org/officeDocument/2006/relationships/image" Target="../media/image67.jpe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http://ru.wikipedia.org/wiki/&#1062;&#1074;&#1077;&#1090;" TargetMode="External"/><Relationship Id="rId4" Type="http://schemas.openxmlformats.org/officeDocument/2006/relationships/hyperlink" Target="http://ru.wikipedia.org/wiki/&#1062;&#1074;&#1077;&#1090;_&#1095;&#1077;&#1088;&#1090;&#1099;" TargetMode="External"/><Relationship Id="rId5" Type="http://schemas.openxmlformats.org/officeDocument/2006/relationships/hyperlink" Target="http://ru.wikipedia.org/wiki/&#1064;&#1082;&#1072;&#1083;&#1072;_&#1052;&#1086;&#1086;&#1089;&#1072;" TargetMode="External"/><Relationship Id="rId6" Type="http://schemas.openxmlformats.org/officeDocument/2006/relationships/hyperlink" Target="http://ru.wikipedia.org/wiki/&#1055;&#1083;&#1086;&#1090;&#1085;&#1086;&#1089;&#1090;&#1100;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403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инералогическая шкала твёрдости Моо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79280" y="1341360"/>
          <a:ext cx="8785080" cy="4417920"/>
        </p:xfrm>
        <a:graphic>
          <a:graphicData uri="http://schemas.openxmlformats.org/drawingml/2006/table">
            <a:tbl>
              <a:tblPr/>
              <a:tblGrid>
                <a:gridCol w="2408040"/>
                <a:gridCol w="1239840"/>
                <a:gridCol w="1465200"/>
                <a:gridCol w="2078280"/>
                <a:gridCol w="159372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Минера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тносит. тверд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ая тверд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Полевой анал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Твердость полевого аналога по шкале Моо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таль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мягкий каранда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гип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ного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2 – 2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альци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медная моне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3,5 - 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флюори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медная моне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3,5 - 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пати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стекл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ортоклаз (п. шпат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стальной нож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вар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напильни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7-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топа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напильни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ff"/>
                          </a:solidFill>
                          <a:latin typeface="Times New Roman"/>
                          <a:ea typeface="Times New Roman"/>
                        </a:rPr>
                        <a:t>7-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орун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лма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5402160" y="235080"/>
            <a:ext cx="22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азновид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4226040" y="1628640"/>
            <a:ext cx="4917960" cy="368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21" name=""/>
          <p:cNvSpPr/>
          <p:nvPr/>
        </p:nvSpPr>
        <p:spPr>
          <a:xfrm>
            <a:off x="5707800" y="5229360"/>
            <a:ext cx="33688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еленит (волокнистый гип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4321440" cy="3267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39600" y="3645000"/>
            <a:ext cx="4100760" cy="3074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24" name=""/>
          <p:cNvSpPr/>
          <p:nvPr/>
        </p:nvSpPr>
        <p:spPr>
          <a:xfrm>
            <a:off x="2552400" y="2997360"/>
            <a:ext cx="20217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арьино стек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048560" y="6308640"/>
            <a:ext cx="361260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лебастр (сахаровидный гип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249360" y="1890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альц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941720" y="260280"/>
            <a:ext cx="8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ahoma"/>
              </a:rPr>
              <a:t>CaCO</a:t>
            </a:r>
            <a:r>
              <a:rPr b="1" lang="en-US" sz="1400" spc="-1" strike="noStrike">
                <a:solidFill>
                  <a:srgbClr val="ccecff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79280" y="692280"/>
          <a:ext cx="6048360" cy="1728720"/>
        </p:xfrm>
        <a:graphic>
          <a:graphicData uri="http://schemas.openxmlformats.org/drawingml/2006/table">
            <a:tbl>
              <a:tblPr/>
              <a:tblGrid>
                <a:gridCol w="1346400"/>
                <a:gridCol w="47019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1"/>
                        </a:rPr>
                        <a:t>Цв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цветный, белый, розовый, жёлтый, коричнев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2"/>
                        </a:rPr>
                        <a:t>Цвет чер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3"/>
                        </a:rPr>
                        <a:t>Блес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клян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4"/>
                        </a:rPr>
                        <a:t>Твёрд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5"/>
                        </a:rPr>
                        <a:t>Плот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1 г/см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9" name="" descr=""/>
          <p:cNvPicPr/>
          <p:nvPr/>
        </p:nvPicPr>
        <p:blipFill>
          <a:blip r:embed="rId6"/>
          <a:stretch/>
        </p:blipFill>
        <p:spPr>
          <a:xfrm>
            <a:off x="108000" y="3164040"/>
            <a:ext cx="5327640" cy="353520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7"/>
          <a:stretch/>
        </p:blipFill>
        <p:spPr>
          <a:xfrm>
            <a:off x="5148360" y="620640"/>
            <a:ext cx="3841560" cy="288144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8"/>
          <a:stretch/>
        </p:blipFill>
        <p:spPr>
          <a:xfrm>
            <a:off x="5508720" y="3789360"/>
            <a:ext cx="3527280" cy="264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3708360" y="189000"/>
            <a:ext cx="5275440" cy="3956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3313080" cy="248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179280" y="3860640"/>
            <a:ext cx="3672000" cy="2756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738080" y="90360"/>
            <a:ext cx="5461560" cy="40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птическая разновидность - </a:t>
            </a: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исландский шпа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3611520" cy="38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179280" y="4398840"/>
            <a:ext cx="6210360" cy="2343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38" name="" descr=""/>
          <p:cNvPicPr/>
          <p:nvPr/>
        </p:nvPicPr>
        <p:blipFill>
          <a:blip r:embed="rId4"/>
          <a:stretch/>
        </p:blipFill>
        <p:spPr>
          <a:xfrm>
            <a:off x="3960720" y="1496880"/>
            <a:ext cx="500400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1373040" y="2637000"/>
            <a:ext cx="24591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раморные оник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4859280" y="4292640"/>
            <a:ext cx="4176720" cy="2139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3780000" y="2349360"/>
            <a:ext cx="2376360" cy="157824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4321440" cy="2387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>
            <a:off x="179280" y="3238560"/>
            <a:ext cx="4537080" cy="334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44" name="" descr=""/>
          <p:cNvPicPr/>
          <p:nvPr/>
        </p:nvPicPr>
        <p:blipFill>
          <a:blip r:embed="rId5"/>
          <a:stretch/>
        </p:blipFill>
        <p:spPr>
          <a:xfrm>
            <a:off x="5580000" y="189000"/>
            <a:ext cx="3446640" cy="2473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45" name=""/>
          <p:cNvSpPr/>
          <p:nvPr/>
        </p:nvSpPr>
        <p:spPr>
          <a:xfrm>
            <a:off x="5748480" y="3500280"/>
            <a:ext cx="32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Техногенный полосчатый кальци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911320" y="6237360"/>
            <a:ext cx="179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гидротермаль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3187440" y="18900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флюор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744560" y="2376360"/>
          <a:ext cx="5656320" cy="517680"/>
        </p:xfrm>
        <a:graphic>
          <a:graphicData uri="http://schemas.openxmlformats.org/drawingml/2006/table">
            <a:tbl>
              <a:tblPr/>
              <a:tblGrid>
                <a:gridCol w="1247760"/>
                <a:gridCol w="4408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9" name=""/>
          <p:cNvSpPr/>
          <p:nvPr/>
        </p:nvSpPr>
        <p:spPr>
          <a:xfrm>
            <a:off x="5016600" y="260280"/>
            <a:ext cx="69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ahoma"/>
              </a:rPr>
              <a:t>CaF</a:t>
            </a:r>
            <a:r>
              <a:rPr b="1" lang="en-US" sz="1400" spc="-1" strike="noStrike">
                <a:solidFill>
                  <a:srgbClr val="ccecff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179280" y="692280"/>
          <a:ext cx="8856720" cy="2549520"/>
        </p:xfrm>
        <a:graphic>
          <a:graphicData uri="http://schemas.openxmlformats.org/drawingml/2006/table">
            <a:tbl>
              <a:tblPr/>
              <a:tblGrid>
                <a:gridCol w="1954440"/>
                <a:gridCol w="69022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1"/>
                        </a:rPr>
                        <a:t>Синго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2"/>
                        </a:rPr>
                        <a:t>Кубическ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3"/>
                        </a:rPr>
                        <a:t>Цв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ый или бесцветный, фиолетовый, синий, сине-зеленый, желтый, коричнево-желтый, или крас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4"/>
                        </a:rPr>
                        <a:t>Цвет чер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5"/>
                        </a:rPr>
                        <a:t>Блес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клян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6"/>
                        </a:rPr>
                        <a:t>Твёрд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7"/>
                        </a:rPr>
                        <a:t>Спай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ершенная по {111}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8"/>
                        </a:rPr>
                        <a:t>Плот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8 г/см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9"/>
                        </a:rPr>
                        <a:t>Показатель преломл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33 — 1,4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1" name="" descr=""/>
          <p:cNvPicPr/>
          <p:nvPr/>
        </p:nvPicPr>
        <p:blipFill>
          <a:blip r:embed="rId10"/>
          <a:stretch/>
        </p:blipFill>
        <p:spPr>
          <a:xfrm>
            <a:off x="250920" y="3429000"/>
            <a:ext cx="4800600" cy="32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52" name="" descr=""/>
          <p:cNvPicPr/>
          <p:nvPr/>
        </p:nvPicPr>
        <p:blipFill>
          <a:blip r:embed="rId11"/>
          <a:stretch/>
        </p:blipFill>
        <p:spPr>
          <a:xfrm>
            <a:off x="5219640" y="3787920"/>
            <a:ext cx="3816360" cy="2867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53" name="" descr=""/>
          <p:cNvPicPr/>
          <p:nvPr/>
        </p:nvPicPr>
        <p:blipFill>
          <a:blip r:embed="rId12"/>
          <a:stretch/>
        </p:blipFill>
        <p:spPr>
          <a:xfrm>
            <a:off x="4788000" y="1263600"/>
            <a:ext cx="4032000" cy="2452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3367800" y="18900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апат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8720" y="333360"/>
            <a:ext cx="21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ecff"/>
                </a:solidFill>
                <a:latin typeface="Tahoma"/>
              </a:rPr>
              <a:t>Са5[PO4]3(F, Cl, ОН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0" y="692280"/>
          <a:ext cx="9143640" cy="2728800"/>
        </p:xfrm>
        <a:graphic>
          <a:graphicData uri="http://schemas.openxmlformats.org/drawingml/2006/table">
            <a:tbl>
              <a:tblPr/>
              <a:tblGrid>
                <a:gridCol w="2255400"/>
                <a:gridCol w="68882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1"/>
                        </a:rPr>
                        <a:t>Синго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ксагональная, гексагонально-дипирамидальный вид симметр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2"/>
                        </a:rPr>
                        <a:t>Цв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ый, зеленый, сине-зеленый, голубой, фиолетовый, редко крас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3"/>
                        </a:rPr>
                        <a:t>Цвет чер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4"/>
                        </a:rPr>
                        <a:t>Блес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клянный до жирн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5"/>
                        </a:rPr>
                        <a:t>Прозрач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зрачный, просвечивающ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6"/>
                        </a:rPr>
                        <a:t>Твёрд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7"/>
                        </a:rPr>
                        <a:t>Спай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овершенная по (0001) и (101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8"/>
                        </a:rPr>
                        <a:t>Изл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ковистый, неров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9"/>
                        </a:rPr>
                        <a:t>Плот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—3,4 г/см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7" name="" descr=""/>
          <p:cNvPicPr/>
          <p:nvPr/>
        </p:nvPicPr>
        <p:blipFill>
          <a:blip r:embed="rId10"/>
          <a:stretch/>
        </p:blipFill>
        <p:spPr>
          <a:xfrm>
            <a:off x="179280" y="3500280"/>
            <a:ext cx="5184720" cy="3121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58" name="" descr=""/>
          <p:cNvPicPr/>
          <p:nvPr/>
        </p:nvPicPr>
        <p:blipFill>
          <a:blip r:embed="rId11"/>
          <a:stretch/>
        </p:blipFill>
        <p:spPr>
          <a:xfrm>
            <a:off x="5580000" y="3333600"/>
            <a:ext cx="3240000" cy="324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5148360" y="2852640"/>
            <a:ext cx="3809880" cy="381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5616360" cy="5118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810240" cy="3809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2484360" y="3213000"/>
            <a:ext cx="3600360" cy="360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63" name="" descr=""/>
          <p:cNvPicPr/>
          <p:nvPr/>
        </p:nvPicPr>
        <p:blipFill>
          <a:blip r:embed="rId3"/>
          <a:stretch/>
        </p:blipFill>
        <p:spPr>
          <a:xfrm>
            <a:off x="4284720" y="189000"/>
            <a:ext cx="470520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1116000" y="127080"/>
            <a:ext cx="7056360" cy="6548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338920" y="62064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аль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08000" y="2421000"/>
            <a:ext cx="903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ТАЛЬК - минерал подкласса слоистых силикатов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цве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белый, зеленоватый,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цвет черты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– белая,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твердость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1;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лотность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2,6-2,8 г/см3,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блеск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стеклянный (перламутровый), полупрозрачный,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спайность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совершенная по {001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4067280" cy="3333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4211640" y="3138480"/>
            <a:ext cx="4707000" cy="3530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4716360" y="144360"/>
            <a:ext cx="3024360" cy="2270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91" name=""/>
          <p:cNvSpPr/>
          <p:nvPr/>
        </p:nvSpPr>
        <p:spPr>
          <a:xfrm>
            <a:off x="1825560" y="105264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ahoma"/>
              </a:rPr>
              <a:t>Mg3Si4O10(OH)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452160" y="403920"/>
            <a:ext cx="64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Щелочные - К-Nа полевые шпаты, плагиоклазы - Са-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839400" y="4356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К[АlSi</a:t>
            </a: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O</a:t>
            </a: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8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185200" y="-27000"/>
            <a:ext cx="16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ртокл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1692360" y="2386080"/>
            <a:ext cx="6048360" cy="4282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graphicFrame>
        <p:nvGraphicFramePr>
          <p:cNvPr id="469" name=""/>
          <p:cNvGraphicFramePr/>
          <p:nvPr/>
        </p:nvGraphicFramePr>
        <p:xfrm>
          <a:off x="3247920" y="2575080"/>
          <a:ext cx="2648160" cy="2708280"/>
        </p:xfrm>
        <a:graphic>
          <a:graphicData uri="http://schemas.openxmlformats.org/drawingml/2006/table">
            <a:tbl>
              <a:tblPr/>
              <a:tblGrid>
                <a:gridCol w="662040"/>
                <a:gridCol w="19861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250920" y="692280"/>
          <a:ext cx="8191440" cy="1638000"/>
        </p:xfrm>
        <a:graphic>
          <a:graphicData uri="http://schemas.openxmlformats.org/drawingml/2006/table">
            <a:tbl>
              <a:tblPr/>
              <a:tblGrid>
                <a:gridCol w="2047680"/>
                <a:gridCol w="61437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2"/>
                        </a:rPr>
                        <a:t>Синго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3"/>
                        </a:rPr>
                        <a:t>Моноклин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4"/>
                        </a:rPr>
                        <a:t>Цв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цветный, зеленоватый, серый, розов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5"/>
                        </a:rPr>
                        <a:t>Цвет чер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6"/>
                        </a:rPr>
                        <a:t>Блес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клян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7"/>
                        </a:rPr>
                        <a:t>Твёрд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8"/>
                        </a:rPr>
                        <a:t>Плот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6 г/см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2185200" y="-2700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вар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76240" y="46080"/>
            <a:ext cx="6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ahoma"/>
              </a:rPr>
              <a:t>SiO</a:t>
            </a:r>
            <a:r>
              <a:rPr b="1" lang="en-US" sz="1400" spc="-1" strike="noStrike">
                <a:solidFill>
                  <a:srgbClr val="ccecff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179280" y="477720"/>
          <a:ext cx="8964720" cy="2184480"/>
        </p:xfrm>
        <a:graphic>
          <a:graphicData uri="http://schemas.openxmlformats.org/drawingml/2006/table">
            <a:tbl>
              <a:tblPr/>
              <a:tblGrid>
                <a:gridCol w="1887480"/>
                <a:gridCol w="707724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1"/>
                        </a:rPr>
                        <a:t>Синго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2"/>
                        </a:rPr>
                        <a:t>тригональ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3"/>
                        </a:rPr>
                        <a:t>Цв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ичневый, бесцветный, фиолетовый, серый, жёлт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4"/>
                        </a:rPr>
                        <a:t>Цвет чер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5"/>
                        </a:rPr>
                        <a:t>Блес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клян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6"/>
                        </a:rPr>
                        <a:t>Твёрд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7"/>
                        </a:rPr>
                        <a:t>Спай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овершен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8"/>
                        </a:rPr>
                        <a:t>Изло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ковист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9"/>
                        </a:rPr>
                        <a:t>Плот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 — 2,65 г/см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4" name="" descr=""/>
          <p:cNvPicPr/>
          <p:nvPr/>
        </p:nvPicPr>
        <p:blipFill>
          <a:blip r:embed="rId10"/>
          <a:stretch/>
        </p:blipFill>
        <p:spPr>
          <a:xfrm>
            <a:off x="5173560" y="981000"/>
            <a:ext cx="3816360" cy="573588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11"/>
          <a:stretch/>
        </p:blipFill>
        <p:spPr>
          <a:xfrm>
            <a:off x="1979640" y="2852640"/>
            <a:ext cx="3089160" cy="3840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76" name="" descr=""/>
          <p:cNvPicPr/>
          <p:nvPr/>
        </p:nvPicPr>
        <p:blipFill>
          <a:blip r:embed="rId12"/>
          <a:stretch/>
        </p:blipFill>
        <p:spPr>
          <a:xfrm>
            <a:off x="76320" y="4581360"/>
            <a:ext cx="1831680" cy="2116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470040" cy="4495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3132000" y="3429000"/>
            <a:ext cx="3187800" cy="3187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79" name="" descr=""/>
          <p:cNvPicPr/>
          <p:nvPr/>
        </p:nvPicPr>
        <p:blipFill>
          <a:blip r:embed="rId3"/>
          <a:stretch/>
        </p:blipFill>
        <p:spPr>
          <a:xfrm>
            <a:off x="5148360" y="260280"/>
            <a:ext cx="3809880" cy="381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80" name=""/>
          <p:cNvSpPr/>
          <p:nvPr/>
        </p:nvSpPr>
        <p:spPr>
          <a:xfrm>
            <a:off x="560160" y="2761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мети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592960" y="27612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цитр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211920" y="344340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метр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250920" y="581040"/>
            <a:ext cx="4790880" cy="4000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4751280" y="1844640"/>
            <a:ext cx="4221360" cy="4778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85" name=""/>
          <p:cNvSpPr/>
          <p:nvPr/>
        </p:nvSpPr>
        <p:spPr>
          <a:xfrm>
            <a:off x="1812240" y="115920"/>
            <a:ext cx="53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сколки розового и черного (морион) квар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2186280" y="-27000"/>
            <a:ext cx="10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оп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342960" y="38160"/>
            <a:ext cx="188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Al</a:t>
            </a: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[SiO</a:t>
            </a: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4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](F,OH)</a:t>
            </a:r>
            <a:r>
              <a:rPr b="0" lang="en-US" sz="1600" spc="-1" strike="noStrike">
                <a:solidFill>
                  <a:srgbClr val="ccecff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108000" y="401760"/>
          <a:ext cx="9036000" cy="2913120"/>
        </p:xfrm>
        <a:graphic>
          <a:graphicData uri="http://schemas.openxmlformats.org/drawingml/2006/table">
            <a:tbl>
              <a:tblPr/>
              <a:tblGrid>
                <a:gridCol w="2855160"/>
                <a:gridCol w="618084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1"/>
                        </a:rPr>
                        <a:t>Примес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Fe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Ti, Cr, 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2"/>
                        </a:rPr>
                        <a:t>Синго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3"/>
                        </a:rPr>
                        <a:t>Ромбическ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4"/>
                        </a:rPr>
                        <a:t>Цв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цветный, бледно-голубой, жёлтый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товато-коричневый, крас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5"/>
                        </a:rPr>
                        <a:t>Цвет чер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6"/>
                        </a:rPr>
                        <a:t>Блес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клян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7"/>
                        </a:rPr>
                        <a:t>Прозрач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зрач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8"/>
                        </a:rPr>
                        <a:t>Твёрд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9"/>
                        </a:rPr>
                        <a:t>Спай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ершенная по {001}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10"/>
                        </a:rPr>
                        <a:t>Изло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ковист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11"/>
                        </a:rPr>
                        <a:t>Плот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 — 3,6 г/см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9" name="" descr=""/>
          <p:cNvPicPr/>
          <p:nvPr/>
        </p:nvPicPr>
        <p:blipFill>
          <a:blip r:embed="rId12"/>
          <a:stretch/>
        </p:blipFill>
        <p:spPr>
          <a:xfrm>
            <a:off x="5626080" y="1428840"/>
            <a:ext cx="3409920" cy="5313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90" name="" descr=""/>
          <p:cNvPicPr/>
          <p:nvPr/>
        </p:nvPicPr>
        <p:blipFill>
          <a:blip r:embed="rId13"/>
          <a:stretch/>
        </p:blipFill>
        <p:spPr>
          <a:xfrm>
            <a:off x="3178080" y="3284640"/>
            <a:ext cx="2392560" cy="3438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91" name="" descr=""/>
          <p:cNvPicPr/>
          <p:nvPr/>
        </p:nvPicPr>
        <p:blipFill>
          <a:blip r:embed="rId14"/>
          <a:stretch/>
        </p:blipFill>
        <p:spPr>
          <a:xfrm>
            <a:off x="836640" y="3357720"/>
            <a:ext cx="2147760" cy="3384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2191320" y="-27000"/>
            <a:ext cx="13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орун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4389480" y="1617840"/>
          <a:ext cx="365040" cy="362232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4389480" y="1617840"/>
          <a:ext cx="365040" cy="362232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5" name=""/>
          <p:cNvGraphicFramePr/>
          <p:nvPr/>
        </p:nvGraphicFramePr>
        <p:xfrm>
          <a:off x="4389480" y="1617840"/>
          <a:ext cx="365040" cy="362232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6" name=""/>
          <p:cNvSpPr/>
          <p:nvPr/>
        </p:nvSpPr>
        <p:spPr>
          <a:xfrm>
            <a:off x="3549600" y="4356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Al</a:t>
            </a: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O</a:t>
            </a: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4389480" y="1876320"/>
          <a:ext cx="365040" cy="31050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4389480" y="1876320"/>
          <a:ext cx="365040" cy="31050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4389480" y="1876320"/>
          <a:ext cx="365040" cy="31050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179280" y="477720"/>
          <a:ext cx="8964720" cy="2184480"/>
        </p:xfrm>
        <a:graphic>
          <a:graphicData uri="http://schemas.openxmlformats.org/drawingml/2006/table">
            <a:tbl>
              <a:tblPr/>
              <a:tblGrid>
                <a:gridCol w="1887480"/>
                <a:gridCol w="707724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1"/>
                        </a:rPr>
                        <a:t>Синго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2"/>
                        </a:rPr>
                        <a:t>тригональ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3"/>
                        </a:rPr>
                        <a:t>Цв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убой, красный желтый, коричневый, бесцветный, фиолетовый, сер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4"/>
                        </a:rPr>
                        <a:t>Цвет чер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5"/>
                        </a:rPr>
                        <a:t>Блес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клян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6"/>
                        </a:rPr>
                        <a:t>Твёрд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7"/>
                        </a:rPr>
                        <a:t>Спай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ует или мним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8"/>
                        </a:rPr>
                        <a:t>Плот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 — 4,1 г/см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1" name="" descr=""/>
          <p:cNvPicPr/>
          <p:nvPr/>
        </p:nvPicPr>
        <p:blipFill>
          <a:blip r:embed="rId9"/>
          <a:stretch/>
        </p:blipFill>
        <p:spPr>
          <a:xfrm>
            <a:off x="4067280" y="1324080"/>
            <a:ext cx="4962600" cy="383364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10"/>
          <a:stretch/>
        </p:blipFill>
        <p:spPr>
          <a:xfrm>
            <a:off x="179280" y="3456000"/>
            <a:ext cx="43214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5400360" cy="525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5745240" y="2781360"/>
            <a:ext cx="3154320" cy="3857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6227640" y="69840"/>
            <a:ext cx="2629080" cy="2498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2179080" y="-2700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алм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490200" y="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0" y="476280"/>
          <a:ext cx="6084720" cy="3095640"/>
        </p:xfrm>
        <a:graphic>
          <a:graphicData uri="http://schemas.openxmlformats.org/drawingml/2006/table">
            <a:tbl>
              <a:tblPr/>
              <a:tblGrid>
                <a:gridCol w="1305000"/>
                <a:gridCol w="477972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1"/>
                        </a:rPr>
                        <a:t>Синго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бическ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2"/>
                        </a:rPr>
                        <a:t>Цв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ычно жёлтый, коричневый, серый или бесцветный. Реже встречаются голубые, зелёные, чёрные и пр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3"/>
                        </a:rPr>
                        <a:t>Цвет чер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цвет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4"/>
                        </a:rPr>
                        <a:t>Блес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маз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5"/>
                        </a:rPr>
                        <a:t>Прозрач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зрачный, полупрозрач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6"/>
                        </a:rPr>
                        <a:t>Твёрд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7"/>
                        </a:rPr>
                        <a:t>Спай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ершенная по {111}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ло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ковист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т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 — 3,53 г/см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 преломл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02-2,4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9" name="" descr=""/>
          <p:cNvPicPr/>
          <p:nvPr/>
        </p:nvPicPr>
        <p:blipFill>
          <a:blip r:embed="rId8"/>
          <a:stretch/>
        </p:blipFill>
        <p:spPr>
          <a:xfrm>
            <a:off x="3130560" y="2060640"/>
            <a:ext cx="5905440" cy="4422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2987640" y="1484280"/>
            <a:ext cx="5977080" cy="448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4170600" cy="4170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4291920"/>
            <a:ext cx="9144000" cy="63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Разновидности: стеатит - плотный, агалит - тонковолокнистый, благородный тальк - прозрачный светлый. Продукт гидротермального изменения магнезиальных силикатов ультраосновных пород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762440" cy="3219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4859280" y="333360"/>
            <a:ext cx="4140360" cy="3921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79280" y="636480"/>
            <a:ext cx="8640720" cy="471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аполнитель в парфюмерно-косметической, бумажной, резиновой промышленности; кислотоогнеупорный и электроизоляционный материал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Тальком обрабатываются хирургические резиновые перчатки для предотвращения спаек, поэтому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ahoma"/>
              </a:rPr>
              <a:t>использование перчаток без предварительного смывания с них этого вещества может вызвать раздражение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и частом вдыхании талька образуется талькоз (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относительно доброкачественный силикатоз, вызванный вдыханием пыли талька. Реже, чем асбестоз, сопровождается синдромом бронхита, менее выражена склонность к прогрессированию. Тяжелее протекает талькоз, вызванный косметической пудрой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)— болезнь лёгких при вдыхании пыли талька. Относится к профессиональным заболеваниям, ею болеют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в основном рабочие добывающие тальк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о данным American Journal of Epidemiology использования талька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в присыпках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увеличивает риск заболевания раком на 60%. Считается что жидкие формы косметических средств содержащие тальк относительно безвредны, однако могут вызывать аллергические реакции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463680" y="26028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гип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4716360" y="115920"/>
            <a:ext cx="4322880" cy="3236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179280" y="2637000"/>
            <a:ext cx="5400720" cy="4051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99" name=""/>
          <p:cNvSpPr/>
          <p:nvPr/>
        </p:nvSpPr>
        <p:spPr>
          <a:xfrm>
            <a:off x="2032920" y="41904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Tahoma"/>
              </a:rPr>
              <a:t>CaSO</a:t>
            </a:r>
            <a:r>
              <a:rPr b="1" lang="en-US" sz="1200" spc="-1" strike="noStrike">
                <a:solidFill>
                  <a:srgbClr val="ccecff"/>
                </a:solidFill>
                <a:latin typeface="Tahoma"/>
              </a:rPr>
              <a:t>4</a:t>
            </a:r>
            <a:r>
              <a:rPr b="1" lang="en-US" sz="1600" spc="-1" strike="noStrike">
                <a:solidFill>
                  <a:srgbClr val="ccecff"/>
                </a:solidFill>
                <a:latin typeface="Tahoma"/>
              </a:rPr>
              <a:t>•2H</a:t>
            </a:r>
            <a:r>
              <a:rPr b="1" lang="en-US" sz="1400" spc="-1" strike="noStrike">
                <a:solidFill>
                  <a:srgbClr val="ccecff"/>
                </a:solidFill>
                <a:latin typeface="Tahoma"/>
              </a:rPr>
              <a:t>2</a:t>
            </a:r>
            <a:r>
              <a:rPr b="1" lang="en-US" sz="1600" spc="-1" strike="noStrike">
                <a:solidFill>
                  <a:srgbClr val="ccecff"/>
                </a:solidFill>
                <a:latin typeface="Tahoma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0" y="1125360"/>
          <a:ext cx="4716000" cy="1428480"/>
        </p:xfrm>
        <a:graphic>
          <a:graphicData uri="http://schemas.openxmlformats.org/drawingml/2006/table">
            <a:tbl>
              <a:tblPr/>
              <a:tblGrid>
                <a:gridCol w="1791360"/>
                <a:gridCol w="2924640"/>
              </a:tblGrid>
              <a:tr h="35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3"/>
                        </a:rPr>
                        <a:t>Цв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ый, серый, крас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4"/>
                        </a:rPr>
                        <a:t>Цвет чер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5"/>
                        </a:rPr>
                        <a:t>Твёрд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 — 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6"/>
                        </a:rPr>
                        <a:t>Плот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1 — 2,33 г/см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1" name="" descr=""/>
          <p:cNvPicPr/>
          <p:nvPr/>
        </p:nvPicPr>
        <p:blipFill>
          <a:blip r:embed="rId7"/>
          <a:stretch/>
        </p:blipFill>
        <p:spPr>
          <a:xfrm>
            <a:off x="5724360" y="3789360"/>
            <a:ext cx="3287880" cy="2467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34920" y="679320"/>
            <a:ext cx="4392720" cy="3714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780000" y="3573360"/>
            <a:ext cx="5206680" cy="3124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4500720" y="189000"/>
            <a:ext cx="4573440" cy="3193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05" name=""/>
          <p:cNvSpPr/>
          <p:nvPr/>
        </p:nvSpPr>
        <p:spPr>
          <a:xfrm>
            <a:off x="552960" y="474012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ристал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137320" y="27612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ипс с сер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4859280" y="3197160"/>
            <a:ext cx="4103640" cy="3567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4537080" cy="4178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5073480" y="95400"/>
            <a:ext cx="3962520" cy="2973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10" name=""/>
          <p:cNvSpPr/>
          <p:nvPr/>
        </p:nvSpPr>
        <p:spPr>
          <a:xfrm>
            <a:off x="1186200" y="40464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азличная окрас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680000" cy="3511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4211640" y="2924280"/>
            <a:ext cx="4784760" cy="3589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179280" y="3860640"/>
            <a:ext cx="3816360" cy="2716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14" name="" descr=""/>
          <p:cNvPicPr/>
          <p:nvPr/>
        </p:nvPicPr>
        <p:blipFill>
          <a:blip r:embed="rId4"/>
          <a:stretch/>
        </p:blipFill>
        <p:spPr>
          <a:xfrm>
            <a:off x="5003640" y="147600"/>
            <a:ext cx="4002120" cy="2606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2d557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539640" y="115920"/>
            <a:ext cx="3167280" cy="3529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3851280" y="1265400"/>
            <a:ext cx="5172120" cy="5259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395280" y="3789360"/>
            <a:ext cx="3311640" cy="2871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18" name=""/>
          <p:cNvSpPr/>
          <p:nvPr/>
        </p:nvSpPr>
        <p:spPr>
          <a:xfrm>
            <a:off x="3780000" y="115920"/>
            <a:ext cx="53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краска обусловлена минералами желез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магнетит, пирит, маггемит) ультрадисперсной размер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05:23:41Z</dcterms:created>
  <dc:creator>Korolev</dc:creator>
  <dc:description/>
  <dc:language>en-US</dc:language>
  <cp:lastModifiedBy>Леонова</cp:lastModifiedBy>
  <dcterms:modified xsi:type="dcterms:W3CDTF">2009-09-07T15:06:12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420000000000001024140</vt:lpwstr>
  </property>
</Properties>
</file>