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8AB-C5EA-4289-9AC0-845F57E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AE1-1DB0-4250-AAFE-0EAD61BF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D4E-4380-47D7-8929-D6DC86DA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D97-A172-4E53-B6E2-4050777F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6630-62E3-4A7B-97FF-9EBA188F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F11-9F2E-4332-AB1F-8EBBE01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83A8-9D5A-431A-AB18-766C90CB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3B7-5E72-484E-909C-2A3D7417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522-994E-44C6-A0A0-3834850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AB9-789C-43FD-95D0-51C38CB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D84-0261-4E20-89AC-B481F6E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5B1-2845-4ECA-AF9B-1495E0E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429C-9FFD-4AD4-97FB-44B8B84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EBCF-13A0-4D87-88CB-6878336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F0BB-97E1-4520-9BF5-715839A1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CDCB-F1AB-46E5-A6ED-2008040A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9CBA-2FB4-43E7-BA08-659873BC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5ED-9426-4B03-A571-6ABEA47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4D0-75D3-4DCC-BBBC-A4BC4760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DB9-6F23-4C62-9D87-8CBB135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CA-70E1-4503-8BB2-3EACB361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033-9AC7-4927-935B-666882A8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B23-C8D6-433C-95E2-091F7C6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CDD-D28E-4A64-BC23-CAAD1AC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6E3-411A-4537-8EAC-5914EFDE40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0BF6-4A10-4A15-9107-925D70E6FF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" TargetMode="External"/><Relationship Id="rId2" Type="http://schemas.openxmlformats.org/officeDocument/2006/relationships/hyperlink" Target="http://ru.wikipedia.org/wiki/&#1062;&#1074;&#1077;&#1090;_&#1095;&#1077;&#1088;&#1090;&#1099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55;&#1083;&#1086;&#1090;&#1085;&#1086;&#1089;&#1090;&#1100;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.web.ru/index.php?title=&#1048;&#1089;&#1083;&#1072;&#1085;&#1076;&#1089;&#1082;&#1080;&#1081;_&#1096;&#1087;&#1072;&#1090;&amp;action=edit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0;&#1091;&#1073;&#1080;&#1095;&#1077;&#1089;&#1082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2;&#1086;&#1085;&#1086;&#1082;&#1083;&#1080;&#1085;&#1085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84;&#1077;&#1089;&#1100;_(&#1093;&#1080;&#1084;&#1080;&#1103;)" TargetMode="External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7;&#1087;&#1072;&#1081;&#1085;&#1086;&#1089;&#1090;&#1100;" TargetMode="External"/><Relationship Id="rId10" Type="http://schemas.openxmlformats.org/officeDocument/2006/relationships/hyperlink" Target="http://ru.wikipedia.org/wiki/&#1048;&#1079;&#1083;&#1086;&#1084;" TargetMode="External"/><Relationship Id="rId11" Type="http://schemas.openxmlformats.org/officeDocument/2006/relationships/hyperlink" Target="http://ru.wikipedia.org/wiki/&#1055;&#1083;&#1086;&#1090;&#1085;&#1086;&#1089;&#1090;&#1100;" TargetMode="External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64;&#1082;&#1072;&#1083;&#1072;_&#1052;&#1086;&#1086;&#1089;&#1072;" TargetMode="External"/><Relationship Id="rId6" Type="http://schemas.openxmlformats.org/officeDocument/2006/relationships/hyperlink" Target="http://ru.wikipedia.org/wiki/&#1055;&#1083;&#1086;&#1090;&#1085;&#1086;&#1089;&#1090;&#1100;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40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нералогическая шкала твёрдости Мо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1341360"/>
          <a:ext cx="8785080" cy="4417920"/>
        </p:xfrm>
        <a:graphic>
          <a:graphicData uri="http://schemas.openxmlformats.org/drawingml/2006/table">
            <a:tbl>
              <a:tblPr/>
              <a:tblGrid>
                <a:gridCol w="2408040"/>
                <a:gridCol w="1239840"/>
                <a:gridCol w="1465200"/>
                <a:gridCol w="2078280"/>
                <a:gridCol w="15937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инер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носит.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я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Полевой а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Твердость полевого аналога по шкале Мо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аль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ягкий каранда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ип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ого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2 – 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ль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люор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пат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токлаз (п. шпа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альной но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вар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оп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р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402160" y="2350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новид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226040" y="1628640"/>
            <a:ext cx="491796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5707800" y="5229360"/>
            <a:ext cx="33688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еленит (волокнист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321440" cy="326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9600" y="3645000"/>
            <a:ext cx="4100760" cy="307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2552400" y="2997360"/>
            <a:ext cx="2021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ьино стек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48560" y="6308640"/>
            <a:ext cx="3612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лебастр (сахаровидн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9360" y="189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ь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41720" y="260280"/>
            <a:ext cx="8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C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692280"/>
          <a:ext cx="6048360" cy="1728720"/>
        </p:xfrm>
        <a:graphic>
          <a:graphicData uri="http://schemas.openxmlformats.org/drawingml/2006/table">
            <a:tbl>
              <a:tblPr/>
              <a:tblGrid>
                <a:gridCol w="1346400"/>
                <a:gridCol w="470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елый, розовый, жёлтый, коричне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108000" y="3164040"/>
            <a:ext cx="532764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5148360" y="620640"/>
            <a:ext cx="3841560" cy="2881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5508720" y="3789360"/>
            <a:ext cx="3527280" cy="264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75440" cy="395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313080" cy="24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672000" cy="275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38080" y="90360"/>
            <a:ext cx="546156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тическая разновидность -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сландский шпа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61152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79280" y="4398840"/>
            <a:ext cx="6210360" cy="23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960720" y="1496880"/>
            <a:ext cx="500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3040" y="2637000"/>
            <a:ext cx="2459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раморные оник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4176720" cy="2139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2376360" cy="1578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321440" cy="23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79280" y="3238560"/>
            <a:ext cx="4537080" cy="33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5580000" y="189000"/>
            <a:ext cx="3446640" cy="24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5" name=""/>
          <p:cNvSpPr/>
          <p:nvPr/>
        </p:nvSpPr>
        <p:spPr>
          <a:xfrm>
            <a:off x="5748480" y="3500280"/>
            <a:ext cx="32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Техногенный полосчатый кальц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11320" y="6237360"/>
            <a:ext cx="17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идротерм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187440" y="189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лю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4560" y="2376360"/>
          <a:ext cx="5656320" cy="517680"/>
        </p:xfrm>
        <a:graphic>
          <a:graphicData uri="http://schemas.openxmlformats.org/drawingml/2006/table">
            <a:tbl>
              <a:tblPr/>
              <a:tblGrid>
                <a:gridCol w="1247760"/>
                <a:gridCol w="440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5016600" y="260280"/>
            <a:ext cx="6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F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692280"/>
          <a:ext cx="8856720" cy="2549520"/>
        </p:xfrm>
        <a:graphic>
          <a:graphicData uri="http://schemas.openxmlformats.org/drawingml/2006/table">
            <a:tbl>
              <a:tblPr/>
              <a:tblGrid>
                <a:gridCol w="1954440"/>
                <a:gridCol w="6902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или бесцветный, фиолетовый, синий, сине-зеленый, желтый, коричнево-желтый, или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8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3 — 1,4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" descr=""/>
          <p:cNvPicPr/>
          <p:nvPr/>
        </p:nvPicPr>
        <p:blipFill>
          <a:blip r:embed="rId10"/>
          <a:stretch/>
        </p:blipFill>
        <p:spPr>
          <a:xfrm>
            <a:off x="250920" y="3429000"/>
            <a:ext cx="4800600" cy="32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11"/>
          <a:stretch/>
        </p:blipFill>
        <p:spPr>
          <a:xfrm>
            <a:off x="5219640" y="3787920"/>
            <a:ext cx="3816360" cy="28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12"/>
          <a:stretch/>
        </p:blipFill>
        <p:spPr>
          <a:xfrm>
            <a:off x="4788000" y="1263600"/>
            <a:ext cx="403200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67800" y="1890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па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8720" y="33336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Са5[PO4]3(F, Cl, О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692280"/>
          <a:ext cx="9143640" cy="2728800"/>
        </p:xfrm>
        <a:graphic>
          <a:graphicData uri="http://schemas.openxmlformats.org/drawingml/2006/table">
            <a:tbl>
              <a:tblPr/>
              <a:tblGrid>
                <a:gridCol w="2255400"/>
                <a:gridCol w="6888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агональная, гексагонально-дипирамидальный вид сим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зеленый, сине-зеленый, голубой, фиолетовый, редко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 до жир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росвечивающ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 по (0001) и (101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, неров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—3,4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179280" y="3500280"/>
            <a:ext cx="5184720" cy="312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5580000" y="3333600"/>
            <a:ext cx="3240000" cy="32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616360" cy="51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3600360" cy="36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7052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116000" y="127080"/>
            <a:ext cx="7056360" cy="654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338920" y="620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аль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8000" y="2421000"/>
            <a:ext cx="90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АЛЬК - минерал подкласса слоистых силика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белый, зеленоват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 черты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– белая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верд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1;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лот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2,6-2,8 г/см3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лес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теклянный (перламутровый), полупрозрачн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пай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овершенная по {001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4067280" cy="333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211640" y="3138480"/>
            <a:ext cx="4707000" cy="353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716360" y="144360"/>
            <a:ext cx="3024360" cy="227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1825560" y="10526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Mg3Si4O10(OH)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52160" y="40392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лочные - К-Nа полевые шпаты, плагиоклазы - Са-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39400" y="435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К[АlSi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85200" y="-270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ток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692360" y="2386080"/>
            <a:ext cx="6048360" cy="42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469" name=""/>
          <p:cNvGraphicFramePr/>
          <p:nvPr/>
        </p:nvGraphicFramePr>
        <p:xfrm>
          <a:off x="3247920" y="2575080"/>
          <a:ext cx="2648160" cy="2708280"/>
        </p:xfrm>
        <a:graphic>
          <a:graphicData uri="http://schemas.openxmlformats.org/drawingml/2006/table">
            <a:tbl>
              <a:tblPr/>
              <a:tblGrid>
                <a:gridCol w="662040"/>
                <a:gridCol w="1986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50920" y="692280"/>
          <a:ext cx="8191440" cy="1638000"/>
        </p:xfrm>
        <a:graphic>
          <a:graphicData uri="http://schemas.openxmlformats.org/drawingml/2006/table">
            <a:tbl>
              <a:tblPr/>
              <a:tblGrid>
                <a:gridCol w="2047680"/>
                <a:gridCol w="61437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Монокли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зеленоватый, серый, розов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85200" y="-2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вар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76240" y="460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Si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ый, бесцветный, фиолетовый, серый, жёл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 — 2,65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" descr=""/>
          <p:cNvPicPr/>
          <p:nvPr/>
        </p:nvPicPr>
        <p:blipFill>
          <a:blip r:embed="rId10"/>
          <a:stretch/>
        </p:blipFill>
        <p:spPr>
          <a:xfrm>
            <a:off x="5173560" y="981000"/>
            <a:ext cx="3816360" cy="5735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1"/>
          <a:stretch/>
        </p:blipFill>
        <p:spPr>
          <a:xfrm>
            <a:off x="1979640" y="2852640"/>
            <a:ext cx="3089160" cy="384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12"/>
          <a:stretch/>
        </p:blipFill>
        <p:spPr>
          <a:xfrm>
            <a:off x="76320" y="4581360"/>
            <a:ext cx="1831680" cy="2116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70040" cy="449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3187800" cy="318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0" name=""/>
          <p:cNvSpPr/>
          <p:nvPr/>
        </p:nvSpPr>
        <p:spPr>
          <a:xfrm>
            <a:off x="560160" y="276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мет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92960" y="276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11920" y="34434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е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0920" y="581040"/>
            <a:ext cx="479088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751280" y="1844640"/>
            <a:ext cx="4221360" cy="477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5" name=""/>
          <p:cNvSpPr/>
          <p:nvPr/>
        </p:nvSpPr>
        <p:spPr>
          <a:xfrm>
            <a:off x="1812240" y="115920"/>
            <a:ext cx="53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колки розового и черного (морион) ква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186280" y="-2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п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2960" y="38160"/>
            <a:ext cx="18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[Si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(F,OH)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08000" y="401760"/>
          <a:ext cx="9036000" cy="2913120"/>
        </p:xfrm>
        <a:graphic>
          <a:graphicData uri="http://schemas.openxmlformats.org/drawingml/2006/table">
            <a:tbl>
              <a:tblPr/>
              <a:tblGrid>
                <a:gridCol w="2855160"/>
                <a:gridCol w="6180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Примес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i, Cr, 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Ром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ледно-голубой, жёлтый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вато-коричневый,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00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0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1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12"/>
          <a:stretch/>
        </p:blipFill>
        <p:spPr>
          <a:xfrm>
            <a:off x="5626080" y="1428840"/>
            <a:ext cx="3409920" cy="531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13"/>
          <a:stretch/>
        </p:blipFill>
        <p:spPr>
          <a:xfrm>
            <a:off x="3178080" y="3284640"/>
            <a:ext cx="2392560" cy="34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836640" y="3357720"/>
            <a:ext cx="21477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191320" y="-270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р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3549600" y="4356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 желтый, коричневый, бесцветный, фиолетовый, сер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или мним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 — 4,1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" descr=""/>
          <p:cNvPicPr/>
          <p:nvPr/>
        </p:nvPicPr>
        <p:blipFill>
          <a:blip r:embed="rId9"/>
          <a:stretch/>
        </p:blipFill>
        <p:spPr>
          <a:xfrm>
            <a:off x="4067280" y="1324080"/>
            <a:ext cx="4962600" cy="38336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0"/>
          <a:stretch/>
        </p:blipFill>
        <p:spPr>
          <a:xfrm>
            <a:off x="179280" y="345600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400360" cy="525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745240" y="2781360"/>
            <a:ext cx="3154320" cy="38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27640" y="69840"/>
            <a:ext cx="2629080" cy="249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79080" y="-270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лм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0200" y="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0" y="476280"/>
          <a:ext cx="6084720" cy="3095640"/>
        </p:xfrm>
        <a:graphic>
          <a:graphicData uri="http://schemas.openxmlformats.org/drawingml/2006/table">
            <a:tbl>
              <a:tblPr/>
              <a:tblGrid>
                <a:gridCol w="1305000"/>
                <a:gridCol w="4779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о жёлтый, коричневый, серый или бесцветный. Реже встречаются голубые, зелёные, чёрные и п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олу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53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2-2,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3130560" y="2060640"/>
            <a:ext cx="5905440" cy="44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5977080" cy="44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170600" cy="417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4291920"/>
            <a:ext cx="9144000" cy="63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Разновидности: стеатит - плотный, агалит - тонковолокнистый, благородный тальк - прозрачный светлый. Продукт гидротермального изменения магнезиальных силикатов ультраосновных поро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21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140360" cy="392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636480"/>
            <a:ext cx="8640720" cy="471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полнитель в парфюмерно-косметической, бумажной, резиновой промышленности; кислотоогнеупорный и электроизоляционный материал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льком обрабатываются хирургические резиновые перчатки для предотвращения спаек, 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использование перчаток без предварительного смывания с них этого вещества может вызвать раздраже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частом вдыхании талька образуется талькоз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тносительно доброкачественный силикатоз, вызванный вдыханием пыли талька. Реже, чем асбестоз, сопровождается синдромом бронхита, менее выражена склонность к прогрессированию. Тяжелее протекает талькоз, вызванный косметической пудр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— болезнь лёгких при вдыхании пыли талька. Относится к профессиональным заболеваниям, ею болеют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основном рабочие добывающие тальк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 данным American Journal of Epidemiology использования талька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присыпка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величивает риск заболевания раком на 60%. Считается что жидкие формы косметических средств содержащие тальк относительно безвредны, однако могут вызывать аллергические реакции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3680" y="260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ип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2880" cy="323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400720" cy="405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>
            <a:off x="2032920" y="419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CaSO</a:t>
            </a:r>
            <a:r>
              <a:rPr b="1" lang="en-US" sz="12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•2H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1125360"/>
          <a:ext cx="4716000" cy="1428480"/>
        </p:xfrm>
        <a:graphic>
          <a:graphicData uri="http://schemas.openxmlformats.org/drawingml/2006/table">
            <a:tbl>
              <a:tblPr/>
              <a:tblGrid>
                <a:gridCol w="1791360"/>
                <a:gridCol w="292464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серый,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 —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 — 2,33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5724360" y="3789360"/>
            <a:ext cx="3287880" cy="24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4920" y="679320"/>
            <a:ext cx="4392720" cy="3714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2066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573440" cy="319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552960" y="4740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истал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7320" y="27612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ипс с се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859280" y="3197160"/>
            <a:ext cx="4103640" cy="35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537080" cy="41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73480" y="95400"/>
            <a:ext cx="396252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1186200" y="404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личная окр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000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211640" y="2924280"/>
            <a:ext cx="4784760" cy="35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816360" cy="27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003640" y="147600"/>
            <a:ext cx="400212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167280" cy="35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851280" y="1265400"/>
            <a:ext cx="5172120" cy="525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311640" cy="28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3780000" y="115920"/>
            <a:ext cx="53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аска обусловлена минералами же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агнетит, пирит, маггемит) ультрадисперсной раз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09-07T15:06:1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0000000000001024140</vt:lpwstr>
  </property>
</Properties>
</file>