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172-1FAE-45B0-864E-4CD7FEDB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3FE-9EFA-467C-BAAB-F7F1A48A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681-A079-4580-996C-42627969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EBE-47D6-4181-94B3-4A7CFFF0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1FF-6716-4958-8E3B-F7E87F2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D38-01B1-4D12-992D-21D7E04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2DA-51F1-4534-A5D9-9C72BEB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AC6-7A85-4328-8CF6-CCD3B27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B6E-D6EF-4050-BBF2-5230FAC1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82-CAA6-4955-B3F4-9408A46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330-6827-4AFE-91FA-3AE3D52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59A-6B83-4087-906A-78959CA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A6A4-444D-4B9A-80D6-34E3867D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86;&#1075;&#1077;&#1085;&#1080;&#1076;&#1099;" TargetMode="External"/><Relationship Id="rId2" Type="http://schemas.openxmlformats.org/officeDocument/2006/relationships/hyperlink" Target="http://ru.wikipedia.org/wiki/&#1043;&#1072;&#1083;&#1080;&#1090;" TargetMode="External"/><Relationship Id="rId3" Type="http://schemas.openxmlformats.org/officeDocument/2006/relationships/hyperlink" Target="http://ru.wikipedia.org/wiki/&#1057;&#1080;&#1083;&#1100;&#1074;&#1080;&#1085;" TargetMode="External"/><Relationship Id="rId4" Type="http://schemas.openxmlformats.org/officeDocument/2006/relationships/hyperlink" Target="http://ru.wikipedia.org/wiki/&#1060;&#1083;&#1102;&#1086;&#1088;&#1080;&#1090;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7;&#1075;&#1086;&#1088;&#1080;&#1103;:&#1054;&#1082;&#1080;&#1089;&#1083;&#1099;_&#1080;_&#1075;&#1080;&#1076;&#1088;&#1086;&#1086;&#1082;&#1080;&#1089;&#1083;&#1099;" TargetMode="External"/><Relationship Id="rId2" Type="http://schemas.openxmlformats.org/officeDocument/2006/relationships/hyperlink" Target="http://ru.wikipedia.org/wiki/&#1050;&#1072;&#1090;&#1077;&#1075;&#1086;&#1088;&#1080;&#1103;:&#1056;&#1072;&#1079;&#1085;&#1086;&#1074;&#1080;&#1076;&#1085;&#1086;&#1089;&#1090;&#1080;_&#1082;&#1074;&#1072;&#1088;&#1094;&#1072;" TargetMode="External"/><Relationship Id="rId3" Type="http://schemas.openxmlformats.org/officeDocument/2006/relationships/hyperlink" Target="http://ru.wikipedia.org/wiki/&#1052;&#1080;&#1085;&#1077;&#1088;&#1072;&#1083;" TargetMode="External"/><Relationship Id="rId4" Type="http://schemas.openxmlformats.org/officeDocument/2006/relationships/hyperlink" Target="http://ru.wikipedia.org/wiki/&#1052;&#1077;&#1090;&#1072;&#1083;&#1083;&#1099;" TargetMode="External"/><Relationship Id="rId5" Type="http://schemas.openxmlformats.org/officeDocument/2006/relationships/hyperlink" Target="http://ru.wikipedia.org/wiki/&#1050;&#1080;&#1089;&#1083;&#1086;&#1088;&#1086;&#1076;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orundum_USGOV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ru.wikipedia.org/wiki/&#1050;&#1088;&#1080;&#1089;&#1090;&#1072;&#1083;&#1083;" TargetMode="External"/><Relationship Id="rId4" Type="http://schemas.openxmlformats.org/officeDocument/2006/relationships/hyperlink" Target="http://ru.wikipedia.org/wiki/&#1052;&#1080;&#1085;&#1077;&#1088;&#1072;&#1083;&#1100;&#1085;&#1099;&#1077;_&#1072;&#1075;&#1088;&#1077;&#1075;&#1072;&#1090;&#1099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44;&#1074;&#1086;&#1081;&#1085;&#1080;&#1082;&#1080;" TargetMode="External"/><Relationship Id="rId7" Type="http://schemas.openxmlformats.org/officeDocument/2006/relationships/hyperlink" Target="http://ru.wikipedia.org/wiki/&#1044;&#1074;&#1086;&#1081;&#1085;&#1080;&#1082;&#1080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64;&#1082;&#1072;&#1083;&#1072;_&#1052;&#1086;&#1086;&#1089;&#1072;" TargetMode="External"/><Relationship Id="rId10" Type="http://schemas.openxmlformats.org/officeDocument/2006/relationships/hyperlink" Target="http://ru.wikipedia.org/wiki/&#1055;&#1083;&#1086;&#1090;&#1085;&#1086;&#1089;&#1090;&#1100;" TargetMode="External"/><Relationship Id="rId11" Type="http://schemas.openxmlformats.org/officeDocument/2006/relationships/hyperlink" Target="http://ru.wikipedia.org/wiki/&#1058;&#1077;&#1084;&#1087;&#1077;&#1088;&#1072;&#1090;&#1091;&#1088;&#1072;_&#1087;&#1083;&#1072;&#1074;&#1083;&#1077;&#1085;&#1080;&#1103;" TargetMode="External"/><Relationship Id="rId12" Type="http://schemas.openxmlformats.org/officeDocument/2006/relationships/hyperlink" Target="http://ru.wikipedia.org/wiki/&#1062;&#1074;&#1077;&#1090;" TargetMode="External"/><Relationship Id="rId1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Ruby_cristal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ru.wikipedia.org/wiki/&#1060;&#1072;&#1081;&#1083;:Cut_Ruby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itlife.net.ua/pictures2/2247_476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js.dn.ua/files/72cc49_emerald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igils.ru/guards/img/stone14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ru.wikipedia.org/wiki/&#1060;&#1072;&#1081;&#1083;:Star-Saphire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ax-geolog.narod.ru/geoda_ame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yaplakal.com/uploads/post-2-1175363401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geo.web.ru/mindraw/Q4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ldi.ru/kamni/whrizopraz2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bruliki.ru/catalog/img/big/333h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ineral-land.com/Images/Big_scene_cornelian_300_400.gif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sapphire.donetsk.ua/i/200805221514540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toneplanet.ru/d/50713/d/onyxpakistangreen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catalogmineralov.ru/pic/203651170207.jpg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.interfotki.ru/photo/13/77/137710/rdauzp_cont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mishael.ru/images/3621/25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4x4typ.ru/board/gallery/albums/userpics/10020/normal_P8130056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ch4.edu.vn.ua/uploads/posts/2008-04/1209149816_14.jpg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ru.wikipedia.org/wiki/&#1040;&#1083;&#1102;&#1084;&#1080;&#1085;&#1080;&#1081;" TargetMode="External"/><Relationship Id="rId6" Type="http://schemas.openxmlformats.org/officeDocument/2006/relationships/hyperlink" Target="http://ru.wikipedia.org/wiki/&#1050;&#1088;&#1080;&#1086;&#1083;&#1080;&#1090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94;&#1080;&#1090;" TargetMode="External"/><Relationship Id="rId2" Type="http://schemas.openxmlformats.org/officeDocument/2006/relationships/hyperlink" Target="http://ru.wikipedia.org/wiki/&#1044;&#1086;&#1083;&#1086;&#1084;&#1080;&#1090;" TargetMode="External"/><Relationship Id="rId3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4" Type="http://schemas.openxmlformats.org/officeDocument/2006/relationships/hyperlink" Target="http://ru.wikipedia.org/wiki/&#1052;&#1077;&#1090;&#1072;&#1084;&#1086;&#1088;&#1092;&#1080;&#1095;&#1077;&#1089;&#1082;&#1080;&#1077;_&#1075;&#1086;&#1088;&#1085;&#1099;&#1077;_&#1087;&#1086;&#1088;&#1086;&#1076;&#1099;" TargetMode="External"/><Relationship Id="rId5" Type="http://schemas.openxmlformats.org/officeDocument/2006/relationships/hyperlink" Target="http://ru.wikipedia.org/wiki/Pb" TargetMode="External"/><Relationship Id="rId6" Type="http://schemas.openxmlformats.org/officeDocument/2006/relationships/hyperlink" Target="http://ru.wikipedia.org/wiki/Zn" TargetMode="External"/><Relationship Id="rId7" Type="http://schemas.openxmlformats.org/officeDocument/2006/relationships/hyperlink" Target="http://ru.wikipedia.org/wiki/Cu" TargetMode="External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2;&#1072;&#1083;&#1072;_&#1052;&#1086;&#1086;&#1089;&#1072;" TargetMode="External"/><Relationship Id="rId2" Type="http://schemas.openxmlformats.org/officeDocument/2006/relationships/hyperlink" Target="http://ru.wikipedia.org/wiki/&#1059;&#1076;&#1077;&#1083;&#1100;&#1085;&#1099;&#1081;_&#1074;&#1077;&#1089;" TargetMode="External"/><Relationship Id="rId3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4" Type="http://schemas.openxmlformats.org/officeDocument/2006/relationships/hyperlink" Target="http://ru.wikipedia.org/wiki/&#1044;&#1074;&#1091;&#1087;&#1088;&#1077;&#1083;&#1086;&#1084;&#1083;&#1077;&#1085;&#1080;&#1077;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ru.wikipedia.org/wiki/&#1060;&#1072;&#1081;&#1083;:Desert-rose-big.jpg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5;&#1072;&#1103;_&#1082;&#1086;&#1088;&#1072;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0;&#1088;&#1080;&#1089;&#1090;&#1072;&#1083;&#1083;&#1086;&#1075;&#1080;&#1076;&#1088;&#1072;&#1090;" TargetMode="External"/><Relationship Id="rId3" Type="http://schemas.openxmlformats.org/officeDocument/2006/relationships/hyperlink" Target="http://ru.wikipedia.org/wiki/&#1060;&#1086;&#1089;&#1092;&#1072;&#1090;" TargetMode="External"/><Relationship Id="rId4" Type="http://schemas.openxmlformats.org/officeDocument/2006/relationships/hyperlink" Target="http://ru.wikipedia.org/wiki/&#1040;&#1083;&#1102;&#1084;&#1080;&#1085;&#1080;&#1081;" TargetMode="External"/><Relationship Id="rId5" Type="http://schemas.openxmlformats.org/officeDocument/2006/relationships/hyperlink" Target="http://ru.wikipedia.org/wiki/&#1052;&#1077;&#1076;&#1100;" TargetMode="External"/><Relationship Id="rId6" Type="http://schemas.openxmlformats.org/officeDocument/2006/relationships/hyperlink" Target="http://ru.wikipedia.org/wiki/&#1044;&#1088;&#1072;&#1075;&#1086;&#1094;&#1077;&#1085;&#1085;&#1099;&#1081;_&#1082;&#1072;&#1084;&#1077;&#1085;&#1100;" TargetMode="External"/><Relationship Id="rId7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8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9" Type="http://schemas.openxmlformats.org/officeDocument/2006/relationships/hyperlink" Target="http://ru.wikipedia.org/wiki/&#1060;&#1072;&#1081;&#1083;:Turquoise.pebble.700pix.jpg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ru.wikipedia.org/wiki/&#1062;&#1074;&#1077;&#1090;" TargetMode="External"/><Relationship Id="rId12" Type="http://schemas.openxmlformats.org/officeDocument/2006/relationships/hyperlink" Target="http://ru.wikipedia.org/wiki/&#1041;&#1083;&#1077;&#1089;&#1082;" TargetMode="External"/><Relationship Id="rId13" Type="http://schemas.openxmlformats.org/officeDocument/2006/relationships/hyperlink" Target="http://ru.wikipedia.org/wiki/&#1064;&#1082;&#1072;&#1083;&#1072;_&#1052;&#1086;&#1086;&#1089;&#1072;" TargetMode="External"/><Relationship Id="rId14" Type="http://schemas.openxmlformats.org/officeDocument/2006/relationships/hyperlink" Target="http://ru.wikipedia.org/wiki/&#1055;&#1083;&#1086;&#1090;&#1085;&#1086;&#1089;&#1090;&#1100;" TargetMode="External"/><Relationship Id="rId15" Type="http://schemas.openxmlformats.org/officeDocument/2006/relationships/hyperlink" Target="http://ru.wikipedia.org/wiki/&#1057;&#1086;&#1083;&#1103;&#1085;&#1072;&#1103;_&#1082;&#1080;&#1089;&#1083;&#1086;&#1090;&#1072;" TargetMode="External"/><Relationship Id="rId1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imia.ucoz.ru/_fr/0/67243351.jpg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iki.laser.ru/images/thumb/4/40/&#1040;&#1087;&#1072;&#1090;&#1080;&#1090;.JPG/570px-&#1040;&#1087;&#1072;&#1090;&#1080;&#1090;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ru.wikipedia.org/wiki/&#1040;&#1087;&#1072;&#1090;&#1080;&#1090;" TargetMode="External"/><Relationship Id="rId6" Type="http://schemas.openxmlformats.org/officeDocument/2006/relationships/hyperlink" Target="http://ru.wikipedia.org/wiki/&#1042;&#1080;&#1074;&#1080;&#1072;&#1085;&#1080;&#1090;" TargetMode="External"/><Relationship Id="rId7" Type="http://schemas.openxmlformats.org/officeDocument/2006/relationships/hyperlink" Target="http://ru.wikipedia.org/wiki/&#1060;&#1086;&#1089;&#1092;&#1086;&#1088;&#1080;&#1090;" TargetMode="External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55;&#1080;&#1088;&#1086;&#1082;&#1089;&#1077;&#1085;&#1099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40;&#1085;&#1076;&#1077;&#1079;&#1080;&#1090;" TargetMode="External"/><Relationship Id="rId6" Type="http://schemas.openxmlformats.org/officeDocument/2006/relationships/hyperlink" Target="http://ru.wikipedia.org/wiki/&#1041;&#1072;&#1079;&#1072;&#1083;&#1100;&#1090;" TargetMode="External"/><Relationship Id="rId7" Type="http://schemas.openxmlformats.org/officeDocument/2006/relationships/hyperlink" Target="http://ru.wikipedia.org/wiki/&#1044;&#1080;&#1072;&#1073;&#1072;&#1079;" TargetMode="External"/><Relationship Id="rId8" Type="http://schemas.openxmlformats.org/officeDocument/2006/relationships/hyperlink" Target="http://upload.wikimedia.org/wikipedia/commons/6/65/AugiteUSGOV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72;&#1081;&#1085;&#1086;&#1089;&#1090;&#1100;" TargetMode="External"/><Relationship Id="rId2" Type="http://schemas.openxmlformats.org/officeDocument/2006/relationships/hyperlink" Target="http://ru.wikipedia.org/wiki/&#1040;&#1083;&#1100;&#1073;&#1080;&#1090;" TargetMode="External"/><Relationship Id="rId3" Type="http://schemas.openxmlformats.org/officeDocument/2006/relationships/hyperlink" Target="http://ru.wikipedia.org/wiki/&#1054;&#1088;&#1090;&#1086;&#1082;&#1083;&#1072;&#1079;" TargetMode="External"/><Relationship Id="rId4" Type="http://schemas.openxmlformats.org/officeDocument/2006/relationships/hyperlink" Target="http://ru.wikipedia.org/w/index.php?title=&#1040;&#1085;&#1086;&#1088;&#1090;&#1080;&#1090;&amp;action=edit&amp;redlink=1" TargetMode="External"/><Relationship Id="rId5" Type="http://schemas.openxmlformats.org/officeDocument/2006/relationships/hyperlink" Target="http://ru.wikipedia.org/wiki/&#1040;&#1083;&#1100;&#1073;&#1080;&#1090;" TargetMode="External"/><Relationship Id="rId6" Type="http://schemas.openxmlformats.org/officeDocument/2006/relationships/hyperlink" Target="http://ru.wikipedia.org/wiki/&#1054;&#1088;&#1090;&#1086;&#1082;&#1083;&#1072;&#1079;" TargetMode="External"/><Relationship Id="rId7" Type="http://schemas.openxmlformats.org/officeDocument/2006/relationships/hyperlink" Target="http://ru.wikipedia.org/wiki/&#1040;&#1083;&#1100;&#1073;&#1080;&#1090;" TargetMode="External"/><Relationship Id="rId8" Type="http://schemas.openxmlformats.org/officeDocument/2006/relationships/hyperlink" Target="http://ru.wikipedia.org/w/index.php?title=&#1040;&#1085;&#1086;&#1088;&#1090;&#1080;&#1090;&amp;action=edit&amp;redlink=1" TargetMode="External"/><Relationship Id="rId9" Type="http://schemas.openxmlformats.org/officeDocument/2006/relationships/hyperlink" Target="http://ru.wikipedia.org/wiki/&#1055;&#1083;&#1072;&#1075;&#1080;&#1086;&#1082;&#1083;&#1072;&#1079;&#1099;" TargetMode="External"/><Relationship Id="rId10" Type="http://schemas.openxmlformats.org/officeDocument/2006/relationships/hyperlink" Target="http://ru.wikipedia.org/w/index.php?title=&#1057;&#1072;&#1085;&#1080;&#1076;&#1080;&#1085;&amp;action=edit&amp;redlink=1" TargetMode="External"/><Relationship Id="rId11" Type="http://schemas.openxmlformats.org/officeDocument/2006/relationships/hyperlink" Target="http://ru.wikipedia.org/w/index.php?title=&#1052;&#1080;&#1082;&#1088;&#1086;&#1082;&#1083;&#1080;&#1085;&amp;action=edit&amp;redlink=1" TargetMode="External"/><Relationship Id="rId12" Type="http://schemas.openxmlformats.org/officeDocument/2006/relationships/hyperlink" Target="http://ru.wikipedia.org/wiki/&#1054;&#1088;&#1090;&#1086;&#1082;&#1083;&#1072;&#1079;" TargetMode="External"/><Relationship Id="rId13" Type="http://schemas.openxmlformats.org/officeDocument/2006/relationships/hyperlink" Target="http://ru.wikipedia.org/wiki/&#1055;&#1086;&#1088;&#1086;&#1076;&#1086;&#1086;&#1073;&#1088;&#1072;&#1079;&#1091;&#1102;&#1097;&#1080;&#1077;_&#1084;&#1080;&#1085;&#1077;&#1088;&#1072;&#1083;&#1099;" TargetMode="External"/><Relationship Id="rId14" Type="http://schemas.openxmlformats.org/officeDocument/2006/relationships/hyperlink" Target="http://ru.wikipedia.org/wiki/&#1047;&#1077;&#1084;&#1085;&#1072;&#1103;_&#1082;&#1086;&#1088;&#1072;" TargetMode="External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c/&#1051;&#1091;&#1085;&#1085;&#1099;&#1081;-&#1050;&#1072;&#1084;&#1077;&#1085;&#1100;-&#1087;.&#1096;&#1087;&#1072;&#1090;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upload.wikimedia.org/wikipedia/ru/3/3f/Labrador-caboshon.jp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ru.wikipedia.org/wiki/&#1048;&#1079;&#1086;&#1073;&#1088;&#1072;&#1078;&#1077;&#1085;&#1080;&#1077;:Microcline_feldspar_variety_amazonite.jpg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scoviteLayerUSGOV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ru.wikipedia.org/wiki/&#1048;&#1079;&#1086;&#1073;&#1088;&#1072;&#1078;&#1077;&#1085;&#1080;&#1077;:Biotite_sliceUSGOV.jpg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anat_melanit,_Kazachstan.jpg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3;&#1080;&#1085;&#1080;&#1089;&#1090;&#1099;&#1081;_&#1084;&#1080;&#1085;&#1077;&#1088;&#1072;&#1083;" TargetMode="External"/><Relationship Id="rId2" Type="http://schemas.openxmlformats.org/officeDocument/2006/relationships/hyperlink" Target="http://ru.wikipedia.org/wiki/&#1040;&#1083;&#1102;&#1084;&#1080;&#1085;&#1080;&#1081;" TargetMode="External"/><Relationship Id="rId3" Type="http://schemas.openxmlformats.org/officeDocument/2006/relationships/hyperlink" Target="http://ru.wikipedia.org/wiki/&#1060;&#1072;&#1081;&#1083;:KaolinUSGOV.jpg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ru.wikipedia.org/w/index.php?title=&#1040;&#1085;&#1075;&#1086;&#1073;&amp;action=edit&amp;redlink=1" TargetMode="External"/><Relationship Id="rId6" Type="http://schemas.openxmlformats.org/officeDocument/2006/relationships/hyperlink" Target="http://ru.wikipedia.org/wiki/&#1043;&#1083;&#1072;&#1079;&#1091;&#1088;&#1100;" TargetMode="External"/><Relationship Id="rId7" Type="http://schemas.openxmlformats.org/officeDocument/2006/relationships/hyperlink" Target="http://ru.wikipedia.org/wiki/&#1055;&#1080;&#1097;&#1077;&#1074;&#1099;&#1077;_&#1076;&#1086;&#1073;&#1072;&#1074;&#1082;&#1080;" TargetMode="External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47;&#1084;&#1077;&#1103;" TargetMode="External"/><Relationship Id="rId4" Type="http://schemas.openxmlformats.org/officeDocument/2006/relationships/hyperlink" Target="http://ru.wikipedia.org/wiki/&#1060;&#1072;&#1081;&#1083;:SerpentineUSGOV.jpg" TargetMode="External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2;&#1072;&#1088;&#1075;&#1072;&#1085;&#1077;&#1094;" TargetMode="External"/><Relationship Id="rId3" Type="http://schemas.openxmlformats.org/officeDocument/2006/relationships/hyperlink" Target="http://ru.wikipedia.org/wiki/&#1060;&#1072;&#1081;&#1083;:Rodonita2EZ.jpg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41;&#1077;&#1083;&#1099;&#1081;_&#1094;&#1074;&#1077;&#1090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57;&#1087;&#1072;&#1081;&#1085;&#1086;&#1089;&#1090;&#1100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0;&#1072;&#1081;&#1083;:Talc_block.jpg" TargetMode="External"/><Relationship Id="rId9" Type="http://schemas.openxmlformats.org/officeDocument/2006/relationships/image" Target="../media/image56.jpeg"/><Relationship Id="rId10" Type="http://schemas.openxmlformats.org/officeDocument/2006/relationships/hyperlink" Target="http://ru.wikipedia.org/wiki/&#1055;&#1080;&#1097;&#1077;&#1074;&#1072;&#1103;_&#1087;&#1088;&#1086;&#1084;&#1099;&#1096;&#1083;&#1077;&#1085;&#1085;&#1086;&#1089;&#1090;&#1100;" TargetMode="External"/><Relationship Id="rId11" Type="http://schemas.openxmlformats.org/officeDocument/2006/relationships/hyperlink" Target="http://ru.wikipedia.org/wiki/&#1055;&#1080;&#1097;&#1077;&#1074;&#1072;&#1103;_&#1076;&#1086;&#1073;&#1072;&#1074;&#1082;&#1072;" TargetMode="External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7;&#1080;&#1083;&#1080;&#1082;&#1072;&#1090;&#1099;" TargetMode="External"/><Relationship Id="rId3" Type="http://schemas.openxmlformats.org/officeDocument/2006/relationships/hyperlink" Target="http://ru.wikipedia.org/wiki/&#1040;&#1083;&#1102;&#1084;&#1080;&#1085;&#1080;&#1081;" TargetMode="External"/><Relationship Id="rId4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5" Type="http://schemas.openxmlformats.org/officeDocument/2006/relationships/hyperlink" Target="http://ru.wikipedia.org/wiki/&#1042;&#1080;&#1076;_&#1089;&#1080;&#1084;&#1084;&#1077;&#1090;&#1088;&#1080;&#1080;" TargetMode="External"/><Relationship Id="rId6" Type="http://schemas.openxmlformats.org/officeDocument/2006/relationships/hyperlink" Target="http://ru.wikipedia.org/wiki/&#1060;&#1072;&#1081;&#1083;:TopazUSGOV.jpg" TargetMode="External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5;&#1080;&#1088;&#1086;&#1082;&#1089;&#1077;&#1085;&#1099;" TargetMode="External"/><Relationship Id="rId3" Type="http://schemas.openxmlformats.org/officeDocument/2006/relationships/hyperlink" Target="http://ru.wikipedia.org/wiki/&#1057;&#1080;&#1083;&#1080;&#1082;&#1072;&#1090;" TargetMode="External"/><Relationship Id="rId4" Type="http://schemas.openxmlformats.org/officeDocument/2006/relationships/hyperlink" Target="http://ru.wikipedia.org/wiki/&#1043;&#1086;&#1088;&#1085;&#1072;&#1103;_&#1087;&#1086;&#1088;&#1086;&#1076;&#1072;" TargetMode="External"/><Relationship Id="rId5" Type="http://schemas.openxmlformats.org/officeDocument/2006/relationships/hyperlink" Target="http://ru.wikipedia.org/wiki/&#1062;&#1074;&#1077;&#1090;" TargetMode="External"/><Relationship Id="rId6" Type="http://schemas.openxmlformats.org/officeDocument/2006/relationships/hyperlink" Target="http://ru.wikipedia.org/wiki/&#1058;&#1074;&#1105;&#1088;&#1076;&#1086;&#1089;&#1090;&#1100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hyperlink" Target="http://ru.wikipedia.org/wiki/&#1041;&#1072;&#1088;&#1080;&#1081;" TargetMode="External"/><Relationship Id="rId11" Type="http://schemas.openxmlformats.org/officeDocument/2006/relationships/hyperlink" Target="http://ru.wikipedia.org/wiki/&#1057;&#1090;&#1088;&#1086;&#1085;&#1094;&#1080;&#1081;" TargetMode="External"/><Relationship Id="rId12" Type="http://schemas.openxmlformats.org/officeDocument/2006/relationships/hyperlink" Target="http://ru.wikipedia.org/wiki/&#1056;&#1077;&#1076;&#1082;&#1086;&#1079;&#1077;&#1084;&#1077;&#1083;&#1100;&#1085;&#1099;&#1077;_&#1101;&#1083;&#1077;&#1084;&#1077;&#1085;&#1090;&#1099;" TargetMode="External"/><Relationship Id="rId13" Type="http://schemas.openxmlformats.org/officeDocument/2006/relationships/hyperlink" Target="http://ru.wikipedia.org/wiki/&#1052;&#1072;&#1088;&#1075;&#1072;&#1085;&#1077;&#1094;" TargetMode="External"/><Relationship Id="rId14" Type="http://schemas.openxmlformats.org/officeDocument/2006/relationships/hyperlink" Target="http://ru.wikipedia.org/wiki/&#1060;&#1072;&#1081;&#1083;:Charoit.jpg" TargetMode="External"/><Relationship Id="rId15" Type="http://schemas.openxmlformats.org/officeDocument/2006/relationships/image" Target="../media/image58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gems-stones.ru/jewellery/foto08/m-olivin1.jpg" TargetMode="External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hyperlink" Target="http://www.catic.kz/images/peridot1.jpg" TargetMode="External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g-2003-03.photosight.ru/14/174918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www.kalagia.com/i/upl/1185367135_4-1%20laz.jpg" TargetMode="External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uxiteUSGOV.jpg" TargetMode="External"/><Relationship Id="rId2" Type="http://schemas.openxmlformats.org/officeDocument/2006/relationships/image" Target="../media/image65.jpeg"/><Relationship Id="rId3" Type="http://schemas.openxmlformats.org/officeDocument/2006/relationships/hyperlink" Target="http://ru.wikipedia.org/wiki/&#1060;&#1072;&#1081;&#1083;:GraphiteUSGOV.jpg" TargetMode="External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ough_diamon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557360"/>
            <a:ext cx="5688000" cy="2016000"/>
          </a:xfrm>
          <a:prstGeom prst="rect">
            <a:avLst/>
          </a:prstGeom>
          <a:solidFill>
            <a:srgbClr val="ffd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33360"/>
            <a:ext cx="79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МИНЕРА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57336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Не относятся к минералам:</a:t>
            </a:r>
            <a:r>
              <a:rPr b="0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идкости – вода и рту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природные смолы янтарь и гагат (не имеют кристаллического стро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искусственные рубины, алм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емчуг (неоднороден по соста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164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162864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Минерал </a:t>
            </a: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– однородный, обычно кристаллический продукт природных процессов, имеющий определенные физические свойства и природный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844640"/>
            <a:ext cx="3240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цветный, иногда окраш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0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ятся под рентг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ются в кимберлитовых трубках (взрывы из глубин). Минералы-спутники- пироп, оливин, серпентин, пироксен, ильме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44640"/>
            <a:ext cx="32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– алмазный, жи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юча с выделением едкого сернистого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осадочных породах как продукт жизнедеятельности серобактерий. В вулканических районах кристаллизуется из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51688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Сульф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И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844640"/>
            <a:ext cx="324036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e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9079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Н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84464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ртути 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Hg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й вес – 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73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19700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УРИПИГ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205000"/>
            <a:ext cx="367200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мышьяк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олотист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жирный,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3178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079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ИМ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844640"/>
            <a:ext cx="324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сурьмы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b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иголь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4894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Галоген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минералов "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логен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включает в себя два под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солян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ал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Na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ьв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K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ещё несколько более редко встрчаемых минер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т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плавиков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люор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CaF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90792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ЛИТ (С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844640"/>
            <a:ext cx="324036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рид натр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сцвет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 – со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24360" y="333360"/>
            <a:ext cx="487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ЮОРИТ (плавиковый шп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349360"/>
            <a:ext cx="32403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торид каль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CaF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44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260280"/>
            <a:ext cx="85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Физические свойства минер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197000"/>
            <a:ext cx="856944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 кристаллов, их с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мине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черты на керамической пласт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еск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аллический, алмазный, жирный, стеклянный, шелковист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дос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-10 по шкале тверд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от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ельный вес, г на куб.с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й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сьма совершенная, несовершенная, отсутствует, 2-3 направ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ецифические сво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гнитность (магнет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кус (гал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ах (мышьяк – чесночный зап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ючесть (се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кипание от кислоты (кальц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диоактив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Окс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кислы и гидроокисл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зновидности ква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357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ласс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́кис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я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ер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ставляющие собой соедине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л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слород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34936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красно-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виш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48657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ГН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989000"/>
            <a:ext cx="32400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яет стрелку ком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97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3240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кремния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i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овидности – горный хрусталь, аметист (фиолетовый), хризопраз (зеленый), сердолик (розовый), оникс и агат (полосчат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2797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238480" cy="200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1628640"/>
            <a:ext cx="54007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ется в виде бочонкообразных, дипирамидальных и таблитчаты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стал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севдогексагонального облика, отдельно вкрапленных зёрен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зернистых агрег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имая, кажущаяся, из-за сильно выраженной отдельности, в силу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олисинтетическог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войни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Тве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о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ло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,9 - 4 г/см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Температура пла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2050 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ироко варьирует от бесцветного и серого до различных оттенков красного, синего или фиолетов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и корун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фир                  - 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ин                   - 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88000" y="-3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Файл:Ruby crist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81000"/>
            <a:ext cx="4095720" cy="570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500280"/>
            <a:ext cx="3473640" cy="3073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89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Красный, красно-коричневый, красно-пурп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черты   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еск   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ёрдость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ь   3,97 - 4,05 г/см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1 из 1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616200" cy="518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9 из 17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1844640"/>
            <a:ext cx="46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Голу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черты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скСтекл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ость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3,95 — 4,03 г/см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преломления1,762 — 1,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1 из 1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90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06864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7236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здчатый сапф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Картинка 2 из 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3 из 4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549360"/>
            <a:ext cx="5076720" cy="380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200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Картинка 20 из 4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854520"/>
            <a:ext cx="36734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Картинка 4 из 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981000"/>
            <a:ext cx="3410280" cy="2352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27280" y="609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изоп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Картинка 9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8102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240" y="219240"/>
            <a:ext cx="8313480" cy="58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Картинка 1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83664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128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д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Картинка 3 из 1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125360"/>
            <a:ext cx="4352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2 из 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40464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0 из 11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32360" y="4941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Картинка 10 из 14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362400"/>
            <a:ext cx="5076720" cy="3495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6 из 14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33360"/>
            <a:ext cx="50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кс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989000"/>
            <a:ext cx="352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алюмин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Картинка 5 из 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602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4 из 1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005360"/>
            <a:ext cx="3000240" cy="2333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95640" y="4365720"/>
            <a:ext cx="51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кситы перерабатывают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юмини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этапно: сначала получают оксид алюминия (глинозём), а затем металлический алюминий (электролитическим способом в присутстви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риоли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Росс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не обладает достаточными для внутреннего потребления запасами бокситов, а её доля в мировых запасах этого сырья не достигает и 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Карбо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кипают под действием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карбонаты образуются при экзогенных процессах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льц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олом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Они слагают толщ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садоч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морф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х пород. Ряд карбонатов образуется биохимическим путем. Широко распространены в гидротермальных месторождениях, формируясь в них при средних и низких температурах. В зонах окисления рудных месторождений накапливаются карбонаты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тяжелых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989000"/>
            <a:ext cx="3529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меди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u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5035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ль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989000"/>
            <a:ext cx="352908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ая спайность по трем напра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ое лучепрел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Суль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вёрд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—3,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Удельный в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5—6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ска разнообразная, большей частью светл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казатель прелом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44-1,88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вупрелом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ольшей частью низ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лый,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903840"/>
            <a:ext cx="3606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ес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строн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r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22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797360"/>
            <a:ext cx="35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ь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белый, серый, розов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столб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484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амородном состоянии в природе известно около 45 химических элементов, но большинство из низ встречается очень редко. По подсчетам В.И.Вернадского на долю самородных элементов, включая газы атмосферы, приходится не более 0,1% вес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ем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ы. Нахождение элементов в самородном виде связано со строением их атомов, имеющих устойчивые электронные обол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агородные эле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 Au, платина Pt и элементы группы платины: осмий Os, иридий Ir, Рутений Ru,родий Rh , палладий Pd, а также относительно устойчивое серебро Ag и благородные г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ь 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одное железо Fe встречается преимущественно в виде метеоритов, их состав достаточно сложен (содержат никель, благородные металлы и др. 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е металлы как свинец Pb, олово Sn, ртуть Hg, встречаются как самородные элементы гораздо ре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часто в самородном состоянии встречаются углерод C (каменный уголь), сера S. Минералы углерода - алмаз и графит также относятся к самородным элемен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луметалл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ьяк As, сурьма Sb, висмут Bi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ру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камень счастья», или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ру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одерживающий победу»)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идрат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осф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юми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uAl6[PO4]4(OH)8·5H2O, довольно редкий поделочный и полу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рагоценный кам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Триклинная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синг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риклинно-пинакоидальный. В последнее время в изделиях всё чаще встречается дешёвая искусственная бирюза, имитация, которую подчас даже экспертам трудно отличить от натур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5520" y="460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40194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Цве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от яркого небесно-голубого или голубовато-синего до голубовато-зеленого и блекло-зелёного. Цвет порошка(черты) белый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Бле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лабый восковой, непрозрачна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Твёрд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5—6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плотн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2,6-2,8. При прокаливании буреет и трескается, растворима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оляной кислот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33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п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7920"/>
            <a:ext cx="352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шестиугольные п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истая разновидность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Картинка 2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-531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3 из 2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048120"/>
            <a:ext cx="361980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278136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пат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ивиан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это минералы, 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фосфор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горная порода, состоящая из микрозернистого или аморфного фосфата кальция с примесью других веществ. Апатитовая и вивианитовая горные породы также являются природными минеральными сочетаниями, но с преобладанием апатита или вивиан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 известно свыше 120 фосфатных минералов, но лишь несколько десятков из них встречаются часто или относительно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кс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г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γ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сияние, блеск») — породообразующи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клино-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роксе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(Mg,Fe,Al)[(Si,А1)2O6]. Окраска от зеленой до черной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вердость 5—6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ходит в соста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дез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заль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иаб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х изверженных горных пород преимущественно основ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Файл:AugiteUSGOV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1413000"/>
            <a:ext cx="3429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вы́е шпа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группа широкораспространённых, в частности — породообразующих минералов из класса силикатов способности раскалываться на пластины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ай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конечные члены которой соответственн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Выделяют два изоморфных ряда: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Минералы первого из них могут содержать не более 10 % An, а второго — не более 10 % Or. Лишь в натриевых полевых шпатах, близких к Ab, растворимость Or и An возрастает. Члены первого ряда называются щелочными (К-Nа полевые шпаты), второг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агиоклаз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а-Na полевые шпаты).. Наряду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анид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вляющимся высокотемпературным, выделяются низкотемпературные калиевые полевые шпаты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микрок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левые шпаты — наиболее распространенны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породообразующие минер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и составляют около 50 % от масс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Земной к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Файл:Лунный-Камень-п.шпат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4286160" cy="3171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57340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морит, лабрадорит (разновидности плагиокл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Файл:Labrador-cabosh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9360"/>
            <a:ext cx="2714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кроклин и ортоклаз (калиевые полевые шп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900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алываются под прямым уг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253120" cy="3735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24280"/>
            <a:ext cx="2238480" cy="1486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16360" y="6165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азонит (разновидность микрок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юмо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юды – мусковит и био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565360"/>
            <a:ext cx="4032000" cy="3465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708280"/>
            <a:ext cx="37497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90920"/>
            <a:ext cx="45039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олин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линистый минерал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из группы водных силикато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юмини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948040"/>
            <a:ext cx="447048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134136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% от всего добываемого каолинита используется при производстве бумаги для мелования и в качестве на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ерамической промышленности он используется для созда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г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глаз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олинит также применяется в фармацевтике,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зубных пастах (в качестве лёгкого абразивного материала), в косметике (под названием «белая глина») и многих други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пен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erpe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мея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меев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стар.) — групп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гниево-железистые гидросили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ы встречаются в плотном виде, но никогда в ясно кристаллизованном. Иногда имеют листоватое или волокнистое сложение. Окраска от зеленовато-жёлтого до тёмно-зелёного с пятнами различных цветов, которые придают им сходство с кож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ме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и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674800"/>
            <a:ext cx="40388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32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ярк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ельный вес –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кис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гидротермальных жилах с кварцем, карбонатами, сульфидами. При выветривании, размывании встречается в россып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97120" y="317520"/>
            <a:ext cx="50785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ни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ροδον -роза или розовый)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илика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арга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овавшийся в особых условиях на контакте магмы с осадочными породами, богатыми марган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79560"/>
            <a:ext cx="41814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043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ь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Mg3Si4O10(OH)2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сталлическое вещество. Представляет собой жирный рассыпчатый порошок. Имее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лый 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ывает зелёный). Различется качество талька по его белизне. Для промышленных целей бывает молотый тальк, микротальк и т. 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белый до светло-зелёного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ле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рный, на плоскостя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па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ламутровый. Просвечивает в краях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сьма совершенная. Имеет минимальную (1 балл) твё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шкал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оо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Жирный на ощуп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45160" y="260280"/>
            <a:ext cx="4398840" cy="4175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45687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в быту как прокладка, присыпка, чтобы вещи не слипались (в резиновые перчатки) или не натирались (в обувь как сапожная пудра), применяется в резиновой, бумажной, лакокрасочной и других отраслях промышленности (как наполнитель), в медицинской и парфюмерно-косметическ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я область применения — керамика (особенно радиоизоляцион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ищевой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регистрирован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553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па́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олудрагоценный камень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островныx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лик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юм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l2[SiO4](F, OH)2). Примеси Fe2+, Fe3+, Ti, Cr, V и др. Кристаллизуется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мбической синго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мбо — дипирамидальн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д 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90960" y="189000"/>
            <a:ext cx="38642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о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роксен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уппы подкласса цепочечных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ик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дноимённ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орная по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ногда породу с чароитом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роити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Состав минера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5Na4K2[Si12O30](OH,F)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меет очень красивый сиреневы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Твёрд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шкал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о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-7 ;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от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,5-2,6 г/см3. Содержит примес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б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стро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редкоземельных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иреневая окраска обычно приписывается примеся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марган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95640" y="2927520"/>
            <a:ext cx="4830840" cy="3617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Чароит."/>
          <p:cNvPicPr/>
          <p:nvPr/>
        </p:nvPicPr>
        <p:blipFill>
          <a:blip r:embed="rId16"/>
          <a:stretch/>
        </p:blipFill>
        <p:spPr>
          <a:xfrm>
            <a:off x="0" y="2673360"/>
            <a:ext cx="3336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92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и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оливково-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Картинка 27 из 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276800" cy="3809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Картинка 55 из 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068640"/>
            <a:ext cx="3515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052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з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Картинка 9 из 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1 из 2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33360"/>
            <a:ext cx="22384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651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50920" y="2637000"/>
            <a:ext cx="2881080" cy="2157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492360" y="4653000"/>
            <a:ext cx="1989360" cy="2205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19 из 204"/>
          <p:cNvPicPr/>
          <p:nvPr/>
        </p:nvPicPr>
        <p:blipFill>
          <a:blip r:embed="rId8"/>
          <a:stretch/>
        </p:blipFill>
        <p:spPr>
          <a:xfrm>
            <a:off x="3132000" y="2637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Картинка 4 из 84"/>
          <p:cNvPicPr/>
          <p:nvPr/>
        </p:nvPicPr>
        <p:blipFill>
          <a:blip r:embed="rId9"/>
          <a:stretch/>
        </p:blipFill>
        <p:spPr>
          <a:xfrm>
            <a:off x="250920" y="4906800"/>
            <a:ext cx="2952720" cy="1951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Картинка 1 из 164"/>
          <p:cNvPicPr/>
          <p:nvPr/>
        </p:nvPicPr>
        <p:blipFill>
          <a:blip r:embed="rId10"/>
          <a:stretch/>
        </p:blipFill>
        <p:spPr>
          <a:xfrm>
            <a:off x="5651640" y="3583080"/>
            <a:ext cx="327492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с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юо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ю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Нефрит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419640" y="148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44640"/>
            <a:ext cx="324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- красновато-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яется, покрывается черной или зеленой ко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ует сростки, самородки могут достигать веса несколько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50799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44640"/>
            <a:ext cx="32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т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3737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вые было доступно древним людям в метеоритной форме. Самородное железо редко встречается, в магматических породах (вкрапления в базаль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1926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324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гкий, пиш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йность весьма соверш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шестиугольные пластин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образовываться из угля при высоких температуре или давлении, а также кристаллизоваться из горячих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53229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85880"/>
            <a:ext cx="507996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7:22:52Z</dcterms:created>
  <dc:creator>Aleksey</dc:creator>
  <dc:description/>
  <dc:language>en-US</dc:language>
  <cp:lastModifiedBy>Aleksey</cp:lastModifiedBy>
  <dcterms:modified xsi:type="dcterms:W3CDTF">2009-01-19T16:34:26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20000000000010250300207f7000400038000</vt:lpwstr>
  </property>
</Properties>
</file>