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087-EE53-40B5-B262-12099581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2F7-95EF-4B8C-9ED8-E086EB4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3EE-35F6-45FD-BBCA-9E79268E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341-3975-483A-94E1-191A2218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E6B-5777-4F1A-8B34-554C11B1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437-39B0-4636-A358-B5D77F9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A4F9-1E81-441B-90C1-E875CE1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F68-BC01-4BFD-A012-606C06A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B6FB-33A0-471D-A095-B1FDB7E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0496-5D99-46A9-9F2E-5CA87FC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64FB-41B5-44F6-85D8-FB9EBB4A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69A-6D91-4FED-B174-83C9AE78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850F-7113-437E-BC7E-769CFFB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3CA4-E74D-424C-B93F-18EB4FF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419A-35D5-420F-81EE-DDA93F4A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AA4-E049-4767-A687-8F97E940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331D-05F6-426D-911A-9C903EB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4D0-20BD-4536-AF58-02B858A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E9C-82FA-4224-8AEE-8DCE8CE8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34-9ED9-4734-A518-3F64BA3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600-AD29-48C7-9A39-A830DCB2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742-DC12-478B-A2CA-B022978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C0E-2038-40BB-A42A-8166A567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5B3-C14A-4D10-942D-9772303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A96-491D-4D9F-956D-0852FB0BC8F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17E-3F1F-4415-804C-9CDF2166DA1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Narrow"/>
              </a:rPr>
              <a:t>«Металлургический комплекс России. Чёрная и цветная металлургия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ыполнена учителем географии высшей категории МОУ СОШ №2 Власенко Ольгой Александров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ст. Павловской Краснода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Технологическая цепочка производства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4038480" cy="454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Цве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мет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Тяжё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едь,цинк, свинец,олово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Лёг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Алюминий,тита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аг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Благоро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Золото,плати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Редкозем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Цирконий,селе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герм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Добыча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Обогащение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чернов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рафинирован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ро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13976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азмещение предприятий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цвет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3236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Цин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к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7640" y="1628640"/>
            <a:ext cx="410364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Урал(Карабаш,Медногорск, Ревда,Пышма),Нориль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Челябин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Орск,Норильск,Кольский п-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(Мончегорск,Заполярн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Никел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Восточная Сибирь(Братс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Красноярск)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9" descr="j0234687"/>
          <p:cNvPicPr/>
          <p:nvPr/>
        </p:nvPicPr>
        <p:blipFill>
          <a:blip r:embed="rId1"/>
          <a:stretch/>
        </p:blipFill>
        <p:spPr>
          <a:xfrm>
            <a:off x="900000" y="378936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Comic Sans MS"/>
              </a:rPr>
              <a:t>География золотодобы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66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сновная добыча золота в России ведётся в Восточной Сибири и на Дальнем Восто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1-е место- Магаданская область(29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2-е место-Красноярский край    (18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3-е место-Якутия (13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4-е место-Иркутская область (12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7" descr="j0300520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23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j0283209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Impact"/>
              </a:rPr>
              <a:t>Проблемы и перспективы цветной металлу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Истощение месторождений меди и алюми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Отсутствие крупных месторождений марганца, хрома, тит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Дороговизна из-за монополий заводов- гигантов. Цены выше мировых на 20-4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Экологические пробл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Металлургия-грязная отрасл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Применение новых технологий добычи руды, позволяющих меньше загрязнять среду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Создание автоматизированных мини- заводов, которые работают на металлоломе, экономя природные ресурсы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6"/>
          <p:cNvSpPr txBox="1"/>
          <p:nvPr/>
        </p:nvSpPr>
        <p:spPr>
          <a:xfrm rot="20953200">
            <a:off x="1763640" y="530028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16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 rot="20340600">
            <a:off x="5148360" y="5084280"/>
            <a:ext cx="291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спективы</a:t>
            </a:r>
            <a:endParaRPr b="0" i="1" lang="en-US" sz="1600" spc="1" strike="noStrike">
              <a:ln w="9360">
                <a:solidFill>
                  <a:srgbClr val="ffcc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8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8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98977a"/>
          </a:solidFill>
          <a:ln w="9360">
            <a:solidFill>
              <a:srgbClr val="ff9999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ыбросы вредных веществ в атмосферу отраслями промышленности,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5280" y="1617840"/>
          <a:ext cx="8291520" cy="524484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Выбросы вредных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мышленность в це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опливная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ёр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Цвет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ес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53440" cy="10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unga"/>
              </a:rPr>
              <a:t>Межотраслевые комплек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280" y="691920"/>
            <a:ext cx="7991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ёрная и цветная металлургия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1" descr="i?id=13067147&amp;tov=2"/>
          <p:cNvPicPr/>
          <p:nvPr/>
        </p:nvPicPr>
        <p:blipFill>
          <a:blip r:embed="rId1"/>
          <a:stretch/>
        </p:blipFill>
        <p:spPr>
          <a:xfrm>
            <a:off x="324000" y="3933720"/>
            <a:ext cx="4032000" cy="2735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250920" y="1413000"/>
            <a:ext cx="3960720" cy="2232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0% металлов, используемых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озяйстве- это чёрные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56000" y="1413000"/>
            <a:ext cx="4465800" cy="216036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% металлов, используемых в хозяйстве-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цветные цветные металлы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0" y="1341360"/>
            <a:ext cx="4356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90% металлов-эт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чёр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4356000" y="1341360"/>
            <a:ext cx="4788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% металлов-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это цвет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5" name="Picture 23" descr="j0285360"/>
          <p:cNvPicPr/>
          <p:nvPr/>
        </p:nvPicPr>
        <p:blipFill>
          <a:blip r:embed="rId2"/>
          <a:stretch/>
        </p:blipFill>
        <p:spPr>
          <a:xfrm>
            <a:off x="4932360" y="386064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аллургические базы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я уступила лидерство в металлургии после распада СС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чёр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ы предприятий в составе чёр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енные связи металлургических баз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ная металлургия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цвет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ещение производства по выплавке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ография золотодобычи в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 отраслями промышлен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еталлургические баз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Центральн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Ураль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Сибир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Дальневосточная баз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Скопления металлургических заводов, использующих общую рудную или топливную базу, и производящие основной металл страны, называют металлургической базой. В России три основных базы и одна формирующаяся- Дальневосточн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2298"/>
          <p:cNvPicPr/>
          <p:nvPr/>
        </p:nvPicPr>
        <p:blipFill>
          <a:blip r:embed="rId1"/>
          <a:stretch/>
        </p:blipFill>
        <p:spPr>
          <a:xfrm>
            <a:off x="4859280" y="1341360"/>
            <a:ext cx="29163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Россия- мировой лидер металлургии в прошлом. Лидерство отдано Японии и Кита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России преобладают заводы полного цикла. Эти заводы обладают мощностью более 3 млн т кажд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Общая добыча железной руды- около 95 млн тон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Курская магнитная аномалия-более 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Урал  и Европейский Север- 15-2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Горная Шория в Кемеровской области-5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Хакассия и Иркутская область- 1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1990 году в России производилось 60 млн тонн чугуна и 90 млн тонн стали, а в 2004 году 50 млн тонн и 66 млн тонн соответственн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metal6"/>
          <p:cNvPicPr/>
          <p:nvPr/>
        </p:nvPicPr>
        <p:blipFill>
          <a:blip r:embed="rId1"/>
          <a:stretch/>
        </p:blipFill>
        <p:spPr>
          <a:xfrm>
            <a:off x="4859280" y="3860640"/>
            <a:ext cx="285768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Технологическая цепочка производства чёрных метал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23"/>
          <p:cNvGrpSpPr/>
          <p:nvPr/>
        </p:nvGrpSpPr>
        <p:grpSpPr>
          <a:xfrm>
            <a:off x="1922400" y="1139040"/>
            <a:ext cx="5301360" cy="5300640"/>
            <a:chOff x="1922400" y="1139040"/>
            <a:chExt cx="5301360" cy="5300640"/>
          </a:xfrm>
        </p:grpSpPr>
        <p:sp>
          <p:nvSpPr>
            <p:cNvPr id="176" name="_s1028"/>
            <p:cNvSpPr/>
            <p:nvPr/>
          </p:nvSpPr>
          <p:spPr>
            <a:xfrm>
              <a:off x="2675160" y="189252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rot="4320000">
              <a:off x="2675880" y="189144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rot="8640000">
              <a:off x="267480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rot="12960000">
              <a:off x="267516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rot="17280000">
              <a:off x="2675880" y="189108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5156280" y="198756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2" name="_s1034"/>
            <p:cNvSpPr/>
            <p:nvPr/>
          </p:nvSpPr>
          <p:spPr>
            <a:xfrm>
              <a:off x="2529000" y="389880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3" name="_s1035"/>
            <p:cNvSpPr/>
            <p:nvPr/>
          </p:nvSpPr>
          <p:spPr>
            <a:xfrm>
              <a:off x="3148200" y="198756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4" name="_s1036"/>
            <p:cNvSpPr/>
            <p:nvPr/>
          </p:nvSpPr>
          <p:spPr>
            <a:xfrm>
              <a:off x="5777280" y="389592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5" name="_s1037"/>
            <p:cNvSpPr/>
            <p:nvPr/>
          </p:nvSpPr>
          <p:spPr>
            <a:xfrm>
              <a:off x="4154760" y="507672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186" name="Picture 35" descr="j0199549"/>
          <p:cNvPicPr/>
          <p:nvPr/>
        </p:nvPicPr>
        <p:blipFill>
          <a:blip r:embed="rId1"/>
          <a:stretch/>
        </p:blipFill>
        <p:spPr>
          <a:xfrm>
            <a:off x="3708360" y="2924280"/>
            <a:ext cx="1670040" cy="179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0"/>
          <p:cNvSpPr/>
          <p:nvPr/>
        </p:nvSpPr>
        <p:spPr>
          <a:xfrm>
            <a:off x="521964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Обогащение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212400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Добыч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Железно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д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5580000" y="3933720"/>
            <a:ext cx="1584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Вы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угун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4067280" y="5300640"/>
            <a:ext cx="1009440" cy="79236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л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2050920" y="3933720"/>
            <a:ext cx="1800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Производств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ат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Типы предприятий в</a:t>
            </a:r>
            <a:br>
              <a:rPr sz="4000"/>
            </a:b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составе чёр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воды полного цик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Сталеплавильные и сталелитейные за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ал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Бездоменн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роизводств ферросплавов</a:t>
            </a:r>
            <a:r>
              <a:rPr b="0" i="1" lang="ru-RU" sz="18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Магнитогорск,Челябинск,Липец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Череповец,Новокузнецк,Новотроиц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Комсомольск-на-Амуре,Орё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Все машиностроительные зав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Старый Оско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Нижний Новгор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7" descr="j0240695"/>
          <p:cNvPicPr/>
          <p:nvPr/>
        </p:nvPicPr>
        <p:blipFill>
          <a:blip r:embed="rId1"/>
          <a:stretch/>
        </p:blipFill>
        <p:spPr>
          <a:xfrm>
            <a:off x="1042920" y="386064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j0196164"/>
          <p:cNvPicPr/>
          <p:nvPr/>
        </p:nvPicPr>
        <p:blipFill>
          <a:blip r:embed="rId2"/>
          <a:stretch/>
        </p:blipFill>
        <p:spPr>
          <a:xfrm>
            <a:off x="5311800" y="3857760"/>
            <a:ext cx="2860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Производственные связи </a:t>
            </a:r>
            <a:br>
              <a:rPr sz="4000"/>
            </a:b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металлургических баз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0920" y="2708280"/>
            <a:ext cx="2376360" cy="1150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нтральн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851280" y="2997360"/>
            <a:ext cx="1297080" cy="172872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89720 h 1728720"/>
              <a:gd name="textAreaBottom" fmla="*/ 1539000 h 1728720"/>
            </a:gdLst>
            <a:ahLst/>
            <a:rect l="textAreaLeft" t="textAreaTop" r="textAreaRight" b="textAreaBottom"/>
            <a:pathLst>
              <a:path w="21600" h="28786">
                <a:moveTo>
                  <a:pt x="10800" y="0"/>
                </a:moveTo>
                <a:arcTo wR="10800" hR="10800" stAng="16200000" swAng="-5400000"/>
                <a:lnTo>
                  <a:pt x="0" y="17986"/>
                </a:lnTo>
                <a:arcTo wR="10800" hR="10800" stAng="10800000" swAng="-5400000"/>
                <a:lnTo>
                  <a:pt x="10800" y="2878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аль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6300720" y="4149720"/>
            <a:ext cx="2232000" cy="11523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4932360" y="5734080"/>
            <a:ext cx="2232000" cy="8636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захста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50920" y="4508640"/>
            <a:ext cx="1657080" cy="108108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Line 16"/>
          <p:cNvSpPr/>
          <p:nvPr/>
        </p:nvSpPr>
        <p:spPr>
          <a:xfrm flipH="1" flipV="1">
            <a:off x="4716360" y="4723920"/>
            <a:ext cx="935280" cy="1297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1835280" y="3933360"/>
            <a:ext cx="792000" cy="863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1116000" y="3860640"/>
            <a:ext cx="360360" cy="648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Line 19"/>
          <p:cNvSpPr/>
          <p:nvPr/>
        </p:nvSpPr>
        <p:spPr>
          <a:xfrm flipH="1">
            <a:off x="1476000" y="2349360"/>
            <a:ext cx="358920" cy="358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3348000" y="4437000"/>
            <a:ext cx="647640" cy="432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1835280" y="5877000"/>
            <a:ext cx="2232000" cy="84276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Донбасс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3348000" y="1484280"/>
            <a:ext cx="2376360" cy="115272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Verdana"/>
              </a:rPr>
              <a:t>Печор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бассейн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Line 23"/>
          <p:cNvSpPr/>
          <p:nvPr/>
        </p:nvSpPr>
        <p:spPr>
          <a:xfrm flipH="1" flipV="1">
            <a:off x="1619280" y="3860280"/>
            <a:ext cx="936720" cy="2305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Line 24"/>
          <p:cNvSpPr/>
          <p:nvPr/>
        </p:nvSpPr>
        <p:spPr>
          <a:xfrm flipV="1">
            <a:off x="3419640" y="4723920"/>
            <a:ext cx="936360" cy="1513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Line 25"/>
          <p:cNvSpPr/>
          <p:nvPr/>
        </p:nvSpPr>
        <p:spPr>
          <a:xfrm flipH="1" flipV="1">
            <a:off x="4932000" y="4508640"/>
            <a:ext cx="1079640" cy="12254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2555640" y="2637000"/>
            <a:ext cx="86364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6588000" y="3213000"/>
            <a:ext cx="1440000" cy="64764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Кузбасс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Line 29"/>
          <p:cNvSpPr/>
          <p:nvPr/>
        </p:nvSpPr>
        <p:spPr>
          <a:xfrm flipH="1">
            <a:off x="5148360" y="3860640"/>
            <a:ext cx="1511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Line 31"/>
          <p:cNvSpPr/>
          <p:nvPr/>
        </p:nvSpPr>
        <p:spPr>
          <a:xfrm flipH="1" flipV="1">
            <a:off x="7812000" y="5300280"/>
            <a:ext cx="144720" cy="28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7380360" y="3860640"/>
            <a:ext cx="0" cy="289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4500720" y="2637000"/>
            <a:ext cx="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5724360" y="1844640"/>
            <a:ext cx="10083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Line 36"/>
          <p:cNvSpPr/>
          <p:nvPr/>
        </p:nvSpPr>
        <p:spPr>
          <a:xfrm>
            <a:off x="5724360" y="2205000"/>
            <a:ext cx="1008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7020000" y="1773360"/>
            <a:ext cx="100800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д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7020000" y="2060640"/>
            <a:ext cx="1008000" cy="28872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Verdana"/>
              </a:rPr>
              <a:t>уголь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Цветная металлу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59320"/>
          </a:xfrm>
          <a:prstGeom prst="rect">
            <a:avLst/>
          </a:prstGeom>
          <a:solidFill>
            <a:srgbClr val="ffcc99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Цветная металлургия производит металлы, которые обладают свойствами жаропроч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лектропроводности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ти металлы используются в космической(титан)и атом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(уран) промышленности, электротехнике(медь, серебр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золото) и т. 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Россия богата рудами цв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металл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От мировых запасов в России находи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1% запасов мед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2% запасов свинц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6% запасов ци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1% запасов кобаль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7% запасов ол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31% запасов никеля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6" descr="j0215086"/>
          <p:cNvPicPr/>
          <p:nvPr/>
        </p:nvPicPr>
        <p:blipFill>
          <a:blip r:embed="rId1"/>
          <a:stretch/>
        </p:blipFill>
        <p:spPr>
          <a:xfrm>
            <a:off x="2771640" y="4581360"/>
            <a:ext cx="1470240" cy="13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j0195384"/>
          <p:cNvPicPr/>
          <p:nvPr/>
        </p:nvPicPr>
        <p:blipFill>
          <a:blip r:embed="rId2"/>
          <a:stretch/>
        </p:blipFill>
        <p:spPr>
          <a:xfrm>
            <a:off x="5364000" y="4437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31:3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b000000000001024140</vt:lpwstr>
  </property>
</Properties>
</file>