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632-8202-426D-A6E9-E4A3DB8B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885-1C6F-4212-89D6-4067C8DD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EA6-0F92-4504-982B-92BD41E0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ABC-7C6D-4C50-8C62-96CC7C40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0892-A097-449B-A231-CA068B9F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03E0-51ED-481C-84A3-05AD26AF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B450-2EE8-4B38-946D-38C7EF9F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46E8-012F-4E43-9F15-945728F4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225D-0C81-4B51-AC3B-ADE92DCC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ADAE-B8FB-4FE0-B08E-95BEA683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1A4F-EDB1-4CB7-888C-B7B4FF54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C89-0B86-4E5F-8526-4E89ADF4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E190-2557-4C8F-87C8-33D8A0B2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26B1-CE17-48D2-BFCA-6241640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072C-BA42-422D-88E4-32322A24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BD2B-C48B-4D1F-AE57-A782312E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D82B-3D72-4ABA-BD9F-0FD2F838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965-AEFF-43F8-9C16-DCB347D4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3A7-3A80-4661-8107-1229D55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C42-A711-4954-95E9-03F89327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216-2518-4669-826F-4DB4C795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386-3AB1-4BE5-9C86-37B78BBE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D0D-9A1F-40F6-B320-239774A5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380-8B7F-4EF2-82B2-8E4F5175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9804-CD06-49E8-BEC5-5E772F7FED1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D2E6-D16E-4BDC-9797-DFD25553455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 Narrow"/>
              </a:rPr>
              <a:t>«Металлургический комплекс России. Чёрная и цветная металлургия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Выполнена учителем географии высшей категории МОУ СОШ №2 Власенко Ольгой Александровн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ст. Павловской Краснодарского кр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Технологическая цепочка производства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600200"/>
          <a:ext cx="4038480" cy="4546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Цве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мет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Тяжё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Медь,цинк, свинец,олово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ник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Лёг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Алюминий,тита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маг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Благород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Золото,плати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Редкозем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Цирконий,селе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герм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Добыча ру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Обогащение ру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Плавка чернов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метал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Плавка рафинированн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метал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Про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13976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53753" dir="2700000" blurRad="0" rotWithShape="0">
              <a:srgbClr val="98977a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Размещение предприятий</a:t>
            </a: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цветной металлур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032360" cy="4502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Цин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ик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87640" y="1628640"/>
            <a:ext cx="4103640" cy="4502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Урал(Карабаш,Медногорск, Ревда,Пышма),Нориль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Челябин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Орск,Норильск,Кольский п-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(Мончегорск,Заполярны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Никел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Восточная Сибирь(Братс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Красноярск)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9" descr="j0234687"/>
          <p:cNvPicPr/>
          <p:nvPr/>
        </p:nvPicPr>
        <p:blipFill>
          <a:blip r:embed="rId1"/>
          <a:stretch/>
        </p:blipFill>
        <p:spPr>
          <a:xfrm>
            <a:off x="900000" y="3789360"/>
            <a:ext cx="2735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8977a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Comic Sans MS"/>
              </a:rPr>
              <a:t>География золотодобы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29600" cy="2664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Основная добыча золота в России ведётся в Восточной Сибири и на Дальнем Восто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1-е место- Магаданская область(29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2-е место-Красноярский край    (18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3-е место-Якутия (13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4-е место-Иркутская область (12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7" descr="j0300520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2303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j0283209"/>
          <p:cNvPicPr/>
          <p:nvPr/>
        </p:nvPicPr>
        <p:blipFill>
          <a:blip r:embed="rId2"/>
          <a:stretch/>
        </p:blipFill>
        <p:spPr>
          <a:xfrm>
            <a:off x="4859280" y="1413000"/>
            <a:ext cx="36003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13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Impact"/>
              </a:rPr>
              <a:t>Проблемы и перспективы цветной металлур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bdcd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Истощение месторождений меди и алюми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Отсутствие крупных месторождений марганца, хрома, тита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Дороговизна из-за монополий заводов- гигантов. Цены выше мировых на 20-40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Экологические пробл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Металлургия-грязная отрасл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bdcd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Применение новых технологий добычи руды, позволяющих меньше загрязнять среду</a:t>
            </a: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Создание автоматизированных мини- заводов, которые работают на металлоломе, экономя природные ресурсы стра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WordArt 6"/>
          <p:cNvSpPr txBox="1"/>
          <p:nvPr/>
        </p:nvSpPr>
        <p:spPr>
          <a:xfrm rot="20953200">
            <a:off x="1763640" y="5300280"/>
            <a:ext cx="2200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</a:t>
            </a:r>
            <a:endParaRPr b="0" lang="en-US" sz="1600" spc="1" strike="noStrike">
              <a:ln w="9360">
                <a:solidFill>
                  <a:srgbClr val="ff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1" name="WordArt 7"/>
          <p:cNvSpPr txBox="1"/>
          <p:nvPr/>
        </p:nvSpPr>
        <p:spPr>
          <a:xfrm rot="20340600">
            <a:off x="5148360" y="5084280"/>
            <a:ext cx="291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спективы</a:t>
            </a:r>
            <a:endParaRPr b="0" i="1" lang="en-US" sz="1600" spc="1" strike="noStrike">
              <a:ln w="9360">
                <a:solidFill>
                  <a:srgbClr val="ffcc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8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8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8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8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8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8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solidFill>
            <a:srgbClr val="98977a"/>
          </a:solidFill>
          <a:ln w="9360">
            <a:solidFill>
              <a:srgbClr val="ff9999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ыбросы вредных веществ в атмосферу отраслями промышленности,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95280" y="1617840"/>
          <a:ext cx="8291520" cy="5244840"/>
        </p:xfrm>
        <a:graphic>
          <a:graphicData uri="http://schemas.openxmlformats.org/drawingml/2006/table">
            <a:tbl>
              <a:tblPr/>
              <a:tblGrid>
                <a:gridCol w="4176720"/>
                <a:gridCol w="411480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Отрасли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cd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Выбросы вредных ве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cda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мышленность в це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Топливная отрас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Чёрная металлу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Цветная металлу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Химия и нефте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Машино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есн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53440" cy="10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unga"/>
              </a:rPr>
              <a:t>Межотраслевые комплек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39280" y="691920"/>
            <a:ext cx="79916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Чёрная и цветная металлургия Росс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11" descr="i?id=13067147&amp;tov=2"/>
          <p:cNvPicPr/>
          <p:nvPr/>
        </p:nvPicPr>
        <p:blipFill>
          <a:blip r:embed="rId1"/>
          <a:stretch/>
        </p:blipFill>
        <p:spPr>
          <a:xfrm>
            <a:off x="324000" y="3933720"/>
            <a:ext cx="4032000" cy="2735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2"/>
          <p:cNvSpPr/>
          <p:nvPr/>
        </p:nvSpPr>
        <p:spPr>
          <a:xfrm>
            <a:off x="250920" y="1413000"/>
            <a:ext cx="3960720" cy="223200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Чёр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0% металлов, используемых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озяйстве- это чёрные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56000" y="1413000"/>
            <a:ext cx="4465800" cy="216036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Цвет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% металлов, используемых в хозяйстве-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цветные цветные металлы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0" y="1341360"/>
            <a:ext cx="4356000" cy="230364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Чёр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90% металлов-эт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чёрные металлы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4356000" y="1341360"/>
            <a:ext cx="4788000" cy="230364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Цвет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10% металлов-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это цветные металл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5" name="Picture 23" descr="j0285360"/>
          <p:cNvPicPr/>
          <p:nvPr/>
        </p:nvPicPr>
        <p:blipFill>
          <a:blip r:embed="rId2"/>
          <a:stretch/>
        </p:blipFill>
        <p:spPr>
          <a:xfrm>
            <a:off x="4932360" y="386064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таллургические базы Ро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ссия уступила лидерство в металлургии после распада ССС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ческая цепочка производства чёрных метал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пы предприятий в составе чёрной металлу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ственные связи металлургических баз стра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ная металлургия Ро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ческая цепочка производства цветных метал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мещение производства по выплавке метал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ография золотодобычи в Ро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ы и перспективы цветной металлу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росы вредных веществ в атмосферу отраслями промышлен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еталлургические базы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Центральная ба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Уральская ба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Сибирская ба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Дальневосточная баз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Скопления металлургических заводов, использующих общую рудную или топливную базу, и производящие основной металл страны, называют металлургической базой. В России три основных базы и одна формирующаяся- Дальневосточна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2298"/>
          <p:cNvPicPr/>
          <p:nvPr/>
        </p:nvPicPr>
        <p:blipFill>
          <a:blip r:embed="rId1"/>
          <a:stretch/>
        </p:blipFill>
        <p:spPr>
          <a:xfrm>
            <a:off x="4859280" y="1341360"/>
            <a:ext cx="291636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Россия- мировой лидер металлургии в прошлом. Лидерство отдано Японии и Китаю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Verdana"/>
              </a:rPr>
              <a:t>В России преобладают заводы полного цикла. Эти заводы обладают мощностью более 3 млн т кажд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Verdana"/>
              </a:rPr>
              <a:t>Общая добыча железной руды- около 95 млн тон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Курская магнитная аномалия-более 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Урал  и Европейский Север- 15-2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Горная Шория в Кемеровской области-5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Хакассия и Иркутская область- 1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1" i="1" lang="ru-RU" sz="10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1" i="1" lang="ru-RU" sz="1000" spc="-1" strike="noStrike">
                <a:solidFill>
                  <a:srgbClr val="9933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Verdana"/>
              </a:rPr>
              <a:t>В 1990 году в России производилось 60 млн тонн чугуна и 90 млн тонн стали, а в 2004 году 50 млн тонн и 66 млн тонн соответственн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metal6"/>
          <p:cNvPicPr/>
          <p:nvPr/>
        </p:nvPicPr>
        <p:blipFill>
          <a:blip r:embed="rId1"/>
          <a:stretch/>
        </p:blipFill>
        <p:spPr>
          <a:xfrm>
            <a:off x="4859280" y="3860640"/>
            <a:ext cx="285768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Технологическая цепочка производства чёрных металл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23"/>
          <p:cNvGrpSpPr/>
          <p:nvPr/>
        </p:nvGrpSpPr>
        <p:grpSpPr>
          <a:xfrm>
            <a:off x="1922400" y="1139040"/>
            <a:ext cx="5301360" cy="5300640"/>
            <a:chOff x="1922400" y="1139040"/>
            <a:chExt cx="5301360" cy="5300640"/>
          </a:xfrm>
        </p:grpSpPr>
        <p:sp>
          <p:nvSpPr>
            <p:cNvPr id="176" name="_s1028"/>
            <p:cNvSpPr/>
            <p:nvPr/>
          </p:nvSpPr>
          <p:spPr>
            <a:xfrm>
              <a:off x="2675160" y="1892520"/>
              <a:ext cx="3795840" cy="37940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rot="4320000">
              <a:off x="2675880" y="1891440"/>
              <a:ext cx="3794040" cy="37958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rot="8640000">
              <a:off x="2674800" y="1892160"/>
              <a:ext cx="3795840" cy="37940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rot="12960000">
              <a:off x="2675160" y="1892160"/>
              <a:ext cx="3795840" cy="37940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rot="17280000">
              <a:off x="2675880" y="1891080"/>
              <a:ext cx="3794040" cy="37958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5156280" y="1987560"/>
              <a:ext cx="8384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2" name="_s1034"/>
            <p:cNvSpPr/>
            <p:nvPr/>
          </p:nvSpPr>
          <p:spPr>
            <a:xfrm>
              <a:off x="2529000" y="3898800"/>
              <a:ext cx="8384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3" name="_s1035"/>
            <p:cNvSpPr/>
            <p:nvPr/>
          </p:nvSpPr>
          <p:spPr>
            <a:xfrm>
              <a:off x="3148200" y="1987560"/>
              <a:ext cx="8380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4" name="_s1036"/>
            <p:cNvSpPr/>
            <p:nvPr/>
          </p:nvSpPr>
          <p:spPr>
            <a:xfrm>
              <a:off x="5777280" y="3895920"/>
              <a:ext cx="838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5" name="_s1037"/>
            <p:cNvSpPr/>
            <p:nvPr/>
          </p:nvSpPr>
          <p:spPr>
            <a:xfrm>
              <a:off x="4154760" y="5076720"/>
              <a:ext cx="8380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pic>
        <p:nvPicPr>
          <p:cNvPr id="186" name="Picture 35" descr="j0199549"/>
          <p:cNvPicPr/>
          <p:nvPr/>
        </p:nvPicPr>
        <p:blipFill>
          <a:blip r:embed="rId1"/>
          <a:stretch/>
        </p:blipFill>
        <p:spPr>
          <a:xfrm>
            <a:off x="3708360" y="2924280"/>
            <a:ext cx="1670040" cy="1793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0"/>
          <p:cNvSpPr/>
          <p:nvPr/>
        </p:nvSpPr>
        <p:spPr>
          <a:xfrm>
            <a:off x="5219640" y="1773360"/>
            <a:ext cx="1800360" cy="86364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Обогащение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д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Rectangle 42"/>
          <p:cNvSpPr/>
          <p:nvPr/>
        </p:nvSpPr>
        <p:spPr>
          <a:xfrm>
            <a:off x="2124000" y="1773360"/>
            <a:ext cx="1800360" cy="86364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Добыч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Железно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ды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5580000" y="3933720"/>
            <a:ext cx="1584360" cy="71928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Выплав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угун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Rectangle 44"/>
          <p:cNvSpPr/>
          <p:nvPr/>
        </p:nvSpPr>
        <p:spPr>
          <a:xfrm>
            <a:off x="4067280" y="5300640"/>
            <a:ext cx="1009440" cy="79236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Плав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л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45"/>
          <p:cNvSpPr/>
          <p:nvPr/>
        </p:nvSpPr>
        <p:spPr>
          <a:xfrm>
            <a:off x="2050920" y="3933720"/>
            <a:ext cx="1800360" cy="71928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.Производство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кат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Arial"/>
              </a:rPr>
              <a:t>Типы предприятий в</a:t>
            </a:r>
            <a:br>
              <a:rPr sz="4000"/>
            </a:br>
            <a:r>
              <a:rPr b="0" i="1" lang="ru-RU" sz="4000" spc="-1" strike="noStrike">
                <a:solidFill>
                  <a:srgbClr val="6600cc"/>
                </a:solidFill>
                <a:latin typeface="Arial"/>
              </a:rPr>
              <a:t>составе чёрной металлур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530600"/>
          </a:xfrm>
          <a:prstGeom prst="rect">
            <a:avLst/>
          </a:prstGeom>
          <a:gradFill rotWithShape="0">
            <a:gsLst>
              <a:gs pos="0">
                <a:srgbClr val="3a5351"/>
              </a:gs>
              <a:gs pos="100000">
                <a:srgbClr val="7db3b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воды полного цик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Сталеплавильные и сталелитейные заво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Малая металлург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Бездоменная металлург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Производств ферросплавов</a:t>
            </a:r>
            <a:r>
              <a:rPr b="0" i="1" lang="ru-RU" sz="18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4530600"/>
          </a:xfrm>
          <a:prstGeom prst="rect">
            <a:avLst/>
          </a:prstGeom>
          <a:gradFill rotWithShape="0">
            <a:gsLst>
              <a:gs pos="0">
                <a:srgbClr val="3a5351"/>
              </a:gs>
              <a:gs pos="100000">
                <a:srgbClr val="7db3b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Магнитогорск,Челябинск,Липец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Череповец,Новокузнецк,Новотроиц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Комсомольск-на-Амуре,Орё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Все машиностроительные завод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Старый Оско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Нижний Новгоро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7" descr="j0240695"/>
          <p:cNvPicPr/>
          <p:nvPr/>
        </p:nvPicPr>
        <p:blipFill>
          <a:blip r:embed="rId1"/>
          <a:stretch/>
        </p:blipFill>
        <p:spPr>
          <a:xfrm>
            <a:off x="1042920" y="3860640"/>
            <a:ext cx="266544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j0196164"/>
          <p:cNvPicPr/>
          <p:nvPr/>
        </p:nvPicPr>
        <p:blipFill>
          <a:blip r:embed="rId2"/>
          <a:stretch/>
        </p:blipFill>
        <p:spPr>
          <a:xfrm>
            <a:off x="5311800" y="3857760"/>
            <a:ext cx="286056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33"/>
                </a:solidFill>
                <a:uFillTx/>
                <a:latin typeface="Mangal"/>
              </a:rPr>
              <a:t>Производственные связи </a:t>
            </a:r>
            <a:br>
              <a:rPr sz="4000"/>
            </a:br>
            <a:r>
              <a:rPr b="0" lang="ru-RU" sz="4000" spc="-1" strike="noStrike" u="sng">
                <a:solidFill>
                  <a:srgbClr val="990033"/>
                </a:solidFill>
                <a:uFillTx/>
                <a:latin typeface="Mangal"/>
              </a:rPr>
              <a:t>металлургических баз стр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50920" y="2708280"/>
            <a:ext cx="2376360" cy="1150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ентральна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з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851280" y="2997360"/>
            <a:ext cx="1297080" cy="1728720"/>
          </a:xfrm>
          <a:custGeom>
            <a:avLst/>
            <a:gdLst>
              <a:gd name="textAreaLeft" fmla="*/ 189720 w 1297080"/>
              <a:gd name="textAreaRight" fmla="*/ 1107360 w 1297080"/>
              <a:gd name="textAreaTop" fmla="*/ 189720 h 1728720"/>
              <a:gd name="textAreaBottom" fmla="*/ 1539000 h 1728720"/>
            </a:gdLst>
            <a:ahLst/>
            <a:rect l="textAreaLeft" t="textAreaTop" r="textAreaRight" b="textAreaBottom"/>
            <a:pathLst>
              <a:path w="21600" h="28786">
                <a:moveTo>
                  <a:pt x="10800" y="0"/>
                </a:moveTo>
                <a:arcTo wR="10800" hR="10800" stAng="16200000" swAng="-5400000"/>
                <a:lnTo>
                  <a:pt x="0" y="17986"/>
                </a:lnTo>
                <a:arcTo wR="10800" hR="10800" stAng="10800000" swAng="-5400000"/>
                <a:lnTo>
                  <a:pt x="10800" y="2878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альска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з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6300720" y="4149720"/>
            <a:ext cx="2232000" cy="11523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з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5280" y="1484280"/>
            <a:ext cx="2881440" cy="865080"/>
          </a:xfrm>
          <a:prstGeom prst="triangle">
            <a:avLst>
              <a:gd name="adj" fmla="val 50000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п-в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2340000" y="4292640"/>
            <a:ext cx="1368360" cy="11523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М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4932360" y="5734080"/>
            <a:ext cx="2232000" cy="86364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захста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250920" y="4508640"/>
            <a:ext cx="1657080" cy="108108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краин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Line 16"/>
          <p:cNvSpPr/>
          <p:nvPr/>
        </p:nvSpPr>
        <p:spPr>
          <a:xfrm flipH="1" flipV="1">
            <a:off x="4716360" y="4723920"/>
            <a:ext cx="935280" cy="1297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1835280" y="3933360"/>
            <a:ext cx="792000" cy="8636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1116000" y="3860640"/>
            <a:ext cx="360360" cy="6480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Line 19"/>
          <p:cNvSpPr/>
          <p:nvPr/>
        </p:nvSpPr>
        <p:spPr>
          <a:xfrm flipH="1">
            <a:off x="1476000" y="2349360"/>
            <a:ext cx="358920" cy="358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Line 20"/>
          <p:cNvSpPr/>
          <p:nvPr/>
        </p:nvSpPr>
        <p:spPr>
          <a:xfrm flipV="1">
            <a:off x="3348000" y="4437000"/>
            <a:ext cx="647640" cy="4320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AutoShape 21"/>
          <p:cNvSpPr/>
          <p:nvPr/>
        </p:nvSpPr>
        <p:spPr>
          <a:xfrm>
            <a:off x="1835280" y="5877000"/>
            <a:ext cx="2232000" cy="84276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Донбасс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3348000" y="1484280"/>
            <a:ext cx="2376360" cy="115272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Verdana"/>
              </a:rPr>
              <a:t>Печорск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9900"/>
                </a:solidFill>
                <a:latin typeface="Verdana"/>
              </a:rPr>
              <a:t>бассейн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Line 23"/>
          <p:cNvSpPr/>
          <p:nvPr/>
        </p:nvSpPr>
        <p:spPr>
          <a:xfrm flipH="1" flipV="1">
            <a:off x="1619280" y="3860280"/>
            <a:ext cx="936720" cy="2305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Line 24"/>
          <p:cNvSpPr/>
          <p:nvPr/>
        </p:nvSpPr>
        <p:spPr>
          <a:xfrm flipV="1">
            <a:off x="3419640" y="4723920"/>
            <a:ext cx="936360" cy="1513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Line 25"/>
          <p:cNvSpPr/>
          <p:nvPr/>
        </p:nvSpPr>
        <p:spPr>
          <a:xfrm flipH="1" flipV="1">
            <a:off x="4932000" y="4508640"/>
            <a:ext cx="1079640" cy="12254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Line 27"/>
          <p:cNvSpPr/>
          <p:nvPr/>
        </p:nvSpPr>
        <p:spPr>
          <a:xfrm flipH="1">
            <a:off x="2555640" y="2637000"/>
            <a:ext cx="863640" cy="360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AutoShape 28"/>
          <p:cNvSpPr/>
          <p:nvPr/>
        </p:nvSpPr>
        <p:spPr>
          <a:xfrm>
            <a:off x="6588000" y="3213000"/>
            <a:ext cx="1440000" cy="64764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9900"/>
                </a:solidFill>
                <a:latin typeface="Verdana"/>
              </a:rPr>
              <a:t>Кузбасс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Line 29"/>
          <p:cNvSpPr/>
          <p:nvPr/>
        </p:nvSpPr>
        <p:spPr>
          <a:xfrm flipH="1">
            <a:off x="5148360" y="3860640"/>
            <a:ext cx="151128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7236000" y="5516640"/>
            <a:ext cx="1368360" cy="71892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ори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Line 31"/>
          <p:cNvSpPr/>
          <p:nvPr/>
        </p:nvSpPr>
        <p:spPr>
          <a:xfrm flipH="1" flipV="1">
            <a:off x="7812000" y="5300280"/>
            <a:ext cx="144720" cy="2890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Line 32"/>
          <p:cNvSpPr/>
          <p:nvPr/>
        </p:nvSpPr>
        <p:spPr>
          <a:xfrm>
            <a:off x="7380360" y="3860640"/>
            <a:ext cx="0" cy="289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Line 33"/>
          <p:cNvSpPr/>
          <p:nvPr/>
        </p:nvSpPr>
        <p:spPr>
          <a:xfrm>
            <a:off x="4500720" y="2637000"/>
            <a:ext cx="0" cy="360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Line 35"/>
          <p:cNvSpPr/>
          <p:nvPr/>
        </p:nvSpPr>
        <p:spPr>
          <a:xfrm>
            <a:off x="5724360" y="1844640"/>
            <a:ext cx="10083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Line 36"/>
          <p:cNvSpPr/>
          <p:nvPr/>
        </p:nvSpPr>
        <p:spPr>
          <a:xfrm>
            <a:off x="5724360" y="2205000"/>
            <a:ext cx="100836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7020000" y="1773360"/>
            <a:ext cx="100800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д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7020000" y="2060640"/>
            <a:ext cx="1008000" cy="28872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Verdana"/>
              </a:rPr>
              <a:t>уголь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6" name="AutoShape 39"/>
          <p:cNvSpPr/>
          <p:nvPr/>
        </p:nvSpPr>
        <p:spPr>
          <a:xfrm>
            <a:off x="4284720" y="3213000"/>
            <a:ext cx="503280" cy="3603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7" name="AutoShape 40"/>
          <p:cNvSpPr/>
          <p:nvPr/>
        </p:nvSpPr>
        <p:spPr>
          <a:xfrm>
            <a:off x="395280" y="1484280"/>
            <a:ext cx="2881440" cy="865080"/>
          </a:xfrm>
          <a:prstGeom prst="triangle">
            <a:avLst>
              <a:gd name="adj" fmla="val 50000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п-в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8" name="AutoShape 41"/>
          <p:cNvSpPr/>
          <p:nvPr/>
        </p:nvSpPr>
        <p:spPr>
          <a:xfrm>
            <a:off x="2340000" y="4292640"/>
            <a:ext cx="1368360" cy="11523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М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7236000" y="5516640"/>
            <a:ext cx="1368360" cy="71892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ори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0" name="AutoShape 43"/>
          <p:cNvSpPr/>
          <p:nvPr/>
        </p:nvSpPr>
        <p:spPr>
          <a:xfrm>
            <a:off x="4284720" y="3213000"/>
            <a:ext cx="503280" cy="3603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Цветная металлур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459320"/>
          </a:xfrm>
          <a:prstGeom prst="rect">
            <a:avLst/>
          </a:prstGeom>
          <a:solidFill>
            <a:srgbClr val="ffcc99"/>
          </a:solidFill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Цветная металлургия производит металлы, которые обладают свойствами жаропрочност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электропроводности и д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Эти металлы используются в космической(титан)и атом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(уран) промышленности, электротехнике(медь, серебро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золото) и т. 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Россия богата рудами цвет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металл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От мировых запасов в России находи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11% запасов мед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12% запасов свинц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16% запасов цин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21% запасов кобаль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27% запасов оло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31% запасов никеля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6" descr="j0215086"/>
          <p:cNvPicPr/>
          <p:nvPr/>
        </p:nvPicPr>
        <p:blipFill>
          <a:blip r:embed="rId1"/>
          <a:stretch/>
        </p:blipFill>
        <p:spPr>
          <a:xfrm>
            <a:off x="2771640" y="4581360"/>
            <a:ext cx="1470240" cy="1368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j0195384"/>
          <p:cNvPicPr/>
          <p:nvPr/>
        </p:nvPicPr>
        <p:blipFill>
          <a:blip r:embed="rId2"/>
          <a:stretch/>
        </p:blipFill>
        <p:spPr>
          <a:xfrm>
            <a:off x="5364000" y="4437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31:3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b000000000001024140</vt:lpwstr>
  </property>
</Properties>
</file>