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792-2A87-4238-A60A-557824DB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1B3-82F0-46B6-B7D3-A2FCC8D7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A55-51A0-47A0-BBE3-B84FDBC8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2E4-A2CC-423B-8FC1-8CB675FA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9BC3-816D-4590-91B8-479C0C59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FBD1-C2EF-47C8-A513-AB67B42D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D6B5-9B79-44F3-8629-E9FFB677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F133-7A77-4233-8F61-362756DF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041A-4DC7-49C3-ADED-257AF145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5023-AF4C-4878-BE2C-14B447F6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133C-8824-4944-98D1-6207ECE6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FAC-7B4A-4D3C-AAC4-878CF342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63B7-C1DA-4B40-89AE-1872799D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9EE4-CC74-4560-BB67-0C70FCE4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99DC-65FF-4F22-B478-C878B609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BB2E-345A-4CD6-BD2F-2F82D741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8292-AF36-4CB3-9455-75B0BAE2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CB1-A948-4EE1-A837-69010E10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FC6-19B8-48DF-9066-447CE2E8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FF6-A320-4CBA-8A40-7FE18EA3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756-6993-407B-9733-EB2DDA51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EBC-BF96-4CBB-BC01-6E79CFA1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B4A-7F53-4422-8866-A712C8DF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CC8-5CEA-4482-8E11-8B5C675A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6"/>
                  </a:gs>
                  <a:gs pos="100000">
                    <a:srgbClr val="007e7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26f"/>
                  </a:gs>
                  <a:gs pos="50000">
                    <a:srgbClr val="007e7b"/>
                  </a:gs>
                  <a:gs pos="100000">
                    <a:srgbClr val="00726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39FC-6437-4DB7-9B50-33E95230E1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6"/>
                  </a:gs>
                  <a:gs pos="100000">
                    <a:srgbClr val="007e7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26f"/>
                  </a:gs>
                  <a:gs pos="50000">
                    <a:srgbClr val="007e7b"/>
                  </a:gs>
                  <a:gs pos="100000">
                    <a:srgbClr val="00726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182F-C9C4-4A4C-8EFC-12C2123ECC9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364000" y="3933720"/>
            <a:ext cx="37800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полнила: Хохлова Юлия, ученица 7 Б класса МОУ «Гимназии №1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ерила: Завацкая Л.Н.,учитель географ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3635280" y="6021360"/>
            <a:ext cx="187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риль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6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50920" y="1700280"/>
            <a:ext cx="86295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6e6e6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73964" dir="1863564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Материк Южная Америка</a:t>
            </a:r>
            <a:endParaRPr b="1" i="1" lang="en-US" sz="66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73964" dir="1863564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260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33336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«Гимназия №11» Многопрофи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50"/>
                            </p:stCondLst>
                            <p:childTnLst>
                              <p:par>
                                <p:cTn id="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1280" y="313920"/>
            <a:ext cx="8067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Южная Америка. Рельеф и полезные ископаемые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4582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ЮЖНАЯ АМЕРИКА, южный материк Западного полушария, между Тихим ок. на западе и Атлантическим ок. на востоке, Карибским м. на севере и Магеллановым прол. на юге, от 12° 28' с. ш. до 53° 55' ю. ш. Соединен Панамским перешейком с Сев. Америкой. Площадь с островами [арх. Огненная Земля, Чилийский, Фолклендские (Мальвинские) о-ва, Галапагос и др.] 18,28 млн. км</a:t>
            </a:r>
            <a:r>
              <a:rPr b="0" lang="en-US" sz="15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. Наибольшая длина 7150 км, ширина 5100 км. В рельефе выделяются мощный горный пояс Анд (г. Аконкагуа, 6960 м) на севере и западе и платформенный, равнинно-плоскогорный восток. Поднятиям платформы соответствуют плоскогорья Гвианское (г. Неблина, 3014 м) на северо-востоке и Бразильское (г. Бандейра, 2890 м) на востоке, разделенные прогибом, занятым Амазонской низменностью (Амазонией). В краевых и предгорных прогибах между плоскогорьями и Андами лежат равнины и низменности: Ориноко и Внутренние равнины (Пантанал, Гран-Чако, Междуречье и Пампа); к югу от нее, на юго-востоке, поднимаются до 2200 м плато Патагонии. На плоскогорьях крупные месторождения железных и марганцевых руд, бокситов, цветных и редких металлов; в предгорных и межгорных прогибах Анд — нефти и газа; в горах — месторождения руд меди, полиметаллов, олова и др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3000"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6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Южная Америка. 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28000"/>
              </a:lnSpc>
              <a:spcBef>
                <a:spcPts val="11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Климат большей частью субэкваториальный и тропический, в Амазонии — экваториальный, постоянно влажный, на юге — субтропический и умеренный. Вся северная равнинная часть Юж. Америки до южного тропика имеет среднемесячные температуры 20-28 °С. Летом (в январе) они снижаются к югу до 10 °С, зимой (в июле) на Бразильском плоскогорье до 12 °С, в Пампе до 6 °С, на плато Патагонии до 1 °С и ниже. Наибольшее количество осадков в год получают наветренные склоны Анд в Колумбии и Юж. Чили (5-10 тыс. мм), Зап. Амазония и прилегающие склоны Анд, восточные склоны Гвианского и Бразильского плоскогорий (2-3 тыс. мм), на остальной территории востока до 35 °ю. ш. выпадает в год 1-2 тыс. мм. Засушливы (150-200 мм и менее) области к западу от Пампы, Патагония, юг Центр. Анд и особенно тихоокеанский склон между 5-27 °ю. ш. Большинство рек принадлежит бассейну Атлантического ок.; наибольшие — Амазонка, Парана с Парагваем, Ориноко. Реки плоскогорий порожисты и, как и в Андах, богаты гидроэнергией. На низменностях крупные реки судоходны. В почвенном покрове в жарком поясе преобладают латеритные (ферраллитные и ферритные) красноцветные типы почв, в субтропиках — красновато-черные и серо-коричневые, в умеренных широтах — бурые (лесные на западе и полупустынные на востоке). Амазония, восточные склоны плоскогорий и Анд (до 18 °ю. ш.) покрыты вечнозелеными влажными экваториальными и тропическими лесами с ценными видами деревьев (каучуконос гевея, красное дерево, какао, хинное и др.), на остальных равнинах и плоскогорьях — саванны и редколесья; в субтропиках — прерии, степи и полупустыни, в умеренном поясе на западе — вечнозеленые смешанные леса с примесью листопадных, на востоке — кустарниковые полупустыни. Очень богатая и своеобразная фауна Юж. Америки принадлежит неотропической области Неогеи и отличается большим количеством эндемиков: ленивцы, муравьеды, броненосцы, широконосые обезьяны, пума, ягуар, пекари, нутрия, морские свинки и др. Из птиц — нанду, гоацин, туканы и др. Разнообразна фауна пресмыкающихся, рыб и насекомых. На территории Юж. Америки расположены государства: Аргентина, Боливия, Бразилия, Венесуэла, Гайана, Колумбия, Парагвай, Перу, Суринам, Уругвай, Чили и Эквадор, а также владение Франции — Гвиана; к Юж. Америке относятся Фолклендские (Мальвинские) о-в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2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История исследования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История исслед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ервый этап — экспедиции 15-18 в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 существовании Южной Америки европейцам стало достоверно известно после плавания Х. Колумба в 1498, который открыл острова Тринидад и Маргарита, исследовал участок побережья от дельты реки Ориноко до полуострова Пария. В 15-16 вв. наибольший вклад в исследование континента был внесен испанскими экспедициями. В 1499-1500 испанский конкистадор А. Охеда возглавил экспедицию к северному побережью Южной Америки, которая достигла берега в районе современной Гвианы и, следуя в северо-западном направлении, обследовала побережье от 5-6° ю. ш. до Венесуэльского залива. Позднее Охеда обследовал северное побережье Колумбии и основал там крепость, положив начало испанским завоеваниям на этом континенте. Завершил обследование северного побережья Южной Америки испанский путешественник Р. Бастидас, который в 1501 изучил устье реки Магдалены и достиг залива Ураба. Экспедиции В. Пинсона и Д. Лепе, продолжая продвигаться на юг вдоль атлантического побережья Южной Америки, в 1500 открыли один из рукавов дельты реки Амазонки, исследовали бразильское побережье до 10° ю. ш. Х. Солис прошел далее на юг (до 35° ю. ш.) и открыл залив Ла-Плата, низовья крупнейших рек Уругвай и Парана. В 1520 Ф. Магеллан обследовал патагонский берег, затем прошел в Тихий океан через пролив, названный позднее его именем, завершив изучение атлантического побережь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1522-58 гг. было изучено тихоокеанское побережье Южной Америки. Ф. Писарро прошел вдоль берегов Тихого океана до 8° ю. ш., в 1531-33 гг. он завоевал Перу, разграбив и уничтожив государство инков и основав Город Королей (впоследствии названный Лима). Позднее — в 1535-52 гг. — испанские конкистадоры Д. Альмагро и П. Вальдивия спустились вдоль побережья до 40° ю. ш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Исследования внутриконтинентальных областей стимулировались легендами о гипотетической «стране золота» — Эльдорадо, в поисках которой испанские экспедиции Д. Ордаса, П. Эредиа и других в 1529-46 пересекли в разных направлениях Северо-Западные Анды, проследили течения многих рек. Агенты немецких банкиров А. Эхингер, Н. Федерман и др. обследовали, главным образом, северо-восток континента, верховья реки Ориноко. В 1541 отряд Ф. Орельяны впервые пересек материк в самой его широкой части, проследив среднее и нижнее течение реки Амазонки; С. Кабот, П. Мендоса и др. в 1527-48 прошли по крупным рекам бассейна Парана — Парагва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райняя южная точка континента — мыс Горн — была открыта голландскими мореплавателями Я. Лемером и В. Схаутеном в 1616. Английский мореплаватель Д. Дейвис в 1592 открыл «Землю Девы», предполагая, что она представляет собой единую сушу; лишь в 1690 Д. Стронг доказал, что она состоит из множества островов и дал им название Фолклендские остров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16-18 вв. отряды португальских метисов-мамилуков, совершавшие завоевательные походы в поисках золота и драгоценностей, многократно пересекали Бразильское плоскогорье и проследили течение многих притоков Амазонки. В изучении этих областей приняли участие также миссионеры-иезуи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История исследования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торой этап — научные экспедиции 18-20 в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проверки гипотезы о сфероидальной форме Земли Парижская Академия наук для измерения дуги меридиана направила в 1736-43 в Перу Экваториальную экспедицию под руководством П. Бугера и Ш. Кондамина, подтвердившую справедливость этого предположения. В 1781-1801 испанский топограф Ф. Асара провел комплексные исследования залива Ла-Плата, а также бассейнов рек Парана и Парагвай. А. Гумбольдт обследовал бассейн реки Ориноко, плоскогорье Кито, посетил город Лиму, изложив результаты своих исследований в книге «Путешествие в равноденственные области Нового Света в 1799-1804 гг.» (рус. пер., т. 1-3, 1963-69). Английский гидрограф и метеоролог Р. Фицрой в 1828-30 (в экспедиции Ф. Кинга) выполнил съемку южного побережья Южной Америки, а позднее руководил знаменитым кругосветным путешествием на корабле «Бигль», в котором также принимал участие Ч. Дарвин. Амазонку и примыкающее к ней с юга Бразильское плоскогорье исследовали немецкий ученый В. Эшвеге (1811-14), французский биолог Э. Жоффруа Сент-Илер (1816-22), русская экспедиция под руководством Г. И. Лангсдорфа (1822-28), английский естествоиспытатель А. Уоллес (1848-52), французский ученый А. Кудро (1895-98). Немецкие и французские ученые изучали бассейн реки Ориноко и Гвианское плоскогорье, американские и аргентинские — низовья рек Парана и Уругвай в районе Ла-Плата. В исследование этого континента большой вклад внесли русские ученые Н. М. Альбов, который в 1895-96 изучал Огненную Землю, Г. Г. Манизер (1914-15), Н. И. Вавилов (1930, 1932-33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7280" y="620280"/>
            <a:ext cx="8226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Водопад Текендама на р. Богота в Восточной Кордильере Анд.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56144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664"/>
                            </p:stCondLst>
                            <p:childTnLst>
                              <p:par>
                                <p:cTn id="13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Ледник Перито-Морено в Южных Андах.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77080" cy="495000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6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3:59:49Z</dcterms:created>
  <dc:creator>Юлия</dc:creator>
  <dc:description/>
  <dc:language>en-US</dc:language>
  <cp:lastModifiedBy>Анастасия</cp:lastModifiedBy>
  <dcterms:modified xsi:type="dcterms:W3CDTF">2007-05-20T17:48:52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4000000000001024140</vt:lpwstr>
  </property>
</Properties>
</file>