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713-8021-4602-9035-427B2767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3BA-73DF-489A-A020-E6E71645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66F-75E2-4EA9-AA9A-FA8155AE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C69-CCFE-42E1-8F8F-295A3920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F93-A1DE-45AC-98DF-2F0EE4F7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7D1F-7346-4110-B37E-19E86C0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5686-A68F-4E11-B29C-96EFD073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8001-5919-4DF3-9925-D6F8D6B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307B-F3D4-4CFB-BD95-FB8A5BE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FB6-E5EE-4E2F-8B02-F5F5C6F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1423-4682-43BD-875D-8204ADE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E3E-D25D-4898-A7B5-84E9C707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1CC-0605-4989-86F0-BDDBEE7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35F-A53E-4885-BD7C-3D66689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5C50-EA3B-4F6C-A1D2-D14D4B18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0649-C9BE-454A-9F0E-0AFD67C4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9E31-F240-4FDA-9611-FC89CAAD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B84-AB14-4155-B3B5-A82B3C11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D72-988D-4D4E-80AA-CC7904DA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399-C9B6-4295-AF94-88EC7E84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BF2-5B5F-4A60-AF90-1A9AEB5E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9E0-3B4C-4D8D-B4EE-23ECCA4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C4C-3978-46E9-95E1-9A1B43F9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D90-126B-41DA-B7FB-21796A6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396D-0599-4E2C-870A-F7E5971056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2AFB-CE05-46BA-B915-CA511E1C30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060640"/>
            <a:ext cx="6400800" cy="324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Мастер-класс по теме:  «Использование элементов технологии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omic Sans MS"/>
              </a:rPr>
              <a:t>«Развитие критического мышления» на уроках географии»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0343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Учитель географии Милованова Ирина Александровн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спублика Алтай,  ГС(К)ОУ «Специальная (коррекционная) общеобразовательная школа  интернат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VIII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вида Республики Алтай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2008г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622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лгоритм написания синквей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1. Существительное; тема, главная мыс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. Прилагательные; два; качества этого сло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3. Глаголы; три; действия этого слов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4. Суждение из четырёх слов по первому слову, мыс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5. Существительное; синоним первому слову, вывод, заключе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 Sans MS"/>
              </a:rPr>
              <a:t>ДРУЖБА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197000"/>
            <a:ext cx="68706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Верная, крепкая преданная, взаимная, сердечная, искренняя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267920"/>
            <a:ext cx="687060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Объединяет, связывает, располагает, обнадёживает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196640"/>
            <a:ext cx="6870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может любому в беде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Надёжная защита и опора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ддержит того, кому плохо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Товарищество, доверие, приятельство, опора, защита, фундамент…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50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Дружб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ерная, крепкая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Объединяет, располагает, обнадёживает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Поможет в беде любому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Защита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8920" y="3284640"/>
            <a:ext cx="698508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Снег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Пушистый, мягкий,                падает, кружится, искрится, тае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не нравится играть со снего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СНЕЖИНК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5" descr="j0299587"/>
          <p:cNvPicPr/>
          <p:nvPr/>
        </p:nvPicPr>
        <p:blipFill>
          <a:blip r:embed="rId1"/>
          <a:stretch/>
        </p:blipFill>
        <p:spPr>
          <a:xfrm>
            <a:off x="1476360" y="338040"/>
            <a:ext cx="2519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07640" y="4724280"/>
            <a:ext cx="61866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б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епознаваемое, изменчив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вижется, течет куда-т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очется смотреть не отрываясь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есконечность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4" descr="zak-sin"/>
          <p:cNvPicPr/>
          <p:nvPr/>
        </p:nvPicPr>
        <p:blipFill>
          <a:blip r:embed="rId1"/>
          <a:stretch/>
        </p:blipFill>
        <p:spPr>
          <a:xfrm>
            <a:off x="250920" y="189000"/>
            <a:ext cx="698508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195640" y="4220640"/>
            <a:ext cx="540072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ен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бавные, послушны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Шалят, учатся, болтаю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ывают минуты радости и печал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бят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4" descr="фото школа 023"/>
          <p:cNvPicPr/>
          <p:nvPr/>
        </p:nvPicPr>
        <p:blipFill>
          <a:blip r:embed="rId1"/>
          <a:stretch/>
        </p:blipFill>
        <p:spPr>
          <a:xfrm>
            <a:off x="250920" y="260280"/>
            <a:ext cx="5329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986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Критическое мышление-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это открытое мышление, не принимающее догм, развивающееся путем наложения новой информации на жизненный личный опыт. Это точка опоры, естественный способ взаимодействия с идеями и информаци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рок с элементами ТРКМПЧ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ема: «Портрет неизвестной стран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Вызов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доске иллюстра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звать, что изображено. Написать мини- сочинение «легенду» об этой неизвестной стране (5-7 минут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5508720" y="2349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380360" y="5157360"/>
            <a:ext cx="10015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6" descr="Китайская семья"/>
          <p:cNvPicPr/>
          <p:nvPr/>
        </p:nvPicPr>
        <p:blipFill>
          <a:blip r:embed="rId1"/>
          <a:stretch/>
        </p:blipFill>
        <p:spPr>
          <a:xfrm>
            <a:off x="0" y="0"/>
            <a:ext cx="3548160" cy="2660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Летающий змей"/>
          <p:cNvPicPr/>
          <p:nvPr/>
        </p:nvPicPr>
        <p:blipFill>
          <a:blip r:embed="rId2"/>
          <a:stretch/>
        </p:blipFill>
        <p:spPr>
          <a:xfrm>
            <a:off x="4067280" y="260280"/>
            <a:ext cx="3433680" cy="2289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Традиционное японское жилище"/>
          <p:cNvPicPr/>
          <p:nvPr/>
        </p:nvPicPr>
        <p:blipFill>
          <a:blip r:embed="rId3"/>
          <a:stretch/>
        </p:blipFill>
        <p:spPr>
          <a:xfrm>
            <a:off x="4140360" y="3141720"/>
            <a:ext cx="4314600" cy="28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Великая Китайская равнина"/>
          <p:cNvPicPr/>
          <p:nvPr/>
        </p:nvPicPr>
        <p:blipFill>
          <a:blip r:embed="rId4"/>
          <a:stretch/>
        </p:blipFill>
        <p:spPr>
          <a:xfrm>
            <a:off x="0" y="40258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Горный район Китая"/>
          <p:cNvPicPr/>
          <p:nvPr/>
        </p:nvPicPr>
        <p:blipFill>
          <a:blip r:embed="rId1"/>
          <a:stretch/>
        </p:blipFill>
        <p:spPr>
          <a:xfrm>
            <a:off x="0" y="509760"/>
            <a:ext cx="3132000" cy="207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Китайцы"/>
          <p:cNvPicPr/>
          <p:nvPr/>
        </p:nvPicPr>
        <p:blipFill>
          <a:blip r:embed="rId2"/>
          <a:stretch/>
        </p:blipFill>
        <p:spPr>
          <a:xfrm>
            <a:off x="4572000" y="3789360"/>
            <a:ext cx="3902040" cy="267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еликая Китайская стена"/>
          <p:cNvPicPr/>
          <p:nvPr/>
        </p:nvPicPr>
        <p:blipFill>
          <a:blip r:embed="rId3"/>
          <a:stretch/>
        </p:blipFill>
        <p:spPr>
          <a:xfrm>
            <a:off x="3348000" y="0"/>
            <a:ext cx="4386240" cy="292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очерки китайского письма"/>
          <p:cNvPicPr/>
          <p:nvPr/>
        </p:nvPicPr>
        <p:blipFill>
          <a:blip r:embed="rId4"/>
          <a:stretch/>
        </p:blipFill>
        <p:spPr>
          <a:xfrm>
            <a:off x="324000" y="3284640"/>
            <a:ext cx="35938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фото школа 023"/>
          <p:cNvPicPr/>
          <p:nvPr/>
        </p:nvPicPr>
        <p:blipFill>
          <a:blip r:embed="rId1"/>
          <a:stretch/>
        </p:blipFill>
        <p:spPr>
          <a:xfrm>
            <a:off x="684360" y="549360"/>
            <a:ext cx="78390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желанию зачитывают свои легенд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опрос: Кто-нибудь догадался с какой страной будем сегодня знакомиться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 Осмысление содержан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серт (чтение с отметиной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еседа- «тонкие и толстые вопрос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Рефлекс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ласс делится на три группы: каждая готовит мини-проект «Визитная карточка страны»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Рис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Панд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-Иероглиф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? Кто при написании легенды оказался ближе остальных к описанию настоящего Китая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фото школа 025"/>
          <p:cNvPicPr/>
          <p:nvPr/>
        </p:nvPicPr>
        <p:blipFill>
          <a:blip r:embed="rId1"/>
          <a:stretch/>
        </p:blipFill>
        <p:spPr>
          <a:xfrm>
            <a:off x="250920" y="550800"/>
            <a:ext cx="812628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omic Sans MS"/>
              </a:rPr>
              <a:t>Синквейн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КИТА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Загадочный, манящ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Зовет, чарует, завораживае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Огромное желание узнать побольш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Восто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5" descr="Представитель монголоидной расы"/>
          <p:cNvPicPr/>
          <p:nvPr/>
        </p:nvPicPr>
        <p:blipFill>
          <a:blip r:embed="rId1"/>
          <a:stretch/>
        </p:blipFill>
        <p:spPr>
          <a:xfrm>
            <a:off x="4500720" y="476280"/>
            <a:ext cx="390816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98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98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mic Sans MS"/>
              </a:rPr>
              <a:t>Результаты ТРКМПЧ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мышления, 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в учащихся уверенности и понимания своих мнений и иде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ктивное участие в учебном процесс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мение с уважением выслушивать различные мнени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Структура технологи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-Вызов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– Осмысление содержания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II</a:t>
            </a:r>
            <a:r>
              <a:rPr b="1" i="1" lang="ru-RU" sz="4000" spc="-1" strike="noStrike">
                <a:solidFill>
                  <a:srgbClr val="ffffff"/>
                </a:solidFill>
                <a:latin typeface="Comic Sans MS"/>
              </a:rPr>
              <a:t> стадия - Рефлексия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емы и стратегии технологии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ластеры (гроздь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нсерт (чтение с отметиной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с остановко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ишбоун, мини- сочинени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блица «З-Х-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йм- лайн, «тонкие и толстые» вопросы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инквейн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32000" y="1916280"/>
          <a:ext cx="6553080" cy="2404800"/>
        </p:xfrm>
        <a:graphic>
          <a:graphicData uri="http://schemas.openxmlformats.org/drawingml/2006/table">
            <a:tbl>
              <a:tblPr/>
              <a:tblGrid>
                <a:gridCol w="2805120"/>
                <a:gridCol w="1730160"/>
                <a:gridCol w="2017800"/>
              </a:tblGrid>
              <a:tr h="18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ХОЧУ 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3"/>
          <p:cNvSpPr/>
          <p:nvPr/>
        </p:nvSpPr>
        <p:spPr>
          <a:xfrm>
            <a:off x="684360" y="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ТАБЛИЦА «З-Х-У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«ЗНАЮ-ХОЧУ ЗНАТЬ- УЗНАЛ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685800" y="3268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85800" y="152280"/>
            <a:ext cx="7696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901800" y="368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79640" y="4581360"/>
          <a:ext cx="6264360" cy="1630440"/>
        </p:xfrm>
        <a:graphic>
          <a:graphicData uri="http://schemas.openxmlformats.org/drawingml/2006/table">
            <a:tbl>
              <a:tblPr/>
              <a:tblGrid>
                <a:gridCol w="3130560"/>
                <a:gridCol w="3133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тегори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Источники инфор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Основные правила работы с приемом «З-Х-У»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спомните, что вам известно по изучаемому вопросу, запишите эти сведения в первой графе таблиц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ечислите источники информа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ставьте вопросы к изучаемой теме до ее изучения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ветьте на вопросы, запишите ответы в 3-ю графу таблицы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?  «Тонкие и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толстые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вопросы» 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5" descr="j0299125"/>
          <p:cNvPicPr/>
          <p:nvPr/>
        </p:nvPicPr>
        <p:blipFill>
          <a:blip r:embed="rId1"/>
          <a:stretch/>
        </p:blipFill>
        <p:spPr>
          <a:xfrm>
            <a:off x="7596360" y="4653000"/>
            <a:ext cx="1099800" cy="18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11280" y="1844640"/>
          <a:ext cx="6840360" cy="4224240"/>
        </p:xfrm>
        <a:graphic>
          <a:graphicData uri="http://schemas.openxmlformats.org/drawingml/2006/table">
            <a:tbl>
              <a:tblPr/>
              <a:tblGrid>
                <a:gridCol w="3171600"/>
                <a:gridCol w="3668760"/>
              </a:tblGrid>
              <a:tr h="18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нки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олстые вопр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Может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Как зва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Объясните, почему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то, если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Почему вы считаете…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ини- сочинение (краткое изложение темы, письмо от имени изучаемого объекта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айм-лайн. Линия времени, на которую наносятся все события, факты, имеющие цикличность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тение с остановкой- условное название стратегии по организации чтения текста, с использованием различных типов вопросов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6"/>
            </a:gs>
            <a:gs pos="50000">
              <a:srgbClr val="cc66ff"/>
            </a:gs>
            <a:gs pos="100000">
              <a:srgbClr val="5e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3933360"/>
            <a:ext cx="687060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СИНКВЕЙН-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художественная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форма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письменной рефлексии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3:54:35Z</dcterms:created>
  <dc:creator>User</dc:creator>
  <dc:description/>
  <dc:language>en-US</dc:language>
  <cp:lastModifiedBy>Admin</cp:lastModifiedBy>
  <dcterms:modified xsi:type="dcterms:W3CDTF">2011-09-13T11:29:48Z</dcterms:modified>
  <cp:revision>33</cp:revision>
  <dc:subject/>
  <dc:title>Мастер-класс по теме:  «Использование элементов технологии  «Развитие критического мышления» на уроке литератур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e0000000000010243100207f6000400038000</vt:lpwstr>
  </property>
</Properties>
</file>