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914-D3C3-4777-B14B-23D09F70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441-73FD-470E-A178-5235273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E14-DEEB-4531-8A69-5D4EA380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82B-2B98-4E06-9D57-6572A96F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3E6-45BD-48B0-97B8-F05C6862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5CFB-C133-4376-A97F-376CC0E4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F17B-7E11-40D2-9B33-9654A61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834E-09A5-47A5-ABE9-0C6C2634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8D21-A925-4EA3-B6C4-44664687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3F42-4170-4FC0-B881-7CB1436B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B6F1-7A3C-4E38-8604-8EF960D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6D0-0C51-43CC-A6A4-282EFA5A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CCD5-28FA-45B9-ABFA-1F52E6F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6808-B1BB-4D0E-B0A4-900AEBF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A3F-375A-428F-A2C0-D7820D7D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2AC-39AD-48A0-B8DD-A113D7C1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7C48-364E-479D-B37A-5AF53DEE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998-B58D-4F68-8C56-4C5EB344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B84-A6EC-46A1-8C05-7AD83D8A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668-4699-4D3C-9147-1B42CF29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31E-31C4-4D41-B861-047C1DB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050-7A6E-467C-9D98-8D32BD8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D06-12E9-432B-ABCB-597517C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607-5C90-4033-99FB-6D4ED6B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05BC-84D0-418C-9329-9B506D2848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AA7A-6986-4D7B-816C-D627C1F851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060640"/>
            <a:ext cx="6400800" cy="324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Мастер-класс по теме:  «Использование элементов технологии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«Развитие критического мышления» на уроках географии»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0343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читель географии Милованова Ирина Александровн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спублика Алтай,  ГС(К)ОУ «Специальная (коррекционная) общеобразовательная школа  интернат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III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вида Республики Алтай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2008г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62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лгоритм написания синквей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1. Существительное; тема, главная мыс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. Прилагательные; два; качества этого сло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3. Глаголы; три; действия этого сло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4. Суждение из четырёх слов по первому слову, мыс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5. Существительное; синоним первому слову, вывод, заключе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ДРУЖБА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197000"/>
            <a:ext cx="68706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Верная, крепкая преданная, взаимная, сердечная, искренняя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267920"/>
            <a:ext cx="687060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Объединяет, связывает, располагает, обнадёживает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6870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может любому в беде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Надёжная защита и опора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ддержит того, кому плохо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Товарищество, доверие, приятельство, опора, защита, фундамент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50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Дружб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ерная, крепкая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Объединяет, располагает, обнадёживает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может в беде любому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Защита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8920" y="3284640"/>
            <a:ext cx="698508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Снег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ушистый, мягкий,                падает, кружится, искрится, тае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не нравится играть со снего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СНЕЖИН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5" descr="j0299587"/>
          <p:cNvPicPr/>
          <p:nvPr/>
        </p:nvPicPr>
        <p:blipFill>
          <a:blip r:embed="rId1"/>
          <a:stretch/>
        </p:blipFill>
        <p:spPr>
          <a:xfrm>
            <a:off x="1476360" y="338040"/>
            <a:ext cx="2519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7640" y="4724280"/>
            <a:ext cx="61866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б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познаваемое, изменчив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вижется, течет куда-т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очется смотреть не отрываясь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есконечность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4" descr="zak-sin"/>
          <p:cNvPicPr/>
          <p:nvPr/>
        </p:nvPicPr>
        <p:blipFill>
          <a:blip r:embed="rId1"/>
          <a:stretch/>
        </p:blipFill>
        <p:spPr>
          <a:xfrm>
            <a:off x="250920" y="189000"/>
            <a:ext cx="698508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195640" y="4220640"/>
            <a:ext cx="54007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ен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бавные, послушны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Шалят, учатся, болтаю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ывают минуты радости и печал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бят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4" descr="фото школа 023"/>
          <p:cNvPicPr/>
          <p:nvPr/>
        </p:nvPicPr>
        <p:blipFill>
          <a:blip r:embed="rId1"/>
          <a:stretch/>
        </p:blipFill>
        <p:spPr>
          <a:xfrm>
            <a:off x="250920" y="260280"/>
            <a:ext cx="5329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986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Критическое мышление-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это открытое мышление, не принимающее догм, развивающееся путем наложения новой информации на жизненный личный опыт. Это точка опоры, естественный способ взаимодействия с идеями и информаци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рок с элементами ТРКМПЧ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ема: «Портрет неизвестной стран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Вызов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доске иллюстра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звать, что изображено. Написать мини- сочинение «легенду» об этой неизвестной стране (5-7 минут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5508720" y="2349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380360" y="5157360"/>
            <a:ext cx="10015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6" descr="Китайская семья"/>
          <p:cNvPicPr/>
          <p:nvPr/>
        </p:nvPicPr>
        <p:blipFill>
          <a:blip r:embed="rId1"/>
          <a:stretch/>
        </p:blipFill>
        <p:spPr>
          <a:xfrm>
            <a:off x="0" y="0"/>
            <a:ext cx="3548160" cy="2660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Летающий змей"/>
          <p:cNvPicPr/>
          <p:nvPr/>
        </p:nvPicPr>
        <p:blipFill>
          <a:blip r:embed="rId2"/>
          <a:stretch/>
        </p:blipFill>
        <p:spPr>
          <a:xfrm>
            <a:off x="4067280" y="260280"/>
            <a:ext cx="3433680" cy="2289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Традиционное японское жилище"/>
          <p:cNvPicPr/>
          <p:nvPr/>
        </p:nvPicPr>
        <p:blipFill>
          <a:blip r:embed="rId3"/>
          <a:stretch/>
        </p:blipFill>
        <p:spPr>
          <a:xfrm>
            <a:off x="4140360" y="3141720"/>
            <a:ext cx="4314600" cy="28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Великая Китайская равнина"/>
          <p:cNvPicPr/>
          <p:nvPr/>
        </p:nvPicPr>
        <p:blipFill>
          <a:blip r:embed="rId4"/>
          <a:stretch/>
        </p:blipFill>
        <p:spPr>
          <a:xfrm>
            <a:off x="0" y="40258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Горный район Китая"/>
          <p:cNvPicPr/>
          <p:nvPr/>
        </p:nvPicPr>
        <p:blipFill>
          <a:blip r:embed="rId1"/>
          <a:stretch/>
        </p:blipFill>
        <p:spPr>
          <a:xfrm>
            <a:off x="0" y="509760"/>
            <a:ext cx="3132000" cy="207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Китайцы"/>
          <p:cNvPicPr/>
          <p:nvPr/>
        </p:nvPicPr>
        <p:blipFill>
          <a:blip r:embed="rId2"/>
          <a:stretch/>
        </p:blipFill>
        <p:spPr>
          <a:xfrm>
            <a:off x="4572000" y="3789360"/>
            <a:ext cx="3902040" cy="267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еликая Китайская стена"/>
          <p:cNvPicPr/>
          <p:nvPr/>
        </p:nvPicPr>
        <p:blipFill>
          <a:blip r:embed="rId3"/>
          <a:stretch/>
        </p:blipFill>
        <p:spPr>
          <a:xfrm>
            <a:off x="3348000" y="0"/>
            <a:ext cx="4386240" cy="292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очерки китайского письма"/>
          <p:cNvPicPr/>
          <p:nvPr/>
        </p:nvPicPr>
        <p:blipFill>
          <a:blip r:embed="rId4"/>
          <a:stretch/>
        </p:blipFill>
        <p:spPr>
          <a:xfrm>
            <a:off x="324000" y="3284640"/>
            <a:ext cx="35938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фото школа 023"/>
          <p:cNvPicPr/>
          <p:nvPr/>
        </p:nvPicPr>
        <p:blipFill>
          <a:blip r:embed="rId1"/>
          <a:stretch/>
        </p:blipFill>
        <p:spPr>
          <a:xfrm>
            <a:off x="684360" y="549360"/>
            <a:ext cx="78390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желанию зачитывают свои легенд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прос: Кто-нибудь догадался с какой страной будем сегодня знакомитьс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Осмысление содержан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серт (чтение с отметиной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седа- «тонкие и толстые вопрос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Рефлекс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ласс делится на три группы: каждая готовит мини-проект «Визитная карточка страны»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Рис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Панд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Иероглиф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? Кто при написании легенды оказался ближе остальных к описанию настоящего Китая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фото школа 025"/>
          <p:cNvPicPr/>
          <p:nvPr/>
        </p:nvPicPr>
        <p:blipFill>
          <a:blip r:embed="rId1"/>
          <a:stretch/>
        </p:blipFill>
        <p:spPr>
          <a:xfrm>
            <a:off x="250920" y="550800"/>
            <a:ext cx="812628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Синквейн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КИТА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Загадочный, манящ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Зовет, чарует, завораживае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Огромное желание узнать побольш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Восто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5" descr="Представитель монголоидной расы"/>
          <p:cNvPicPr/>
          <p:nvPr/>
        </p:nvPicPr>
        <p:blipFill>
          <a:blip r:embed="rId1"/>
          <a:stretch/>
        </p:blipFill>
        <p:spPr>
          <a:xfrm>
            <a:off x="4500720" y="476280"/>
            <a:ext cx="390816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98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98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Результаты ТРКМПЧ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мышления, 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в учащихся уверенности и понимания своих мнений и ид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ктивное участие в учебном процесс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мение с уважением выслушивать различные мнени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Структура технологи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-Вызов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– Осмысление содержания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I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- Рефлексия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емы и стратегии технологии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ластеры (грозд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серт (чтение с отметиной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с остановко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ишбоун, мини- сочине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блица «З-Х-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йм- лайн, «тонкие и толстые» вопрос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нквейн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32000" y="1916280"/>
          <a:ext cx="6553080" cy="2404800"/>
        </p:xfrm>
        <a:graphic>
          <a:graphicData uri="http://schemas.openxmlformats.org/drawingml/2006/table">
            <a:tbl>
              <a:tblPr/>
              <a:tblGrid>
                <a:gridCol w="2805120"/>
                <a:gridCol w="1730160"/>
                <a:gridCol w="2017800"/>
              </a:tblGrid>
              <a:tr h="18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ХОЧУ 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684360" y="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ТАБЛИЦА «З-Х-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«ЗНАЮ-ХОЧУ ЗНАТЬ- УЗНАЛ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685800" y="3268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85800" y="152280"/>
            <a:ext cx="7696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901800" y="368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79640" y="4581360"/>
          <a:ext cx="6264360" cy="1630440"/>
        </p:xfrm>
        <a:graphic>
          <a:graphicData uri="http://schemas.openxmlformats.org/drawingml/2006/table">
            <a:tbl>
              <a:tblPr/>
              <a:tblGrid>
                <a:gridCol w="3130560"/>
                <a:gridCol w="3133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тегори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Источник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Основные правила работы с приемом «З-Х-У»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спомните, что вам известно по изучаемому вопросу, запишите эти сведения в первой графе таблиц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ечислите источники информа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ставьте вопросы к изучаемой теме до ее изучен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ветьте на вопросы, запишите ответы в 3-ю графу таблиц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?  «Тонкие и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толстые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вопросы»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5" descr="j0299125"/>
          <p:cNvPicPr/>
          <p:nvPr/>
        </p:nvPicPr>
        <p:blipFill>
          <a:blip r:embed="rId1"/>
          <a:stretch/>
        </p:blipFill>
        <p:spPr>
          <a:xfrm>
            <a:off x="7596360" y="4653000"/>
            <a:ext cx="1099800" cy="18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11280" y="1844640"/>
          <a:ext cx="6840360" cy="4224240"/>
        </p:xfrm>
        <a:graphic>
          <a:graphicData uri="http://schemas.openxmlformats.org/drawingml/2006/table">
            <a:tbl>
              <a:tblPr/>
              <a:tblGrid>
                <a:gridCol w="3171600"/>
                <a:gridCol w="3668760"/>
              </a:tblGrid>
              <a:tr h="18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нки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лсты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ожет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к зва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Объяснит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, ес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чему вы считаете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ини- сочинение (краткое изложение темы, письмо от имени изучаемого объекта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йм-лайн. Линия времени, на которую наносятся все события, факты, имеющие цикличнос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с остановкой- условное название стратегии по организации чтения текста, с использованием различных типов вопросо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3933360"/>
            <a:ext cx="687060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СИНКВЕЙН-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художественная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форма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письменной рефлексии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3:54:35Z</dcterms:created>
  <dc:creator>User</dc:creator>
  <dc:description/>
  <dc:language>en-US</dc:language>
  <cp:lastModifiedBy>Admin</cp:lastModifiedBy>
  <dcterms:modified xsi:type="dcterms:W3CDTF">2011-09-13T11:29:48Z</dcterms:modified>
  <cp:revision>33</cp:revision>
  <dc:subject/>
  <dc:title>Мастер-класс по теме:  «Использование элементов технологии  «Развитие критического мышления» на уроке литератур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e0000000000010243100207f6000400038000</vt:lpwstr>
  </property>
</Properties>
</file>