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57D-CFBC-480E-B3CC-F049314A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4AE-5D72-492F-8647-9486B4C2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EE0-2710-4763-A186-3F2DF144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224-9ACD-43C8-BA1B-DBC0B2DC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4E7B-A3D7-48F5-A544-7CD8F954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0464-ECAA-4A14-B749-01D34D5F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DFA8-17C3-4F24-ABB5-7A17EC72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9F72-D06F-4F4E-9C6B-65B6889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858C-5997-43BD-A3C5-2ED83EAF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FE9B-AAD6-4270-A2F4-BE9D60FB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5274-777D-4ABB-893C-C6BDCB3F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687-045B-46B2-AE83-EB7CB9A7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D03B-2F35-4011-AC10-7A577C2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0278-C10D-43E2-84D0-18D91931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9EA5-6395-4043-954B-0E5E9E04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F4C7-FC3A-4835-9774-50E1720D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EA1D-719F-4167-94CB-F910FDAD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B3A-5A8A-48D5-8933-58C7C558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34A-BF0C-4844-8B86-C54EC7BB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374-1DA8-40B6-A547-369A2042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ECB-BBDD-4D3A-A4E1-257C28E7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EC0-733D-431E-8083-0E42D30E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FA3-A29B-49A7-B648-E09E6A1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577-F1D9-4308-97CC-D19D6B89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981D-C953-4C2C-A73D-963217489E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6A9D-266D-410B-9FBC-1D96FE1C5B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060640"/>
            <a:ext cx="6400800" cy="3240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Мастер-класс по теме:  «Использование элементов технологии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«Развитие критического мышления» на уроках географии»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0343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Учитель географии Милованова Ирина Александровн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еспублика Алтай,  ГС(К)ОУ «Специальная (коррекционная) общеобразовательная школа  интернат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VIII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вида Республики Алтай»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2008г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58200" cy="622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лгоритм написания синквейн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1. Существительное; тема, главная мыс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2. Прилагательные; два; качества этого слов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3. Глаголы; три; действия этого слов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4. Суждение из четырёх слов по первому слову, мыс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5. Существительное; синоним первому слову, вывод, заключени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68706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 Sans MS"/>
              </a:rPr>
              <a:t>ДРУЖБА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197000"/>
            <a:ext cx="68706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Верная, крепкая преданная, взаимная, сердечная, искренняя…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267920"/>
            <a:ext cx="687060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Объединяет, связывает, располагает, обнадёживает…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196640"/>
            <a:ext cx="68706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может любому в беде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Надёжная защита и опора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ддержит того, кому плохо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46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Товарищество, доверие, приятельство, опора, защита, фундамент…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50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Дружб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ерная, крепкая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Объединяет, располагает, обнадёживает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может в беде любому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Защита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8920" y="3284640"/>
            <a:ext cx="698508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Снег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ушистый, мягкий,                падает, кружится, искрится, тает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Мне нравится играть со снего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СНЕЖИН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icture 5" descr="j0299587"/>
          <p:cNvPicPr/>
          <p:nvPr/>
        </p:nvPicPr>
        <p:blipFill>
          <a:blip r:embed="rId1"/>
          <a:stretch/>
        </p:blipFill>
        <p:spPr>
          <a:xfrm>
            <a:off x="1476360" y="338040"/>
            <a:ext cx="2519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907640" y="4724280"/>
            <a:ext cx="61866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б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познаваемое, изменчив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вижется, течет куда-т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Хочется смотреть не отрываясь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есконечность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4" descr="zak-sin"/>
          <p:cNvPicPr/>
          <p:nvPr/>
        </p:nvPicPr>
        <p:blipFill>
          <a:blip r:embed="rId1"/>
          <a:stretch/>
        </p:blipFill>
        <p:spPr>
          <a:xfrm>
            <a:off x="250920" y="189000"/>
            <a:ext cx="6985080" cy="44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195640" y="4220640"/>
            <a:ext cx="540072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ченики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бавные, послушны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Шалят, учатся, болтаю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ывают минуты радости и печал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бят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4" descr="фото школа 023"/>
          <p:cNvPicPr/>
          <p:nvPr/>
        </p:nvPicPr>
        <p:blipFill>
          <a:blip r:embed="rId1"/>
          <a:stretch/>
        </p:blipFill>
        <p:spPr>
          <a:xfrm>
            <a:off x="250920" y="260280"/>
            <a:ext cx="53290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986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Критическое мышление-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это открытое мышление, не принимающее догм, развивающееся путем наложения новой информации на жизненный личный опыт. Это точка опоры, естественный способ взаимодействия с идеями и информаци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рок с элементами ТРКМПЧ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ема: «Портрет неизвестной страны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Вызов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доске иллюстра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звать, что изображено. Написать мини- сочинение «легенду» об этой неизвестной стране (5-7 минут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5508720" y="2349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380360" y="5157360"/>
            <a:ext cx="10015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Picture 6" descr="Китайская семья"/>
          <p:cNvPicPr/>
          <p:nvPr/>
        </p:nvPicPr>
        <p:blipFill>
          <a:blip r:embed="rId1"/>
          <a:stretch/>
        </p:blipFill>
        <p:spPr>
          <a:xfrm>
            <a:off x="0" y="0"/>
            <a:ext cx="3548160" cy="2660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Летающий змей"/>
          <p:cNvPicPr/>
          <p:nvPr/>
        </p:nvPicPr>
        <p:blipFill>
          <a:blip r:embed="rId2"/>
          <a:stretch/>
        </p:blipFill>
        <p:spPr>
          <a:xfrm>
            <a:off x="4067280" y="260280"/>
            <a:ext cx="3433680" cy="2289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Традиционное японское жилище"/>
          <p:cNvPicPr/>
          <p:nvPr/>
        </p:nvPicPr>
        <p:blipFill>
          <a:blip r:embed="rId3"/>
          <a:stretch/>
        </p:blipFill>
        <p:spPr>
          <a:xfrm>
            <a:off x="4140360" y="3141720"/>
            <a:ext cx="4314600" cy="287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Великая Китайская равнина"/>
          <p:cNvPicPr/>
          <p:nvPr/>
        </p:nvPicPr>
        <p:blipFill>
          <a:blip r:embed="rId4"/>
          <a:stretch/>
        </p:blipFill>
        <p:spPr>
          <a:xfrm>
            <a:off x="0" y="402588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Горный район Китая"/>
          <p:cNvPicPr/>
          <p:nvPr/>
        </p:nvPicPr>
        <p:blipFill>
          <a:blip r:embed="rId1"/>
          <a:stretch/>
        </p:blipFill>
        <p:spPr>
          <a:xfrm>
            <a:off x="0" y="509760"/>
            <a:ext cx="3132000" cy="207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Китайцы"/>
          <p:cNvPicPr/>
          <p:nvPr/>
        </p:nvPicPr>
        <p:blipFill>
          <a:blip r:embed="rId2"/>
          <a:stretch/>
        </p:blipFill>
        <p:spPr>
          <a:xfrm>
            <a:off x="4572000" y="3789360"/>
            <a:ext cx="3902040" cy="267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еликая Китайская стена"/>
          <p:cNvPicPr/>
          <p:nvPr/>
        </p:nvPicPr>
        <p:blipFill>
          <a:blip r:embed="rId3"/>
          <a:stretch/>
        </p:blipFill>
        <p:spPr>
          <a:xfrm>
            <a:off x="3348000" y="0"/>
            <a:ext cx="4386240" cy="292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Почерки китайского письма"/>
          <p:cNvPicPr/>
          <p:nvPr/>
        </p:nvPicPr>
        <p:blipFill>
          <a:blip r:embed="rId4"/>
          <a:stretch/>
        </p:blipFill>
        <p:spPr>
          <a:xfrm>
            <a:off x="324000" y="3284640"/>
            <a:ext cx="35938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фото школа 023"/>
          <p:cNvPicPr/>
          <p:nvPr/>
        </p:nvPicPr>
        <p:blipFill>
          <a:blip r:embed="rId1"/>
          <a:stretch/>
        </p:blipFill>
        <p:spPr>
          <a:xfrm>
            <a:off x="684360" y="549360"/>
            <a:ext cx="783900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 желанию зачитывают свои легенд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опрос: Кто-нибудь догадался с какой страной будем сегодня знакомиться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Осмысление содержани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нсерт (чтение с отметиной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еседа- «тонкие и толстые вопросы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Рефлекси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ласс делится на три группы: каждая готовит мини-проект «Визитная карточка страны»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Рис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Панд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Иероглиф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? Кто при написании легенды оказался ближе остальных к описанию настоящего Китая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фото школа 025"/>
          <p:cNvPicPr/>
          <p:nvPr/>
        </p:nvPicPr>
        <p:blipFill>
          <a:blip r:embed="rId1"/>
          <a:stretch/>
        </p:blipFill>
        <p:spPr>
          <a:xfrm>
            <a:off x="250920" y="550800"/>
            <a:ext cx="812628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Синквейн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КИТА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Загадочный, манящ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Зовет, чарует, завораживае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Огромное желание узнать побольш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Восто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5" descr="Представитель монголоидной расы"/>
          <p:cNvPicPr/>
          <p:nvPr/>
        </p:nvPicPr>
        <p:blipFill>
          <a:blip r:embed="rId1"/>
          <a:stretch/>
        </p:blipFill>
        <p:spPr>
          <a:xfrm>
            <a:off x="4500720" y="476280"/>
            <a:ext cx="390816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98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98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98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98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Результаты ТРКМПЧ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мышления, творческих способносте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в учащихся уверенности и понимания своих мнений и иде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ктивное участие в учебном процесс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мение с уважением выслушивать различные мнени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Структура технологи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стадия -Вызов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I</a:t>
            </a: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стадия – Осмысление содержания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II</a:t>
            </a: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стадия - Рефлексия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696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емы и стратегии технологии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ластеры (грозд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нсерт (чтение с отметиной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тение с остановко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ишбоун, мини- сочинени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блица «З-Х-У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йм- лайн, «тонкие и толстые» вопросы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инквейн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32000" y="1916280"/>
          <a:ext cx="6553080" cy="2404800"/>
        </p:xfrm>
        <a:graphic>
          <a:graphicData uri="http://schemas.openxmlformats.org/drawingml/2006/table">
            <a:tbl>
              <a:tblPr/>
              <a:tblGrid>
                <a:gridCol w="2805120"/>
                <a:gridCol w="1730160"/>
                <a:gridCol w="2017800"/>
              </a:tblGrid>
              <a:tr h="18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ХОЧУ 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3"/>
          <p:cNvSpPr/>
          <p:nvPr/>
        </p:nvSpPr>
        <p:spPr>
          <a:xfrm>
            <a:off x="684360" y="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ТАБЛИЦА «З-Х-У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«ЗНАЮ-ХОЧУ ЗНАТЬ- УЗНАЛ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685800" y="3268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685800" y="152280"/>
            <a:ext cx="7696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901800" y="3682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79640" y="4581360"/>
          <a:ext cx="6264360" cy="1630440"/>
        </p:xfrm>
        <a:graphic>
          <a:graphicData uri="http://schemas.openxmlformats.org/drawingml/2006/table">
            <a:tbl>
              <a:tblPr/>
              <a:tblGrid>
                <a:gridCol w="3130560"/>
                <a:gridCol w="3133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тегории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Источники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Основные правила работы с приемом «З-Х-У»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спомните, что вам известно по изучаемому вопросу, запишите эти сведения в первой графе таблиц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ечислите источники информаци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ставьте вопросы к изучаемой теме до ее изучения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ветьте на вопросы, запишите ответы в 3-ю графу таблиц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?  «Тонкие и 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толстые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вопросы»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5" descr="j0299125"/>
          <p:cNvPicPr/>
          <p:nvPr/>
        </p:nvPicPr>
        <p:blipFill>
          <a:blip r:embed="rId1"/>
          <a:stretch/>
        </p:blipFill>
        <p:spPr>
          <a:xfrm>
            <a:off x="7596360" y="4653000"/>
            <a:ext cx="1099800" cy="180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11280" y="1844640"/>
          <a:ext cx="6840360" cy="4224240"/>
        </p:xfrm>
        <a:graphic>
          <a:graphicData uri="http://schemas.openxmlformats.org/drawingml/2006/table">
            <a:tbl>
              <a:tblPr/>
              <a:tblGrid>
                <a:gridCol w="3171600"/>
                <a:gridCol w="3668760"/>
              </a:tblGrid>
              <a:tr h="18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нкие 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лстые 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ожет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к зва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Объясните, почему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то, ес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чему вы считаете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ини- сочинение (краткое изложение темы, письмо от имени изучаемого объекта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йм-лайн. Линия времени, на которую наносятся все события, факты, имеющие цикличност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тение с остановкой- условное название стратегии по организации чтения текста, с использованием различных типов вопросов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3933360"/>
            <a:ext cx="687060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СИНКВЕЙН-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художественная</a:t>
            </a: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форма</a:t>
            </a: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письменной рефлексии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3:54:35Z</dcterms:created>
  <dc:creator>User</dc:creator>
  <dc:description/>
  <dc:language>en-US</dc:language>
  <cp:lastModifiedBy>Admin</cp:lastModifiedBy>
  <dcterms:modified xsi:type="dcterms:W3CDTF">2011-09-13T11:29:48Z</dcterms:modified>
  <cp:revision>33</cp:revision>
  <dc:subject/>
  <dc:title>Мастер-класс по теме:  «Использование элементов технологии  «Развитие критического мышления» на уроке литератур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e0000000000010243100207f6000400038000</vt:lpwstr>
  </property>
</Properties>
</file>