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857-C65C-4292-BFCA-571A9DE8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C6F-666F-4307-B474-85B358FA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8A6-0DC3-43FD-9FBE-5608CBBA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C60-D657-4DB2-88EE-D5FB54CE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E497-C569-433C-929B-2454DFE2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77A5-C3C4-4ABD-946C-85004A2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EA1F-0187-46DC-841B-AFB3676E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2511-6367-4F65-98AF-D04CFFB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E4C-E4E8-4193-B392-B775E007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EF4-65A4-44AB-BC4A-355ACC6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0A3F-5497-4586-B65F-BF7EE89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771-28CF-405F-9C17-186DA85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78C-0FD4-4391-8528-5C42744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5679-A0FE-4931-86BB-7A17BA0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588B-25CD-4C96-89D0-26AD941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A70-C2C9-4677-892C-5EF6205D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DC6-237D-4F72-952A-32F81F29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8F26-A265-43D8-AAFD-6729A652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6402-5392-4111-9D56-FB278B1B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F713-6EF2-4946-BE3C-4E4C18F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FA21-18FC-4BF2-A57E-003DA45F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A212-917E-47B6-9D22-35E3E57C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3FB-D97A-4C96-843F-A621C2FB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A064-F08A-4520-888D-7AB6DF71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7FFB-A340-44DF-A491-84E1643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0ED7-8455-41AE-B30E-C2B64FD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4B10-49C2-4B56-BBAE-5EE69D6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38FF-B7C7-4F23-BA20-0A28E1F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5750-9310-4BEF-B388-32B0DCC7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168D-3A0A-4F07-BA37-6FD8C80B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66DC-7986-48B7-B698-244E5B9E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ED44-F580-4011-B422-4C3EFF2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2B4C-5FD2-435E-A135-37B473D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D8C-2472-4FDB-B157-87080EB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E31D-5AB8-447A-8985-6FC38DB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E0BB-445E-46F9-BFF1-14305AA1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6449-D85F-4C11-A98F-5BBB608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AF05-28AC-4D0D-8A03-F4A8A9B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8180-8D50-43DA-B910-F0C0343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DC4A-ECA7-43B0-A108-009137B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337E-21C1-4021-A54E-B46D49A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8BC4-145B-48D8-A845-C519BD9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9627-4BEC-483F-904C-2341C89A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5B1-8806-488E-95DA-344053E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0F9-AAD5-4471-93B9-1FCA8D8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492-0FCE-4C6B-810C-45ADC21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E90-8273-445E-BBD7-7B948495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007-CF11-4325-855B-3DEC22E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640-F19C-4AAA-B718-84822226ED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567D-75D6-44CE-84DF-8EA5D074F72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5AB-4799-4F5A-BDE3-9DD9D62CFC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DBB-6C35-4A25-8DFE-6B6BCDC529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182520" y="2408400"/>
            <a:ext cx="8712360" cy="285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imagesCA0LKS11.jpg"/>
          <p:cNvPicPr/>
          <p:nvPr/>
        </p:nvPicPr>
        <p:blipFill>
          <a:blip r:embed="rId2"/>
          <a:stretch/>
        </p:blipFill>
        <p:spPr>
          <a:xfrm>
            <a:off x="324000" y="18900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Оценка: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8-17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6-14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3-9 правильных ответов –</a:t>
            </a:r>
            <a:r>
              <a:rPr b="0" lang="ru-RU" sz="4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нее 9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2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какие вопросы мы ответим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Зачем нужен масштаб</a:t>
            </a:r>
            <a:r>
              <a:rPr b="1" i="1" lang="en-US" sz="4100" spc="-1" strike="noStrike">
                <a:solidFill>
                  <a:srgbClr val="0b5395"/>
                </a:solidFill>
                <a:latin typeface="Constantia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числе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именова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 линей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458100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onstantia"/>
              </a:rPr>
              <a:t>Масштаб</a:t>
            </a:r>
            <a:r>
              <a:rPr b="0" lang="ru-RU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i="1" lang="ru-RU" sz="3000" spc="-1" strike="noStrike">
                <a:solidFill>
                  <a:srgbClr val="0b5395"/>
                </a:solidFill>
                <a:latin typeface="Constantia"/>
              </a:rPr>
              <a:t>показывает, во сколько раз каждая линия, нанесенная на карту, уменьшена по отношению к её действительным размерам на местности</a:t>
            </a:r>
            <a:r>
              <a:rPr b="1" lang="ru-RU" sz="3000" spc="-1" strike="noStrike">
                <a:solidFill>
                  <a:srgbClr val="0b5395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Documents and Settings\VS\Рабочий стол\г2.jpg"/>
          <p:cNvPicPr/>
          <p:nvPr/>
        </p:nvPicPr>
        <p:blipFill>
          <a:blip r:embed="rId1"/>
          <a:stretch/>
        </p:blipFill>
        <p:spPr>
          <a:xfrm>
            <a:off x="2627280" y="189000"/>
            <a:ext cx="37450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32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1:100</a:t>
            </a:r>
            <a:br>
              <a:rPr sz="8600"/>
            </a:br>
            <a:r>
              <a:rPr b="1" lang="ru-RU" sz="6500" spc="-1" strike="noStrike">
                <a:solidFill>
                  <a:srgbClr val="ff0000"/>
                </a:solidFill>
                <a:latin typeface="Calibri"/>
              </a:rPr>
              <a:t>( 1 см плана заменяет 100 см местности)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42206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Это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численный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масштаб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числе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В 1 сантиметре – 10 метров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3284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Масштаб, записанный в таком виде называется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ctr">
              <a:lnSpc>
                <a:spcPct val="8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Constantia"/>
              </a:rPr>
              <a:t>  </a:t>
            </a:r>
            <a:r>
              <a:rPr b="1" i="1" lang="ru-RU" sz="6200" spc="-1" strike="noStrike">
                <a:solidFill>
                  <a:srgbClr val="00b0f0"/>
                </a:solidFill>
                <a:latin typeface="Constantia"/>
              </a:rPr>
              <a:t>именованный масштаб</a:t>
            </a:r>
            <a:endParaRPr b="0" lang="en-US" sz="6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именова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285264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b0f0"/>
                </a:solidFill>
                <a:latin typeface="Constantia"/>
              </a:rPr>
              <a:t>  </a:t>
            </a:r>
            <a:r>
              <a:rPr b="0" i="1" lang="ru-RU" sz="5600" spc="-1" strike="noStrike">
                <a:solidFill>
                  <a:srgbClr val="ff0000"/>
                </a:solidFill>
                <a:latin typeface="Constantia"/>
              </a:rPr>
              <a:t>Линейный масштаб</a:t>
            </a:r>
            <a:r>
              <a:rPr b="0" lang="ru-RU" sz="5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115964"/>
                </a:solidFill>
                <a:latin typeface="Constantia"/>
              </a:rPr>
              <a:t>– 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он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представляет собой линию, разделенную на равные отрез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  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Линейный масштаб позволяет измерять расстояния на плане при помощи циркуля – измерителя или полоски бумаги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 или линейки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C:\Documents and Settings\VS\Рабочий стол\г4.jpg"/>
          <p:cNvPicPr/>
          <p:nvPr/>
        </p:nvPicPr>
        <p:blipFill>
          <a:blip r:embed="rId1"/>
          <a:stretch/>
        </p:blipFill>
        <p:spPr>
          <a:xfrm>
            <a:off x="468360" y="260280"/>
            <a:ext cx="728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м:</a:t>
            </a:r>
            <a:br>
              <a:rPr sz="45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а) расстояние от отдельно стоящего дерева до сарая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б) расстояние от пруда до начала оврага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в) длину ручья, впадающего в реку Нара.</a:t>
            </a:r>
            <a:br>
              <a:rPr sz="25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C:\Documents and Settings\VS\Рабочий стол\г3.jpg"/>
          <p:cNvPicPr/>
          <p:nvPr/>
        </p:nvPicPr>
        <p:blipFill>
          <a:blip r:embed="rId1"/>
          <a:stretch/>
        </p:blipFill>
        <p:spPr>
          <a:xfrm>
            <a:off x="2771640" y="2468520"/>
            <a:ext cx="3454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1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именованный масштаб в числе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200 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7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Цель урок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Объяснить понятие «масштаб»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Узнать какие виды масштаба существуют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Понять, зачем нужен масштаб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2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енный масштаб в именова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30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34800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2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3 к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75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см – 50 км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Читать параграф №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одготовить сообщение о компас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Вспомним</a:t>
            </a: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1" descr=""/>
          <p:cNvPicPr/>
          <p:nvPr/>
        </p:nvPicPr>
        <p:blipFill>
          <a:blip r:embed="rId1"/>
          <a:stretch/>
        </p:blipFill>
        <p:spPr>
          <a:xfrm>
            <a:off x="249120" y="1809720"/>
            <a:ext cx="8444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Что обозначается этими знакам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3" descr="14[1].gif"/>
          <p:cNvPicPr/>
          <p:nvPr/>
        </p:nvPicPr>
        <p:blipFill>
          <a:blip r:embed="rId1"/>
          <a:stretch/>
        </p:blipFill>
        <p:spPr>
          <a:xfrm>
            <a:off x="900000" y="1052640"/>
            <a:ext cx="1503360" cy="1530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18[1].gif"/>
          <p:cNvPicPr/>
          <p:nvPr/>
        </p:nvPicPr>
        <p:blipFill>
          <a:blip r:embed="rId2"/>
          <a:stretch/>
        </p:blipFill>
        <p:spPr>
          <a:xfrm>
            <a:off x="1042920" y="3957480"/>
            <a:ext cx="1230480" cy="14986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20[1].gif"/>
          <p:cNvPicPr/>
          <p:nvPr/>
        </p:nvPicPr>
        <p:blipFill>
          <a:blip r:embed="rId3"/>
          <a:stretch/>
        </p:blipFill>
        <p:spPr>
          <a:xfrm>
            <a:off x="3924360" y="1197000"/>
            <a:ext cx="1552680" cy="13730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35[1].gif"/>
          <p:cNvPicPr/>
          <p:nvPr/>
        </p:nvPicPr>
        <p:blipFill>
          <a:blip r:embed="rId4"/>
          <a:stretch/>
        </p:blipFill>
        <p:spPr>
          <a:xfrm>
            <a:off x="3924360" y="4076640"/>
            <a:ext cx="1571400" cy="1058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37[1].gif"/>
          <p:cNvPicPr/>
          <p:nvPr/>
        </p:nvPicPr>
        <p:blipFill>
          <a:blip r:embed="rId5"/>
          <a:stretch/>
        </p:blipFill>
        <p:spPr>
          <a:xfrm>
            <a:off x="6804000" y="1628640"/>
            <a:ext cx="2071800" cy="409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8" descr="52[1].gif"/>
          <p:cNvPicPr/>
          <p:nvPr/>
        </p:nvPicPr>
        <p:blipFill>
          <a:blip r:embed="rId6"/>
          <a:stretch/>
        </p:blipFill>
        <p:spPr>
          <a:xfrm>
            <a:off x="7308720" y="4437000"/>
            <a:ext cx="1428840" cy="390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148068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7632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73846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 flipH="1">
            <a:off x="1547640" y="5589720"/>
            <a:ext cx="4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7632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760068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53[1].gif"/>
          <p:cNvPicPr/>
          <p:nvPr/>
        </p:nvPicPr>
        <p:blipFill>
          <a:blip r:embed="rId1"/>
          <a:stretch/>
        </p:blipFill>
        <p:spPr>
          <a:xfrm>
            <a:off x="755640" y="1268280"/>
            <a:ext cx="1995480" cy="5446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7[1].gif"/>
          <p:cNvPicPr/>
          <p:nvPr/>
        </p:nvPicPr>
        <p:blipFill>
          <a:blip r:embed="rId2"/>
          <a:stretch/>
        </p:blipFill>
        <p:spPr>
          <a:xfrm>
            <a:off x="3708360" y="907920"/>
            <a:ext cx="2158920" cy="1125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61[1].gif"/>
          <p:cNvPicPr/>
          <p:nvPr/>
        </p:nvPicPr>
        <p:blipFill>
          <a:blip r:embed="rId3"/>
          <a:stretch/>
        </p:blipFill>
        <p:spPr>
          <a:xfrm>
            <a:off x="395280" y="3429000"/>
            <a:ext cx="2577960" cy="2124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66[1].gif"/>
          <p:cNvPicPr/>
          <p:nvPr/>
        </p:nvPicPr>
        <p:blipFill>
          <a:blip r:embed="rId4"/>
          <a:stretch/>
        </p:blipFill>
        <p:spPr>
          <a:xfrm>
            <a:off x="3708360" y="3660840"/>
            <a:ext cx="2592360" cy="1542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72[1].gif"/>
          <p:cNvPicPr/>
          <p:nvPr/>
        </p:nvPicPr>
        <p:blipFill>
          <a:blip r:embed="rId5"/>
          <a:stretch/>
        </p:blipFill>
        <p:spPr>
          <a:xfrm>
            <a:off x="7667640" y="105264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73[1].gif"/>
          <p:cNvPicPr/>
          <p:nvPr/>
        </p:nvPicPr>
        <p:blipFill>
          <a:blip r:embed="rId6"/>
          <a:stretch/>
        </p:blipFill>
        <p:spPr>
          <a:xfrm>
            <a:off x="7667640" y="3789360"/>
            <a:ext cx="1062000" cy="1165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190160" y="20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464760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788832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0486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778280" y="5661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7890120" y="558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3" descr="76[1].gif"/>
          <p:cNvPicPr/>
          <p:nvPr/>
        </p:nvPicPr>
        <p:blipFill>
          <a:blip r:embed="rId1"/>
          <a:stretch/>
        </p:blipFill>
        <p:spPr>
          <a:xfrm>
            <a:off x="179280" y="1285920"/>
            <a:ext cx="2008440" cy="13888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78[1].gif"/>
          <p:cNvPicPr/>
          <p:nvPr/>
        </p:nvPicPr>
        <p:blipFill>
          <a:blip r:embed="rId2"/>
          <a:stretch/>
        </p:blipFill>
        <p:spPr>
          <a:xfrm>
            <a:off x="3276720" y="1484280"/>
            <a:ext cx="1761840" cy="1000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87[1].gif"/>
          <p:cNvPicPr/>
          <p:nvPr/>
        </p:nvPicPr>
        <p:blipFill>
          <a:blip r:embed="rId3"/>
          <a:stretch/>
        </p:blipFill>
        <p:spPr>
          <a:xfrm>
            <a:off x="684360" y="4292640"/>
            <a:ext cx="1739880" cy="696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1[1].gif"/>
          <p:cNvPicPr/>
          <p:nvPr/>
        </p:nvPicPr>
        <p:blipFill>
          <a:blip r:embed="rId4"/>
          <a:stretch/>
        </p:blipFill>
        <p:spPr>
          <a:xfrm>
            <a:off x="3492360" y="4098960"/>
            <a:ext cx="1771920" cy="9097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8" descr="93[1].gif"/>
          <p:cNvPicPr/>
          <p:nvPr/>
        </p:nvPicPr>
        <p:blipFill>
          <a:blip r:embed="rId5"/>
          <a:stretch/>
        </p:blipFill>
        <p:spPr>
          <a:xfrm>
            <a:off x="6804000" y="1486080"/>
            <a:ext cx="1676520" cy="86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95[1].gif"/>
          <p:cNvPicPr/>
          <p:nvPr/>
        </p:nvPicPr>
        <p:blipFill>
          <a:blip r:embed="rId6"/>
          <a:stretch/>
        </p:blipFill>
        <p:spPr>
          <a:xfrm>
            <a:off x="6875640" y="4005360"/>
            <a:ext cx="1857240" cy="10494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83088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92796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7457400" y="2852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905040" y="5373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400068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767340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электростанц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отдельно стоящее дерев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линия электропередач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ветряная мельниц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яма глубиной 5 метр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грунтовая (проселочная дорог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полевая (лесная дорога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рек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колодец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– мос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озер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– ручей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 отметка высо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- овраг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фруктовый сад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здан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колючие кустарники (заросли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-  лу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22:09Z</dcterms:created>
  <dc:creator>www.PHILka.RU</dc:creator>
  <dc:description/>
  <dc:language>en-US</dc:language>
  <cp:lastModifiedBy>XTreme</cp:lastModifiedBy>
  <dcterms:modified xsi:type="dcterms:W3CDTF">2010-09-27T19:41:22Z</dcterms:modified>
  <cp:revision>45</cp:revision>
  <dc:subject/>
  <dc:title>М А С Ш Т А Б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60000000000010261200207f7000400038000</vt:lpwstr>
  </property>
</Properties>
</file>