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878-0C99-4383-A862-0DED3EE9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CAC-93CC-4D13-97C2-8E12055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013-A785-4D2E-A5A1-5F738F58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C7D-3C71-4BD4-B3BF-ED256341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CD2A-B4C7-4079-8C1C-F617AC0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A7E3-0B85-4444-A032-DBA2A36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9A5A-7995-4837-916C-3FCF2C6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0509-7827-4FC9-88A1-8D8FAA3B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2CDF-7862-498E-91BD-EC3546C9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A9D-E6D5-46FA-9455-E3D6CEA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416-324D-4D0B-A6F6-5B72EAA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0F8-A874-4F66-B5EF-0F32FE7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B45-8BDF-492E-AEFE-3FBCFF9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CA68-1F36-4954-B8B0-E4247F9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850-9D54-45CC-8923-C5629ED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8F8-982C-470D-B12D-1497A9C4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776C-5F34-46D2-9BDF-2F9D78BB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7C50-6BB5-49B5-92F7-7BD51518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A53B-E764-471D-B559-11AB5B61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DB27-B9D0-408E-9F6B-9FF4337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796D-0C29-4CA8-9E9C-B244000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48A5-C5B9-4F04-B821-F867DF71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300-FC87-4DF7-A4DC-30BC0D1E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5F58-92D2-4281-BDFF-294C0B84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A1BA-9EF8-45E4-91B3-42E8E04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C805-90F0-4D70-A6D7-97EE317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B654-532E-4BF6-98D6-2A97AB4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A0A8-FD15-448E-9FA9-60A3C1FD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C7A5-37B4-4DEC-9137-16DCDB30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D895-0B6D-4F0D-80D9-1278F4E5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41E2-A78E-4D8D-BAA4-6D3D5E3A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E014-DE01-48E1-ABBF-CFA6F35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7FE0-B262-404D-9442-564C6730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DBE-2F48-496F-928A-EDD6390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BD94-1949-4A60-B9E0-19343E75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6860-4258-4085-869A-C0732F6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5E96-1E6B-4915-A731-D8F7BA2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E7B2-94B1-4D26-9C7F-36FA4B0B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055D-63D3-432F-82C2-F7D3DBE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1580-1C5B-4A7A-8131-280EC28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D00E-5D12-47C9-9EC0-E8E63CD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CBDE-5F62-43F1-94DF-13C4DDCE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B43B-E93E-46E0-9593-735FFDB0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6E6-F7D5-41D3-BFEE-C310D1B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3B1-C4B7-4C91-B96B-27B2B436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CD4-4E83-470E-ABBC-10F0070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043-4860-4553-B088-F7EFD00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B6F-6D99-49C6-A87C-EBEE175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417E-163A-4ECA-B490-5C6CDCC306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7EF-E84E-4CDD-B654-ECF2EF2F47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37F-639D-4D66-B21D-A35AD3490CE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790-C7C5-41EE-8DA5-D631DB3E84F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182520" y="2408400"/>
            <a:ext cx="8712360" cy="285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imagesCA0LKS11.jpg"/>
          <p:cNvPicPr/>
          <p:nvPr/>
        </p:nvPicPr>
        <p:blipFill>
          <a:blip r:embed="rId2"/>
          <a:stretch/>
        </p:blipFill>
        <p:spPr>
          <a:xfrm>
            <a:off x="324000" y="18900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Оценка: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8-17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6-14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3-9 правильных ответов –</a:t>
            </a:r>
            <a:r>
              <a:rPr b="0" lang="ru-RU" sz="4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нее 9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2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какие вопросы мы ответим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Зачем нужен масштаб</a:t>
            </a:r>
            <a:r>
              <a:rPr b="1" i="1" lang="en-US" sz="4100" spc="-1" strike="noStrike">
                <a:solidFill>
                  <a:srgbClr val="0b5395"/>
                </a:solidFill>
                <a:latin typeface="Constantia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числе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именова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 линей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458100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onstantia"/>
              </a:rPr>
              <a:t>Масштаб</a:t>
            </a:r>
            <a:r>
              <a:rPr b="0" lang="ru-RU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i="1" lang="ru-RU" sz="3000" spc="-1" strike="noStrike">
                <a:solidFill>
                  <a:srgbClr val="0b5395"/>
                </a:solidFill>
                <a:latin typeface="Constantia"/>
              </a:rPr>
              <a:t>показывает, во сколько раз каждая линия, нанесенная на карту, уменьшена по отношению к её действительным размерам на местности</a:t>
            </a:r>
            <a:r>
              <a:rPr b="1" lang="ru-RU" sz="3000" spc="-1" strike="noStrike">
                <a:solidFill>
                  <a:srgbClr val="0b5395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Documents and Settings\VS\Рабочий стол\г2.jpg"/>
          <p:cNvPicPr/>
          <p:nvPr/>
        </p:nvPicPr>
        <p:blipFill>
          <a:blip r:embed="rId1"/>
          <a:stretch/>
        </p:blipFill>
        <p:spPr>
          <a:xfrm>
            <a:off x="2627280" y="189000"/>
            <a:ext cx="37450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32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1:100</a:t>
            </a:r>
            <a:br>
              <a:rPr sz="8600"/>
            </a:br>
            <a:r>
              <a:rPr b="1" lang="ru-RU" sz="6500" spc="-1" strike="noStrike">
                <a:solidFill>
                  <a:srgbClr val="ff0000"/>
                </a:solidFill>
                <a:latin typeface="Calibri"/>
              </a:rPr>
              <a:t>( 1 см плана заменяет 100 см местности)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42206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Это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численный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масштаб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числе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В 1 сантиметре – 10 метров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3284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Масштаб, записанный в таком виде называется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ctr">
              <a:lnSpc>
                <a:spcPct val="8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Constantia"/>
              </a:rPr>
              <a:t>  </a:t>
            </a:r>
            <a:r>
              <a:rPr b="1" i="1" lang="ru-RU" sz="6200" spc="-1" strike="noStrike">
                <a:solidFill>
                  <a:srgbClr val="00b0f0"/>
                </a:solidFill>
                <a:latin typeface="Constantia"/>
              </a:rPr>
              <a:t>именованный масштаб</a:t>
            </a:r>
            <a:endParaRPr b="0" lang="en-US" sz="6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именова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285264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b0f0"/>
                </a:solidFill>
                <a:latin typeface="Constantia"/>
              </a:rPr>
              <a:t>  </a:t>
            </a:r>
            <a:r>
              <a:rPr b="0" i="1" lang="ru-RU" sz="5600" spc="-1" strike="noStrike">
                <a:solidFill>
                  <a:srgbClr val="ff0000"/>
                </a:solidFill>
                <a:latin typeface="Constantia"/>
              </a:rPr>
              <a:t>Линейный масштаб</a:t>
            </a:r>
            <a:r>
              <a:rPr b="0" lang="ru-RU" sz="5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115964"/>
                </a:solidFill>
                <a:latin typeface="Constantia"/>
              </a:rPr>
              <a:t>– 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он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представляет собой линию, разделенную на равные отрез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  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Линейный масштаб позволяет измерять расстояния на плане при помощи циркуля – измерителя или полоски бумаги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 или линейки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C:\Documents and Settings\VS\Рабочий стол\г4.jpg"/>
          <p:cNvPicPr/>
          <p:nvPr/>
        </p:nvPicPr>
        <p:blipFill>
          <a:blip r:embed="rId1"/>
          <a:stretch/>
        </p:blipFill>
        <p:spPr>
          <a:xfrm>
            <a:off x="468360" y="260280"/>
            <a:ext cx="728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м:</a:t>
            </a:r>
            <a:br>
              <a:rPr sz="45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а) расстояние от отдельно стоящего дерева до сарая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б) расстояние от пруда до начала оврага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в) длину ручья, впадающего в реку Нара.</a:t>
            </a:r>
            <a:br>
              <a:rPr sz="25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C:\Documents and Settings\VS\Рабочий стол\г3.jpg"/>
          <p:cNvPicPr/>
          <p:nvPr/>
        </p:nvPicPr>
        <p:blipFill>
          <a:blip r:embed="rId1"/>
          <a:stretch/>
        </p:blipFill>
        <p:spPr>
          <a:xfrm>
            <a:off x="2771640" y="2468520"/>
            <a:ext cx="3454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1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именованный масштаб в числе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200 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7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Цель урок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Объяснить понятие «масштаб»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Узнать какие виды масштаба существуют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Понять, зачем нужен масштаб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2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енный масштаб в именова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30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34800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2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3 к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75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см – 50 км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Читать параграф №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одготовить сообщение о компас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Вспомним</a:t>
            </a: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1" descr=""/>
          <p:cNvPicPr/>
          <p:nvPr/>
        </p:nvPicPr>
        <p:blipFill>
          <a:blip r:embed="rId1"/>
          <a:stretch/>
        </p:blipFill>
        <p:spPr>
          <a:xfrm>
            <a:off x="249120" y="1809720"/>
            <a:ext cx="8444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Что обозначается этими знакам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3" descr="14[1].gif"/>
          <p:cNvPicPr/>
          <p:nvPr/>
        </p:nvPicPr>
        <p:blipFill>
          <a:blip r:embed="rId1"/>
          <a:stretch/>
        </p:blipFill>
        <p:spPr>
          <a:xfrm>
            <a:off x="900000" y="1052640"/>
            <a:ext cx="1503360" cy="1530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18[1].gif"/>
          <p:cNvPicPr/>
          <p:nvPr/>
        </p:nvPicPr>
        <p:blipFill>
          <a:blip r:embed="rId2"/>
          <a:stretch/>
        </p:blipFill>
        <p:spPr>
          <a:xfrm>
            <a:off x="1042920" y="3957480"/>
            <a:ext cx="1230480" cy="14986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20[1].gif"/>
          <p:cNvPicPr/>
          <p:nvPr/>
        </p:nvPicPr>
        <p:blipFill>
          <a:blip r:embed="rId3"/>
          <a:stretch/>
        </p:blipFill>
        <p:spPr>
          <a:xfrm>
            <a:off x="3924360" y="1197000"/>
            <a:ext cx="1552680" cy="13730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35[1].gif"/>
          <p:cNvPicPr/>
          <p:nvPr/>
        </p:nvPicPr>
        <p:blipFill>
          <a:blip r:embed="rId4"/>
          <a:stretch/>
        </p:blipFill>
        <p:spPr>
          <a:xfrm>
            <a:off x="3924360" y="4076640"/>
            <a:ext cx="1571400" cy="1058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37[1].gif"/>
          <p:cNvPicPr/>
          <p:nvPr/>
        </p:nvPicPr>
        <p:blipFill>
          <a:blip r:embed="rId5"/>
          <a:stretch/>
        </p:blipFill>
        <p:spPr>
          <a:xfrm>
            <a:off x="6804000" y="1628640"/>
            <a:ext cx="2071800" cy="409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8" descr="52[1].gif"/>
          <p:cNvPicPr/>
          <p:nvPr/>
        </p:nvPicPr>
        <p:blipFill>
          <a:blip r:embed="rId6"/>
          <a:stretch/>
        </p:blipFill>
        <p:spPr>
          <a:xfrm>
            <a:off x="7308720" y="4437000"/>
            <a:ext cx="1428840" cy="390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148068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7632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73846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 flipH="1">
            <a:off x="1547640" y="5589720"/>
            <a:ext cx="4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7632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760068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53[1].gif"/>
          <p:cNvPicPr/>
          <p:nvPr/>
        </p:nvPicPr>
        <p:blipFill>
          <a:blip r:embed="rId1"/>
          <a:stretch/>
        </p:blipFill>
        <p:spPr>
          <a:xfrm>
            <a:off x="755640" y="1268280"/>
            <a:ext cx="1995480" cy="5446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7[1].gif"/>
          <p:cNvPicPr/>
          <p:nvPr/>
        </p:nvPicPr>
        <p:blipFill>
          <a:blip r:embed="rId2"/>
          <a:stretch/>
        </p:blipFill>
        <p:spPr>
          <a:xfrm>
            <a:off x="3708360" y="907920"/>
            <a:ext cx="2158920" cy="1125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61[1].gif"/>
          <p:cNvPicPr/>
          <p:nvPr/>
        </p:nvPicPr>
        <p:blipFill>
          <a:blip r:embed="rId3"/>
          <a:stretch/>
        </p:blipFill>
        <p:spPr>
          <a:xfrm>
            <a:off x="395280" y="3429000"/>
            <a:ext cx="2577960" cy="2124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66[1].gif"/>
          <p:cNvPicPr/>
          <p:nvPr/>
        </p:nvPicPr>
        <p:blipFill>
          <a:blip r:embed="rId4"/>
          <a:stretch/>
        </p:blipFill>
        <p:spPr>
          <a:xfrm>
            <a:off x="3708360" y="3660840"/>
            <a:ext cx="2592360" cy="1542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72[1].gif"/>
          <p:cNvPicPr/>
          <p:nvPr/>
        </p:nvPicPr>
        <p:blipFill>
          <a:blip r:embed="rId5"/>
          <a:stretch/>
        </p:blipFill>
        <p:spPr>
          <a:xfrm>
            <a:off x="7667640" y="105264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73[1].gif"/>
          <p:cNvPicPr/>
          <p:nvPr/>
        </p:nvPicPr>
        <p:blipFill>
          <a:blip r:embed="rId6"/>
          <a:stretch/>
        </p:blipFill>
        <p:spPr>
          <a:xfrm>
            <a:off x="7667640" y="3789360"/>
            <a:ext cx="1062000" cy="1165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190160" y="20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464760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788832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0486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778280" y="5661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7890120" y="558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3" descr="76[1].gif"/>
          <p:cNvPicPr/>
          <p:nvPr/>
        </p:nvPicPr>
        <p:blipFill>
          <a:blip r:embed="rId1"/>
          <a:stretch/>
        </p:blipFill>
        <p:spPr>
          <a:xfrm>
            <a:off x="179280" y="1285920"/>
            <a:ext cx="2008440" cy="13888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78[1].gif"/>
          <p:cNvPicPr/>
          <p:nvPr/>
        </p:nvPicPr>
        <p:blipFill>
          <a:blip r:embed="rId2"/>
          <a:stretch/>
        </p:blipFill>
        <p:spPr>
          <a:xfrm>
            <a:off x="3276720" y="1484280"/>
            <a:ext cx="1761840" cy="1000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87[1].gif"/>
          <p:cNvPicPr/>
          <p:nvPr/>
        </p:nvPicPr>
        <p:blipFill>
          <a:blip r:embed="rId3"/>
          <a:stretch/>
        </p:blipFill>
        <p:spPr>
          <a:xfrm>
            <a:off x="684360" y="4292640"/>
            <a:ext cx="1739880" cy="696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1[1].gif"/>
          <p:cNvPicPr/>
          <p:nvPr/>
        </p:nvPicPr>
        <p:blipFill>
          <a:blip r:embed="rId4"/>
          <a:stretch/>
        </p:blipFill>
        <p:spPr>
          <a:xfrm>
            <a:off x="3492360" y="4098960"/>
            <a:ext cx="1771920" cy="9097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8" descr="93[1].gif"/>
          <p:cNvPicPr/>
          <p:nvPr/>
        </p:nvPicPr>
        <p:blipFill>
          <a:blip r:embed="rId5"/>
          <a:stretch/>
        </p:blipFill>
        <p:spPr>
          <a:xfrm>
            <a:off x="6804000" y="1486080"/>
            <a:ext cx="1676520" cy="86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95[1].gif"/>
          <p:cNvPicPr/>
          <p:nvPr/>
        </p:nvPicPr>
        <p:blipFill>
          <a:blip r:embed="rId6"/>
          <a:stretch/>
        </p:blipFill>
        <p:spPr>
          <a:xfrm>
            <a:off x="6875640" y="4005360"/>
            <a:ext cx="1857240" cy="10494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83088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92796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7457400" y="2852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905040" y="5373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400068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767340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электростанц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отдельно стоящее дерев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линия электропередач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ветряная мельниц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яма глубиной 5 метр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грунтовая (проселочная дорог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полевая (лесная дорога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рек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колодец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– мос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озер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– ручей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 отметка высо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- овраг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фруктовый сад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здан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колючие кустарники (заросли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-  лу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22:09Z</dcterms:created>
  <dc:creator>www.PHILka.RU</dc:creator>
  <dc:description/>
  <dc:language>en-US</dc:language>
  <cp:lastModifiedBy>XTreme</cp:lastModifiedBy>
  <dcterms:modified xsi:type="dcterms:W3CDTF">2010-09-27T19:41:22Z</dcterms:modified>
  <cp:revision>45</cp:revision>
  <dc:subject/>
  <dc:title>М А С Ш Т А Б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60000000000010261200207f7000400038000</vt:lpwstr>
  </property>
</Properties>
</file>