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635-E710-41B0-94FB-1D77ECE8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E46-06C9-4C25-95ED-952748A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3EE-31EA-4D1D-AD00-243CC39F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A2-DCE8-4A6A-940B-636B307C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415-3E59-42DF-8655-DE4DC31E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80C-709C-4D53-8369-298420AB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9264-A773-407C-8807-D0A0660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D30-C224-4887-91E7-6411607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BE7-A01B-42EF-BF88-CDD7BB4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3E17-7AF5-4071-A6E4-794B98BD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77E3-B5BB-4BF5-82F7-83C3E9A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C16-22FC-42CA-B192-ABEC44C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8DC-BE00-43E5-912B-409E3A7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B7E-22EB-4E89-A319-14FC6525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EC45-3BFE-4102-BBF9-F900C80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47D-5A20-4EB9-870E-F5EA65D7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3FD-472C-42B0-B4CE-A26139D6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7741-4EE0-4568-A161-4D14327D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A5BB-7B60-4E80-9CFC-396CD1FC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2AD6-16BB-425A-9246-8C042E81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286B-08B7-4D35-8B33-CA03772A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3CD4-EBD2-4402-92FD-7E48C7D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104-F5BA-4B85-8DED-C3A0CEDF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BF48-8ECD-4F8F-8B81-0A9A0C6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8F36-E6B7-450E-B6D7-FEC1911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94162-DFA9-4AFF-83AD-D893807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19E4-E7E6-451A-A36F-FBDC6EA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3853-A4CA-4419-8EB9-7D5DB558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14B5-6E8C-4BCB-9F88-6D044801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8C74-1FE1-4053-B344-FEE77562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7872-FB9E-40A9-BE4B-27812F52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E9CF-CF8B-4900-A933-947ED220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98B8-3937-496A-846D-86CEA6A6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4C3-FB54-477A-BF03-02C1E45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0DD9-AB63-4275-8E17-4C8DD186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8E96-05A1-4985-B642-C02FE10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B67E-7445-40DB-85EC-43B393A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2CFE-A241-4C9F-A054-CEFA799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4F87-36F4-403A-A5EE-C72A8EE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F00E-15E5-47A5-A88F-7E045869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D45F-4C2C-4DEE-AEE0-60236D5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357E-7141-46B9-9A0A-674D2C09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47BB5-48FF-4754-BBDC-65E8E03E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568-67F5-4360-88DE-13F4BA8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320-9DD1-407F-806E-B123132C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27-7852-44F6-B148-39DD706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BE0-EF9D-4382-9CB0-5E5FA1B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0A7-1B91-462B-8D8F-E44EF73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96C8-26FC-4518-8D27-BE1361AED1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959F-069D-43D2-AD35-1AC6C3205BE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F2A-E9DA-40F0-8E34-C4EB850ACFC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17F-E004-4904-B078-ADDB6F222C0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182520" y="2408400"/>
            <a:ext cx="8712360" cy="28587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imagesCA0LKS11.jpg"/>
          <p:cNvPicPr/>
          <p:nvPr/>
        </p:nvPicPr>
        <p:blipFill>
          <a:blip r:embed="rId2"/>
          <a:stretch/>
        </p:blipFill>
        <p:spPr>
          <a:xfrm>
            <a:off x="324000" y="189000"/>
            <a:ext cx="2743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Оценка: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8-17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6-14 правильных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3-9 правильных ответов –</a:t>
            </a:r>
            <a:r>
              <a:rPr b="0" lang="ru-RU" sz="4400" spc="-1" strike="noStrike">
                <a:solidFill>
                  <a:srgbClr val="03495c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енее 9 ответов –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2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какие вопросы мы ответим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77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Зачем нужен масштаб</a:t>
            </a:r>
            <a:r>
              <a:rPr b="1" i="1" lang="en-US" sz="4100" spc="-1" strike="noStrike">
                <a:solidFill>
                  <a:srgbClr val="0b5395"/>
                </a:solidFill>
                <a:latin typeface="Constantia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числе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именован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b5395"/>
                </a:solidFill>
                <a:latin typeface="Constantia"/>
              </a:rPr>
              <a:t>Что такое  линейный масштаб?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458100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onstantia"/>
              </a:rPr>
              <a:t>Масштаб</a:t>
            </a:r>
            <a:r>
              <a:rPr b="0" lang="ru-RU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i="1" lang="ru-RU" sz="3000" spc="-1" strike="noStrike">
                <a:solidFill>
                  <a:srgbClr val="0b5395"/>
                </a:solidFill>
                <a:latin typeface="Constantia"/>
              </a:rPr>
              <a:t>показывает, во сколько раз каждая линия, нанесенная на карту, уменьшена по отношению к её действительным размерам на местности</a:t>
            </a:r>
            <a:r>
              <a:rPr b="1" lang="ru-RU" sz="3000" spc="-1" strike="noStrike">
                <a:solidFill>
                  <a:srgbClr val="0b5395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4" descr="C:\Documents and Settings\VS\Рабочий стол\г2.jpg"/>
          <p:cNvPicPr/>
          <p:nvPr/>
        </p:nvPicPr>
        <p:blipFill>
          <a:blip r:embed="rId1"/>
          <a:stretch/>
        </p:blipFill>
        <p:spPr>
          <a:xfrm>
            <a:off x="2627280" y="189000"/>
            <a:ext cx="37450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32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1:100</a:t>
            </a:r>
            <a:br>
              <a:rPr sz="8600"/>
            </a:br>
            <a:r>
              <a:rPr b="1" lang="ru-RU" sz="6500" spc="-1" strike="noStrike">
                <a:solidFill>
                  <a:srgbClr val="ff0000"/>
                </a:solidFill>
                <a:latin typeface="Calibri"/>
              </a:rPr>
              <a:t>( 1 см плана заменяет 100 см местности)</a:t>
            </a:r>
            <a:endParaRPr b="0" lang="en-US" sz="6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42206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 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Это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численный</a:t>
            </a:r>
            <a:r>
              <a:rPr b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20c9f8"/>
                </a:solidFill>
                <a:latin typeface="Constantia"/>
                <a:ea typeface="Times New Roman"/>
              </a:rPr>
              <a:t>масштаб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числе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В 1 сантиметре – 10 метров</a:t>
            </a:r>
            <a:br>
              <a:rPr sz="6600"/>
            </a:b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328428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03495c"/>
                </a:solidFill>
                <a:latin typeface="Constantia"/>
              </a:rPr>
              <a:t>Масштаб, записанный в таком виде называется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 algn="ctr">
              <a:lnSpc>
                <a:spcPct val="8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00"/>
                </a:solidFill>
                <a:latin typeface="Constantia"/>
              </a:rPr>
              <a:t>  </a:t>
            </a:r>
            <a:r>
              <a:rPr b="1" i="1" lang="ru-RU" sz="6200" spc="-1" strike="noStrike">
                <a:solidFill>
                  <a:srgbClr val="00b0f0"/>
                </a:solidFill>
                <a:latin typeface="Constantia"/>
              </a:rPr>
              <a:t>именованный масштаб</a:t>
            </a:r>
            <a:endParaRPr b="0" lang="en-US" sz="6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одумай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Times New Roman"/>
                <a:ea typeface="Times New Roman"/>
              </a:rPr>
              <a:t>Как ты запишешь именованный масштаб, если местность на нем уменьшена в 200 раз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285264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b0f0"/>
                </a:solidFill>
                <a:latin typeface="Constantia"/>
              </a:rPr>
              <a:t>  </a:t>
            </a:r>
            <a:r>
              <a:rPr b="0" i="1" lang="ru-RU" sz="5600" spc="-1" strike="noStrike">
                <a:solidFill>
                  <a:srgbClr val="ff0000"/>
                </a:solidFill>
                <a:latin typeface="Constantia"/>
              </a:rPr>
              <a:t>Линейный масштаб</a:t>
            </a:r>
            <a:r>
              <a:rPr b="0" lang="ru-RU" sz="5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115964"/>
                </a:solidFill>
                <a:latin typeface="Constantia"/>
              </a:rPr>
              <a:t>– 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он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представляет собой линию, разделенную на равные отрез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   </a:t>
            </a:r>
            <a:r>
              <a:rPr b="1" lang="ru-RU" sz="3000" spc="-1" strike="noStrike">
                <a:solidFill>
                  <a:srgbClr val="115964"/>
                </a:solidFill>
                <a:latin typeface="Constantia"/>
              </a:rPr>
              <a:t>Линейный масштаб позволяет измерять расстояния на плане при помощи циркуля – измерителя или полоски бумаги</a:t>
            </a:r>
            <a:r>
              <a:rPr b="1" lang="ru-RU" sz="2700" spc="-1" strike="noStrike">
                <a:solidFill>
                  <a:srgbClr val="115964"/>
                </a:solidFill>
                <a:latin typeface="Constantia"/>
              </a:rPr>
              <a:t> или линейки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4" descr="C:\Documents and Settings\VS\Рабочий стол\г4.jpg"/>
          <p:cNvPicPr/>
          <p:nvPr/>
        </p:nvPicPr>
        <p:blipFill>
          <a:blip r:embed="rId1"/>
          <a:stretch/>
        </p:blipFill>
        <p:spPr>
          <a:xfrm>
            <a:off x="468360" y="260280"/>
            <a:ext cx="728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пределим:</a:t>
            </a:r>
            <a:br>
              <a:rPr sz="45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а) расстояние от отдельно стоящего дерева до сарая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б) расстояние от пруда до начала оврага;</a:t>
            </a:r>
            <a:br>
              <a:rPr sz="2900"/>
            </a:br>
            <a:r>
              <a:rPr b="1" lang="ru-RU" sz="2900" spc="-1" strike="noStrike">
                <a:solidFill>
                  <a:srgbClr val="004e6d"/>
                </a:solidFill>
                <a:latin typeface="Calibri"/>
              </a:rPr>
              <a:t>в) длину ручья, впадающего в реку Нара.</a:t>
            </a:r>
            <a:br>
              <a:rPr sz="25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C:\Documents and Settings\VS\Рабочий стол\г3.jpg"/>
          <p:cNvPicPr/>
          <p:nvPr/>
        </p:nvPicPr>
        <p:blipFill>
          <a:blip r:embed="rId1"/>
          <a:stretch/>
        </p:blipFill>
        <p:spPr>
          <a:xfrm>
            <a:off x="2771640" y="2468520"/>
            <a:ext cx="3454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1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именованный масштаб в числе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200 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750 км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Цель урока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Объяснить понятие «масштаб»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Узнать какие виды масштаба существуют;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547560" indent="-411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15964"/>
                </a:solidFill>
                <a:latin typeface="Constantia"/>
              </a:rPr>
              <a:t>Понять, зачем нужен масштаб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№2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енный масштаб в именованны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30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348000" y="90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1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2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7500000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Задание №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10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3 к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 см – 750 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см – 50 км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Читать параграф №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Подготовить сообщение о компас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Вспомним</a:t>
            </a: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1" descr=""/>
          <p:cNvPicPr/>
          <p:nvPr/>
        </p:nvPicPr>
        <p:blipFill>
          <a:blip r:embed="rId1"/>
          <a:stretch/>
        </p:blipFill>
        <p:spPr>
          <a:xfrm>
            <a:off x="249120" y="1809720"/>
            <a:ext cx="8444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Что обозначается этими знакам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3" descr="14[1].gif"/>
          <p:cNvPicPr/>
          <p:nvPr/>
        </p:nvPicPr>
        <p:blipFill>
          <a:blip r:embed="rId1"/>
          <a:stretch/>
        </p:blipFill>
        <p:spPr>
          <a:xfrm>
            <a:off x="900000" y="1052640"/>
            <a:ext cx="1503360" cy="15303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18[1].gif"/>
          <p:cNvPicPr/>
          <p:nvPr/>
        </p:nvPicPr>
        <p:blipFill>
          <a:blip r:embed="rId2"/>
          <a:stretch/>
        </p:blipFill>
        <p:spPr>
          <a:xfrm>
            <a:off x="1042920" y="3957480"/>
            <a:ext cx="1230480" cy="14986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20[1].gif"/>
          <p:cNvPicPr/>
          <p:nvPr/>
        </p:nvPicPr>
        <p:blipFill>
          <a:blip r:embed="rId3"/>
          <a:stretch/>
        </p:blipFill>
        <p:spPr>
          <a:xfrm>
            <a:off x="3924360" y="1197000"/>
            <a:ext cx="1552680" cy="13730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35[1].gif"/>
          <p:cNvPicPr/>
          <p:nvPr/>
        </p:nvPicPr>
        <p:blipFill>
          <a:blip r:embed="rId4"/>
          <a:stretch/>
        </p:blipFill>
        <p:spPr>
          <a:xfrm>
            <a:off x="3924360" y="4076640"/>
            <a:ext cx="1571400" cy="1058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37[1].gif"/>
          <p:cNvPicPr/>
          <p:nvPr/>
        </p:nvPicPr>
        <p:blipFill>
          <a:blip r:embed="rId5"/>
          <a:stretch/>
        </p:blipFill>
        <p:spPr>
          <a:xfrm>
            <a:off x="6804000" y="1628640"/>
            <a:ext cx="2071800" cy="409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8" descr="52[1].gif"/>
          <p:cNvPicPr/>
          <p:nvPr/>
        </p:nvPicPr>
        <p:blipFill>
          <a:blip r:embed="rId6"/>
          <a:stretch/>
        </p:blipFill>
        <p:spPr>
          <a:xfrm>
            <a:off x="7308720" y="4437000"/>
            <a:ext cx="1428840" cy="390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9"/>
          <p:cNvSpPr/>
          <p:nvPr/>
        </p:nvSpPr>
        <p:spPr>
          <a:xfrm>
            <a:off x="148068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4576320" y="2565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73846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 flipH="1">
            <a:off x="1547640" y="5589720"/>
            <a:ext cx="4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457632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7600680" y="5516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Содержимое 3" descr="53[1].gif"/>
          <p:cNvPicPr/>
          <p:nvPr/>
        </p:nvPicPr>
        <p:blipFill>
          <a:blip r:embed="rId1"/>
          <a:stretch/>
        </p:blipFill>
        <p:spPr>
          <a:xfrm>
            <a:off x="755640" y="1268280"/>
            <a:ext cx="1995480" cy="5446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57[1].gif"/>
          <p:cNvPicPr/>
          <p:nvPr/>
        </p:nvPicPr>
        <p:blipFill>
          <a:blip r:embed="rId2"/>
          <a:stretch/>
        </p:blipFill>
        <p:spPr>
          <a:xfrm>
            <a:off x="3708360" y="907920"/>
            <a:ext cx="2158920" cy="1125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61[1].gif"/>
          <p:cNvPicPr/>
          <p:nvPr/>
        </p:nvPicPr>
        <p:blipFill>
          <a:blip r:embed="rId3"/>
          <a:stretch/>
        </p:blipFill>
        <p:spPr>
          <a:xfrm>
            <a:off x="395280" y="3429000"/>
            <a:ext cx="2577960" cy="2124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66[1].gif"/>
          <p:cNvPicPr/>
          <p:nvPr/>
        </p:nvPicPr>
        <p:blipFill>
          <a:blip r:embed="rId4"/>
          <a:stretch/>
        </p:blipFill>
        <p:spPr>
          <a:xfrm>
            <a:off x="3708360" y="3660840"/>
            <a:ext cx="2592360" cy="1542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72[1].gif"/>
          <p:cNvPicPr/>
          <p:nvPr/>
        </p:nvPicPr>
        <p:blipFill>
          <a:blip r:embed="rId5"/>
          <a:stretch/>
        </p:blipFill>
        <p:spPr>
          <a:xfrm>
            <a:off x="7667640" y="105264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73[1].gif"/>
          <p:cNvPicPr/>
          <p:nvPr/>
        </p:nvPicPr>
        <p:blipFill>
          <a:blip r:embed="rId6"/>
          <a:stretch/>
        </p:blipFill>
        <p:spPr>
          <a:xfrm>
            <a:off x="7667640" y="3789360"/>
            <a:ext cx="1062000" cy="11653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9"/>
          <p:cNvSpPr/>
          <p:nvPr/>
        </p:nvSpPr>
        <p:spPr>
          <a:xfrm>
            <a:off x="1190160" y="20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464760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788832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0486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4778280" y="5661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7890120" y="558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3" descr="76[1].gif"/>
          <p:cNvPicPr/>
          <p:nvPr/>
        </p:nvPicPr>
        <p:blipFill>
          <a:blip r:embed="rId1"/>
          <a:stretch/>
        </p:blipFill>
        <p:spPr>
          <a:xfrm>
            <a:off x="179280" y="1285920"/>
            <a:ext cx="2008440" cy="13888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78[1].gif"/>
          <p:cNvPicPr/>
          <p:nvPr/>
        </p:nvPicPr>
        <p:blipFill>
          <a:blip r:embed="rId2"/>
          <a:stretch/>
        </p:blipFill>
        <p:spPr>
          <a:xfrm>
            <a:off x="3276720" y="1484280"/>
            <a:ext cx="1761840" cy="1000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87[1].gif"/>
          <p:cNvPicPr/>
          <p:nvPr/>
        </p:nvPicPr>
        <p:blipFill>
          <a:blip r:embed="rId3"/>
          <a:stretch/>
        </p:blipFill>
        <p:spPr>
          <a:xfrm>
            <a:off x="684360" y="4292640"/>
            <a:ext cx="1739880" cy="696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91[1].gif"/>
          <p:cNvPicPr/>
          <p:nvPr/>
        </p:nvPicPr>
        <p:blipFill>
          <a:blip r:embed="rId4"/>
          <a:stretch/>
        </p:blipFill>
        <p:spPr>
          <a:xfrm>
            <a:off x="3492360" y="4098960"/>
            <a:ext cx="1771920" cy="9097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8" descr="93[1].gif"/>
          <p:cNvPicPr/>
          <p:nvPr/>
        </p:nvPicPr>
        <p:blipFill>
          <a:blip r:embed="rId5"/>
          <a:stretch/>
        </p:blipFill>
        <p:spPr>
          <a:xfrm>
            <a:off x="6804000" y="1486080"/>
            <a:ext cx="1676520" cy="86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9" descr="95[1].gif"/>
          <p:cNvPicPr/>
          <p:nvPr/>
        </p:nvPicPr>
        <p:blipFill>
          <a:blip r:embed="rId6"/>
          <a:stretch/>
        </p:blipFill>
        <p:spPr>
          <a:xfrm>
            <a:off x="6875640" y="4005360"/>
            <a:ext cx="1857240" cy="10494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83088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927960" y="2852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7457400" y="2852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905040" y="5373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400068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7673400" y="5300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электростанц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отдельно стоящее дерево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линия электропередач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ветряная мельниц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яма глубиной 5 метр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грунтовая (проселочная дорог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528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полевая (лесная дорога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рек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колодец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– мос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озер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– ручей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-139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-  отметка высоты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- овраг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фруктовый сад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- здан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- колючие кустарники (заросли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-  лу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22:09Z</dcterms:created>
  <dc:creator>www.PHILka.RU</dc:creator>
  <dc:description/>
  <dc:language>en-US</dc:language>
  <cp:lastModifiedBy>XTreme</cp:lastModifiedBy>
  <dcterms:modified xsi:type="dcterms:W3CDTF">2010-09-27T19:41:22Z</dcterms:modified>
  <cp:revision>45</cp:revision>
  <dc:subject/>
  <dc:title>М А С Ш Т А Б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60000000000010261200207f7000400038000</vt:lpwstr>
  </property>
</Properties>
</file>