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10.png" ContentType="image/pn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png" ContentType="image/png"/>
  <Override PartName="/ppt/media/image3.jpeg" ContentType="image/jpeg"/>
  <Override PartName="/ppt/media/image24.png" ContentType="image/pn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61B6D-048D-4F05-9197-F79F32CAD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2A065-2F74-4FB7-8BA8-79C8C498A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62350-BDD3-4AA9-9675-23FB24D6C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F5A2A-D206-4BFD-9783-2EF224845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B8BC4-C0E2-476A-96BC-B9347AF4F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C32C0-B93D-4969-96C1-92B05549D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40E03-A1BD-4585-B956-F4CE7CA1E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B3C71-48E3-4599-9A1D-63444821D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D2F02-CCA6-4293-9F2E-6B655493A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EC4BC-04D3-476E-B029-ADE993BFF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96741-79DE-4C14-84A1-F2D09AF9D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E2B5E-3F44-4754-B088-A6CCDECA8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1352F-9076-424D-843D-36C98AA4F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276FD-9306-4D06-9C01-6839FB507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0CC35-92BF-491F-9DB2-21C19847A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18E54-B21B-4ECD-84A8-40D2FBA59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04955-2633-4574-B075-18A9F43BE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DA314-54EE-4352-8624-3F11A180A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24146-58C6-447E-8948-E73269DF6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1EC21-0838-421D-81CE-05EBA2743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FD930-C322-4006-A1A7-77DFF2C00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16365-338F-4C9C-82B6-A5B4BDC1E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E4D24-B067-41D6-A482-B9F0FD787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8B6D8-5634-4FA5-97E2-F2432C710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BC9D8-2B1D-4544-B162-240C81583BE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7E690-9373-45D4-8B4C-96C95873928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1116000" y="2492280"/>
            <a:ext cx="7283520" cy="41148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 txBox="1"/>
          <p:nvPr/>
        </p:nvSpPr>
        <p:spPr>
          <a:xfrm>
            <a:off x="395280" y="549360"/>
            <a:ext cx="835344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Машиностроение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Трудоемкость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148360" y="1916280"/>
            <a:ext cx="3754440" cy="41148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468360" y="2205000"/>
            <a:ext cx="4356000" cy="35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Металлоемкость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395280" y="1484280"/>
            <a:ext cx="4105440" cy="45468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4896000" y="1628640"/>
            <a:ext cx="424800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Транспортный фактор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57200" y="1981080"/>
            <a:ext cx="82296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Специализация и кооперирование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457200" y="1981080"/>
            <a:ext cx="3970440" cy="41148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4932360" y="2565360"/>
            <a:ext cx="3887640" cy="34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Ориентация на потребителя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457200" y="1981080"/>
            <a:ext cx="4186080" cy="41148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4932360" y="2565360"/>
            <a:ext cx="3672000" cy="35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Доля ВВП и продукции автомобилестроения в мировом производстве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e5ffff"/>
                </a:solidFill>
                <a:latin typeface="Tahoma"/>
              </a:rPr>
              <a:t>(Россия на последнем месте)</a:t>
            </a:r>
            <a:endParaRPr b="0" lang="en-US" sz="1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457200" y="1981080"/>
            <a:ext cx="82296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5ffff"/>
                </a:solidFill>
                <a:latin typeface="Tahoma"/>
              </a:rPr>
              <a:t>Внешнеэкономический оборот машиностроительной продукции за 1991 –1999 год (млн. долл.)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457200" y="1981080"/>
            <a:ext cx="82296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Машиностроение и окружающая среда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457200" y="1981080"/>
            <a:ext cx="4762440" cy="41148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913120" cy="326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Итоговый тест по теме «Машиностроение»</a:t>
            </a:r>
            <a:br>
              <a:rPr sz="2800"/>
            </a:b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1.1Из предложенного списка городов выберите единственный центр по выпуску троллейбусов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а) Коломн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б) Рязань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в) Москв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г) Петрозаводск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д) Энгельс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1.2. В каком районе России выгоднее размещать центры по производству зерноуборочных комбайнов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а) Северном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б) Центральном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в) Южном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г) Дальневосточном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д) на Урал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6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2.1. Сопоставьте отрасль машиностроения с фактором ее размещения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а) автомобилестроение                      1) трудоемкость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б) станкостроение                              2) наукоемкость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) тяжелое машиностроение               3) потребительски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г) с/х машиностроение                        4) металлоемкость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2.2. Соотнесите город – центр машиностроения с продукцией, которая в нем производится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а) Павлово                          1) зерноуборочные комбайны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б) Ростов-на-Дону               2) тракторы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) Петрозаводск                  3) картофелеуборочные комбайны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г) Рязань                             4) тепловозы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д) Коломна                          5) автобусы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3. Что такое металлоемкость? Какие отрасли машиностроения являются металлоемкими? Написать не менее трех центров, выпускающих металлоемкую продукцию.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277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Машиностроительный комплекс – совокупность отраслей промышленности, производящих разнообразные машины.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457200" y="1557360"/>
            <a:ext cx="822960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4. На карте города – центры машиностроительного производства? Какие отрасли машиностроения характерны для этих городов (что в них выпускается?)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457200" y="1981080"/>
            <a:ext cx="82296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Сельскохозяйственное машиностроение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324000" y="2492280"/>
            <a:ext cx="4103640" cy="41148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5003640" y="2133720"/>
            <a:ext cx="388800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Станкостроение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457200" y="1981080"/>
            <a:ext cx="3683160" cy="41148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4356000" y="2421000"/>
            <a:ext cx="431964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Автомобилестроение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457200" y="1981080"/>
            <a:ext cx="3467160" cy="41148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4140360" y="1916280"/>
            <a:ext cx="4176720" cy="40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Структура российского производства. 2003 г.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457200" y="1981080"/>
            <a:ext cx="82296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457200" y="476280"/>
            <a:ext cx="8229600" cy="56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Наукоёмкость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57200" y="1981080"/>
            <a:ext cx="4186080" cy="41148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4857840" y="3141720"/>
            <a:ext cx="428616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Военно-стратегический фактор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1187280" y="1989000"/>
            <a:ext cx="6507360" cy="42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2T15:32:12Z</dcterms:created>
  <dc:creator>www.PHILka.RU</dc:creator>
  <dc:description/>
  <dc:language>en-US</dc:language>
  <cp:lastModifiedBy>www.PHILka.RU</cp:lastModifiedBy>
  <dcterms:modified xsi:type="dcterms:W3CDTF">2008-11-22T17:23:28Z</dcterms:modified>
  <cp:revision>2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100c0000000000010250300207f7000400038000</vt:lpwstr>
  </property>
</Properties>
</file>