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0E9-9640-4D94-8ED6-EC08D8D9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71B-C46C-4CFE-8D04-3944551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AAD-9816-4985-BD43-D2468DA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6D9-AF05-4754-BC82-3EE684A4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702-CF63-4C60-90B5-53AE1E60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76B1-6049-4CFB-B4F6-0ED32194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3B55-FAF6-415C-ACB6-C24002B2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7274-BD97-4A97-9CD9-CE572D4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9FCC-FF96-4DED-9ADA-6249C34E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24DB-E1D0-4CC8-8FE6-4D424D9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732-CC3D-4D79-B962-4626ABBC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C8B-B5F2-4233-AC65-BD6A350F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E02-1790-43D1-A23A-E4BA816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67B2-455F-49CC-8821-C9973CC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4F07-3073-4269-B619-867EDD67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D67-C6EA-46C3-A163-0620577D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7A16-F0C7-45E3-B9B3-B759E7AF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E01-0BF9-4ACF-B17B-7AD9EFA2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5CE-4820-41B4-ACEA-1FCEE2F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CBC-19CF-40F2-91AF-15F3B4A6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A80-2403-4EE0-9AFE-5BBEFB8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AF0-043E-4891-AD4F-4C9F11F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39B-616B-413B-A560-2C9EF94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48B-4E24-48BE-97D2-5374A3F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D77C-B08F-4937-B88C-7CF8682BE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4F8C-4F60-4578-9FEE-11BB7302E1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72835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280" y="549360"/>
            <a:ext cx="8353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шиностро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удоемк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544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4356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еталлоемкость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454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96000" y="1628640"/>
            <a:ext cx="424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ный фак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пециализация и коопериров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97044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887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риентация на потреб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860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672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оля ВВП и продукции автомобилестроения в мировом производств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e5ffff"/>
                </a:solidFill>
                <a:latin typeface="Tahoma"/>
              </a:rPr>
              <a:t>(Россия на последнем месте)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экономический оборот машиностроительной продукции за 1991 –1999 год (млн. долл.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шиностроение и окружающая сре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7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9131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Итоговый тест по теме «Машиностроение»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1Из предложенного списка городов выберите единственный центр по выпуску троллейбу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Колом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Ряз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Петрозавод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) Энгель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. В каком районе России выгоднее размещать центры по производству зерноуборочных комбайн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Север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Центра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Юж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Дальневосточ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) на Ур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1. Сопоставьте отрасль машиностроения с фактором ее размещ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автомобилестроение                      1) труд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станкостроение                              2) наук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тяжелое машиностроение               3) потребит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с/х машиностроение                        4) металл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2. Соотнесите город – центр машиностроения с продукцией, которая в нем 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Павлово                          1) зерноуборочные комба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Ростов-на-Дону               2) тракто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Петрозаводск                  3) картофелеуборочные комба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Рязань                             4) теплов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) Коломна                          5) автобу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Что такое металлоемкость? Какие отрасли машиностроения являются металлоемкими? Написать не менее трех центров, выпускающих металлоемкую продукцию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Машиностроительный комплекс – совокупность отраслей промышленности, производящих разнообразные машины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557360"/>
            <a:ext cx="822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4. На карте города – центры машиностроительного производства? Какие отрасли машиностроения характерны для этих городов (что в них выпускается?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ельскохозяйственное машинострое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410364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3888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танко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83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56000" y="242100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томобиле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46716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17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руктура российского производства. 2003 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укоёмк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860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57840" y="3141720"/>
            <a:ext cx="4286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енно-стратегический факт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65073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32:12Z</dcterms:created>
  <dc:creator>www.PHILka.RU</dc:creator>
  <dc:description/>
  <dc:language>en-US</dc:language>
  <cp:lastModifiedBy>www.PHILka.RU</cp:lastModifiedBy>
  <dcterms:modified xsi:type="dcterms:W3CDTF">2008-11-22T17:23:28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0c0000000000010250300207f7000400038000</vt:lpwstr>
  </property>
</Properties>
</file>