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3C4-2317-407B-8B0B-4224338E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1BA-D44A-4DAC-A7B8-32923E41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4BF-79F5-46A0-9090-AA960F12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72E4-9CB0-495F-89FB-B79AA7DA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0D07-2B00-4570-8A6A-734F87F3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E0BB-82EE-4CF9-8DDD-4509BC3A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53C3-A387-4827-9F6E-1B2BF475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02FC-7D72-4ABF-A1BF-874DB370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B77F-28D2-4EEC-A915-A333A9F5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8CC8-4157-4F62-835F-75C84C1F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6EB6-5CBC-4703-ABD9-2FE3928D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357-583B-48FB-9584-D5E90EDD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584E-4CD3-4271-B575-6946695A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C735-5ECF-4726-832F-C3CF92E4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A4EF-5702-4E9B-8179-AE772C9D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B62B-4905-4EC4-B4EA-EA8ED305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3F6F-E736-4E63-9C90-47E1D3F0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62D-22E6-4077-BA73-7D053FA7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7EE-BECB-4576-811B-1B323F89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0B7-FD40-4C0A-9FC4-C7071672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B1C-A2BA-40EC-9435-9316CB38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575-7E39-4929-94D0-CC9E5B48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846-7605-4EE1-9612-E090D2CA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CF1-342A-4F00-9F30-6A867BDB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9259-7671-4883-B288-6C6436172D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9F5D-7655-4D7B-99B2-5A6402E64A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728352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95280" y="549360"/>
            <a:ext cx="8353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шинострое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удоемк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75444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43560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еталлоемкость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4546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96000" y="1628640"/>
            <a:ext cx="424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анспортный факт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пециализация и коопериров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97044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3887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риентация на потребите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18608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36720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Доля ВВП и продукции автомобилестроения в мировом производств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e5ffff"/>
                </a:solidFill>
                <a:latin typeface="Tahoma"/>
              </a:rPr>
              <a:t>(Россия на последнем месте)</a:t>
            </a: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экономический оборот машиностроительной продукции за 1991 –1999 год (млн. долл.)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ашиностроение и окружающая сред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76244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9131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Итоговый тест по теме «Машиностроение»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1Из предложенного списка городов выберите единственный центр по выпуску троллейбу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Колом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Ряза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Моск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) Петрозаводс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) Энгель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. В каком районе России выгоднее размещать центры по производству зерноуборочных комбайно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Север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Централь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Юж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) Дальневосточ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) на Ура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1. Сопоставьте отрасль машиностроения с фактором ее размещ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) автомобилестроение                      1) трудоемк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) станкостроение                              2) наукоемк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) тяжелое машиностроение               3) потребит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) с/х машиностроение                        4) металлоемк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2. Соотнесите город – центр машиностроения с продукцией, которая в нем производи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) Павлово                          1) зерноуборочные комбай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) Ростов-на-Дону               2) тракто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) Петрозаводск                  3) картофелеуборочные комбай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) Рязань                             4) тепловоз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) Коломна                          5) автобу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Что такое металлоемкость? Какие отрасли машиностроения являются металлоемкими? Написать не менее трех центров, выпускающих металлоемкую продукцию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Машиностроительный комплекс – совокупность отраслей промышленности, производящих разнообразные машины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557360"/>
            <a:ext cx="8229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4. На карте города – центры машиностроительного производства? Какие отрасли машиностроения характерны для этих городов (что в них выпускается?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ельскохозяйственное машинострое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410364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03640" y="2133720"/>
            <a:ext cx="3888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танкостро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683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356000" y="2421000"/>
            <a:ext cx="4319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томобилестро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46716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176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труктура российского производства. 2003 г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аукоёмк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1860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857840" y="3141720"/>
            <a:ext cx="4286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оенно-стратегический факто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65073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5:32:12Z</dcterms:created>
  <dc:creator>www.PHILka.RU</dc:creator>
  <dc:description/>
  <dc:language>en-US</dc:language>
  <cp:lastModifiedBy>www.PHILka.RU</cp:lastModifiedBy>
  <dcterms:modified xsi:type="dcterms:W3CDTF">2008-11-22T17:23:28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0c0000000000010250300207f7000400038000</vt:lpwstr>
  </property>
</Properties>
</file>