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7AA-1AA3-4383-853F-FCE21379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861-5365-42B6-A0DA-A5236190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5FE-92F5-4294-84A3-50167BAE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A32-B504-42CB-8834-C5F8D3D1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A35-FB79-4BCD-82AB-D2D1A209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EDA-236C-4CE0-B8D5-8C7EE871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0AC-FC14-4EBC-AD7A-78EDEC3D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924-B6BA-47AB-B8C9-DCAF0CCD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C7A-34C1-4E65-BDA9-0061F7E0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248-214F-4CE1-8B0B-6D01046F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194-060B-4B7C-AFC4-BFD26746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252-CE00-408B-8CC4-6976F3C0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92d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DB22-2E2F-4B77-97F1-59281D0550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BEB8-D578-4CE1-B7CD-5576CEA98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016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Машиностроение России.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Факторы размещения и география отрасле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6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к –практику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графия России, 9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Библ_картинок\Библиотека картинок\Предметный мир\Бытовые предметы\TN_Plugwire.JPG"/>
          <p:cNvPicPr/>
          <p:nvPr/>
        </p:nvPicPr>
        <p:blipFill>
          <a:blip r:embed="rId1"/>
          <a:stretch/>
        </p:blipFill>
        <p:spPr>
          <a:xfrm>
            <a:off x="2766960" y="469800"/>
            <a:ext cx="1414440" cy="1163880"/>
          </a:xfrm>
          <a:prstGeom prst="rect">
            <a:avLst/>
          </a:prstGeom>
          <a:ln w="0">
            <a:noFill/>
          </a:ln>
        </p:spPr>
      </p:pic>
      <p:sp>
        <p:nvSpPr>
          <p:cNvPr id="44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E1DA-8919-4018-A5E1-E7B009AFD20E}" type="datetime">
              <a:rPr b="0" lang="ru-RU" sz="16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Z:\newtek\_backgrounds_1.02\Tim\pptemp1\control_panel.gif"/>
          <p:cNvPicPr/>
          <p:nvPr/>
        </p:nvPicPr>
        <p:blipFill>
          <a:blip r:embed="rId2"/>
          <a:stretch/>
        </p:blipFill>
        <p:spPr>
          <a:xfrm>
            <a:off x="244440" y="328680"/>
            <a:ext cx="1395360" cy="1396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Z:\newtek\_backgrounds_1.02\Tim\pptemp1\three_levers.jpg"/>
          <p:cNvPicPr/>
          <p:nvPr/>
        </p:nvPicPr>
        <p:blipFill>
          <a:blip r:embed="rId3"/>
          <a:stretch/>
        </p:blipFill>
        <p:spPr>
          <a:xfrm>
            <a:off x="7016760" y="109440"/>
            <a:ext cx="1841400" cy="116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Z:\newtek\_backgrounds_1.02\Tim\pptemp1\dozer.jpg"/>
          <p:cNvPicPr/>
          <p:nvPr/>
        </p:nvPicPr>
        <p:blipFill>
          <a:blip r:embed="rId4"/>
          <a:stretch/>
        </p:blipFill>
        <p:spPr>
          <a:xfrm>
            <a:off x="5211720" y="689040"/>
            <a:ext cx="1841400" cy="1006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1"/>
          <p:cNvSpPr/>
          <p:nvPr/>
        </p:nvSpPr>
        <p:spPr>
          <a:xfrm>
            <a:off x="4211640" y="5805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географии Аитова Ф.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СОШ №13  им.В.А.Джанибе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9B90-CB80-440A-B41E-6AEFAF8A6F7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Гот.к уроку 2013\Гео9\i.jpg"/>
          <p:cNvPicPr/>
          <p:nvPr/>
        </p:nvPicPr>
        <p:blipFill>
          <a:blip r:embed="rId1"/>
          <a:stretch/>
        </p:blipFill>
        <p:spPr>
          <a:xfrm>
            <a:off x="539640" y="40464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Различия в уровне развития и особенностях машиностро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ртам атласа выявите различия районов России по их специализации в машиностро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их из них наиболее полный состав М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те географические закономерности в изменении набора специализирующих отраслей по территории стр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3BD9-16BF-4387-9671-3AE050D981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D:\Гот.к уроку 2013\Гео9\Суда.jpg"/>
          <p:cNvPicPr/>
          <p:nvPr/>
        </p:nvPicPr>
        <p:blipFill>
          <a:blip r:embed="rId1"/>
          <a:stretch/>
        </p:blipFill>
        <p:spPr>
          <a:xfrm>
            <a:off x="963720" y="2127240"/>
            <a:ext cx="1919160" cy="143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D:\Гот.к уроку 2013\Гео9\автомобили.jpg"/>
          <p:cNvPicPr/>
          <p:nvPr/>
        </p:nvPicPr>
        <p:blipFill>
          <a:blip r:embed="rId2"/>
          <a:stretch/>
        </p:blipFill>
        <p:spPr>
          <a:xfrm>
            <a:off x="5718240" y="2054160"/>
            <a:ext cx="19144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984807"/>
                </a:solidFill>
                <a:latin typeface="Calibri"/>
              </a:rPr>
              <a:t>Практическая  работа с картами атласа. </a:t>
            </a:r>
            <a:br>
              <a:rPr sz="2500"/>
            </a:br>
            <a:r>
              <a:rPr b="0" lang="ru-RU" sz="2900" spc="-1" strike="noStrike">
                <a:solidFill>
                  <a:srgbClr val="984807"/>
                </a:solidFill>
                <a:latin typeface="Calibri"/>
              </a:rPr>
              <a:t>Определение  главных районов размещения отраслей трудоемкого и металлоемкого машинострое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ртам атласа сопоставьте географию металлургии и металлоемкого машиностроения. Всегда ли они совпадают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поставьте карту «Машиностроение» с картой «Плотность населения».Сделайте выв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ите по  5 центров тяжелого и трудоемкого  машиностроения.   Отметьте их на контурной карте общепринятыми условными зна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умайте, какова специализация машиностроения Московской области? Чем она объясняет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1D6B-98C0-4805-82CC-BF5F7803BDB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469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Цели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 с факторами размещения и географией машиностроительной отрас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вести понятия «специализация», «коопераци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DD77-07C3-4CAD-B1AC-9787E28EB490}" type="datetime">
              <a:rPr b="0" lang="ru-RU" sz="16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404280"/>
            <a:ext cx="8218440" cy="17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Проблемные вопросы урока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факторы следует учитывать при размещении машиностроительных завод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нужно построить машзавод, чтобы он работал ритмично, продукция конкурентоспособна, а предприятие не было убыточ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чем различие машиностроения европейской и азиатской частей Росс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229C-15FF-4B1E-ADA9-1FD1E080E57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Гот.к уроку 2013\Гео9\экономика.jpg"/>
          <p:cNvPicPr/>
          <p:nvPr/>
        </p:nvPicPr>
        <p:blipFill>
          <a:blip r:embed="rId1"/>
          <a:stretch/>
        </p:blipFill>
        <p:spPr>
          <a:xfrm>
            <a:off x="3560760" y="5224320"/>
            <a:ext cx="1528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24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Andalus"/>
              </a:rPr>
              <a:t>Факторы размещ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География машиностроения определяется множеством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ация на передовую нау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енно-стратегический фа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оем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ллоем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ация на потреб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ный фа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8B77-ECD7-46E8-9646-E33DA2334CC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Гот.к уроку 2013\Гео9\авто.jpg"/>
          <p:cNvPicPr/>
          <p:nvPr/>
        </p:nvPicPr>
        <p:blipFill>
          <a:blip r:embed="rId1"/>
          <a:stretch/>
        </p:blipFill>
        <p:spPr>
          <a:xfrm>
            <a:off x="4711680" y="5297400"/>
            <a:ext cx="1738440" cy="136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Гот.к уроку 2013\Гео9\сельско.jpg"/>
          <p:cNvPicPr/>
          <p:nvPr/>
        </p:nvPicPr>
        <p:blipFill>
          <a:blip r:embed="rId2"/>
          <a:stretch/>
        </p:blipFill>
        <p:spPr>
          <a:xfrm>
            <a:off x="5791320" y="3998880"/>
            <a:ext cx="2170080" cy="145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:\Гот.к уроку 2013\Гео9\науко.jpg"/>
          <p:cNvPicPr/>
          <p:nvPr/>
        </p:nvPicPr>
        <p:blipFill>
          <a:blip r:embed="rId3"/>
          <a:stretch/>
        </p:blipFill>
        <p:spPr>
          <a:xfrm>
            <a:off x="6797520" y="2633760"/>
            <a:ext cx="21020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Наукоемкие отрасли.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Военно-стратегический факто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707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ейшие отрасли(электроника, авиакосмическая, атомная) –опираются на научную базу: НИИ, КБ, опытные за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те географию наукоемких производ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ая часть машзаводов выпускают оборонную продук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их размещении учитываются интересы национальной безопас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E39F-6ED9-4BB2-A462-526F779C0D8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Трудоемк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43653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машин требует больших затрат тру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многие отрасли тяготеют к районам с высокой плотностью нас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94BA-AE39-4D6A-9259-1E111F3A67B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:\Гот.к уроку 2013\Гео9\науко.jpg"/>
          <p:cNvPicPr/>
          <p:nvPr/>
        </p:nvPicPr>
        <p:blipFill>
          <a:blip r:embed="rId1"/>
          <a:stretch/>
        </p:blipFill>
        <p:spPr>
          <a:xfrm>
            <a:off x="6870600" y="2273400"/>
            <a:ext cx="1737000" cy="1164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2843280" y="2565360"/>
            <a:ext cx="3673440" cy="11912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Высокая трудоемкость присуща станкостроению,  приборостро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D:\Гот.к уроку 2013\Гео9\наукоемкое.jpg"/>
          <p:cNvPicPr/>
          <p:nvPr/>
        </p:nvPicPr>
        <p:blipFill>
          <a:blip r:embed="rId2"/>
          <a:stretch/>
        </p:blipFill>
        <p:spPr>
          <a:xfrm>
            <a:off x="390600" y="2273400"/>
            <a:ext cx="22431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Металлоемк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ллоемкое (тяжелое) машиностроение требует много металла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едприятия, выпускающие их, ориентированы на районы с развитой металлург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B114-A510-4728-82AF-4A7F34DCF6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Гот.к уроку 2013\Гео9\тяжелое.jpg"/>
          <p:cNvPicPr/>
          <p:nvPr/>
        </p:nvPicPr>
        <p:blipFill>
          <a:blip r:embed="rId1"/>
          <a:stretch/>
        </p:blipFill>
        <p:spPr>
          <a:xfrm>
            <a:off x="536400" y="1841400"/>
            <a:ext cx="1914840" cy="143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Гот.к уроку 2013\Гео9\i.тяжелое.jpg"/>
          <p:cNvPicPr/>
          <p:nvPr/>
        </p:nvPicPr>
        <p:blipFill>
          <a:blip r:embed="rId2"/>
          <a:stretch/>
        </p:blipFill>
        <p:spPr>
          <a:xfrm>
            <a:off x="6510240" y="1908000"/>
            <a:ext cx="2163960" cy="144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2916360" y="1989000"/>
            <a:ext cx="3168360" cy="1313640"/>
          </a:xfrm>
          <a:prstGeom prst="rect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Отрасли тяжелого машиностроения: металлургическое, горно-шахтное, энергетическ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84807"/>
                </a:solidFill>
                <a:latin typeface="Calibri"/>
              </a:rPr>
              <a:t>Проанализируйте схему. В чем выгода развития специализации в промышленности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8BEF-0EC6-47AD-9EE4-D2E4DF46BD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1341360"/>
          <a:ext cx="8713800" cy="4851360"/>
        </p:xfrm>
        <a:graphic>
          <a:graphicData uri="http://schemas.openxmlformats.org/drawingml/2006/table">
            <a:tbl>
              <a:tblPr/>
              <a:tblGrid>
                <a:gridCol w="2195280"/>
                <a:gridCol w="2195640"/>
                <a:gridCol w="2195640"/>
                <a:gridCol w="2127240"/>
              </a:tblGrid>
              <a:tr h="1376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Специализация –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роизводство на предприятиях ( в цехе) какого-либо одного продукта, отдельных частей  и деталей, усл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готовых изде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ых частей  и дет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 полуфабрик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ет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ональ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ка готовых изде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ка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ых частей  и дет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ка полуфабрик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ставление усл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операция – объединение специализированных предприятий для выпуска готовой проду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84807"/>
                </a:solidFill>
                <a:latin typeface="Calibri"/>
              </a:rPr>
              <a:t>География машиностро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-за многообразия факторов, влияющих на размещение, и повсеместности потребляемой продукции машиностроение развито во всех районах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ртам атласа выявите различия по их специализации в машинострое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их из них наиболее и наименее полный состав М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те закономерности в изменении набора специализирующих отрас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B59A-3DDE-48A5-9E58-D49B05CBC4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D:\Гот.к уроку 2013\Гео9\горные.jpg"/>
          <p:cNvPicPr/>
          <p:nvPr/>
        </p:nvPicPr>
        <p:blipFill>
          <a:blip r:embed="rId1"/>
          <a:stretch/>
        </p:blipFill>
        <p:spPr>
          <a:xfrm>
            <a:off x="1468440" y="5151600"/>
            <a:ext cx="1835280" cy="129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Гот.к уроку 2013\Гео9\тяжелое.jpg"/>
          <p:cNvPicPr/>
          <p:nvPr/>
        </p:nvPicPr>
        <p:blipFill>
          <a:blip r:embed="rId2"/>
          <a:stretch/>
        </p:blipFill>
        <p:spPr>
          <a:xfrm>
            <a:off x="6656400" y="4937040"/>
            <a:ext cx="191448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Гот.к уроку 2013\Гео9\трамвай.jpg"/>
          <p:cNvPicPr/>
          <p:nvPr/>
        </p:nvPicPr>
        <p:blipFill>
          <a:blip r:embed="rId3"/>
          <a:stretch/>
        </p:blipFill>
        <p:spPr>
          <a:xfrm>
            <a:off x="4059360" y="5151600"/>
            <a:ext cx="17254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8:13:24Z</dcterms:created>
  <dc:creator>OLDI</dc:creator>
  <dc:description/>
  <dc:language>en-US</dc:language>
  <cp:lastModifiedBy>OLDI</cp:lastModifiedBy>
  <dcterms:modified xsi:type="dcterms:W3CDTF">2013-10-25T21:24:40Z</dcterms:modified>
  <cp:revision>21</cp:revision>
  <dc:subject/>
  <dc:title>Слайд 1</dc:title>
</cp:coreProperties>
</file>