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BE65-180E-4C9F-9E96-90B564F86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985C-0898-4BF7-9986-619D9C827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6878-A543-4277-9767-B342A70A7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81A1-DE9B-490F-B7C2-A2B26703B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54D1-23D4-42E5-B022-8DB02358D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6CAE-1E87-4B99-9BBE-0D36757CA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ABB5-2C29-4754-8DC0-47B3055A9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4F59-0717-464F-8B78-9D7C64B87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3E56-28D6-4136-9ADD-00FC73C58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9D6F-BA4C-4F38-94E2-C811F114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7569-7AAF-4AED-AF16-D9281DD2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7001-40C7-4BEF-9C08-1D8F842D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beef4"/>
            </a:gs>
            <a:gs pos="100000">
              <a:srgbClr val="92d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082F2-2023-4743-8FBE-068E365956A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EB89B-99FE-4323-A992-956D1EA283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20160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84807"/>
                </a:solidFill>
                <a:latin typeface="Calibri"/>
                <a:ea typeface="Andalus"/>
              </a:rPr>
              <a:t>Машиностроение России.</a:t>
            </a:r>
            <a:br>
              <a:rPr sz="4000"/>
            </a:br>
            <a:r>
              <a:rPr b="1" lang="ru-RU" sz="4000" spc="-1" strike="noStrike">
                <a:solidFill>
                  <a:srgbClr val="984807"/>
                </a:solidFill>
                <a:latin typeface="Calibri"/>
                <a:ea typeface="Andalus"/>
              </a:rPr>
              <a:t>Факторы размещения и география отраслей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36640"/>
            <a:ext cx="64008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рок –практику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еография России, 9 клас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E:\Библ_картинок\Библиотека картинок\Предметный мир\Бытовые предметы\TN_Plugwire.JPG"/>
          <p:cNvPicPr/>
          <p:nvPr/>
        </p:nvPicPr>
        <p:blipFill>
          <a:blip r:embed="rId1"/>
          <a:stretch/>
        </p:blipFill>
        <p:spPr>
          <a:xfrm>
            <a:off x="2766960" y="469800"/>
            <a:ext cx="1414440" cy="1163880"/>
          </a:xfrm>
          <a:prstGeom prst="rect">
            <a:avLst/>
          </a:prstGeom>
          <a:ln w="0">
            <a:noFill/>
          </a:ln>
        </p:spPr>
      </p:pic>
      <p:sp>
        <p:nvSpPr>
          <p:cNvPr id="44" name="Дата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8ED32-1458-4B1B-9C8E-F3A7C171ED29}" type="datetime">
              <a:rPr b="0" lang="ru-RU" sz="1600" spc="-1" strike="noStrike">
                <a:solidFill>
                  <a:srgbClr val="000000"/>
                </a:solidFill>
                <a:latin typeface="Calibri"/>
              </a:rPr>
              <a:t>31.07.26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10" descr="Z:\newtek\_backgrounds_1.02\Tim\pptemp1\control_panel.gif"/>
          <p:cNvPicPr/>
          <p:nvPr/>
        </p:nvPicPr>
        <p:blipFill>
          <a:blip r:embed="rId2"/>
          <a:stretch/>
        </p:blipFill>
        <p:spPr>
          <a:xfrm>
            <a:off x="244440" y="328680"/>
            <a:ext cx="1395360" cy="1396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Z:\newtek\_backgrounds_1.02\Tim\pptemp1\three_levers.jpg"/>
          <p:cNvPicPr/>
          <p:nvPr/>
        </p:nvPicPr>
        <p:blipFill>
          <a:blip r:embed="rId3"/>
          <a:stretch/>
        </p:blipFill>
        <p:spPr>
          <a:xfrm>
            <a:off x="7016760" y="109440"/>
            <a:ext cx="1841400" cy="1165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Z:\newtek\_backgrounds_1.02\Tim\pptemp1\dozer.jpg"/>
          <p:cNvPicPr/>
          <p:nvPr/>
        </p:nvPicPr>
        <p:blipFill>
          <a:blip r:embed="rId4"/>
          <a:stretch/>
        </p:blipFill>
        <p:spPr>
          <a:xfrm>
            <a:off x="5211720" y="689040"/>
            <a:ext cx="1841400" cy="1006560"/>
          </a:xfrm>
          <a:prstGeom prst="rect">
            <a:avLst/>
          </a:prstGeom>
          <a:ln w="0">
            <a:noFill/>
          </a:ln>
        </p:spPr>
      </p:pic>
      <p:sp>
        <p:nvSpPr>
          <p:cNvPr id="48" name="TextBox 11"/>
          <p:cNvSpPr/>
          <p:nvPr/>
        </p:nvSpPr>
        <p:spPr>
          <a:xfrm>
            <a:off x="4211640" y="5805360"/>
            <a:ext cx="39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итель географии Аитова Ф.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БОУ СОШ №13  им.В.А.Джанибеко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A25C5-7522-455B-981F-35402104C97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D:\Гот.к уроку 2013\Гео9\i.jpg"/>
          <p:cNvPicPr/>
          <p:nvPr/>
        </p:nvPicPr>
        <p:blipFill>
          <a:blip r:embed="rId1"/>
          <a:stretch/>
        </p:blipFill>
        <p:spPr>
          <a:xfrm>
            <a:off x="539640" y="404640"/>
            <a:ext cx="7848720" cy="58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5130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807"/>
                </a:solidFill>
                <a:latin typeface="Calibri"/>
              </a:rPr>
              <a:t>Различия в уровне развития и особенностях машиностроения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3284280"/>
            <a:ext cx="8229600" cy="28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картам атласа выявите различия районов России по их специализации в машиностроен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каких из них наиболее полный состав МК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явите географические закономерности в изменении набора специализирующих отраслей по территории стран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6F693-BFF4-43B1-B692-6EE8C63B5AA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D:\Гот.к уроку 2013\Гео9\Суда.jpg"/>
          <p:cNvPicPr/>
          <p:nvPr/>
        </p:nvPicPr>
        <p:blipFill>
          <a:blip r:embed="rId1"/>
          <a:stretch/>
        </p:blipFill>
        <p:spPr>
          <a:xfrm>
            <a:off x="963720" y="2127240"/>
            <a:ext cx="1919160" cy="14382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D:\Гот.к уроку 2013\Гео9\автомобили.jpg"/>
          <p:cNvPicPr/>
          <p:nvPr/>
        </p:nvPicPr>
        <p:blipFill>
          <a:blip r:embed="rId2"/>
          <a:stretch/>
        </p:blipFill>
        <p:spPr>
          <a:xfrm>
            <a:off x="5718240" y="2054160"/>
            <a:ext cx="191448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ru-RU" sz="2500" spc="-1" strike="noStrike">
                <a:solidFill>
                  <a:srgbClr val="984807"/>
                </a:solidFill>
                <a:latin typeface="Calibri"/>
              </a:rPr>
              <a:t>Практическая  работа с картами атласа. </a:t>
            </a:r>
            <a:br>
              <a:rPr sz="2500"/>
            </a:br>
            <a:r>
              <a:rPr b="0" lang="ru-RU" sz="2900" spc="-1" strike="noStrike">
                <a:solidFill>
                  <a:srgbClr val="984807"/>
                </a:solidFill>
                <a:latin typeface="Calibri"/>
              </a:rPr>
              <a:t>Определение  главных районов размещения отраслей трудоемкого и металлоемкого машиностроения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242100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картам атласа сопоставьте географию металлургии и металлоемкого машиностроения. Всегда ли они совпадают?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поставьте карту «Машиностроение» с картой «Плотность населения».Сделайте выво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йдите по  5 центров тяжелого и трудоемкого  машиностроения.   Отметьте их на контурной карте общепринятыми условными знак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умайте, какова специализация машиностроения Московской области? Чем она объясняетс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5A3A9-2541-462C-8B2F-60D49FCB845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1483920"/>
            <a:ext cx="7772400" cy="14698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84807"/>
                </a:solidFill>
                <a:latin typeface="Calibri"/>
                <a:ea typeface="Andalus"/>
              </a:rPr>
              <a:t>Цели урок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25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знакомить с факторами размещения и географией машиностроительной отрасл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вести понятия «специализация», «кооперация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Дата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102D6-1458-4F3B-9318-8FC3B5B5D906}" type="datetime">
              <a:rPr b="0" lang="ru-RU" sz="1600" spc="-1" strike="noStrike">
                <a:solidFill>
                  <a:srgbClr val="000000"/>
                </a:solidFill>
                <a:latin typeface="Calibri"/>
              </a:rPr>
              <a:t>31.07.26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404280"/>
            <a:ext cx="8218440" cy="17290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84807"/>
                </a:solidFill>
                <a:latin typeface="Calibri"/>
              </a:rPr>
              <a:t>Проблемные вопросы урока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78136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ие факторы следует учитывать при размещении машиностроительных заводов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де нужно построить машзавод, чтобы он работал ритмично, продукция конкурентоспособна, а предприятие не было убыточным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чем различие машиностроения европейской и азиатской частей Росси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2922C-15F4-4BF5-ACF5-513DD3DA06D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D:\Гот.к уроку 2013\Гео9\экономика.jpg"/>
          <p:cNvPicPr/>
          <p:nvPr/>
        </p:nvPicPr>
        <p:blipFill>
          <a:blip r:embed="rId1"/>
          <a:stretch/>
        </p:blipFill>
        <p:spPr>
          <a:xfrm>
            <a:off x="3560760" y="5224320"/>
            <a:ext cx="152892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12240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84807"/>
                </a:solidFill>
                <a:latin typeface="Calibri"/>
                <a:ea typeface="Andalus"/>
              </a:rPr>
              <a:t>Факторы размещ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География машиностроения определяется множеством фактор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риентация на передовую наук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енно-стратегический факто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удоемк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таллоемк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риентация на потребител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анспортный факто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A40FB-4893-499C-8EAE-CE787B428BF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D:\Гот.к уроку 2013\Гео9\авто.jpg"/>
          <p:cNvPicPr/>
          <p:nvPr/>
        </p:nvPicPr>
        <p:blipFill>
          <a:blip r:embed="rId1"/>
          <a:stretch/>
        </p:blipFill>
        <p:spPr>
          <a:xfrm>
            <a:off x="4711680" y="5297400"/>
            <a:ext cx="1738440" cy="1365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D:\Гот.к уроку 2013\Гео9\сельско.jpg"/>
          <p:cNvPicPr/>
          <p:nvPr/>
        </p:nvPicPr>
        <p:blipFill>
          <a:blip r:embed="rId2"/>
          <a:stretch/>
        </p:blipFill>
        <p:spPr>
          <a:xfrm>
            <a:off x="5791320" y="3998880"/>
            <a:ext cx="2170080" cy="1457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D:\Гот.к уроку 2013\Гео9\науко.jpg"/>
          <p:cNvPicPr/>
          <p:nvPr/>
        </p:nvPicPr>
        <p:blipFill>
          <a:blip r:embed="rId3"/>
          <a:stretch/>
        </p:blipFill>
        <p:spPr>
          <a:xfrm>
            <a:off x="6797520" y="2633760"/>
            <a:ext cx="210204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807"/>
                </a:solidFill>
                <a:latin typeface="Calibri"/>
              </a:rPr>
              <a:t>Наукоемкие отрасли.</a:t>
            </a:r>
            <a:br>
              <a:rPr sz="3600"/>
            </a:br>
            <a:r>
              <a:rPr b="1" lang="ru-RU" sz="3600" spc="-1" strike="noStrike">
                <a:solidFill>
                  <a:srgbClr val="984807"/>
                </a:solidFill>
                <a:latin typeface="Calibri"/>
              </a:rPr>
              <a:t>Военно-стратегический фактор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270792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овейшие отрасли(электроника, авиакосмическая, атомная) –опираются на научную базу: НИИ, КБ, опытные заво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ределите географию наукоемких производст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чительная часть машзаводов выпускают оборонную продукц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 их размещении учитываются интересы национальной безопас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B1ECB-F6E9-496B-B30E-2AAF3DAEE2C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2240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84807"/>
                </a:solidFill>
                <a:latin typeface="Calibri"/>
              </a:rPr>
              <a:t>Трудоемкость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436536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изводство машин требует больших затрат тру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этому многие отрасли тяготеют к районам с высокой плотностью насел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16C4A-69C5-4FE6-834B-1EC257A4230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D:\Гот.к уроку 2013\Гео9\науко.jpg"/>
          <p:cNvPicPr/>
          <p:nvPr/>
        </p:nvPicPr>
        <p:blipFill>
          <a:blip r:embed="rId1"/>
          <a:stretch/>
        </p:blipFill>
        <p:spPr>
          <a:xfrm>
            <a:off x="6870600" y="2273400"/>
            <a:ext cx="1737000" cy="1164960"/>
          </a:xfrm>
          <a:prstGeom prst="rect">
            <a:avLst/>
          </a:prstGeom>
          <a:ln w="0">
            <a:noFill/>
          </a:ln>
        </p:spPr>
      </p:pic>
      <p:sp>
        <p:nvSpPr>
          <p:cNvPr id="69" name="TextBox 6"/>
          <p:cNvSpPr/>
          <p:nvPr/>
        </p:nvSpPr>
        <p:spPr>
          <a:xfrm>
            <a:off x="2843280" y="2565360"/>
            <a:ext cx="3673440" cy="119124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807"/>
                </a:solidFill>
                <a:latin typeface="Calibri"/>
              </a:rPr>
              <a:t>Высокая трудоемкость присуща станкостроению,  приборостроен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D:\Гот.к уроку 2013\Гео9\наукоемкое.jpg"/>
          <p:cNvPicPr/>
          <p:nvPr/>
        </p:nvPicPr>
        <p:blipFill>
          <a:blip r:embed="rId2"/>
          <a:stretch/>
        </p:blipFill>
        <p:spPr>
          <a:xfrm>
            <a:off x="390600" y="2273400"/>
            <a:ext cx="224316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84807"/>
                </a:solidFill>
                <a:latin typeface="Calibri"/>
              </a:rPr>
              <a:t>Металлоемко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3645000"/>
            <a:ext cx="8229600" cy="24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таллоемкое (тяжелое) машиностроение требует много металла.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этому предприятия, выпускающие их, ориентированы на районы с развитой металлурги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09764-DEA4-4FB0-A6FA-3E44CD2C623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D:\Гот.к уроку 2013\Гео9\тяжелое.jpg"/>
          <p:cNvPicPr/>
          <p:nvPr/>
        </p:nvPicPr>
        <p:blipFill>
          <a:blip r:embed="rId1"/>
          <a:stretch/>
        </p:blipFill>
        <p:spPr>
          <a:xfrm>
            <a:off x="536400" y="1841400"/>
            <a:ext cx="1914840" cy="1438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D:\Гот.к уроку 2013\Гео9\i.тяжелое.jpg"/>
          <p:cNvPicPr/>
          <p:nvPr/>
        </p:nvPicPr>
        <p:blipFill>
          <a:blip r:embed="rId2"/>
          <a:stretch/>
        </p:blipFill>
        <p:spPr>
          <a:xfrm>
            <a:off x="6510240" y="1908000"/>
            <a:ext cx="2163960" cy="1444680"/>
          </a:xfrm>
          <a:prstGeom prst="rect">
            <a:avLst/>
          </a:prstGeom>
          <a:ln w="0">
            <a:noFill/>
          </a:ln>
        </p:spPr>
      </p:pic>
      <p:sp>
        <p:nvSpPr>
          <p:cNvPr id="76" name="TextBox 6"/>
          <p:cNvSpPr/>
          <p:nvPr/>
        </p:nvSpPr>
        <p:spPr>
          <a:xfrm>
            <a:off x="2916360" y="1989000"/>
            <a:ext cx="3168360" cy="1313640"/>
          </a:xfrm>
          <a:prstGeom prst="rect">
            <a:avLst/>
          </a:prstGeom>
          <a:noFill/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Calibri"/>
              </a:rPr>
              <a:t>Отрасли тяжелого машиностроения: металлургическое, горно-шахтное, энергетическо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0080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984807"/>
                </a:solidFill>
                <a:latin typeface="Calibri"/>
              </a:rPr>
              <a:t>Проанализируйте схему. В чем выгода развития специализации в промышленности?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C3B43-7478-4414-9695-ACEB165A9A0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50920" y="1341360"/>
          <a:ext cx="8713800" cy="4851360"/>
        </p:xfrm>
        <a:graphic>
          <a:graphicData uri="http://schemas.openxmlformats.org/drawingml/2006/table">
            <a:tbl>
              <a:tblPr/>
              <a:tblGrid>
                <a:gridCol w="2195280"/>
                <a:gridCol w="2195640"/>
                <a:gridCol w="2195640"/>
                <a:gridCol w="2127240"/>
              </a:tblGrid>
              <a:tr h="1376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504d"/>
                          </a:solidFill>
                          <a:latin typeface="Calibri"/>
                        </a:rPr>
                        <a:t>Специализация –</a:t>
                      </a: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производство на предприятиях ( в цехе) какого-либо одного продукта, отдельных частей  и деталей, услу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7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изводство готовых издел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изводство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дельных частей  и дета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изводство  полуфабрика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изводство  услу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мет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еталь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хнологическа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ункциональна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6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тавка готовых издел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тавка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дельных частей  и дета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тавка полуфабрика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оставление услу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44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операция – объединение специализированных предприятий для выпуска готовой продук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84807"/>
                </a:solidFill>
                <a:latin typeface="Calibri"/>
              </a:rPr>
              <a:t>География машиностро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-за многообразия факторов, влияющих на размещение, и повсеместности потребляемой продукции машиностроение развито во всех районах Росс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картам атласа выявите различия по их специализации в машиностроен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каких из них наиболее и наименее полный состав М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явите закономерности в изменении набора специализирующих отрас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9A767-5502-4EF2-A2F0-58C163CE0F0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3" descr="D:\Гот.к уроку 2013\Гео9\горные.jpg"/>
          <p:cNvPicPr/>
          <p:nvPr/>
        </p:nvPicPr>
        <p:blipFill>
          <a:blip r:embed="rId1"/>
          <a:stretch/>
        </p:blipFill>
        <p:spPr>
          <a:xfrm>
            <a:off x="1468440" y="5151600"/>
            <a:ext cx="1835280" cy="1298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D:\Гот.к уроку 2013\Гео9\тяжелое.jpg"/>
          <p:cNvPicPr/>
          <p:nvPr/>
        </p:nvPicPr>
        <p:blipFill>
          <a:blip r:embed="rId2"/>
          <a:stretch/>
        </p:blipFill>
        <p:spPr>
          <a:xfrm>
            <a:off x="6656400" y="4937040"/>
            <a:ext cx="1914480" cy="1440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D:\Гот.к уроку 2013\Гео9\трамвай.jpg"/>
          <p:cNvPicPr/>
          <p:nvPr/>
        </p:nvPicPr>
        <p:blipFill>
          <a:blip r:embed="rId3"/>
          <a:stretch/>
        </p:blipFill>
        <p:spPr>
          <a:xfrm>
            <a:off x="4059360" y="5151600"/>
            <a:ext cx="172548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5T18:13:24Z</dcterms:created>
  <dc:creator>OLDI</dc:creator>
  <dc:description/>
  <dc:language>en-US</dc:language>
  <cp:lastModifiedBy>OLDI</cp:lastModifiedBy>
  <dcterms:modified xsi:type="dcterms:W3CDTF">2013-10-25T21:24:40Z</dcterms:modified>
  <cp:revision>21</cp:revision>
  <dc:subject/>
  <dc:title>Слайд 1</dc:title>
</cp:coreProperties>
</file>