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CA3-DD71-4F19-AE73-0C0E7BF2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5F3-5390-4FD5-8B5F-89C10322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972-47CA-4FA8-A75E-62BEBA53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7196-0161-478B-A445-B73C0769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AADE-B660-4140-B9DC-2C124795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C784-B0A2-43E0-9490-A1B9D6DB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8767-AD85-47DD-9DAB-98EE8D3F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54C0-4AAB-4A43-B8D4-5A606D55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EF43-17CE-4351-9280-1710B1AA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338F-21C5-4378-AEE6-3817411E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93E0-E464-4EF8-BCE1-61625D22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4B3-94D5-4BDC-8AAC-6593118E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eef4"/>
            </a:gs>
            <a:gs pos="100000">
              <a:srgbClr val="92d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80A3-0CF4-4EE6-9849-4A0350338A4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1771-5990-4081-9381-6885A9C1CD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2016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  <a:ea typeface="Andalus"/>
              </a:rPr>
              <a:t>Машиностроение России.</a:t>
            </a:r>
            <a:br>
              <a:rPr sz="4000"/>
            </a:br>
            <a:r>
              <a:rPr b="1" lang="ru-RU" sz="4000" spc="-1" strike="noStrike">
                <a:solidFill>
                  <a:srgbClr val="984807"/>
                </a:solidFill>
                <a:latin typeface="Calibri"/>
                <a:ea typeface="Andalus"/>
              </a:rPr>
              <a:t>Факторы размещения и география отрасле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3664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к –практику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ография России, 9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Библ_картинок\Библиотека картинок\Предметный мир\Бытовые предметы\TN_Plugwire.JPG"/>
          <p:cNvPicPr/>
          <p:nvPr/>
        </p:nvPicPr>
        <p:blipFill>
          <a:blip r:embed="rId1"/>
          <a:stretch/>
        </p:blipFill>
        <p:spPr>
          <a:xfrm>
            <a:off x="2766960" y="469800"/>
            <a:ext cx="1414440" cy="1163880"/>
          </a:xfrm>
          <a:prstGeom prst="rect">
            <a:avLst/>
          </a:prstGeom>
          <a:ln w="0">
            <a:noFill/>
          </a:ln>
        </p:spPr>
      </p:pic>
      <p:sp>
        <p:nvSpPr>
          <p:cNvPr id="44" name="Дата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A9A5-CA38-4BB5-B391-976CD03C62B3}" type="datetime">
              <a:rPr b="0" lang="ru-RU" sz="16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0" descr="Z:\newtek\_backgrounds_1.02\Tim\pptemp1\control_panel.gif"/>
          <p:cNvPicPr/>
          <p:nvPr/>
        </p:nvPicPr>
        <p:blipFill>
          <a:blip r:embed="rId2"/>
          <a:stretch/>
        </p:blipFill>
        <p:spPr>
          <a:xfrm>
            <a:off x="244440" y="328680"/>
            <a:ext cx="1395360" cy="1396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Z:\newtek\_backgrounds_1.02\Tim\pptemp1\three_levers.jpg"/>
          <p:cNvPicPr/>
          <p:nvPr/>
        </p:nvPicPr>
        <p:blipFill>
          <a:blip r:embed="rId3"/>
          <a:stretch/>
        </p:blipFill>
        <p:spPr>
          <a:xfrm>
            <a:off x="7016760" y="109440"/>
            <a:ext cx="1841400" cy="1165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Z:\newtek\_backgrounds_1.02\Tim\pptemp1\dozer.jpg"/>
          <p:cNvPicPr/>
          <p:nvPr/>
        </p:nvPicPr>
        <p:blipFill>
          <a:blip r:embed="rId4"/>
          <a:stretch/>
        </p:blipFill>
        <p:spPr>
          <a:xfrm>
            <a:off x="5211720" y="689040"/>
            <a:ext cx="1841400" cy="1006560"/>
          </a:xfrm>
          <a:prstGeom prst="rect">
            <a:avLst/>
          </a:prstGeom>
          <a:ln w="0">
            <a:noFill/>
          </a:ln>
        </p:spPr>
      </p:pic>
      <p:sp>
        <p:nvSpPr>
          <p:cNvPr id="48" name="TextBox 11"/>
          <p:cNvSpPr/>
          <p:nvPr/>
        </p:nvSpPr>
        <p:spPr>
          <a:xfrm>
            <a:off x="4211640" y="580536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географии Аитова Ф.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БОУ СОШ №13  им.В.А.Джанибе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77F3-5C25-444F-BC04-BD4EA3B0730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D:\Гот.к уроку 2013\Гео9\i.jpg"/>
          <p:cNvPicPr/>
          <p:nvPr/>
        </p:nvPicPr>
        <p:blipFill>
          <a:blip r:embed="rId1"/>
          <a:stretch/>
        </p:blipFill>
        <p:spPr>
          <a:xfrm>
            <a:off x="539640" y="404640"/>
            <a:ext cx="784872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130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Различия в уровне развития и особенностях машинострое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картам атласа выявите различия районов России по их специализации в машиностро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аких из них наиболее полный состав МК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ите географические закономерности в изменении набора специализирующих отраслей по территории стра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1956-133A-4687-9314-37918629C81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D:\Гот.к уроку 2013\Гео9\Суда.jpg"/>
          <p:cNvPicPr/>
          <p:nvPr/>
        </p:nvPicPr>
        <p:blipFill>
          <a:blip r:embed="rId1"/>
          <a:stretch/>
        </p:blipFill>
        <p:spPr>
          <a:xfrm>
            <a:off x="963720" y="2127240"/>
            <a:ext cx="1919160" cy="1438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D:\Гот.к уроку 2013\Гео9\автомобили.jpg"/>
          <p:cNvPicPr/>
          <p:nvPr/>
        </p:nvPicPr>
        <p:blipFill>
          <a:blip r:embed="rId2"/>
          <a:stretch/>
        </p:blipFill>
        <p:spPr>
          <a:xfrm>
            <a:off x="5718240" y="2054160"/>
            <a:ext cx="19144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984807"/>
                </a:solidFill>
                <a:latin typeface="Calibri"/>
              </a:rPr>
              <a:t>Практическая  работа с картами атласа. </a:t>
            </a:r>
            <a:br>
              <a:rPr sz="2500"/>
            </a:br>
            <a:r>
              <a:rPr b="0" lang="ru-RU" sz="2900" spc="-1" strike="noStrike">
                <a:solidFill>
                  <a:srgbClr val="984807"/>
                </a:solidFill>
                <a:latin typeface="Calibri"/>
              </a:rPr>
              <a:t>Определение  главных районов размещения отраслей трудоемкого и металлоемкого машиностроения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421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картам атласа сопоставьте географию металлургии и металлоемкого машиностроения. Всегда ли они совпадают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поставьте карту «Машиностроение» с картой «Плотность населения».Сделайте выв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дите по  5 центров тяжелого и трудоемкого  машиностроения.   Отметьте их на контурной карте общепринятыми условными зна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умайте, какова специализация машиностроения Московской области? Чем она объясняетс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636B-F65A-4455-898D-4D4FACA57B4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772400" cy="14698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  <a:ea typeface="Andalus"/>
              </a:rPr>
              <a:t>Цели урок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 с факторами размещения и географией машиностроительной отрас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вести понятия «специализация», «кооперация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Дата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CD21-0289-45B4-AD08-1940D163B4BC}" type="datetime">
              <a:rPr b="0" lang="ru-RU" sz="16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404280"/>
            <a:ext cx="8218440" cy="17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Проблемные вопросы урока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781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факторы следует учитывать при размещении машиностроительных заводо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де нужно построить машзавод, чтобы он работал ритмично, продукция конкурентоспособна, а предприятие не было убыточны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чем различие машиностроения европейской и азиатской частей Росс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22C4-39D9-46DA-ABDB-04473A62611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D:\Гот.к уроку 2013\Гео9\экономика.jpg"/>
          <p:cNvPicPr/>
          <p:nvPr/>
        </p:nvPicPr>
        <p:blipFill>
          <a:blip r:embed="rId1"/>
          <a:stretch/>
        </p:blipFill>
        <p:spPr>
          <a:xfrm>
            <a:off x="3560760" y="5224320"/>
            <a:ext cx="15289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24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  <a:ea typeface="Andalus"/>
              </a:rPr>
              <a:t>Факторы размещ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География машиностроения определяется множеством факт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иентация на передовую нау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енно-стратегический фак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удоемк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аллоемк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иентация на потреби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портный фак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C861-7E43-4593-9607-BA01FED246D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Гот.к уроку 2013\Гео9\авто.jpg"/>
          <p:cNvPicPr/>
          <p:nvPr/>
        </p:nvPicPr>
        <p:blipFill>
          <a:blip r:embed="rId1"/>
          <a:stretch/>
        </p:blipFill>
        <p:spPr>
          <a:xfrm>
            <a:off x="4711680" y="5297400"/>
            <a:ext cx="1738440" cy="1365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D:\Гот.к уроку 2013\Гео9\сельско.jpg"/>
          <p:cNvPicPr/>
          <p:nvPr/>
        </p:nvPicPr>
        <p:blipFill>
          <a:blip r:embed="rId2"/>
          <a:stretch/>
        </p:blipFill>
        <p:spPr>
          <a:xfrm>
            <a:off x="5791320" y="3998880"/>
            <a:ext cx="2170080" cy="145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D:\Гот.к уроку 2013\Гео9\науко.jpg"/>
          <p:cNvPicPr/>
          <p:nvPr/>
        </p:nvPicPr>
        <p:blipFill>
          <a:blip r:embed="rId3"/>
          <a:stretch/>
        </p:blipFill>
        <p:spPr>
          <a:xfrm>
            <a:off x="6797520" y="2633760"/>
            <a:ext cx="210204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Наукоемкие отрасли.</a:t>
            </a: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Военно-стратегический факто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707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вейшие отрасли(электроника, авиакосмическая, атомная) –опираются на научную базу: НИИ, КБ, опытные за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ите географию наукоемких производ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ительная часть машзаводов выпускают оборонную продук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их размещении учитываются интересы национальной безопас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CDD4-ECFE-4DA5-97F8-76A238083B8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24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Трудоемк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436536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о машин требует больших затрат тру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многие отрасли тяготеют к районам с высокой плотностью насе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BD12-5F2D-4719-B416-4560FF40F98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D:\Гот.к уроку 2013\Гео9\науко.jpg"/>
          <p:cNvPicPr/>
          <p:nvPr/>
        </p:nvPicPr>
        <p:blipFill>
          <a:blip r:embed="rId1"/>
          <a:stretch/>
        </p:blipFill>
        <p:spPr>
          <a:xfrm>
            <a:off x="6870600" y="2273400"/>
            <a:ext cx="1737000" cy="1164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2843280" y="2565360"/>
            <a:ext cx="3673440" cy="119124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Высокая трудоемкость присуща станкостроению,  приборостро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D:\Гот.к уроку 2013\Гео9\наукоемкое.jpg"/>
          <p:cNvPicPr/>
          <p:nvPr/>
        </p:nvPicPr>
        <p:blipFill>
          <a:blip r:embed="rId2"/>
          <a:stretch/>
        </p:blipFill>
        <p:spPr>
          <a:xfrm>
            <a:off x="390600" y="2273400"/>
            <a:ext cx="22431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Металлоемк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аллоемкое (тяжелое) машиностроение требует много металла.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предприятия, выпускающие их, ориентированы на районы с развитой металлурги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2990-7A81-4978-B49E-17D52AF4540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D:\Гот.к уроку 2013\Гео9\тяжелое.jpg"/>
          <p:cNvPicPr/>
          <p:nvPr/>
        </p:nvPicPr>
        <p:blipFill>
          <a:blip r:embed="rId1"/>
          <a:stretch/>
        </p:blipFill>
        <p:spPr>
          <a:xfrm>
            <a:off x="536400" y="1841400"/>
            <a:ext cx="1914840" cy="143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D:\Гот.к уроку 2013\Гео9\i.тяжелое.jpg"/>
          <p:cNvPicPr/>
          <p:nvPr/>
        </p:nvPicPr>
        <p:blipFill>
          <a:blip r:embed="rId2"/>
          <a:stretch/>
        </p:blipFill>
        <p:spPr>
          <a:xfrm>
            <a:off x="6510240" y="1908000"/>
            <a:ext cx="2163960" cy="1444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2916360" y="1989000"/>
            <a:ext cx="3168360" cy="1313640"/>
          </a:xfrm>
          <a:prstGeom prst="rect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Отрасли тяжелого машиностроения: металлургическое, горно-шахтное, энергетическ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84807"/>
                </a:solidFill>
                <a:latin typeface="Calibri"/>
              </a:rPr>
              <a:t>Проанализируйте схему. В чем выгода развития специализации в промышленности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EE52-E8A5-47F3-AA6D-8741402697C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0920" y="1341360"/>
          <a:ext cx="8713800" cy="4851360"/>
        </p:xfrm>
        <a:graphic>
          <a:graphicData uri="http://schemas.openxmlformats.org/drawingml/2006/table">
            <a:tbl>
              <a:tblPr/>
              <a:tblGrid>
                <a:gridCol w="2195280"/>
                <a:gridCol w="2195640"/>
                <a:gridCol w="2195640"/>
                <a:gridCol w="2127240"/>
              </a:tblGrid>
              <a:tr h="1376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Специализация –</a:t>
                      </a: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производство на предприятиях ( в цехе) какого-либо одного продукта, отдельных частей  и деталей, услу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готовых издел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ых частей  и дета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 полуфабрика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 усл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ет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ологическ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кциональ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вка готовых издел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вка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ых частей  и дета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вка полуфабрика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оставление усл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операция – объединение специализированных предприятий для выпуска готовой проду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84807"/>
                </a:solidFill>
                <a:latin typeface="Calibri"/>
              </a:rPr>
              <a:t>География машиностро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-за многообразия факторов, влияющих на размещение, и повсеместности потребляемой продукции машиностроение развито во всех районах Ро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картам атласа выявите различия по их специализации в машиностроен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аких из них наиболее и наименее полный состав М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ите закономерности в изменении набора специализирующих отрас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C606-B2A3-4152-85EA-E0363C6E56D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D:\Гот.к уроку 2013\Гео9\горные.jpg"/>
          <p:cNvPicPr/>
          <p:nvPr/>
        </p:nvPicPr>
        <p:blipFill>
          <a:blip r:embed="rId1"/>
          <a:stretch/>
        </p:blipFill>
        <p:spPr>
          <a:xfrm>
            <a:off x="1468440" y="5151600"/>
            <a:ext cx="1835280" cy="1298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D:\Гот.к уроку 2013\Гео9\тяжелое.jpg"/>
          <p:cNvPicPr/>
          <p:nvPr/>
        </p:nvPicPr>
        <p:blipFill>
          <a:blip r:embed="rId2"/>
          <a:stretch/>
        </p:blipFill>
        <p:spPr>
          <a:xfrm>
            <a:off x="6656400" y="4937040"/>
            <a:ext cx="1914480" cy="144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D:\Гот.к уроку 2013\Гео9\трамвай.jpg"/>
          <p:cNvPicPr/>
          <p:nvPr/>
        </p:nvPicPr>
        <p:blipFill>
          <a:blip r:embed="rId3"/>
          <a:stretch/>
        </p:blipFill>
        <p:spPr>
          <a:xfrm>
            <a:off x="4059360" y="5151600"/>
            <a:ext cx="172548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8:13:24Z</dcterms:created>
  <dc:creator>OLDI</dc:creator>
  <dc:description/>
  <dc:language>en-US</dc:language>
  <cp:lastModifiedBy>OLDI</cp:lastModifiedBy>
  <dcterms:modified xsi:type="dcterms:W3CDTF">2013-10-25T21:24:40Z</dcterms:modified>
  <cp:revision>21</cp:revision>
  <dc:subject/>
  <dc:title>Слайд 1</dc:title>
</cp:coreProperties>
</file>