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D64-881D-4742-82E1-FC389822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B49-0FBD-4C70-A70D-61DF4CF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468-307A-4CCE-98FA-92876D45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673-88B2-471F-AC4E-F75226EB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93AF-9213-4A5F-AC72-9DCD2C80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8910-3273-4E1E-BDA7-CF639DD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68605-8B17-484F-BCD5-11D6AD4A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F87AD-867D-403F-817D-7A27006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C6B9F-7B73-4718-96BF-3F2196F7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3EF6C-5959-4651-9BB5-BAEC3848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9124-E52E-4941-93ED-393D2AD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EC5-126A-40CE-9C99-47C4560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8F9EA-5E18-4D4B-A645-9A76756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F5CC-818F-467B-969B-3809688F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0C38A-FC2F-43E7-A709-DD47EB1B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F40C1-0700-4775-A660-4F8C6B88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F5C1E-2052-489C-9AB8-40B6D4C7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1584-5DE4-4DCC-9C9D-33606E78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0207-045A-477B-9D21-2828E35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BAE5-61BF-4437-8913-466EE3F5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7FE9-7832-496F-8987-5DC97E06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5B19-C7C5-403A-B41A-ECE6ABC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2A8-B68D-4DD8-960E-B43D86AF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B2FE-AC65-4533-9349-1B6E299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FC75-00F7-463B-8B06-85280B3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B07F-22C2-4D87-A65F-BDB8284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0C7E-706A-419A-9699-3E4FFC0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4B2F-7E1D-4349-BD78-B4C0EEA8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2FD8-6DD0-4AEA-ACFB-543DCE56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001B-CEC6-403B-8551-02AE4C22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B0920-B97A-444C-8DE9-311C8014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38497-FEAA-410A-B180-9B9CEE2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D716F-157E-4DFD-B5A5-75CF9668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39D-50B8-4E1A-9684-FB17A2A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9F968-800D-4893-B434-852E073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624D0-B22A-46CB-80A4-481CD86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96FCD-5C53-4D41-9C8F-CC0C4AF6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B49F6-CC7D-4C8F-A6EC-5077500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83D53-4CB8-4A94-AB6A-5744472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B01FB-733A-41DE-B277-E50D6B3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6C468-3842-4695-9800-108A3B2E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C70AD-05DD-4D44-976E-6B9961A6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DE976-B420-4B06-A772-01AE4FBC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7A-EF51-4C35-9B16-04B2AEAC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BAD-36B3-4B8D-B71F-7B1B67BB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5DD-72A1-4215-BB32-E455FB6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437-122D-4CBE-81CB-258AFBF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5CD-CD4B-4691-B45C-C3B7283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8F94C1-46F1-42D8-BF50-5E01DA117B44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E7C5B2-E13D-467E-91A4-B1D4BC2D500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F0B9C3-A763-40C4-8652-6CC923BB1720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A91A0C-303D-4990-A034-C3B2AAE386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76" name="Picture 2" descr="C:\Documents and Settings\Admin\Рабочий стол\фото\мариинск\P1030082.JPG"/>
          <p:cNvPicPr/>
          <p:nvPr/>
        </p:nvPicPr>
        <p:blipFill>
          <a:blip r:embed="rId1"/>
          <a:stretch/>
        </p:blipFill>
        <p:spPr>
          <a:xfrm>
            <a:off x="1071360" y="1714320"/>
            <a:ext cx="8072280" cy="514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143000" y="0"/>
            <a:ext cx="785772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фото\мариинск\P1030119.JPG"/>
          <p:cNvPicPr/>
          <p:nvPr/>
        </p:nvPicPr>
        <p:blipFill>
          <a:blip r:embed="rId1"/>
          <a:stretch/>
        </p:blipFill>
        <p:spPr>
          <a:xfrm>
            <a:off x="357120" y="1714320"/>
            <a:ext cx="8500680" cy="5143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571400"/>
          </a:xfrm>
          <a:prstGeom prst="rect">
            <a:avLst/>
          </a:prstGeom>
          <a:solidFill>
            <a:schemeClr val="lt1"/>
          </a:solidFill>
          <a:ln w="38160">
            <a:solidFill>
              <a:srgbClr val="e7bc29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000000"/>
                </a:solidFill>
                <a:latin typeface="Constantia"/>
              </a:rPr>
              <a:t>К середине XIX века вместо выверенного классицизма распространилось многостилье. С этого времени до 1917 года неизменно расширялся диапазон стилей, употребляемых в проектной практике. На облик русских городов повлияло национальное обновление строительства в послереволюционной Европе 1830 – 1860–х гг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876920" y="214200"/>
            <a:ext cx="4266720" cy="341424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0" y="214200"/>
            <a:ext cx="4785840" cy="7000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713960"/>
          </a:xfrm>
          <a:prstGeom prst="rect">
            <a:avLst/>
          </a:prstGeom>
          <a:solidFill>
            <a:schemeClr val="lt1"/>
          </a:solidFill>
          <a:ln w="25560">
            <a:solidFill>
              <a:srgbClr val="9cb084"/>
            </a:solidFill>
            <a:round/>
          </a:ln>
        </p:spPr>
        <p:txBody>
          <a:bodyPr lIns="90000" rIns="90000" tIns="45000" bIns="45000" anchor="ctr">
            <a:normAutofit fontScale="83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СИБЛАГ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chemeClr val="dk1"/>
                </a:solidFill>
                <a:latin typeface="Book Antiqua"/>
              </a:rPr>
              <a:t>В 1930-е гг. Мариинск, конкурируя с Новосибирском, стал официальным и фактическим центром сибирских концентрационных лагерей. Главное административное здание СИБЛАГа возводили в формах «сталинского неоклассицизма». К 1940 году, освобождая место для этого огромного сооружения, снесли городской Никольский собор с шатровой колокольней, построенный еще в 1824 году, в эпоху настоящего классицизма, задолго до превращения села Кийское в город Мариинск.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Picture 2" descr="C:\Documents and Settings\Admin\Рабочий стол\фото\мариинск\P1030094.JPG"/>
          <p:cNvPicPr/>
          <p:nvPr/>
        </p:nvPicPr>
        <p:blipFill>
          <a:blip r:embed="rId1"/>
          <a:stretch/>
        </p:blipFill>
        <p:spPr>
          <a:xfrm>
            <a:off x="357120" y="1760400"/>
            <a:ext cx="84294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187" name="Picture 2" descr="C:\Documents and Settings\Admin\Рабочий стол\фото\мариинск\P1030089.JPG"/>
          <p:cNvPicPr/>
          <p:nvPr/>
        </p:nvPicPr>
        <p:blipFill>
          <a:blip r:embed="rId1"/>
          <a:stretch/>
        </p:blipFill>
        <p:spPr>
          <a:xfrm>
            <a:off x="2500200" y="0"/>
            <a:ext cx="6643440" cy="4928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Admin\Рабочий стол\фото\мариинск\P1030090.JPG"/>
          <p:cNvPicPr/>
          <p:nvPr/>
        </p:nvPicPr>
        <p:blipFill>
          <a:blip r:embed="rId2"/>
          <a:stretch/>
        </p:blipFill>
        <p:spPr>
          <a:xfrm>
            <a:off x="0" y="1714320"/>
            <a:ext cx="6928920" cy="514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Admin\Рабочий стол\фото\мариинск\P1030100.JPG"/>
          <p:cNvPicPr/>
          <p:nvPr/>
        </p:nvPicPr>
        <p:blipFill>
          <a:blip r:embed="rId3"/>
          <a:stretch/>
        </p:blipFill>
        <p:spPr>
          <a:xfrm>
            <a:off x="428760" y="500040"/>
            <a:ext cx="821484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214840" cy="55717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3" descr="C:\Documents and Settings\Admin\Рабочий стол\фото\мариинск\P1030137.JPG"/>
          <p:cNvPicPr/>
          <p:nvPr/>
        </p:nvPicPr>
        <p:blipFill>
          <a:blip r:embed="rId2"/>
          <a:stretch/>
        </p:blipFill>
        <p:spPr>
          <a:xfrm>
            <a:off x="0" y="0"/>
            <a:ext cx="4357440" cy="3857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Admin\Рабочий стол\фото\мариинск\P1030139.JPG"/>
          <p:cNvPicPr/>
          <p:nvPr/>
        </p:nvPicPr>
        <p:blipFill>
          <a:blip r:embed="rId3"/>
          <a:stretch/>
        </p:blipFill>
        <p:spPr>
          <a:xfrm>
            <a:off x="2143080" y="1571760"/>
            <a:ext cx="5285880" cy="401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4214880" y="3228840"/>
            <a:ext cx="4928760" cy="3628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Admin\Рабочий стол\фото\мариинск\P1030106.JPG"/>
          <p:cNvPicPr/>
          <p:nvPr/>
        </p:nvPicPr>
        <p:blipFill>
          <a:blip r:embed="rId1"/>
          <a:stretch/>
        </p:blipFill>
        <p:spPr>
          <a:xfrm>
            <a:off x="0" y="857160"/>
            <a:ext cx="4660920" cy="60004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57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214880" y="357120"/>
            <a:ext cx="4928760" cy="40003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572080" y="3571920"/>
            <a:ext cx="2499840" cy="32857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-95400" y="0"/>
            <a:ext cx="9239040" cy="9046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  <Words>4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0T05:36:4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69256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7</vt:r8>
  </property>
</Properties>
</file>