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4B5-B10F-4C98-AC01-07C98DC6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C11-96A1-4E7D-BC74-BFBFB9BC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3CD-703D-4A7D-8AB0-24D8FB07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16F-FD8A-4CE4-B422-571E5A16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4D473-1355-4A85-A052-62C1FA22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523F8-B498-456B-933F-BFD22A9E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A0DBB-0B67-40CA-89D9-02A91665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77B22-BAC0-413A-8409-5B9B6D7A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F9E42-3819-4EF5-87B0-76969C17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92078-E360-4C15-B5EB-B66D1D6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D142A-EC9E-4A2A-9761-8ED8CE15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B86-FB03-480A-9151-53B0CFFE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5A2D5-8825-436E-87E5-3D710E1A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104A5-76E5-4BF0-8BCE-2CBF4EC2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6DEE5-508F-40B5-9950-AAE01949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42AEE-890C-48A7-8E04-776290E9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AA613-5165-44CB-920E-0D77EF29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BCD5-0AC9-4886-B2B7-381DEE0D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8831-8692-4FC5-8434-5D01E6C8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4FBD-5DFA-411E-8A9F-F8674249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BF16-1E89-43A0-8CE2-14A27056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C1BE-46D4-483D-B384-ED94E283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B25-DC71-4C1F-938F-F0637950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DDD3-3A87-49B5-B2AE-838307BC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AC57-541E-4B54-BD01-2AE10C8A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92A4-E343-4800-A42D-63BA283F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0C1D-B851-4321-9393-CB1A52CB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54FE-5844-4C51-AABB-3E657B3F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E37A-FC88-4847-9BDE-91FEB73B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8480-D51D-4D4D-94A8-8C00EFB5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5F45D-5D8B-40EC-93C0-E98D2271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92D0D-5FF8-4CAA-BCF7-7338417A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2F538-28D7-4F2C-87DD-4E04C17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6DE-D0B2-4CE8-B571-6C24C2D1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8BCEE-02C8-46E4-B526-F906EA7E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33BF1-4F1D-42FD-8648-3EF5DD40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35B8B-BB45-4AE4-897B-19EB98C7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B10C2-26E6-40DF-A0A7-EB3D251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923F5-89EF-4F4A-ACEA-EC6BFE65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CC5A5-E141-44BB-B123-A5D6C337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97DB5-E660-449D-99FE-C9DA54BD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9FC4A-CEEB-4738-A3F7-6C2582A7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32925-BCB9-419D-A8B8-DF62DF44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3CC-69F2-402C-A6F0-A7EBCE37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AC6-A8E1-41F9-AD68-B7B03D3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921-6FE7-4EB5-B2E4-017C373D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C96-6AA0-42C7-833E-6BC6291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B3A-16BC-4338-902C-545CBFB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84EE91-85D0-4380-A4B1-E270472DA91F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9C7874-F8FB-44EA-BD87-3A449FC4CE1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002302-E72B-4F96-9046-4404BD26D5F4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3BC82F-466F-4523-B01D-00117BC7F0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76" name="Picture 2" descr="C:\Documents and Settings\Admin\Рабочий стол\фото\мариинск\P1030082.JPG"/>
          <p:cNvPicPr/>
          <p:nvPr/>
        </p:nvPicPr>
        <p:blipFill>
          <a:blip r:embed="rId1"/>
          <a:stretch/>
        </p:blipFill>
        <p:spPr>
          <a:xfrm>
            <a:off x="1071360" y="1714320"/>
            <a:ext cx="8072280" cy="5143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1143000" y="0"/>
            <a:ext cx="7857720" cy="1856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Admin\Рабочий стол\фото\мариинск\P1030119.JPG"/>
          <p:cNvPicPr/>
          <p:nvPr/>
        </p:nvPicPr>
        <p:blipFill>
          <a:blip r:embed="rId1"/>
          <a:stretch/>
        </p:blipFill>
        <p:spPr>
          <a:xfrm>
            <a:off x="357120" y="1714320"/>
            <a:ext cx="8500680" cy="51433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571400"/>
          </a:xfrm>
          <a:prstGeom prst="rect">
            <a:avLst/>
          </a:prstGeom>
          <a:solidFill>
            <a:schemeClr val="lt1"/>
          </a:solidFill>
          <a:ln w="38160">
            <a:solidFill>
              <a:srgbClr val="e7bc29"/>
            </a:solidFill>
            <a:round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000000"/>
                </a:solidFill>
                <a:latin typeface="Constantia"/>
              </a:rPr>
              <a:t>К середине XIX века вместо выверенного классицизма распространилось многостилье. С этого времени до 1917 года неизменно расширялся диапазон стилей, употребляемых в проектной практике. На облик русских городов повлияло национальное обновление строительства в послереволюционной Европе 1830 – 1860–х гг.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876920" y="214200"/>
            <a:ext cx="4266720" cy="341424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0" y="214200"/>
            <a:ext cx="4785840" cy="7000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713960"/>
          </a:xfrm>
          <a:prstGeom prst="rect">
            <a:avLst/>
          </a:prstGeom>
          <a:solidFill>
            <a:schemeClr val="lt1"/>
          </a:solidFill>
          <a:ln w="25560">
            <a:solidFill>
              <a:srgbClr val="9cb084"/>
            </a:solidFill>
            <a:round/>
          </a:ln>
        </p:spPr>
        <p:txBody>
          <a:bodyPr lIns="90000" rIns="90000" tIns="45000" bIns="45000" anchor="ctr">
            <a:normAutofit fontScale="83000"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Book Antiqua"/>
              </a:rPr>
              <a:t>СИБЛАГ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chemeClr val="dk1"/>
                </a:solidFill>
                <a:latin typeface="Book Antiqua"/>
              </a:rPr>
              <a:t>В 1930-е гг. Мариинск, конкурируя с Новосибирском, стал официальным и фактическим центром сибирских концентрационных лагерей. Главное административное здание СИБЛАГа возводили в формах «сталинского неоклассицизма». К 1940 году, освобождая место для этого огромного сооружения, снесли городской Никольский собор с шатровой колокольней, построенный еще в 1824 году, в эпоху настоящего классицизма, задолго до превращения села Кийское в город Мариинск.</a:t>
            </a: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5" name="Picture 2" descr="C:\Documents and Settings\Admin\Рабочий стол\фото\мариинск\P1030094.JPG"/>
          <p:cNvPicPr/>
          <p:nvPr/>
        </p:nvPicPr>
        <p:blipFill>
          <a:blip r:embed="rId1"/>
          <a:stretch/>
        </p:blipFill>
        <p:spPr>
          <a:xfrm>
            <a:off x="357120" y="1760400"/>
            <a:ext cx="84294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187" name="Picture 2" descr="C:\Documents and Settings\Admin\Рабочий стол\фото\мариинск\P1030089.JPG"/>
          <p:cNvPicPr/>
          <p:nvPr/>
        </p:nvPicPr>
        <p:blipFill>
          <a:blip r:embed="rId1"/>
          <a:stretch/>
        </p:blipFill>
        <p:spPr>
          <a:xfrm>
            <a:off x="2500200" y="0"/>
            <a:ext cx="6643440" cy="4928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Admin\Рабочий стол\фото\мариинск\P1030090.JPG"/>
          <p:cNvPicPr/>
          <p:nvPr/>
        </p:nvPicPr>
        <p:blipFill>
          <a:blip r:embed="rId2"/>
          <a:stretch/>
        </p:blipFill>
        <p:spPr>
          <a:xfrm>
            <a:off x="0" y="1714320"/>
            <a:ext cx="6928920" cy="5143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Admin\Рабочий стол\фото\мариинск\P1030100.JPG"/>
          <p:cNvPicPr/>
          <p:nvPr/>
        </p:nvPicPr>
        <p:blipFill>
          <a:blip r:embed="rId3"/>
          <a:stretch/>
        </p:blipFill>
        <p:spPr>
          <a:xfrm>
            <a:off x="428760" y="500040"/>
            <a:ext cx="8214840" cy="59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9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214840" cy="557172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3" descr="C:\Documents and Settings\Admin\Рабочий стол\фото\мариинск\P1030137.JPG"/>
          <p:cNvPicPr/>
          <p:nvPr/>
        </p:nvPicPr>
        <p:blipFill>
          <a:blip r:embed="rId2"/>
          <a:stretch/>
        </p:blipFill>
        <p:spPr>
          <a:xfrm>
            <a:off x="0" y="0"/>
            <a:ext cx="4357440" cy="3857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Admin\Рабочий стол\фото\мариинск\P1030139.JPG"/>
          <p:cNvPicPr/>
          <p:nvPr/>
        </p:nvPicPr>
        <p:blipFill>
          <a:blip r:embed="rId3"/>
          <a:stretch/>
        </p:blipFill>
        <p:spPr>
          <a:xfrm>
            <a:off x="2143080" y="1571760"/>
            <a:ext cx="5285880" cy="4016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4214880" y="3228840"/>
            <a:ext cx="4928760" cy="3628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Admin\Рабочий стол\фото\мариинск\P1030106.JPG"/>
          <p:cNvPicPr/>
          <p:nvPr/>
        </p:nvPicPr>
        <p:blipFill>
          <a:blip r:embed="rId1"/>
          <a:stretch/>
        </p:blipFill>
        <p:spPr>
          <a:xfrm>
            <a:off x="0" y="857160"/>
            <a:ext cx="4660920" cy="600048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357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214880" y="357120"/>
            <a:ext cx="4928760" cy="400032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5572080" y="3571920"/>
            <a:ext cx="2499840" cy="328572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-95400" y="0"/>
            <a:ext cx="9239040" cy="90468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  <Words>43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0T05:36:47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692560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  <property fmtid="{D5CDD505-2E9C-101B-9397-08002B2CF9AE}" pid="5" name="PresentationFormat">
    <vt:lpwstr>Экран (4:3)</vt:lpwstr>
  </property>
  <property fmtid="{D5CDD505-2E9C-101B-9397-08002B2CF9AE}" pid="6" name="Slides">
    <vt:r8>7</vt:r8>
  </property>
</Properties>
</file>