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BAA-3B5A-4F88-9E4F-B3F3075D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ABB-C4BB-4842-BBF8-A840FFA4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317-9379-4B77-B8AB-EB654FAC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615-FABB-41BE-BE61-83800D62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BA2B-AEE4-489A-B566-0B5D5BFB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820BD-5318-41C0-BB67-858CD2E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1098E-ECD4-4D83-BFD7-4B949EF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EE187-2752-48A9-8AD0-58BAE0E7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FB51F-C9E6-4D77-B9A8-E9089DF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B7D8-5C1C-474C-9F97-618A3015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9DBF3-1F28-411B-8201-94DE55B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BF4-7D54-41BB-A4E0-DB76F5F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00D2C-AD62-4FB0-9EE9-F53CE7E8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90FB3-44E4-4A61-AE16-5DEC923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390B4-7D5A-4165-A313-0DFF790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0AC97-3C13-46BE-93EF-0F1C4141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921D3-ACB7-4331-896B-8768857E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F427-EFBB-4577-B6DF-6E6E127D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7B36-3198-405B-81A8-F6E0C0A7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6E9E-071A-4FAD-8EB3-7A16EC9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2D8C-6356-4AEF-B91C-DD6F15A4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3360-E0CA-474E-9E3E-AB2406A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22C-58C4-4B85-B884-DBB340CC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C84A-DC20-40AE-A724-B93E2A4F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D544-434B-482C-956F-9A696D13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CFC5-1820-40F5-8375-D61F9D3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8160-D425-4841-B7A8-30CF1DC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0A60-FE06-48C4-BD5F-95EF70EF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E462A-5CD0-42DB-A355-7C02277C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E461-7610-4484-9E9E-A5206A16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F1383-C971-4E46-8B35-3B5EDF9B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364CF-0AF5-492F-A810-48FB6B88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0383D-A635-4009-9E08-EE2B75E7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02D-30FC-444D-BF58-2DA3BBE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5909A-BADB-4F65-9B84-7E382F45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7BB0E-5631-498A-8619-E0D28CA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B830B-7DAB-46EE-9DEA-B4B5AB57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BC743-0129-4CAD-87BE-524B2DEF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E68BF-8DE5-402B-8FFE-05FA1C9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2120F-B082-4906-800E-1D823B8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27DBB-C2E5-4979-A976-BDE5749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F844A-D1C3-42D7-8819-FE0E9739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1E13F-24F5-47A4-B102-79885818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348-8C89-4EF5-B385-0AB6B5A7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31A-3C61-434C-95FA-830E952C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CC1-590A-4A45-972A-9056CF9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B91-EFEA-425A-9549-B908284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5EA-40F6-4D13-A05F-9534AA89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A0273E-E279-4B90-AA27-C2B77FDF2ED1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9CE7D5D-61EB-407B-813E-9D4FDA0C2C7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2FC7B0-1176-46E0-8825-10C719FEBB00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C69EEF-3B3F-4906-AF7F-1718AE250F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76" name="Picture 2" descr="C:\Documents and Settings\Admin\Рабочий стол\фото\мариинск\P1030082.JPG"/>
          <p:cNvPicPr/>
          <p:nvPr/>
        </p:nvPicPr>
        <p:blipFill>
          <a:blip r:embed="rId1"/>
          <a:stretch/>
        </p:blipFill>
        <p:spPr>
          <a:xfrm>
            <a:off x="1071360" y="1714320"/>
            <a:ext cx="8072280" cy="514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143000" y="0"/>
            <a:ext cx="7857720" cy="1856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dmin\Рабочий стол\фото\мариинск\P1030119.JPG"/>
          <p:cNvPicPr/>
          <p:nvPr/>
        </p:nvPicPr>
        <p:blipFill>
          <a:blip r:embed="rId1"/>
          <a:stretch/>
        </p:blipFill>
        <p:spPr>
          <a:xfrm>
            <a:off x="357120" y="1714320"/>
            <a:ext cx="8500680" cy="51433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571400"/>
          </a:xfrm>
          <a:prstGeom prst="rect">
            <a:avLst/>
          </a:prstGeom>
          <a:solidFill>
            <a:schemeClr val="lt1"/>
          </a:solidFill>
          <a:ln w="38160">
            <a:solidFill>
              <a:srgbClr val="e7bc29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00" strike="noStrike">
                <a:solidFill>
                  <a:srgbClr val="000000"/>
                </a:solidFill>
                <a:latin typeface="Constantia"/>
              </a:rPr>
              <a:t>К середине XIX века вместо выверенного классицизма распространилось многостилье. С этого времени до 1917 года неизменно расширялся диапазон стилей, употребляемых в проектной практике. На облик русских городов повлияло национальное обновление строительства в послереволюционной Европе 1830 – 1860–х гг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876920" y="214200"/>
            <a:ext cx="4266720" cy="341424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0" y="214200"/>
            <a:ext cx="4785840" cy="7000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713960"/>
          </a:xfrm>
          <a:prstGeom prst="rect">
            <a:avLst/>
          </a:prstGeom>
          <a:solidFill>
            <a:schemeClr val="lt1"/>
          </a:solidFill>
          <a:ln w="25560">
            <a:solidFill>
              <a:srgbClr val="9cb084"/>
            </a:solidFill>
            <a:round/>
          </a:ln>
        </p:spPr>
        <p:txBody>
          <a:bodyPr lIns="90000" rIns="90000" tIns="45000" bIns="45000" anchor="ctr">
            <a:normAutofit fontScale="83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Book Antiqua"/>
              </a:rPr>
              <a:t>СИБЛАГ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chemeClr val="dk1"/>
                </a:solidFill>
                <a:latin typeface="Book Antiqua"/>
              </a:rPr>
              <a:t>В 1930-е гг. Мариинск, конкурируя с Новосибирском, стал официальным и фактическим центром сибирских концентрационных лагерей. Главное административное здание СИБЛАГа возводили в формах «сталинского неоклассицизма». К 1940 году, освобождая место для этого огромного сооружения, снесли городской Никольский собор с шатровой колокольней, построенный еще в 1824 году, в эпоху настоящего классицизма, задолго до превращения села Кийское в город Мариинск.</a:t>
            </a: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5" name="Picture 2" descr="C:\Documents and Settings\Admin\Рабочий стол\фото\мариинск\P1030094.JPG"/>
          <p:cNvPicPr/>
          <p:nvPr/>
        </p:nvPicPr>
        <p:blipFill>
          <a:blip r:embed="rId1"/>
          <a:stretch/>
        </p:blipFill>
        <p:spPr>
          <a:xfrm>
            <a:off x="357120" y="1760400"/>
            <a:ext cx="84294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187" name="Picture 2" descr="C:\Documents and Settings\Admin\Рабочий стол\фото\мариинск\P1030089.JPG"/>
          <p:cNvPicPr/>
          <p:nvPr/>
        </p:nvPicPr>
        <p:blipFill>
          <a:blip r:embed="rId1"/>
          <a:stretch/>
        </p:blipFill>
        <p:spPr>
          <a:xfrm>
            <a:off x="2500200" y="0"/>
            <a:ext cx="6643440" cy="4928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Admin\Рабочий стол\фото\мариинск\P1030090.JPG"/>
          <p:cNvPicPr/>
          <p:nvPr/>
        </p:nvPicPr>
        <p:blipFill>
          <a:blip r:embed="rId2"/>
          <a:stretch/>
        </p:blipFill>
        <p:spPr>
          <a:xfrm>
            <a:off x="0" y="1714320"/>
            <a:ext cx="6928920" cy="5143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Admin\Рабочий стол\фото\мариинск\P1030100.JPG"/>
          <p:cNvPicPr/>
          <p:nvPr/>
        </p:nvPicPr>
        <p:blipFill>
          <a:blip r:embed="rId3"/>
          <a:stretch/>
        </p:blipFill>
        <p:spPr>
          <a:xfrm>
            <a:off x="428760" y="500040"/>
            <a:ext cx="821484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9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214840" cy="55717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3" descr="C:\Documents and Settings\Admin\Рабочий стол\фото\мариинск\P1030137.JPG"/>
          <p:cNvPicPr/>
          <p:nvPr/>
        </p:nvPicPr>
        <p:blipFill>
          <a:blip r:embed="rId2"/>
          <a:stretch/>
        </p:blipFill>
        <p:spPr>
          <a:xfrm>
            <a:off x="0" y="0"/>
            <a:ext cx="4357440" cy="3857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Admin\Рабочий стол\фото\мариинск\P1030139.JPG"/>
          <p:cNvPicPr/>
          <p:nvPr/>
        </p:nvPicPr>
        <p:blipFill>
          <a:blip r:embed="rId3"/>
          <a:stretch/>
        </p:blipFill>
        <p:spPr>
          <a:xfrm>
            <a:off x="2143080" y="1571760"/>
            <a:ext cx="5285880" cy="4016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tretch/>
        </p:blipFill>
        <p:spPr>
          <a:xfrm>
            <a:off x="4214880" y="3228840"/>
            <a:ext cx="4928760" cy="3628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Admin\Рабочий стол\фото\мариинск\P1030106.JPG"/>
          <p:cNvPicPr/>
          <p:nvPr/>
        </p:nvPicPr>
        <p:blipFill>
          <a:blip r:embed="rId1"/>
          <a:stretch/>
        </p:blipFill>
        <p:spPr>
          <a:xfrm>
            <a:off x="0" y="857160"/>
            <a:ext cx="4660920" cy="600048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357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214880" y="357120"/>
            <a:ext cx="4928760" cy="400032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572080" y="3571920"/>
            <a:ext cx="2499840" cy="328572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-95400" y="0"/>
            <a:ext cx="9239040" cy="904680"/>
          </a:xfrm>
          <a:prstGeom prst="rect">
            <a:avLst/>
          </a:prstGeom>
          <a:ln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  <Words>43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0T05:36:4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69256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  <property fmtid="{D5CDD505-2E9C-101B-9397-08002B2CF9AE}" pid="5" name="PresentationFormat">
    <vt:lpwstr>Экран (4:3)</vt:lpwstr>
  </property>
  <property fmtid="{D5CDD505-2E9C-101B-9397-08002B2CF9AE}" pid="6" name="Slides">
    <vt:r8>7</vt:r8>
  </property>
</Properties>
</file>