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486-088F-4616-8527-50E30176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090-CC4C-4BFE-962E-0BAC4B0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527-B728-4A4F-852E-D0062BAA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7AF-0C7A-4316-83F7-AD794C85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27F-2276-4E26-84E8-9040E10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96C-3981-4C12-BD74-062A4BD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2DD-FDAC-4193-8A55-801BB65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23C-D815-4534-9CA4-EFC7A142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00E-162A-48C9-9503-7163138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886-EC25-4AB0-9F25-7213555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E16-FAF2-4C9D-8F6A-6BB9B9E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3E4-9ADF-45F0-8D43-36871E0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73CD-FACE-404D-B77D-733B811A3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306360" y="251640"/>
              <a:ext cx="8837640" cy="65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0240" y="0"/>
              <a:ext cx="53967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0" y="2693880"/>
              <a:ext cx="6705000" cy="416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Прямоугольник 4"/>
            <p:cNvSpPr/>
            <p:nvPr/>
          </p:nvSpPr>
          <p:spPr>
            <a:xfrm>
              <a:off x="0" y="0"/>
              <a:ext cx="4857840" cy="68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Arial"/>
                </a:rPr>
                <a:t>Д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я лесостепи характерны </a:t>
              </a:r>
              <a:r>
                <a:rPr b="0" i="1" lang="ru-RU" sz="2600" spc="-1" strike="noStrike">
                  <a:solidFill>
                    <a:srgbClr val="ff0000"/>
                  </a:solidFill>
                  <a:latin typeface="Arial"/>
                </a:rPr>
                <a:t>пестрота почв и сочетание междуречных лесных </a:t>
              </a:r>
              <a:r>
                <a:rPr b="0" lang="ru-RU" sz="2600" spc="-1" strike="noStrike">
                  <a:solidFill>
                    <a:srgbClr val="ff0000"/>
                  </a:solidFill>
                  <a:latin typeface="Arial"/>
                </a:rPr>
                <a:t>ландшафтов со степными. В лесной растительности европейской лесостепи преобладают дубравы с примесью липы, ясеня, клена, в западносибирской - березовые рощи (колки) с примесью сосны и лиственницы. (Ель в лесостепной полосе отсутствует.) В лесах развиваются серые лесные почвы, а в разнотравных степях — черноземы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"/>
            <p:cNvPicPr/>
            <p:nvPr/>
          </p:nvPicPr>
          <p:blipFill>
            <a:blip r:embed="rId2"/>
            <a:stretch/>
          </p:blipFill>
          <p:spPr>
            <a:xfrm>
              <a:off x="4786200" y="0"/>
              <a:ext cx="43578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3" descr=""/>
            <p:cNvPicPr/>
            <p:nvPr/>
          </p:nvPicPr>
          <p:blipFill>
            <a:blip r:embed="rId3"/>
            <a:stretch/>
          </p:blipFill>
          <p:spPr>
            <a:xfrm>
              <a:off x="4714920" y="3429000"/>
              <a:ext cx="44290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Прямоугольник 1"/>
            <p:cNvSpPr/>
            <p:nvPr/>
          </p:nvSpPr>
          <p:spPr>
            <a:xfrm>
              <a:off x="0" y="0"/>
              <a:ext cx="4143240" cy="64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 настоящее время основные участки лесостепи распаханы и превращены в сельскохозяйственные угодья, где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выращивают зерновые культуры, свеклу, подсолнечник, картофель, кукурузу, виноград (на западе)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Кроме полеводства, в этих районах развиты садоводство и огородничество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4500720" y="0"/>
              <a:ext cx="46432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"/>
            <p:cNvPicPr/>
            <p:nvPr/>
          </p:nvPicPr>
          <p:blipFill>
            <a:blip r:embed="rId2"/>
            <a:stretch/>
          </p:blipFill>
          <p:spPr>
            <a:xfrm>
              <a:off x="4500720" y="3429000"/>
              <a:ext cx="46432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Прямоугольник 1"/>
            <p:cNvSpPr/>
            <p:nvPr/>
          </p:nvSpPr>
          <p:spPr>
            <a:xfrm>
              <a:off x="0" y="0"/>
              <a:ext cx="4929120" cy="65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 югу от лесостепной зоны расположена полоса степей, которая представляет собой обширные безлесные просторы с менее выраженным, чем в лесостепи, расчленением рельефа. Так как </a:t>
              </a:r>
              <a:r>
                <a:rPr b="0" i="1" lang="ru-RU" sz="2500" spc="-1" strike="noStrike">
                  <a:solidFill>
                    <a:srgbClr val="ff0000"/>
                  </a:solidFill>
                  <a:latin typeface="Arial"/>
                </a:rPr>
                <a:t>в степях для развития древесной растительности не хватает в почве влаги, то поверхность этой зоны покрыта в основном травами</a:t>
              </a:r>
              <a:r>
                <a:rPr b="0" lang="ru-RU" sz="2500" spc="-1" strike="noStrike">
                  <a:solidFill>
                    <a:srgbClr val="ff0000"/>
                  </a:solidFill>
                  <a:latin typeface="Arial"/>
                </a:rPr>
                <a:t>, а небольшие рощи и заросли кустарников встречаются только около рек, кое-где в оврагах, где уровень грунтовых вод достаточно высок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5000760" y="0"/>
              <a:ext cx="41432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" descr=""/>
            <p:cNvPicPr/>
            <p:nvPr/>
          </p:nvPicPr>
          <p:blipFill>
            <a:blip r:embed="rId2"/>
            <a:stretch/>
          </p:blipFill>
          <p:spPr>
            <a:xfrm>
              <a:off x="5000760" y="3429000"/>
              <a:ext cx="414324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Прямоугольник 1"/>
            <p:cNvSpPr/>
            <p:nvPr/>
          </p:nvSpPr>
          <p:spPr>
            <a:xfrm>
              <a:off x="0" y="0"/>
              <a:ext cx="4714920" cy="63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лимат степей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континентальный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особенно в восточной части. </a:t>
              </a:r>
              <a:r>
                <a:rPr b="0" i="1" lang="ru-RU" sz="2400" spc="-1" strike="noStrike">
                  <a:solidFill>
                    <a:srgbClr val="ff0000"/>
                  </a:solidFill>
                  <a:latin typeface="Arial"/>
                </a:rPr>
                <a:t>Лето более продолжительное и жаркое</a:t>
              </a: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, чем в лесостепной и лесной зонах. Средняя температура июля +22 ... +23,5°С (жара местами достигает +40°С). Относительная влажность воздуха летом бывает; около 40—50%. Погода стоит сухая, солнечная. Дожди обычно имеют ливневый характер, вследствие чего бурные потоки воды, стекающие в низины, не успевают просочиться в почву и быстро испаряютс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1"/>
            <a:stretch/>
          </p:blipFill>
          <p:spPr>
            <a:xfrm>
              <a:off x="4952520" y="0"/>
              <a:ext cx="4191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"/>
            <p:cNvPicPr/>
            <p:nvPr/>
          </p:nvPicPr>
          <p:blipFill>
            <a:blip r:embed="rId2"/>
            <a:stretch/>
          </p:blipFill>
          <p:spPr>
            <a:xfrm>
              <a:off x="4929120" y="3429000"/>
              <a:ext cx="421488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195120"/>
              <a:ext cx="8781120" cy="66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54760" cy="111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3"/>
          <p:cNvGrpSpPr/>
          <p:nvPr/>
        </p:nvGrpSpPr>
        <p:grpSpPr>
          <a:xfrm>
            <a:off x="0" y="0"/>
            <a:ext cx="9178920" cy="6858000"/>
            <a:chOff x="0" y="0"/>
            <a:chExt cx="9178920" cy="685800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362880" y="200880"/>
              <a:ext cx="8816040" cy="66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114720" cy="115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8" name="Прямоугольник 1"/>
            <p:cNvSpPr/>
            <p:nvPr/>
          </p:nvSpPr>
          <p:spPr>
            <a:xfrm>
              <a:off x="0" y="0"/>
              <a:ext cx="45720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Ж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ивотный мир лесостепи также образует </a:t>
              </a:r>
              <a:r>
                <a:rPr b="0" i="1" lang="ru-RU" sz="2800" spc="-1" strike="noStrike">
                  <a:solidFill>
                    <a:srgbClr val="ff0000"/>
                  </a:solidFill>
                  <a:latin typeface="Arial"/>
                </a:rPr>
                <a:t>смесь лесных видов со степными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. В лесных районах водятся лесная куница, белка, соня: изредка встречаются лоси и косули, а в степных — суслики, земляной заяц, сурок-байбак, степной хорь, изредка — дрофа и стрепет. В реках — речной бобр и выхухоль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2341440" y="2352600"/>
            <a:ext cx="4046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тяж Денис</dc:creator>
  <dc:description/>
  <dc:language>en-US</dc:language>
  <cp:lastModifiedBy>Your User Name</cp:lastModifiedBy>
  <dcterms:modified xsi:type="dcterms:W3CDTF">2011-12-12T19:01:34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10000000000010250300207f7000400038000</vt:lpwstr>
  </property>
  <property fmtid="{D5CDD505-2E9C-101B-9397-08002B2CF9AE}" pid="3" name="_MarkAsFinal">
    <vt:bool>1</vt:bool>
  </property>
</Properties>
</file>