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AE6-F0FF-45AE-BB3C-792CA493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4C0-5CC4-4EA8-87C0-698FAAC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E57-372C-461E-B2EC-56CFB41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164-2990-4683-B938-CD187B9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B15-1F57-471D-84EE-F7C991B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29A-FA29-4490-AD80-6D75C6D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D83-57A9-48BC-99A7-0C5FF415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E87-23F8-47DB-8E99-BAF5396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7D3-2A0E-421C-8E69-136D84D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E3F-F5D3-46DB-86BD-6C2D791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6A5-9680-4766-81FF-33CD2FE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74E-A74D-4F49-945F-54DA03B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8F6-371B-498F-8F6B-8C27315EB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306360" y="251640"/>
              <a:ext cx="8837640" cy="65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0240" y="0"/>
              <a:ext cx="53967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0" y="2693880"/>
              <a:ext cx="6705000" cy="416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Прямоугольник 4"/>
            <p:cNvSpPr/>
            <p:nvPr/>
          </p:nvSpPr>
          <p:spPr>
            <a:xfrm>
              <a:off x="0" y="0"/>
              <a:ext cx="4857840" cy="68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Arial"/>
                </a:rPr>
                <a:t>Д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я лесостепи характерны </a:t>
              </a:r>
              <a:r>
                <a:rPr b="0" i="1" lang="ru-RU" sz="2600" spc="-1" strike="noStrike">
                  <a:solidFill>
                    <a:srgbClr val="ff0000"/>
                  </a:solidFill>
                  <a:latin typeface="Arial"/>
                </a:rPr>
                <a:t>пестрота почв и сочетание междуречных лесных 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андшафтов со степными. В лесной растительности европейской лесостепи преобладают дубравы с примесью липы, ясеня, клена, в западносибирской - березовые рощи (колки) с примесью сосны и лиственницы. (Ель в лесостепной полосе отсутствует.) В лесах развиваются серые лесные почвы, а в разнотравных степях — черноземы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2"/>
            <a:stretch/>
          </p:blipFill>
          <p:spPr>
            <a:xfrm>
              <a:off x="4786200" y="0"/>
              <a:ext cx="43578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"/>
            <p:cNvPicPr/>
            <p:nvPr/>
          </p:nvPicPr>
          <p:blipFill>
            <a:blip r:embed="rId3"/>
            <a:stretch/>
          </p:blipFill>
          <p:spPr>
            <a:xfrm>
              <a:off x="4714920" y="3429000"/>
              <a:ext cx="44290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Прямоугольник 1"/>
            <p:cNvSpPr/>
            <p:nvPr/>
          </p:nvSpPr>
          <p:spPr>
            <a:xfrm>
              <a:off x="0" y="0"/>
              <a:ext cx="4143240" cy="64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 настоящее время основные участки лесостепи распаханы и превращены в сельскохозяйственные угодья, где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выращивают зерновые культуры, свеклу, подсолнечник, картофель, кукурузу, виноград (на западе)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Кроме полеводства, в этих районах развиты садоводство и огородничеств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4500720" y="0"/>
              <a:ext cx="4643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4500720" y="3429000"/>
              <a:ext cx="4643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Прямоугольник 1"/>
            <p:cNvSpPr/>
            <p:nvPr/>
          </p:nvSpPr>
          <p:spPr>
            <a:xfrm>
              <a:off x="0" y="0"/>
              <a:ext cx="4929120" cy="65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 югу от лесостепной зоны расположена полоса степей, которая представляет собой обширные безлесные просторы с менее выраженным, чем в лесостепи, расчленением рельефа. Так как </a:t>
              </a:r>
              <a:r>
                <a:rPr b="0" i="1" lang="ru-RU" sz="2500" spc="-1" strike="noStrike">
                  <a:solidFill>
                    <a:srgbClr val="ff0000"/>
                  </a:solidFill>
                  <a:latin typeface="Arial"/>
                </a:rPr>
                <a:t>в степях для развития древесной растительности не хватает в почве влаги, то поверхность этой зоны покрыта в основном травами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, а небольшие рощи и заросли кустарников встречаются только около рек, кое-где в оврагах, где уровень грунтовых вод достаточно высок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5000760" y="0"/>
              <a:ext cx="41432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" descr=""/>
            <p:cNvPicPr/>
            <p:nvPr/>
          </p:nvPicPr>
          <p:blipFill>
            <a:blip r:embed="rId2"/>
            <a:stretch/>
          </p:blipFill>
          <p:spPr>
            <a:xfrm>
              <a:off x="5000760" y="3429000"/>
              <a:ext cx="414324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Прямоугольник 1"/>
            <p:cNvSpPr/>
            <p:nvPr/>
          </p:nvSpPr>
          <p:spPr>
            <a:xfrm>
              <a:off x="0" y="0"/>
              <a:ext cx="4714920" cy="63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лимат степей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континентальный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особенно в восточной части.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Лето более продолжительное и жаркое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чем в лесостепной и лесной зонах. Средняя температура июля +22 ... +23,5°С (жара местами достигает +40°С). Относительная влажность воздуха летом бывает; около 40—50%. Погода стоит сухая, солнечная. Дожди обычно имеют ливневый характер, вследствие чего бурные потоки воды, стекающие в низины, не успевают просочиться в почву и быстро испаряютс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1"/>
            <a:stretch/>
          </p:blipFill>
          <p:spPr>
            <a:xfrm>
              <a:off x="4952520" y="0"/>
              <a:ext cx="4191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"/>
            <p:cNvPicPr/>
            <p:nvPr/>
          </p:nvPicPr>
          <p:blipFill>
            <a:blip r:embed="rId2"/>
            <a:stretch/>
          </p:blipFill>
          <p:spPr>
            <a:xfrm>
              <a:off x="4929120" y="3429000"/>
              <a:ext cx="42148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195120"/>
              <a:ext cx="8781120" cy="66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5476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0" y="0"/>
            <a:ext cx="9178920" cy="6858000"/>
            <a:chOff x="0" y="0"/>
            <a:chExt cx="9178920" cy="685800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200880"/>
              <a:ext cx="8816040" cy="66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4720" cy="115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" name="Прямоугольник 1"/>
            <p:cNvSpPr/>
            <p:nvPr/>
          </p:nvSpPr>
          <p:spPr>
            <a:xfrm>
              <a:off x="0" y="0"/>
              <a:ext cx="45720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Ж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ивотный мир лесостепи также образует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смесь лесных видов со степными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В лесных районах водятся лесная куница, белка, соня: изредка встречаются лоси и косули, а в степных — суслики, земляной заяц, сурок-байбак, степной хорь, изредка — дрофа и стрепет. В реках — речной бобр и выхухол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2341440" y="2352600"/>
            <a:ext cx="4046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тяж Денис</dc:creator>
  <dc:description/>
  <dc:language>en-US</dc:language>
  <cp:lastModifiedBy>Your User Name</cp:lastModifiedBy>
  <dcterms:modified xsi:type="dcterms:W3CDTF">2011-12-12T19:01:34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10000000000010250300207f7000400038000</vt:lpwstr>
  </property>
  <property fmtid="{D5CDD505-2E9C-101B-9397-08002B2CF9AE}" pid="3" name="_MarkAsFinal">
    <vt:bool>1</vt:bool>
  </property>
</Properties>
</file>