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472-B647-416E-B247-AC883362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77A-6CA0-4205-B804-02BDA40A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3B3-646C-4C50-B675-D189B9A3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BA3-CDC3-4C76-B19E-FBB9FEB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A0F8-5EA6-4255-8C9C-89809B64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EC65-CD0D-4553-A61A-4A72613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5C7D-D811-4CAD-B81F-3B11CE5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45A-7806-43CA-9BFA-6338860E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D065-1059-40DE-8A7A-508E2A4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A9A9-3106-40F8-BE3D-001389EA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C32-9B7D-43BD-85C7-691B157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4A2-54AD-4AEF-954C-2CB9B070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13A5-9504-4FC1-A243-DB1FFAC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2DD5-7679-44FD-BDCB-11E4163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2199-FCF0-4BF9-B4B4-485545A0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0C9-716F-4A06-A3D5-935A8E34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379E-98A0-46EC-B1BB-51B594EE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E3C-8840-499A-9C69-AE43D3EC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9ED-B6B5-497D-8302-317955D1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73C-1E88-4BF9-ADBE-58CBB23E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26E-B84A-46C5-9FAD-42C3D7E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005-BA82-4B63-9FD0-35057C8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376-365C-46A9-A46D-47A5543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842-E818-413B-89C3-03BCEA0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55D5-8E6C-4535-A9A4-9D4AB388C003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35E9-F6E5-44B5-BD72-943607BD8317}" type="slidenum">
              <a:rPr b="0" lang="ru-RU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8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6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404640"/>
          <a:ext cx="6337080" cy="127152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28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ahoma"/>
              </a:rPr>
              <a:t>ЛЕСНАЯ  И ДЕРЕВООБРАБАТЫВАЮЩАЯ ПРОМЫШЛЕННОСТЬ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0" name="Picture 9" descr="amz2"/>
          <p:cNvPicPr/>
          <p:nvPr/>
        </p:nvPicPr>
        <p:blipFill>
          <a:blip r:embed="rId1"/>
          <a:stretch/>
        </p:blipFill>
        <p:spPr>
          <a:xfrm>
            <a:off x="690480" y="3643200"/>
            <a:ext cx="381024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1" descr="amz3"/>
          <p:cNvPicPr/>
          <p:nvPr/>
        </p:nvPicPr>
        <p:blipFill>
          <a:blip r:embed="rId2"/>
          <a:stretch/>
        </p:blipFill>
        <p:spPr>
          <a:xfrm>
            <a:off x="4714920" y="3643200"/>
            <a:ext cx="3833640" cy="287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1500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Мировая заготовка древесины неуклонно возрастает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В составе ведущих стран по размерам заготовки страны северного пояса стоят впереди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но отрыв от стран южного пояса сокращается.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0040" y="2000160"/>
          <a:ext cx="7929720" cy="3976920"/>
        </p:xfrm>
        <a:graphic>
          <a:graphicData uri="http://schemas.openxmlformats.org/drawingml/2006/table">
            <a:tbl>
              <a:tblPr/>
              <a:tblGrid>
                <a:gridCol w="2592360"/>
                <a:gridCol w="1371600"/>
                <a:gridCol w="2597040"/>
                <a:gridCol w="1368720"/>
              </a:tblGrid>
              <a:tr h="6102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Вывозка древес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Производство пило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Cambria"/>
                          <a:ea typeface="Times New Roman"/>
                        </a:rPr>
                        <a:t>млн. м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3680">
                      <a:solidFill>
                        <a:srgbClr val="9bbb5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31392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368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иге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Укра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850104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ahoma"/>
              </a:rPr>
              <a:t>Химическая переработки древесины представлена в таблице производством целлюлозы. Здесь из стран южного пояса упоминается только Бразилия. Ведущие страны по производству бумаги, которую иногда называют «хлебом культуры», находятся преимущественно в странах северного пояса. 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42960" y="2000160"/>
          <a:ext cx="7929720" cy="4146480"/>
        </p:xfrm>
        <a:graphic>
          <a:graphicData uri="http://schemas.openxmlformats.org/drawingml/2006/table">
            <a:tbl>
              <a:tblPr/>
              <a:tblGrid>
                <a:gridCol w="2592360"/>
                <a:gridCol w="1373040"/>
                <a:gridCol w="2595600"/>
                <a:gridCol w="1368720"/>
              </a:tblGrid>
              <a:tr h="6098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целлюл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Производство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лн. то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solidFill>
                      <a:srgbClr val="eceebe"/>
                    </a:solidFill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ля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ве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та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d3b96e"/>
                      </a:solidFill>
                    </a:lnL>
                    <a:lnR w="5760">
                      <a:solidFill>
                        <a:srgbClr val="d3b96e"/>
                      </a:solidFill>
                    </a:lnR>
                    <a:lnT w="5760">
                      <a:solidFill>
                        <a:srgbClr val="d3b96e"/>
                      </a:solidFill>
                    </a:lnT>
                    <a:lnB w="5760">
                      <a:solidFill>
                        <a:srgbClr val="d3b9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Душевые показатели производства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7" name="Прямоугольник 2" descr=""/>
          <p:cNvPicPr/>
          <p:nvPr/>
        </p:nvPicPr>
        <p:blipFill>
          <a:blip r:embed="rId1"/>
          <a:stretch/>
        </p:blipFill>
        <p:spPr>
          <a:xfrm>
            <a:off x="944640" y="2004840"/>
            <a:ext cx="7437240" cy="325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wer 8"/>
          <p:cNvPicPr/>
          <p:nvPr/>
        </p:nvPicPr>
        <p:blipFill>
          <a:blip r:embed="rId2"/>
          <a:stretch/>
        </p:blipFill>
        <p:spPr>
          <a:xfrm>
            <a:off x="3286080" y="5072040"/>
            <a:ext cx="2643120" cy="16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Ресурсы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0" name="Picture 2" descr="C:\Documents and Settings\Admin\Рабочий стол\Рисунок2.jpg"/>
          <p:cNvPicPr/>
          <p:nvPr/>
        </p:nvPicPr>
        <p:blipFill>
          <a:blip r:embed="rId1"/>
          <a:stretch/>
        </p:blipFill>
        <p:spPr>
          <a:xfrm>
            <a:off x="571680" y="1500120"/>
            <a:ext cx="80010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География лесной промышленности 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2" name="Picture 2" descr="C:\Documents and Settings\Admin\Рабочий стол\Рисунок3.jpg"/>
          <p:cNvPicPr/>
          <p:nvPr/>
        </p:nvPicPr>
        <p:blipFill>
          <a:blip r:embed="rId1"/>
          <a:stretch/>
        </p:blipFill>
        <p:spPr>
          <a:xfrm>
            <a:off x="571680" y="1357200"/>
            <a:ext cx="8001000" cy="534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Tahoma"/>
              </a:rPr>
              <a:t>Страны экспортеры – импортеры древесины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2000160"/>
          <a:ext cx="8001000" cy="2428920"/>
        </p:xfrm>
        <a:graphic>
          <a:graphicData uri="http://schemas.openxmlformats.org/drawingml/2006/table">
            <a:tbl>
              <a:tblPr/>
              <a:tblGrid>
                <a:gridCol w="5314680"/>
                <a:gridCol w="2686320"/>
              </a:tblGrid>
              <a:tr h="433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кс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мпорт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8900000"/>
                    </a:gradFill>
                  </a:tcPr>
                </a:tc>
              </a:tr>
              <a:tr h="19954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США, Россия, Скандинавские страны + лиственная древесина Малайзии, Индонезии, Филиппин, Папуа-Новой Гвинеи, Кот-д′Ивуара, Габона, Камеру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 Зарубежной Европы, Япония, отчасти и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1f3c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9" descr="les5"/>
          <p:cNvPicPr/>
          <p:nvPr/>
        </p:nvPicPr>
        <p:blipFill>
          <a:blip r:embed="rId1"/>
          <a:stretch/>
        </p:blipFill>
        <p:spPr>
          <a:xfrm>
            <a:off x="1000080" y="4500720"/>
            <a:ext cx="350064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10" descr="les9"/>
          <p:cNvPicPr/>
          <p:nvPr/>
        </p:nvPicPr>
        <p:blipFill>
          <a:blip r:embed="rId2"/>
          <a:stretch/>
        </p:blipFill>
        <p:spPr>
          <a:xfrm>
            <a:off x="4929120" y="4500720"/>
            <a:ext cx="3357720" cy="22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4:17Z</dcterms:created>
  <dc:creator>starostina</dc:creator>
  <dc:description/>
  <cp:keywords/>
  <dc:language>en-US</dc:language>
  <cp:lastModifiedBy>starostina</cp:lastModifiedBy>
  <dcterms:modified xsi:type="dcterms:W3CDTF">2010-05-06T06:19:5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  <property fmtid="{D5CDD505-2E9C-101B-9397-08002B2CF9AE}" pid="3" name="_TemplateID">
    <vt:lpwstr>TC100690461049</vt:lpwstr>
  </property>
</Properties>
</file>