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A19-AD9F-429B-A95D-AB7EEB61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61B-38F5-4C96-BAD0-6E07CD4F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683-5198-4362-A127-A8D11EC7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E1D-0B5B-47EA-9333-E077F766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8BDB-18A6-4F8F-82CA-C439407A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44A2-F4A8-4FB2-8B74-B35FE84B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3DAC-443D-43A6-8F9D-6CC7949E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6E85-9A7D-4B38-A9A4-EE60BF62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6388-D8FE-465F-8621-DC9E7755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47AC-D1BE-454E-B837-C8511530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D85A-92D9-4C8C-90F3-31723D2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205-32B5-4B7E-8AAA-8B4A6D61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7ECF-4ECF-406C-A0CC-FF16B0C4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539F-A6F8-431D-B42D-D40E2F06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D3B5-483E-4FE8-9F83-A0ED8165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52D2-B80D-4362-94F6-3EEC8B82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F0B3-4674-4AD8-9CB2-C9CCB3F8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DA6-F80E-4EB7-A65C-5FCA8310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F9E-1DC5-4543-A851-C50E0E74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DE1-7985-49D5-92D5-9B17AB68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C57-CC28-4737-9CE1-B0299B76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B43-ABB8-4ED8-990C-5E2963EF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FAD-FA22-4764-9C09-750ED2D6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9D4-BB24-4689-A090-57126F4B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C103-DFCF-49F8-A271-5B31FBBE6ED1}" type="slidenum">
              <a:rPr b="0" lang="ru-RU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EFA3-116D-4793-9B5E-5718EB6D09D7}" type="slidenum">
              <a:rPr b="0" lang="ru-RU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179a_shool36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85" name="Picture 2" descr="J:\Краеведение в школе\Вики-Владимир\Starostina T.V..jpg"/>
          <p:cNvPicPr/>
          <p:nvPr/>
        </p:nvPicPr>
        <p:blipFill>
          <a:blip r:embed="rId2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6" name="Rectangle 3"/>
          <p:cNvSpPr/>
          <p:nvPr/>
        </p:nvSpPr>
        <p:spPr>
          <a:xfrm>
            <a:off x="2627280" y="5383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404640"/>
          <a:ext cx="6337080" cy="127152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Picture 11" descr="D:\КАРТИНКИ\Коллекция картинок1\j0285333.gif"/>
          <p:cNvPicPr/>
          <p:nvPr/>
        </p:nvPicPr>
        <p:blipFill>
          <a:blip r:embed="rId3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28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ahoma"/>
              </a:rPr>
              <a:t>ЛЕСНАЯ  И ДЕРЕВООБРАБАТЫВАЮЩАЯ ПРОМЫШЛЕННОСТЬ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0" name="Picture 9" descr="amz2"/>
          <p:cNvPicPr/>
          <p:nvPr/>
        </p:nvPicPr>
        <p:blipFill>
          <a:blip r:embed="rId1"/>
          <a:stretch/>
        </p:blipFill>
        <p:spPr>
          <a:xfrm>
            <a:off x="690480" y="3643200"/>
            <a:ext cx="381024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11" descr="amz3"/>
          <p:cNvPicPr/>
          <p:nvPr/>
        </p:nvPicPr>
        <p:blipFill>
          <a:blip r:embed="rId2"/>
          <a:stretch/>
        </p:blipFill>
        <p:spPr>
          <a:xfrm>
            <a:off x="4714920" y="3643200"/>
            <a:ext cx="3833640" cy="287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1500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Мировая заготовка древесины неуклонно возрастает.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В составе ведущих стран по размерам заготовки страны северного пояса стоят впереди,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но отрыв от стран южного пояса сокращается.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00040" y="2000160"/>
          <a:ext cx="7929720" cy="3976920"/>
        </p:xfrm>
        <a:graphic>
          <a:graphicData uri="http://schemas.openxmlformats.org/drawingml/2006/table">
            <a:tbl>
              <a:tblPr/>
              <a:tblGrid>
                <a:gridCol w="2592360"/>
                <a:gridCol w="1371600"/>
                <a:gridCol w="2597040"/>
                <a:gridCol w="1368720"/>
              </a:tblGrid>
              <a:tr h="6102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Cambria"/>
                          <a:ea typeface="Times New Roman"/>
                        </a:rPr>
                        <a:t>Вывозка древес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3680">
                      <a:solidFill>
                        <a:srgbClr val="9bbb5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Cambria"/>
                          <a:ea typeface="Times New Roman"/>
                        </a:rPr>
                        <a:t>млн. м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3680">
                      <a:solidFill>
                        <a:srgbClr val="9bbb5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Cambria"/>
                          <a:ea typeface="Times New Roman"/>
                        </a:rPr>
                        <a:t>Производство пиломатери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3680">
                      <a:solidFill>
                        <a:srgbClr val="9bbb5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Cambria"/>
                          <a:ea typeface="Times New Roman"/>
                        </a:rPr>
                        <a:t>млн. м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3680">
                      <a:solidFill>
                        <a:srgbClr val="9bbb5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</a:tr>
              <a:tr h="31392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368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368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368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368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Ниге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533160"/>
            <a:ext cx="850104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ahoma"/>
              </a:rPr>
              <a:t>Химическая переработки древесины представлена в таблице производством целлюлозы. Здесь из стран южного пояса упоминается только Бразилия. Ведущие страны по производству бумаги, которую иногда называют «хлебом культуры», находятся преимущественно в странах северного пояса. 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42960" y="2000160"/>
          <a:ext cx="7929720" cy="4146480"/>
        </p:xfrm>
        <a:graphic>
          <a:graphicData uri="http://schemas.openxmlformats.org/drawingml/2006/table">
            <a:tbl>
              <a:tblPr/>
              <a:tblGrid>
                <a:gridCol w="2592360"/>
                <a:gridCol w="1373040"/>
                <a:gridCol w="2595600"/>
                <a:gridCol w="1368720"/>
              </a:tblGrid>
              <a:tr h="6098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Производство целлюл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solidFill>
                      <a:srgbClr val="eceeb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solidFill>
                      <a:srgbClr val="eceeb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Производство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solidFill>
                      <a:srgbClr val="eceeb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solidFill>
                      <a:srgbClr val="eceebe"/>
                    </a:solidFill>
                  </a:tcPr>
                </a:tc>
              </a:tr>
              <a:tr h="320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нля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нля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Tahoma"/>
              </a:rPr>
              <a:t>Душевые показатели производства лесной промышленности 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7" name="Прямоугольник 2" descr=""/>
          <p:cNvPicPr/>
          <p:nvPr/>
        </p:nvPicPr>
        <p:blipFill>
          <a:blip r:embed="rId1"/>
          <a:stretch/>
        </p:blipFill>
        <p:spPr>
          <a:xfrm>
            <a:off x="944640" y="2004840"/>
            <a:ext cx="7437240" cy="325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wer 8"/>
          <p:cNvPicPr/>
          <p:nvPr/>
        </p:nvPicPr>
        <p:blipFill>
          <a:blip r:embed="rId2"/>
          <a:stretch/>
        </p:blipFill>
        <p:spPr>
          <a:xfrm>
            <a:off x="3286080" y="5072040"/>
            <a:ext cx="2643120" cy="16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Tahoma"/>
              </a:rPr>
              <a:t>Ресурсы лесной промышленности 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0" name="Picture 2" descr="C:\Documents and Settings\Admin\Рабочий стол\Рисунок2.jpg"/>
          <p:cNvPicPr/>
          <p:nvPr/>
        </p:nvPicPr>
        <p:blipFill>
          <a:blip r:embed="rId1"/>
          <a:stretch/>
        </p:blipFill>
        <p:spPr>
          <a:xfrm>
            <a:off x="571680" y="1500120"/>
            <a:ext cx="800100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Tahoma"/>
              </a:rPr>
              <a:t>География лесной промышленности 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2" name="Picture 2" descr="C:\Documents and Settings\Admin\Рабочий стол\Рисунок3.jpg"/>
          <p:cNvPicPr/>
          <p:nvPr/>
        </p:nvPicPr>
        <p:blipFill>
          <a:blip r:embed="rId1"/>
          <a:stretch/>
        </p:blipFill>
        <p:spPr>
          <a:xfrm>
            <a:off x="571680" y="1357200"/>
            <a:ext cx="8001000" cy="534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Tahoma"/>
              </a:rPr>
              <a:t>Страны экспортеры – импортеры древесины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1680" y="2000160"/>
          <a:ext cx="8001000" cy="2428920"/>
        </p:xfrm>
        <a:graphic>
          <a:graphicData uri="http://schemas.openxmlformats.org/drawingml/2006/table">
            <a:tbl>
              <a:tblPr/>
              <a:tblGrid>
                <a:gridCol w="5314680"/>
                <a:gridCol w="2686320"/>
              </a:tblGrid>
              <a:tr h="433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Экспорт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мпорт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</a:tr>
              <a:tr h="19954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, США, Россия, Скандинавские страны + лиственная древесина Малайзии, Индонезии, Филиппин, Папуа-Новой Гвинеи, Кот-д′Ивуара, Габона, Камеру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 Зарубежной Европы, Япония, отчасти и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1f3cf"/>
                    </a:solidFill>
                  </a:tcPr>
                </a:tc>
              </a:tr>
            </a:tbl>
          </a:graphicData>
        </a:graphic>
      </p:graphicFrame>
      <p:pic>
        <p:nvPicPr>
          <p:cNvPr id="105" name="Picture 9" descr="les5"/>
          <p:cNvPicPr/>
          <p:nvPr/>
        </p:nvPicPr>
        <p:blipFill>
          <a:blip r:embed="rId1"/>
          <a:stretch/>
        </p:blipFill>
        <p:spPr>
          <a:xfrm>
            <a:off x="1000080" y="4500720"/>
            <a:ext cx="3500640" cy="22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10" descr="les9"/>
          <p:cNvPicPr/>
          <p:nvPr/>
        </p:nvPicPr>
        <p:blipFill>
          <a:blip r:embed="rId2"/>
          <a:stretch/>
        </p:blipFill>
        <p:spPr>
          <a:xfrm>
            <a:off x="4929120" y="4500720"/>
            <a:ext cx="3357720" cy="22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4:17Z</dcterms:created>
  <dc:creator>starostina</dc:creator>
  <dc:description/>
  <cp:keywords/>
  <dc:language>en-US</dc:language>
  <cp:lastModifiedBy>starostina</cp:lastModifiedBy>
  <dcterms:modified xsi:type="dcterms:W3CDTF">2010-05-06T06:19:54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c000000000001024140</vt:lpwstr>
  </property>
  <property fmtid="{D5CDD505-2E9C-101B-9397-08002B2CF9AE}" pid="3" name="_TemplateID">
    <vt:lpwstr>TC100690461049</vt:lpwstr>
  </property>
</Properties>
</file>