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CB1-CD72-424E-A74D-4C94C673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EF9-D5DA-4F01-9E4D-8A2E617C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743-3720-49A6-9E7C-32A2E95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668-6E0A-4E87-A3ED-D4A2675A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1CAF-DAC3-4E64-B860-26514B02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957-53F4-489C-9F6F-C6F8E9A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7F6-C9B3-4041-AEF9-E6EECBD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218-8925-436B-A509-148D1ED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A458-828D-4F98-B2C3-53F03E6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E038-9B00-4658-B8FC-DB3167C1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283A-6B34-4D5B-83E1-D23F28B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109-9E9C-447F-846A-4DC897A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3C6-6FD9-4798-A3CA-346F6FE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2AAB-9C96-4DD6-BFA6-F777D23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96D9-95D3-40EE-B43C-783A3BA4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9F90-4F8E-4BED-B203-4C3DBD3A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660-2092-4C7E-A992-9FA412AB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AF5-99D5-4974-B29F-7424CBDB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445-1395-4F16-9AA3-5C072AD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63E-465C-4077-B588-6BF9A48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31E-5CDF-4A73-9679-B50FF40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028-EDBF-4E00-8B89-DE49965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AEC-24A2-4B8D-8217-47A7E67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80E-4209-49EF-83A5-5E4BD49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29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8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10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11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12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13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14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5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6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7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8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9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20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21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22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23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24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5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6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7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8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9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30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31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32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33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34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5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6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7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8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9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40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41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42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43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44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5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6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7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8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9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50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51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52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5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6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7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8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9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60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61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62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63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64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5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6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7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8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9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70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71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72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5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6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7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8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9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80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81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82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83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84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5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6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7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8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9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90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91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92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93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94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5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6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7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8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9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100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101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102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103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104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5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6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7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8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9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10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11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12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13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14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5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6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7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8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9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20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21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22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23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24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5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6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7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8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9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30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31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32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33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34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5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6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7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8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9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40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41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42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43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44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5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6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7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8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9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50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51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52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53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54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5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6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7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8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9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60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61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62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63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64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5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6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7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8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9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70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71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72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73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74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5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6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7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8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9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80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81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82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83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84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5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6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7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8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9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90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91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92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93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94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5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6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7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8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9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200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201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202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203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204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5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6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7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8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9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10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11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12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13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14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5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6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7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8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9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20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21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22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23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24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5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6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7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8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9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30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31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32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33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34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5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7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8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9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40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41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42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43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44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6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7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8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9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50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51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52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53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54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5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6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7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8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9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60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61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62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63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64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5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6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7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8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9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70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71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72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73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74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5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6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7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8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9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80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327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92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302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326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2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3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4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5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6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7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8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9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90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323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328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321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3C24-038C-411E-9DD4-E563AE6CBC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3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4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5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6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7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9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10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1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2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3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4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5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6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7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8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9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20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1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2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3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4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5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6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7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8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9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30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1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2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3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4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5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9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1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2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3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4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5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6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7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8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9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50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1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2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3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4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5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7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8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9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60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1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2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3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4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5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6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7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8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9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70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1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2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3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4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5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6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7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8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9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80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1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2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4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5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6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7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8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9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90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1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2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3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4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5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6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7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8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100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1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2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3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4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5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6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7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8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9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10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1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2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3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4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5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6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7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8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20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1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2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3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4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5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6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7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8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9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30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2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3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4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5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6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7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8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9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40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1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2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3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4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5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6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7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8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9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50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1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2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3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4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6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7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8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9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60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1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2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3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4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5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6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7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8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9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70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1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2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3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4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5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6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7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8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9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80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1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2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3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4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5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6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7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8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9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90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1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2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3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4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5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6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7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8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9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200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1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2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3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4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5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6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7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8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9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10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1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2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3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4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5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6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7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8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9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20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1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2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3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4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5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6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7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8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9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30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1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2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3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4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5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6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7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8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9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40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1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2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3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4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5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6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7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8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9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50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1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2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3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4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5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6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7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8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9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60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1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2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3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4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5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6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7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8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9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70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1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2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3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4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5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80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82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83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84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85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6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302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1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7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8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9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301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300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77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78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9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C61A-C4E5-4A11-874B-AC085DDF39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6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3635280" y="184464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6" name="Rectangle 3"/>
          <p:cNvSpPr/>
          <p:nvPr/>
        </p:nvSpPr>
        <p:spPr>
          <a:xfrm>
            <a:off x="3492360" y="50943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1476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242892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ЛЕГКАЯ ПРОМЫШЛЕННОСТЬ</a:t>
            </a:r>
            <a:endParaRPr b="0" lang="en-US" sz="66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0" name="Picture 5" descr="D:\КАРТИНКИ\Коллекция картинок1\j0432743.jpg"/>
          <p:cNvPicPr/>
          <p:nvPr/>
        </p:nvPicPr>
        <p:blipFill>
          <a:blip r:embed="rId1"/>
          <a:stretch/>
        </p:blipFill>
        <p:spPr>
          <a:xfrm>
            <a:off x="2643120" y="3214800"/>
            <a:ext cx="4772160" cy="320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1" name="Picture 6" descr="D:\КАРТИНКИ\Коллекция картинок2\J0382955.JPG"/>
          <p:cNvPicPr/>
          <p:nvPr/>
        </p:nvPicPr>
        <p:blipFill>
          <a:blip r:embed="rId2"/>
          <a:srcRect l="0" t="0" r="0" b="-64"/>
          <a:stretch/>
        </p:blipFill>
        <p:spPr>
          <a:xfrm>
            <a:off x="6715080" y="4500720"/>
            <a:ext cx="1443240" cy="2125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2" name="Picture 7" descr="D:\КАРТИНКИ\Коллекция картинок 5\j0290417.wmf"/>
          <p:cNvPicPr/>
          <p:nvPr/>
        </p:nvPicPr>
        <p:blipFill>
          <a:blip r:embed="rId3"/>
          <a:stretch/>
        </p:blipFill>
        <p:spPr>
          <a:xfrm>
            <a:off x="785880" y="3857760"/>
            <a:ext cx="167004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Impact"/>
              </a:rPr>
              <a:t>Состав  отрасли</a:t>
            </a:r>
            <a:endParaRPr b="0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4" name="Схема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808760" cy="536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текстильных  волокон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857160" y="1785960"/>
          <a:ext cx="8286840" cy="4030560"/>
        </p:xfrm>
        <a:graphic>
          <a:graphicData uri="http://schemas.openxmlformats.org/drawingml/2006/table">
            <a:tbl>
              <a:tblPr/>
              <a:tblGrid>
                <a:gridCol w="1193760"/>
                <a:gridCol w="695520"/>
                <a:gridCol w="695160"/>
                <a:gridCol w="784440"/>
                <a:gridCol w="785520"/>
                <a:gridCol w="694080"/>
                <a:gridCol w="695160"/>
                <a:gridCol w="695160"/>
                <a:gridCol w="695520"/>
                <a:gridCol w="693720"/>
                <a:gridCol w="658800"/>
              </a:tblGrid>
              <a:tr h="305280"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ы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яное и шел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коз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ти-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305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</a:tr>
            </a:tbl>
          </a:graphicData>
        </a:graphic>
      </p:graphicFrame>
      <p:sp>
        <p:nvSpPr>
          <p:cNvPr id="677" name="Прямоугольник 3"/>
          <p:cNvSpPr/>
          <p:nvPr/>
        </p:nvSpPr>
        <p:spPr>
          <a:xfrm>
            <a:off x="928800" y="5857920"/>
            <a:ext cx="7929360" cy="82548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 Narrow"/>
              </a:rPr>
              <a:t>Вывод: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 Narrow"/>
              </a:rPr>
              <a:t>Наблюдается уменьшения доли натуральных и увеличение доли химических волокон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пряжи в %, 1998г.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9" name="Диаграмма 4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65692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14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География  легкой промышленности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1" name="Picture 3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928800" y="1571760"/>
            <a:ext cx="7929360" cy="523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роизводство  основных видов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857160" y="1571760"/>
          <a:ext cx="8143920" cy="5165640"/>
        </p:xfrm>
        <a:graphic>
          <a:graphicData uri="http://schemas.openxmlformats.org/drawingml/2006/table">
            <a:tbl>
              <a:tblPr/>
              <a:tblGrid>
                <a:gridCol w="1198800"/>
                <a:gridCol w="784080"/>
                <a:gridCol w="1243080"/>
                <a:gridCol w="809640"/>
                <a:gridCol w="1417680"/>
                <a:gridCol w="720720"/>
                <a:gridCol w="1252440"/>
                <a:gridCol w="71748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/б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хим. вол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рстя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л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87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-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Страны- лидеры по производству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928800" y="1643040"/>
          <a:ext cx="3786120" cy="4965840"/>
        </p:xfrm>
        <a:graphic>
          <a:graphicData uri="http://schemas.openxmlformats.org/drawingml/2006/table">
            <a:tbl>
              <a:tblPr/>
              <a:tblGrid>
                <a:gridCol w="1922400"/>
                <a:gridCol w="186372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дство, млрд. м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2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686" name="Прямоугольник 5"/>
          <p:cNvGrpSpPr/>
          <p:nvPr/>
        </p:nvGrpSpPr>
        <p:grpSpPr>
          <a:xfrm>
            <a:off x="4986360" y="1633680"/>
            <a:ext cx="3882960" cy="5101920"/>
            <a:chOff x="4986360" y="1633680"/>
            <a:chExt cx="3882960" cy="5101920"/>
          </a:xfrm>
        </p:grpSpPr>
        <p:pic>
          <p:nvPicPr>
            <p:cNvPr id="687" name="Прямоугольник 5" descr=""/>
            <p:cNvPicPr/>
            <p:nvPr/>
          </p:nvPicPr>
          <p:blipFill>
            <a:blip r:embed="rId21"/>
            <a:stretch/>
          </p:blipFill>
          <p:spPr>
            <a:xfrm>
              <a:off x="4986360" y="1633680"/>
              <a:ext cx="388296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5000760" y="1643040"/>
              <a:ext cx="38574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ff33"/>
                  </a:solidFill>
                  <a:uFillTx/>
                  <a:latin typeface="Arial Narrow"/>
                </a:rPr>
                <a:t>Вопрос: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c00000"/>
                  </a:solidFill>
                  <a:latin typeface="Arial Narrow"/>
                </a:rPr>
                <a:t>Чем вы объясните тот факт, что в развивающихся странах текстильная промышленность переживает настоящий «бум»?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"/>
          <p:cNvPicPr/>
          <p:nvPr/>
        </p:nvPicPr>
        <p:blipFill>
          <a:blip r:embed="rId1"/>
          <a:srcRect l="0" t="0" r="-24" b="17"/>
          <a:stretch/>
        </p:blipFill>
        <p:spPr>
          <a:xfrm>
            <a:off x="214200" y="214200"/>
            <a:ext cx="8560080" cy="6429600"/>
          </a:xfrm>
          <a:prstGeom prst="rect">
            <a:avLst/>
          </a:prstGeom>
          <a:ln w="4140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7:32Z</dcterms:created>
  <dc:creator>starostina</dc:creator>
  <dc:description/>
  <cp:keywords/>
  <dc:language>en-US</dc:language>
  <cp:lastModifiedBy>starostina</cp:lastModifiedBy>
  <dcterms:modified xsi:type="dcterms:W3CDTF">2010-05-06T06:27:01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1000000000001024140</vt:lpwstr>
  </property>
  <property fmtid="{D5CDD505-2E9C-101B-9397-08002B2CF9AE}" pid="3" name="_TemplateID">
    <vt:lpwstr>TC010690781049</vt:lpwstr>
  </property>
</Properties>
</file>