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D1D5-CB7B-4E09-A073-E40435A7C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9E68-C548-4ACC-BC49-46F5F470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174E-FCA0-4CEA-9E32-71F9C70A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0AE2-F911-4750-ABB9-AE4536C4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7218-9568-4A72-8F87-B249338D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FFFC-5F1C-444E-8E8F-BFA721F9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C8AE-F5A9-4C8C-882A-199ECAE9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9080-B3A6-472D-BCE8-51041E40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735F-3292-41D4-8734-C3055521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A06B-651D-473E-A0BF-0DF5C3EC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72CB-4A28-4E5B-8CB9-5EA2DF3E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F9A9-552F-4071-9342-47314C4E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C867-2AF7-42FB-8926-30041DA86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99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ztecLogs2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2" name="AztecLogs2" descr="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3" name="BD14710_" descr=""/>
          <p:cNvPicPr/>
          <p:nvPr/>
        </p:nvPicPr>
        <p:blipFill>
          <a:blip r:embed="rId3"/>
          <a:stretch/>
        </p:blipFill>
        <p:spPr>
          <a:xfrm>
            <a:off x="1371600" y="1143000"/>
            <a:ext cx="6400800" cy="228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209680" y="228600"/>
            <a:ext cx="4572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33"/>
                    </a:gs>
                    <a:gs pos="100000">
                      <a:srgbClr val="99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Латинская Америк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0000"/>
                  </a:gs>
                  <a:gs pos="50000">
                    <a:srgbClr val="ff9933"/>
                  </a:gs>
                  <a:gs pos="100000">
                    <a:srgbClr val="99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латинская%20америка" descr=""/>
          <p:cNvPicPr/>
          <p:nvPr/>
        </p:nvPicPr>
        <p:blipFill>
          <a:blip r:embed="rId4"/>
          <a:srcRect l="0" t="0" r="43" b="24"/>
          <a:stretch/>
        </p:blipFill>
        <p:spPr>
          <a:xfrm>
            <a:off x="1981080" y="1523880"/>
            <a:ext cx="4821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99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ztecLogs2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7" name="AztecLogs2" descr="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8" name="BD14710_" descr=""/>
          <p:cNvPicPr/>
          <p:nvPr/>
        </p:nvPicPr>
        <p:blipFill>
          <a:blip r:embed="rId3"/>
          <a:stretch/>
        </p:blipFill>
        <p:spPr>
          <a:xfrm>
            <a:off x="1371600" y="1143000"/>
            <a:ext cx="6400800" cy="228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209680" y="228600"/>
            <a:ext cx="4572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33"/>
                    </a:gs>
                    <a:gs pos="100000">
                      <a:srgbClr val="99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Латинская Америк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0000"/>
                  </a:gs>
                  <a:gs pos="50000">
                    <a:srgbClr val="ff9933"/>
                  </a:gs>
                  <a:gs pos="100000">
                    <a:srgbClr val="99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lad_map" descr=""/>
          <p:cNvPicPr/>
          <p:nvPr/>
        </p:nvPicPr>
        <p:blipFill>
          <a:blip r:embed="rId4"/>
          <a:srcRect l="0" t="0" r="74" b="-90"/>
          <a:stretch/>
        </p:blipFill>
        <p:spPr>
          <a:xfrm>
            <a:off x="152280" y="1447920"/>
            <a:ext cx="4648320" cy="5275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269600" y="1523880"/>
            <a:ext cx="5123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Латинская Америка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регион, расположенны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между США и Антарктид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В него входя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Мекс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страны Централь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Амер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9933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Вест-Инд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9933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Южная Амер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Площадь – 21 млн.кв.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Население – 520 млн.челов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99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ztecLogs2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AztecLogs2" descr="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BD14710_" descr=""/>
          <p:cNvPicPr/>
          <p:nvPr/>
        </p:nvPicPr>
        <p:blipFill>
          <a:blip r:embed="rId3"/>
          <a:stretch/>
        </p:blipFill>
        <p:spPr>
          <a:xfrm>
            <a:off x="1371600" y="1143000"/>
            <a:ext cx="6400800" cy="228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209680" y="228600"/>
            <a:ext cx="4572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33"/>
                    </a:gs>
                    <a:gs pos="100000">
                      <a:srgbClr val="99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олитическая карт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0000"/>
                  </a:gs>
                  <a:gs pos="50000">
                    <a:srgbClr val="ff9933"/>
                  </a:gs>
                  <a:gs pos="100000">
                    <a:srgbClr val="99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1447920"/>
            <a:ext cx="3809880" cy="4572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1447920"/>
            <a:ext cx="36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 Black"/>
              </a:rPr>
              <a:t>Латинская Амер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2195400">
            <a:off x="2285640" y="1981080"/>
            <a:ext cx="609480" cy="990720"/>
          </a:xfrm>
          <a:prstGeom prst="downArrow">
            <a:avLst>
              <a:gd name="adj1" fmla="val 50000"/>
              <a:gd name="adj2" fmla="val 40638"/>
            </a:avLst>
          </a:pr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914400" y="3048120"/>
            <a:ext cx="2209680" cy="1557000"/>
            <a:chOff x="914400" y="3048120"/>
            <a:chExt cx="2209680" cy="1557000"/>
          </a:xfrm>
        </p:grpSpPr>
        <p:sp>
          <p:nvSpPr>
            <p:cNvPr id="60" name=""/>
            <p:cNvSpPr/>
            <p:nvPr/>
          </p:nvSpPr>
          <p:spPr>
            <a:xfrm>
              <a:off x="914400" y="3124080"/>
              <a:ext cx="2209680" cy="1295640"/>
            </a:xfrm>
            <a:prstGeom prst="rect">
              <a:avLst/>
            </a:prstGeom>
            <a:noFill/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45160" y="3048120"/>
              <a:ext cx="1890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33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суверенных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государств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4191120" y="1981080"/>
            <a:ext cx="609480" cy="990720"/>
          </a:xfrm>
          <a:prstGeom prst="downArrow">
            <a:avLst>
              <a:gd name="adj1" fmla="val 50000"/>
              <a:gd name="adj2" fmla="val 40638"/>
            </a:avLst>
          </a:pr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9482600">
            <a:off x="6248520" y="2057400"/>
            <a:ext cx="609480" cy="990720"/>
          </a:xfrm>
          <a:prstGeom prst="downArrow">
            <a:avLst>
              <a:gd name="adj1" fmla="val 50000"/>
              <a:gd name="adj2" fmla="val 40638"/>
            </a:avLst>
          </a:pr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357720" y="3124080"/>
            <a:ext cx="2517120" cy="1295640"/>
            <a:chOff x="3357720" y="3124080"/>
            <a:chExt cx="2517120" cy="1295640"/>
          </a:xfrm>
        </p:grpSpPr>
        <p:sp>
          <p:nvSpPr>
            <p:cNvPr id="65" name=""/>
            <p:cNvSpPr/>
            <p:nvPr/>
          </p:nvSpPr>
          <p:spPr>
            <a:xfrm>
              <a:off x="3357720" y="3200400"/>
              <a:ext cx="2517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влад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Великобритани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(7) и США (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429000" y="3124080"/>
              <a:ext cx="2438280" cy="1295640"/>
            </a:xfrm>
            <a:prstGeom prst="rect">
              <a:avLst/>
            </a:prstGeom>
            <a:noFill/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172200" y="3124080"/>
            <a:ext cx="2286000" cy="1295640"/>
            <a:chOff x="6172200" y="3124080"/>
            <a:chExt cx="2286000" cy="1295640"/>
          </a:xfrm>
        </p:grpSpPr>
        <p:sp>
          <p:nvSpPr>
            <p:cNvPr id="68" name=""/>
            <p:cNvSpPr/>
            <p:nvPr/>
          </p:nvSpPr>
          <p:spPr>
            <a:xfrm>
              <a:off x="6175080" y="3124080"/>
              <a:ext cx="217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заморск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департамент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Франции (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72200" y="3124080"/>
              <a:ext cx="2286000" cy="1295640"/>
            </a:xfrm>
            <a:prstGeom prst="rect">
              <a:avLst/>
            </a:prstGeom>
            <a:noFill/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5197680" y="4724280"/>
            <a:ext cx="2899440" cy="1557000"/>
          </a:xfrm>
          <a:prstGeom prst="rect">
            <a:avLst/>
          </a:pr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Свобод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ассоциирован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с США государ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981080" y="4724280"/>
            <a:ext cx="2819520" cy="1600200"/>
            <a:chOff x="1981080" y="4724280"/>
            <a:chExt cx="2819520" cy="1600200"/>
          </a:xfrm>
        </p:grpSpPr>
        <p:sp>
          <p:nvSpPr>
            <p:cNvPr id="72" name=""/>
            <p:cNvSpPr/>
            <p:nvPr/>
          </p:nvSpPr>
          <p:spPr>
            <a:xfrm>
              <a:off x="2135160" y="4724280"/>
              <a:ext cx="2506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Заморские част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Королевств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Нидерландов 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81080" y="4724280"/>
              <a:ext cx="2819520" cy="1600200"/>
            </a:xfrm>
            <a:prstGeom prst="rect">
              <a:avLst/>
            </a:prstGeom>
            <a:noFill/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35160" y="4724280"/>
              <a:ext cx="2506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Заморские част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Королевств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Нидерландов 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99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ztecLogs2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South-America-map" descr=""/>
          <p:cNvPicPr/>
          <p:nvPr/>
        </p:nvPicPr>
        <p:blipFill>
          <a:blip r:embed="rId2"/>
          <a:srcRect l="11165" t="0" r="0" b="5557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762120" y="609480"/>
            <a:ext cx="36576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3300"/>
                </a:solidFill>
                <a:uFillTx/>
                <a:latin typeface="Times New Roman"/>
              </a:rPr>
              <a:t>Страны Южной Амер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Аргент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Бразил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Боли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Венесуэ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Гайа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Гвиана (Французска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Колумб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Парагва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Пер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Сурин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Уругва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Чи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Эквад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99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AztecLogs2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9" name="AztecLogs2" descr="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0" name="BD14710_" descr=""/>
          <p:cNvPicPr/>
          <p:nvPr/>
        </p:nvPicPr>
        <p:blipFill>
          <a:blip r:embed="rId3"/>
          <a:stretch/>
        </p:blipFill>
        <p:spPr>
          <a:xfrm>
            <a:off x="1371600" y="1143000"/>
            <a:ext cx="6400800" cy="228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2209680" y="228600"/>
            <a:ext cx="4572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33"/>
                    </a:gs>
                    <a:gs pos="100000">
                      <a:srgbClr val="99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олитическая карт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0000"/>
                  </a:gs>
                  <a:gs pos="50000">
                    <a:srgbClr val="ff9933"/>
                  </a:gs>
                  <a:gs pos="100000">
                    <a:srgbClr val="99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2" name="mexico-central-america-map" descr=""/>
          <p:cNvPicPr/>
          <p:nvPr/>
        </p:nvPicPr>
        <p:blipFill>
          <a:blip r:embed="rId4"/>
          <a:stretch/>
        </p:blipFill>
        <p:spPr>
          <a:xfrm>
            <a:off x="2666880" y="1447920"/>
            <a:ext cx="6477120" cy="4776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80880" y="1523880"/>
            <a:ext cx="2243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3300"/>
                </a:solidFill>
                <a:uFillTx/>
                <a:latin typeface="Times New Roman"/>
              </a:rPr>
              <a:t>Мексика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3300"/>
                </a:solidFill>
                <a:uFillTx/>
                <a:latin typeface="Times New Roman"/>
              </a:rPr>
              <a:t>Централь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3300"/>
                </a:solidFill>
                <a:uFillTx/>
                <a:latin typeface="Times New Roman"/>
              </a:rPr>
              <a:t>Амер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Мекс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Бели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Гватем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Гондура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Коста-Р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Никарагу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ана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Сальвад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99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AztecLogs2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5" name="AztecLogs2" descr="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BD14710_" descr=""/>
          <p:cNvPicPr/>
          <p:nvPr/>
        </p:nvPicPr>
        <p:blipFill>
          <a:blip r:embed="rId3"/>
          <a:stretch/>
        </p:blipFill>
        <p:spPr>
          <a:xfrm>
            <a:off x="1371600" y="1143000"/>
            <a:ext cx="6400800" cy="228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209680" y="228600"/>
            <a:ext cx="4572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33"/>
                    </a:gs>
                    <a:gs pos="100000">
                      <a:srgbClr val="99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олитическая карт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0000"/>
                  </a:gs>
                  <a:gs pos="50000">
                    <a:srgbClr val="ff9933"/>
                  </a:gs>
                  <a:gs pos="100000">
                    <a:srgbClr val="99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" name="caribean" descr=""/>
          <p:cNvPicPr/>
          <p:nvPr/>
        </p:nvPicPr>
        <p:blipFill>
          <a:blip r:embed="rId4"/>
          <a:srcRect l="0" t="9997" r="0" b="0"/>
          <a:stretch/>
        </p:blipFill>
        <p:spPr>
          <a:xfrm>
            <a:off x="3124080" y="1523880"/>
            <a:ext cx="6019920" cy="34718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0" y="1523880"/>
            <a:ext cx="3344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3300"/>
                </a:solidFill>
                <a:uFillTx/>
                <a:latin typeface="Times New Roman"/>
              </a:rPr>
              <a:t>Вест-Инд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3300"/>
                </a:solidFill>
                <a:uFillTx/>
                <a:latin typeface="Times New Roman"/>
              </a:rPr>
              <a:t>(Карибские стран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1) Багамские остро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2) Гаи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3) Доминиканск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республ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4) Куб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5) Ямай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99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AztecLogs2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91" name="AztecLogs2" descr="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92" name="BD14710_" descr=""/>
          <p:cNvPicPr/>
          <p:nvPr/>
        </p:nvPicPr>
        <p:blipFill>
          <a:blip r:embed="rId3"/>
          <a:stretch/>
        </p:blipFill>
        <p:spPr>
          <a:xfrm>
            <a:off x="1371600" y="1447920"/>
            <a:ext cx="6400800" cy="228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905120" y="152280"/>
            <a:ext cx="53337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33"/>
                    </a:gs>
                    <a:gs pos="100000">
                      <a:srgbClr val="99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дминистративно-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0000"/>
                  </a:gs>
                  <a:gs pos="50000">
                    <a:srgbClr val="ff9933"/>
                  </a:gs>
                  <a:gs pos="100000">
                    <a:srgbClr val="99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33"/>
                    </a:gs>
                    <a:gs pos="100000">
                      <a:srgbClr val="99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территориальное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0000"/>
                  </a:gs>
                  <a:gs pos="50000">
                    <a:srgbClr val="ff9933"/>
                  </a:gs>
                  <a:gs pos="100000">
                    <a:srgbClr val="99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33"/>
                    </a:gs>
                    <a:gs pos="100000">
                      <a:srgbClr val="99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устройство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0000"/>
                  </a:gs>
                  <a:gs pos="50000">
                    <a:srgbClr val="ff9933"/>
                  </a:gs>
                  <a:gs pos="100000">
                    <a:srgbClr val="99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52388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В Латинской Америке преобладают  </a:t>
            </a:r>
            <a:r>
              <a:rPr b="1" i="1" lang="en-US" sz="2800" spc="-1" strike="noStrike">
                <a:solidFill>
                  <a:srgbClr val="993300"/>
                </a:solidFill>
                <a:latin typeface="Times New Roman"/>
              </a:rPr>
              <a:t>унитарные государства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, но самые крупные страны - </a:t>
            </a:r>
            <a:r>
              <a:rPr b="1" i="1" lang="en-US" sz="2800" spc="-1" strike="noStrike">
                <a:solidFill>
                  <a:srgbClr val="993300"/>
                </a:solidFill>
                <a:latin typeface="Times New Roman"/>
              </a:rPr>
              <a:t>федер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fg_argen" descr=""/>
          <p:cNvPicPr/>
          <p:nvPr/>
        </p:nvPicPr>
        <p:blipFill>
          <a:blip r:embed="rId4"/>
          <a:stretch/>
        </p:blipFill>
        <p:spPr>
          <a:xfrm>
            <a:off x="228600" y="2514600"/>
            <a:ext cx="2819520" cy="16318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763920" y="419112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Аргент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fg_mexic" descr=""/>
          <p:cNvPicPr/>
          <p:nvPr/>
        </p:nvPicPr>
        <p:blipFill>
          <a:blip r:embed="rId5"/>
          <a:stretch/>
        </p:blipFill>
        <p:spPr>
          <a:xfrm>
            <a:off x="5943600" y="2514600"/>
            <a:ext cx="2994120" cy="17146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6783120" y="426708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Мекс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venesuela" descr=""/>
          <p:cNvPicPr/>
          <p:nvPr/>
        </p:nvPicPr>
        <p:blipFill>
          <a:blip r:embed="rId6"/>
          <a:stretch/>
        </p:blipFill>
        <p:spPr>
          <a:xfrm>
            <a:off x="3276720" y="2514600"/>
            <a:ext cx="2514600" cy="16765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3641760" y="4191120"/>
            <a:ext cx="15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Венесуэ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brazflagb" descr=""/>
          <p:cNvPicPr/>
          <p:nvPr/>
        </p:nvPicPr>
        <p:blipFill>
          <a:blip r:embed="rId7"/>
          <a:stretch/>
        </p:blipFill>
        <p:spPr>
          <a:xfrm>
            <a:off x="2133720" y="4876920"/>
            <a:ext cx="2438280" cy="17175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520200" y="52228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Бразил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0" y="5334120"/>
            <a:ext cx="17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Times New Roman"/>
              </a:rPr>
              <a:t>Сент-Кит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Times New Roman"/>
              </a:rPr>
              <a:t>и Нев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stkitt_a" descr=""/>
          <p:cNvPicPr/>
          <p:nvPr/>
        </p:nvPicPr>
        <p:blipFill>
          <a:blip r:embed="rId8"/>
          <a:srcRect l="0" t="0" r="-82" b="284"/>
          <a:stretch/>
        </p:blipFill>
        <p:spPr>
          <a:xfrm>
            <a:off x="5334120" y="5232240"/>
            <a:ext cx="1523880" cy="10162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14:42:19Z</dcterms:created>
  <dc:creator>Oulianovs</dc:creator>
  <dc:description/>
  <dc:language>en-US</dc:language>
  <cp:lastModifiedBy>Oulianovs</cp:lastModifiedBy>
  <dcterms:modified xsi:type="dcterms:W3CDTF">2005-04-19T17:47:31Z</dcterms:modified>
  <cp:revision>16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6040000000000010243100207f6000400038000</vt:lpwstr>
  </property>
</Properties>
</file>