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FDA-2CAB-4928-9C7B-ABA8855D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851-E94A-441F-9398-50F805F0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E8F-E30A-438E-9C4A-F5DBEF65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462-2997-4C46-AAE1-91C703E2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F8C-C78F-41D0-A9B1-FC06D3DE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DAE-0334-4011-9F16-83AFB1C7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524-2371-4F86-8BC2-79DF7706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83C-FA30-4308-B98B-58C9F286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F7A-2745-488A-A8F2-F8431D1A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08B-4FFC-4F27-B3AA-B41CBEA1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BD5-E163-4E04-87A7-4FF7C95E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CF6-71BB-406F-8385-C72E7B2D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C5D9-077B-4DC5-90AF-84FAAEE76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2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атинская Амер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латинская%20америка" descr=""/>
          <p:cNvPicPr/>
          <p:nvPr/>
        </p:nvPicPr>
        <p:blipFill>
          <a:blip r:embed="rId4"/>
          <a:srcRect l="0" t="0" r="43" b="24"/>
          <a:stretch/>
        </p:blipFill>
        <p:spPr>
          <a:xfrm>
            <a:off x="1981080" y="1523880"/>
            <a:ext cx="4821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атинская Амер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lad_map" descr=""/>
          <p:cNvPicPr/>
          <p:nvPr/>
        </p:nvPicPr>
        <p:blipFill>
          <a:blip r:embed="rId4"/>
          <a:srcRect l="0" t="0" r="74" b="-90"/>
          <a:stretch/>
        </p:blipFill>
        <p:spPr>
          <a:xfrm>
            <a:off x="152280" y="1447920"/>
            <a:ext cx="4648320" cy="527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9600" y="1523880"/>
            <a:ext cx="512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атинская Америка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регион, расположе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между США и Антарктид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В него входя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Мекс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страны Центр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Вест-Инд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Южная Ам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Площадь – 21 млн.кв.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Население – 520 млн.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итическая карт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1447920"/>
            <a:ext cx="3809880" cy="4572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1447920"/>
            <a:ext cx="36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Латинская Ам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195400">
            <a:off x="2285640" y="198108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3048120"/>
            <a:ext cx="2209680" cy="1557000"/>
            <a:chOff x="914400" y="3048120"/>
            <a:chExt cx="2209680" cy="1557000"/>
          </a:xfrm>
        </p:grpSpPr>
        <p:sp>
          <p:nvSpPr>
            <p:cNvPr id="60" name=""/>
            <p:cNvSpPr/>
            <p:nvPr/>
          </p:nvSpPr>
          <p:spPr>
            <a:xfrm>
              <a:off x="914400" y="3124080"/>
              <a:ext cx="2209680" cy="129564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5160" y="3048120"/>
              <a:ext cx="1890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3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суверенны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государ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191120" y="198108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9482600">
            <a:off x="6248520" y="205740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357720" y="3124080"/>
            <a:ext cx="2517120" cy="1295640"/>
            <a:chOff x="3357720" y="3124080"/>
            <a:chExt cx="2517120" cy="1295640"/>
          </a:xfrm>
        </p:grpSpPr>
        <p:sp>
          <p:nvSpPr>
            <p:cNvPr id="65" name=""/>
            <p:cNvSpPr/>
            <p:nvPr/>
          </p:nvSpPr>
          <p:spPr>
            <a:xfrm>
              <a:off x="3357720" y="3200400"/>
              <a:ext cx="251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вл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Великобритан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(7) и США 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29000" y="3124080"/>
              <a:ext cx="2438280" cy="129564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172200" y="3124080"/>
            <a:ext cx="2286000" cy="1295640"/>
            <a:chOff x="6172200" y="3124080"/>
            <a:chExt cx="2286000" cy="1295640"/>
          </a:xfrm>
        </p:grpSpPr>
        <p:sp>
          <p:nvSpPr>
            <p:cNvPr id="68" name=""/>
            <p:cNvSpPr/>
            <p:nvPr/>
          </p:nvSpPr>
          <p:spPr>
            <a:xfrm>
              <a:off x="6175080" y="3124080"/>
              <a:ext cx="217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заморск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департамен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Франции 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2200" y="3124080"/>
              <a:ext cx="2286000" cy="129564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197680" y="4724280"/>
            <a:ext cx="2899440" cy="155700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вобод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ассоцииров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 США 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981080" y="4724280"/>
            <a:ext cx="2819520" cy="1600200"/>
            <a:chOff x="1981080" y="4724280"/>
            <a:chExt cx="2819520" cy="1600200"/>
          </a:xfrm>
        </p:grpSpPr>
        <p:sp>
          <p:nvSpPr>
            <p:cNvPr id="72" name=""/>
            <p:cNvSpPr/>
            <p:nvPr/>
          </p:nvSpPr>
          <p:spPr>
            <a:xfrm>
              <a:off x="2135160" y="4724280"/>
              <a:ext cx="250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Заморские ча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Королев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Нидерландов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1080" y="4724280"/>
              <a:ext cx="2819520" cy="160020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5160" y="4724280"/>
              <a:ext cx="250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Заморские ча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Королев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Нидерландов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South-America-map" descr=""/>
          <p:cNvPicPr/>
          <p:nvPr/>
        </p:nvPicPr>
        <p:blipFill>
          <a:blip r:embed="rId2"/>
          <a:srcRect l="11165" t="0" r="0" b="5557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762120" y="609480"/>
            <a:ext cx="36576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Страны Юж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Арген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Браз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Боли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Венесуэ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Гай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Гвиана (Французск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Колумб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Парагва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Пе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урин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Уругва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Ч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Эквад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итическая карт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mexico-central-america-map" descr=""/>
          <p:cNvPicPr/>
          <p:nvPr/>
        </p:nvPicPr>
        <p:blipFill>
          <a:blip r:embed="rId4"/>
          <a:stretch/>
        </p:blipFill>
        <p:spPr>
          <a:xfrm>
            <a:off x="2666880" y="1447920"/>
            <a:ext cx="6477120" cy="477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1523880"/>
            <a:ext cx="2243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Мексик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Центр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Ам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кс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Бел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Гватем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Гондур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оста-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икарагу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ан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альвад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итическая карт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caribean" descr=""/>
          <p:cNvPicPr/>
          <p:nvPr/>
        </p:nvPicPr>
        <p:blipFill>
          <a:blip r:embed="rId4"/>
          <a:srcRect l="0" t="9997" r="0" b="0"/>
          <a:stretch/>
        </p:blipFill>
        <p:spPr>
          <a:xfrm>
            <a:off x="3124080" y="1523880"/>
            <a:ext cx="6019920" cy="3471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0" y="1523880"/>
            <a:ext cx="3344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Вест-Инд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(Карибские стран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) Багамские остр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2) Гаи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3) Доминикан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респуб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) Ку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) Яма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BD14710_" descr=""/>
          <p:cNvPicPr/>
          <p:nvPr/>
        </p:nvPicPr>
        <p:blipFill>
          <a:blip r:embed="rId3"/>
          <a:stretch/>
        </p:blipFill>
        <p:spPr>
          <a:xfrm>
            <a:off x="1371600" y="144792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905120" y="152280"/>
            <a:ext cx="5333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дминистративно-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рриториальное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стройств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5238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В Латинской Америке преобладают 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унитарные государства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, но самые крупные страны -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fg_arge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2819520" cy="1631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763920" y="41911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Арген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g_mexic" descr=""/>
          <p:cNvPicPr/>
          <p:nvPr/>
        </p:nvPicPr>
        <p:blipFill>
          <a:blip r:embed="rId5"/>
          <a:stretch/>
        </p:blipFill>
        <p:spPr>
          <a:xfrm>
            <a:off x="5943600" y="2514600"/>
            <a:ext cx="2994120" cy="1714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783120" y="42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Мекс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venesuela" descr=""/>
          <p:cNvPicPr/>
          <p:nvPr/>
        </p:nvPicPr>
        <p:blipFill>
          <a:blip r:embed="rId6"/>
          <a:stretch/>
        </p:blipFill>
        <p:spPr>
          <a:xfrm>
            <a:off x="3276720" y="2514600"/>
            <a:ext cx="2514600" cy="1676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641760" y="419112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Венесуэ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razflagb" descr=""/>
          <p:cNvPicPr/>
          <p:nvPr/>
        </p:nvPicPr>
        <p:blipFill>
          <a:blip r:embed="rId7"/>
          <a:stretch/>
        </p:blipFill>
        <p:spPr>
          <a:xfrm>
            <a:off x="2133720" y="4876920"/>
            <a:ext cx="2438280" cy="1717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520200" y="52228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Браз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533412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Сент-Ки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и Нев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tkitt_a" descr=""/>
          <p:cNvPicPr/>
          <p:nvPr/>
        </p:nvPicPr>
        <p:blipFill>
          <a:blip r:embed="rId8"/>
          <a:srcRect l="0" t="0" r="-82" b="284"/>
          <a:stretch/>
        </p:blipFill>
        <p:spPr>
          <a:xfrm>
            <a:off x="5334120" y="5232240"/>
            <a:ext cx="1523880" cy="1016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4:42:19Z</dcterms:created>
  <dc:creator>Oulianovs</dc:creator>
  <dc:description/>
  <dc:language>en-US</dc:language>
  <cp:lastModifiedBy>Oulianovs</cp:lastModifiedBy>
  <dcterms:modified xsi:type="dcterms:W3CDTF">2005-04-19T17:47:31Z</dcterms:modified>
  <cp:revision>1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40000000000010243100207f6000400038000</vt:lpwstr>
  </property>
</Properties>
</file>