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290-63BD-4F77-9753-100A7619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E36-224E-440A-9F05-0EF7193C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302-034B-4C91-97C7-1FFB94BE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278-AE8B-441C-8B71-A9200593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4B8-79E0-462D-BE54-18C922E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795-C463-4E86-9DB3-0F90974C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B5D-C29B-4040-ADA9-283BE7B4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C6E-D226-4BCE-B22D-7D4B4A2D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CFE-5BB2-4C6D-891B-C1684B7C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F0F-2342-400D-9C9B-A9FF8C63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E6B-1897-4819-8EFD-B9148AC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409-51F5-43DB-B63C-B1D447F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31B-E776-4359-AE88-35EF476A1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атинская Амер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латинская%20америка" descr=""/>
          <p:cNvPicPr/>
          <p:nvPr/>
        </p:nvPicPr>
        <p:blipFill>
          <a:blip r:embed="rId4"/>
          <a:srcRect l="0" t="0" r="43" b="24"/>
          <a:stretch/>
        </p:blipFill>
        <p:spPr>
          <a:xfrm>
            <a:off x="1981080" y="1523880"/>
            <a:ext cx="4821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атинская Амер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lad_map" descr=""/>
          <p:cNvPicPr/>
          <p:nvPr/>
        </p:nvPicPr>
        <p:blipFill>
          <a:blip r:embed="rId4"/>
          <a:srcRect l="0" t="0" r="74" b="-90"/>
          <a:stretch/>
        </p:blipFill>
        <p:spPr>
          <a:xfrm>
            <a:off x="152280" y="1447920"/>
            <a:ext cx="4648320" cy="527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9600" y="1523880"/>
            <a:ext cx="512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атинская Америк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регион, располож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между США и Антаркти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В него вход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страны Центр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Вест-Ин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9933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Южная 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лощадь – 21 млн.кв.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Население – 520 млн.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447920"/>
            <a:ext cx="3809880" cy="4572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447920"/>
            <a:ext cx="36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 Black"/>
              </a:rPr>
              <a:t>Латинская 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95400">
            <a:off x="2285640" y="19810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48120"/>
            <a:ext cx="2209680" cy="1557000"/>
            <a:chOff x="914400" y="3048120"/>
            <a:chExt cx="2209680" cy="1557000"/>
          </a:xfrm>
        </p:grpSpPr>
        <p:sp>
          <p:nvSpPr>
            <p:cNvPr id="60" name=""/>
            <p:cNvSpPr/>
            <p:nvPr/>
          </p:nvSpPr>
          <p:spPr>
            <a:xfrm>
              <a:off x="914400" y="3124080"/>
              <a:ext cx="220968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5160" y="3048120"/>
              <a:ext cx="189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3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суверен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государ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191120" y="19810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9482600">
            <a:off x="6248520" y="20574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57720" y="3124080"/>
            <a:ext cx="2517120" cy="1295640"/>
            <a:chOff x="3357720" y="3124080"/>
            <a:chExt cx="2517120" cy="1295640"/>
          </a:xfrm>
        </p:grpSpPr>
        <p:sp>
          <p:nvSpPr>
            <p:cNvPr id="65" name=""/>
            <p:cNvSpPr/>
            <p:nvPr/>
          </p:nvSpPr>
          <p:spPr>
            <a:xfrm>
              <a:off x="3357720" y="3200400"/>
              <a:ext cx="251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вл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Великобритан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(7) и США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29000" y="3124080"/>
              <a:ext cx="243828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172200" y="3124080"/>
            <a:ext cx="2286000" cy="1295640"/>
            <a:chOff x="6172200" y="3124080"/>
            <a:chExt cx="2286000" cy="1295640"/>
          </a:xfrm>
        </p:grpSpPr>
        <p:sp>
          <p:nvSpPr>
            <p:cNvPr id="68" name=""/>
            <p:cNvSpPr/>
            <p:nvPr/>
          </p:nvSpPr>
          <p:spPr>
            <a:xfrm>
              <a:off x="6175080" y="3124080"/>
              <a:ext cx="217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департамен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Франции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2200" y="3124080"/>
              <a:ext cx="2286000" cy="12956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197680" y="4724280"/>
            <a:ext cx="2899440" cy="155700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вобод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ассоцииров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 США 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981080" y="4724280"/>
            <a:ext cx="2819520" cy="1600200"/>
            <a:chOff x="1981080" y="4724280"/>
            <a:chExt cx="2819520" cy="1600200"/>
          </a:xfrm>
        </p:grpSpPr>
        <p:sp>
          <p:nvSpPr>
            <p:cNvPr id="72" name=""/>
            <p:cNvSpPr/>
            <p:nvPr/>
          </p:nvSpPr>
          <p:spPr>
            <a:xfrm>
              <a:off x="2135160" y="4724280"/>
              <a:ext cx="25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 ч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Королев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Нидерландов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1080" y="4724280"/>
              <a:ext cx="2819520" cy="16002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5160" y="4724280"/>
              <a:ext cx="25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Заморские ча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Королев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Нидерландов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South-America-map" descr=""/>
          <p:cNvPicPr/>
          <p:nvPr/>
        </p:nvPicPr>
        <p:blipFill>
          <a:blip r:embed="rId2"/>
          <a:srcRect l="11165" t="0" r="0" b="5557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62120" y="609480"/>
            <a:ext cx="36576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Страны Южной Амер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Арген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Браз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Боли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Венесуэ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Гай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Гвиана (Французск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Колумб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арагв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Пе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урин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Уругва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Ч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Эквад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9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mexico-central-america-map" descr=""/>
          <p:cNvPicPr/>
          <p:nvPr/>
        </p:nvPicPr>
        <p:blipFill>
          <a:blip r:embed="rId4"/>
          <a:stretch/>
        </p:blipFill>
        <p:spPr>
          <a:xfrm>
            <a:off x="2666880" y="1447920"/>
            <a:ext cx="6477120" cy="477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1523880"/>
            <a:ext cx="224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Мексик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Аме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Бел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Гватем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Гондур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оста-Р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икарагу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ан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альвад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BD14710_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09680" y="2286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олитическая кар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caribean" descr=""/>
          <p:cNvPicPr/>
          <p:nvPr/>
        </p:nvPicPr>
        <p:blipFill>
          <a:blip r:embed="rId4"/>
          <a:srcRect l="0" t="9997" r="0" b="0"/>
          <a:stretch/>
        </p:blipFill>
        <p:spPr>
          <a:xfrm>
            <a:off x="3124080" y="1523880"/>
            <a:ext cx="6019920" cy="3471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0" y="1523880"/>
            <a:ext cx="334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Вест-Ин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(Карибские стра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) Багамские остр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2) Гаи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3) Доминика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респуб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) Ку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) Яма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99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ztecLogs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AztecLogs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BD14710_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6400800" cy="22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05120" y="152280"/>
            <a:ext cx="533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дминистративно-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рриториальное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33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стройств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ff9933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23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В Латинской Америке преобладают 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унитарные государства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, но самые крупные страны -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g_arge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819520" cy="1631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763920" y="41911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Арген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g_mexic" descr=""/>
          <p:cNvPicPr/>
          <p:nvPr/>
        </p:nvPicPr>
        <p:blipFill>
          <a:blip r:embed="rId5"/>
          <a:stretch/>
        </p:blipFill>
        <p:spPr>
          <a:xfrm>
            <a:off x="5943600" y="2514600"/>
            <a:ext cx="2994120" cy="1714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783120" y="4267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Мекс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venesuela" descr=""/>
          <p:cNvPicPr/>
          <p:nvPr/>
        </p:nvPicPr>
        <p:blipFill>
          <a:blip r:embed="rId6"/>
          <a:stretch/>
        </p:blipFill>
        <p:spPr>
          <a:xfrm>
            <a:off x="3276720" y="2514600"/>
            <a:ext cx="2514600" cy="167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641760" y="419112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Венесуэ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razflagb" descr=""/>
          <p:cNvPicPr/>
          <p:nvPr/>
        </p:nvPicPr>
        <p:blipFill>
          <a:blip r:embed="rId7"/>
          <a:stretch/>
        </p:blipFill>
        <p:spPr>
          <a:xfrm>
            <a:off x="2133720" y="4876920"/>
            <a:ext cx="2438280" cy="1717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20200" y="52228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Брази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533412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Сент-Ки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и Нев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kitt_a" descr=""/>
          <p:cNvPicPr/>
          <p:nvPr/>
        </p:nvPicPr>
        <p:blipFill>
          <a:blip r:embed="rId8"/>
          <a:srcRect l="0" t="0" r="-82" b="284"/>
          <a:stretch/>
        </p:blipFill>
        <p:spPr>
          <a:xfrm>
            <a:off x="5334120" y="5232240"/>
            <a:ext cx="1523880" cy="1016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4:42:19Z</dcterms:created>
  <dc:creator>Oulianovs</dc:creator>
  <dc:description/>
  <dc:language>en-US</dc:language>
  <cp:lastModifiedBy>Oulianovs</cp:lastModifiedBy>
  <dcterms:modified xsi:type="dcterms:W3CDTF">2005-04-19T17:47:31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040000000000010243100207f6000400038000</vt:lpwstr>
  </property>
</Properties>
</file>