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E24-D832-43A2-9A52-BDAD31E9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45B-D99F-4718-89D2-1D38657D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C7CD-3FAE-4B63-8681-40BCCE21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29C-F575-4732-A74D-A0F69942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8A8D-F483-408C-A3D8-DFA1ACEB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2715-AB8C-47B7-9D5C-90C05734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F487-6218-4A56-9218-5976CA9F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E0A9-1567-4E5D-AF52-C8AEC938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4F7A-0911-4DF3-9E55-89FE024B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E83F-FAA2-4A3A-A499-DEE91970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F605-B5C7-4FBE-A48B-70F9EC40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4C7-47AF-434D-A183-5B6A2C5E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DE8E-6455-4BDF-A147-CA491A5C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790F-30A5-4AA4-84B0-19BA54D4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A6E8-4DE6-4CED-9E6A-597200C2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C1D9-139D-4E9F-B139-CF3AAE51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10D8-059F-4C64-9AC7-6EE4AA3D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77E-E40D-49F9-95DE-3E0FE950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478-EA78-4A2B-9CA7-08F40EE7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D03-8863-4E88-AB06-A0E4A441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E48-C22C-4690-A389-4E88BEDA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54B-DF76-4AB3-993E-C339235E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9729-EA1F-4E30-A3FA-3F64DC00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E12-1204-47E7-B046-79CBB5E4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AA29-DC75-4BAE-90B9-D97F31030AE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0FDC-E6C4-4EEB-B097-B8ED7A8CD02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868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0" y="3357360"/>
            <a:ext cx="914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нановые республ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:  Бяков Андр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У СОШ №2 г.Гелендж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 Сбитнева Е.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карагуа: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илитаризация экономики, американское торгово-экономическое эмбарго, а также допущенные сандинистами просчеты в проведении социально-экономической политики привели к сокращению объема сельскохозяйственного и промышленного производства, падению уровня жизни населения, а также росту внешней задолженности. ВНП в 1994 г. составил $6,4 млрд. (ВНП на душу населения - $1 570). Производство ограничено обрабатывающей сельскохозяйственное сырье, химической и текстильной отраслями промышленности. Сельское хозяйство (23% ВНП) специализируется на выращивании кофе, бананов,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харного тростника, хлопчатника (основные экспортные культуры). В течение последних лет правительство предпринимает меры по борьбе с гиперинфляцией, достижению устойчивости национальной валюты, в стране проводится структурная перестройка, модернизация производства, создается частный финансовый сектор. Денежная единица - золотая кордоба (1 кордоба (С$) равна 100 сентаво). Важнейшие торговые партнеры: страны ЕС и Латинской Америки. Общая протяженность железных дорог - 376 км, автодорог -15 286 км (1 598 км - с твердым покрытием), внутренних водных путей - 2 220 км. Главные порты страны: Коринто, Блуфилд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w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ватемала является отсталой аграрной страной. ВНП составил в 1994 г. $33 млрд. (ВНП на душу населения-$3 080). Сельское хозяйство обеспечивает 30% ВНП и свыше 60% валютных поступлений в бюджет страны. Основные сельскохозяйственные культуры: кофе, сахарный тростник, хлопчатник, бананы. Развиты текстильная, химическая, нефтяная и металлургическая отрасли промышленности. Важной областью экономики является производство сахара, а в последние годы - туризм. Иностранный капитал, главным образом американский, играет заметную роль в экономике страны. Денежная единица - кецаль (1 кецаль (Q) равен 100 сентаво). Главные торговые партнеры: США, страны Центральной Америки, Япония, ФРГ, Мексика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щая протяженность железных дорог - 884 км, автодорог -26 429 км, внутренних водных путей - 260 км (судоходны круглый год). Главные порты страны: Ливингстон, Пуэрто-Барриос, Сан-Хосе, Чампирико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w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ельское хозяйство (19% ВНП) является важнейшим сектором экономики, на его долю приходится до 70% от общего объема экспорта. Основные экспортные культуры: кофе, сахарный тростник, бананы, выращиваются также кукуруза, рис, картофель. За исключением зерна, страна полностью обеспечивает себя продовольствием. Массовая вырубка лесов привела к сокращению лесных запасов и, соответственно, к значительному уменьшению экспорта древесины. Производство ограничено пищевой, текстильной и швейной промышленностью. ВНП в 1994 г. составил $16,9 млрд. (ВНП на душу населения - $5 050). Денежная единица - коста-риканский колон (1 коста-риканский колон (С) равен ста сантимам). Главные торговые партнеры: США, Германия, Гватемала, Япония. Общая протяженность железных дорог - 950 км, автодорог -15 400 км (7 030 км - мощеные дороги), внутренних водных путей -730 км. Порты страны: Голфито, Калдэра, Моин, Пуэрто-Лимон, Пунтаренас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нановая республика - страна из Латинской Америки , в которой присутствует политическая нестабильность совместно с зависимостью от ограниченного сельскохозяйственного производства. Признаки : неравенство в распределении национального продук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тсталая инфраструктура, образование и экономи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ильная зависимость от иностранного капитал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тносительно высокая инфляция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ефицит бюджета и снижающийся курс национальной валюты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оррупция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большой внешний дол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низкая оплата тру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сокая безработиц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большое количество людей живёт за чертой бедност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Содержимое 6" descr="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нама: В экономике страны достаточно активно развивается банковский сектор, в то время как в промышленности и сельском хозяйстве наблюдается незначительный подъем. Производство связано главным образом с обработкой сельскохозяйственной продукции, среди других отраслей - очистка нефти, строительная. Сельское хозяйство обеспечивает 12% ВНП, основные сельскохозяйственные культуры - бананы, рис, зерновые, кофе, сахарный тростник (бананы и кофе - одни из важнейших экспортных товаров). ВНП составил в 1994 г. $12,3 млрд. (ВНП на душу населения - $4 670). Денежная единица - бальбоа (1 бальбоа (В) равен 100 чентезимо). Главные торговые партнеры: США, страны Центральной Америки, Япония, страны ЕС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ая протяженность железных дорог - 238 км, автодорог -8 530 км, внутренних водных путей - 800 км (из них - 82 км Панамского канала, соединяющего Тихий океан с Атлантическим). Порты страны: Колон, Кристобаль, Пана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Содержимое 3" descr="w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умбия: ВНП составил в 1994 г. $172,4 млрд. (ВНП надушу населения - $4 850). Разработка нефтяных и угольных месторождений, развитие других отраслей промышленности (текстильной, пищевой, металлургической, химической) позволили компенсировать снижение цен на кофе - главный экспортный товар Колумбии. В сельском хозяйстве (15% ВНП) развито производство зерновых культур и животноводство. Благоприятный климат и плодородные почвы позволяют получать разнообразную сельскохозяйственную продукцию - кофе (второй по величине производитель в мире),банан, рис, сахарный тростник, табак, какао-бобы, масленичные культуры. Денежная единица - колумбийский песо (1 колумбийский песо (Col$) равен 100 сентаво). Важнейшие торговые партнеры: США, страны ЕС, Япония, Бразилия, Венесуэла. Общая протяженность железных дорог - 3386 км, автодорог -107 300 км, внутренних водных путей - 14300 км. Главные порты страны: Картахена, Санта-Марта, Буэнавенту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3" descr="w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ндурас - одно из беднейших государств Западного полушария. ВНП в 1994 г. составил $9,7 млрд. (ВНП на душу населения $1 820). В промышленности (главным образом горнодобывающей и перерабатывающей) занято 9% трудоспособного населения. Сельское хозяйство - наиболее важная отрасль экономики (25% ВНП и 2/3 экспорта страны). Основные сельскохозяйственные культуры: бананы, кофе, сахарный тростник, табак, кукуруза, рис. Значительная часть обрабатываемых земель принадлежит крупным землевладельцам - латифундистам. Среди основных проблем, стоящих перед экономикой страны, - быстрый рост населения, резкий рост инфляции, неэффективное государственное управление, высокий уровень безработицы. Денежная единица - лемпира (1 лемпира (L) равна 100 сентаво). Главные торговые партнеры: США, Германия, Япония. Общая протяженность железных дорог - 785 км, автодорог -8 950 км (1 700 км - с твердым покрытием), внутренних водных путей - 465 км. Важнейшие порты страны - Пуэрто-Кортес, Тела, Трухиль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3" descr="w7.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ма</cp:lastModifiedBy>
  <dcterms:modified xsi:type="dcterms:W3CDTF">2011-04-03T06:45:08Z</dcterms:modified>
  <cp:revision>13</cp:revision>
  <dc:subject/>
  <dc:title>Латинская Амери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b0000000000010250300207f7000400038000</vt:lpwstr>
  </property>
</Properties>
</file>