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E569-19F3-4DF8-BAD3-3E202737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A463-7681-45D9-AE90-F7E0DCFA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73D6-DE6C-4EC7-A391-99443F9F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4705-F3B2-4DC9-B2BD-742D5AB3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055D-F1F2-44A0-B70C-33B59B1B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B44C-7C59-478E-B8EF-F4A2D3EB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2305-3B7D-4880-8CD9-2D52576C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4DFB-82D3-4686-A3CF-3C8A434F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2E4D-48FC-4A27-AC73-495B899A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147D-AF65-40D8-9147-1CF49A3A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0DF2-8514-4D77-977D-C537705F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7F8-1755-4E6D-9FC0-A4F8E506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ACB7-9820-4E5C-82DB-527908A4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33F2-FEE3-4EE9-B647-EDEFCBDF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6315-469F-4A67-A0D2-679162A9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E43B-DF84-4937-9286-2D0C470A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9E6D-AFD4-4CB1-B6AB-308B9A0C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18EB-3677-4F60-8047-1149A4BB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06D0-206B-47E2-A3CF-4969F03A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2E49-EAC4-46BF-B376-14A8E291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75DC-9825-41D3-94E6-C703765B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28DA-6178-41B2-A8FF-3A813EDF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72A4-4EB5-4475-B4B1-E2819F9D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9877-8212-4B2E-97E3-5CD2FA68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B811-650D-49E5-80CE-A681420D757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BD00-ADC2-429C-9998-DB9B10BB8EC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868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0" y="3357360"/>
            <a:ext cx="914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нановые республи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:  Бяков Андр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У СОШ №2 г.Гелендж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 Сбитнева Е.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икарагуа: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илитаризация экономики, американское торгово-экономическое эмбарго, а также допущенные сандинистами просчеты в проведении социально-экономической политики привели к сокращению объема сельскохозяйственного и промышленного производства, падению уровня жизни населения, а также росту внешней задолженности. ВНП в 1994 г. составил $6,4 млрд. (ВНП на душу населения - $1 570). Производство ограничено обрабатывающей сельскохозяйственное сырье, химической и текстильной отраслями промышленности. Сельское хозяйство (23% ВНП) специализируется на выращивании кофе, бананов,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харного тростника, хлопчатника (основные экспортные культуры). В течение последних лет правительство предпринимает меры по борьбе с гиперинфляцией, достижению устойчивости национальной валюты, в стране проводится структурная перестройка, модернизация производства, создается частный финансовый сектор. Денежная единица - золотая кордоба (1 кордоба (С$) равна 100 сентаво). Важнейшие торговые партнеры: страны ЕС и Латинской Америки. Общая протяженность железных дорог - 376 км, автодорог -15 286 км (1 598 км - с твердым покрытием), внутренних водных путей - 2 220 км. Главные порты страны: Коринто, Блуфилд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w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ватемала является отсталой аграрной страной. ВНП составил в 1994 г. $33 млрд. (ВНП на душу населения-$3 080). Сельское хозяйство обеспечивает 30% ВНП и свыше 60% валютных поступлений в бюджет страны. Основные сельскохозяйственные культуры: кофе, сахарный тростник, хлопчатник, бананы. Развиты текстильная, химическая, нефтяная и металлургическая отрасли промышленности. Важной областью экономики является производство сахара, а в последние годы - туризм. Иностранный капитал, главным образом американский, играет заметную роль в экономике страны. Денежная единица - кецаль (1 кецаль (Q) равен 100 сентаво). Главные торговые партнеры: США, страны Центральной Америки, Япония, ФРГ, Мексика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бщая протяженность железных дорог - 884 км, автодорог -26 429 км, внутренних водных путей - 260 км (судоходны круглый год). Главные порты страны: Ливингстон, Пуэрто-Барриос, Сан-Хосе, Чампирико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одержимое 3" descr="w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ельское хозяйство (19% ВНП) является важнейшим сектором экономики, на его долю приходится до 70% от общего объема экспорта. Основные экспортные культуры: кофе, сахарный тростник, бананы, выращиваются также кукуруза, рис, картофель. За исключением зерна, страна полностью обеспечивает себя продовольствием. Массовая вырубка лесов привела к сокращению лесных запасов и, соответственно, к значительному уменьшению экспорта древесины. Производство ограничено пищевой, текстильной и швейной промышленностью. ВНП в 1994 г. составил $16,9 млрд. (ВНП на душу населения - $5 050). Денежная единица - коста-риканский колон (1 коста-риканский колон (С) равен ста сантимам). Главные торговые партнеры: США, Германия, Гватемала, Япония. Общая протяженность железных дорог - 950 км, автодорог -15 400 км (7 030 км - мощеные дороги), внутренних водных путей -730 км. Порты страны: Голфито, Калдэра, Моин, Пуэрто-Лимон, Пунтаренас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42920" y="142920"/>
            <a:ext cx="88581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нановая республика - страна из Латинской Америки , в которой присутствует политическая нестабильность совместно с зависимостью от ограниченного сельскохозяйственного производства. Признаки : неравенство в распределении национального продукт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тсталая инфраструктура, образование и экономи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ильная зависимость от иностранного капитал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тносительно высокая инфляция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дефицит бюджета и снижающийся курс национальной валюты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оррупция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большой внешний долг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низкая оплата труд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ысокая безработиц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большое количество людей живёт за чертой бедност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Содержимое 6" descr="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нама: В экономике страны достаточно активно развивается банковский сектор, в то время как в промышленности и сельском хозяйстве наблюдается незначительный подъем. Производство связано главным образом с обработкой сельскохозяйственной продукции, среди других отраслей - очистка нефти, строительная. Сельское хозяйство обеспечивает 12% ВНП, основные сельскохозяйственные культуры - бананы, рис, зерновые, кофе, сахарный тростник (бананы и кофе - одни из важнейших экспортных товаров). ВНП составил в 1994 г. $12,3 млрд. (ВНП на душу населения - $4 670). Денежная единица - бальбоа (1 бальбоа (В) равен 100 чентезимо). Главные торговые партнеры: США, страны Центральной Америки, Япония, страны ЕС.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щая протяженность железных дорог - 238 км, автодорог -8 530 км, внутренних водных путей - 800 км (из них - 82 км Панамского канала, соединяющего Тихий океан с Атлантическим). Порты страны: Колон, Кристобаль, Пана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Содержимое 3" descr="w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умбия: ВНП составил в 1994 г. $172,4 млрд. (ВНП надушу населения - $4 850). Разработка нефтяных и угольных месторождений, развитие других отраслей промышленности (текстильной, пищевой, металлургической, химической) позволили компенсировать снижение цен на кофе - главный экспортный товар Колумбии. В сельском хозяйстве (15% ВНП) развито производство зерновых культур и животноводство. Благоприятный климат и плодородные почвы позволяют получать разнообразную сельскохозяйственную продукцию - кофе (второй по величине производитель в мире),банан, рис, сахарный тростник, табак, какао-бобы, масленичные культуры. Денежная единица - колумбийский песо (1 колумбийский песо (Col$) равен 100 сентаво). Важнейшие торговые партнеры: США, страны ЕС, Япония, Бразилия, Венесуэла. Общая протяженность железных дорог - 3386 км, автодорог -107 300 км, внутренних водных путей - 14300 км. Главные порты страны: Картахена, Санта-Марта, Буэнавенту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3" descr="w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ндурас - одно из беднейших государств Западного полушария. ВНП в 1994 г. составил $9,7 млрд. (ВНП на душу населения $1 820). В промышленности (главным образом горнодобывающей и перерабатывающей) занято 9% трудоспособного населения. Сельское хозяйство - наиболее важная отрасль экономики (25% ВНП и 2/3 экспорта страны). Основные сельскохозяйственные культуры: бананы, кофе, сахарный тростник, табак, кукуруза, рис. Значительная часть обрабатываемых земель принадлежит крупным землевладельцам - латифундистам. Среди основных проблем, стоящих перед экономикой страны, - быстрый рост населения, резкий рост инфляции, неэффективное государственное управление, высокий уровень безработицы. Денежная единица - лемпира (1 лемпира (L) равна 100 сентаво). Главные торговые партнеры: США, Германия, Япония. Общая протяженность железных дорог - 785 км, автодорог -8 950 км (1 700 км - с твердым покрытием), внутренних водных путей - 465 км. Важнейшие порты страны - Пуэрто-Кортес, Тела, Трухиль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Содержимое 3" descr="w7.JP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ома</cp:lastModifiedBy>
  <dcterms:modified xsi:type="dcterms:W3CDTF">2011-04-03T06:45:08Z</dcterms:modified>
  <cp:revision>13</cp:revision>
  <dc:subject/>
  <dc:title>Латинская Амери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0b0000000000010250300207f7000400038000</vt:lpwstr>
  </property>
</Properties>
</file>