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C61-E76F-4180-917D-D8804E34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488-DCC6-4278-8C1B-6D1EA9F2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94A-166F-4866-89D4-919FD9E6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047-A90A-40EE-B994-80FFC519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5D9A-3585-4F47-B398-A520C58D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346C-A862-4C63-818C-3A0F7E15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1001-BA38-4AFA-96FD-8E810276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9024-4873-4F58-B91E-B7FF0DB3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95F6-63DF-4632-AB33-2025D220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3EFB-962D-4FDA-A161-B83026A5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E99C-79F8-4B31-A60F-FC3B413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538-0066-41C5-9DC3-3FFD94B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921A-3DDC-400F-8499-AE2CC510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7383-0744-4CE4-A216-3E9875E6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3C18-6E0D-4AAA-ABC2-BCAA1D3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0734-C508-48DD-86C0-CA5E2E25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EDA5-3F4B-42C6-A46A-98E6CD0D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B0B-FB04-45A3-A47D-F64C26C0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5D7-71CE-459B-9079-BC417DF8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AC5-1011-4213-B6E9-318D76D5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2E0-B4FB-4BB3-8031-C351C1EC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A96-CB75-4600-96BC-31F4E4C4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714-EABD-430B-884E-880DB413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666-B690-4D04-AA00-F9C9D3C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844B-E483-47CF-BF3D-8133ED5B069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6B6-29EC-49DC-BE4B-377B3AD8B44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86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нановые республ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 Бяков Андр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СОШ №2 г.Гелендж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 Сбитнева Е.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карагуа: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литаризация экономики, американское торгово-экономическое эмбарго, а также допущенные сандинистами просчеты в проведении социально-экономической политики привели к сокращению объема сельскохозяйственного и промышленного производства, падению уровня жизни населения, а также росту внешней задолженности. ВНП в 1994 г. составил $6,4 млрд. (ВНП на душу населения - $1 570). Производство ограничено обрабатывающей сельскохозяйственное сырье, химической и текстильной отраслями промышленности. Сельское хозяйство (23% ВНП) специализируется на выращивании кофе, бананов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арного тростника, хлопчатника (основные экспортные культуры). В течение последних лет правительство предпринимает меры по борьбе с гиперинфляцией, достижению устойчивости национальной валюты, в стране проводится структурная перестройка, модернизация производства, создается частный финансовый сектор. Денежная единица - золотая кордоба (1 кордоба (С$) равна 100 сентаво). Важнейшие торговые партнеры: страны ЕС и Латинской Америки. Общая протяженность железных дорог - 376 км, автодорог -15 286 км (1 598 км - с твердым покрытием), внутренних водных путей - 2 220 км. Главные порты страны: Коринто, Блуфилд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w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ватемала является отсталой аграрной страной. ВНП составил в 1994 г. $33 млрд. (ВНП на душу населения-$3 080). Сельское хозяйство обеспечивает 30% ВНП и свыше 60% валютных поступлений в бюджет страны. Основные сельскохозяйственные культуры: кофе, сахарный тростник, хлопчатник, бананы. Развиты текстильная, химическая, нефтяная и металлургическая отрасли промышленности. Важной областью экономики является производство сахара, а в последние годы - туризм. Иностранный капитал, главным образом американский, играет заметную роль в экономике страны. Денежная единица - кецаль (1 кецаль (Q) равен 100 сентаво). Главные торговые партнеры: США, страны Центральной Америки, Япония, ФРГ, Мексика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щая протяженность железных дорог - 884 км, автодорог -26 429 км, внутренних водных путей - 260 км (судоходны круглый год). Главные порты страны: Ливингстон, Пуэрто-Барриос, Сан-Хосе, Чампирик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w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ельское хозяйство (19% ВНП) является важнейшим сектором экономики, на его долю приходится до 70% от общего объема экспорта. Основные экспортные культуры: кофе, сахарный тростник, бананы, выращиваются также кукуруза, рис, картофель. За исключением зерна, страна полностью обеспечивает себя продовольствием. Массовая вырубка лесов привела к сокращению лесных запасов и, соответственно, к значительному уменьшению экспорта древесины. Производство ограничено пищевой, текстильной и швейной промышленностью. ВНП в 1994 г. составил $16,9 млрд. (ВНП на душу населения - $5 050). Денежная единица - коста-риканский колон (1 коста-риканский колон (С) равен ста сантимам). Главные торговые партнеры: США, Германия, Гватемала, Япония. Общая протяженность железных дорог - 950 км, автодорог -15 400 км (7 030 км - мощеные дороги), внутренних водных путей -730 км. Порты страны: Голфито, Калдэра, Моин, Пуэрто-Лимон, Пунтаренас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нановая республика - страна из Латинской Америки , в которой присутствует политическая нестабильность совместно с зависимостью от ограниченного сельскохозяйственного производства. Признаки : неравенство в распределении национального продук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сталая инфраструктура, образование и экономи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льная зависимость от иностранного капита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носительно высокая инфля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ефицит бюджета и снижающийся курс национальной валюты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орруп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ольшой внешний дол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низкая оплата тру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сокая безработ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ольшое количество людей живёт за чертой бед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6" descr="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нама: В экономике страны достаточно активно развивается банковский сектор, в то время как в промышленности и сельском хозяйстве наблюдается незначительный подъем. Производство связано главным образом с обработкой сельскохозяйственной продукции, среди других отраслей - очистка нефти, строительная. Сельское хозяйство обеспечивает 12% ВНП, основные сельскохозяйственные культуры - бананы, рис, зерновые, кофе, сахарный тростник (бананы и кофе - одни из важнейших экспортных товаров). ВНП составил в 1994 г. $12,3 млрд. (ВНП на душу населения - $4 670). Денежная единица - бальбоа (1 бальбоа (В) равен 100 чентезимо). Главные торговые партнеры: США, страны Центральной Америки, Япония, страны ЕС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ая протяженность железных дорог - 238 км, автодорог -8 530 км, внутренних водных путей - 800 км (из них - 82 км Панамского канала, соединяющего Тихий океан с Атлантическим). Порты страны: Колон, Кристобаль, Пана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одержимое 3" descr="w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умбия: ВНП составил в 1994 г. $172,4 млрд. (ВНП надушу населения - $4 850). Разработка нефтяных и угольных месторождений, развитие других отраслей промышленности (текстильной, пищевой, металлургической, химической) позволили компенсировать снижение цен на кофе - главный экспортный товар Колумбии. В сельском хозяйстве (15% ВНП) развито производство зерновых культур и животноводство. Благоприятный климат и плодородные почвы позволяют получать разнообразную сельскохозяйственную продукцию - кофе (второй по величине производитель в мире),банан, рис, сахарный тростник, табак, какао-бобы, масленичные культуры. Денежная единица - колумбийский песо (1 колумбийский песо (Col$) равен 100 сентаво). Важнейшие торговые партнеры: США, страны ЕС, Япония, Бразилия, Венесуэла. Общая протяженность железных дорог - 3386 км, автодорог -107 300 км, внутренних водных путей - 14300 км. Главные порты страны: Картахена, Санта-Марта, Буэнавенту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3" descr="w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ндурас - одно из беднейших государств Западного полушария. ВНП в 1994 г. составил $9,7 млрд. (ВНП на душу населения $1 820). В промышленности (главным образом горнодобывающей и перерабатывающей) занято 9% трудоспособного населения. Сельское хозяйство - наиболее важная отрасль экономики (25% ВНП и 2/3 экспорта страны). Основные сельскохозяйственные культуры: бананы, кофе, сахарный тростник, табак, кукуруза, рис. Значительная часть обрабатываемых земель принадлежит крупным землевладельцам - латифундистам. Среди основных проблем, стоящих перед экономикой страны, - быстрый рост населения, резкий рост инфляции, неэффективное государственное управление, высокий уровень безработицы. Денежная единица - лемпира (1 лемпира (L) равна 100 сентаво). Главные торговые партнеры: США, Германия, Япония. Общая протяженность железных дорог - 785 км, автодорог -8 950 км (1 700 км - с твердым покрытием), внутренних водных путей - 465 км. Важнейшие порты страны - Пуэрто-Кортес, Тела, Трухиль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w7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</cp:lastModifiedBy>
  <dcterms:modified xsi:type="dcterms:W3CDTF">2011-04-03T06:45:08Z</dcterms:modified>
  <cp:revision>13</cp:revision>
  <dc:subject/>
  <dc:title>Латинская Амер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b0000000000010250300207f7000400038000</vt:lpwstr>
  </property>
</Properties>
</file>