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21D-E283-4104-9942-DDCA7D1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496-2F96-4370-B2E9-9B020D08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0EF-1EC7-4594-AB3D-CCDCC8E2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729-0F31-4584-943A-3A1E2CBF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7E58-357A-43FF-92E6-B954B2BB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33B8-C941-4815-A553-36CBBD66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3918-FE3D-4756-8A75-892C186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630-0B34-47C8-AC7E-6E3EA99D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731-D6D5-4FB7-9B6A-36D08C3D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EA1B-E924-4C41-B195-E9D5F04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F37-47AC-43DF-AC8D-CA7B8FF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053-3800-4722-9371-9BB61E48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1C7-B991-4C75-9B3A-53E60F3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1401-C8D9-4043-87AD-C4AF66E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DDE8-39A0-4910-8BA8-C74095E4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FEA-C7BB-45EF-91D5-5C42B46E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5C52-A72E-4BC2-BEB9-8737E794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CEF-41EF-4624-A568-DB43314C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203-1DC2-4444-AE42-C910F91E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AC2-1ED8-4178-A194-B5748E1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FB6-54C1-4000-8300-A65F2199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AC8-D374-45BD-A99E-00C9EC2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069-7D59-4DF5-AC6B-E14D940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BF7-4C83-49DA-BB19-CAE687A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D46-FC12-48BA-BFC9-FE1D2DF99A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9097-B39F-4B1D-AAFE-7BDB38BA2F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РУПНЕЙШИЕ РЕЧНЫЕ СИСТЕМЫ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аздел «ПРИРОДА РОССИИ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КЛЮЧИТЕЛЬНЫЙ ЭТАП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дведение итогов урока: какие задания были интересными,  познавательными, что вызвало затруднен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просы обучающихся. Отметки за ур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делать практическую рабо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о ответить на вопросы после § 2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  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Образовательны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истематизировать знания обучающихся о крупнейших речных системах Рос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Воспитательны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витие познавательного интереса к литературным произведени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Развивающие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пользование математических методов  в географии для определения количественных  характеристик объ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мони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«плав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 река «лет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во рту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ую реку можно срезать ножом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вида спорта и промысл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олги «вытекает» из березы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реки имеют «цветное» название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ятки носит название ядовитой зме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56320" y="2444760"/>
            <a:ext cx="40636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мони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7520" y="24606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одной из сторон горизонт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означает близкую родственницу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Оки называется так же, как и рыба. Назовите его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Дона носит название дерев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какой реке прячутся мыш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протекает между огородам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, обозначающее упаковку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посуды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038840" cy="3335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73040" cy="177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огогриф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8920" y="2492280"/>
            <a:ext cx="403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глубока и полноводна, и вся страна гордиться мной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впереди союз прибавишь – и стану птицей я лесн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укрываю самолеты, когда кончаются полет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ы поставь союз за мной, и стану бурной я ре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983040" cy="372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аграм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Селенгу с буквой «д» в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с «п» вливаюсь я в О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в Волгу с «с» я по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с «Ф» я Белую тек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названии сплава меди с цинком замените «л» на «к» и вы прочтете приток Об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60560" cy="4103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айнворд «Реки Росс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51640" y="2491920"/>
            <a:ext cx="324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Восточно-Сибирского моря, в верховьях протекает по Оймяконскому нагорью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удоходная река на Чукотк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Волги, берет начало на возвышенности Общий Сыр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Баренцева моря, берет начало на Северном Урале Правый приток Енисе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Дальнего Востока бассейна Охотского мор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 бассейна озера Байка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авый приток крупнейшей реки Дальнего Восто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Об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, до 1775 года, носившая название Яик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26920" y="2781360"/>
            <a:ext cx="4686120" cy="3456000"/>
            <a:chOff x="826920" y="2781360"/>
            <a:chExt cx="4686120" cy="3456000"/>
          </a:xfrm>
        </p:grpSpPr>
        <p:grpSp>
          <p:nvGrpSpPr>
            <p:cNvPr id="115" name=""/>
            <p:cNvGrpSpPr/>
            <p:nvPr/>
          </p:nvGrpSpPr>
          <p:grpSpPr>
            <a:xfrm>
              <a:off x="826920" y="2806560"/>
              <a:ext cx="4686120" cy="3430800"/>
              <a:chOff x="826920" y="2806560"/>
              <a:chExt cx="4686120" cy="3430800"/>
            </a:xfrm>
          </p:grpSpPr>
          <p:sp>
            <p:nvSpPr>
              <p:cNvPr id="116" name=""/>
              <p:cNvSpPr/>
              <p:nvPr/>
            </p:nvSpPr>
            <p:spPr>
              <a:xfrm>
                <a:off x="826920" y="280656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83960" y="2806560"/>
                <a:ext cx="914040" cy="34290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  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2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6920" y="314964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41240" y="280656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98160" y="2806560"/>
                <a:ext cx="0" cy="24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55440" y="2806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1236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69640" y="28065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98360" y="314964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4144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9640" y="3492360"/>
                <a:ext cx="171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98360" y="34923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12360" y="38354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12360" y="41781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12360" y="45212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55440" y="4863960"/>
                <a:ext cx="10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98160" y="520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41240" y="55515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1240" y="589428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1240" y="62373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8360" y="38354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98360" y="41781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98360" y="45212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98360" y="486396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98360" y="520848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98360" y="55515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98360" y="589428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98360" y="6237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144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8416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27240" y="486396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69960" y="48639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13040" y="486396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505040" y="278136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3040" y="28526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актическая работа: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«Определение основных гидрологических характеристик рек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6000" y="2637000"/>
          <a:ext cx="7775640" cy="3868560"/>
        </p:xfrm>
        <a:graphic>
          <a:graphicData uri="http://schemas.openxmlformats.org/drawingml/2006/table">
            <a:tbl>
              <a:tblPr/>
              <a:tblGrid>
                <a:gridCol w="1101600"/>
                <a:gridCol w="908280"/>
                <a:gridCol w="907920"/>
                <a:gridCol w="1131840"/>
                <a:gridCol w="932040"/>
                <a:gridCol w="785880"/>
                <a:gridCol w="1076040"/>
                <a:gridCol w="9320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ре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исто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усть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дение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ина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лон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жим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га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нисе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ен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мур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ХОЗЯЙСТВЕННОЕ ИСПОЛЬЗОВАНИЕ внутренних вод 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2506680"/>
            <a:ext cx="2665440" cy="2108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880000" cy="22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92360" y="4797360"/>
            <a:ext cx="25624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6:58Z</dcterms:created>
  <dc:creator>BOMBA</dc:creator>
  <dc:description/>
  <dc:language>en-US</dc:language>
  <cp:lastModifiedBy>Бурлакова</cp:lastModifiedBy>
  <dcterms:modified xsi:type="dcterms:W3CDTF">2008-02-26T21:47:10Z</dcterms:modified>
  <cp:revision>8</cp:revision>
  <dc:subject/>
  <dc:title>ТЕМА УРОКА:     «КРУПНЕЙШИЕ РЕЧНЫЕ СИСТЕМЫ 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50000000000010250300207f7000400038000</vt:lpwstr>
  </property>
</Properties>
</file>