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09A-279D-46C9-B7F7-F9A2C559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E51-B679-41D6-AF53-DAD7765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A9-5BC1-4055-A458-FFC8DFFC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3C1-691A-49D1-B433-70D240DF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AF1-EE28-4F40-A2D0-F1C48EC8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CF57-116F-43B2-84BD-3D10738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612B-6A97-4BE2-841C-BA85BB3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9277-FEC1-4A7D-8304-B7F287E9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A47-3256-4C64-A3F2-392D7DB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DB3-76D3-47F3-9B67-DA935C6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C4D4-9C36-4CE9-823A-D0C6AEC8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E49-219B-42DA-8681-49840FF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A20E-5634-4BE8-896E-537962D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E8A2-7A67-46E4-8283-2020895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ED8-776D-456A-9312-CF250EFA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DEAD-B14E-4E31-BF12-61172CFF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A95B-33E3-409C-B693-2F0A52B6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93C-A501-412C-A60C-1F8076C0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C3D-7509-4E48-A20F-A37FAD2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9B3-BF71-4C0A-B8B9-9A67B97F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91D-43DD-4F32-A333-AB18B223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971-D554-4207-9343-C80D54B7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2DE-AC28-4015-885B-D5F1CEC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FE1-F257-4C15-9668-478F74C3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FC0-0E52-4F3C-AFE7-643714D7F5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995-777C-45E6-9A08-F55D6D6AA4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РУПНЕЙШИЕ РЕЧНЫЕ СИСТЕМЫ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ОСС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аздел «ПРИРОДА РОССИИ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КЛЮЧИТЕЛЬНЫЙ ЭТАП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дведение итогов урока: какие задания были интересными,  познавательными, что вызвало затруднения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просы обучающихся. Отметки за ур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делать практическую работ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о ответить на вопросы после § 2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:  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Образовательны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истематизировать знания обучающихся о крупнейших речных системах Рос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Воспитательные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витие познавательного интереса к литературным произведени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Развивающие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пользование математических методов  в географии для определения количественных  характеристик объ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мони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«плав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 река «летает»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во рту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ую реку можно срезать ножом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вида спорта и промысл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олги «вытекает» из березы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ие реки имеют «цветное» название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ой приток Вятки носит название ядовитой зме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56320" y="2444760"/>
            <a:ext cx="40636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мони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97520" y="24606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одной из сторон горизонт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звание какой реки означает близкую родственницу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Оки называется так же, как и рыба. Назовите его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иток Дона носит название дерева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какой реке прячутся мыш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протекает между огородами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, обозначающее упаковку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акая река носит название посуды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038840" cy="3335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73040" cy="177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огогриф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8920" y="2492280"/>
            <a:ext cx="403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глубока и полноводна, и вся страна гордиться мной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впереди союз прибавишь – и стану птицей я лесн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 укрываю самолеты, когда кончаются полет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ы поставь союз за мной, и стану бурной я рек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3983040" cy="372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аграмм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Селенгу с буквой «д» в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с «п» вливаюсь я в О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в Волгу с «с» я попадаю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с «Ф» я Белую тек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названии сплава меди с цинком замените «л» на «к» и вы прочтете приток Об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60560" cy="4103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айнворд «Реки Росс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51640" y="2491920"/>
            <a:ext cx="324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Восточно-Сибирского моря, в верховьях протекает по Оймяконскому нагорью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удоходная река на Чукотк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Волги, берет начало на возвышенности Общий Сыр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бассейна Баренцева моря, берет начало на Северном Урале Правый приток Енисе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Дальнего Востока бассейна Охотского мор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  бассейна озера Байкал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авый приток крупнейшей реки Дальнего Восто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Левый приток Об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ека, до 1775 года, носившая название Яик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26920" y="2781360"/>
            <a:ext cx="4686120" cy="3456000"/>
            <a:chOff x="826920" y="2781360"/>
            <a:chExt cx="4686120" cy="3456000"/>
          </a:xfrm>
        </p:grpSpPr>
        <p:grpSp>
          <p:nvGrpSpPr>
            <p:cNvPr id="115" name=""/>
            <p:cNvGrpSpPr/>
            <p:nvPr/>
          </p:nvGrpSpPr>
          <p:grpSpPr>
            <a:xfrm>
              <a:off x="826920" y="2806560"/>
              <a:ext cx="4686120" cy="3430800"/>
              <a:chOff x="826920" y="2806560"/>
              <a:chExt cx="4686120" cy="3430800"/>
            </a:xfrm>
          </p:grpSpPr>
          <p:sp>
            <p:nvSpPr>
              <p:cNvPr id="116" name=""/>
              <p:cNvSpPr/>
              <p:nvPr/>
            </p:nvSpPr>
            <p:spPr>
              <a:xfrm>
                <a:off x="826920" y="2806560"/>
                <a:ext cx="36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83960" y="2806560"/>
                <a:ext cx="914040" cy="34290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Arial"/>
                  </a:rPr>
                  <a:t>  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2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6920" y="314964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41240" y="2806560"/>
                <a:ext cx="0" cy="342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98160" y="2806560"/>
                <a:ext cx="0" cy="240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55440" y="2806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1236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69640" y="28065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98360" y="314964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41440" y="2806560"/>
                <a:ext cx="0" cy="171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9640" y="3492360"/>
                <a:ext cx="171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98360" y="34923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12360" y="38354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12360" y="41781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12360" y="452124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55440" y="4863960"/>
                <a:ext cx="102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98160" y="520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41240" y="55515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1240" y="589428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1240" y="6237360"/>
                <a:ext cx="3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8360" y="38354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98360" y="41781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98360" y="452124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98360" y="486396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98360" y="520848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98360" y="5551560"/>
                <a:ext cx="137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98360" y="589428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98360" y="6237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144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84160" y="48639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27240" y="486396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69960" y="486396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13040" y="486396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505040" y="278136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3040" y="285264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актическая работа: </a:t>
            </a: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«Определение основных гидрологических характеристик рек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6000" y="2637000"/>
          <a:ext cx="7775640" cy="3868560"/>
        </p:xfrm>
        <a:graphic>
          <a:graphicData uri="http://schemas.openxmlformats.org/drawingml/2006/table">
            <a:tbl>
              <a:tblPr/>
              <a:tblGrid>
                <a:gridCol w="1101600"/>
                <a:gridCol w="908280"/>
                <a:gridCol w="907920"/>
                <a:gridCol w="1131840"/>
                <a:gridCol w="932040"/>
                <a:gridCol w="785880"/>
                <a:gridCol w="1076040"/>
                <a:gridCol w="93204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ре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исток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ысота усть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дение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лина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лон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жим рек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га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нисей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ен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мур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ХОЗЯЙСТВЕННОЕ ИСПОЛЬЗОВАНИЕ внутренних вод  Росси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2506680"/>
            <a:ext cx="2665440" cy="2108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880000" cy="22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92360" y="4797360"/>
            <a:ext cx="25624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6:58Z</dcterms:created>
  <dc:creator>BOMBA</dc:creator>
  <dc:description/>
  <dc:language>en-US</dc:language>
  <cp:lastModifiedBy>Бурлакова</cp:lastModifiedBy>
  <dcterms:modified xsi:type="dcterms:W3CDTF">2008-02-26T21:47:10Z</dcterms:modified>
  <cp:revision>8</cp:revision>
  <dc:subject/>
  <dc:title>ТЕМА УРОКА:     «КРУПНЕЙШИЕ РЕЧНЫЕ СИСТЕМЫ 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50000000000010250300207f7000400038000</vt:lpwstr>
  </property>
</Properties>
</file>