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7F9-1860-4C4D-8DF6-95C7D57F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947-ABA0-43CD-82AD-28294000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6A9-75CF-43A8-B415-5D77AEBC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A5C-DFBA-4955-9805-D13F6BD6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F7785-7322-4B6E-B297-539FDE40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8E977-8D44-4370-9A7E-62A92860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58B0-B497-46EC-B17D-CDEDF096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4432C-68F5-4954-80AD-D55855E7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E1E08-A095-4538-921F-57613D40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67AF9-049E-4104-942F-C98F3137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C0F69-B32D-48DC-8885-40AC2AE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C9E-0C55-48C5-8047-FE8B43F7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C6E67-399B-4571-8960-0898E6DC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71C96-479B-482E-AB17-6EE6D8FA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897D0-A76B-41E8-9150-15BEF92A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738BB-904F-4315-A466-44EFE8A5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4D976-77E8-4BA9-BC97-6BEC1D58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719-D430-4577-A09B-A4C085D0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260-7A28-4D93-AA81-F3E2D6F0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9FB-7A4A-4811-B283-A9D852AA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D16-1895-4F22-B72B-A7E03AD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2AA-9C91-4FEF-8868-69819E3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D8E-58E4-4604-861D-A1B43880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B9A-B964-482C-9283-F72B2F0F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E05E-28FA-42B9-8CB2-710A9DEE0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A549-8A53-4488-AF27-956C2B81D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Georgia"/>
              </a:rPr>
              <a:t>гидросф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руговорот воды в приро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Части мирового оке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62160" y="4343400"/>
            <a:ext cx="583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: развитие понятия гидросф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комство с понятиями зали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лив, полуостров, остр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хипелаг,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2354400" cy="386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61360" y="838080"/>
            <a:ext cx="81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Вода! Нельзя сказать, что ты необходима для жизни: ты сама жизнь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де Сент-Экзюпери. Земля 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27280" y="1973160"/>
            <a:ext cx="22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1371600"/>
            <a:ext cx="5216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море отличается 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и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Сравните Средизем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ре с Карс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Как объяснить, ка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ре внутренне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какое окраинное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3520" y="380880"/>
            <a:ext cx="52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тветьте на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302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Убери лишне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89000" y="166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1828800"/>
            <a:ext cx="899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Амур, Тянь-Шань, 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Северный Ледовитый океан, Тихий океан, Азовское мо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Гвинейский, Мексиканский, Скандинавск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Красное, Средиземное, Индоста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1680" y="6019920"/>
            <a:ext cx="71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Гренландия, Сахалин, Лабрад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рь себ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ре отличается от океанских вод соленостью, температурой, рельефом,  а воды залива идентичны водам оке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редиземное – внутреннее, Карское – окраинное мо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нутреннее море глубоко впадает в сушу, сообщается с океаном одним или несколькими проливами. Окраинное море примыкает к материку и слабо обособленно от океана островами и полуостров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янь-Ш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зовск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андинав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дост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абрад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14600" y="1752480"/>
            <a:ext cx="7148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/з: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23, 24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Работа в контурных карт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знание морей, залив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роливов, островов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луостровов, котор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дписывались на практиче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работе в контурных кар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253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20960" y="228600"/>
            <a:ext cx="50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Мириады водяных пыл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однимаются над океа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Чтобы тут же в путь пусти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дли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о широтам и меридиан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тать сгустившимися облак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Тучами, чтоб тяжестью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Где-то падать на пе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и кам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На поля и на с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С. Щипа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65680" y="4800600"/>
            <a:ext cx="97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идросфера – водная оболочка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04920"/>
            <a:ext cx="9143280" cy="5713200"/>
            <a:chOff x="0" y="304920"/>
            <a:chExt cx="9143280" cy="5713200"/>
          </a:xfrm>
        </p:grpSpPr>
        <p:cxnSp>
          <p:nvCxnSpPr>
            <p:cNvPr id="91" name="_s2150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59980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21509"/>
            <p:cNvCxnSpPr>
              <a:stCxn id="95" idx="0"/>
              <a:endCxn id="93" idx="2"/>
            </p:cNvCxnSpPr>
            <p:nvPr/>
          </p:nvCxnSpPr>
          <p:spPr>
            <a:xfrm flipV="1">
              <a:off x="4571280" y="2590200"/>
              <a:ext cx="3240" cy="114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21510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39976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21511"/>
            <p:cNvSpPr/>
            <p:nvPr/>
          </p:nvSpPr>
          <p:spPr>
            <a:xfrm>
              <a:off x="3200040" y="30492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Агрегатное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состояни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воды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21512"/>
            <p:cNvSpPr/>
            <p:nvPr/>
          </p:nvSpPr>
          <p:spPr>
            <a:xfrm>
              <a:off x="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21513"/>
            <p:cNvSpPr/>
            <p:nvPr/>
          </p:nvSpPr>
          <p:spPr>
            <a:xfrm>
              <a:off x="32000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21514"/>
            <p:cNvSpPr/>
            <p:nvPr/>
          </p:nvSpPr>
          <p:spPr>
            <a:xfrm>
              <a:off x="64004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304920"/>
            <a:ext cx="9143280" cy="5713200"/>
            <a:chOff x="0" y="304920"/>
            <a:chExt cx="9143280" cy="5713200"/>
          </a:xfrm>
        </p:grpSpPr>
        <p:cxnSp>
          <p:nvCxnSpPr>
            <p:cNvPr id="99" name="_s19470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9980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9469"/>
            <p:cNvCxnSpPr>
              <a:stCxn id="103" idx="0"/>
              <a:endCxn id="101" idx="2"/>
            </p:cNvCxnSpPr>
            <p:nvPr/>
          </p:nvCxnSpPr>
          <p:spPr>
            <a:xfrm flipV="1">
              <a:off x="4571280" y="2590200"/>
              <a:ext cx="3240" cy="1143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9468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399760" y="1561320"/>
              <a:ext cx="1143000" cy="3200760"/>
            </a:xfrm>
            <a:prstGeom prst="bentConnector3">
              <a:avLst>
                <a:gd name="adj1" fmla="val 99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1" name="_s19464"/>
            <p:cNvSpPr/>
            <p:nvPr/>
          </p:nvSpPr>
          <p:spPr>
            <a:xfrm>
              <a:off x="3200040" y="30492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ahoma"/>
                </a:rPr>
                <a:t>Агрегатное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состояни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700" spc="-1" strike="noStrike">
                  <a:solidFill>
                    <a:srgbClr val="ff0000"/>
                  </a:solidFill>
                  <a:latin typeface="Tahoma"/>
                </a:rPr>
                <a:t>воды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9465"/>
            <p:cNvSpPr/>
            <p:nvPr/>
          </p:nvSpPr>
          <p:spPr>
            <a:xfrm>
              <a:off x="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cc"/>
                  </a:solidFill>
                  <a:latin typeface="Tahoma"/>
                </a:rPr>
                <a:t>жидко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9466"/>
            <p:cNvSpPr/>
            <p:nvPr/>
          </p:nvSpPr>
          <p:spPr>
            <a:xfrm>
              <a:off x="32000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cc"/>
                  </a:solidFill>
                  <a:latin typeface="Tahoma"/>
                </a:rPr>
                <a:t>твердое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9467"/>
            <p:cNvSpPr/>
            <p:nvPr/>
          </p:nvSpPr>
          <p:spPr>
            <a:xfrm>
              <a:off x="6400440" y="3732840"/>
              <a:ext cx="2742840" cy="22852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Tahoma"/>
                </a:rPr>
                <a:t>газообразно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став гидросф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21360" y="2666880"/>
            <a:ext cx="37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утренние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53720" y="27432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кеан -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6000" y="1295280"/>
            <a:ext cx="13716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1371600"/>
            <a:ext cx="114300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7360" y="39625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0280" y="48006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з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9760" y="38862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зем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6280" y="4800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д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74400" y="39625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ус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о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7200" y="32767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276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76720"/>
            <a:ext cx="2286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18960" y="3276720"/>
            <a:ext cx="9903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19920" y="4076640"/>
            <a:ext cx="28954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ьте схему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«Части мирового океан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1905120"/>
            <a:ext cx="8229240" cy="4114080"/>
            <a:chOff x="457200" y="1905120"/>
            <a:chExt cx="8229240" cy="4114080"/>
          </a:xfrm>
        </p:grpSpPr>
        <p:cxnSp>
          <p:nvCxnSpPr>
            <p:cNvPr id="124" name="_s12313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1723680" y="4410000"/>
              <a:ext cx="514440" cy="646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2311"/>
            <p:cNvCxnSpPr>
              <a:stCxn id="128" idx="0"/>
              <a:endCxn id="126" idx="2"/>
            </p:cNvCxnSpPr>
            <p:nvPr/>
          </p:nvCxnSpPr>
          <p:spPr>
            <a:xfrm flipH="1" flipV="1" rot="5400000">
              <a:off x="1077480" y="4409640"/>
              <a:ext cx="514440" cy="64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2309"/>
            <p:cNvCxnSpPr>
              <a:stCxn id="130" idx="0"/>
              <a:endCxn id="131" idx="2"/>
            </p:cNvCxnSpPr>
            <p:nvPr/>
          </p:nvCxnSpPr>
          <p:spPr>
            <a:xfrm flipH="1" flipV="1" rot="5400000">
              <a:off x="3667680" y="2220120"/>
              <a:ext cx="514440" cy="1941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2307"/>
            <p:cNvCxnSpPr>
              <a:stCxn id="133" idx="0"/>
              <a:endCxn id="131" idx="2"/>
            </p:cNvCxnSpPr>
            <p:nvPr/>
          </p:nvCxnSpPr>
          <p:spPr>
            <a:xfrm flipH="1" flipV="1" rot="5400000">
              <a:off x="4314600" y="2867040"/>
              <a:ext cx="514440" cy="648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12305"/>
            <p:cNvCxnSpPr>
              <a:stCxn id="135" idx="0"/>
              <a:endCxn id="131" idx="2"/>
            </p:cNvCxnSpPr>
            <p:nvPr/>
          </p:nvCxnSpPr>
          <p:spPr>
            <a:xfrm flipV="1" rot="16200000">
              <a:off x="4961160" y="2867400"/>
              <a:ext cx="514440" cy="646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2303"/>
            <p:cNvCxnSpPr>
              <a:stCxn id="137" idx="0"/>
              <a:endCxn id="131" idx="2"/>
            </p:cNvCxnSpPr>
            <p:nvPr/>
          </p:nvCxnSpPr>
          <p:spPr>
            <a:xfrm flipV="1" rot="16200000">
              <a:off x="6256800" y="1571760"/>
              <a:ext cx="514440" cy="323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2302"/>
            <p:cNvCxnSpPr>
              <a:stCxn id="139" idx="0"/>
              <a:endCxn id="131" idx="2"/>
            </p:cNvCxnSpPr>
            <p:nvPr/>
          </p:nvCxnSpPr>
          <p:spPr>
            <a:xfrm flipV="1" rot="16200000">
              <a:off x="5608440" y="2220120"/>
              <a:ext cx="514440" cy="1941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2301"/>
            <p:cNvCxnSpPr>
              <a:stCxn id="126" idx="0"/>
              <a:endCxn id="131" idx="2"/>
            </p:cNvCxnSpPr>
            <p:nvPr/>
          </p:nvCxnSpPr>
          <p:spPr>
            <a:xfrm flipH="1" flipV="1" rot="5400000">
              <a:off x="3019680" y="1571760"/>
              <a:ext cx="514440" cy="32382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1" name="_s12297"/>
            <p:cNvSpPr/>
            <p:nvPr/>
          </p:nvSpPr>
          <p:spPr>
            <a:xfrm>
              <a:off x="4339080" y="19051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2298"/>
            <p:cNvSpPr/>
            <p:nvPr/>
          </p:nvSpPr>
          <p:spPr>
            <a:xfrm>
              <a:off x="110304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12299"/>
            <p:cNvSpPr/>
            <p:nvPr/>
          </p:nvSpPr>
          <p:spPr>
            <a:xfrm>
              <a:off x="628164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2300"/>
            <p:cNvSpPr/>
            <p:nvPr/>
          </p:nvSpPr>
          <p:spPr>
            <a:xfrm>
              <a:off x="757656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2304"/>
            <p:cNvSpPr/>
            <p:nvPr/>
          </p:nvSpPr>
          <p:spPr>
            <a:xfrm>
              <a:off x="498672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306"/>
            <p:cNvSpPr/>
            <p:nvPr/>
          </p:nvSpPr>
          <p:spPr>
            <a:xfrm>
              <a:off x="3693240" y="344772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8"/>
            <p:cNvSpPr/>
            <p:nvPr/>
          </p:nvSpPr>
          <p:spPr>
            <a:xfrm>
              <a:off x="2397960" y="3447720"/>
              <a:ext cx="110988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2310"/>
            <p:cNvSpPr/>
            <p:nvPr/>
          </p:nvSpPr>
          <p:spPr>
            <a:xfrm>
              <a:off x="457200" y="499068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2312"/>
            <p:cNvSpPr/>
            <p:nvPr/>
          </p:nvSpPr>
          <p:spPr>
            <a:xfrm>
              <a:off x="1750680" y="4990680"/>
              <a:ext cx="110844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Части мирового океан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905120"/>
            <a:ext cx="9143640" cy="4114080"/>
            <a:chOff x="0" y="1905120"/>
            <a:chExt cx="9143640" cy="4114080"/>
          </a:xfrm>
        </p:grpSpPr>
        <p:cxnSp>
          <p:nvCxnSpPr>
            <p:cNvPr id="143" name="_s10263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1436040" y="437400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261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717480" y="4373640"/>
              <a:ext cx="514440" cy="719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0259"/>
            <p:cNvCxnSpPr>
              <a:stCxn id="149" idx="0"/>
              <a:endCxn id="150" idx="2"/>
            </p:cNvCxnSpPr>
            <p:nvPr/>
          </p:nvCxnSpPr>
          <p:spPr>
            <a:xfrm flipH="1" flipV="1" rot="5400000">
              <a:off x="3593880" y="2112480"/>
              <a:ext cx="514440" cy="215712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257"/>
            <p:cNvCxnSpPr>
              <a:stCxn id="152" idx="0"/>
              <a:endCxn id="150" idx="2"/>
            </p:cNvCxnSpPr>
            <p:nvPr/>
          </p:nvCxnSpPr>
          <p:spPr>
            <a:xfrm flipH="1" flipV="1" rot="5400000">
              <a:off x="4313880" y="283176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255"/>
            <p:cNvCxnSpPr>
              <a:stCxn id="154" idx="0"/>
              <a:endCxn id="150" idx="2"/>
            </p:cNvCxnSpPr>
            <p:nvPr/>
          </p:nvCxnSpPr>
          <p:spPr>
            <a:xfrm flipV="1" rot="16200000">
              <a:off x="5752080" y="2110680"/>
              <a:ext cx="514440" cy="2160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0253"/>
            <p:cNvCxnSpPr>
              <a:stCxn id="156" idx="0"/>
              <a:endCxn id="150" idx="2"/>
            </p:cNvCxnSpPr>
            <p:nvPr/>
          </p:nvCxnSpPr>
          <p:spPr>
            <a:xfrm flipV="1" rot="16200000">
              <a:off x="6471000" y="1391760"/>
              <a:ext cx="514440" cy="359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0252"/>
            <p:cNvCxnSpPr>
              <a:stCxn id="158" idx="0"/>
              <a:endCxn id="150" idx="2"/>
            </p:cNvCxnSpPr>
            <p:nvPr/>
          </p:nvCxnSpPr>
          <p:spPr>
            <a:xfrm flipV="1" rot="16200000">
              <a:off x="5032080" y="2830680"/>
              <a:ext cx="514440" cy="720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0251"/>
            <p:cNvCxnSpPr>
              <a:stCxn id="145" idx="0"/>
              <a:endCxn id="150" idx="2"/>
            </p:cNvCxnSpPr>
            <p:nvPr/>
          </p:nvCxnSpPr>
          <p:spPr>
            <a:xfrm flipH="1" flipV="1" rot="5400000">
              <a:off x="2874960" y="1392840"/>
              <a:ext cx="514440" cy="3596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247"/>
            <p:cNvSpPr/>
            <p:nvPr/>
          </p:nvSpPr>
          <p:spPr>
            <a:xfrm>
              <a:off x="4313520" y="19051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ир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ке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248"/>
            <p:cNvSpPr/>
            <p:nvPr/>
          </p:nvSpPr>
          <p:spPr>
            <a:xfrm>
              <a:off x="7178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249"/>
            <p:cNvSpPr/>
            <p:nvPr/>
          </p:nvSpPr>
          <p:spPr>
            <a:xfrm>
              <a:off x="503280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250"/>
            <p:cNvSpPr/>
            <p:nvPr/>
          </p:nvSpPr>
          <p:spPr>
            <a:xfrm>
              <a:off x="79106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архипела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254"/>
            <p:cNvSpPr/>
            <p:nvPr/>
          </p:nvSpPr>
          <p:spPr>
            <a:xfrm>
              <a:off x="647172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лу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0256"/>
            <p:cNvSpPr/>
            <p:nvPr/>
          </p:nvSpPr>
          <p:spPr>
            <a:xfrm>
              <a:off x="3595320" y="344772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о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258"/>
            <p:cNvSpPr/>
            <p:nvPr/>
          </p:nvSpPr>
          <p:spPr>
            <a:xfrm>
              <a:off x="215676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а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260"/>
            <p:cNvSpPr/>
            <p:nvPr/>
          </p:nvSpPr>
          <p:spPr>
            <a:xfrm>
              <a:off x="0" y="499068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Окраи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0262"/>
            <p:cNvSpPr/>
            <p:nvPr/>
          </p:nvSpPr>
          <p:spPr>
            <a:xfrm>
              <a:off x="1437480" y="4990680"/>
              <a:ext cx="123156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Внутре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0" y="1905120"/>
            <a:ext cx="9143640" cy="4114080"/>
            <a:chOff x="0" y="1905120"/>
            <a:chExt cx="9143640" cy="4114080"/>
          </a:xfrm>
        </p:grpSpPr>
        <p:cxnSp>
          <p:nvCxnSpPr>
            <p:cNvPr id="162" name="_s10269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1436040" y="437400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10270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717480" y="4373640"/>
              <a:ext cx="514440" cy="7196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10271"/>
            <p:cNvCxnSpPr>
              <a:stCxn id="168" idx="0"/>
              <a:endCxn id="169" idx="2"/>
            </p:cNvCxnSpPr>
            <p:nvPr/>
          </p:nvCxnSpPr>
          <p:spPr>
            <a:xfrm flipH="1" flipV="1" rot="5400000">
              <a:off x="3593880" y="2112480"/>
              <a:ext cx="514440" cy="215712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10272"/>
            <p:cNvCxnSpPr>
              <a:stCxn id="171" idx="0"/>
              <a:endCxn id="169" idx="2"/>
            </p:cNvCxnSpPr>
            <p:nvPr/>
          </p:nvCxnSpPr>
          <p:spPr>
            <a:xfrm flipH="1" flipV="1" rot="5400000">
              <a:off x="4313880" y="2831760"/>
              <a:ext cx="514440" cy="7185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10273"/>
            <p:cNvCxnSpPr>
              <a:stCxn id="173" idx="0"/>
              <a:endCxn id="169" idx="2"/>
            </p:cNvCxnSpPr>
            <p:nvPr/>
          </p:nvCxnSpPr>
          <p:spPr>
            <a:xfrm flipV="1" rot="16200000">
              <a:off x="5752080" y="2110680"/>
              <a:ext cx="514440" cy="21603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10274"/>
            <p:cNvCxnSpPr>
              <a:stCxn id="175" idx="0"/>
              <a:endCxn id="169" idx="2"/>
            </p:cNvCxnSpPr>
            <p:nvPr/>
          </p:nvCxnSpPr>
          <p:spPr>
            <a:xfrm flipV="1" rot="16200000">
              <a:off x="6471000" y="1391760"/>
              <a:ext cx="514440" cy="35978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10275"/>
            <p:cNvCxnSpPr>
              <a:stCxn id="177" idx="0"/>
              <a:endCxn id="169" idx="2"/>
            </p:cNvCxnSpPr>
            <p:nvPr/>
          </p:nvCxnSpPr>
          <p:spPr>
            <a:xfrm flipV="1" rot="16200000">
              <a:off x="5032080" y="2830680"/>
              <a:ext cx="514440" cy="7200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8" name="_s10276"/>
            <p:cNvCxnSpPr>
              <a:stCxn id="164" idx="0"/>
              <a:endCxn id="169" idx="2"/>
            </p:cNvCxnSpPr>
            <p:nvPr/>
          </p:nvCxnSpPr>
          <p:spPr>
            <a:xfrm flipH="1" flipV="1" rot="5400000">
              <a:off x="2874960" y="1392840"/>
              <a:ext cx="514440" cy="3596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9" name="_s10277"/>
            <p:cNvSpPr/>
            <p:nvPr/>
          </p:nvSpPr>
          <p:spPr>
            <a:xfrm>
              <a:off x="4313520" y="19051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ир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кеа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0278"/>
            <p:cNvSpPr/>
            <p:nvPr/>
          </p:nvSpPr>
          <p:spPr>
            <a:xfrm>
              <a:off x="7178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ор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10279"/>
            <p:cNvSpPr/>
            <p:nvPr/>
          </p:nvSpPr>
          <p:spPr>
            <a:xfrm>
              <a:off x="503280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10280"/>
            <p:cNvSpPr/>
            <p:nvPr/>
          </p:nvSpPr>
          <p:spPr>
            <a:xfrm>
              <a:off x="791064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архипела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10281"/>
            <p:cNvSpPr/>
            <p:nvPr/>
          </p:nvSpPr>
          <p:spPr>
            <a:xfrm>
              <a:off x="647172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лу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остро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10282"/>
            <p:cNvSpPr/>
            <p:nvPr/>
          </p:nvSpPr>
          <p:spPr>
            <a:xfrm>
              <a:off x="3595320" y="344772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о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10283"/>
            <p:cNvSpPr/>
            <p:nvPr/>
          </p:nvSpPr>
          <p:spPr>
            <a:xfrm>
              <a:off x="2156760" y="3447720"/>
              <a:ext cx="123300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зали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10284"/>
            <p:cNvSpPr/>
            <p:nvPr/>
          </p:nvSpPr>
          <p:spPr>
            <a:xfrm>
              <a:off x="0" y="4990680"/>
              <a:ext cx="123192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Окраи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0285"/>
            <p:cNvSpPr/>
            <p:nvPr/>
          </p:nvSpPr>
          <p:spPr>
            <a:xfrm>
              <a:off x="1437480" y="4990680"/>
              <a:ext cx="1231560" cy="10285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Внутрен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ловарь гидроло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стро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небольшой участок суши со всех сторон окруженный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рхипела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группы остров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луостр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участок суши, окружен с трех сторон вод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али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часть океана, моря, вдающаяся в су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олив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относительно узкое водное пространство, соединяющее разные водные бассейны и разделяющие участки суши. Ли: участок воды, окруженный с двух противоположных сторон суш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ор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часть океана более или менее обособленная сушей, островами или возвышенностями подводного рельефа, отличающаяся от остальной част океана соленостью, температурой вод, течениям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Обозначьте на карте части мирового океана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Полуостров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Индостан, Аравийский, Индокитай, Лабрадор, Скандинавский, Камчатка, Таймыр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Остров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Гренландия, Нов. Гвинея, Мадагаскар, Великобритания, Сахалин, Гавайи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Проливы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Дрейка, Берингов, Гибралтарский, Магелланов, Панамский канал, Суэцкий канал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Заливы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Гвинейский, Гудзонов, Мексиканский, Персидский, Бенгальский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Tahoma"/>
              </a:rPr>
              <a:t>Моря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: Красное, Средиземное, Черное, Карибско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7-11-30T13:45:5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300207f7000400038000</vt:lpwstr>
  </property>
  <property fmtid="{D5CDD505-2E9C-101B-9397-08002B2CF9AE}" pid="3" name="Version">
    <vt:r8>1</vt:r8>
  </property>
</Properties>
</file>