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83B-EAC6-441B-8F89-0A905C73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E61-1A60-4591-986E-7FCB7FF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1BE-FBE9-459E-843C-554CBF7B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023-F9DD-4882-B2AF-B2607A04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9DDB-CA5B-42D2-AE79-0DA706DE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5C8D-7E4F-4C76-846F-DB36BD3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7E2E-BBD1-423D-B92E-15341A9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2DD76-9A6B-467A-B760-61DB48A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2B62-0CA8-4370-8FBF-CF963A59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2C1C-71D1-4A8C-8E27-B9D1B1E1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F5AFE-0C96-47DF-A652-3E9B813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9A6-3AEE-474A-93D9-2CCC1D0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0AC54-506E-4455-A0CE-6FB8B41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EC67-7730-4BC9-B595-3E66ED68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7C4E-D8D0-4B6B-B424-5EEB9FB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3ADD-9C56-44A4-A0C7-5F84E3EE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4D1E-6088-4674-990B-391B41BD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24F-447D-470E-B982-0CF32D9D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0D-6A2C-46F0-BF25-3DB712D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8D6-4450-4B8F-B1FC-A106E73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F9F-5E01-4810-8C4C-CE49B89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3E4-4009-43ED-8282-9494F78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4B0-7C15-4E26-B8C7-05BE455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AA2-1A49-403B-BA0A-F551BDE8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509-78A3-479D-A615-2FA808A03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94E4-D988-409E-AB9C-084692389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Georgia"/>
              </a:rPr>
              <a:t>гидросф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руговорот воды в прир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62160" y="4343400"/>
            <a:ext cx="583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: развитие понятия гидросф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комство с понятиями зали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лив, полуостров, остр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хипелаг,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2354400" cy="386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61360" y="838080"/>
            <a:ext cx="81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Вода! Нельзя сказать, что ты необходима для жизни: ты сама жизнь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е Сент-Экзюпери. Земля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27280" y="1973160"/>
            <a:ext cx="22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371600"/>
            <a:ext cx="521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море отличается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и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равните 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с Кар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ак объяснить, ка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внутренне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акое окраинное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3520" y="380880"/>
            <a:ext cx="52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тветьте на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302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Убери лишне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89000" y="166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82880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мур, Тянь-Шань, 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еверный Ледовитый океан, Тихий океан, Азовское м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Гвинейский, Мексиканский, Скандинавск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Красное, Средиземное, Индост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1680" y="6019920"/>
            <a:ext cx="71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Гренландия, Сахалин, Лабрад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ре отличается от океанских вод соленостью, температурой, рельефом,  а воды залива идентичны водам оке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едиземное – внутреннее, Карское – окраинное м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нутреннее море глубоко впадает в сушу, сообщается с океаном одним или несколькими проливами. Окраинное море примыкает к материку и слабо обособленно от океана островами и полуостро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янь-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зов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андинав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дост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абрад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752480"/>
            <a:ext cx="714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/з: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23, 24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а в контурных карт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знание морей, залив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роливов, островов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островов, кото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дписывались на практиче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е в контурных кар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253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20960" y="228600"/>
            <a:ext cx="50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Мириады водяных пыл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днимаются над океа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Чтобы тут же в путь пуст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дли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 широтам и меридиан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тать сгустившимися обла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Тучами, чтоб тяжестью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Где-то падать на пе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и кам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На поля и на с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. Щипа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65680" y="4800600"/>
            <a:ext cx="97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идросфера – водная оболочка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1" name="_s2150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21509"/>
            <p:cNvCxnSpPr>
              <a:stCxn id="95" idx="0"/>
              <a:endCxn id="93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21510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21511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21512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1513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1514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9" name="_s1947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9469"/>
            <p:cNvCxnSpPr>
              <a:stCxn id="103" idx="0"/>
              <a:endCxn id="101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9468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19464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9465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жидк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9466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тверд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9467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Tahoma"/>
                </a:rPr>
                <a:t>газообразно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став гидросф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21360" y="2666880"/>
            <a:ext cx="37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ие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3720" y="27432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кеан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6000" y="1295280"/>
            <a:ext cx="13716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1371600"/>
            <a:ext cx="11430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360" y="39625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0280" y="48006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з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9760" y="3886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зем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6280" y="4800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д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4400" y="39625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о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" y="32767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276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76720"/>
            <a:ext cx="2286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18960" y="3276720"/>
            <a:ext cx="9903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19920" y="4076640"/>
            <a:ext cx="28954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ьте схему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«Части мирового океан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1905120"/>
            <a:ext cx="8229240" cy="4114080"/>
            <a:chOff x="457200" y="1905120"/>
            <a:chExt cx="8229240" cy="4114080"/>
          </a:xfrm>
        </p:grpSpPr>
        <p:cxnSp>
          <p:nvCxnSpPr>
            <p:cNvPr id="124" name="_s12313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1723680" y="44100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2311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1077480" y="44096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2309"/>
            <p:cNvCxnSpPr>
              <a:stCxn id="130" idx="0"/>
              <a:endCxn id="131" idx="2"/>
            </p:cNvCxnSpPr>
            <p:nvPr/>
          </p:nvCxnSpPr>
          <p:spPr>
            <a:xfrm flipH="1" flipV="1" rot="5400000">
              <a:off x="366768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2307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4314600" y="28670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2305"/>
            <p:cNvCxnSpPr>
              <a:stCxn id="135" idx="0"/>
              <a:endCxn id="131" idx="2"/>
            </p:cNvCxnSpPr>
            <p:nvPr/>
          </p:nvCxnSpPr>
          <p:spPr>
            <a:xfrm flipV="1" rot="16200000">
              <a:off x="4961160" y="28674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2303"/>
            <p:cNvCxnSpPr>
              <a:stCxn id="137" idx="0"/>
              <a:endCxn id="131" idx="2"/>
            </p:cNvCxnSpPr>
            <p:nvPr/>
          </p:nvCxnSpPr>
          <p:spPr>
            <a:xfrm flipV="1" rot="16200000">
              <a:off x="6256800" y="1571760"/>
              <a:ext cx="514440" cy="323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2302"/>
            <p:cNvCxnSpPr>
              <a:stCxn id="139" idx="0"/>
              <a:endCxn id="131" idx="2"/>
            </p:cNvCxnSpPr>
            <p:nvPr/>
          </p:nvCxnSpPr>
          <p:spPr>
            <a:xfrm flipV="1" rot="16200000">
              <a:off x="560844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2301"/>
            <p:cNvCxnSpPr>
              <a:stCxn id="126" idx="0"/>
              <a:endCxn id="131" idx="2"/>
            </p:cNvCxnSpPr>
            <p:nvPr/>
          </p:nvCxnSpPr>
          <p:spPr>
            <a:xfrm flipH="1" flipV="1" rot="5400000">
              <a:off x="3019680" y="1571760"/>
              <a:ext cx="514440" cy="32382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2297"/>
            <p:cNvSpPr/>
            <p:nvPr/>
          </p:nvSpPr>
          <p:spPr>
            <a:xfrm>
              <a:off x="4339080" y="19051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2298"/>
            <p:cNvSpPr/>
            <p:nvPr/>
          </p:nvSpPr>
          <p:spPr>
            <a:xfrm>
              <a:off x="11030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2299"/>
            <p:cNvSpPr/>
            <p:nvPr/>
          </p:nvSpPr>
          <p:spPr>
            <a:xfrm>
              <a:off x="62816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2300"/>
            <p:cNvSpPr/>
            <p:nvPr/>
          </p:nvSpPr>
          <p:spPr>
            <a:xfrm>
              <a:off x="75765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2304"/>
            <p:cNvSpPr/>
            <p:nvPr/>
          </p:nvSpPr>
          <p:spPr>
            <a:xfrm>
              <a:off x="498672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306"/>
            <p:cNvSpPr/>
            <p:nvPr/>
          </p:nvSpPr>
          <p:spPr>
            <a:xfrm>
              <a:off x="3693240" y="344772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8"/>
            <p:cNvSpPr/>
            <p:nvPr/>
          </p:nvSpPr>
          <p:spPr>
            <a:xfrm>
              <a:off x="23979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2310"/>
            <p:cNvSpPr/>
            <p:nvPr/>
          </p:nvSpPr>
          <p:spPr>
            <a:xfrm>
              <a:off x="45720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2312"/>
            <p:cNvSpPr/>
            <p:nvPr/>
          </p:nvSpPr>
          <p:spPr>
            <a:xfrm>
              <a:off x="175068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43" name="_s10263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261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259"/>
            <p:cNvCxnSpPr>
              <a:stCxn id="149" idx="0"/>
              <a:endCxn id="150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257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255"/>
            <p:cNvCxnSpPr>
              <a:stCxn id="154" idx="0"/>
              <a:endCxn id="150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253"/>
            <p:cNvCxnSpPr>
              <a:stCxn id="156" idx="0"/>
              <a:endCxn id="150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0252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0251"/>
            <p:cNvCxnSpPr>
              <a:stCxn id="145" idx="0"/>
              <a:endCxn id="150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24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24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24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25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254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256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258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260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262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62" name="_s10269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0270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0271"/>
            <p:cNvCxnSpPr>
              <a:stCxn id="168" idx="0"/>
              <a:endCxn id="169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10272"/>
            <p:cNvCxnSpPr>
              <a:stCxn id="171" idx="0"/>
              <a:endCxn id="169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10273"/>
            <p:cNvCxnSpPr>
              <a:stCxn id="173" idx="0"/>
              <a:endCxn id="169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10274"/>
            <p:cNvCxnSpPr>
              <a:stCxn id="175" idx="0"/>
              <a:endCxn id="169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10275"/>
            <p:cNvCxnSpPr>
              <a:stCxn id="177" idx="0"/>
              <a:endCxn id="169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10276"/>
            <p:cNvCxnSpPr>
              <a:stCxn id="164" idx="0"/>
              <a:endCxn id="169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9" name="_s1027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027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1027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1028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10281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282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283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0284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0285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ловарь гидрол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тро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небольшой участок суши со всех сторон окруженны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рхипела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группы ост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луостр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участок суши, окружен с трех сторон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али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, моря, вдающаяся в су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лив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относительно узкое водное пространство, соединяющее разные водные бассейны и разделяющие участки суши. Ли: участок воды, окруженный с двух противоположных сторон суш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ор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 более или менее обособленная сушей, островами или возвышенностями подводного рельефа, отличающаяся от остальной част океана соленостью, температурой вод, течениям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бозначьте на карте части мирового океана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олу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Индостан, Аравийский, Индокитай, Лабрадор, Скандинавский, Камчатка, Таймыр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ренландия, Нов. Гвинея, Мадагаскар, Великобритания, Сахалин, Гавайи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ро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Дрейка, Берингов, Гибралтарский, Магелланов, Панамский канал, Суэцкий канал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За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винейский, Гудзонов, Мексиканский, Персидский, Бенгальски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Моря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Красное, Средиземное, Черное, Карибско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7-11-30T13:45:5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300207f7000400038000</vt:lpwstr>
  </property>
  <property fmtid="{D5CDD505-2E9C-101B-9397-08002B2CF9AE}" pid="3" name="Version">
    <vt:r8>1</vt:r8>
  </property>
</Properties>
</file>