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5E7-E34E-4196-9DFF-99C90362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B36-6E6A-4B4F-905A-05C17E6F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FE5-3505-4764-865D-FDA69953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BE6-6A9D-4C5F-A87A-0E4B856D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AD7BA-5E27-4953-BCD4-4E89A6CD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97C46-4ACC-41AF-AFC8-82D6CB8A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2DCA9-2149-42F8-9B55-50FCC9D8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C0EBA-5A06-4447-9249-72D1A98A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2381A-02A6-4128-91AE-33FF451B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3C7B6-F733-4C32-9BA2-3C0E139B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3C3D9-B9A1-4975-A162-902BE5BD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3E4-2D54-479E-AD39-7BF5CA0E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B92BD-1DBB-411C-801D-56E4472C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D4C51-3508-44AC-8D56-8F6C88A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F3FC0-B501-445C-A271-771B0EF3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3A178-C969-460F-951D-6CEF69D8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73A82-834C-456F-912A-0836736D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9BC-5342-43B8-A730-44CD0388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029-5207-4B2C-AF3F-32F21799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4BA-0289-4150-8D0F-D94131F8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9BB-D90D-43BD-94F3-90015C79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676-5105-4E49-83A7-1D24D16B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406-F85A-4B7F-9901-BDC5EC8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AE7-5AED-4054-B413-B2019594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095D-6D4E-4C32-AEAB-C410676D0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17B2-5B5F-4CA7-97A4-E7F283A3D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53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Georgia"/>
              </a:rPr>
              <a:t>гидросф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руговорот воды в приро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Части мирового океа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062160" y="4343400"/>
            <a:ext cx="583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: развитие понятия гидросфер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комство с понятиями зали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лив, полуостров, остр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рхипелаг,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2354400" cy="386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61360" y="838080"/>
            <a:ext cx="81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Вода! Нельзя сказать, что ты необходима для жизни: ты сама жизнь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 де Сент-Экзюпери. Земля лю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27280" y="1973160"/>
            <a:ext cx="226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1371600"/>
            <a:ext cx="521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море отличается 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и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Сравните Средизем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ре с Карск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Как объяснить, ка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ре внутренне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какое окраинное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3520" y="380880"/>
            <a:ext cx="52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Ответьте на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302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Убери лишне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089000" y="166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828800"/>
            <a:ext cx="8991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Амур, Тянь-Шань, 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Северный Ледовитый океан, Тихий океан, Азовское мо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Гвинейский, Мексиканский, Скандинавск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Красное, Средиземное, Индоста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1680" y="6019920"/>
            <a:ext cx="71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. Гренландия, Сахалин, Лабрад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рь себ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ре отличается от океанских вод соленостью, температурой, рельефом,  а воды залива идентичны водам океа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редиземное – внутреннее, Карское – окраинное мо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нутреннее море глубоко впадает в сушу, сообщается с океаном одним или несколькими проливами. Окраинное море примыкает к материку и слабо обособленно от океана островами и полуостров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янь-Ша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зовск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кандинав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ндост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абрадо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14600" y="1752480"/>
            <a:ext cx="7148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/з: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23, 24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Работа в контурных карта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знание морей, залив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роливов, островов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олуостровов, котор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одписывались на практичес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работе в контурных кар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253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20960" y="228600"/>
            <a:ext cx="50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Мириады водяных пыл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Поднимаются над океан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Чтобы тут же в путь пусти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дли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По широтам и меридиан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Стать сгустившимися облак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Тучами, чтоб тяжестью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Где-то падать на пе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и кам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На поля и на с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С. Щипа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65680" y="4800600"/>
            <a:ext cx="97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идросфера – водная оболочка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04920"/>
            <a:ext cx="9143280" cy="5713200"/>
            <a:chOff x="0" y="304920"/>
            <a:chExt cx="9143280" cy="5713200"/>
          </a:xfrm>
        </p:grpSpPr>
        <p:cxnSp>
          <p:nvCxnSpPr>
            <p:cNvPr id="91" name="_s21508"/>
            <p:cNvCxnSpPr>
              <a:stCxn id="92" idx="0"/>
              <a:endCxn id="93" idx="2"/>
            </p:cNvCxnSpPr>
            <p:nvPr/>
          </p:nvCxnSpPr>
          <p:spPr>
            <a:xfrm flipV="1" rot="16200000">
              <a:off x="559980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" name="_s21509"/>
            <p:cNvCxnSpPr>
              <a:stCxn id="95" idx="0"/>
              <a:endCxn id="93" idx="2"/>
            </p:cNvCxnSpPr>
            <p:nvPr/>
          </p:nvCxnSpPr>
          <p:spPr>
            <a:xfrm flipV="1">
              <a:off x="4571280" y="2590200"/>
              <a:ext cx="3240" cy="114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21510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239976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" name="_s21511"/>
            <p:cNvSpPr/>
            <p:nvPr/>
          </p:nvSpPr>
          <p:spPr>
            <a:xfrm>
              <a:off x="3200040" y="30492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Агрегатное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состояни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воды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21512"/>
            <p:cNvSpPr/>
            <p:nvPr/>
          </p:nvSpPr>
          <p:spPr>
            <a:xfrm>
              <a:off x="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21513"/>
            <p:cNvSpPr/>
            <p:nvPr/>
          </p:nvSpPr>
          <p:spPr>
            <a:xfrm>
              <a:off x="32000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21514"/>
            <p:cNvSpPr/>
            <p:nvPr/>
          </p:nvSpPr>
          <p:spPr>
            <a:xfrm>
              <a:off x="64004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304920"/>
            <a:ext cx="9143280" cy="5713200"/>
            <a:chOff x="0" y="304920"/>
            <a:chExt cx="9143280" cy="5713200"/>
          </a:xfrm>
        </p:grpSpPr>
        <p:cxnSp>
          <p:nvCxnSpPr>
            <p:cNvPr id="99" name="_s19470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59980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9469"/>
            <p:cNvCxnSpPr>
              <a:stCxn id="103" idx="0"/>
              <a:endCxn id="101" idx="2"/>
            </p:cNvCxnSpPr>
            <p:nvPr/>
          </p:nvCxnSpPr>
          <p:spPr>
            <a:xfrm flipV="1">
              <a:off x="4571280" y="2590200"/>
              <a:ext cx="3240" cy="114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9468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239976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1" name="_s19464"/>
            <p:cNvSpPr/>
            <p:nvPr/>
          </p:nvSpPr>
          <p:spPr>
            <a:xfrm>
              <a:off x="3200040" y="30492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Агрегатное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состояни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воды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9465"/>
            <p:cNvSpPr/>
            <p:nvPr/>
          </p:nvSpPr>
          <p:spPr>
            <a:xfrm>
              <a:off x="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cc"/>
                  </a:solidFill>
                  <a:latin typeface="Tahoma"/>
                </a:rPr>
                <a:t>жидко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9466"/>
            <p:cNvSpPr/>
            <p:nvPr/>
          </p:nvSpPr>
          <p:spPr>
            <a:xfrm>
              <a:off x="32000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cc"/>
                  </a:solidFill>
                  <a:latin typeface="Tahoma"/>
                </a:rPr>
                <a:t>твердо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9467"/>
            <p:cNvSpPr/>
            <p:nvPr/>
          </p:nvSpPr>
          <p:spPr>
            <a:xfrm>
              <a:off x="64004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Tahoma"/>
                </a:rPr>
                <a:t>газообразно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остав гидросф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21360" y="2666880"/>
            <a:ext cx="37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утренние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53720" y="274320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кеан -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6000" y="1295280"/>
            <a:ext cx="13716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1371600"/>
            <a:ext cx="11430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7360" y="39625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0280" y="48006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з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9760" y="38862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зем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86280" y="4800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д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74400" y="39625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кусст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до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7200" y="32767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3276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767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76720"/>
            <a:ext cx="2286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18960" y="3276720"/>
            <a:ext cx="9903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19920" y="4076640"/>
            <a:ext cx="289548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ставьте схему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«Части мирового океан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1905120"/>
            <a:ext cx="8229240" cy="4114080"/>
            <a:chOff x="457200" y="1905120"/>
            <a:chExt cx="8229240" cy="4114080"/>
          </a:xfrm>
        </p:grpSpPr>
        <p:cxnSp>
          <p:nvCxnSpPr>
            <p:cNvPr id="124" name="_s12313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1723680" y="4410000"/>
              <a:ext cx="514440" cy="646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2311"/>
            <p:cNvCxnSpPr>
              <a:stCxn id="128" idx="0"/>
              <a:endCxn id="126" idx="2"/>
            </p:cNvCxnSpPr>
            <p:nvPr/>
          </p:nvCxnSpPr>
          <p:spPr>
            <a:xfrm flipH="1" flipV="1" rot="5400000">
              <a:off x="1077480" y="4409640"/>
              <a:ext cx="514440" cy="648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2309"/>
            <p:cNvCxnSpPr>
              <a:stCxn id="130" idx="0"/>
              <a:endCxn id="131" idx="2"/>
            </p:cNvCxnSpPr>
            <p:nvPr/>
          </p:nvCxnSpPr>
          <p:spPr>
            <a:xfrm flipH="1" flipV="1" rot="5400000">
              <a:off x="3667680" y="2220120"/>
              <a:ext cx="514440" cy="1941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2307"/>
            <p:cNvCxnSpPr>
              <a:stCxn id="133" idx="0"/>
              <a:endCxn id="131" idx="2"/>
            </p:cNvCxnSpPr>
            <p:nvPr/>
          </p:nvCxnSpPr>
          <p:spPr>
            <a:xfrm flipH="1" flipV="1" rot="5400000">
              <a:off x="4314600" y="2867040"/>
              <a:ext cx="514440" cy="648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2305"/>
            <p:cNvCxnSpPr>
              <a:stCxn id="135" idx="0"/>
              <a:endCxn id="131" idx="2"/>
            </p:cNvCxnSpPr>
            <p:nvPr/>
          </p:nvCxnSpPr>
          <p:spPr>
            <a:xfrm flipV="1" rot="16200000">
              <a:off x="4961160" y="2867400"/>
              <a:ext cx="514440" cy="646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2303"/>
            <p:cNvCxnSpPr>
              <a:stCxn id="137" idx="0"/>
              <a:endCxn id="131" idx="2"/>
            </p:cNvCxnSpPr>
            <p:nvPr/>
          </p:nvCxnSpPr>
          <p:spPr>
            <a:xfrm flipV="1" rot="16200000">
              <a:off x="6256800" y="1571760"/>
              <a:ext cx="514440" cy="32378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2302"/>
            <p:cNvCxnSpPr>
              <a:stCxn id="139" idx="0"/>
              <a:endCxn id="131" idx="2"/>
            </p:cNvCxnSpPr>
            <p:nvPr/>
          </p:nvCxnSpPr>
          <p:spPr>
            <a:xfrm flipV="1" rot="16200000">
              <a:off x="5608440" y="2220120"/>
              <a:ext cx="514440" cy="1941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2301"/>
            <p:cNvCxnSpPr>
              <a:stCxn id="126" idx="0"/>
              <a:endCxn id="131" idx="2"/>
            </p:cNvCxnSpPr>
            <p:nvPr/>
          </p:nvCxnSpPr>
          <p:spPr>
            <a:xfrm flipH="1" flipV="1" rot="5400000">
              <a:off x="3019680" y="1571760"/>
              <a:ext cx="514440" cy="32382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1" name="_s12297"/>
            <p:cNvSpPr/>
            <p:nvPr/>
          </p:nvSpPr>
          <p:spPr>
            <a:xfrm>
              <a:off x="4339080" y="19051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2298"/>
            <p:cNvSpPr/>
            <p:nvPr/>
          </p:nvSpPr>
          <p:spPr>
            <a:xfrm>
              <a:off x="110304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2299"/>
            <p:cNvSpPr/>
            <p:nvPr/>
          </p:nvSpPr>
          <p:spPr>
            <a:xfrm>
              <a:off x="628164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12300"/>
            <p:cNvSpPr/>
            <p:nvPr/>
          </p:nvSpPr>
          <p:spPr>
            <a:xfrm>
              <a:off x="757656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12304"/>
            <p:cNvSpPr/>
            <p:nvPr/>
          </p:nvSpPr>
          <p:spPr>
            <a:xfrm>
              <a:off x="498672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306"/>
            <p:cNvSpPr/>
            <p:nvPr/>
          </p:nvSpPr>
          <p:spPr>
            <a:xfrm>
              <a:off x="3693240" y="3447720"/>
              <a:ext cx="110844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8"/>
            <p:cNvSpPr/>
            <p:nvPr/>
          </p:nvSpPr>
          <p:spPr>
            <a:xfrm>
              <a:off x="239796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2310"/>
            <p:cNvSpPr/>
            <p:nvPr/>
          </p:nvSpPr>
          <p:spPr>
            <a:xfrm>
              <a:off x="457200" y="4990680"/>
              <a:ext cx="110844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2312"/>
            <p:cNvSpPr/>
            <p:nvPr/>
          </p:nvSpPr>
          <p:spPr>
            <a:xfrm>
              <a:off x="1750680" y="4990680"/>
              <a:ext cx="110844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Части мирового океан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905120"/>
            <a:ext cx="9143640" cy="4114080"/>
            <a:chOff x="0" y="1905120"/>
            <a:chExt cx="9143640" cy="4114080"/>
          </a:xfrm>
        </p:grpSpPr>
        <p:cxnSp>
          <p:nvCxnSpPr>
            <p:cNvPr id="143" name="_s10263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1436040" y="437400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0261"/>
            <p:cNvCxnSpPr>
              <a:stCxn id="147" idx="0"/>
              <a:endCxn id="145" idx="2"/>
            </p:cNvCxnSpPr>
            <p:nvPr/>
          </p:nvCxnSpPr>
          <p:spPr>
            <a:xfrm flipH="1" flipV="1" rot="5400000">
              <a:off x="717480" y="4373640"/>
              <a:ext cx="514440" cy="7196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10259"/>
            <p:cNvCxnSpPr>
              <a:stCxn id="149" idx="0"/>
              <a:endCxn id="150" idx="2"/>
            </p:cNvCxnSpPr>
            <p:nvPr/>
          </p:nvCxnSpPr>
          <p:spPr>
            <a:xfrm flipH="1" flipV="1" rot="5400000">
              <a:off x="3593880" y="2112480"/>
              <a:ext cx="514440" cy="215712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257"/>
            <p:cNvCxnSpPr>
              <a:stCxn id="152" idx="0"/>
              <a:endCxn id="150" idx="2"/>
            </p:cNvCxnSpPr>
            <p:nvPr/>
          </p:nvCxnSpPr>
          <p:spPr>
            <a:xfrm flipH="1" flipV="1" rot="5400000">
              <a:off x="4313880" y="283176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255"/>
            <p:cNvCxnSpPr>
              <a:stCxn id="154" idx="0"/>
              <a:endCxn id="150" idx="2"/>
            </p:cNvCxnSpPr>
            <p:nvPr/>
          </p:nvCxnSpPr>
          <p:spPr>
            <a:xfrm flipV="1" rot="16200000">
              <a:off x="5752080" y="2110680"/>
              <a:ext cx="514440" cy="21603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10253"/>
            <p:cNvCxnSpPr>
              <a:stCxn id="156" idx="0"/>
              <a:endCxn id="150" idx="2"/>
            </p:cNvCxnSpPr>
            <p:nvPr/>
          </p:nvCxnSpPr>
          <p:spPr>
            <a:xfrm flipV="1" rot="16200000">
              <a:off x="6471000" y="1391760"/>
              <a:ext cx="514440" cy="35978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10252"/>
            <p:cNvCxnSpPr>
              <a:stCxn id="158" idx="0"/>
              <a:endCxn id="150" idx="2"/>
            </p:cNvCxnSpPr>
            <p:nvPr/>
          </p:nvCxnSpPr>
          <p:spPr>
            <a:xfrm flipV="1" rot="16200000">
              <a:off x="5032080" y="2830680"/>
              <a:ext cx="514440" cy="720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10251"/>
            <p:cNvCxnSpPr>
              <a:stCxn id="145" idx="0"/>
              <a:endCxn id="150" idx="2"/>
            </p:cNvCxnSpPr>
            <p:nvPr/>
          </p:nvCxnSpPr>
          <p:spPr>
            <a:xfrm flipH="1" flipV="1" rot="5400000">
              <a:off x="2874960" y="1392840"/>
              <a:ext cx="514440" cy="35960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0247"/>
            <p:cNvSpPr/>
            <p:nvPr/>
          </p:nvSpPr>
          <p:spPr>
            <a:xfrm>
              <a:off x="4313520" y="19051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иров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кеа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10248"/>
            <p:cNvSpPr/>
            <p:nvPr/>
          </p:nvSpPr>
          <p:spPr>
            <a:xfrm>
              <a:off x="7178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ор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10249"/>
            <p:cNvSpPr/>
            <p:nvPr/>
          </p:nvSpPr>
          <p:spPr>
            <a:xfrm>
              <a:off x="503280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0250"/>
            <p:cNvSpPr/>
            <p:nvPr/>
          </p:nvSpPr>
          <p:spPr>
            <a:xfrm>
              <a:off x="79106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архипела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254"/>
            <p:cNvSpPr/>
            <p:nvPr/>
          </p:nvSpPr>
          <p:spPr>
            <a:xfrm>
              <a:off x="647172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олу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0256"/>
            <p:cNvSpPr/>
            <p:nvPr/>
          </p:nvSpPr>
          <p:spPr>
            <a:xfrm>
              <a:off x="3595320" y="344772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ро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10258"/>
            <p:cNvSpPr/>
            <p:nvPr/>
          </p:nvSpPr>
          <p:spPr>
            <a:xfrm>
              <a:off x="215676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за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10260"/>
            <p:cNvSpPr/>
            <p:nvPr/>
          </p:nvSpPr>
          <p:spPr>
            <a:xfrm>
              <a:off x="0" y="499068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Окраи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0262"/>
            <p:cNvSpPr/>
            <p:nvPr/>
          </p:nvSpPr>
          <p:spPr>
            <a:xfrm>
              <a:off x="1437480" y="4990680"/>
              <a:ext cx="123156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Внутре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0" y="1905120"/>
            <a:ext cx="9143640" cy="4114080"/>
            <a:chOff x="0" y="1905120"/>
            <a:chExt cx="9143640" cy="4114080"/>
          </a:xfrm>
        </p:grpSpPr>
        <p:cxnSp>
          <p:nvCxnSpPr>
            <p:cNvPr id="162" name="_s10269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1436040" y="437400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10270"/>
            <p:cNvCxnSpPr>
              <a:stCxn id="166" idx="0"/>
              <a:endCxn id="164" idx="2"/>
            </p:cNvCxnSpPr>
            <p:nvPr/>
          </p:nvCxnSpPr>
          <p:spPr>
            <a:xfrm flipH="1" flipV="1" rot="5400000">
              <a:off x="717480" y="4373640"/>
              <a:ext cx="514440" cy="7196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10271"/>
            <p:cNvCxnSpPr>
              <a:stCxn id="168" idx="0"/>
              <a:endCxn id="169" idx="2"/>
            </p:cNvCxnSpPr>
            <p:nvPr/>
          </p:nvCxnSpPr>
          <p:spPr>
            <a:xfrm flipH="1" flipV="1" rot="5400000">
              <a:off x="3593880" y="2112480"/>
              <a:ext cx="514440" cy="215712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0" name="_s10272"/>
            <p:cNvCxnSpPr>
              <a:stCxn id="171" idx="0"/>
              <a:endCxn id="169" idx="2"/>
            </p:cNvCxnSpPr>
            <p:nvPr/>
          </p:nvCxnSpPr>
          <p:spPr>
            <a:xfrm flipH="1" flipV="1" rot="5400000">
              <a:off x="4313880" y="283176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10273"/>
            <p:cNvCxnSpPr>
              <a:stCxn id="173" idx="0"/>
              <a:endCxn id="169" idx="2"/>
            </p:cNvCxnSpPr>
            <p:nvPr/>
          </p:nvCxnSpPr>
          <p:spPr>
            <a:xfrm flipV="1" rot="16200000">
              <a:off x="5752080" y="2110680"/>
              <a:ext cx="514440" cy="21603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10274"/>
            <p:cNvCxnSpPr>
              <a:stCxn id="175" idx="0"/>
              <a:endCxn id="169" idx="2"/>
            </p:cNvCxnSpPr>
            <p:nvPr/>
          </p:nvCxnSpPr>
          <p:spPr>
            <a:xfrm flipV="1" rot="16200000">
              <a:off x="6471000" y="1391760"/>
              <a:ext cx="514440" cy="35978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10275"/>
            <p:cNvCxnSpPr>
              <a:stCxn id="177" idx="0"/>
              <a:endCxn id="169" idx="2"/>
            </p:cNvCxnSpPr>
            <p:nvPr/>
          </p:nvCxnSpPr>
          <p:spPr>
            <a:xfrm flipV="1" rot="16200000">
              <a:off x="5032080" y="2830680"/>
              <a:ext cx="514440" cy="720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8" name="_s10276"/>
            <p:cNvCxnSpPr>
              <a:stCxn id="164" idx="0"/>
              <a:endCxn id="169" idx="2"/>
            </p:cNvCxnSpPr>
            <p:nvPr/>
          </p:nvCxnSpPr>
          <p:spPr>
            <a:xfrm flipH="1" flipV="1" rot="5400000">
              <a:off x="2874960" y="1392840"/>
              <a:ext cx="514440" cy="35960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9" name="_s10277"/>
            <p:cNvSpPr/>
            <p:nvPr/>
          </p:nvSpPr>
          <p:spPr>
            <a:xfrm>
              <a:off x="4313520" y="19051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иров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кеа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10278"/>
            <p:cNvSpPr/>
            <p:nvPr/>
          </p:nvSpPr>
          <p:spPr>
            <a:xfrm>
              <a:off x="7178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ор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10279"/>
            <p:cNvSpPr/>
            <p:nvPr/>
          </p:nvSpPr>
          <p:spPr>
            <a:xfrm>
              <a:off x="503280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10280"/>
            <p:cNvSpPr/>
            <p:nvPr/>
          </p:nvSpPr>
          <p:spPr>
            <a:xfrm>
              <a:off x="79106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архипела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10281"/>
            <p:cNvSpPr/>
            <p:nvPr/>
          </p:nvSpPr>
          <p:spPr>
            <a:xfrm>
              <a:off x="647172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олу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10282"/>
            <p:cNvSpPr/>
            <p:nvPr/>
          </p:nvSpPr>
          <p:spPr>
            <a:xfrm>
              <a:off x="3595320" y="344772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ро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10283"/>
            <p:cNvSpPr/>
            <p:nvPr/>
          </p:nvSpPr>
          <p:spPr>
            <a:xfrm>
              <a:off x="215676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за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10284"/>
            <p:cNvSpPr/>
            <p:nvPr/>
          </p:nvSpPr>
          <p:spPr>
            <a:xfrm>
              <a:off x="0" y="499068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Окраи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10285"/>
            <p:cNvSpPr/>
            <p:nvPr/>
          </p:nvSpPr>
          <p:spPr>
            <a:xfrm>
              <a:off x="1437480" y="4990680"/>
              <a:ext cx="123156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Внутре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Словарь гидролог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стро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небольшой участок суши со всех сторон окруженный 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рхипела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группы остров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луостр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участок суши, окружен с трех сторон 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Зали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часть океана, моря, вдающаяся в су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олив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относительно узкое водное пространство, соединяющее разные водные бассейны и разделяющие участки суши. Ли: участок воды, окруженный с двух противоположных сторон суш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Мор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часть океана более или менее обособленная сушей, островами или возвышенностями подводного рельефа, отличающаяся от остальной част океана соленостью, температурой вод, течениям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Обозначьте на карте части мирового океана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Полуострова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Индостан, Аравийский, Индокитай, Лабрадор, Скандинавский, Камчатка, Таймыр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Острова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Гренландия, Нов. Гвинея, Мадагаскар, Великобритания, Сахалин, Гавайи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Проливы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Дрейка, Берингов, Гибралтарский, Магелланов, Панамский канал, Суэцкий канал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Заливы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Гвинейский, Гудзонов, Мексиканский, Персидский, Бенгальский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Моря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Красное, Средиземное, Черное, Карибско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7-11-30T13:45:5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300207f7000400038000</vt:lpwstr>
  </property>
  <property fmtid="{D5CDD505-2E9C-101B-9397-08002B2CF9AE}" pid="3" name="Version">
    <vt:r8>1</vt:r8>
  </property>
</Properties>
</file>