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7BE-5462-4B15-8FAD-CEB2540C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D3D-3BB1-4241-BE43-58AE13F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ACD-2DAF-4121-ACDC-03E7781C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F16-C101-47E5-8CD9-C6A79048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82DB-2C9F-48DD-903A-D03BDD5B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F93B-5F29-4647-8D7C-CC8667DB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3954-C5C2-402E-A107-169920E6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C85D-3006-4851-8733-15E1621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CE6E-04DC-4815-9A7B-7FD326E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103A-BFD9-410D-B376-8576C3D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A317-1D99-466C-B94A-D15D4A0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ADF-A6A8-4B59-AAA7-AC0F4A48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80B4-9F9C-441F-A6E2-54C6DBF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8A42-E35E-4CFA-A644-3AF7A9C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0179-FEB5-4651-8998-F3E3BE2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BD9A-A7AD-4D97-808C-99BE8F9B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D87E-030D-4E78-A6F3-3BBFD227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FA3-7930-4A73-A79D-918718E2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30C-99FB-4D2A-9ABB-AC58E6DF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35F-0B8B-4B22-A43F-5788403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638-CE16-4448-922B-52C19B85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B29-F7D8-4DBA-8BD2-AF40EF1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EEF-A1E9-4A6B-BEDD-A8FFE34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7A9-065B-4017-9E9A-C2BAB1B7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4B3-8D40-4246-B7B5-F2E441CB1F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272-9D4E-4FAC-8587-2162781AE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Кроссворд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«НЕБО, ЗЕМЛЯ, ЯВЛЕНИЯ ПРИРОДЫ» </a:t>
            </a:r>
            <a:br>
              <a:rPr sz="32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(из журнала «АБВГД» №10 1998г.)</a:t>
            </a: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5280" y="5013360"/>
            <a:ext cx="750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опенкина Светлана Александровна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МОУ «Луговская средняя общеобразовательная школа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jgtyrbys@mail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77171"/>
              <a:gd name="adj2" fmla="val 4010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лубой ша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сь мир накры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8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200000">
            <a:off x="70236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356000" y="0"/>
            <a:ext cx="4788000" cy="1773360"/>
          </a:xfrm>
          <a:prstGeom prst="wedgeRectCallout">
            <a:avLst>
              <a:gd name="adj1" fmla="val -116944"/>
              <a:gd name="adj2" fmla="val 2777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известно, где жив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летит – деревья гн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свистит – по речке дрож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рник, а не уймё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649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rot="16200000">
            <a:off x="73728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356000" y="0"/>
            <a:ext cx="4788000" cy="1484280"/>
          </a:xfrm>
          <a:prstGeom prst="wedgeRectCallout">
            <a:avLst>
              <a:gd name="adj1" fmla="val -102486"/>
              <a:gd name="adj2" fmla="val 23919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а брат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реку глядятс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вовек не сойдутся. (Ед.ч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11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584360" y="396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364000" y="0"/>
            <a:ext cx="3780000" cy="1773360"/>
          </a:xfrm>
          <a:prstGeom prst="wedgeRectCallout">
            <a:avLst>
              <a:gd name="adj1" fmla="val -71754"/>
              <a:gd name="adj2" fmla="val 19118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о, угадай-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дая хозяй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яхнёт перинки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д миром пушин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73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42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500720" y="0"/>
            <a:ext cx="4643280" cy="1089000"/>
          </a:xfrm>
          <a:prstGeom prst="wedgeRectCallout">
            <a:avLst>
              <a:gd name="adj1" fmla="val -47537"/>
              <a:gd name="adj2" fmla="val 39417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снег и не лё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серебром деревья убер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3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 rot="16200000">
            <a:off x="376164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96296"/>
              <a:gd name="adj2" fmla="val 2486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топчут её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режут её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а не серча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ерном привеч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9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 rot="16200000">
            <a:off x="336636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52027"/>
              <a:gd name="adj2" fmla="val 17402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ает сне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жил лу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нь прибыв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59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51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020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 txBox="1"/>
          <p:nvPr/>
        </p:nvSpPr>
        <p:spPr>
          <a:xfrm rot="231000">
            <a:off x="1834920" y="728280"/>
            <a:ext cx="5292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37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Молодцы !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56944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пенкина Светлана Александро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«Луговская средняя общеобразовательная школа»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jgtyrbys@mail.r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9640" y="1557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76416"/>
              <a:gd name="adj2" fmla="val 5460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крыльев лет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ног бежи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паруса плыв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2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52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122675"/>
              <a:gd name="adj2" fmla="val 12033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ый Т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имой на улице сид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олсте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68920" y="2510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246560" y="0"/>
            <a:ext cx="4897440" cy="1736640"/>
          </a:xfrm>
          <a:prstGeom prst="wedgeRectCallout">
            <a:avLst>
              <a:gd name="adj1" fmla="val -113953"/>
              <a:gd name="adj2" fmla="val 1429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сады и огор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ей округе поли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1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666000" y="3483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248000" y="0"/>
            <a:ext cx="4896000" cy="1916280"/>
          </a:xfrm>
          <a:prstGeom prst="wedgeRectCallout">
            <a:avLst>
              <a:gd name="adj1" fmla="val -84759"/>
              <a:gd name="adj2" fmla="val 17875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идимкой, осторож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 является ко м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рисует, как художни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 узоры на ок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7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6200000">
            <a:off x="2069280" y="449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338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248000" y="0"/>
            <a:ext cx="4896000" cy="1484280"/>
          </a:xfrm>
          <a:prstGeom prst="wedgeRectCallout">
            <a:avLst>
              <a:gd name="adj1" fmla="val -51587"/>
              <a:gd name="adj2" fmla="val 7438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вода и не суша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лодке не уплывё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ногами не пройдё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152100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00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384720" y="0"/>
            <a:ext cx="5759280" cy="1125360"/>
          </a:xfrm>
          <a:prstGeom prst="wedgeRectCallout">
            <a:avLst>
              <a:gd name="adj1" fmla="val -37018"/>
              <a:gd name="adj2" fmla="val 1598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ад ли, снег идут с дождём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их вместе назовё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3366360" y="254664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427640" y="0"/>
            <a:ext cx="4716360" cy="1015920"/>
          </a:xfrm>
          <a:prstGeom prst="wedgeRectCallout">
            <a:avLst>
              <a:gd name="adj1" fmla="val -55351"/>
              <a:gd name="adj2" fmla="val 2796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ородной почвы вра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етс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63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rot="16200000">
            <a:off x="3366360" y="351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36189"/>
              <a:gd name="adj2" fmla="val 35772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угом вод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с питьём бе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2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448000" y="404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1:33:29Z</dcterms:created>
  <dc:creator>Света</dc:creator>
  <dc:description/>
  <dc:language>en-US</dc:language>
  <cp:lastModifiedBy>Maria</cp:lastModifiedBy>
  <dcterms:modified xsi:type="dcterms:W3CDTF">2007-01-12T18:36:03Z</dcterms:modified>
  <cp:revision>19</cp:revision>
  <dc:subject/>
  <dc:title>Возможности использования ПРЕЗЕНТАЦИИ PowerPoint   при проведении  дидактических игр  на уроках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5a040000000000010243100207f6000400038000</vt:lpwstr>
  </property>
  <property fmtid="{D5CDD505-2E9C-101B-9397-08002B2CF9AE}" pid="4" name="Version">
    <vt:r8>3</vt:r8>
  </property>
</Properties>
</file>