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797-C8C6-4A4D-BFCA-6241DCA9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B5D-2DD9-4658-891B-6CD5EBE3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EA-1320-4094-B0B2-A9ABCA57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57C-0127-4BA9-9840-864FBF19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7DDA-170B-4311-B573-D4201434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4694-2900-4ED6-8F3A-DEAC951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C4D2-3FD4-4E28-8E6D-FB7749B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0F2D-4235-45E2-9945-E746D83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B88-76DC-407C-BFBA-7089BFBA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EDCD-3BE6-4CBA-9A61-7638DC7C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14F-D174-46AC-89BC-14484A7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589-294E-433F-AC39-1D194ECD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C5F0-7A2E-4118-8C99-33A1AA07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2FCB-BC77-47FA-85D0-7129964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72BD-35CA-43F9-AB22-62E54C1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5F9-1C70-461B-A09C-16F156C6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AAB-9F21-457A-9719-49892B60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E0D-8A6A-429C-B83B-5EFA94D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961-5923-4E00-AA70-453122F2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437-E4E8-498E-9811-4A04B38D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346-E4C5-4F2C-932E-79A364DC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2B9-CFF4-4944-AFE4-B2A9A3D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6D9-0A51-4C83-917B-2B23464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E8D-FEE9-413A-B623-E330DCF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466-7977-42EE-A82C-676A50F029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BB8C-775C-4167-A96B-C5EED9C42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Кроссворд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«НЕБО, ЗЕМЛЯ, ЯВЛЕНИЯ ПРИРОДЫ» </a:t>
            </a:r>
            <a:br>
              <a:rPr sz="32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(из журнала «АБВГД» №10 1998г.)</a:t>
            </a: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5280" y="5013360"/>
            <a:ext cx="750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пенкина Светлана Александровна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МОУ «Луговская средняя общеобразовательная школа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jgtyrbys@mail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77171"/>
              <a:gd name="adj2" fmla="val 4010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лубой ша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сь мир накры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8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200000">
            <a:off x="70236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356000" y="0"/>
            <a:ext cx="4788000" cy="1773360"/>
          </a:xfrm>
          <a:prstGeom prst="wedgeRectCallout">
            <a:avLst>
              <a:gd name="adj1" fmla="val -116944"/>
              <a:gd name="adj2" fmla="val 2777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известно, где жи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летит – деревья гн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свистит – по речке дрож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рник, а не уйм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64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rot="16200000">
            <a:off x="73728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356000" y="0"/>
            <a:ext cx="4788000" cy="1484280"/>
          </a:xfrm>
          <a:prstGeom prst="wedgeRectCallout">
            <a:avLst>
              <a:gd name="adj1" fmla="val -102486"/>
              <a:gd name="adj2" fmla="val 23919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а брат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еку глядятс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вовек не сойдутся. (Ед.ч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11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584360" y="396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364000" y="0"/>
            <a:ext cx="3780000" cy="1773360"/>
          </a:xfrm>
          <a:prstGeom prst="wedgeRectCallout">
            <a:avLst>
              <a:gd name="adj1" fmla="val -71754"/>
              <a:gd name="adj2" fmla="val 19118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о, угадай-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дая хозяй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яхнёт перинки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д миром пушин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7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42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00720" y="0"/>
            <a:ext cx="4643280" cy="1089000"/>
          </a:xfrm>
          <a:prstGeom prst="wedgeRectCallout">
            <a:avLst>
              <a:gd name="adj1" fmla="val -47537"/>
              <a:gd name="adj2" fmla="val 39417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снег и не лё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еребром деревья убер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3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 rot="16200000">
            <a:off x="376164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96296"/>
              <a:gd name="adj2" fmla="val 248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топчут её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ежут её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а не серча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рном привеч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9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rot="16200000">
            <a:off x="336636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52027"/>
              <a:gd name="adj2" fmla="val 1740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ет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жил лу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нь прибыв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5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51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02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 txBox="1"/>
          <p:nvPr/>
        </p:nvSpPr>
        <p:spPr>
          <a:xfrm rot="231000">
            <a:off x="1834920" y="728280"/>
            <a:ext cx="5292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3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Молодцы !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56944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пенкина Светлана Александро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Луговская средняя общеобразовательная школа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jgtyrbys@mail.r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9640" y="1557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76416"/>
              <a:gd name="adj2" fmla="val 546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крыльев лет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ног бежи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паруса плы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5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122675"/>
              <a:gd name="adj2" fmla="val 12033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ый Т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имой на улице сид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лсте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68920" y="2510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246560" y="0"/>
            <a:ext cx="4897440" cy="1736640"/>
          </a:xfrm>
          <a:prstGeom prst="wedgeRectCallout">
            <a:avLst>
              <a:gd name="adj1" fmla="val -113953"/>
              <a:gd name="adj2" fmla="val 1429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сады и огор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ей округе поли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1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666000" y="3483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248000" y="0"/>
            <a:ext cx="4896000" cy="1916280"/>
          </a:xfrm>
          <a:prstGeom prst="wedgeRectCallout">
            <a:avLst>
              <a:gd name="adj1" fmla="val -84759"/>
              <a:gd name="adj2" fmla="val 1787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идимкой, остор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является ко м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исует, как художни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узоры на ок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7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6200000">
            <a:off x="2069280" y="449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338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48000" y="0"/>
            <a:ext cx="4896000" cy="1484280"/>
          </a:xfrm>
          <a:prstGeom prst="wedgeRectCallout">
            <a:avLst>
              <a:gd name="adj1" fmla="val -51587"/>
              <a:gd name="adj2" fmla="val 7438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вода и не суш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лодке не уплывё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огами не пройд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152100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0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384720" y="0"/>
            <a:ext cx="5759280" cy="1125360"/>
          </a:xfrm>
          <a:prstGeom prst="wedgeRectCallout">
            <a:avLst>
              <a:gd name="adj1" fmla="val -37018"/>
              <a:gd name="adj2" fmla="val 1598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д ли, снег идут с дождём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их вместе назовё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3366360" y="254664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427640" y="0"/>
            <a:ext cx="4716360" cy="1015920"/>
          </a:xfrm>
          <a:prstGeom prst="wedgeRectCallout">
            <a:avLst>
              <a:gd name="adj1" fmla="val -55351"/>
              <a:gd name="adj2" fmla="val 2796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ородной почвы вра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ет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6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rot="16200000">
            <a:off x="3366360" y="351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36189"/>
              <a:gd name="adj2" fmla="val 35772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угом вод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 питьём бе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2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448000" y="404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1:33:29Z</dcterms:created>
  <dc:creator>Света</dc:creator>
  <dc:description/>
  <dc:language>en-US</dc:language>
  <cp:lastModifiedBy>Maria</cp:lastModifiedBy>
  <dcterms:modified xsi:type="dcterms:W3CDTF">2007-01-12T18:36:03Z</dcterms:modified>
  <cp:revision>19</cp:revision>
  <dc:subject/>
  <dc:title>Возможности использования ПРЕЗЕНТАЦИИ PowerPoint   при проведении  дидактических игр  на уроках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5a040000000000010243100207f6000400038000</vt:lpwstr>
  </property>
  <property fmtid="{D5CDD505-2E9C-101B-9397-08002B2CF9AE}" pid="4" name="Version">
    <vt:r8>3</vt:r8>
  </property>
</Properties>
</file>