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3B7F-896B-49C3-827A-5898834B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8225-C3C2-47AF-B981-DDE0E5A4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E091-B989-4A48-B33D-DF343BAD9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EB5E-A818-4B42-8CD6-9EA68E80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FEEE-D08F-456B-A8FC-8C53DF42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9360-7325-4A89-84A1-A1A75635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03F7-626F-4980-A8B2-7DDC00BE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AD80-EFD7-4CB8-9968-F2DA0D6A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3C09-196B-4D3D-BD60-54AD4D76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0900-86AC-4767-92A5-FF7B54E7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0394-A82E-471C-B258-927986E2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F39E-91FC-4F29-A0FA-FE181D58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D4A8-FF65-4A61-9E9F-5A7D865E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3B69-0517-453E-AE3D-3035C183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AFDB-93BA-4F88-9ABD-9759D308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8BD7-C669-4BBB-82A3-1FDC6E2D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53D0-F8B5-43BA-AEE6-621B4F05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8BD3-B3A4-4007-9C8D-3C380BBB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F727-C71D-455D-96CF-955A5748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62AC-5F6D-4316-B717-F0802928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924B-49BD-4E03-9A9D-68CE39A0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457C-70F8-4A6F-9B3C-B7CA963C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85C0-FD66-48F9-B382-1B699C51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35E1-E1C5-46E6-9F3D-10AFA4A6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B7C1-CB5F-490D-B5A4-A48CCEC0C3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F4CF-044C-4942-813D-FFB4FDD770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Кроссворд </a:t>
            </a:r>
            <a:br>
              <a:rPr sz="40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«НЕБО, ЗЕМЛЯ, ЯВЛЕНИЯ ПРИРОДЫ» </a:t>
            </a:r>
            <a:br>
              <a:rPr sz="3200"/>
            </a:b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(из журнала «АБВГД» №10 1998г.)</a:t>
            </a:r>
            <a:endParaRPr b="0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35280" y="5013360"/>
            <a:ext cx="750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Копенкина Светлана Александровна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МОУ «Луговская средняя общеобразовательная школа»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rjgtyrbys@mail.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5580000" y="0"/>
            <a:ext cx="3564000" cy="1089000"/>
          </a:xfrm>
          <a:prstGeom prst="wedgeRectCallout">
            <a:avLst>
              <a:gd name="adj1" fmla="val -177171"/>
              <a:gd name="adj2" fmla="val 401018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олубой шате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есь мир накры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587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 rot="16200000">
            <a:off x="702360" y="496008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4356000" y="0"/>
            <a:ext cx="4788000" cy="1773360"/>
          </a:xfrm>
          <a:prstGeom prst="wedgeRectCallout">
            <a:avLst>
              <a:gd name="adj1" fmla="val -116944"/>
              <a:gd name="adj2" fmla="val 27775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известно, где живё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летит – деревья гнё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свистит – по речке дрож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зорник, а не уймёш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649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 rot="16200000">
            <a:off x="737280" y="593172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4356000" y="0"/>
            <a:ext cx="4788000" cy="1484280"/>
          </a:xfrm>
          <a:prstGeom prst="wedgeRectCallout">
            <a:avLst>
              <a:gd name="adj1" fmla="val -102486"/>
              <a:gd name="adj2" fmla="val 239199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ва братц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реку глядятся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 вовек не сойдутся. (Ед.ч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711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584360" y="396864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5364000" y="0"/>
            <a:ext cx="3780000" cy="1773360"/>
          </a:xfrm>
          <a:prstGeom prst="wedgeRectCallout">
            <a:avLst>
              <a:gd name="adj1" fmla="val -71754"/>
              <a:gd name="adj2" fmla="val 19118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то, угадай-к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дая хозяйк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яхнёт перинки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д миром пушин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773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2" name=""/>
          <p:cNvSpPr/>
          <p:nvPr/>
        </p:nvSpPr>
        <p:spPr>
          <a:xfrm>
            <a:off x="4211640" y="400536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4500720" y="0"/>
            <a:ext cx="4643280" cy="1089000"/>
          </a:xfrm>
          <a:prstGeom prst="wedgeRectCallout">
            <a:avLst>
              <a:gd name="adj1" fmla="val -47537"/>
              <a:gd name="adj2" fmla="val 394171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 снег и не лёд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 серебром деревья уберё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835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 rot="16200000">
            <a:off x="3761640" y="496008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5543640" y="0"/>
            <a:ext cx="3600360" cy="1916280"/>
          </a:xfrm>
          <a:prstGeom prst="wedgeRectCallout">
            <a:avLst>
              <a:gd name="adj1" fmla="val -96296"/>
              <a:gd name="adj2" fmla="val 248675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топчут её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режут её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на не серчает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ерном привеча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897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6" name=""/>
          <p:cNvSpPr/>
          <p:nvPr/>
        </p:nvSpPr>
        <p:spPr>
          <a:xfrm rot="16200000">
            <a:off x="3366360" y="593172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5543640" y="0"/>
            <a:ext cx="3600360" cy="1916280"/>
          </a:xfrm>
          <a:prstGeom prst="wedgeRectCallout">
            <a:avLst>
              <a:gd name="adj1" fmla="val -52027"/>
              <a:gd name="adj2" fmla="val 17402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ает снежо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жил лужо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нь прибыва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гда это бывает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959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Ш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5111640" y="400536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9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1020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Ш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9" name=""/>
          <p:cNvSpPr txBox="1"/>
          <p:nvPr/>
        </p:nvSpPr>
        <p:spPr>
          <a:xfrm rot="231000">
            <a:off x="1834920" y="728280"/>
            <a:ext cx="529272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337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"/>
              </a:rPr>
              <a:t>Молодцы !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2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cc"/>
                                      </p:to>
                                    </p:animClr>
                                    <p:set>
                                      <p:cBhvr>
                                        <p:cTn id="194" dur="2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0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569440" cy="526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пенкина Светлана Александровн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У «Луговская средняя общеобразовательная школа»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jgtyrbys@mail.r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879640" y="155736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46560" y="0"/>
            <a:ext cx="4897440" cy="1413000"/>
          </a:xfrm>
          <a:prstGeom prst="wedgeRectCallout">
            <a:avLst>
              <a:gd name="adj1" fmla="val -76416"/>
              <a:gd name="adj2" fmla="val 54606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з крыльев летит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з ног бежит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з паруса плывё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92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152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246560" y="0"/>
            <a:ext cx="4897440" cy="1413000"/>
          </a:xfrm>
          <a:prstGeom prst="wedgeRectCallout">
            <a:avLst>
              <a:gd name="adj1" fmla="val -122675"/>
              <a:gd name="adj2" fmla="val 12033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лый Ти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имой на улице сидит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олсте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268920" y="251064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246560" y="0"/>
            <a:ext cx="4897440" cy="1736640"/>
          </a:xfrm>
          <a:prstGeom prst="wedgeRectCallout">
            <a:avLst>
              <a:gd name="adj1" fmla="val -113953"/>
              <a:gd name="adj2" fmla="val 14296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шумела, нагремел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сё промыла и уш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сады и огоро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сей округе поли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215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 rot="16200000">
            <a:off x="666000" y="348372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248000" y="0"/>
            <a:ext cx="4896000" cy="1916280"/>
          </a:xfrm>
          <a:prstGeom prst="wedgeRectCallout">
            <a:avLst>
              <a:gd name="adj1" fmla="val -84759"/>
              <a:gd name="adj2" fmla="val 17875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видимкой, осторож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н является ко мн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рисует, как художник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н узоры на окн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277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 rot="16200000">
            <a:off x="2069280" y="449172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338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4248000" y="0"/>
            <a:ext cx="4896000" cy="1484280"/>
          </a:xfrm>
          <a:prstGeom prst="wedgeRectCallout">
            <a:avLst>
              <a:gd name="adj1" fmla="val -51587"/>
              <a:gd name="adj2" fmla="val 7438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 вода и не суша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 лодке не уплывёш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ногами не пройдёш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780000" y="1521000"/>
            <a:ext cx="215640" cy="395280"/>
          </a:xfrm>
          <a:prstGeom prst="downArrow">
            <a:avLst>
              <a:gd name="adj1" fmla="val 50000"/>
              <a:gd name="adj2" fmla="val 4582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400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3384720" y="0"/>
            <a:ext cx="5759280" cy="1125360"/>
          </a:xfrm>
          <a:prstGeom prst="wedgeRectCallout">
            <a:avLst>
              <a:gd name="adj1" fmla="val -37018"/>
              <a:gd name="adj2" fmla="val 159875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рад ли, снег идут с дождём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к их вместе назовём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16200000">
            <a:off x="3366360" y="2546640"/>
            <a:ext cx="215640" cy="395280"/>
          </a:xfrm>
          <a:prstGeom prst="downArrow">
            <a:avLst>
              <a:gd name="adj1" fmla="val 50000"/>
              <a:gd name="adj2" fmla="val 4582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4427640" y="0"/>
            <a:ext cx="4716360" cy="1015920"/>
          </a:xfrm>
          <a:prstGeom prst="wedgeRectCallout">
            <a:avLst>
              <a:gd name="adj1" fmla="val -55351"/>
              <a:gd name="adj2" fmla="val 279689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одородной почвы вра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зывается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463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 rot="16200000">
            <a:off x="3366360" y="351864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5580000" y="0"/>
            <a:ext cx="3564000" cy="1089000"/>
          </a:xfrm>
          <a:prstGeom prst="wedgeRectCallout">
            <a:avLst>
              <a:gd name="adj1" fmla="val -136189"/>
              <a:gd name="adj2" fmla="val 357726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угом вод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 с питьём бе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525" name="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2448000" y="404172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3T11:33:29Z</dcterms:created>
  <dc:creator>Света</dc:creator>
  <dc:description/>
  <dc:language>en-US</dc:language>
  <cp:lastModifiedBy>Maria</cp:lastModifiedBy>
  <dcterms:modified xsi:type="dcterms:W3CDTF">2007-01-12T18:36:03Z</dcterms:modified>
  <cp:revision>19</cp:revision>
  <dc:subject/>
  <dc:title>Возможности использования ПРЕЗЕНТАЦИИ PowerPoint   при проведении  дидактических игр  на уроках в начальной школ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NXTAG2">
    <vt:lpwstr>0008005a040000000000010243100207f6000400038000</vt:lpwstr>
  </property>
  <property fmtid="{D5CDD505-2E9C-101B-9397-08002B2CF9AE}" pid="4" name="Version">
    <vt:r8>3</vt:r8>
  </property>
</Properties>
</file>