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52320" y="769680"/>
            <a:ext cx="5548320" cy="29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52320" y="4001760"/>
            <a:ext cx="554832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dt" idx="12"/>
          </p:nvPr>
        </p:nvSpPr>
        <p:spPr>
          <a:xfrm>
            <a:off x="38811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3"/>
          </p:nvPr>
        </p:nvSpPr>
        <p:spPr>
          <a:xfrm>
            <a:off x="-3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4"/>
          </p:nvPr>
        </p:nvSpPr>
        <p:spPr>
          <a:xfrm>
            <a:off x="38811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fld id="{B4050EB5-E74B-47D2-8F8B-9EA5B131E8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71F4-AAB3-4330-BD6D-FC4E24F7EC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A052-B979-4C0B-B58C-2ED467D7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3240-3A92-460A-A82C-3DFB0D41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3FA4-2502-46F8-B4FE-E28815CEED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12313-3C1F-45C5-A770-D4F17CF040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370E3-AFC8-45E7-917E-719F1677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A53AA-F741-4E07-9172-BC8FE18F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DF879-ACBD-436E-8305-36706DE6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050C1-5A26-4995-8735-D76D0854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4462F-9452-4226-A5FC-A1E04E95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C2338-03EC-44BA-A341-94464863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FA8C-A4F3-432B-AAA2-5BEE3ACC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64737-0EF0-45E6-9A0B-1F510A36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F3D52-A03F-4E1A-BA64-1268504D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E7A31-A488-43D7-81F6-2011ADA2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9918E-B433-41B9-989E-3F607B8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FE951-6DD7-4FA8-A222-DDC5C594D1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C33D-217B-469C-B5AE-DF7DC9FFD8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FFAA-1E3A-4E7D-88E0-DAA27EA9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D7E5-1D64-4EE8-A243-6ED68FF0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A2B3-269D-418E-A132-97EACF5B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1ED0-CCE7-4953-97C1-72EE5D89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EFFC-69CA-4A24-A313-3B66F001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A8AD-2E84-4D5B-BE90-307543CA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F242-A84A-42D9-A9FE-64B14610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DCFB-F45D-43D7-BA7E-3CF56C8F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D089-CF0D-4F31-B9FF-DFF27EA5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B30E-4CF8-4E6D-86E1-B51B62B7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4EDE-68EB-48AF-9B00-66FCEE51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C7D2-2ABF-44C9-8123-F70E3AAB34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82983-0F3C-4A48-86B2-67E01C0FAA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0CBCF-4294-43DF-A2C3-E162E8BC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A0480-A618-4E11-9ED6-89FE324D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B1A4-3399-411D-A36C-0F1FBF4A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6C333-8FC0-4F7F-AC5A-FCAC85FF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C695C-00A7-49D4-A6DF-E024A81B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2F481-F14E-463B-887B-1272F470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F9CAC-A486-4505-82FB-1D884A27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FBEF5-8E4D-4C57-893A-2F300B58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2569C-CFA3-418A-A352-68BBFC1B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C919F-06F7-4898-B33E-37B0979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7B765-0821-4E07-B5C9-F62019B4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FA208-B7FF-42CA-BA16-A0471209D1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E3720-110D-4D24-9568-1588877E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5D27-C037-4E66-A235-50A1EB9C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59158-A297-4CB8-8799-E9B42F50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8E6BC-CAAA-41CD-8DA9-6550604C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7DF11-D19A-448C-ACE8-EDCC8B20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278F8-0F7E-4BEA-8E6F-A153C242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C941C-9CB9-4DD9-BCA5-9EBA7922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B3322-E3C1-4618-BBB5-3B488F8A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47B81-3AEA-4D39-A52F-69354CAC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7A4F6-93A0-4933-B348-C76B4844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55F4E-4945-4D64-99B1-A763F31B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3773F-E311-407B-97B9-B8DCF628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0854-38EB-4B97-90BC-FAF91944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C4210-923B-4EC3-861B-CF21E05A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D883-982A-47C9-8DCD-A7FA2B23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2CE6-4F31-45C7-8C6B-046077D8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1491-7369-40D9-91F4-78F45616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fld id="{322CDD31-00B9-4AC1-9987-5BF972D745B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fld id="{98EFC536-1494-4A5D-A717-172E34F670EB}" type="slidenum"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fld id="{BE86554E-A76D-4F31-84CA-8F9B550E0317}" type="slidenum"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fld id="{3D77B571-39F9-42ED-B7C8-A8F4456AA325}" type="slidenum">
              <a: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9"/>
          </p:nvPr>
        </p:nvSpPr>
        <p:spPr>
          <a:xfrm>
            <a:off x="58716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0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1"/>
          </p:nvPr>
        </p:nvSpPr>
        <p:spPr>
          <a:xfrm>
            <a:off x="642600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fld id="{3F5303E4-4A77-4BED-BE74-7860378EEF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GoldenEagle-Nova.jpg?uselang=ru" TargetMode="External"/><Relationship Id="rId2" Type="http://schemas.openxmlformats.org/officeDocument/2006/relationships/hyperlink" Target="http://commons.wikimedia.org/wiki/File:Falco_cherrug_(Marek_Szczepanek).jpg?uselang=ru" TargetMode="External"/><Relationship Id="rId3" Type="http://schemas.openxmlformats.org/officeDocument/2006/relationships/hyperlink" Target="http://commons.wikimedia.org/wiki/File:Detenysh_surka-baibaka_v_ohotnichem_hozyaistve_Kamyshinskogo_raiona_Volgogradskoi_oblasti.jpg?uselang=ru" TargetMode="External"/><Relationship Id="rId4" Type="http://schemas.openxmlformats.org/officeDocument/2006/relationships/hyperlink" Target="http://commons.wikimedia.org/wiki/File:20070818-0001-strolling_reindeer.jpg?uselang=ru" TargetMode="External"/><Relationship Id="rId5" Type="http://schemas.openxmlformats.org/officeDocument/2006/relationships/hyperlink" Target="http://upload.wikimedia.org/wikipedia/commons/7/77/Beaver.jpg" TargetMode="External"/><Relationship Id="rId6" Type="http://schemas.openxmlformats.org/officeDocument/2006/relationships/hyperlink" Target="http://upload.wikimedia.org/wikipedia/commons/e/ed/Talpa_europaea_MHNT.jpg" TargetMode="External"/><Relationship Id="rId7" Type="http://schemas.openxmlformats.org/officeDocument/2006/relationships/hyperlink" Target="http://commons.wikimedia.org/wiki/File:AcorusCalamus.jpg?uselang=ru" TargetMode="External"/><Relationship Id="rId8" Type="http://schemas.openxmlformats.org/officeDocument/2006/relationships/hyperlink" Target="http://commons.wikimedia.org/wiki/File:Potentilla_erecta01.jpg?uselang=ru" TargetMode="External"/><Relationship Id="rId9" Type="http://schemas.openxmlformats.org/officeDocument/2006/relationships/hyperlink" Target="http://commons.wikimedia.org/wiki/File:Calluna_vulgaris_1.jpg?uselang=ru" TargetMode="External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Serengeti_Raubadler.jpg?uselang=ru" TargetMode="External"/><Relationship Id="rId2" Type="http://schemas.openxmlformats.org/officeDocument/2006/relationships/hyperlink" Target="http://commons.wikimedia.org/wiki/File:Grus_leucogeranus_male.jpg?uselang=ru" TargetMode="External"/><Relationship Id="rId3" Type="http://schemas.openxmlformats.org/officeDocument/2006/relationships/hyperlink" Target="http://commons.wikimedia.org/wiki/File:Lynx_lynx_poing.jpg?uselang=ru" TargetMode="External"/><Relationship Id="rId4" Type="http://schemas.openxmlformats.org/officeDocument/2006/relationships/hyperlink" Target="http://commons.wikimedia.org/wiki/File:Siberian_sturgeon.jpg?uselang=ru" TargetMode="External"/><Relationship Id="rId5" Type="http://schemas.openxmlformats.org/officeDocument/2006/relationships/hyperlink" Target="http://commons.wikimedia.org/wiki/File:Nelma_fish.JPG?uselang=ru" TargetMode="External"/><Relationship Id="rId6" Type="http://schemas.openxmlformats.org/officeDocument/2006/relationships/hyperlink" Target="http://commons.wikimedia.org/wiki/File:Cottus_gobio_(in_situ).jpg?uselang=ru" TargetMode="External"/><Relationship Id="rId7" Type="http://schemas.openxmlformats.org/officeDocument/2006/relationships/hyperlink" Target="http://commons.wikimedia.org/wiki/File:Nuphar_lutea_170803.jpg?uselang=ru" TargetMode="External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44360" y="187164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dc2300"/>
                </a:solidFill>
                <a:latin typeface="Constantia"/>
              </a:rPr>
              <a:t>КРАСНАЯ КНИГА ОМСКОЙ ОБЛАС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/>
          <p:nvPr/>
        </p:nvSpPr>
        <p:spPr>
          <a:xfrm>
            <a:off x="1368360" y="2697120"/>
            <a:ext cx="68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ПРЕЗЕНТАЦИЯ К УРОКУ  ПРИРОДОВЕДЕНИЯ </a:t>
            </a:r>
            <a:br>
              <a:rPr sz="2400"/>
            </a:b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                                 5 КЛАС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/>
          <p:nvPr/>
        </p:nvSpPr>
        <p:spPr>
          <a:xfrm>
            <a:off x="4076640" y="5216400"/>
            <a:ext cx="49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Учитель:   Лазаревич И.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БОУ г.Омска «СОШ № 31 с УИОП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52440" y="431640"/>
            <a:ext cx="79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</a:t>
            </a: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/>
          <p:nvPr/>
        </p:nvSpPr>
        <p:spPr>
          <a:xfrm>
            <a:off x="4726080" y="4178160"/>
            <a:ext cx="4032000" cy="2006640"/>
          </a:xfrm>
          <a:prstGeom prst="roundRect">
            <a:avLst>
              <a:gd name="adj" fmla="val 16667"/>
            </a:avLst>
          </a:prstGeom>
          <a:solidFill>
            <a:srgbClr val="e6c23e"/>
          </a:solidFill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РАСТЕНИ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ЛИШАЙНИ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164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"/>
          <p:cNvSpPr/>
          <p:nvPr/>
        </p:nvSpPr>
        <p:spPr>
          <a:xfrm>
            <a:off x="4751280" y="1593720"/>
            <a:ext cx="4032360" cy="2006640"/>
          </a:xfrm>
          <a:prstGeom prst="roundRect">
            <a:avLst>
              <a:gd name="adj" fmla="val 16667"/>
            </a:avLst>
          </a:prstGeom>
          <a:solidFill>
            <a:srgbClr val="e6c23e"/>
          </a:solidFill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2857680" cy="39006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</p:spPr>
      </p:pic>
      <p:cxnSp>
        <p:nvCxnSpPr>
          <p:cNvPr id="261" name=""/>
          <p:cNvCxnSpPr>
            <a:endCxn id="259" idx="1"/>
          </p:cNvCxnSpPr>
          <p:nvPr/>
        </p:nvCxnSpPr>
        <p:spPr>
          <a:xfrm flipV="1">
            <a:off x="3357360" y="2596680"/>
            <a:ext cx="1394280" cy="1140480"/>
          </a:xfrm>
          <a:prstGeom prst="straightConnector1">
            <a:avLst/>
          </a:prstGeom>
          <a:ln cap="sq"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62" name=""/>
          <p:cNvCxnSpPr>
            <a:endCxn id="258" idx="1"/>
          </p:cNvCxnSpPr>
          <p:nvPr/>
        </p:nvCxnSpPr>
        <p:spPr>
          <a:xfrm>
            <a:off x="3357360" y="3736440"/>
            <a:ext cx="1369080" cy="1445040"/>
          </a:xfrm>
          <a:prstGeom prst="straightConnector1">
            <a:avLst/>
          </a:prstGeom>
          <a:ln cap="sq" w="57240">
            <a:solidFill>
              <a:srgbClr val="c0000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6000" y="2109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>
            <a:off x="1655640" y="792000"/>
            <a:ext cx="2349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>
            <a:off x="1655640" y="3700440"/>
            <a:ext cx="16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КУБЫШК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>
            <a:off x="5241960" y="3882960"/>
            <a:ext cx="35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ЛАПЧАТКА ПРЯМОСТОЯЧАЯ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"/>
          <p:cNvSpPr/>
          <p:nvPr/>
        </p:nvSpPr>
        <p:spPr>
          <a:xfrm>
            <a:off x="5904000" y="6499080"/>
            <a:ext cx="244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АИР БОЛОТ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/>
          <p:cNvSpPr/>
          <p:nvPr/>
        </p:nvSpPr>
        <p:spPr>
          <a:xfrm>
            <a:off x="792000" y="6488280"/>
            <a:ext cx="354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Constantia"/>
              </a:rPr>
              <a:t>ВЕРЕСК ОБЫКНО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968720" y="4316400"/>
            <a:ext cx="3888000" cy="20923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079640" y="1655640"/>
            <a:ext cx="3095640" cy="19447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256360" y="1655640"/>
            <a:ext cx="3313080" cy="21592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60360" y="4248000"/>
            <a:ext cx="4103640" cy="20908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89080" y="287280"/>
            <a:ext cx="85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/>
          <p:nvPr/>
        </p:nvSpPr>
        <p:spPr>
          <a:xfrm>
            <a:off x="3025800" y="3879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СУРО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/>
          <p:nvPr/>
        </p:nvSpPr>
        <p:spPr>
          <a:xfrm>
            <a:off x="1224000" y="714240"/>
            <a:ext cx="25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36720" y="4464000"/>
            <a:ext cx="3311280" cy="21607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248000" y="1584360"/>
            <a:ext cx="3888000" cy="201600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896000" y="4176720"/>
            <a:ext cx="4032000" cy="215100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79" name=""/>
          <p:cNvSpPr/>
          <p:nvPr/>
        </p:nvSpPr>
        <p:spPr>
          <a:xfrm>
            <a:off x="6191280" y="6408720"/>
            <a:ext cx="19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БОБР РЕЧН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040360" y="3668760"/>
            <a:ext cx="244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692280" y="1584360"/>
            <a:ext cx="1900080" cy="25480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82" name=""/>
          <p:cNvSpPr/>
          <p:nvPr/>
        </p:nvSpPr>
        <p:spPr>
          <a:xfrm>
            <a:off x="2805120" y="3240000"/>
            <a:ext cx="795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РЫС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60360" y="287280"/>
            <a:ext cx="81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/>
          <p:nvPr/>
        </p:nvSpPr>
        <p:spPr>
          <a:xfrm>
            <a:off x="7128000" y="59040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БЕРКУ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/>
          <p:nvPr/>
        </p:nvSpPr>
        <p:spPr>
          <a:xfrm>
            <a:off x="725760" y="5832360"/>
            <a:ext cx="14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Constantia"/>
              </a:rPr>
              <a:t>БАЛОБ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"/>
          <p:cNvSpPr/>
          <p:nvPr/>
        </p:nvSpPr>
        <p:spPr>
          <a:xfrm>
            <a:off x="3589200" y="78588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16000" y="2519280"/>
            <a:ext cx="2519280" cy="27352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335640" y="2448000"/>
            <a:ext cx="2592360" cy="29527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168720" y="1587600"/>
            <a:ext cx="2735280" cy="223200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90" name=""/>
          <p:cNvSpPr/>
          <p:nvPr/>
        </p:nvSpPr>
        <p:spPr>
          <a:xfrm>
            <a:off x="3527280" y="4032360"/>
            <a:ext cx="187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ОРЕЛ СТЕПН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048120" y="4651200"/>
            <a:ext cx="2971800" cy="17146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92" name=""/>
          <p:cNvSpPr/>
          <p:nvPr/>
        </p:nvSpPr>
        <p:spPr>
          <a:xfrm>
            <a:off x="3384720" y="6492960"/>
            <a:ext cx="2135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Constantia"/>
              </a:rPr>
              <a:t>ЖУРАВЛЬ БЕЛ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0960" y="21600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197320" y="3808440"/>
            <a:ext cx="3586320" cy="25210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184720" y="1655640"/>
            <a:ext cx="3600360" cy="158436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378000" y="1944720"/>
            <a:ext cx="4230360" cy="410364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97" name=""/>
          <p:cNvSpPr/>
          <p:nvPr/>
        </p:nvSpPr>
        <p:spPr>
          <a:xfrm>
            <a:off x="503280" y="6264360"/>
            <a:ext cx="3897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ПОДКАМЕНЩИК СИБИРСК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"/>
          <p:cNvSpPr/>
          <p:nvPr/>
        </p:nvSpPr>
        <p:spPr>
          <a:xfrm>
            <a:off x="6337440" y="3306600"/>
            <a:ext cx="1150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НЕЛЬ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/>
          <p:nvPr/>
        </p:nvSpPr>
        <p:spPr>
          <a:xfrm>
            <a:off x="5761080" y="6410160"/>
            <a:ext cx="243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ОСЕТР СИБИРСК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/>
          <p:nvPr/>
        </p:nvSpPr>
        <p:spPr>
          <a:xfrm>
            <a:off x="1944720" y="720720"/>
            <a:ext cx="1366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РЫБ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76360" y="353880"/>
            <a:ext cx="79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</a:t>
            </a: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"/>
          <p:cNvSpPr/>
          <p:nvPr/>
        </p:nvSpPr>
        <p:spPr>
          <a:xfrm>
            <a:off x="647640" y="974880"/>
            <a:ext cx="7848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КАЖДЫЙ ЖИВУЩИЙ НА ПЛАНЕТЕ ДОЛЖЕН ПОНИМАТЬ,ЧТ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ПРИРОДА — ОЧЕНЬ ХРУПКИЙ ОРГАНИЗМ.РАЗРУШАЯ ПРИРОД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ЛЮДИ УНИЧТОЖАЮТ БУДУЩЕЕ!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БЕРЕГИТЕ ПРИРОДУ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72720" y="1944720"/>
            <a:ext cx="24112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"/>
          <p:cNvSpPr/>
          <p:nvPr/>
        </p:nvSpPr>
        <p:spPr>
          <a:xfrm>
            <a:off x="293760" y="4746600"/>
            <a:ext cx="327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254640"/>
            <a:ext cx="9156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http://commons.wikimedia.org/wiki/File:GoldenEagle-Nova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Берку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603600"/>
            <a:ext cx="8366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2"/>
              </a:rPr>
              <a:t>http://commons.wikimedia.org/wiki/File:Falco_cherrug_(Marek_Szczepanek)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Балоб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75904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3"/>
              </a:rPr>
              <a:t>http://commons.wikimedia.org/wiki/File:Detenysh_surka-baibaka_v_ohotnichem_hozyaistve_Kamyshinskogo_raiona_Volgogradskoi_oblasti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Сурок степн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392720"/>
            <a:ext cx="8640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4"/>
              </a:rPr>
              <a:t>http://commons.wikimedia.org/wiki/File:20070818-0001-strolling_reindeer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Северный олен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"/>
          <p:cNvSpPr/>
          <p:nvPr/>
        </p:nvSpPr>
        <p:spPr>
          <a:xfrm>
            <a:off x="17640" y="5184720"/>
            <a:ext cx="876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5"/>
              </a:rPr>
              <a:t>http://upload.wikimedia.org/wikipedia/commons/7/77/Beaver.jp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Бобр речн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"/>
          <p:cNvSpPr/>
          <p:nvPr/>
        </p:nvSpPr>
        <p:spPr>
          <a:xfrm>
            <a:off x="17640" y="5477040"/>
            <a:ext cx="84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6"/>
              </a:rPr>
              <a:t>http://upload.wikimedia.org/wikipedia/commons/e/ed/Talpa_europaea_MHNT.jp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Крот европейс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30032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7"/>
              </a:rPr>
              <a:t>http://commons.wikimedia.org/wiki/File:AcorusCalamus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Аир болот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"/>
          <p:cNvSpPr/>
          <p:nvPr/>
        </p:nvSpPr>
        <p:spPr>
          <a:xfrm>
            <a:off x="1440" y="1866960"/>
            <a:ext cx="9112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8"/>
              </a:rPr>
              <a:t>http://commons.wikimedia.org/wiki/File:Potentilla_erecta01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Лапчатка прямостояч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"/>
          <p:cNvSpPr/>
          <p:nvPr/>
        </p:nvSpPr>
        <p:spPr>
          <a:xfrm>
            <a:off x="1440" y="2376360"/>
            <a:ext cx="9112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9"/>
              </a:rPr>
              <a:t>http://commons.wikimedia.org/wiki/File:Calluna_vulgaris_1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Верес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"/>
          <p:cNvSpPr/>
          <p:nvPr/>
        </p:nvSpPr>
        <p:spPr>
          <a:xfrm>
            <a:off x="282600" y="287280"/>
            <a:ext cx="82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"/>
          <p:cNvSpPr/>
          <p:nvPr/>
        </p:nvSpPr>
        <p:spPr>
          <a:xfrm>
            <a:off x="352440" y="1003320"/>
            <a:ext cx="464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ИСОК ИСПОЛЬЗОВАННЫХ РЕСУРС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936720"/>
            <a:ext cx="8788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http://commons.wikimedia.org/wiki/File:Serengeti_Raubadler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- Орел степно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530360"/>
            <a:ext cx="8793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2"/>
              </a:rPr>
              <a:t>http://commons.wikimedia.org/wiki/File:Grus_leucogeranus_male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Журавль белы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"/>
          <p:cNvSpPr/>
          <p:nvPr/>
        </p:nvSpPr>
        <p:spPr>
          <a:xfrm>
            <a:off x="-9360" y="2151000"/>
            <a:ext cx="886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3"/>
              </a:rPr>
              <a:t>http://commons.wikimedia.org/wiki/File:Lynx_lynx_poing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Рыс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525760"/>
            <a:ext cx="8677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4"/>
              </a:rPr>
              <a:t>http://commons.wikimedia.org/wiki/File:Siberian_sturgeon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Осетр сибирск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157560"/>
            <a:ext cx="8712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5"/>
              </a:rPr>
              <a:t>http://commons.wikimedia.org/wiki/File:Nelma_fish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Нельм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527280"/>
            <a:ext cx="8567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6"/>
              </a:rPr>
              <a:t>http://commons.wikimedia.org/wiki/File:Cottus_gobio_(in_situ)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каменщик сибирск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168880"/>
            <a:ext cx="92851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Приложение N 2 к Постановлению Правительства Омской области от 6 июля 2005 г. N 76-п ПЕРЕЧЕНЬ РЕДКИХ И НАХОДЯЩИХСЯ ПОД УГРОЗОЙ ИСЧЕЗНОВЕНИЯ РАСТЕНИЙ И ДРУГИХ ОРГАНИЗМОВ, ЗАНЕСЕННЫХ В КРАСНУЮ КНИГУ ОМСКОЙ ОБЛАСТ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872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7"/>
              </a:rPr>
              <a:t>http://commons.wikimedia.org/wiki/File:Nuphar_lutea_170803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Кубышка желт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09:28:59Z</dcterms:created>
  <dc:creator/>
  <dc:description/>
  <dc:language>en-US</dc:language>
  <cp:lastModifiedBy/>
  <dcterms:modified xsi:type="dcterms:W3CDTF">2014-03-13T17:40:0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80000000000010250300207f7000400038000</vt:lpwstr>
  </property>
</Properties>
</file>