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52320" y="769680"/>
            <a:ext cx="5548320" cy="29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483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dt" idx="12"/>
          </p:nvPr>
        </p:nvSpPr>
        <p:spPr>
          <a:xfrm>
            <a:off x="38811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3"/>
          </p:nvPr>
        </p:nvSpPr>
        <p:spPr>
          <a:xfrm>
            <a:off x="-3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fld id="{0E5FC574-2839-42F2-ABA0-795840479A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8C92-54E4-4F9A-B94E-6DB2F41F8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F01E-A17C-4F69-ADDC-95ADA79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4E6B-1E6B-4430-B1B0-FBC3805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2E53-C029-40AE-8D40-4A2973141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F4C75-7593-40EF-98F7-03C050FDA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487D0-14F5-4619-8583-9BF28F41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784D4-BF5E-460F-8DFA-1D19542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9E807-26A0-4A65-B6EC-79BBC979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31E2D-9FFF-4BFF-B0FA-DACD6B94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2506A-67AB-4CA9-A2E4-A570F10C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10827-C1FA-4D86-93AA-3326EA3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7579-B60D-4F7A-8ACF-C5731225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5E4D0-CC4E-44CA-BC32-319E84F3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4C50E-7C13-474A-AE6C-E87E3036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23B82-5EDC-4214-A0A6-DBAEDA27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19FA5-8B87-450F-8DAB-73A239F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B55CB-B36A-4066-A947-67C887636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F248-7EFA-4AB8-BA19-2EBFE7F1D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8367-34ED-4476-AF23-121B4EA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F90-BA36-465E-AD3A-70AEA46D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25BB-3EC8-4C67-8D58-B0902395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E15-5E83-4ED8-A983-E6D0A55B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7551-1369-434F-AD92-049A4BD3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BA7-349C-4C98-8B35-3F4DDDDE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19C8-1D75-4229-84BC-4D126DF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6390-7523-42B8-8C4B-38A30C8A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33E-4894-4485-BDEA-7576F599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F5AF-751D-4046-861F-E237ECAB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6611-99E4-4BB8-AC5C-2161492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827D-963F-4463-920C-9827062CE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401CE-BC11-49AA-B237-CE8E65043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23EA6-F257-4285-836E-A125AC6C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74617-0569-4760-AED5-7CA09A6D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8452-6D8F-4350-95BD-A846DC0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23500-8CCB-4347-9955-24AABC0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F8AC1-3E78-415E-A6CB-C5A46C3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0A9AC-208E-4477-8979-8DE00DE9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712D2-A592-429F-9B22-6A5D961A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8AAC7-8DB7-4654-AB4B-9FD58B53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87AE4-2403-4B75-9E94-CFAFA554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25E2D-C12E-450C-B9A7-9521379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0DF1C-555D-4F00-B167-C4E8718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6B6D1-5BDB-4599-9D93-17E538EF4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72930-5FE7-4C6E-A2B7-D7CA2124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A3D9-380E-47D8-9C27-7BEE77B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DCFB7-FF04-4A6C-9785-7A3295B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30EF0-84B1-4352-950B-D110B41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F9E0B-B9D7-41CD-A82E-E8EDE789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7BAF6-51B8-47AB-B3DA-F565F2E2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9B4FD-2A2E-4FD8-8A97-EC93BB61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CCED2-0AF9-4F2F-BB24-EE257DF7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A60F8-0AAE-4ACD-873B-4803BDE9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AB1EE-154A-448D-BB6A-66A9C9C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58F83-08CD-4777-8011-9D3EE75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AE087-0191-4149-BC5C-85CDA7EF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699F-1511-40D6-84E0-CC1AE5B1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59112-4D6B-4DAF-ABEC-19E1C20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A873-43BB-42F0-84BC-B6CD8113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A9EF-47E6-4597-844F-3F68380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6D48-60A8-4057-9AC9-E140FCC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fld id="{84523023-9021-4959-8521-8AA87E3848A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86B1E520-F1F6-4750-892F-D9D1E42392B9}" type="slidenum"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2962CA6D-AF30-459C-B5BF-0573750E6409}" type="slidenum"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99F344F5-404C-48B6-AB5D-5276F0CA235F}" type="slidenum">
              <a: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58716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42600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fld id="{AD97364F-1777-4289-A392-BF4A58FBD3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GoldenEagle-Nova.jpg?uselang=ru" TargetMode="External"/><Relationship Id="rId2" Type="http://schemas.openxmlformats.org/officeDocument/2006/relationships/hyperlink" Target="http://commons.wikimedia.org/wiki/File:Falco_cherrug_(Marek_Szczepanek).jpg?uselang=ru" TargetMode="External"/><Relationship Id="rId3" Type="http://schemas.openxmlformats.org/officeDocument/2006/relationships/hyperlink" Target="http://commons.wikimedia.org/wiki/File:Detenysh_surka-baibaka_v_ohotnichem_hozyaistve_Kamyshinskogo_raiona_Volgogradskoi_oblasti.jpg?uselang=ru" TargetMode="External"/><Relationship Id="rId4" Type="http://schemas.openxmlformats.org/officeDocument/2006/relationships/hyperlink" Target="http://commons.wikimedia.org/wiki/File:20070818-0001-strolling_reindeer.jpg?uselang=ru" TargetMode="External"/><Relationship Id="rId5" Type="http://schemas.openxmlformats.org/officeDocument/2006/relationships/hyperlink" Target="http://upload.wikimedia.org/wikipedia/commons/7/77/Beaver.jpg" TargetMode="External"/><Relationship Id="rId6" Type="http://schemas.openxmlformats.org/officeDocument/2006/relationships/hyperlink" Target="http://upload.wikimedia.org/wikipedia/commons/e/ed/Talpa_europaea_MHNT.jpg" TargetMode="External"/><Relationship Id="rId7" Type="http://schemas.openxmlformats.org/officeDocument/2006/relationships/hyperlink" Target="http://commons.wikimedia.org/wiki/File:AcorusCalamus.jpg?uselang=ru" TargetMode="External"/><Relationship Id="rId8" Type="http://schemas.openxmlformats.org/officeDocument/2006/relationships/hyperlink" Target="http://commons.wikimedia.org/wiki/File:Potentilla_erecta01.jpg?uselang=ru" TargetMode="External"/><Relationship Id="rId9" Type="http://schemas.openxmlformats.org/officeDocument/2006/relationships/hyperlink" Target="http://commons.wikimedia.org/wiki/File:Calluna_vulgaris_1.jpg?uselang=ru" TargetMode="External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Serengeti_Raubadler.jpg?uselang=ru" TargetMode="External"/><Relationship Id="rId2" Type="http://schemas.openxmlformats.org/officeDocument/2006/relationships/hyperlink" Target="http://commons.wikimedia.org/wiki/File:Grus_leucogeranus_male.jpg?uselang=ru" TargetMode="External"/><Relationship Id="rId3" Type="http://schemas.openxmlformats.org/officeDocument/2006/relationships/hyperlink" Target="http://commons.wikimedia.org/wiki/File:Lynx_lynx_poing.jpg?uselang=ru" TargetMode="External"/><Relationship Id="rId4" Type="http://schemas.openxmlformats.org/officeDocument/2006/relationships/hyperlink" Target="http://commons.wikimedia.org/wiki/File:Siberian_sturgeon.jpg?uselang=ru" TargetMode="External"/><Relationship Id="rId5" Type="http://schemas.openxmlformats.org/officeDocument/2006/relationships/hyperlink" Target="http://commons.wikimedia.org/wiki/File:Nelma_fish.JPG?uselang=ru" TargetMode="External"/><Relationship Id="rId6" Type="http://schemas.openxmlformats.org/officeDocument/2006/relationships/hyperlink" Target="http://commons.wikimedia.org/wiki/File:Cottus_gobio_(in_situ).jpg?uselang=ru" TargetMode="External"/><Relationship Id="rId7" Type="http://schemas.openxmlformats.org/officeDocument/2006/relationships/hyperlink" Target="http://commons.wikimedia.org/wiki/File:Nuphar_lutea_170803.jpg?uselang=ru" TargetMode="External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4360" y="187164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dc2300"/>
                </a:solidFill>
                <a:latin typeface="Constantia"/>
              </a:rPr>
              <a:t>КРАСНАЯ КНИГА ОМСКОЙ ОБЛА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1368360" y="269712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ПРЕЗЕНТАЦИЯ К УРОКУ  ПРИРОДОВЕДЕНИЯ </a:t>
            </a:r>
            <a:br>
              <a:rPr sz="2400"/>
            </a:b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                                 5 КЛАС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4076640" y="5216400"/>
            <a:ext cx="49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Учитель:   Лазаревич И.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БОУ г.Омска «СОШ № 31 с УИОП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52440" y="431640"/>
            <a:ext cx="79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</a:t>
            </a: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/>
          <p:nvPr/>
        </p:nvSpPr>
        <p:spPr>
          <a:xfrm>
            <a:off x="4726080" y="4178160"/>
            <a:ext cx="4032000" cy="2006640"/>
          </a:xfrm>
          <a:prstGeom prst="roundRect">
            <a:avLst>
              <a:gd name="adj" fmla="val 16667"/>
            </a:avLst>
          </a:prstGeom>
          <a:solidFill>
            <a:srgbClr val="e6c23e"/>
          </a:solidFill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РАСТЕН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164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/>
          <p:nvPr/>
        </p:nvSpPr>
        <p:spPr>
          <a:xfrm>
            <a:off x="4751280" y="1593720"/>
            <a:ext cx="4032360" cy="2006640"/>
          </a:xfrm>
          <a:prstGeom prst="roundRect">
            <a:avLst>
              <a:gd name="adj" fmla="val 16667"/>
            </a:avLst>
          </a:prstGeom>
          <a:solidFill>
            <a:srgbClr val="e6c23e"/>
          </a:solidFill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857680" cy="39006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</p:spPr>
      </p:pic>
      <p:cxnSp>
        <p:nvCxnSpPr>
          <p:cNvPr id="261" name=""/>
          <p:cNvCxnSpPr>
            <a:endCxn id="259" idx="1"/>
          </p:cNvCxnSpPr>
          <p:nvPr/>
        </p:nvCxnSpPr>
        <p:spPr>
          <a:xfrm flipV="1">
            <a:off x="3357360" y="2596680"/>
            <a:ext cx="1394280" cy="114048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62" name=""/>
          <p:cNvCxnSpPr>
            <a:endCxn id="258" idx="1"/>
          </p:cNvCxnSpPr>
          <p:nvPr/>
        </p:nvCxnSpPr>
        <p:spPr>
          <a:xfrm>
            <a:off x="3357360" y="3736440"/>
            <a:ext cx="1369080" cy="144504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6000" y="2109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1655640" y="792000"/>
            <a:ext cx="2349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1655640" y="3700440"/>
            <a:ext cx="16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КУБЫШ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>
            <a:off x="5241960" y="3882960"/>
            <a:ext cx="35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ЛАПЧАТКА ПРЯМОСТОЯЧА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/>
          <p:nvPr/>
        </p:nvSpPr>
        <p:spPr>
          <a:xfrm>
            <a:off x="5904000" y="6499080"/>
            <a:ext cx="244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АИР БОЛО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/>
          <p:nvPr/>
        </p:nvSpPr>
        <p:spPr>
          <a:xfrm>
            <a:off x="792000" y="6488280"/>
            <a:ext cx="354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ВЕРЕСК ОБЫКНО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968720" y="4316400"/>
            <a:ext cx="3888000" cy="20923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79640" y="1655640"/>
            <a:ext cx="3095640" cy="1944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256360" y="1655640"/>
            <a:ext cx="3313080" cy="21592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60360" y="4248000"/>
            <a:ext cx="4103640" cy="20908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9080" y="28728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3025800" y="3879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СУРО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/>
          <p:nvPr/>
        </p:nvSpPr>
        <p:spPr>
          <a:xfrm>
            <a:off x="1224000" y="71424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36720" y="4464000"/>
            <a:ext cx="3311280" cy="2160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48000" y="1584360"/>
            <a:ext cx="3888000" cy="2016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896000" y="4176720"/>
            <a:ext cx="4032000" cy="2151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79" name=""/>
          <p:cNvSpPr/>
          <p:nvPr/>
        </p:nvSpPr>
        <p:spPr>
          <a:xfrm>
            <a:off x="6191280" y="6408720"/>
            <a:ext cx="19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БОБР РЕЧ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40360" y="3668760"/>
            <a:ext cx="244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692280" y="1584360"/>
            <a:ext cx="1900080" cy="25480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82" name=""/>
          <p:cNvSpPr/>
          <p:nvPr/>
        </p:nvSpPr>
        <p:spPr>
          <a:xfrm>
            <a:off x="2805120" y="3240000"/>
            <a:ext cx="795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РЫС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60360" y="28728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/>
          <p:nvPr/>
        </p:nvSpPr>
        <p:spPr>
          <a:xfrm>
            <a:off x="7128000" y="5904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БЕРКУ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/>
          <p:nvPr/>
        </p:nvSpPr>
        <p:spPr>
          <a:xfrm>
            <a:off x="725760" y="583236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БАЛОБ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3589200" y="78588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16000" y="2519280"/>
            <a:ext cx="2519280" cy="27352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335640" y="2448000"/>
            <a:ext cx="2592360" cy="2952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168720" y="1587600"/>
            <a:ext cx="2735280" cy="2232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0" name=""/>
          <p:cNvSpPr/>
          <p:nvPr/>
        </p:nvSpPr>
        <p:spPr>
          <a:xfrm>
            <a:off x="3527280" y="4032360"/>
            <a:ext cx="18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ОРЕЛ СТЕП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048120" y="4651200"/>
            <a:ext cx="2971800" cy="17146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2" name=""/>
          <p:cNvSpPr/>
          <p:nvPr/>
        </p:nvSpPr>
        <p:spPr>
          <a:xfrm>
            <a:off x="3384720" y="6492960"/>
            <a:ext cx="213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ЖУРАВЛЬ БЕЛ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0960" y="2160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97320" y="3808440"/>
            <a:ext cx="3586320" cy="25210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184720" y="1655640"/>
            <a:ext cx="3600360" cy="158436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78000" y="1944720"/>
            <a:ext cx="4230360" cy="410364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7" name=""/>
          <p:cNvSpPr/>
          <p:nvPr/>
        </p:nvSpPr>
        <p:spPr>
          <a:xfrm>
            <a:off x="503280" y="6264360"/>
            <a:ext cx="389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ПОДКАМЕНЩИК СИБИР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/>
          <p:nvPr/>
        </p:nvSpPr>
        <p:spPr>
          <a:xfrm>
            <a:off x="6337440" y="3306600"/>
            <a:ext cx="11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НЕЛЬ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/>
          <p:nvPr/>
        </p:nvSpPr>
        <p:spPr>
          <a:xfrm>
            <a:off x="5761080" y="6410160"/>
            <a:ext cx="243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ОСЕТР СИБИР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/>
          <p:nvPr/>
        </p:nvSpPr>
        <p:spPr>
          <a:xfrm>
            <a:off x="1944720" y="720720"/>
            <a:ext cx="136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РЫБ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76360" y="353880"/>
            <a:ext cx="79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</a:t>
            </a: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974880"/>
            <a:ext cx="7848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КАЖДЫЙ ЖИВУЩИЙ НА ПЛАНЕТЕ ДОЛЖЕН ПОНИМАТЬ,ЧТ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ПРИРОДА — ОЧЕНЬ ХРУПКИЙ ОРГАНИЗМ.РАЗРУШАЯ ПРИРОД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ЛЮДИ УНИЧТОЖАЮТ БУДУЩЕЕ!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БЕРЕГИТЕ ПРИРОДУ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72720" y="1944720"/>
            <a:ext cx="2411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4746600"/>
            <a:ext cx="327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254640"/>
            <a:ext cx="9156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commons.wikimedia.org/wiki/File:GoldenEagle-Nova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Берку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603600"/>
            <a:ext cx="8366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commons.wikimedia.org/wiki/File:Falco_cherrug_(Marek_Szczepanek)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Балоб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7590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http://commons.wikimedia.org/wiki/File:Detenysh_surka-baibaka_v_ohotnichem_hozyaistve_Kamyshinskogo_raiona_Volgogradskoi_oblasti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Сурок степн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392720"/>
            <a:ext cx="8640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http://commons.wikimedia.org/wiki/File:20070818-0001-strolling_reindeer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Северный олен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"/>
          <p:cNvSpPr/>
          <p:nvPr/>
        </p:nvSpPr>
        <p:spPr>
          <a:xfrm>
            <a:off x="17640" y="5184720"/>
            <a:ext cx="876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http://upload.wikimedia.org/wikipedia/commons/7/77/Beaver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Бобр речн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"/>
          <p:cNvSpPr/>
          <p:nvPr/>
        </p:nvSpPr>
        <p:spPr>
          <a:xfrm>
            <a:off x="17640" y="5477040"/>
            <a:ext cx="84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6"/>
              </a:rPr>
              <a:t>http://upload.wikimedia.org/wikipedia/commons/e/ed/Talpa_europaea_MHNT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Крот европей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0032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7"/>
              </a:rPr>
              <a:t>http://commons.wikimedia.org/wiki/File:AcorusCalamus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Аир боло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1440" y="1866960"/>
            <a:ext cx="9112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8"/>
              </a:rPr>
              <a:t>http://commons.wikimedia.org/wiki/File:Potentilla_erecta01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Лапчатка прямостояч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1440" y="2376360"/>
            <a:ext cx="9112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9"/>
              </a:rPr>
              <a:t>http://commons.wikimedia.org/wiki/File:Calluna_vulgaris_1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Верес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/>
          <p:nvPr/>
        </p:nvSpPr>
        <p:spPr>
          <a:xfrm>
            <a:off x="282600" y="287280"/>
            <a:ext cx="82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"/>
          <p:cNvSpPr/>
          <p:nvPr/>
        </p:nvSpPr>
        <p:spPr>
          <a:xfrm>
            <a:off x="352440" y="1003320"/>
            <a:ext cx="464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СОК ИСПОЛЬЗОВАННЫХ РЕСУР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36720"/>
            <a:ext cx="8788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commons.wikimedia.org/wiki/File:Serengeti_Raubadler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- Орел степн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530360"/>
            <a:ext cx="8793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commons.wikimedia.org/wiki/File:Grus_leucogeranus_male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уравль бел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"/>
          <p:cNvSpPr/>
          <p:nvPr/>
        </p:nvSpPr>
        <p:spPr>
          <a:xfrm>
            <a:off x="-9360" y="2151000"/>
            <a:ext cx="886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http://commons.wikimedia.org/wiki/File:Lynx_lynx_poing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Рыс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25760"/>
            <a:ext cx="8677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http://commons.wikimedia.org/wiki/File:Siberian_sturgeon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Осетр сибирск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157560"/>
            <a:ext cx="871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http://commons.wikimedia.org/wiki/File:Nelma_fish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Нельм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527280"/>
            <a:ext cx="8567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6"/>
              </a:rPr>
              <a:t>http://commons.wikimedia.org/wiki/File:Cottus_gobio_(in_situ)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каменщик сибирск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68880"/>
            <a:ext cx="9285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Приложение N 2 к Постановлению Правительства Омской области от 6 июля 2005 г. N 76-п ПЕРЕЧЕНЬ РЕДКИХ И НАХОДЯЩИХСЯ ПОД УГРОЗОЙ ИСЧЕЗНОВЕНИЯ РАСТЕНИЙ И ДРУГИХ ОРГАНИЗМОВ, ЗАНЕСЕННЫХ В КРАСНУЮ КНИГУ ОМСКОЙ ОБЛАСТ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872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7"/>
              </a:rPr>
              <a:t>http://commons.wikimedia.org/wiki/File:Nuphar_lutea_170803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Кубышка желт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09:28:59Z</dcterms:created>
  <dc:creator/>
  <dc:description/>
  <dc:language>en-US</dc:language>
  <cp:lastModifiedBy/>
  <dcterms:modified xsi:type="dcterms:W3CDTF">2014-03-13T17:40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80000000000010250300207f7000400038000</vt:lpwstr>
  </property>
</Properties>
</file>