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52320" y="769680"/>
            <a:ext cx="5548320" cy="29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52320" y="4001760"/>
            <a:ext cx="554832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dt" idx="12"/>
          </p:nvPr>
        </p:nvSpPr>
        <p:spPr>
          <a:xfrm>
            <a:off x="3881160" y="-36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3"/>
          </p:nvPr>
        </p:nvSpPr>
        <p:spPr>
          <a:xfrm>
            <a:off x="-3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4"/>
          </p:nvPr>
        </p:nvSpPr>
        <p:spPr>
          <a:xfrm>
            <a:off x="3881160" y="8686440"/>
            <a:ext cx="2973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fld id="{FBC6FDC7-C3DE-40BD-A801-F70530C005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04EE-38FE-4392-8923-F3BF058870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56CE-9CF8-4F69-925B-5CEA87DF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EAB7-86B1-40D3-9530-1E791B7F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85A6-C572-4B7D-A7BF-580C97B4D9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A3A91-984B-4EC2-91CA-8D37F0CE17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3CCF2-A49F-4CCE-BB08-28140B90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386F3-E9E5-44B1-9348-52E3BFAE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E253E-8345-4903-B1B4-3191509F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F84C7-4824-47BD-AC87-1487C5F9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61DA0-0C9D-454B-BE4E-2F9B656B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017BC-572A-427F-98F2-60E61AD0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9CD60-DE66-455F-94AC-D4476F9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FC781-03B2-4808-8EC4-A933E108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8D78D-C44E-40F6-A29F-82F2E1BD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8C6D6-C938-4085-8964-A26EDDB9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816A8-0F73-4C34-9D82-6699B761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13932-C34C-45E6-902B-5D0C73E013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ED0F-30BF-4675-BE3D-59CC68F84C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2BAF-D9D7-4C1F-9114-F799BFCF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D945-7354-4F43-95F0-D6AE76EB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2D6C-2254-4F9E-9401-2A20F80B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93ED-63D5-4350-A2D3-FA90B2D6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CDF8-7F84-4394-AA41-8DCD8946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A2FA-D540-4DA1-8687-D3FD437E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6B65-9552-4932-AA89-F5228EB7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FE03-D71C-48AF-A62E-DA6FF94A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E7E2-63AD-4DD2-AB9A-E552EBE5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A2CF-B224-415F-8C56-F07D4DEC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614E-6C1D-4F3D-8FD2-4214B918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D566-C574-4CC7-AA31-BE3EC410C9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5E053-F0EE-43AE-AE40-B69FE160D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60196-AE1F-4B02-8FB7-7ACB549C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54EAC-D127-42B9-B9B9-2730C86F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7C62-EF24-430D-A45F-351E5578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D585A-5C97-48FB-BCCB-7587FECA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8659E-3305-4992-A39C-48771B40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5CEFB-EC50-4CAD-8C91-07288154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69846-91FB-4FD5-A0A5-6B2F6DFC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13CEB-760D-42F3-9F86-49C4EB1A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BA93B-E31A-496A-9F52-A9CCCDF2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E892B-5040-4907-88F3-62F97F04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36967-7C71-47B6-9AF1-A716064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20DF7-78F7-4AAE-99E2-AE62E48C99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79B7C8-52D8-4955-8A1F-EA2456FB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1338-841C-4236-9058-B1C0F35A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E65D95-8E6E-4A8F-A36B-E69886ED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38365-C11D-4B0E-901E-F9236241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CB87D-3DEA-4B16-A8F5-0510C965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5E99D-CFB8-4D37-8D27-1FD7BF02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1A7E1-D34C-44F5-912A-DBC29E7C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B14A0-4739-421C-9C27-8577D41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71040-B7D0-4929-B7D2-CC5F9F1C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0EA66-AC9C-4924-8244-21C189F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6A080-A4A3-4408-BF1B-C7B0D616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AB085-EA87-4CC7-8D31-4F5EC6E9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028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94E8-83E8-498C-880B-C3F44426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8220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865480" y="165420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9856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8220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865480" y="4422960"/>
            <a:ext cx="23648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2D0BC-4A43-4E25-9E33-56F39F16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8AB4-819B-4EC9-AB2C-E41C82E5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2720" y="442296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0A2F-A6E0-48D0-8CAF-B7A69EBA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2720" y="1654200"/>
            <a:ext cx="358452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98560" y="4422960"/>
            <a:ext cx="7345440" cy="2528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D423-98C9-4FE7-99FD-615B23E8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fld id="{E1E62950-BE49-4D4B-A297-37F63A66115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fld id="{0F81EE68-C00C-40FE-BA18-AB9A967D30AF}" type="slidenum"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fld id="{96351D5F-AD65-4880-B31E-E185A66BEF7B}" type="slidenum">
              <a:rPr b="0" lang="ru-RU" sz="1200" spc="-1" strike="noStrike">
                <a:solidFill>
                  <a:srgbClr val="d4d4d4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d0808"/>
            </a:gs>
          </a:gsLst>
          <a:lin ang="16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-19080" y="247680"/>
              <a:ext cx="9175680" cy="560520"/>
              <a:chOff x="-19080" y="247680"/>
              <a:chExt cx="9175680" cy="560520"/>
            </a:xfrm>
          </p:grpSpPr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5984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8235"/>
                </a:srgbClr>
              </a:gs>
              <a:gs pos="100000">
                <a:srgbClr val="a52fa9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8235"/>
                </a:srgbClr>
              </a:gs>
              <a:gs pos="100000">
                <a:srgbClr val="2e7a81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683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fld id="{C882A34A-4DAC-4492-8AFD-65B4A53A6C75}" type="slidenum">
              <a:rPr b="0" lang="ru-RU" sz="1200" spc="-1" strike="noStrike">
                <a:solidFill>
                  <a:srgbClr val="3f405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028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8560" y="1654200"/>
            <a:ext cx="734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9"/>
          </p:nvPr>
        </p:nvSpPr>
        <p:spPr>
          <a:xfrm>
            <a:off x="58716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0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1"/>
          </p:nvPr>
        </p:nvSpPr>
        <p:spPr>
          <a:xfrm>
            <a:off x="642600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  <a:tab algn="l" pos="10734840"/>
              </a:tabLst>
            </a:pPr>
            <a:fld id="{70268978-E47E-4EC5-97D2-81F0467B1D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GoldenEagle-Nova.jpg?uselang=ru" TargetMode="External"/><Relationship Id="rId2" Type="http://schemas.openxmlformats.org/officeDocument/2006/relationships/hyperlink" Target="http://commons.wikimedia.org/wiki/File:Falco_cherrug_(Marek_Szczepanek).jpg?uselang=ru" TargetMode="External"/><Relationship Id="rId3" Type="http://schemas.openxmlformats.org/officeDocument/2006/relationships/hyperlink" Target="http://commons.wikimedia.org/wiki/File:Detenysh_surka-baibaka_v_ohotnichem_hozyaistve_Kamyshinskogo_raiona_Volgogradskoi_oblasti.jpg?uselang=ru" TargetMode="External"/><Relationship Id="rId4" Type="http://schemas.openxmlformats.org/officeDocument/2006/relationships/hyperlink" Target="http://commons.wikimedia.org/wiki/File:20070818-0001-strolling_reindeer.jpg?uselang=ru" TargetMode="External"/><Relationship Id="rId5" Type="http://schemas.openxmlformats.org/officeDocument/2006/relationships/hyperlink" Target="http://upload.wikimedia.org/wikipedia/commons/7/77/Beaver.jpg" TargetMode="External"/><Relationship Id="rId6" Type="http://schemas.openxmlformats.org/officeDocument/2006/relationships/hyperlink" Target="http://upload.wikimedia.org/wikipedia/commons/e/ed/Talpa_europaea_MHNT.jpg" TargetMode="External"/><Relationship Id="rId7" Type="http://schemas.openxmlformats.org/officeDocument/2006/relationships/hyperlink" Target="http://commons.wikimedia.org/wiki/File:AcorusCalamus.jpg?uselang=ru" TargetMode="External"/><Relationship Id="rId8" Type="http://schemas.openxmlformats.org/officeDocument/2006/relationships/hyperlink" Target="http://commons.wikimedia.org/wiki/File:Potentilla_erecta01.jpg?uselang=ru" TargetMode="External"/><Relationship Id="rId9" Type="http://schemas.openxmlformats.org/officeDocument/2006/relationships/hyperlink" Target="http://commons.wikimedia.org/wiki/File:Calluna_vulgaris_1.jpg?uselang=ru" TargetMode="External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Serengeti_Raubadler.jpg?uselang=ru" TargetMode="External"/><Relationship Id="rId2" Type="http://schemas.openxmlformats.org/officeDocument/2006/relationships/hyperlink" Target="http://commons.wikimedia.org/wiki/File:Grus_leucogeranus_male.jpg?uselang=ru" TargetMode="External"/><Relationship Id="rId3" Type="http://schemas.openxmlformats.org/officeDocument/2006/relationships/hyperlink" Target="http://commons.wikimedia.org/wiki/File:Lynx_lynx_poing.jpg?uselang=ru" TargetMode="External"/><Relationship Id="rId4" Type="http://schemas.openxmlformats.org/officeDocument/2006/relationships/hyperlink" Target="http://commons.wikimedia.org/wiki/File:Siberian_sturgeon.jpg?uselang=ru" TargetMode="External"/><Relationship Id="rId5" Type="http://schemas.openxmlformats.org/officeDocument/2006/relationships/hyperlink" Target="http://commons.wikimedia.org/wiki/File:Nelma_fish.JPG?uselang=ru" TargetMode="External"/><Relationship Id="rId6" Type="http://schemas.openxmlformats.org/officeDocument/2006/relationships/hyperlink" Target="http://commons.wikimedia.org/wiki/File:Cottus_gobio_(in_situ).jpg?uselang=ru" TargetMode="External"/><Relationship Id="rId7" Type="http://schemas.openxmlformats.org/officeDocument/2006/relationships/hyperlink" Target="http://commons.wikimedia.org/wiki/File:Nuphar_lutea_170803.jpg?uselang=ru" TargetMode="External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44360" y="187164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dc2300"/>
                </a:solidFill>
                <a:latin typeface="Constantia"/>
              </a:rPr>
              <a:t>КРАСНАЯ КНИГА ОМСКОЙ ОБЛАС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/>
          <p:nvPr/>
        </p:nvSpPr>
        <p:spPr>
          <a:xfrm>
            <a:off x="1368360" y="2697120"/>
            <a:ext cx="68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ПРЕЗЕНТАЦИЯ К УРОКУ  ПРИРОДОВЕДЕНИЯ </a:t>
            </a:r>
            <a:br>
              <a:rPr sz="2400"/>
            </a:b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                                 5 КЛАС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/>
          <p:nvPr/>
        </p:nvSpPr>
        <p:spPr>
          <a:xfrm>
            <a:off x="4076640" y="5216400"/>
            <a:ext cx="49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Учитель:   Лазаревич И.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Times New Roman"/>
              </a:rPr>
              <a:t>БОУ г.Омска «СОШ № 31 с УИОП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52440" y="431640"/>
            <a:ext cx="79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</a:t>
            </a: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/>
          <p:nvPr/>
        </p:nvSpPr>
        <p:spPr>
          <a:xfrm>
            <a:off x="4726080" y="4178160"/>
            <a:ext cx="4032000" cy="2006640"/>
          </a:xfrm>
          <a:prstGeom prst="roundRect">
            <a:avLst>
              <a:gd name="adj" fmla="val 16667"/>
            </a:avLst>
          </a:prstGeom>
          <a:solidFill>
            <a:srgbClr val="e6c23e"/>
          </a:solidFill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РАСТЕНИ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ЛИШАЙНИ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  <a:ea typeface="Times New Roman"/>
              </a:rPr>
              <a:t>164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"/>
          <p:cNvSpPr/>
          <p:nvPr/>
        </p:nvSpPr>
        <p:spPr>
          <a:xfrm>
            <a:off x="4751280" y="1593720"/>
            <a:ext cx="4032360" cy="2006640"/>
          </a:xfrm>
          <a:prstGeom prst="roundRect">
            <a:avLst>
              <a:gd name="adj" fmla="val 16667"/>
            </a:avLst>
          </a:prstGeom>
          <a:solidFill>
            <a:srgbClr val="e6c23e"/>
          </a:solidFill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623316"/>
                </a:solidFill>
                <a:latin typeface="Times New Roman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2857680" cy="3900600"/>
          </a:xfrm>
          <a:prstGeom prst="rect">
            <a:avLst/>
          </a:prstGeom>
          <a:ln cap="sq" w="57240">
            <a:solidFill>
              <a:srgbClr val="c00000"/>
            </a:solidFill>
            <a:miter/>
          </a:ln>
        </p:spPr>
      </p:pic>
      <p:cxnSp>
        <p:nvCxnSpPr>
          <p:cNvPr id="261" name=""/>
          <p:cNvCxnSpPr>
            <a:endCxn id="259" idx="1"/>
          </p:cNvCxnSpPr>
          <p:nvPr/>
        </p:nvCxnSpPr>
        <p:spPr>
          <a:xfrm flipV="1">
            <a:off x="3357360" y="2596680"/>
            <a:ext cx="1394280" cy="1140480"/>
          </a:xfrm>
          <a:prstGeom prst="straightConnector1">
            <a:avLst/>
          </a:prstGeom>
          <a:ln cap="sq"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62" name=""/>
          <p:cNvCxnSpPr>
            <a:endCxn id="258" idx="1"/>
          </p:cNvCxnSpPr>
          <p:nvPr/>
        </p:nvCxnSpPr>
        <p:spPr>
          <a:xfrm>
            <a:off x="3357360" y="3736440"/>
            <a:ext cx="1369080" cy="1445040"/>
          </a:xfrm>
          <a:prstGeom prst="straightConnector1">
            <a:avLst/>
          </a:prstGeom>
          <a:ln cap="sq" w="57240">
            <a:solidFill>
              <a:srgbClr val="c0000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6000" y="2109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>
            <a:off x="1655640" y="792000"/>
            <a:ext cx="2349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>
            <a:off x="1655640" y="3700440"/>
            <a:ext cx="16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КУБЫШК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>
            <a:off x="5241960" y="3882960"/>
            <a:ext cx="35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ЛАПЧАТКА ПРЯМОСТОЯЧАЯ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"/>
          <p:cNvSpPr/>
          <p:nvPr/>
        </p:nvSpPr>
        <p:spPr>
          <a:xfrm>
            <a:off x="5904000" y="6499080"/>
            <a:ext cx="244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АИР БОЛОТ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/>
          <p:cNvSpPr/>
          <p:nvPr/>
        </p:nvSpPr>
        <p:spPr>
          <a:xfrm>
            <a:off x="792000" y="6488280"/>
            <a:ext cx="354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Constantia"/>
              </a:rPr>
              <a:t>ВЕРЕСК ОБЫКНО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968720" y="4316400"/>
            <a:ext cx="3888000" cy="20923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079640" y="1655640"/>
            <a:ext cx="3095640" cy="19447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256360" y="1655640"/>
            <a:ext cx="3313080" cy="21592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60360" y="4248000"/>
            <a:ext cx="4103640" cy="20908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89080" y="287280"/>
            <a:ext cx="85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/>
          <p:nvPr/>
        </p:nvSpPr>
        <p:spPr>
          <a:xfrm>
            <a:off x="3025800" y="3879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СУРО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/>
          <p:nvPr/>
        </p:nvSpPr>
        <p:spPr>
          <a:xfrm>
            <a:off x="1224000" y="714240"/>
            <a:ext cx="25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36720" y="4464000"/>
            <a:ext cx="3311280" cy="21607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248000" y="1584360"/>
            <a:ext cx="3888000" cy="201600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896000" y="4176720"/>
            <a:ext cx="4032000" cy="215100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79" name=""/>
          <p:cNvSpPr/>
          <p:nvPr/>
        </p:nvSpPr>
        <p:spPr>
          <a:xfrm>
            <a:off x="6191280" y="6408720"/>
            <a:ext cx="19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БОБР РЕЧН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040360" y="3668760"/>
            <a:ext cx="244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692280" y="1584360"/>
            <a:ext cx="1900080" cy="25480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82" name=""/>
          <p:cNvSpPr/>
          <p:nvPr/>
        </p:nvSpPr>
        <p:spPr>
          <a:xfrm>
            <a:off x="2805120" y="3240000"/>
            <a:ext cx="795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dc2300"/>
                </a:solidFill>
                <a:latin typeface="Constantia"/>
              </a:rPr>
              <a:t>РЫС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60360" y="287280"/>
            <a:ext cx="81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/>
          <p:nvPr/>
        </p:nvSpPr>
        <p:spPr>
          <a:xfrm>
            <a:off x="7128000" y="59040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БЕРКУ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/>
          <p:nvPr/>
        </p:nvSpPr>
        <p:spPr>
          <a:xfrm>
            <a:off x="725760" y="5832360"/>
            <a:ext cx="14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Constantia"/>
              </a:rPr>
              <a:t>БАЛОБ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"/>
          <p:cNvSpPr/>
          <p:nvPr/>
        </p:nvSpPr>
        <p:spPr>
          <a:xfrm>
            <a:off x="3589200" y="78588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16000" y="2519280"/>
            <a:ext cx="2519280" cy="27352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335640" y="2448000"/>
            <a:ext cx="2592360" cy="295272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168720" y="1587600"/>
            <a:ext cx="2735280" cy="223200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90" name=""/>
          <p:cNvSpPr/>
          <p:nvPr/>
        </p:nvSpPr>
        <p:spPr>
          <a:xfrm>
            <a:off x="3527280" y="4032360"/>
            <a:ext cx="187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ОРЕЛ СТЕПН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048120" y="4651200"/>
            <a:ext cx="2971800" cy="17146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92" name=""/>
          <p:cNvSpPr/>
          <p:nvPr/>
        </p:nvSpPr>
        <p:spPr>
          <a:xfrm>
            <a:off x="3384720" y="6492960"/>
            <a:ext cx="2135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Constantia"/>
              </a:rPr>
              <a:t>ЖУРАВЛЬ БЕЛ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0960" y="21600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197320" y="3808440"/>
            <a:ext cx="3586320" cy="252108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184720" y="1655640"/>
            <a:ext cx="3600360" cy="158436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378000" y="1944720"/>
            <a:ext cx="4230360" cy="4103640"/>
          </a:xfrm>
          <a:prstGeom prst="rect">
            <a:avLst/>
          </a:prstGeom>
          <a:ln w="108000">
            <a:solidFill>
              <a:srgbClr val="7e0021"/>
            </a:solidFill>
            <a:round/>
          </a:ln>
        </p:spPr>
      </p:pic>
      <p:sp>
        <p:nvSpPr>
          <p:cNvPr id="297" name=""/>
          <p:cNvSpPr/>
          <p:nvPr/>
        </p:nvSpPr>
        <p:spPr>
          <a:xfrm>
            <a:off x="503280" y="6264360"/>
            <a:ext cx="3897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ПОДКАМЕНЩИК СИБИРСК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"/>
          <p:cNvSpPr/>
          <p:nvPr/>
        </p:nvSpPr>
        <p:spPr>
          <a:xfrm>
            <a:off x="6337440" y="3306600"/>
            <a:ext cx="1150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НЕЛЬ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/>
          <p:nvPr/>
        </p:nvSpPr>
        <p:spPr>
          <a:xfrm>
            <a:off x="5761080" y="6410160"/>
            <a:ext cx="243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2000" spc="-1" strike="noStrike">
                <a:solidFill>
                  <a:srgbClr val="dc2300"/>
                </a:solidFill>
                <a:latin typeface="Times New Roman"/>
              </a:rPr>
              <a:t>ОСЕТР СИБИРСК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/>
          <p:nvPr/>
        </p:nvSpPr>
        <p:spPr>
          <a:xfrm>
            <a:off x="1944720" y="720720"/>
            <a:ext cx="1366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РЫБ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76360" y="353880"/>
            <a:ext cx="79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</a:t>
            </a: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"/>
          <p:cNvSpPr/>
          <p:nvPr/>
        </p:nvSpPr>
        <p:spPr>
          <a:xfrm>
            <a:off x="647640" y="974880"/>
            <a:ext cx="7848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КАЖДЫЙ ЖИВУЩИЙ НА ПЛАНЕТЕ ДОЛЖЕН ПОНИМАТЬ,ЧТ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ПРИРОДА — ОЧЕНЬ ХРУПКИЙ ОРГАНИЗМ.РАЗРУШАЯ ПРИРОДУ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ЛЮДИ УНИЧТОЖАЮТ БУДУЩЕЕ!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1" lang="ru-RU" sz="3600" spc="-1" strike="noStrike">
                <a:solidFill>
                  <a:srgbClr val="b84747"/>
                </a:solidFill>
                <a:latin typeface="Times New Roman"/>
              </a:rPr>
              <a:t>БЕРЕГИТЕ ПРИРОДУ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72720" y="1944720"/>
            <a:ext cx="24112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"/>
          <p:cNvSpPr/>
          <p:nvPr/>
        </p:nvSpPr>
        <p:spPr>
          <a:xfrm>
            <a:off x="293760" y="4746600"/>
            <a:ext cx="327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254640"/>
            <a:ext cx="9156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http://commons.wikimedia.org/wiki/File:GoldenEagle-Nova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Берку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603600"/>
            <a:ext cx="8366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2"/>
              </a:rPr>
              <a:t>http://commons.wikimedia.org/wiki/File:Falco_cherrug_(Marek_Szczepanek)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Балоб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75904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3"/>
              </a:rPr>
              <a:t>http://commons.wikimedia.org/wiki/File:Detenysh_surka-baibaka_v_ohotnichem_hozyaistve_Kamyshinskogo_raiona_Volgogradskoi_oblasti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Сурок степн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392720"/>
            <a:ext cx="8640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4"/>
              </a:rPr>
              <a:t>http://commons.wikimedia.org/wiki/File:20070818-0001-strolling_reindeer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Северный олен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"/>
          <p:cNvSpPr/>
          <p:nvPr/>
        </p:nvSpPr>
        <p:spPr>
          <a:xfrm>
            <a:off x="17640" y="5184720"/>
            <a:ext cx="876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5"/>
              </a:rPr>
              <a:t>http://upload.wikimedia.org/wikipedia/commons/7/77/Beaver.jp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Бобр речн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"/>
          <p:cNvSpPr/>
          <p:nvPr/>
        </p:nvSpPr>
        <p:spPr>
          <a:xfrm>
            <a:off x="17640" y="5477040"/>
            <a:ext cx="84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6"/>
              </a:rPr>
              <a:t>http://upload.wikimedia.org/wikipedia/commons/e/ed/Talpa_europaea_MHNT.jp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Крот европейс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30032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7"/>
              </a:rPr>
              <a:t>http://commons.wikimedia.org/wiki/File:AcorusCalamus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Аир болот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"/>
          <p:cNvSpPr/>
          <p:nvPr/>
        </p:nvSpPr>
        <p:spPr>
          <a:xfrm>
            <a:off x="1440" y="1866960"/>
            <a:ext cx="9112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8"/>
              </a:rPr>
              <a:t>http://commons.wikimedia.org/wiki/File:Potentilla_erecta01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Лапчатка прямостояч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"/>
          <p:cNvSpPr/>
          <p:nvPr/>
        </p:nvSpPr>
        <p:spPr>
          <a:xfrm>
            <a:off x="1440" y="2376360"/>
            <a:ext cx="9112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9"/>
              </a:rPr>
              <a:t>http://commons.wikimedia.org/wiki/File:Calluna_vulgaris_1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Верес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"/>
          <p:cNvSpPr/>
          <p:nvPr/>
        </p:nvSpPr>
        <p:spPr>
          <a:xfrm>
            <a:off x="282600" y="287280"/>
            <a:ext cx="82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dc2300"/>
                </a:solidFill>
                <a:latin typeface="Times New Roman"/>
              </a:rPr>
              <a:t>КРАСНАЯ КНИГА ОМСКОЙ ОБЛА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"/>
          <p:cNvSpPr/>
          <p:nvPr/>
        </p:nvSpPr>
        <p:spPr>
          <a:xfrm>
            <a:off x="352440" y="1003320"/>
            <a:ext cx="464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ИСОК ИСПОЛЬЗОВАННЫХ РЕСУРС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936720"/>
            <a:ext cx="8788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1"/>
              </a:rPr>
              <a:t>http://commons.wikimedia.org/wiki/File:Serengeti_Raubadler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- Орел степно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530360"/>
            <a:ext cx="8793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2"/>
              </a:rPr>
              <a:t>http://commons.wikimedia.org/wiki/File:Grus_leucogeranus_male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Журавль белы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"/>
          <p:cNvSpPr/>
          <p:nvPr/>
        </p:nvSpPr>
        <p:spPr>
          <a:xfrm>
            <a:off x="-9360" y="2151000"/>
            <a:ext cx="886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3"/>
              </a:rPr>
              <a:t>http://commons.wikimedia.org/wiki/File:Lynx_lynx_poing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Рыс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525760"/>
            <a:ext cx="8677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4"/>
              </a:rPr>
              <a:t>http://commons.wikimedia.org/wiki/File:Siberian_sturgeon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Осетр сибирск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157560"/>
            <a:ext cx="8712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5"/>
              </a:rPr>
              <a:t>http://commons.wikimedia.org/wiki/File:Nelma_fish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Нельм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527280"/>
            <a:ext cx="8567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6"/>
              </a:rPr>
              <a:t>http://commons.wikimedia.org/wiki/File:Cottus_gobio_(in_situ)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каменщик сибирск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168880"/>
            <a:ext cx="92851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65120"/>
                <a:tab algn="l" pos="932040"/>
                <a:tab algn="l" pos="1398600"/>
                <a:tab algn="l" pos="1865160"/>
                <a:tab algn="l" pos="2332080"/>
                <a:tab algn="l" pos="2798640"/>
                <a:tab algn="l" pos="3265560"/>
                <a:tab algn="l" pos="3732120"/>
                <a:tab algn="l" pos="4199040"/>
                <a:tab algn="l" pos="4665600"/>
                <a:tab algn="l" pos="5132520"/>
                <a:tab algn="l" pos="5599080"/>
                <a:tab algn="l" pos="6066000"/>
                <a:tab algn="l" pos="6532560"/>
                <a:tab algn="l" pos="6999120"/>
                <a:tab algn="l" pos="7466040"/>
                <a:tab algn="l" pos="7932600"/>
                <a:tab algn="l" pos="8399520"/>
                <a:tab algn="l" pos="8866080"/>
                <a:tab algn="l" pos="9333000"/>
                <a:tab algn="l" pos="9334440"/>
                <a:tab algn="l" pos="9801360"/>
                <a:tab algn="l" pos="10267920"/>
                <a:tab algn="l" pos="107348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Приложение N 2 к Постановлению Правительства Омской области от 6 июля 2005 г. N 76-п ПЕРЕЧЕНЬ РЕДКИХ И НАХОДЯЩИХСЯ ПОД УГРОЗОЙ ИСЧЕЗНОВЕНИЯ РАСТЕНИЙ И ДРУГИХ ОРГАНИЗМОВ, ЗАНЕСЕННЫХ В КРАСНУЮ КНИГУ ОМСКОЙ ОБЛАСТ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872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2760"/>
                <a:tab algn="l" pos="677880"/>
                <a:tab algn="l" pos="1144440"/>
                <a:tab algn="l" pos="1611360"/>
                <a:tab algn="l" pos="2077920"/>
                <a:tab algn="l" pos="2544840"/>
                <a:tab algn="l" pos="3011400"/>
                <a:tab algn="l" pos="3478320"/>
                <a:tab algn="l" pos="3944880"/>
                <a:tab algn="l" pos="4411800"/>
                <a:tab algn="l" pos="4878360"/>
                <a:tab algn="l" pos="5345280"/>
                <a:tab algn="l" pos="5811840"/>
                <a:tab algn="l" pos="6278400"/>
                <a:tab algn="l" pos="6745320"/>
                <a:tab algn="l" pos="7211880"/>
                <a:tab algn="l" pos="7678800"/>
                <a:tab algn="l" pos="8145360"/>
                <a:tab algn="l" pos="8612280"/>
                <a:tab algn="l" pos="9078840"/>
                <a:tab algn="l" pos="9545760"/>
                <a:tab algn="l" pos="9801360"/>
                <a:tab algn="l" pos="10267920"/>
                <a:tab algn="l" pos="1073484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Constantia"/>
                <a:hlinkClick r:id="rId7"/>
              </a:rPr>
              <a:t>http://commons.wikimedia.org/wiki/File:Nuphar_lutea_170803.jpg?uselang=ru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Кубышка желт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09:28:59Z</dcterms:created>
  <dc:creator/>
  <dc:description/>
  <dc:language>en-US</dc:language>
  <cp:lastModifiedBy/>
  <dcterms:modified xsi:type="dcterms:W3CDTF">2014-03-13T17:40:0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80000000000010250300207f7000400038000</vt:lpwstr>
  </property>
</Properties>
</file>