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3BE-A3C3-4CEC-BFA1-8488200F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E31-172B-4CB0-9192-70729071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A47-7E38-48AF-AE5E-79F68E2A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D3B-FA19-41E5-92B5-CA67C6F0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4F22-6708-4420-8FFE-EE584039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A319-4233-47F9-97F6-5AD1EEBD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3B40-F128-4C76-A4F2-8A94E562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5C5C-FDDA-4E7A-A748-DA06B8E2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07BA-4692-4F65-90BF-C44FC557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82A3-15A0-425D-BF5C-A7D39ABE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89B4-635D-4ADE-B393-BD118D6C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FB0-A519-4372-BA88-7E6A59D1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255A-A303-438E-8C6E-9EC1C6D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F8DB-EFF8-4B41-8B56-5B6C79ED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D223-E0F9-4C5E-8B6D-852B4817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D6C5-08B7-4A67-81CD-3887BEFC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B9F1-024C-4252-B682-94300CE0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8AC3-C392-416E-822B-4AD6E050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3861-4C53-46CD-90B5-820DD341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ED770-5578-4C6D-BEC1-4BE121A2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F8B7-1CD5-451E-81DB-B11C6179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14E7-3314-4017-BEE8-8AB1A786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B28-7A66-431E-B550-727A495E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EB6E-4A61-4FB9-BD0D-F3C783E9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1244-8513-452B-82B3-2FE44CD8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0FE6-0DFB-4410-BADE-8215B55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96F0-E925-4F4D-B8A6-41BE4914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9EC9B-3F45-4A65-8E0F-AE091D80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3F35-E2DE-4E8C-BEDE-D7E0AA8E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0141-3E8B-43CD-95C3-AF1705B3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2F502-1511-4C3A-95A3-55678AE1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662B-5BBD-4C79-8A47-6C7FA94F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B85E-49EE-48F2-9DF2-562ADB8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B3E-62EF-438F-85A9-E1D95584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6851C-510F-432A-B5A3-2CB6A402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9169-1685-4142-A856-68F85680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6B36-445D-40A4-AF39-DC4AF8CC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4BB90-50FF-43A8-9DD6-950A5CA6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E927B-A698-426B-B99E-5E896FE9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127C-7523-45FE-AA7C-3151C2C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979DD-88B5-4CE3-A1C6-8F92F711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326B-D81A-41D6-B680-AECEBD58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F1EF-47D7-4295-A9F2-959833C0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ADF-378E-45EE-AA93-8B4CE510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236-66CB-422B-ADAB-8F72AE87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1DE-C834-47FF-9388-961EC936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427-2823-4093-8FB8-DC5431C4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52E-85E3-4A06-97E8-DF4563A1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3D20-4A63-4233-8E26-542C0FFD3D3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1008-1521-4FEA-8505-131D0C55E88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755-B6E6-4EC0-96A9-BECAA58C6B8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C90D-F1B3-4CF3-85B2-31DE336B701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3714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теме Ре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пиши части дна океа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628560" y="2714760"/>
            <a:ext cx="7586640" cy="2706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3429000" y="3286080"/>
            <a:ext cx="2000160" cy="370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6786720" y="4143240"/>
            <a:ext cx="2000160" cy="370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643800" y="2214720"/>
            <a:ext cx="2000160" cy="369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786200" y="4714920"/>
            <a:ext cx="2000520" cy="369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357120" y="4143240"/>
            <a:ext cx="2000160" cy="370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285840" y="39290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3357720" y="3143160"/>
            <a:ext cx="57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5214960" y="450072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6500880" y="200016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7286760" y="3857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пишите части ре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643800" cy="3282840"/>
          </a:xfrm>
          <a:prstGeom prst="rect">
            <a:avLst/>
          </a:prstGeom>
          <a:ln w="0">
            <a:noFill/>
          </a:ln>
        </p:spPr>
      </p:pic>
      <p:cxnSp>
        <p:nvCxnSpPr>
          <p:cNvPr id="211" name="Прямая со стрелкой 5"/>
          <p:cNvCxnSpPr/>
          <p:nvPr/>
        </p:nvCxnSpPr>
        <p:spPr>
          <a:xfrm flipV="1">
            <a:off x="1142640" y="3785760"/>
            <a:ext cx="1143720" cy="357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3071880" y="5143680"/>
            <a:ext cx="1715040" cy="1432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3" name="Прямая со стрелкой 7"/>
          <p:cNvCxnSpPr/>
          <p:nvPr/>
        </p:nvCxnSpPr>
        <p:spPr>
          <a:xfrm flipV="1">
            <a:off x="2571480" y="4357440"/>
            <a:ext cx="1143720" cy="357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4" name="Прямая со стрелкой 8"/>
          <p:cNvCxnSpPr/>
          <p:nvPr/>
        </p:nvCxnSpPr>
        <p:spPr>
          <a:xfrm flipH="1" flipV="1">
            <a:off x="5928480" y="4071600"/>
            <a:ext cx="14295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5" name="TextBox 13"/>
          <p:cNvSpPr/>
          <p:nvPr/>
        </p:nvSpPr>
        <p:spPr>
          <a:xfrm>
            <a:off x="785880" y="24289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357120" y="4143240"/>
            <a:ext cx="64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2428920" y="435780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7643880" y="40006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3071880" y="500076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I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айте опреде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857680"/>
            <a:ext cx="3471840" cy="34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Исток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Усть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5072040" y="2928960"/>
            <a:ext cx="292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риток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—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Русло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1000080" y="235728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5715000" y="23572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V.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уществуют различные виды устьев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7176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стуар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оронкообразное устье реки, расширяющееся в сто­рону моря. Образуется, когда приносимые рекой наносы уносятся приливно-отливные течениями, а прилегающая часть моря доста­точно глубока, так что накопления наносов не происходи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ель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форма устья реки с протоками, на которые делится главное русло. Дельты по форме разных типов, чаще имеют тре­угольную или веерообразную форму. Дельты образуются не мелко­водных участках моря (озера) при впадении реки, несущий большое количество нанос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—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кройте в атласах физическую карту России и полушари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ведите примеры рек, имеющих устье в виде дельты или эстуарии. Запись в тетради в виде схе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Усть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Дельта                                             эстуа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934640"/>
            <a:ext cx="67579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1) Главная река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2) Исток главной реки, устье главной рек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3) Левые и правые приток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4) Притоки 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, П, 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III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и т. д. притоков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В 1 – Обь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onstantia"/>
              </a:rPr>
              <a:t>В 2 - Енисей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785880" y="64296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V.</a:t>
            </a:r>
            <a:r>
              <a:rPr b="1" lang="ru-RU" sz="4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Опишите речную систему</a:t>
            </a:r>
            <a:br>
              <a:rPr sz="4000"/>
            </a:br>
            <a:r>
              <a:rPr b="1" lang="ru-RU" sz="4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по план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I.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гадай ре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85840" y="1357200"/>
            <a:ext cx="8400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- сибирская ре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Широка и глубок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кву «е» на «у» смен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ну спутником земли.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ы меня, наверно, знаеш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сказки Пушкина геро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о если «л» на «н» сменяешь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ибирской стану я рекой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5:40:13Z</dcterms:created>
  <dc:creator>пользователь</dc:creator>
  <dc:description/>
  <dc:language>en-US</dc:language>
  <cp:lastModifiedBy>пользователь</cp:lastModifiedBy>
  <dcterms:modified xsi:type="dcterms:W3CDTF">2009-02-15T16:29:17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80000000000010250300207f7000400038000</vt:lpwstr>
  </property>
</Properties>
</file>