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12D-5E32-406D-A71F-C8FF38F9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297-0B37-4792-8101-9DFF762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C46-94F9-4B4A-8B2D-3A19A8EE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851-F383-4808-AC78-682F1C7F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DE57-C96E-4B62-A38D-3BAB39B8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2E6-A173-4997-9DE5-5871C6B4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93A4-A17C-4DF7-AECE-D79357C0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9919-89CD-403E-9E9E-51A716C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49F6-35DA-48ED-B0C1-5C16B0E2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8B51-F443-4951-9E85-40628CB0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B832-49D3-4CC1-88A4-22E9B69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A76-B130-4C6F-92E7-86E2759B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A7E2-7A98-411D-A81C-9DA57EF0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0650-FBA3-4949-85C6-ADB0BDF7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F528-5550-44A6-A6DF-B8F7AB78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DD6F-CEA6-4655-B0EA-A9191B94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D93D-A45F-421E-ACD9-1C1D6E79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BAD7-140A-43DA-A8CF-110BAD6A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558CE-209E-44C3-A43A-0C988B7C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9229-0092-4B53-97E8-8E13709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2B88-0EDB-456B-A406-C8CFC0DB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D74D-C142-4AB7-8FCD-E851D0F3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A47-192E-4C5C-905C-BE1D5900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0F9B-E024-4DAF-AEC4-78E99ED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85EE-318F-4732-8121-AAC67913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57C4-F0DF-4B3B-8BD3-49761A1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410B-E023-4EB0-92B6-64661D1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36CE-1F74-487B-AA86-D3952078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1BE8-C548-4B7C-919B-E23A5CE4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0303-D116-4886-A8BA-FDA77066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55238-87B4-4732-8937-F3D924C1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6844-781F-4FB7-A6A7-5EC077AF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BF07-A7CF-4584-A781-39A229B0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6D3-5AC1-48DC-8393-AD5DE7EB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1F0E-6491-45C6-BCE5-6064147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AF91-BC81-4B5A-AFB1-B807D377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3397-3ED6-4F92-9119-8D205A0E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5A9E-B3E5-4D5E-A127-E8CCF3B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CFF7-09A5-49D5-AA66-C50EDEBD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0D81-96C4-4257-8FDF-0B74F4A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D2DB-A339-4961-8BD6-DF5CAB93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E7B7-6FDE-4697-94FD-C5C21C03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96D4-9203-4C83-8319-8C64FDEA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B79-93DC-4B8D-850B-F2BECA58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36A-DFB0-4BA1-9177-B2BF1DF9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3F7-D112-4B58-9270-CC41110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EE2-F5D5-4CB9-A09C-DAC118F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7DA-6B7F-4351-8EEB-A6C041F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E9F7-8542-4591-A4E3-84E09034326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47AD-9C1D-4F2C-AC93-CDB369F4071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D9C2-88A2-4A5E-B9AD-AC2158DFAB1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31FD-46EB-4406-AE95-FBD5BB55191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3714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теме Ре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пиши части дна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28560" y="2714760"/>
            <a:ext cx="7586640" cy="2706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3429000" y="3286080"/>
            <a:ext cx="2000160" cy="370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6786720" y="4143240"/>
            <a:ext cx="2000160" cy="370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643800" y="2214720"/>
            <a:ext cx="2000160" cy="369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786200" y="4714920"/>
            <a:ext cx="2000520" cy="369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357120" y="4143240"/>
            <a:ext cx="2000160" cy="370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285840" y="39290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3357720" y="3143160"/>
            <a:ext cx="5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5214960" y="45007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6500880" y="200016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7286760" y="385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пишите части ре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643800" cy="3282840"/>
          </a:xfrm>
          <a:prstGeom prst="rect">
            <a:avLst/>
          </a:prstGeom>
          <a:ln w="0">
            <a:noFill/>
          </a:ln>
        </p:spPr>
      </p:pic>
      <p:cxnSp>
        <p:nvCxnSpPr>
          <p:cNvPr id="211" name="Прямая со стрелкой 5"/>
          <p:cNvCxnSpPr/>
          <p:nvPr/>
        </p:nvCxnSpPr>
        <p:spPr>
          <a:xfrm flipV="1">
            <a:off x="1142640" y="3785760"/>
            <a:ext cx="114372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3071880" y="5143680"/>
            <a:ext cx="1715040" cy="1432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3" name="Прямая со стрелкой 7"/>
          <p:cNvCxnSpPr/>
          <p:nvPr/>
        </p:nvCxnSpPr>
        <p:spPr>
          <a:xfrm flipV="1">
            <a:off x="2571480" y="4357440"/>
            <a:ext cx="114372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4" name="Прямая со стрелкой 8"/>
          <p:cNvCxnSpPr/>
          <p:nvPr/>
        </p:nvCxnSpPr>
        <p:spPr>
          <a:xfrm flipH="1" flipV="1">
            <a:off x="5928480" y="4071600"/>
            <a:ext cx="14295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5" name="TextBox 13"/>
          <p:cNvSpPr/>
          <p:nvPr/>
        </p:nvSpPr>
        <p:spPr>
          <a:xfrm>
            <a:off x="785880" y="24289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57120" y="414324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2428920" y="435780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7643880" y="400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3071880" y="500076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I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айте опреде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857680"/>
            <a:ext cx="3471840" cy="34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сток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Усть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5072040" y="292896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риток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Русло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1000080" y="235728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5715000" y="23572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V.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уществуют различные виды устьев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7176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стуар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оронкообразное устье реки, расширяющееся в сто­рону моря. Образуется, когда приносимые рекой наносы уносятся приливно-отливные течениями, а прилегающая часть моря доста­точно глубока, так что накопления наносов не происходи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ель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форма устья реки с протоками, на которые делится главное русло. Дельты по форме разных типов, чаще имеют тре­угольную или веерообразную форму. Дельты образуются не мелко­водных участках моря (озера) при впадении реки, несущий большое количество нанос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кройте в атласах физическую карту России и полушари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ведите примеры рек, имеющих устье в виде дельты или эстуарии. Запись в тетради в виде схе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сть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Дельта                                             эстуа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67579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1) Главная река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2) Исток главной реки, устье главной ре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3) Левые и правые прито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4) Притоки 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, П, 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III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и т. д. притоков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В 1 – Обь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В 2 - Енисей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785880" y="6429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V.</a:t>
            </a:r>
            <a:r>
              <a:rPr b="1" lang="ru-RU" sz="4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Опишите речную систему</a:t>
            </a:r>
            <a:br>
              <a:rPr sz="4000"/>
            </a:br>
            <a:r>
              <a:rPr b="1" lang="ru-RU" sz="4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по план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гадай ре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85840" y="1357200"/>
            <a:ext cx="840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- сибирская ре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Широка и глубо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кву «е» на «у» смен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ну спутником земли.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ы меня, наверно, знаеш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сказки Пушкина геро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о если «л» на «н» сменяеш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ибирской стану я рекой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5:40:13Z</dcterms:created>
  <dc:creator>пользователь</dc:creator>
  <dc:description/>
  <dc:language>en-US</dc:language>
  <cp:lastModifiedBy>пользователь</cp:lastModifiedBy>
  <dcterms:modified xsi:type="dcterms:W3CDTF">2009-02-15T16:29:17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80000000000010250300207f7000400038000</vt:lpwstr>
  </property>
</Properties>
</file>