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7E5-AE13-4F21-96E4-46938BB4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86B-F200-45AD-972E-1E84EAD2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E3E-118B-4970-BA15-BE4B94E3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DEF-8D84-437B-8CF4-5A0844B1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4B02-36B6-42E5-974E-09636106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BBE9-D5D6-4830-B7B7-3F9D08D8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170A-86BD-45B7-9BEC-457009A4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79FE-8E39-49D8-B9B0-E3B4C821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2F8C-5F1D-4012-9851-6D9B340E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559E-A5D2-4F79-877C-2EF2AE2F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5D84-9FB5-4748-9884-B8F1367D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C23-88AE-4AC0-AD12-4F6B9320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428D-3FAC-4155-BD32-B4529E63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9A7B-612F-46C8-A3E1-44F91124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BC27-FEBD-4AC4-9E00-9F98E7BF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51C7-DC3B-4745-B896-F8410740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1E68-9B4A-4B7D-9313-9B728AD6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9B9E2-994C-4410-A033-52199B61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4474D-89D3-4F45-92B6-837E41B0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293C4-0F62-447F-88A5-32A43C25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CB803-73DD-4020-A373-71FADD22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5BA33-D625-4333-9D8F-0A6AA8FD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145F-C176-44A0-B753-6FCB85D2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8AADB-D4BE-4B9E-9424-96C2B320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9B48-2399-4DEB-84F3-66BFDF2F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83912-D69E-4759-BAEA-E112CCFB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0945C-B8E9-4AB6-9F9C-2AB98078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B314D-E2D6-4C77-90AA-434723E9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21632-E192-4159-96E4-CF0930E0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0454-4FCF-4DA5-A5F8-76C28B9C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DE228-45CC-48DC-8043-C53FD2A0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4EAB8-6FD8-44B2-92E0-9F1B992A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87E09-7D6A-4EF3-BEBD-F626C51A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33D-8741-4183-AE00-8BA76173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C7C30-5C56-4114-88A4-475DA85D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2B12A-C5BE-42D9-AE69-DD018ECC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3BFDA-8F72-4E73-8684-0A3F3653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2C4DF-919E-479A-8794-DC2EDA1D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E5DDE-D0F6-48CB-8329-E5FB4F09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B1A77-847C-4EE9-B663-B32372F7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9193F-543E-4101-AA3E-87E66724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E29A8-1735-494A-AF59-1A94FB7F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ECEC0-BD88-45D4-9F38-41F83E88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B1C-88EC-4A2C-B7AE-EA6E950C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C30-7A16-4303-882E-B47117E7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204-19E9-478D-B3B6-DD030F97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AA8-E7A4-43A2-90A0-36B3E076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9EB-7706-4702-9648-3347DF49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978E-16CF-48D0-BC9D-A35F53AA25F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CC93-B128-4411-BF5C-3F3BEADA022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4311-9F82-4569-8C79-8CD1A6B1D99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623D-E2F4-4AD0-AF69-2135E4E4B05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37148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 теме Ре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.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дпиши части дна океа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628560" y="2714760"/>
            <a:ext cx="7586640" cy="2706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3429000" y="3286080"/>
            <a:ext cx="2000160" cy="3700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6786720" y="4143240"/>
            <a:ext cx="2000160" cy="3700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6643800" y="2214720"/>
            <a:ext cx="2000160" cy="369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4786200" y="4714920"/>
            <a:ext cx="2000520" cy="369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357120" y="4143240"/>
            <a:ext cx="2000160" cy="3700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285840" y="39290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3357720" y="3143160"/>
            <a:ext cx="5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Box 12"/>
          <p:cNvSpPr/>
          <p:nvPr/>
        </p:nvSpPr>
        <p:spPr>
          <a:xfrm>
            <a:off x="5214960" y="450072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6500880" y="2000160"/>
            <a:ext cx="9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7286760" y="3857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I.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дпишите части ре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143000" y="2571840"/>
            <a:ext cx="6643800" cy="3282840"/>
          </a:xfrm>
          <a:prstGeom prst="rect">
            <a:avLst/>
          </a:prstGeom>
          <a:ln w="0">
            <a:noFill/>
          </a:ln>
        </p:spPr>
      </p:pic>
      <p:cxnSp>
        <p:nvCxnSpPr>
          <p:cNvPr id="211" name="Прямая со стрелкой 5"/>
          <p:cNvCxnSpPr/>
          <p:nvPr/>
        </p:nvCxnSpPr>
        <p:spPr>
          <a:xfrm flipV="1">
            <a:off x="1142640" y="3785760"/>
            <a:ext cx="1143720" cy="357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2" name="Прямая со стрелкой 6"/>
          <p:cNvCxnSpPr/>
          <p:nvPr/>
        </p:nvCxnSpPr>
        <p:spPr>
          <a:xfrm>
            <a:off x="3071880" y="5143680"/>
            <a:ext cx="1715040" cy="1432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3" name="Прямая со стрелкой 7"/>
          <p:cNvCxnSpPr/>
          <p:nvPr/>
        </p:nvCxnSpPr>
        <p:spPr>
          <a:xfrm flipV="1">
            <a:off x="2571480" y="4357440"/>
            <a:ext cx="1143720" cy="357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4" name="Прямая со стрелкой 8"/>
          <p:cNvCxnSpPr/>
          <p:nvPr/>
        </p:nvCxnSpPr>
        <p:spPr>
          <a:xfrm flipH="1" flipV="1">
            <a:off x="5928480" y="4071600"/>
            <a:ext cx="14295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5" name="TextBox 13"/>
          <p:cNvSpPr/>
          <p:nvPr/>
        </p:nvSpPr>
        <p:spPr>
          <a:xfrm>
            <a:off x="785880" y="24289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зер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357120" y="4143240"/>
            <a:ext cx="64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15"/>
          <p:cNvSpPr/>
          <p:nvPr/>
        </p:nvSpPr>
        <p:spPr>
          <a:xfrm>
            <a:off x="2428920" y="435780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7643880" y="40006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3071880" y="5000760"/>
            <a:ext cx="7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II.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айте определ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857680"/>
            <a:ext cx="3471840" cy="34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Исток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Усть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—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5072040" y="2928960"/>
            <a:ext cx="29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Приток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Русло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1000080" y="235728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 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5715000" y="235728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 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V.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уществуют различные виды устьев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7176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стуари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воронкообразное устье реки, расширяющееся в сто­рону моря. Образуется, когда приносимые рекой наносы уносятся приливно-отливные течениями, а прилегающая часть моря доста­точно глубока, так что накопления наносов не происходи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ель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форма устья реки с протоками, на которые делится главное русло. Дельты по форме разных типов, чаще имеют тре­угольную или веерообразную форму. Дельты образуются не мелко­водных участках моря (озера) при впадении реки, несущий большое количество нанос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—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кройте в атласах физическую карту России и полушари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ведите примеры рек, имеющих устье в виде дельты или эстуарии. Запись в тетради в виде схем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Усть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Дельта                                             эстуар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934640"/>
            <a:ext cx="67579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1) Главная река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2) Исток главной реки, устье главной реки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3) Левые и правые притоки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4) Притоки 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, П, 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III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и т. д. притоков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В 1 – Обь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В 2 - Енисей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785880" y="64296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V.</a:t>
            </a:r>
            <a:r>
              <a:rPr b="1" lang="ru-RU" sz="4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Опишите речную систему</a:t>
            </a:r>
            <a:br>
              <a:rPr sz="4000"/>
            </a:br>
            <a:r>
              <a:rPr b="1" lang="ru-RU" sz="4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по план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I.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гадай рек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85840" y="1357200"/>
            <a:ext cx="840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- сибирская рек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Широка и глубок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укву «е» на «у» смен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ану спутником земли.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ы меня, наверно, знаеш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сказки Пушкина геро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о если «л» на «н» сменяешь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ибирской стану я рекой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5:40:13Z</dcterms:created>
  <dc:creator>пользователь</dc:creator>
  <dc:description/>
  <dc:language>en-US</dc:language>
  <cp:lastModifiedBy>пользователь</cp:lastModifiedBy>
  <dcterms:modified xsi:type="dcterms:W3CDTF">2009-02-15T16:29:17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80000000000010250300207f7000400038000</vt:lpwstr>
  </property>
</Properties>
</file>