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2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gif" ContentType="image/gif"/>
  <Override PartName="/ppt/media/image20.png" ContentType="image/png"/>
  <Override PartName="/ppt/media/image28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D8FE-B80D-4D47-9A2A-FF2076D68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A93-4DE5-40DD-B722-D673419EE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аториальные широты   умеренные широты   полярные шир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EAE-8F9B-4D3D-9587-721C35D33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климата от высоты местности над уровнем мо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532-56D1-4A78-A615-E7258C16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27F-00E4-42F9-9640-C2985BE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A8D-C535-4012-97BA-E4A79C17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C44-6D76-471E-8264-E552D9F4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30F-4293-443B-A69A-C098599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9BB-07AE-472B-B7B4-A0116AC9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0FD-6145-43C1-A259-6DB41D53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FF7-8606-41B3-B40F-5450AF8F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FC3-A282-448B-A192-7465FF70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899-C4B4-473E-AD1D-6D23ADD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CE6-1677-4F2F-8973-B01B15D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249-5B74-4842-8D21-89E1081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624-0BE0-4A1C-9DC2-65176F894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weather_desktop_wallpaper_screen_saver-69373-1.jpg"/>
          <p:cNvPicPr/>
          <p:nvPr/>
        </p:nvPicPr>
        <p:blipFill>
          <a:blip r:embed="rId1">
            <a:lum contrast="40000"/>
          </a:blip>
          <a:srcRect l="0" t="0" r="1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52560" y="2451240"/>
            <a:ext cx="5438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ревание земной поверхности зависит от угла падения солнечных луче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000240" y="364320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936160" y="321480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007440" y="27860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5715000" y="37148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5715000" y="4214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5429160" y="3571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5429160" y="307188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5286240" y="300024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5286240" y="2786040"/>
            <a:ext cx="574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3" descr="c83d40186d8b.jpg"/>
          <p:cNvPicPr/>
          <p:nvPr/>
        </p:nvPicPr>
        <p:blipFill>
          <a:blip r:embed="rId1"/>
          <a:stretch/>
        </p:blipFill>
        <p:spPr>
          <a:xfrm>
            <a:off x="5851440" y="1566720"/>
            <a:ext cx="3299040" cy="2475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7" descr="5b.gif"/>
          <p:cNvPicPr/>
          <p:nvPr/>
        </p:nvPicPr>
        <p:blipFill>
          <a:blip r:embed="rId2"/>
          <a:stretch/>
        </p:blipFill>
        <p:spPr>
          <a:xfrm>
            <a:off x="-214200" y="250020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xqg338831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06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ag00434_"/>
          <p:cNvPicPr/>
          <p:nvPr/>
        </p:nvPicPr>
        <p:blipFill>
          <a:blip r:embed="rId2"/>
          <a:stretch/>
        </p:blipFill>
        <p:spPr>
          <a:xfrm>
            <a:off x="2916360" y="1557360"/>
            <a:ext cx="1584360" cy="113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носительно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ения горных хреб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332000" y="2997360"/>
            <a:ext cx="4464000" cy="647640"/>
          </a:xfrm>
          <a:prstGeom prst="rightArrow">
            <a:avLst>
              <a:gd name="adj1" fmla="val 50000"/>
              <a:gd name="adj2" fmla="val 1723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7596360" y="2133720"/>
            <a:ext cx="914400" cy="609480"/>
          </a:xfrm>
          <a:prstGeom prst="cloudCallout">
            <a:avLst>
              <a:gd name="adj1" fmla="val -51564"/>
              <a:gd name="adj2" fmla="val 5807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24000" y="3213000"/>
            <a:ext cx="914400" cy="609840"/>
          </a:xfrm>
          <a:prstGeom prst="cloudCallout">
            <a:avLst>
              <a:gd name="adj1" fmla="val 90106"/>
              <a:gd name="adj2" fmla="val 22369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619280" y="2276640"/>
            <a:ext cx="914400" cy="609480"/>
          </a:xfrm>
          <a:prstGeom prst="cloudCallout">
            <a:avLst>
              <a:gd name="adj1" fmla="val -35763"/>
              <a:gd name="adj2" fmla="val 625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xqg338831"/>
          <p:cNvPicPr/>
          <p:nvPr/>
        </p:nvPicPr>
        <p:blipFill>
          <a:blip r:embed="rId1"/>
          <a:stretch/>
        </p:blipFill>
        <p:spPr>
          <a:xfrm>
            <a:off x="428760" y="1125360"/>
            <a:ext cx="8215200" cy="5564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821880" y="0"/>
            <a:ext cx="7704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высоты ме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 уровнем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502160" y="2637000"/>
            <a:ext cx="262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ъёмом на 1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ература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жается на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◦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2556000" y="2357280"/>
            <a:ext cx="647640" cy="388008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близости морей и оке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ussia"/>
          <p:cNvPicPr/>
          <p:nvPr/>
        </p:nvPicPr>
        <p:blipFill>
          <a:blip r:embed="rId1"/>
          <a:stretch/>
        </p:blipFill>
        <p:spPr>
          <a:xfrm>
            <a:off x="324000" y="1428840"/>
            <a:ext cx="8712000" cy="5214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6"/>
          <p:cNvSpPr/>
          <p:nvPr/>
        </p:nvSpPr>
        <p:spPr>
          <a:xfrm rot="5400000">
            <a:off x="428400" y="2423880"/>
            <a:ext cx="73836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2050920" y="1700280"/>
            <a:ext cx="2521080" cy="1042920"/>
          </a:xfrm>
          <a:prstGeom prst="wedgeRectCallout">
            <a:avLst>
              <a:gd name="adj1" fmla="val -50504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р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059280" y="3213000"/>
            <a:ext cx="2376360" cy="609840"/>
          </a:xfrm>
          <a:prstGeom prst="wedgeRectCallout">
            <a:avLst>
              <a:gd name="adj1" fmla="val -66634"/>
              <a:gd name="adj2" fmla="val 10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5003640" y="4149720"/>
            <a:ext cx="2808360" cy="971640"/>
          </a:xfrm>
          <a:prstGeom prst="wedgeRectCallout">
            <a:avLst>
              <a:gd name="adj1" fmla="val -36037"/>
              <a:gd name="adj2" fmla="val 98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ко 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6659640" y="3141720"/>
            <a:ext cx="1635120" cy="609480"/>
          </a:xfrm>
          <a:prstGeom prst="wedgeRectCallout">
            <a:avLst>
              <a:gd name="adj1" fmla="val 85337"/>
              <a:gd name="adj2" fmla="val 145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ссон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29800" y="36450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4574880" y="1700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8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782520" y="386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6662520" y="5157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1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7167600" y="270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9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0" y="76500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11280" y="76500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788000" y="76500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7236000" y="76500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tart"/>
          <p:cNvPicPr/>
          <p:nvPr/>
        </p:nvPicPr>
        <p:blipFill>
          <a:blip r:embed="rId1"/>
          <a:stretch/>
        </p:blipFill>
        <p:spPr>
          <a:xfrm>
            <a:off x="0" y="789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0" y="83664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411280" y="83664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788000" y="83664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236000" y="83664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Багетная рамка 2"/>
          <p:cNvGrpSpPr/>
          <p:nvPr/>
        </p:nvGrpSpPr>
        <p:grpSpPr>
          <a:xfrm>
            <a:off x="1407960" y="212760"/>
            <a:ext cx="6328080" cy="1371600"/>
            <a:chOff x="1407960" y="212760"/>
            <a:chExt cx="6328080" cy="1371600"/>
          </a:xfrm>
        </p:grpSpPr>
        <p:pic>
          <p:nvPicPr>
            <p:cNvPr id="166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1407960" y="212760"/>
              <a:ext cx="63280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701720" y="487440"/>
              <a:ext cx="5740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Климатообразующие факто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Прямая со стрелкой 4"/>
          <p:cNvCxnSpPr/>
          <p:nvPr/>
        </p:nvCxnSpPr>
        <p:spPr>
          <a:xfrm flipH="1">
            <a:off x="1428480" y="1428840"/>
            <a:ext cx="1357920" cy="6433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4498200" y="1428840"/>
            <a:ext cx="2520" cy="4291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>
            <a:off x="6215040" y="1428840"/>
            <a:ext cx="1000800" cy="71496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grpSp>
        <p:nvGrpSpPr>
          <p:cNvPr id="171" name="Овал 11"/>
          <p:cNvGrpSpPr/>
          <p:nvPr/>
        </p:nvGrpSpPr>
        <p:grpSpPr>
          <a:xfrm>
            <a:off x="158760" y="2017800"/>
            <a:ext cx="2255760" cy="1968480"/>
            <a:chOff x="158760" y="2017800"/>
            <a:chExt cx="2255760" cy="1968480"/>
          </a:xfrm>
        </p:grpSpPr>
        <p:pic>
          <p:nvPicPr>
            <p:cNvPr id="172" name="Овал 11" descr=""/>
            <p:cNvPicPr/>
            <p:nvPr/>
          </p:nvPicPr>
          <p:blipFill>
            <a:blip r:embed="rId2"/>
            <a:stretch/>
          </p:blipFill>
          <p:spPr>
            <a:xfrm>
              <a:off x="158760" y="2017800"/>
              <a:ext cx="22557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79600" y="23940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ысота Солнца над горизо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"/>
          <p:cNvGrpSpPr/>
          <p:nvPr/>
        </p:nvGrpSpPr>
        <p:grpSpPr>
          <a:xfrm>
            <a:off x="3297240" y="1798560"/>
            <a:ext cx="2262240" cy="1974960"/>
            <a:chOff x="3297240" y="1798560"/>
            <a:chExt cx="2262240" cy="1974960"/>
          </a:xfrm>
        </p:grpSpPr>
        <p:pic>
          <p:nvPicPr>
            <p:cNvPr id="175" name="Овал 12" descr=""/>
            <p:cNvPicPr/>
            <p:nvPr/>
          </p:nvPicPr>
          <p:blipFill>
            <a:blip r:embed="rId3"/>
            <a:stretch/>
          </p:blipFill>
          <p:spPr>
            <a:xfrm>
              <a:off x="3297240" y="1798560"/>
              <a:ext cx="226224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22760" y="21798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оздушные те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3"/>
          <p:cNvGrpSpPr/>
          <p:nvPr/>
        </p:nvGrpSpPr>
        <p:grpSpPr>
          <a:xfrm>
            <a:off x="6370560" y="2017800"/>
            <a:ext cx="2475000" cy="1968480"/>
            <a:chOff x="6370560" y="2017800"/>
            <a:chExt cx="2475000" cy="1968480"/>
          </a:xfrm>
        </p:grpSpPr>
        <p:pic>
          <p:nvPicPr>
            <p:cNvPr id="178" name="Овал 13" descr=""/>
            <p:cNvPicPr/>
            <p:nvPr/>
          </p:nvPicPr>
          <p:blipFill>
            <a:blip r:embed="rId4"/>
            <a:stretch/>
          </p:blipFill>
          <p:spPr>
            <a:xfrm>
              <a:off x="6370560" y="2017800"/>
              <a:ext cx="2475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24520" y="2394000"/>
              <a:ext cx="15670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дстил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ющая поверх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рямоугольник 22"/>
          <p:cNvGrpSpPr/>
          <p:nvPr/>
        </p:nvGrpSpPr>
        <p:grpSpPr>
          <a:xfrm>
            <a:off x="2298600" y="3870360"/>
            <a:ext cx="4260960" cy="1042920"/>
            <a:chOff x="2298600" y="3870360"/>
            <a:chExt cx="4260960" cy="1042920"/>
          </a:xfrm>
        </p:grpSpPr>
        <p:pic>
          <p:nvPicPr>
            <p:cNvPr id="181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2298600" y="3870360"/>
              <a:ext cx="4260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428920" y="4000680"/>
              <a:ext cx="4000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ертикальное движение воздуха. Система постоянных ветров. Муссо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Прямая соединительная линия 26"/>
          <p:cNvSpPr/>
          <p:nvPr/>
        </p:nvSpPr>
        <p:spPr>
          <a:xfrm>
            <a:off x="4429080" y="3643200"/>
            <a:ext cx="0" cy="35748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9"/>
          <p:cNvSpPr/>
          <p:nvPr/>
        </p:nvSpPr>
        <p:spPr>
          <a:xfrm flipH="1">
            <a:off x="1213920" y="3857760"/>
            <a:ext cx="7164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1"/>
          <p:cNvSpPr/>
          <p:nvPr/>
        </p:nvSpPr>
        <p:spPr>
          <a:xfrm>
            <a:off x="7500960" y="3857760"/>
            <a:ext cx="7128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Прямоугольник 38"/>
          <p:cNvGrpSpPr/>
          <p:nvPr/>
        </p:nvGrpSpPr>
        <p:grpSpPr>
          <a:xfrm>
            <a:off x="12600" y="5230800"/>
            <a:ext cx="3827520" cy="1395360"/>
            <a:chOff x="12600" y="5230800"/>
            <a:chExt cx="3827520" cy="1395360"/>
          </a:xfrm>
        </p:grpSpPr>
        <p:pic>
          <p:nvPicPr>
            <p:cNvPr id="187" name="Прямоугольник 38" descr=""/>
            <p:cNvPicPr/>
            <p:nvPr/>
          </p:nvPicPr>
          <p:blipFill>
            <a:blip r:embed="rId6"/>
            <a:stretch/>
          </p:blipFill>
          <p:spPr>
            <a:xfrm>
              <a:off x="12600" y="5230800"/>
              <a:ext cx="3827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42920" y="5357880"/>
              <a:ext cx="3571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Зональное размещение температур, поясов давления, воздушных масс, господствующих ве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рямоугольник 39"/>
          <p:cNvGrpSpPr/>
          <p:nvPr/>
        </p:nvGrpSpPr>
        <p:grpSpPr>
          <a:xfrm>
            <a:off x="4943520" y="5230800"/>
            <a:ext cx="4114800" cy="1395360"/>
            <a:chOff x="4943520" y="5230800"/>
            <a:chExt cx="4114800" cy="1395360"/>
          </a:xfrm>
        </p:grpSpPr>
        <p:pic>
          <p:nvPicPr>
            <p:cNvPr id="190" name="Прямоугольник 39" descr=""/>
            <p:cNvPicPr/>
            <p:nvPr/>
          </p:nvPicPr>
          <p:blipFill>
            <a:blip r:embed="rId7"/>
            <a:stretch/>
          </p:blipFill>
          <p:spPr>
            <a:xfrm>
              <a:off x="4943520" y="5230800"/>
              <a:ext cx="4114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072040" y="5357880"/>
              <a:ext cx="3857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уша, океан, холодные и тёплые течения, равнины, горные области, ледники, снега и т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ice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0"/>
          <p:cNvSpPr/>
          <p:nvPr/>
        </p:nvSpPr>
        <p:spPr>
          <a:xfrm>
            <a:off x="3635280" y="907920"/>
            <a:ext cx="1728720" cy="970200"/>
          </a:xfrm>
          <a:prstGeom prst="wedgeRoundRectCallout">
            <a:avLst>
              <a:gd name="adj1" fmla="val -46694"/>
              <a:gd name="adj2" fmla="val 62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28800" y="5143680"/>
            <a:ext cx="728640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тражать солнечную энергию называется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ьбе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пустыня"/>
          <p:cNvPicPr/>
          <p:nvPr/>
        </p:nvPicPr>
        <p:blipFill>
          <a:blip r:embed="rId1"/>
          <a:stretch/>
        </p:blipFill>
        <p:spPr>
          <a:xfrm>
            <a:off x="61128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"/>
          <p:cNvSpPr/>
          <p:nvPr/>
        </p:nvSpPr>
        <p:spPr>
          <a:xfrm>
            <a:off x="5076720" y="1484280"/>
            <a:ext cx="1440000" cy="1041480"/>
          </a:xfrm>
          <a:prstGeom prst="wedgeRoundRectCallout">
            <a:avLst>
              <a:gd name="adj1" fmla="val -46032"/>
              <a:gd name="adj2" fmla="val 61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enblue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/>
          <p:cNvSpPr/>
          <p:nvPr/>
        </p:nvSpPr>
        <p:spPr>
          <a:xfrm>
            <a:off x="5219640" y="1125360"/>
            <a:ext cx="1584360" cy="968400"/>
          </a:xfrm>
          <a:prstGeom prst="wedgeRoundRectCallout">
            <a:avLst>
              <a:gd name="adj1" fmla="val -46393"/>
              <a:gd name="adj2" fmla="val 626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AG00317_.GIF"/>
          <p:cNvPicPr/>
          <p:nvPr/>
        </p:nvPicPr>
        <p:blipFill>
          <a:blip r:embed="rId1"/>
          <a:stretch/>
        </p:blipFill>
        <p:spPr>
          <a:xfrm>
            <a:off x="428760" y="38160"/>
            <a:ext cx="78552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нутый угол 8" descr=""/>
          <p:cNvPicPr/>
          <p:nvPr/>
        </p:nvPicPr>
        <p:blipFill>
          <a:blip r:embed="rId2"/>
          <a:stretch/>
        </p:blipFill>
        <p:spPr>
          <a:xfrm>
            <a:off x="1195560" y="189000"/>
            <a:ext cx="754668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Облако 12"/>
          <p:cNvSpPr/>
          <p:nvPr/>
        </p:nvSpPr>
        <p:spPr>
          <a:xfrm>
            <a:off x="1143000" y="2071800"/>
            <a:ext cx="7429680" cy="17143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оянные ветры дуют всегда в одном            направлении, зависят от поясов высокого и   низкого давления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сса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в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ваториальных  широтах;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падны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-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умеренных шир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нутый угол 13" descr=""/>
          <p:cNvPicPr/>
          <p:nvPr/>
        </p:nvPicPr>
        <p:blipFill>
          <a:blip r:embed="rId3"/>
          <a:stretch/>
        </p:blipFill>
        <p:spPr>
          <a:xfrm>
            <a:off x="1206360" y="3956040"/>
            <a:ext cx="7566120" cy="138420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1143000" y="5429160"/>
            <a:ext cx="7429680" cy="134316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т перемещение масс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030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"/>
          <p:cNvSpPr/>
          <p:nvPr/>
        </p:nvSpPr>
        <p:spPr>
          <a:xfrm>
            <a:off x="4788000" y="1341360"/>
            <a:ext cx="1296720" cy="825480"/>
          </a:xfrm>
          <a:prstGeom prst="wedgeRoundRectCallout">
            <a:avLst>
              <a:gd name="adj1" fmla="val -45592"/>
              <a:gd name="adj2" fmla="val 64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369280" cy="1236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1547640"/>
            <a:ext cx="825984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AG00317_.GIF"/>
          <p:cNvPicPr/>
          <p:nvPr/>
        </p:nvPicPr>
        <p:blipFill>
          <a:blip r:embed="rId1"/>
          <a:stretch/>
        </p:blipFill>
        <p:spPr>
          <a:xfrm>
            <a:off x="285840" y="0"/>
            <a:ext cx="7858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нутый угол 4" descr=""/>
          <p:cNvPicPr/>
          <p:nvPr/>
        </p:nvPicPr>
        <p:blipFill>
          <a:blip r:embed="rId2"/>
          <a:stretch/>
        </p:blipFill>
        <p:spPr>
          <a:xfrm>
            <a:off x="1554120" y="268200"/>
            <a:ext cx="6967440" cy="1463760"/>
          </a:xfrm>
          <a:prstGeom prst="rect">
            <a:avLst/>
          </a:prstGeom>
          <a:ln w="0">
            <a:noFill/>
          </a:ln>
        </p:spPr>
      </p:pic>
      <p:sp>
        <p:nvSpPr>
          <p:cNvPr id="57" name="Облако 5"/>
          <p:cNvSpPr/>
          <p:nvPr/>
        </p:nvSpPr>
        <p:spPr>
          <a:xfrm>
            <a:off x="1785960" y="1928880"/>
            <a:ext cx="6072120" cy="12859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льшие объёмы воздуха, обладающие одинаков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нутый угол 6" descr=""/>
          <p:cNvPicPr/>
          <p:nvPr/>
        </p:nvPicPr>
        <p:blipFill>
          <a:blip r:embed="rId3"/>
          <a:stretch/>
        </p:blipFill>
        <p:spPr>
          <a:xfrm>
            <a:off x="1427040" y="3413160"/>
            <a:ext cx="720432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Облако 7"/>
          <p:cNvSpPr/>
          <p:nvPr/>
        </p:nvSpPr>
        <p:spPr>
          <a:xfrm>
            <a:off x="1785960" y="5286240"/>
            <a:ext cx="6072120" cy="148608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 эквато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2 троп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3 уме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4 ар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ыноска со стрелкой вниз 5"/>
          <p:cNvSpPr/>
          <p:nvPr/>
        </p:nvSpPr>
        <p:spPr>
          <a:xfrm>
            <a:off x="714240" y="357120"/>
            <a:ext cx="7715520" cy="1643040"/>
          </a:xfrm>
          <a:prstGeom prst="downArrowCallout">
            <a:avLst>
              <a:gd name="adj1" fmla="val 25004"/>
              <a:gd name="adj2" fmla="val 39371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равномерное нагревание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ыноска со стрелкой вниз 6"/>
          <p:cNvSpPr/>
          <p:nvPr/>
        </p:nvSpPr>
        <p:spPr>
          <a:xfrm>
            <a:off x="714240" y="2571840"/>
            <a:ext cx="7715520" cy="1571400"/>
          </a:xfrm>
          <a:prstGeom prst="downArrowCallout">
            <a:avLst>
              <a:gd name="adj1" fmla="val 25007"/>
              <a:gd name="adj2" fmla="val 39075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личие климатов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785880" y="4572000"/>
            <a:ext cx="76438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3 климатических поя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2"/>
          <p:cNvSpPr/>
          <p:nvPr/>
        </p:nvSpPr>
        <p:spPr>
          <a:xfrm>
            <a:off x="357120" y="285840"/>
            <a:ext cx="8501040" cy="2000160"/>
          </a:xfrm>
          <a:prstGeom prst="roundRect">
            <a:avLst>
              <a:gd name="adj" fmla="val 32968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лиматический пояс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ротные полосы земной поверхности, отличающиеся друг от друга интенсивностью нагревания лучами Солнца, особенностями циркуляции атмосферы, сезонной сменой воздушных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1000080" y="2857680"/>
            <a:ext cx="7215120" cy="14284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новны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лиматические пояса, в которых преобладает один тип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1571760" y="5143680"/>
            <a:ext cx="6143400" cy="12142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еходные-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лиматические пояса, в которых воздушные массы меняются по сез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ая выноска 4"/>
          <p:cNvSpPr/>
          <p:nvPr/>
        </p:nvSpPr>
        <p:spPr>
          <a:xfrm>
            <a:off x="5072040" y="2786040"/>
            <a:ext cx="2071800" cy="428760"/>
          </a:xfrm>
          <a:prstGeom prst="wedgeRectCallout">
            <a:avLst>
              <a:gd name="adj1" fmla="val -10685"/>
              <a:gd name="adj2" fmla="val 16421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ая выноска 5"/>
          <p:cNvSpPr/>
          <p:nvPr/>
        </p:nvSpPr>
        <p:spPr>
          <a:xfrm>
            <a:off x="1357200" y="785880"/>
            <a:ext cx="1785960" cy="428400"/>
          </a:xfrm>
          <a:prstGeom prst="wedgeRectCallout">
            <a:avLst>
              <a:gd name="adj1" fmla="val -4314"/>
              <a:gd name="adj2" fmla="val 163634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ая выноска 6"/>
          <p:cNvSpPr/>
          <p:nvPr/>
        </p:nvSpPr>
        <p:spPr>
          <a:xfrm>
            <a:off x="214200" y="3429000"/>
            <a:ext cx="2000520" cy="428760"/>
          </a:xfrm>
          <a:prstGeom prst="wedgeRectCallout">
            <a:avLst>
              <a:gd name="adj1" fmla="val -550"/>
              <a:gd name="adj2" fmla="val 17754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ая выноска 7"/>
          <p:cNvSpPr/>
          <p:nvPr/>
        </p:nvSpPr>
        <p:spPr>
          <a:xfrm>
            <a:off x="3786120" y="5500800"/>
            <a:ext cx="1928880" cy="398520"/>
          </a:xfrm>
          <a:prstGeom prst="wedgeRectCallout">
            <a:avLst>
              <a:gd name="adj1" fmla="val -1435"/>
              <a:gd name="adj2" fmla="val 19580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к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ая стрелка влево/вправо 14"/>
          <p:cNvSpPr/>
          <p:nvPr/>
        </p:nvSpPr>
        <p:spPr>
          <a:xfrm>
            <a:off x="6500880" y="500040"/>
            <a:ext cx="2000160" cy="484200"/>
          </a:xfrm>
          <a:prstGeom prst="leftRightArrow">
            <a:avLst>
              <a:gd name="adj1" fmla="val 60861"/>
              <a:gd name="adj2" fmla="val 5607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ая выноска 8"/>
          <p:cNvSpPr/>
          <p:nvPr/>
        </p:nvSpPr>
        <p:spPr>
          <a:xfrm>
            <a:off x="3000240" y="4286160"/>
            <a:ext cx="1928880" cy="327240"/>
          </a:xfrm>
          <a:prstGeom prst="wedgeRectCallout">
            <a:avLst>
              <a:gd name="adj1" fmla="val -47597"/>
              <a:gd name="adj2" fmla="val 1798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ая выноска 9"/>
          <p:cNvSpPr/>
          <p:nvPr/>
        </p:nvSpPr>
        <p:spPr>
          <a:xfrm>
            <a:off x="5214960" y="2071800"/>
            <a:ext cx="2357280" cy="398520"/>
          </a:xfrm>
          <a:prstGeom prst="wedgeRectCallout">
            <a:avLst>
              <a:gd name="adj1" fmla="val -36296"/>
              <a:gd name="adj2" fmla="val 21061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10"/>
          <p:cNvSpPr/>
          <p:nvPr/>
        </p:nvSpPr>
        <p:spPr>
          <a:xfrm>
            <a:off x="2643120" y="5429160"/>
            <a:ext cx="1843200" cy="327240"/>
          </a:xfrm>
          <a:prstGeom prst="wedgeRectCallout">
            <a:avLst>
              <a:gd name="adj1" fmla="val 4773"/>
              <a:gd name="adj2" fmla="val 17529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войная стрелка влево/вправо 11"/>
          <p:cNvSpPr/>
          <p:nvPr/>
        </p:nvSpPr>
        <p:spPr>
          <a:xfrm>
            <a:off x="285840" y="428760"/>
            <a:ext cx="1928880" cy="6429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ая выноска 6"/>
          <p:cNvSpPr/>
          <p:nvPr/>
        </p:nvSpPr>
        <p:spPr>
          <a:xfrm>
            <a:off x="3429000" y="214200"/>
            <a:ext cx="2643120" cy="500040"/>
          </a:xfrm>
          <a:prstGeom prst="wedgeRectCallout">
            <a:avLst>
              <a:gd name="adj1" fmla="val -7500"/>
              <a:gd name="adj2" fmla="val 12810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нт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500120" y="571680"/>
            <a:ext cx="6072120" cy="107136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матические поя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2054160" y="1689120"/>
            <a:ext cx="1109880" cy="1035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5407200" y="1689120"/>
            <a:ext cx="104904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с двумя скругленными противолежащими углами 10"/>
          <p:cNvSpPr/>
          <p:nvPr/>
        </p:nvSpPr>
        <p:spPr>
          <a:xfrm>
            <a:off x="214200" y="2857680"/>
            <a:ext cx="400068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с двумя скругленными противолежащими углами 11"/>
          <p:cNvSpPr/>
          <p:nvPr/>
        </p:nvSpPr>
        <p:spPr>
          <a:xfrm>
            <a:off x="4857840" y="2786040"/>
            <a:ext cx="400032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ramk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6"/>
          <p:cNvSpPr/>
          <p:nvPr/>
        </p:nvSpPr>
        <p:spPr>
          <a:xfrm>
            <a:off x="5219640" y="765000"/>
            <a:ext cx="3167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219640" y="5516640"/>
            <a:ext cx="32022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илающая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5219640" y="4581360"/>
            <a:ext cx="316872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океанически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5219640" y="3645000"/>
            <a:ext cx="316872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ленность от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>
            <a:off x="5219640" y="263700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ая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5219640" y="170028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>
            <a:off x="1187280" y="620640"/>
            <a:ext cx="3313440" cy="792360"/>
          </a:xfrm>
          <a:prstGeom prst="bevel">
            <a:avLst>
              <a:gd name="adj" fmla="val 12500"/>
            </a:avLst>
          </a:prstGeom>
          <a:solidFill>
            <a:srgbClr val="c6f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900000" y="1916280"/>
            <a:ext cx="3867120" cy="3600360"/>
          </a:xfrm>
          <a:prstGeom prst="rect">
            <a:avLst/>
          </a:prstGeom>
          <a:solidFill>
            <a:srgbClr val="fac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2556000" y="3284640"/>
            <a:ext cx="194472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971640" y="443700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971640" y="227664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 flipH="1">
            <a:off x="478764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 flipH="1">
            <a:off x="4787640" y="3068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4716360" y="400536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 flipH="1">
            <a:off x="4716360" y="494172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 flipH="1" flipV="1">
            <a:off x="4787640" y="5516640"/>
            <a:ext cx="431640" cy="433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H="1">
            <a:off x="4716360" y="1197000"/>
            <a:ext cx="503280" cy="71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5"/>
          <p:cNvSpPr/>
          <p:nvPr/>
        </p:nvSpPr>
        <p:spPr>
          <a:xfrm>
            <a:off x="2700360" y="2924280"/>
            <a:ext cx="431640" cy="433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 flipH="1">
            <a:off x="2627280" y="4149720"/>
            <a:ext cx="504720" cy="503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7"/>
          <p:cNvSpPr/>
          <p:nvPr/>
        </p:nvSpPr>
        <p:spPr>
          <a:xfrm flipV="1">
            <a:off x="1476360" y="314136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"/>
          <p:cNvSpPr/>
          <p:nvPr/>
        </p:nvSpPr>
        <p:spPr>
          <a:xfrm>
            <a:off x="1692360" y="314172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 flipH="1" flipV="1">
            <a:off x="2484000" y="2997000"/>
            <a:ext cx="35892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1"/>
          <p:cNvSpPr/>
          <p:nvPr/>
        </p:nvSpPr>
        <p:spPr>
          <a:xfrm flipV="1">
            <a:off x="2411280" y="4076640"/>
            <a:ext cx="43200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183528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>
            <a:off x="370836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6"/>
          <p:cNvSpPr/>
          <p:nvPr/>
        </p:nvSpPr>
        <p:spPr>
          <a:xfrm>
            <a:off x="277164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23:17Z</dcterms:created>
  <dc:creator>Неклюдов</dc:creator>
  <dc:description/>
  <dc:language>en-US</dc:language>
  <cp:lastModifiedBy>BLACKEDITION</cp:lastModifiedBy>
  <dcterms:modified xsi:type="dcterms:W3CDTF">2010-09-29T17:43:16Z</dcterms:modified>
  <cp:revision>52</cp:revision>
  <dc:subject/>
  <dc:title>Причины,  влияющие на клима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250000000000010250300207f7000400038000</vt:lpwstr>
  </property>
</Properties>
</file>